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305-09C8-46BB-BC56-851D950B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EA7-E38F-4083-9046-5E50A625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437-7828-411B-835D-36F58113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C1B-FFD9-4EAA-A7B5-366A33D7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E03-9F3D-4067-9C72-3D1A4BE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730-7A39-42BF-818A-3EF42A2D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130-6FB3-41C0-9358-B743027C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5F9-73E6-4FA5-8A5D-2C48EA4C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819-F6BC-4DBE-A77F-EA77EF85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A11-E19D-44B5-831F-42170C3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99E-D8FE-48FE-8BDD-EB6A3729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914-60AF-4F92-B728-453FBA90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0753-A1FE-486C-95B7-6F58A787B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125360"/>
            <a:ext cx="82296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рок русского языка на тему: «1,2,3 склонение имен существительны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71680" y="714240"/>
          <a:ext cx="8286480" cy="5739120"/>
        </p:xfrm>
        <a:graphic>
          <a:graphicData uri="http://schemas.openxmlformats.org/drawingml/2006/table">
            <a:tbl>
              <a:tblPr/>
              <a:tblGrid>
                <a:gridCol w="1143000"/>
                <a:gridCol w="1285560"/>
                <a:gridCol w="1285920"/>
                <a:gridCol w="1428840"/>
                <a:gridCol w="1285920"/>
                <a:gridCol w="185724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аде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Ж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р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Ж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Р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 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ь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ь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ст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ко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сте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Box 64"/>
          <p:cNvSpPr/>
          <p:nvPr/>
        </p:nvSpPr>
        <p:spPr>
          <a:xfrm>
            <a:off x="1714680" y="7142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5"/>
          <p:cNvSpPr/>
          <p:nvPr/>
        </p:nvSpPr>
        <p:spPr>
          <a:xfrm>
            <a:off x="4286160" y="7142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6786720" y="7142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8360" y="6597720"/>
            <a:ext cx="755640" cy="260280"/>
          </a:xfrm>
          <a:custGeom>
            <a:avLst/>
            <a:gdLst>
              <a:gd name="textAreaLeft" fmla="*/ 16560 w 755640"/>
              <a:gd name="textAreaRight" fmla="*/ 739080 w 755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2652" h="21600">
                <a:moveTo>
                  <a:pt x="0" y="0"/>
                </a:moveTo>
                <a:lnTo>
                  <a:pt x="62652" y="0"/>
                </a:lnTo>
                <a:lnTo>
                  <a:pt x="62652" y="21600"/>
                </a:lnTo>
                <a:lnTo>
                  <a:pt x="0" y="21600"/>
                </a:lnTo>
                <a:close/>
              </a:path>
              <a:path fill="lightenLess" w="62652" h="21600">
                <a:moveTo>
                  <a:pt x="0" y="0"/>
                </a:moveTo>
                <a:lnTo>
                  <a:pt x="62652" y="0"/>
                </a:lnTo>
                <a:lnTo>
                  <a:pt x="61252" y="1400"/>
                </a:lnTo>
                <a:lnTo>
                  <a:pt x="1400" y="1400"/>
                </a:lnTo>
                <a:close/>
              </a:path>
              <a:path fill="darken" w="62652" h="21600">
                <a:moveTo>
                  <a:pt x="62652" y="0"/>
                </a:moveTo>
                <a:lnTo>
                  <a:pt x="62652" y="21600"/>
                </a:lnTo>
                <a:lnTo>
                  <a:pt x="61252" y="20200"/>
                </a:lnTo>
                <a:lnTo>
                  <a:pt x="61252" y="1400"/>
                </a:lnTo>
                <a:close/>
              </a:path>
              <a:path fill="darkenLess" w="62652" h="21600">
                <a:moveTo>
                  <a:pt x="62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52" y="20200"/>
                </a:lnTo>
                <a:close/>
              </a:path>
              <a:path fill="lighten" w="62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652" h="21600">
                <a:moveTo>
                  <a:pt x="24319" y="3794"/>
                </a:moveTo>
                <a:lnTo>
                  <a:pt x="38332" y="10800"/>
                </a:lnTo>
                <a:lnTo>
                  <a:pt x="24319" y="17806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далее 6">
            <a:hlinkClick r:id="rId1" action="ppaction://hlinksldjump"/>
          </p:cNvPr>
          <p:cNvSpPr/>
          <p:nvPr/>
        </p:nvSpPr>
        <p:spPr>
          <a:xfrm>
            <a:off x="8101080" y="333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катерть, яблоко, трамвай, печь, морковь, морковка, хозяйство, салют, съёмка, обезьяна, библиотека, квартира, роскошь, радость, агрон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250920" y="83664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203640" y="83664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6156360" y="83664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000" y="1628640"/>
            <a:ext cx="260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рк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ъё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без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вар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одержимое 7"/>
          <p:cNvSpPr/>
          <p:nvPr/>
        </p:nvSpPr>
        <p:spPr>
          <a:xfrm>
            <a:off x="3276720" y="1628640"/>
            <a:ext cx="2601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7"/>
          <p:cNvSpPr/>
          <p:nvPr/>
        </p:nvSpPr>
        <p:spPr>
          <a:xfrm>
            <a:off x="3348000" y="1557360"/>
            <a:ext cx="2603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б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рам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ал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гр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7"/>
          <p:cNvSpPr/>
          <p:nvPr/>
        </p:nvSpPr>
        <p:spPr>
          <a:xfrm>
            <a:off x="6084720" y="162864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7"/>
          <p:cNvSpPr/>
          <p:nvPr/>
        </p:nvSpPr>
        <p:spPr>
          <a:xfrm>
            <a:off x="6300720" y="148428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кат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ско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2268360" y="1773360"/>
            <a:ext cx="35892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1042920" y="148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6"/>
          <p:cNvSpPr/>
          <p:nvPr/>
        </p:nvSpPr>
        <p:spPr>
          <a:xfrm>
            <a:off x="1763640" y="2349360"/>
            <a:ext cx="360360" cy="35892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611280" y="20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8"/>
          <p:cNvSpPr/>
          <p:nvPr/>
        </p:nvSpPr>
        <p:spPr>
          <a:xfrm>
            <a:off x="2195640" y="292428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971640" y="25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0"/>
          <p:cNvSpPr/>
          <p:nvPr/>
        </p:nvSpPr>
        <p:spPr>
          <a:xfrm>
            <a:off x="2627280" y="350028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111600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2"/>
          <p:cNvSpPr/>
          <p:nvPr/>
        </p:nvSpPr>
        <p:spPr>
          <a:xfrm>
            <a:off x="2124000" y="4076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90000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4"/>
          <p:cNvSpPr/>
          <p:nvPr/>
        </p:nvSpPr>
        <p:spPr>
          <a:xfrm>
            <a:off x="4716360" y="177336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3492360" y="1413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6"/>
          <p:cNvSpPr/>
          <p:nvPr/>
        </p:nvSpPr>
        <p:spPr>
          <a:xfrm>
            <a:off x="5148360" y="2276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7"/>
          <p:cNvSpPr/>
          <p:nvPr/>
        </p:nvSpPr>
        <p:spPr>
          <a:xfrm>
            <a:off x="3708360" y="19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8"/>
          <p:cNvSpPr/>
          <p:nvPr/>
        </p:nvSpPr>
        <p:spPr>
          <a:xfrm>
            <a:off x="5292720" y="2924280"/>
            <a:ext cx="35892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4067280" y="256536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4716360" y="342900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1"/>
          <p:cNvSpPr/>
          <p:nvPr/>
        </p:nvSpPr>
        <p:spPr>
          <a:xfrm>
            <a:off x="3492360" y="3141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2"/>
          <p:cNvSpPr/>
          <p:nvPr/>
        </p:nvSpPr>
        <p:spPr>
          <a:xfrm>
            <a:off x="5148360" y="4076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3"/>
          <p:cNvSpPr/>
          <p:nvPr/>
        </p:nvSpPr>
        <p:spPr>
          <a:xfrm>
            <a:off x="3851280" y="37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8172360" y="170028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6804000" y="14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7"/>
          <p:cNvSpPr/>
          <p:nvPr/>
        </p:nvSpPr>
        <p:spPr>
          <a:xfrm>
            <a:off x="7885080" y="213372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0"/>
          <p:cNvSpPr/>
          <p:nvPr/>
        </p:nvSpPr>
        <p:spPr>
          <a:xfrm>
            <a:off x="7380360" y="2276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6227640" y="1989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42"/>
          <p:cNvSpPr/>
          <p:nvPr/>
        </p:nvSpPr>
        <p:spPr>
          <a:xfrm>
            <a:off x="7093080" y="270828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3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6372360" y="2492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45"/>
          <p:cNvSpPr/>
          <p:nvPr/>
        </p:nvSpPr>
        <p:spPr>
          <a:xfrm>
            <a:off x="7885080" y="314172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6"/>
          <p:cNvSpPr/>
          <p:nvPr/>
        </p:nvSpPr>
        <p:spPr>
          <a:xfrm>
            <a:off x="8172360" y="3284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680400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8"/>
          <p:cNvSpPr/>
          <p:nvPr/>
        </p:nvSpPr>
        <p:spPr>
          <a:xfrm>
            <a:off x="7885080" y="371628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9"/>
          <p:cNvSpPr/>
          <p:nvPr/>
        </p:nvSpPr>
        <p:spPr>
          <a:xfrm>
            <a:off x="8101080" y="3860640"/>
            <a:ext cx="3585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673272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51"/>
          <p:cNvSpPr/>
          <p:nvPr/>
        </p:nvSpPr>
        <p:spPr>
          <a:xfrm>
            <a:off x="7812000" y="4292640"/>
            <a:ext cx="2890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5"/>
          <p:cNvCxnSpPr/>
          <p:nvPr/>
        </p:nvCxnSpPr>
        <p:spPr>
          <a:xfrm flipH="1" flipV="1">
            <a:off x="1618560" y="2059920"/>
            <a:ext cx="7380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0" name="Прямая со стрелкой 7"/>
          <p:cNvCxnSpPr/>
          <p:nvPr/>
        </p:nvCxnSpPr>
        <p:spPr>
          <a:xfrm flipV="1">
            <a:off x="3354840" y="1642320"/>
            <a:ext cx="2520" cy="1005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1" name="Прямая со стрелкой 9"/>
          <p:cNvCxnSpPr/>
          <p:nvPr/>
        </p:nvCxnSpPr>
        <p:spPr>
          <a:xfrm flipV="1">
            <a:off x="5076360" y="1989000"/>
            <a:ext cx="108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2" name="Прямая со стрелкой 11"/>
          <p:cNvCxnSpPr/>
          <p:nvPr/>
        </p:nvCxnSpPr>
        <p:spPr>
          <a:xfrm flipV="1">
            <a:off x="7020000" y="1571040"/>
            <a:ext cx="124560" cy="1065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3" name="Прямая со стрелкой 14"/>
          <p:cNvCxnSpPr/>
          <p:nvPr/>
        </p:nvCxnSpPr>
        <p:spPr>
          <a:xfrm flipH="1">
            <a:off x="1476000" y="3428640"/>
            <a:ext cx="21672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4" name="Прямая со стрелкой 16"/>
          <p:cNvCxnSpPr/>
          <p:nvPr/>
        </p:nvCxnSpPr>
        <p:spPr>
          <a:xfrm flipH="1">
            <a:off x="3284280" y="3430440"/>
            <a:ext cx="2160" cy="9295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Прямая со стрелкой 18"/>
          <p:cNvCxnSpPr/>
          <p:nvPr/>
        </p:nvCxnSpPr>
        <p:spPr>
          <a:xfrm>
            <a:off x="5143680" y="3428640"/>
            <a:ext cx="141840" cy="786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Прямая со стрелкой 21"/>
          <p:cNvCxnSpPr/>
          <p:nvPr/>
        </p:nvCxnSpPr>
        <p:spPr>
          <a:xfrm>
            <a:off x="7358040" y="3429000"/>
            <a:ext cx="643320" cy="714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7" name="TextBox 10"/>
          <p:cNvGrpSpPr/>
          <p:nvPr/>
        </p:nvGrpSpPr>
        <p:grpSpPr>
          <a:xfrm>
            <a:off x="158760" y="1500120"/>
            <a:ext cx="2182680" cy="749520"/>
            <a:chOff x="158760" y="1500120"/>
            <a:chExt cx="2182680" cy="749520"/>
          </a:xfrm>
        </p:grpSpPr>
        <p:pic>
          <p:nvPicPr>
            <p:cNvPr id="168" name="TextBox 10" descr=""/>
            <p:cNvPicPr/>
            <p:nvPr/>
          </p:nvPicPr>
          <p:blipFill>
            <a:blip r:embed="rId1"/>
            <a:stretch/>
          </p:blipFill>
          <p:spPr>
            <a:xfrm>
              <a:off x="158760" y="1500120"/>
              <a:ext cx="2182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14200" y="157176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Часть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TextBox 12"/>
          <p:cNvGrpSpPr/>
          <p:nvPr/>
        </p:nvGrpSpPr>
        <p:grpSpPr>
          <a:xfrm>
            <a:off x="2230560" y="927000"/>
            <a:ext cx="2182680" cy="749520"/>
            <a:chOff x="2230560" y="927000"/>
            <a:chExt cx="2182680" cy="749520"/>
          </a:xfrm>
        </p:grpSpPr>
        <p:pic>
          <p:nvPicPr>
            <p:cNvPr id="171" name="TextBox 12" descr=""/>
            <p:cNvPicPr/>
            <p:nvPr/>
          </p:nvPicPr>
          <p:blipFill>
            <a:blip r:embed="rId2"/>
            <a:stretch/>
          </p:blipFill>
          <p:spPr>
            <a:xfrm>
              <a:off x="2230560" y="927000"/>
              <a:ext cx="2182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286000" y="10000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редм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TextBox 15"/>
          <p:cNvGrpSpPr/>
          <p:nvPr/>
        </p:nvGrpSpPr>
        <p:grpSpPr>
          <a:xfrm>
            <a:off x="4017960" y="1427040"/>
            <a:ext cx="2181240" cy="749520"/>
            <a:chOff x="4017960" y="1427040"/>
            <a:chExt cx="2181240" cy="749520"/>
          </a:xfrm>
        </p:grpSpPr>
        <p:pic>
          <p:nvPicPr>
            <p:cNvPr id="174" name="TextBox 15" descr=""/>
            <p:cNvPicPr/>
            <p:nvPr/>
          </p:nvPicPr>
          <p:blipFill>
            <a:blip r:embed="rId3"/>
            <a:stretch/>
          </p:blipFill>
          <p:spPr>
            <a:xfrm>
              <a:off x="4017960" y="1427040"/>
              <a:ext cx="2181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071960" y="150012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Кто? Ч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17"/>
          <p:cNvGrpSpPr/>
          <p:nvPr/>
        </p:nvGrpSpPr>
        <p:grpSpPr>
          <a:xfrm>
            <a:off x="6229440" y="573120"/>
            <a:ext cx="2603520" cy="1116000"/>
            <a:chOff x="6229440" y="573120"/>
            <a:chExt cx="2603520" cy="1116000"/>
          </a:xfrm>
        </p:grpSpPr>
        <p:pic>
          <p:nvPicPr>
            <p:cNvPr id="177" name="TextBox 17" descr=""/>
            <p:cNvPicPr/>
            <p:nvPr/>
          </p:nvPicPr>
          <p:blipFill>
            <a:blip r:embed="rId4"/>
            <a:stretch/>
          </p:blipFill>
          <p:spPr>
            <a:xfrm>
              <a:off x="6229440" y="573120"/>
              <a:ext cx="2603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642960"/>
              <a:ext cx="242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одлежащее, вт.чл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20"/>
          <p:cNvGrpSpPr/>
          <p:nvPr/>
        </p:nvGrpSpPr>
        <p:grpSpPr>
          <a:xfrm>
            <a:off x="1841400" y="4359240"/>
            <a:ext cx="2352600" cy="1481040"/>
            <a:chOff x="1841400" y="4359240"/>
            <a:chExt cx="2352600" cy="1481040"/>
          </a:xfrm>
        </p:grpSpPr>
        <p:pic>
          <p:nvPicPr>
            <p:cNvPr id="180" name="TextBox 20" descr=""/>
            <p:cNvPicPr/>
            <p:nvPr/>
          </p:nvPicPr>
          <p:blipFill>
            <a:blip r:embed="rId5"/>
            <a:stretch/>
          </p:blipFill>
          <p:spPr>
            <a:xfrm>
              <a:off x="1841400" y="4359240"/>
              <a:ext cx="23526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928880" y="4429080"/>
              <a:ext cx="20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Изменяется по падежам и чи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22"/>
          <p:cNvGrpSpPr/>
          <p:nvPr/>
        </p:nvGrpSpPr>
        <p:grpSpPr>
          <a:xfrm>
            <a:off x="304920" y="3925800"/>
            <a:ext cx="1536480" cy="1487520"/>
            <a:chOff x="304920" y="3925800"/>
            <a:chExt cx="1536480" cy="1487520"/>
          </a:xfrm>
        </p:grpSpPr>
        <p:pic>
          <p:nvPicPr>
            <p:cNvPr id="183" name="TextBox 22" descr=""/>
            <p:cNvPicPr/>
            <p:nvPr/>
          </p:nvPicPr>
          <p:blipFill>
            <a:blip r:embed="rId6"/>
            <a:stretch/>
          </p:blipFill>
          <p:spPr>
            <a:xfrm>
              <a:off x="304920" y="3925800"/>
              <a:ext cx="15364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57120" y="4000680"/>
              <a:ext cx="142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М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Ж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р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27"/>
          <p:cNvGrpSpPr/>
          <p:nvPr/>
        </p:nvGrpSpPr>
        <p:grpSpPr>
          <a:xfrm>
            <a:off x="4657680" y="4145040"/>
            <a:ext cx="2181240" cy="1116000"/>
            <a:chOff x="4657680" y="4145040"/>
            <a:chExt cx="2181240" cy="1116000"/>
          </a:xfrm>
        </p:grpSpPr>
        <p:pic>
          <p:nvPicPr>
            <p:cNvPr id="186" name="TextBox 27" descr=""/>
            <p:cNvPicPr/>
            <p:nvPr/>
          </p:nvPicPr>
          <p:blipFill>
            <a:blip r:embed="rId7"/>
            <a:stretch/>
          </p:blipFill>
          <p:spPr>
            <a:xfrm>
              <a:off x="4657680" y="4145040"/>
              <a:ext cx="2181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14920" y="4214880"/>
              <a:ext cx="20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Не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28"/>
          <p:cNvGrpSpPr/>
          <p:nvPr/>
        </p:nvGrpSpPr>
        <p:grpSpPr>
          <a:xfrm>
            <a:off x="7016760" y="4145040"/>
            <a:ext cx="2182680" cy="750960"/>
            <a:chOff x="7016760" y="4145040"/>
            <a:chExt cx="2182680" cy="750960"/>
          </a:xfrm>
        </p:grpSpPr>
        <p:pic>
          <p:nvPicPr>
            <p:cNvPr id="189" name="TextBox 28" descr=""/>
            <p:cNvPicPr/>
            <p:nvPr/>
          </p:nvPicPr>
          <p:blipFill>
            <a:blip r:embed="rId8"/>
            <a:stretch/>
          </p:blipFill>
          <p:spPr>
            <a:xfrm>
              <a:off x="7016760" y="4145040"/>
              <a:ext cx="2182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072200" y="42148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обстве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1" name="Прямая со стрелкой 23"/>
          <p:cNvCxnSpPr/>
          <p:nvPr/>
        </p:nvCxnSpPr>
        <p:spPr>
          <a:xfrm>
            <a:off x="4286160" y="3428640"/>
            <a:ext cx="286560" cy="1857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92" name="TextBox 24"/>
          <p:cNvGrpSpPr/>
          <p:nvPr/>
        </p:nvGrpSpPr>
        <p:grpSpPr>
          <a:xfrm>
            <a:off x="4230720" y="5284800"/>
            <a:ext cx="1536840" cy="1481040"/>
            <a:chOff x="4230720" y="5284800"/>
            <a:chExt cx="1536840" cy="1481040"/>
          </a:xfrm>
        </p:grpSpPr>
        <p:pic>
          <p:nvPicPr>
            <p:cNvPr id="193" name="TextBox 24" descr=""/>
            <p:cNvPicPr/>
            <p:nvPr/>
          </p:nvPicPr>
          <p:blipFill>
            <a:blip r:embed="rId9"/>
            <a:stretch/>
          </p:blipFill>
          <p:spPr>
            <a:xfrm>
              <a:off x="4230720" y="5284800"/>
              <a:ext cx="15368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286160" y="5357880"/>
              <a:ext cx="142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1 ск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2 ск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3 скл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4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еловек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ез знаний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все равно, что гриб: хотя на взгляд и крепкий, 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 землю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плохо держ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Если подойдет слово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Sylfaen"/>
              </a:rPr>
              <a:t>нет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, то </a:t>
            </a:r>
            <a:r>
              <a:rPr b="1" lang="ru-RU" sz="3200" spc="-1" strike="noStrike">
                <a:solidFill>
                  <a:srgbClr val="006600"/>
                </a:solidFill>
                <a:latin typeface="Sylfaen"/>
              </a:rPr>
              <a:t>падеж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 </a:t>
            </a:r>
            <a:r>
              <a:rPr b="1" lang="ru-RU" sz="3200" spc="-1" strike="noStrike">
                <a:solidFill>
                  <a:srgbClr val="006600"/>
                </a:solidFill>
                <a:latin typeface="Sylfaen"/>
              </a:rPr>
              <a:t>родительный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, если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Sylfaen"/>
              </a:rPr>
              <a:t>вижу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 - </a:t>
            </a:r>
            <a:r>
              <a:rPr b="1" lang="ru-RU" sz="3200" spc="-1" strike="noStrike">
                <a:solidFill>
                  <a:srgbClr val="006600"/>
                </a:solidFill>
                <a:latin typeface="Sylfaen"/>
              </a:rPr>
              <a:t>винительный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0440" y="1773360"/>
          <a:ext cx="8280360" cy="2651040"/>
        </p:xfrm>
        <a:graphic>
          <a:graphicData uri="http://schemas.openxmlformats.org/drawingml/2006/table">
            <a:tbl>
              <a:tblPr/>
              <a:tblGrid>
                <a:gridCol w="4248000"/>
                <a:gridCol w="4032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одительный п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Винительный 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иж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Чег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Чт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ел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ель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жу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4" name="TextBox 4"/>
          <p:cNvSpPr/>
          <p:nvPr/>
        </p:nvSpPr>
        <p:spPr>
          <a:xfrm>
            <a:off x="997200" y="4869000"/>
            <a:ext cx="586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окнот друга, посещать дру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тить мальчика, нос барсу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ймать дро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5"/>
          <p:cNvCxnSpPr/>
          <p:nvPr/>
        </p:nvCxnSpPr>
        <p:spPr>
          <a:xfrm flipH="1" flipV="1">
            <a:off x="1618560" y="2059920"/>
            <a:ext cx="7380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47" name="Прямая со стрелкой 7"/>
          <p:cNvCxnSpPr/>
          <p:nvPr/>
        </p:nvCxnSpPr>
        <p:spPr>
          <a:xfrm flipV="1">
            <a:off x="3354840" y="1642320"/>
            <a:ext cx="2520" cy="1005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48" name="Прямая со стрелкой 9"/>
          <p:cNvCxnSpPr/>
          <p:nvPr/>
        </p:nvCxnSpPr>
        <p:spPr>
          <a:xfrm flipV="1">
            <a:off x="5076360" y="1989000"/>
            <a:ext cx="108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49" name="Прямая со стрелкой 11"/>
          <p:cNvCxnSpPr/>
          <p:nvPr/>
        </p:nvCxnSpPr>
        <p:spPr>
          <a:xfrm flipV="1">
            <a:off x="7020000" y="1571040"/>
            <a:ext cx="124560" cy="1065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0" name="Прямая со стрелкой 14"/>
          <p:cNvCxnSpPr/>
          <p:nvPr/>
        </p:nvCxnSpPr>
        <p:spPr>
          <a:xfrm flipH="1">
            <a:off x="1476000" y="3428640"/>
            <a:ext cx="21672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3284280" y="3430440"/>
            <a:ext cx="2160" cy="9295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2" name="Прямая со стрелкой 18"/>
          <p:cNvCxnSpPr/>
          <p:nvPr/>
        </p:nvCxnSpPr>
        <p:spPr>
          <a:xfrm>
            <a:off x="5143680" y="3428640"/>
            <a:ext cx="141840" cy="786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3" name="Прямая со стрелкой 21"/>
          <p:cNvCxnSpPr/>
          <p:nvPr/>
        </p:nvCxnSpPr>
        <p:spPr>
          <a:xfrm>
            <a:off x="7358040" y="3429000"/>
            <a:ext cx="643320" cy="714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54" name="TextBox 10"/>
          <p:cNvGrpSpPr/>
          <p:nvPr/>
        </p:nvGrpSpPr>
        <p:grpSpPr>
          <a:xfrm>
            <a:off x="158760" y="1500120"/>
            <a:ext cx="2182680" cy="749520"/>
            <a:chOff x="158760" y="1500120"/>
            <a:chExt cx="2182680" cy="749520"/>
          </a:xfrm>
        </p:grpSpPr>
        <p:pic>
          <p:nvPicPr>
            <p:cNvPr id="55" name="TextBox 10" descr=""/>
            <p:cNvPicPr/>
            <p:nvPr/>
          </p:nvPicPr>
          <p:blipFill>
            <a:blip r:embed="rId1"/>
            <a:stretch/>
          </p:blipFill>
          <p:spPr>
            <a:xfrm>
              <a:off x="158760" y="1500120"/>
              <a:ext cx="2182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14200" y="157176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Часть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TextBox 12"/>
          <p:cNvGrpSpPr/>
          <p:nvPr/>
        </p:nvGrpSpPr>
        <p:grpSpPr>
          <a:xfrm>
            <a:off x="2230560" y="927000"/>
            <a:ext cx="2182680" cy="749520"/>
            <a:chOff x="2230560" y="927000"/>
            <a:chExt cx="2182680" cy="749520"/>
          </a:xfrm>
        </p:grpSpPr>
        <p:pic>
          <p:nvPicPr>
            <p:cNvPr id="58" name="TextBox 12" descr=""/>
            <p:cNvPicPr/>
            <p:nvPr/>
          </p:nvPicPr>
          <p:blipFill>
            <a:blip r:embed="rId2"/>
            <a:stretch/>
          </p:blipFill>
          <p:spPr>
            <a:xfrm>
              <a:off x="2230560" y="927000"/>
              <a:ext cx="2182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286000" y="10000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редм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TextBox 15"/>
          <p:cNvGrpSpPr/>
          <p:nvPr/>
        </p:nvGrpSpPr>
        <p:grpSpPr>
          <a:xfrm>
            <a:off x="4017960" y="1427040"/>
            <a:ext cx="2181240" cy="749520"/>
            <a:chOff x="4017960" y="1427040"/>
            <a:chExt cx="2181240" cy="749520"/>
          </a:xfrm>
        </p:grpSpPr>
        <p:pic>
          <p:nvPicPr>
            <p:cNvPr id="61" name="TextBox 15" descr=""/>
            <p:cNvPicPr/>
            <p:nvPr/>
          </p:nvPicPr>
          <p:blipFill>
            <a:blip r:embed="rId3"/>
            <a:stretch/>
          </p:blipFill>
          <p:spPr>
            <a:xfrm>
              <a:off x="4017960" y="1427040"/>
              <a:ext cx="2181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071960" y="150012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Кто? Ч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TextBox 17"/>
          <p:cNvGrpSpPr/>
          <p:nvPr/>
        </p:nvGrpSpPr>
        <p:grpSpPr>
          <a:xfrm>
            <a:off x="6229440" y="573120"/>
            <a:ext cx="2603520" cy="1116000"/>
            <a:chOff x="6229440" y="573120"/>
            <a:chExt cx="2603520" cy="1116000"/>
          </a:xfrm>
        </p:grpSpPr>
        <p:pic>
          <p:nvPicPr>
            <p:cNvPr id="64" name="TextBox 17" descr=""/>
            <p:cNvPicPr/>
            <p:nvPr/>
          </p:nvPicPr>
          <p:blipFill>
            <a:blip r:embed="rId4"/>
            <a:stretch/>
          </p:blipFill>
          <p:spPr>
            <a:xfrm>
              <a:off x="6229440" y="573120"/>
              <a:ext cx="2603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286680" y="642960"/>
              <a:ext cx="242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одлежащее, вт.чл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TextBox 20"/>
          <p:cNvGrpSpPr/>
          <p:nvPr/>
        </p:nvGrpSpPr>
        <p:grpSpPr>
          <a:xfrm>
            <a:off x="2341440" y="4359240"/>
            <a:ext cx="2352960" cy="1481040"/>
            <a:chOff x="2341440" y="4359240"/>
            <a:chExt cx="2352960" cy="1481040"/>
          </a:xfrm>
        </p:grpSpPr>
        <p:pic>
          <p:nvPicPr>
            <p:cNvPr id="67" name="TextBox 20" descr=""/>
            <p:cNvPicPr/>
            <p:nvPr/>
          </p:nvPicPr>
          <p:blipFill>
            <a:blip r:embed="rId5"/>
            <a:stretch/>
          </p:blipFill>
          <p:spPr>
            <a:xfrm>
              <a:off x="2341440" y="4359240"/>
              <a:ext cx="23529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428920" y="4429080"/>
              <a:ext cx="20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Изменяется по падежам и чи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TextBox 22"/>
          <p:cNvGrpSpPr/>
          <p:nvPr/>
        </p:nvGrpSpPr>
        <p:grpSpPr>
          <a:xfrm>
            <a:off x="231840" y="3998880"/>
            <a:ext cx="2182680" cy="1481040"/>
            <a:chOff x="231840" y="3998880"/>
            <a:chExt cx="2182680" cy="1481040"/>
          </a:xfrm>
        </p:grpSpPr>
        <p:pic>
          <p:nvPicPr>
            <p:cNvPr id="70" name="TextBox 22" descr=""/>
            <p:cNvPicPr/>
            <p:nvPr/>
          </p:nvPicPr>
          <p:blipFill>
            <a:blip r:embed="rId6"/>
            <a:stretch/>
          </p:blipFill>
          <p:spPr>
            <a:xfrm>
              <a:off x="231840" y="3998880"/>
              <a:ext cx="218268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85840" y="4071960"/>
              <a:ext cx="20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М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Ж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р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TextBox 27"/>
          <p:cNvGrpSpPr/>
          <p:nvPr/>
        </p:nvGrpSpPr>
        <p:grpSpPr>
          <a:xfrm>
            <a:off x="4657680" y="4211640"/>
            <a:ext cx="2181240" cy="1116000"/>
            <a:chOff x="4657680" y="4211640"/>
            <a:chExt cx="2181240" cy="1116000"/>
          </a:xfrm>
        </p:grpSpPr>
        <p:pic>
          <p:nvPicPr>
            <p:cNvPr id="73" name="TextBox 27" descr=""/>
            <p:cNvPicPr/>
            <p:nvPr/>
          </p:nvPicPr>
          <p:blipFill>
            <a:blip r:embed="rId7"/>
            <a:stretch/>
          </p:blipFill>
          <p:spPr>
            <a:xfrm>
              <a:off x="4657680" y="4211640"/>
              <a:ext cx="2181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714920" y="4286160"/>
              <a:ext cx="20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Не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TextBox 28"/>
          <p:cNvGrpSpPr/>
          <p:nvPr/>
        </p:nvGrpSpPr>
        <p:grpSpPr>
          <a:xfrm>
            <a:off x="7016760" y="4145040"/>
            <a:ext cx="2182680" cy="750960"/>
            <a:chOff x="7016760" y="4145040"/>
            <a:chExt cx="2182680" cy="750960"/>
          </a:xfrm>
        </p:grpSpPr>
        <p:pic>
          <p:nvPicPr>
            <p:cNvPr id="76" name="TextBox 28" descr=""/>
            <p:cNvPicPr/>
            <p:nvPr/>
          </p:nvPicPr>
          <p:blipFill>
            <a:blip r:embed="rId8"/>
            <a:stretch/>
          </p:blipFill>
          <p:spPr>
            <a:xfrm>
              <a:off x="7016760" y="4145040"/>
              <a:ext cx="2182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72200" y="42148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обстве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Управляющая кнопка: далее 29">
            <a:hlinkClick r:id="" action="ppaction://hlinkshowjump?jump=nextslide"/>
          </p:cNvPr>
          <p:cNvSpPr/>
          <p:nvPr/>
        </p:nvSpPr>
        <p:spPr>
          <a:xfrm>
            <a:off x="7572240" y="6143760"/>
            <a:ext cx="1000440" cy="357120"/>
          </a:xfrm>
          <a:custGeom>
            <a:avLst/>
            <a:gdLst>
              <a:gd name="textAreaLeft" fmla="*/ 23040 w 1000440"/>
              <a:gd name="textAreaRight" fmla="*/ 977400 w 10004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71" h="21600">
                <a:moveTo>
                  <a:pt x="0" y="0"/>
                </a:moveTo>
                <a:lnTo>
                  <a:pt x="60471" y="0"/>
                </a:lnTo>
                <a:lnTo>
                  <a:pt x="60471" y="21600"/>
                </a:lnTo>
                <a:lnTo>
                  <a:pt x="0" y="21600"/>
                </a:lnTo>
                <a:close/>
              </a:path>
              <a:path fill="lightenLess" w="60471" h="21600">
                <a:moveTo>
                  <a:pt x="0" y="0"/>
                </a:moveTo>
                <a:lnTo>
                  <a:pt x="60471" y="0"/>
                </a:lnTo>
                <a:lnTo>
                  <a:pt x="59071" y="1400"/>
                </a:lnTo>
                <a:lnTo>
                  <a:pt x="1400" y="1400"/>
                </a:lnTo>
                <a:close/>
              </a:path>
              <a:path fill="darken" w="60471" h="21600">
                <a:moveTo>
                  <a:pt x="60471" y="0"/>
                </a:moveTo>
                <a:lnTo>
                  <a:pt x="60471" y="21600"/>
                </a:lnTo>
                <a:lnTo>
                  <a:pt x="59071" y="20200"/>
                </a:lnTo>
                <a:lnTo>
                  <a:pt x="59071" y="1400"/>
                </a:lnTo>
                <a:close/>
              </a:path>
              <a:path fill="darkenLess" w="60471" h="21600">
                <a:moveTo>
                  <a:pt x="60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1" y="20200"/>
                </a:lnTo>
                <a:close/>
              </a:path>
              <a:path fill="lighten" w="60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1" h="21600">
                <a:moveTo>
                  <a:pt x="23229" y="3794"/>
                </a:moveTo>
                <a:lnTo>
                  <a:pt x="37242" y="10800"/>
                </a:lnTo>
                <a:lnTo>
                  <a:pt x="2322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39640" y="-189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Человек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ез знаний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все  равно, что гриб: хотя на взгляд и крепкий, 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 землю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плохо держит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збери как часть речи выделенные имена существи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_________- сущ., (вопрос), Н.ф. –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(Одуш. Неодуш.), (Собст. Нариц.), Род, Число, Падеж, (Подлеж., Второст.ч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755640" y="907920"/>
            <a:ext cx="82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ь имена существительные в единственном числе. Распредели по столб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, вёдра, аллеи, морозы, природы, ванны,  города, яблоки, заводы, медведи, лошади, березы, ноги, морк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6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134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63640" y="765000"/>
          <a:ext cx="6408720" cy="4664160"/>
        </p:xfrm>
        <a:graphic>
          <a:graphicData uri="http://schemas.openxmlformats.org/drawingml/2006/table">
            <a:tbl>
              <a:tblPr/>
              <a:tblGrid>
                <a:gridCol w="2219400"/>
                <a:gridCol w="2028960"/>
                <a:gridCol w="2160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.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Ж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конч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 а, - 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ез оконч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Ж.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ез оконч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ле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н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в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уппы склонения имен существите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898560" cy="360360"/>
          </a:xfrm>
          <a:custGeom>
            <a:avLst/>
            <a:gdLst>
              <a:gd name="textAreaLeft" fmla="*/ 23040 w 898560"/>
              <a:gd name="textAreaRight" fmla="*/ 875520 w 89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828" h="21600">
                <a:moveTo>
                  <a:pt x="0" y="0"/>
                </a:moveTo>
                <a:lnTo>
                  <a:pt x="53828" y="0"/>
                </a:lnTo>
                <a:lnTo>
                  <a:pt x="53828" y="21600"/>
                </a:lnTo>
                <a:lnTo>
                  <a:pt x="0" y="21600"/>
                </a:lnTo>
                <a:close/>
              </a:path>
              <a:path fill="lightenLess" w="53828" h="21600">
                <a:moveTo>
                  <a:pt x="0" y="0"/>
                </a:moveTo>
                <a:lnTo>
                  <a:pt x="53828" y="0"/>
                </a:lnTo>
                <a:lnTo>
                  <a:pt x="52428" y="1400"/>
                </a:lnTo>
                <a:lnTo>
                  <a:pt x="1400" y="1400"/>
                </a:lnTo>
                <a:close/>
              </a:path>
              <a:path fill="darken" w="53828" h="21600">
                <a:moveTo>
                  <a:pt x="53828" y="0"/>
                </a:moveTo>
                <a:lnTo>
                  <a:pt x="53828" y="21600"/>
                </a:lnTo>
                <a:lnTo>
                  <a:pt x="52428" y="20200"/>
                </a:lnTo>
                <a:lnTo>
                  <a:pt x="52428" y="1400"/>
                </a:lnTo>
                <a:close/>
              </a:path>
              <a:path fill="darkenLess" w="53828" h="21600">
                <a:moveTo>
                  <a:pt x="53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28" y="20200"/>
                </a:lnTo>
                <a:close/>
              </a:path>
              <a:path fill="lighten" w="53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28" h="21600">
                <a:moveTo>
                  <a:pt x="19907" y="10800"/>
                </a:moveTo>
                <a:lnTo>
                  <a:pt x="33920" y="3794"/>
                </a:lnTo>
                <a:lnTo>
                  <a:pt x="33920" y="17806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85840" y="171468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214800" y="171468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143760" y="171468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14200" y="2857680"/>
            <a:ext cx="27860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ж.р. м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71680" y="3786120"/>
            <a:ext cx="71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643040" y="3786120"/>
            <a:ext cx="71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214800" y="2857680"/>
            <a:ext cx="27860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.р.  ср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214800" y="3786120"/>
            <a:ext cx="714240" cy="64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643720" y="3786120"/>
            <a:ext cx="71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4786200" y="3786120"/>
            <a:ext cx="714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7715160" y="3714840"/>
            <a:ext cx="714600" cy="64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7072200" y="2857680"/>
            <a:ext cx="149076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ж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6929280" y="3714840"/>
            <a:ext cx="714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575640" y="494172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547640" y="4941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3214440" y="4925880"/>
            <a:ext cx="6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939920" y="4941720"/>
            <a:ext cx="6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7299720" y="4892760"/>
            <a:ext cx="7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24000" y="1882800"/>
            <a:ext cx="364356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пределить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124000" y="2747880"/>
            <a:ext cx="3643560" cy="10688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делить окон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24000" y="4797360"/>
            <a:ext cx="3643560" cy="10688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казать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380960" y="552600"/>
            <a:ext cx="5423040" cy="10688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ставить в начальную форму (И.п. ед.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: вниз 5"/>
          <p:cNvSpPr/>
          <p:nvPr/>
        </p:nvSpPr>
        <p:spPr>
          <a:xfrm>
            <a:off x="3635280" y="3933720"/>
            <a:ext cx="432000" cy="79056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bbe0e3"/>
          </a:solidFill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Максим</cp:lastModifiedBy>
  <dcterms:modified xsi:type="dcterms:W3CDTF">2024-02-11T13:10:02Z</dcterms:modified>
  <cp:revision>58</cp:revision>
  <dc:subject/>
  <dc:title>Слайд 1</dc:title>
</cp:coreProperties>
</file>