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93EF-70FB-45F4-88C7-A05BD0025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C5B-93A0-4395-AC0D-1D574A0D7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6F2D-F1EE-4097-AAE6-0FB0FCB94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E3B-6D12-48E9-8C6F-D12B2A8C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954-5F3B-4CE2-9529-77870506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937-6B6C-4EE6-8522-3C7C130F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84E-D1DD-456F-A68E-D900B5E8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F7A8-C57D-4502-95C9-776CDF68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9857-EF47-47DB-8478-8BD175AC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BE56-E7BE-4EB9-8EDD-0303025B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482F-1B32-41D8-9B20-A6693CEA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BAEC-56FC-41AA-9114-4D0FD84A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5640-387D-4C90-95F9-C5548555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4482-0CFA-4B72-B4D6-42C00A3D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E9F-A329-4E8A-9A66-5EE673C7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C010-C069-42B8-AF74-297D739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8FF8-C135-45F3-93C8-77358B6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6F8-AE22-4BBF-ACD3-A1BC66D1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1E1-61AB-4ADB-B067-2170403F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14B4-EA17-4742-B26A-7C664D55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F5E3-CF6D-4A16-BB92-505E668D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42EB-66DC-4018-B592-39F96B66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EAAD-5E88-4C46-AF6E-D24951B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FB88-6875-47CE-97C9-DA87C753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384C-EC93-4F3D-812D-FBA6CB77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87E-66DB-4180-BFB1-7A387F7F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6D04-FE58-482B-A8C2-3002AEF5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4BD5-9E8E-4850-BAC6-8CC64EA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A68B-CA72-499D-8B91-B2DABB4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27C0-16AF-46B3-B98E-F7D91208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2ADE-5057-4D2F-9DBC-F45F7BB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8A2A-DD6B-4FD5-85C6-797A6F7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7D11-205B-416C-95AB-04FFCF50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4E47-3C68-4B17-B73E-E080CD89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37246-417D-4285-9EE2-5139B8EC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BB13-A193-43DC-B4CC-505C68A9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678-0F19-42A3-848B-36383D28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5D5C-0453-4B69-BD6F-FE771126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1F5D4-1D0F-46D0-AF1C-C4C6F8CE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28C26-D316-4EC0-932B-9C0E9AE8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23C5-5881-47F1-AB63-8C7FF378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E9C8-DECF-456F-A2E4-1725EC3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5D35-E84A-48FF-A6E0-B3EED18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7EB6-13E9-40B9-935E-8AA8C902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F8CC-4ADA-4537-B7E0-953696AE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72F2D-1AFB-48E5-B9EB-D3B88750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46C-82A9-4407-9342-0214073A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AB9-D2C2-4883-B8A0-C67B0FCC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30C-7A86-4F55-AF46-37419648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D0C-2BE3-4558-9227-4F408B47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ECB-4822-40AB-8245-D452CBB3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2977-47E1-4C2E-ABBF-559DBDD3BCF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620-3C72-4873-9F66-D5889F6DF28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C74-2115-464C-BC79-F930E5E0106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E3E4-BC61-4EBD-84DE-F4DB8803577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7920" y="2666880"/>
            <a:ext cx="3962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Лекарственные растения в окрестностях деревни Зеледеево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5" descr="Мать -и-мачеха"/>
          <p:cNvPicPr/>
          <p:nvPr/>
        </p:nvPicPr>
        <p:blipFill>
          <a:blip r:embed="rId1"/>
          <a:stretch/>
        </p:blipFill>
        <p:spPr>
          <a:xfrm>
            <a:off x="152280" y="304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Птон уклон"/>
          <p:cNvPicPr/>
          <p:nvPr/>
        </p:nvPicPr>
        <p:blipFill>
          <a:blip r:embed="rId2"/>
          <a:stretch/>
        </p:blipFill>
        <p:spPr>
          <a:xfrm>
            <a:off x="6705720" y="3429000"/>
            <a:ext cx="1912680" cy="2133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Кандык"/>
          <p:cNvPicPr/>
          <p:nvPr/>
        </p:nvPicPr>
        <p:blipFill>
          <a:blip r:embed="rId3"/>
          <a:stretch/>
        </p:blipFill>
        <p:spPr>
          <a:xfrm>
            <a:off x="457200" y="3352680"/>
            <a:ext cx="1752480" cy="243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156240" y="236232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Мать-и-мач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098040" y="57150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ион уклоняющий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Марь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Первоцв крупночаш"/>
          <p:cNvPicPr/>
          <p:nvPr/>
        </p:nvPicPr>
        <p:blipFill>
          <a:blip r:embed="rId4"/>
          <a:stretch/>
        </p:blipFill>
        <p:spPr>
          <a:xfrm>
            <a:off x="6629400" y="30492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Фиалка одноцв"/>
          <p:cNvPicPr/>
          <p:nvPr/>
        </p:nvPicPr>
        <p:blipFill>
          <a:blip r:embed="rId5"/>
          <a:stretch/>
        </p:blipFill>
        <p:spPr>
          <a:xfrm>
            <a:off x="3733920" y="838080"/>
            <a:ext cx="1852560" cy="2438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2"/>
          <p:cNvSpPr/>
          <p:nvPr/>
        </p:nvSpPr>
        <p:spPr>
          <a:xfrm>
            <a:off x="3240" y="586728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андык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«Сибирская лил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6478920" y="23623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ерво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рупночаше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4116960" y="3808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685800" y="1295280"/>
          <a:ext cx="8001000" cy="5440320"/>
        </p:xfrm>
        <a:graphic>
          <a:graphicData uri="http://schemas.openxmlformats.org/drawingml/2006/table">
            <a:tbl>
              <a:tblPr/>
              <a:tblGrid>
                <a:gridCol w="1440000"/>
                <a:gridCol w="1315800"/>
                <a:gridCol w="1314720"/>
                <a:gridCol w="1144440"/>
                <a:gridCol w="1314360"/>
                <a:gridCol w="1471680"/>
              </a:tblGrid>
              <a:tr h="858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зн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-об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-зуе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 дикораст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т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летнее двудомное вьющееся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ремах возле школы, зарослях ивня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 ча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емная ч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</a:tr>
              <a:tr h="143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да трехразд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оцве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летнее травянистое рас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яные болота, ур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 и надзем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</a:tr>
              <a:tr h="143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муха обыкнов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оцве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ое дерево или куста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 и овра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емная часть: плоды, кора, цв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</a:tr>
            </a:tbl>
          </a:graphicData>
        </a:graphic>
      </p:graphicFrame>
      <p:sp>
        <p:nvSpPr>
          <p:cNvPr id="239" name="TextBox 3"/>
          <p:cNvSpPr/>
          <p:nvPr/>
        </p:nvSpPr>
        <p:spPr>
          <a:xfrm>
            <a:off x="717480" y="78408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кологическая и ресурсная характеристика видов лекарственных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ПРИМЕНЕНИЕ ЛЕКАРСТВЕННЫХ РАСТЕНИЙ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914400"/>
          <a:ext cx="8105760" cy="5560920"/>
        </p:xfrm>
        <a:graphic>
          <a:graphicData uri="http://schemas.openxmlformats.org/drawingml/2006/table">
            <a:tbl>
              <a:tblPr/>
              <a:tblGrid>
                <a:gridCol w="3990960"/>
                <a:gridCol w="4114800"/>
              </a:tblGrid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сердечно сосудистых заболевания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3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ярышник, зверобой, земляника, пустырн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гипертонической болез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ярышник, зверобой, калина (кора), хвощ пол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овоостанавливаю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веробой, калина (кора), кровохлебка (корневище), берёз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27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елчег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апива, пижма, шиповник, чистоте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яжу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еробой, черёмуха (плоды), черника (плоды), тысячелистник (соцвети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aed1"/>
                    </a:solidFill>
                  </a:tcPr>
                </a:tc>
              </a:tr>
              <a:tr h="424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би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на, рябина, подорожник, чистоте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7e1"/>
                    </a:solidFill>
                  </a:tcPr>
                </a:tc>
              </a:tr>
              <a:tr h="590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кожных заболева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шица, калина, крапива, черника (ягоды), хво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8b2"/>
                    </a:solidFill>
                  </a:tcPr>
                </a:tc>
              </a:tr>
              <a:tr h="462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окаиваю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шица, калина (кора), полынь, лабазн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a2f8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желудочно-кишечных заболева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ячелистник, берёза (почки), зверобой, пижма, мал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752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буждающие аппе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уванчик, полынь горькая (листья) тысячелис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5a3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20192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мель обыкновенный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304920" y="1168560"/>
            <a:ext cx="2493720" cy="2565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3048120" y="8380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муха обыкно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3352680" cy="23925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5486400" y="38862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да трехразд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2643120" cy="25146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6248520" y="8380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пов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5"/>
          <a:stretch/>
        </p:blipFill>
        <p:spPr>
          <a:xfrm>
            <a:off x="838080" y="4267080"/>
            <a:ext cx="3218040" cy="23623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2"/>
          <p:cNvSpPr/>
          <p:nvPr/>
        </p:nvSpPr>
        <p:spPr>
          <a:xfrm>
            <a:off x="838080" y="3886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 апте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80880" y="960840"/>
            <a:ext cx="845820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Arial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растения собираются ежегодно, поэтому с течением времени запасы их могут сильно уменьшиться и исчезнуть.  Естественно возникает вопрос: «Собирать ли лекарственные растения с целью широкого использования в медицине или только охранять и изучать?» Конечно, в первую очередь необходимо охранять лекарственные растения, чтобы в дальнейшем можно было наиболее полно изучить их свойства. Заготавливать можно только виды, которые встречаются часто и обильно, а так же умеренно часто. При сборе лекарственного сырья необходимо иметь некоторые сведения о правилах заготовки лекарственных растений. Запрещено заготавливать лекарственные растения, которые встречаются редко. Нельзя заготавливать лекарственное сырьё в загрязнённых местообитаниях (вблизи дорог, на территории больших населённых пунктов). Нельзя проводить сбор растений ежегодно на одной и той же территории. Нельзя срывать и собирать траву  без корней и обрывать полностью листья с растений. Корни и корневища заготавливать после созревания и осыпания семян, оставляя часть их для восстановления зарослей.  Почки и кору собирать не с растущих растений, а со срубленных деревьев и кустар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е применение лекарственных препаратов возможно только по назначению врача, поставившего диагноз и установившего дозировку лекарств и режим лечения. Знать полезные и вредные растения, уметь с ними обращаться в повседневной жизни, бережно охранять и разумно использовать должен каждый взрослый человек, каждый школьник. Для того чтобы учащиеся хорошо знали местные лекарственные растения, необходимы экскурсии в прир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4617b"/>
                </a:solidFill>
                <a:latin typeface="Times New Roman"/>
              </a:rPr>
              <a:t>ВЫВОД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8377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оведено анкетирование и выявлено, что население использует лекарственные растения, которые произрастают в окрестностях деревни Зеледеево и готовят из них настойки, настои и отвар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браны, изучены и определены виды  лекарственных  растени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зучена литература и методика сбора лекарственных раст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зучена морфолого-биологическая особенность и описаны некоторые растения, обладающие лекарственными свойствами. Дана биологическая характеристика вид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овели до сведения родителей о методике сбора лекарственных растений и рациональном использовании их. Созданы брошюры-рецепты (состав и применение чаев и сборов из растительного сырья).Написан и передан в библиотеку доклад по теме: «Зелёная аптека деревни Зеледеево» с целью использования классными руководителями. Оформлен альбом «Лекарственные растения в окрестностях деревни Зеледеево». При оформлении использовался гербарный материал, лекарственное растительное сырье, соответствующая  литература, выписаны интересные сведения по применению лекарственных растений в официально и народной медицине. Выпущена газета «Дары природы» в которой учащиеся рассказывают о лекарственных растениях, произрастающих в окрестностях деревни Зеледеево и об их применен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761760" y="609480"/>
            <a:ext cx="7391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ес, как сказочное царство,                                      Там кругом растут лекарства,                                    В каждой травке, в каждой ветке –                              И микстура, и таблетки.                                          Ну, а чем и как лечить                                                Мы вас можем научи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се целебные растения                                       Знаем мы без исключения.                               Нужно только не лениться,                                     Нужно только научиться                                         Находить в лесу растения,                                       Что пригодны для леченья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609480" y="2819520"/>
            <a:ext cx="7696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</a:rPr>
              <a:t>Цель работы:</a:t>
            </a: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ие и определение лекарственных растений в окрестностях деревни Зеледеево, овладение методами сбора гербарного материала, повышение знаний о морфолого–биологических особенностях лекарственных растений и их практическом применен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Times New Roman"/>
              </a:rPr>
              <a:t>Задачи:</a:t>
            </a: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Провести социологическое исследование 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ровень знаний населения о лекарственных растениях в окрестностях деревни Зеледеево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Найти и выявить виды лекарственных растений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Изучить литературу и методику сбора лекарственных растен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Изучить морфолого-биологические особенности и описать некоторые растения, обладающие лекарственными свойств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Довести до сведения родителей о методике сбора лекарственных растений и рациональном использовании и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9903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тоды работы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визуальное наблюдение, поисковая работа, опрос населения, работа с литературой, геоботаническое описание, анке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ъект 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 деревня Зеледее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лекарственные  раст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ремя проведения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в течение лета 2012 и 2013 год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Диаграмма 2" descr=""/>
          <p:cNvPicPr/>
          <p:nvPr/>
        </p:nvPicPr>
        <p:blipFill>
          <a:blip r:embed="rId1"/>
          <a:stretch/>
        </p:blipFill>
        <p:spPr>
          <a:xfrm>
            <a:off x="406440" y="711360"/>
            <a:ext cx="8483400" cy="5587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1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4035240" cy="3683160"/>
          </a:xfrm>
          <a:prstGeom prst="rect">
            <a:avLst/>
          </a:prstGeom>
          <a:ln w="0">
            <a:noFill/>
          </a:ln>
        </p:spPr>
      </p:pic>
      <p:pic>
        <p:nvPicPr>
          <p:cNvPr id="220" name="Диаграмма 2" descr=""/>
          <p:cNvPicPr/>
          <p:nvPr/>
        </p:nvPicPr>
        <p:blipFill>
          <a:blip r:embed="rId2"/>
          <a:stretch/>
        </p:blipFill>
        <p:spPr>
          <a:xfrm>
            <a:off x="5130720" y="2235240"/>
            <a:ext cx="3911760" cy="37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Диаграмма 1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3778200" cy="3044880"/>
          </a:xfrm>
          <a:prstGeom prst="rect">
            <a:avLst/>
          </a:prstGeom>
          <a:ln w="0">
            <a:noFill/>
          </a:ln>
        </p:spPr>
      </p:pic>
      <p:pic>
        <p:nvPicPr>
          <p:cNvPr id="222" name="Диаграмма 2" descr=""/>
          <p:cNvPicPr/>
          <p:nvPr/>
        </p:nvPicPr>
        <p:blipFill>
          <a:blip r:embed="rId2"/>
          <a:stretch/>
        </p:blipFill>
        <p:spPr>
          <a:xfrm>
            <a:off x="4902120" y="787320"/>
            <a:ext cx="4140360" cy="3054600"/>
          </a:xfrm>
          <a:prstGeom prst="rect">
            <a:avLst/>
          </a:prstGeom>
          <a:ln w="0">
            <a:noFill/>
          </a:ln>
        </p:spPr>
      </p:pic>
      <p:pic>
        <p:nvPicPr>
          <p:cNvPr id="223" name="Диаграмма 3" descr=""/>
          <p:cNvPicPr/>
          <p:nvPr/>
        </p:nvPicPr>
        <p:blipFill>
          <a:blip r:embed="rId3"/>
          <a:stretch/>
        </p:blipFill>
        <p:spPr>
          <a:xfrm>
            <a:off x="1854360" y="3530520"/>
            <a:ext cx="551160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http://mw2.google.com/mw-panoramio/photos/medium/49498615.jpg"/>
          <p:cNvPicPr/>
          <p:nvPr/>
        </p:nvPicPr>
        <p:blipFill>
          <a:blip r:embed="rId1"/>
          <a:stretch/>
        </p:blipFill>
        <p:spPr>
          <a:xfrm>
            <a:off x="380880" y="914400"/>
            <a:ext cx="2457720" cy="17510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http://www.sevkray.ru/file/s/200/1510/urema.jpg"/>
          <p:cNvPicPr/>
          <p:nvPr/>
        </p:nvPicPr>
        <p:blipFill>
          <a:blip r:embed="rId2"/>
          <a:stretch/>
        </p:blipFill>
        <p:spPr>
          <a:xfrm>
            <a:off x="3429000" y="38098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18.JPG"/>
          <p:cNvPicPr/>
          <p:nvPr/>
        </p:nvPicPr>
        <p:blipFill>
          <a:blip r:embed="rId3"/>
          <a:stretch/>
        </p:blipFill>
        <p:spPr>
          <a:xfrm>
            <a:off x="3429000" y="914400"/>
            <a:ext cx="2398680" cy="17524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http://stat17.privet.ru/lr/09307b3d656a743c4e3ad332602f1fd0"/>
          <p:cNvPicPr/>
          <p:nvPr/>
        </p:nvPicPr>
        <p:blipFill>
          <a:blip r:embed="rId4"/>
          <a:stretch/>
        </p:blipFill>
        <p:spPr>
          <a:xfrm>
            <a:off x="6477120" y="914400"/>
            <a:ext cx="2266920" cy="17524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266.JPG"/>
          <p:cNvPicPr/>
          <p:nvPr/>
        </p:nvPicPr>
        <p:blipFill>
          <a:blip r:embed="rId5"/>
          <a:stretch/>
        </p:blipFill>
        <p:spPr>
          <a:xfrm>
            <a:off x="6553080" y="3505320"/>
            <a:ext cx="2259000" cy="26064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6" descr="http://rewalls.com/pic/201101/800x600/reWalls.com-17456.jpg"/>
          <p:cNvPicPr/>
          <p:nvPr/>
        </p:nvPicPr>
        <p:blipFill>
          <a:blip r:embed="rId6"/>
          <a:stretch/>
        </p:blipFill>
        <p:spPr>
          <a:xfrm>
            <a:off x="380880" y="3505320"/>
            <a:ext cx="2362320" cy="26510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471800" y="624852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23880" y="62485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ая оп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7162920" y="2743200"/>
            <a:ext cx="10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3513240" y="28195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га вдоль дере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916200" y="28195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3507840" y="5867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ема возле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WP_20131126_020.jpg"/>
          <p:cNvPicPr/>
          <p:nvPr/>
        </p:nvPicPr>
        <p:blipFill>
          <a:blip r:embed="rId1"/>
          <a:stretch/>
        </p:blipFill>
        <p:spPr>
          <a:xfrm>
            <a:off x="609480" y="2209680"/>
            <a:ext cx="7419960" cy="416880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2" descr=""/>
          <p:cNvPicPr/>
          <p:nvPr/>
        </p:nvPicPr>
        <p:blipFill>
          <a:blip r:embed="rId2"/>
          <a:stretch/>
        </p:blipFill>
        <p:spPr>
          <a:xfrm>
            <a:off x="317520" y="811080"/>
            <a:ext cx="8618400" cy="1859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Шарафутдинова</cp:lastModifiedBy>
  <dcterms:modified xsi:type="dcterms:W3CDTF">2014-02-24T07:52:2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