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B22-2106-47D6-809F-AFD8B5DFA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E1A-2623-45D1-A2FF-FB02E5982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D07-232F-4772-95BC-E9EA55544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6C7-6860-4ABC-A59A-B2A66EB7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BBC-AF0E-4F1A-9431-9A61288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6F1-EC74-448D-841F-7E19AB39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E5A-E0EE-4D9D-BD0D-E9219887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9011-9045-4954-8B51-EE2FC10F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DDE-4594-4B6A-A87E-71DE93A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ADF1-A0DC-4425-B8D4-FF0E88DF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51BA-6B14-4DB1-B7BA-2702D64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504-2A57-4450-A7F9-F69A2D0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06B6-535D-4278-B75A-B30EABFC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F48-D523-44A5-BB06-52C464AD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5AD-3397-4B1A-81E1-A6A0708B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8EE1-54BF-4C54-870A-9C36A5C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E834-BC1A-4ECF-A68C-AD96230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B9FF-2210-4A18-9010-4083F6B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83E9-673D-4BEF-B3A1-D4DF4C29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44E-7831-443E-8AF5-59BDF858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2496-2337-4F61-9B32-99AEF8B3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4134-2CDC-467E-81EE-A8382D74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FD47-DD4B-4DD1-8F67-C5E243EB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5121-0EDA-4A04-AE19-9DC1DC66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3CD9-34A6-4895-92A3-5F02BD7C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024-2C29-435C-925E-E9AAC79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1809-C82D-4D4D-B726-19F018F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BA8D-223F-415B-8C39-B86F2A2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D2A3-9503-4F12-993C-EA6CB55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868B-7852-4FC6-A510-EB93243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CA27-2634-4D73-B1DF-5127663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8FA1-D9EC-475F-9AB6-D41D1A67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902B-2C78-4A24-8328-FBE109F3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ACE4-6C9F-4A69-985F-E33A6F58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C067-AD22-445A-9A17-B2CB9C64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03C8-261D-46DF-ADAD-F2C8E0C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FC1-B6D5-4F39-B204-BD609BBA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EA1C-5FE3-4123-A0A3-3A2A063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D097-F7C4-4AB6-A1EF-2CD1F7C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082F-9D37-4D2E-8198-1EF5E6C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0F89-25DF-4A54-8746-5BD3ED80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DA00-EF0C-4668-83A0-B5B7A1E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BD75-059A-4E17-8AEC-CB6E25B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A6C7-888E-4905-ABA2-3A03860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5DCBD-6B6E-410D-B54E-CDB077A8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CCD3-B32E-41A2-86A3-3DBF5C45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F23-6391-4165-8302-9D55CB5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FC3-D5EE-4399-B56C-FFBAD23F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74A-3193-490D-8459-530962C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482-A66F-4319-8A8F-CD9E131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A82-B920-4DD5-BADE-409008E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CBBD-3C06-4859-B6EC-E2697F0F81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E4E-9129-4611-8DE3-C35BCB94242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64E-4DD8-418D-AFE5-4B6290C7DC0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A56-6A36-46D2-B1D8-239BC15BF0E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7920" y="266688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Лекарственные растения в окрестностях деревни Зеледеево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5" descr="Мать -и-мачеха"/>
          <p:cNvPicPr/>
          <p:nvPr/>
        </p:nvPicPr>
        <p:blipFill>
          <a:blip r:embed="rId1"/>
          <a:stretch/>
        </p:blipFill>
        <p:spPr>
          <a:xfrm>
            <a:off x="152280" y="304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Птон уклон"/>
          <p:cNvPicPr/>
          <p:nvPr/>
        </p:nvPicPr>
        <p:blipFill>
          <a:blip r:embed="rId2"/>
          <a:stretch/>
        </p:blipFill>
        <p:spPr>
          <a:xfrm>
            <a:off x="6705720" y="3429000"/>
            <a:ext cx="1912680" cy="2133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Кандык"/>
          <p:cNvPicPr/>
          <p:nvPr/>
        </p:nvPicPr>
        <p:blipFill>
          <a:blip r:embed="rId3"/>
          <a:stretch/>
        </p:blipFill>
        <p:spPr>
          <a:xfrm>
            <a:off x="457200" y="3352680"/>
            <a:ext cx="1752480" cy="243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156240" y="236232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Мать-и-мач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8040" y="57150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ион уклоняющий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Марь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Первоцв крупночаш"/>
          <p:cNvPicPr/>
          <p:nvPr/>
        </p:nvPicPr>
        <p:blipFill>
          <a:blip r:embed="rId4"/>
          <a:stretch/>
        </p:blipFill>
        <p:spPr>
          <a:xfrm>
            <a:off x="6629400" y="30492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Фиалка одноцв"/>
          <p:cNvPicPr/>
          <p:nvPr/>
        </p:nvPicPr>
        <p:blipFill>
          <a:blip r:embed="rId5"/>
          <a:stretch/>
        </p:blipFill>
        <p:spPr>
          <a:xfrm>
            <a:off x="3733920" y="838080"/>
            <a:ext cx="185256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3240" y="586728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анды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«Сибирская лил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6478920" y="23623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ерво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рупночаше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4116960" y="3808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85800" y="1295280"/>
          <a:ext cx="8001000" cy="5440320"/>
        </p:xfrm>
        <a:graphic>
          <a:graphicData uri="http://schemas.openxmlformats.org/drawingml/2006/table">
            <a:tbl>
              <a:tblPr/>
              <a:tblGrid>
                <a:gridCol w="1440000"/>
                <a:gridCol w="1315800"/>
                <a:gridCol w="1314720"/>
                <a:gridCol w="1144440"/>
                <a:gridCol w="1314360"/>
                <a:gridCol w="1471680"/>
              </a:tblGrid>
              <a:tr h="858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зн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-об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-зу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 дикораст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т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летнее двудомное вьющееся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ремах возле школы, зарослях ивня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ча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емная ч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</a:tr>
              <a:tr h="143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да трехразд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оцве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летнее травянистое рас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ые болота, ур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 и надзем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</a:tr>
              <a:tr h="143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муха обыкнов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ое дерево или куста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 и овр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емная часть: плоды, кора, цв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3"/>
          <p:cNvSpPr/>
          <p:nvPr/>
        </p:nvSpPr>
        <p:spPr>
          <a:xfrm>
            <a:off x="717480" y="78408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кологическая и ресурсная характеристика видов лекарствен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ИМЕНЕНИЕ ЛЕКАРСТВЕННЫХ РАСТЕНИЙ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914400"/>
          <a:ext cx="8105760" cy="5560920"/>
        </p:xfrm>
        <a:graphic>
          <a:graphicData uri="http://schemas.openxmlformats.org/drawingml/2006/table">
            <a:tbl>
              <a:tblPr/>
              <a:tblGrid>
                <a:gridCol w="3990960"/>
                <a:gridCol w="411480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сердечно сосудистых заболеван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ышник, зверобой, земляника, пустыр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гипертонической болез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ышник, зверобой, калина (кора), хвощ пол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овоостанавлива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веробой, калина (кора), кровохлебка (корневище), берё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2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лчег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апива, пижма, шиповник, чистот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жу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обой, черёмуха (плоды), черника (плоды), тысячелистник (соцвет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</a:tr>
              <a:tr h="424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би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а, рябина, подорожник, чистот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</a:tr>
              <a:tr h="590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ожных заболе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ица, калина, крапива, черника (ягоды), хво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</a:tr>
              <a:tr h="462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окаива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ица, калина (кора), полынь, лабаз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желудочно-кишечных заболе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ячелистник, берёза (почки), зверобой, пижма, мал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752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буждающие аппе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уванчик, полынь горькая (листья) тысячелис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2019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мель обыкновенный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304920" y="1168560"/>
            <a:ext cx="249372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3048120" y="8380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мух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3352680" cy="2392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5486400" y="38862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да трехразд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2643120" cy="2514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6248520" y="8380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5"/>
          <a:stretch/>
        </p:blipFill>
        <p:spPr>
          <a:xfrm>
            <a:off x="838080" y="4267080"/>
            <a:ext cx="3218040" cy="23623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2"/>
          <p:cNvSpPr/>
          <p:nvPr/>
        </p:nvSpPr>
        <p:spPr>
          <a:xfrm>
            <a:off x="838080" y="3886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апте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80880" y="960840"/>
            <a:ext cx="845820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 собираются ежегодно, поэтому с течением времени запасы их могут сильно уменьшиться и исчезнуть.  Естественно возникает вопрос: «Собирать ли лекарственные растения с целью широкого использования в медицине или только охранять и изучать?» Конечно, в первую очередь необходимо охранять лекарственные растения, чтобы в дальнейшем можно было наиболее полно изучить их свойства. Заготавливать можно только виды, которые встречаются часто и обильно, а так же умеренно часто. При сборе лекарственного сырья необходимо иметь некоторые сведения о правилах заготовки лекарственных растений. Запрещено заготавливать лекарственные растения, которые встречаются редко. Нельзя заготавливать лекарственное сырьё в загрязнённых местообитаниях (вблизи дорог, на территории больших населённых пунктов). Нельзя проводить сбор растений ежегодно на одной и той же территории. Нельзя срывать и собирать траву  без корней и обрывать полностью листья с растений. Корни и корневища заготавливать после созревания и осыпания семян, оставляя часть их для восстановления зарослей.  Почки и кору собирать не с растущих растений, а со срубленных деревьев и кустар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е применение лекарственных препаратов возможно только по назначению врача, поставившего диагноз и установившего дозировку лекарств и режим лечения. Знать полезные и вредные растения, уметь с ними обращаться в повседневной жизни, бережно охранять и разумно использовать должен каждый взрослый человек, каждый школьник. Для того чтобы учащиеся хорошо знали местные лекарственные растения, необходимы экскурсии в прир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4617b"/>
                </a:solidFill>
                <a:latin typeface="Times New Roman"/>
              </a:rPr>
              <a:t>ВЫВОД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8377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оведено анкетирование и выявлено, что население использует лекарственные растения, которые произрастают в окрестностях деревни Зеледеево и готовят из них настойки, настои и отвар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браны, изучены и определены виды  лекарственных  растени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зучена литература и методика сбора лекарственных раст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зучена морфолого-биологическая особенность и описаны некоторые растения, обладающие лекарственными свойствами. Дана биологическая характеристика вид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овели до сведения родителей о методике сбора лекарственных растений и рациональном использовании их. Созданы брошюры-рецепты (состав и применение чаев и сборов из растительного сырья).Написан и передан в библиотеку доклад по теме: «Зелёная аптека деревни Зеледеево» с целью использования классными руководителями. Оформлен альбом «Лекарственные растения в окрестностях деревни Зеледеево». При оформлении использовался гербарный материал, лекарственное растительное сырье, соответствующая  литература, выписаны интересные сведения по применению лекарственных растений в официально и народной медицине. Выпущена газета «Дары природы» в которой учащиеся рассказывают о лекарственных растениях, произрастающих в окрестностях деревни Зеледеево и об их применен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761760" y="609480"/>
            <a:ext cx="7391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ес, как сказочное царство,                                      Там кругом растут лекарства,                                    В каждой травке, в каждой ветке –                              И микстура, и таблетки.                                          Ну, а чем и как лечить                                                Мы вас можем научи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се целебные растения                                       Знаем мы без исключения.                               Нужно только не лениться,                                     Нужно только научиться                                         Находить в лесу растения,                                       Что пригодны для леченья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609480" y="2819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</a:rPr>
              <a:t>Цель работы: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е и определение лекарственных растений в окрестностях деревни Зеледеево, овладение методами сбора гербарного материала, повышение знаний о морфолого–биологических особенностях лекарственных растений и их практическом применен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Times New Roman"/>
              </a:rPr>
              <a:t>Задачи:</a:t>
            </a: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Провести социологическое исследование 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ровень знаний населения о лекарственных растениях в окрестностях деревни Зеледеево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Найти и выявить виды лекарственных растений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Изучить литературу и методику сбора лекарственных расте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Изучить морфолого-биологические особенности и описать некоторые растения, обладающие лекарственными свойств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Довести до сведения родителей о методике сбора лекарственных растений и рациональном использовании и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9903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тоды работы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изуальное наблюдение, поисковая работа, опрос населения, работа с литературой, геоботаническое описание, анке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ъект 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 деревня Зеледее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лекарственные  раст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ремя проведения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 течение лета 2012 и 2013 год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Диаграмма 2" descr=""/>
          <p:cNvPicPr/>
          <p:nvPr/>
        </p:nvPicPr>
        <p:blipFill>
          <a:blip r:embed="rId1"/>
          <a:stretch/>
        </p:blipFill>
        <p:spPr>
          <a:xfrm>
            <a:off x="406440" y="711360"/>
            <a:ext cx="8483400" cy="5587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1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4035240" cy="3683160"/>
          </a:xfrm>
          <a:prstGeom prst="rect">
            <a:avLst/>
          </a:prstGeom>
          <a:ln w="0">
            <a:noFill/>
          </a:ln>
        </p:spPr>
      </p:pic>
      <p:pic>
        <p:nvPicPr>
          <p:cNvPr id="220" name="Диаграмма 2" descr=""/>
          <p:cNvPicPr/>
          <p:nvPr/>
        </p:nvPicPr>
        <p:blipFill>
          <a:blip r:embed="rId2"/>
          <a:stretch/>
        </p:blipFill>
        <p:spPr>
          <a:xfrm>
            <a:off x="5130720" y="2235240"/>
            <a:ext cx="391176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Диаграмма 1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3778200" cy="3044880"/>
          </a:xfrm>
          <a:prstGeom prst="rect">
            <a:avLst/>
          </a:prstGeom>
          <a:ln w="0">
            <a:noFill/>
          </a:ln>
        </p:spPr>
      </p:pic>
      <p:pic>
        <p:nvPicPr>
          <p:cNvPr id="222" name="Диаграмма 2" descr=""/>
          <p:cNvPicPr/>
          <p:nvPr/>
        </p:nvPicPr>
        <p:blipFill>
          <a:blip r:embed="rId2"/>
          <a:stretch/>
        </p:blipFill>
        <p:spPr>
          <a:xfrm>
            <a:off x="4902120" y="787320"/>
            <a:ext cx="4140360" cy="3054600"/>
          </a:xfrm>
          <a:prstGeom prst="rect">
            <a:avLst/>
          </a:prstGeom>
          <a:ln w="0">
            <a:noFill/>
          </a:ln>
        </p:spPr>
      </p:pic>
      <p:pic>
        <p:nvPicPr>
          <p:cNvPr id="223" name="Диаграмма 3" descr=""/>
          <p:cNvPicPr/>
          <p:nvPr/>
        </p:nvPicPr>
        <p:blipFill>
          <a:blip r:embed="rId3"/>
          <a:stretch/>
        </p:blipFill>
        <p:spPr>
          <a:xfrm>
            <a:off x="1854360" y="3530520"/>
            <a:ext cx="55116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http://mw2.google.com/mw-panoramio/photos/medium/49498615.jpg"/>
          <p:cNvPicPr/>
          <p:nvPr/>
        </p:nvPicPr>
        <p:blipFill>
          <a:blip r:embed="rId1"/>
          <a:stretch/>
        </p:blipFill>
        <p:spPr>
          <a:xfrm>
            <a:off x="380880" y="914400"/>
            <a:ext cx="2457720" cy="17510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http://www.sevkray.ru/file/s/200/1510/urema.jpg"/>
          <p:cNvPicPr/>
          <p:nvPr/>
        </p:nvPicPr>
        <p:blipFill>
          <a:blip r:embed="rId2"/>
          <a:stretch/>
        </p:blipFill>
        <p:spPr>
          <a:xfrm>
            <a:off x="3429000" y="38098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18.JPG"/>
          <p:cNvPicPr/>
          <p:nvPr/>
        </p:nvPicPr>
        <p:blipFill>
          <a:blip r:embed="rId3"/>
          <a:stretch/>
        </p:blipFill>
        <p:spPr>
          <a:xfrm>
            <a:off x="3429000" y="914400"/>
            <a:ext cx="2398680" cy="17524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http://stat17.privet.ru/lr/09307b3d656a743c4e3ad332602f1fd0"/>
          <p:cNvPicPr/>
          <p:nvPr/>
        </p:nvPicPr>
        <p:blipFill>
          <a:blip r:embed="rId4"/>
          <a:stretch/>
        </p:blipFill>
        <p:spPr>
          <a:xfrm>
            <a:off x="6477120" y="914400"/>
            <a:ext cx="2266920" cy="17524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266.JPG"/>
          <p:cNvPicPr/>
          <p:nvPr/>
        </p:nvPicPr>
        <p:blipFill>
          <a:blip r:embed="rId5"/>
          <a:stretch/>
        </p:blipFill>
        <p:spPr>
          <a:xfrm>
            <a:off x="6553080" y="3505320"/>
            <a:ext cx="2259000" cy="2606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6" descr="http://rewalls.com/pic/201101/800x600/reWalls.com-17456.jpg"/>
          <p:cNvPicPr/>
          <p:nvPr/>
        </p:nvPicPr>
        <p:blipFill>
          <a:blip r:embed="rId6"/>
          <a:stretch/>
        </p:blipFill>
        <p:spPr>
          <a:xfrm>
            <a:off x="380880" y="3505320"/>
            <a:ext cx="2362320" cy="26510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471800" y="62485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23880" y="62485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ая оп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7162920" y="2743200"/>
            <a:ext cx="10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3513240" y="28195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а вдоль дере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6200" y="28195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3507840" y="5867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ема возле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WP_20131126_020.jpg"/>
          <p:cNvPicPr/>
          <p:nvPr/>
        </p:nvPicPr>
        <p:blipFill>
          <a:blip r:embed="rId1"/>
          <a:stretch/>
        </p:blipFill>
        <p:spPr>
          <a:xfrm>
            <a:off x="609480" y="2209680"/>
            <a:ext cx="7419960" cy="416880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2" descr=""/>
          <p:cNvPicPr/>
          <p:nvPr/>
        </p:nvPicPr>
        <p:blipFill>
          <a:blip r:embed="rId2"/>
          <a:stretch/>
        </p:blipFill>
        <p:spPr>
          <a:xfrm>
            <a:off x="317520" y="811080"/>
            <a:ext cx="8618400" cy="185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Шарафутдинова</cp:lastModifiedBy>
  <dcterms:modified xsi:type="dcterms:W3CDTF">2014-02-24T07:52:2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