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CB9-9EA9-4CCD-8C0C-3F4C18BE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4DC4-8C7E-4132-B402-F75FFB2E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B40-A8CA-4ABE-ACC1-6C971089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A20-3365-4F51-9CD0-ACEB6A2B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7151-44FD-46B8-A3E0-B3B3C19A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CC75-3C71-4967-9043-A5BCD7B0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CB9F-27D9-44E6-834C-99CB2E51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4F21-CF38-4046-97A7-4870AAA6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A029-AAB4-4881-AE5F-070850A4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5A6B-726A-4C27-9553-81271581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FA30-3C79-47CD-8C35-B9A48133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E16-11CA-4EFD-AEC1-D3AB24D1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78FA-59C4-40AD-B932-EB03341B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83CC-B50A-4B8D-A649-C37DC363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B229-00E1-44E3-8A00-210C1C11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A8C8-1819-410C-9022-1DE18049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7F1D-32C5-4BA9-B889-D4C82F74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C824D-AD05-4325-9814-F462504C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53A05-3C56-4E5B-A714-75EF222A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AEB1D-9678-41DF-81F3-6EAF6BD8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9EC0F-511F-4BCF-A4FD-7DE773B5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C4330-034F-4BBB-A37F-74F66291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66C-5C2D-443F-96ED-7C1BDF1C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F72FB-3CAC-417B-8C68-627A0085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9C249-71DB-406B-B310-EAF94CC6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2357A-922C-4C78-ACCE-31BCEA7F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5EF9D-6DC2-4720-8518-94A79982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47257-B5AF-4E0D-A2F7-C296839B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1F7DC-FAD7-44A1-A456-E354ECFE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87259-EA0E-4766-8418-C3762A59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DF29F-A83C-421E-AC35-3CF6F86C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B3A86-F057-4964-80E3-AC22C877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375D6-AF05-4492-9558-20182B2F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852-3185-4AE1-895C-5515C97D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7CF6F-C21F-4410-8DD1-7687A83E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780F5-509E-465A-894D-CA844158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0D111-2856-4560-B4E4-56567542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49544-815B-4AF7-BB43-ECC15A17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824BC-4C68-471E-9689-1B104825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DD7BC-46DB-477C-88B4-306D9491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EDEEB-89D6-46EB-8376-0955E91A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C3C81-4314-4BD0-89F8-E2D79A7C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AA071-68AF-4EA7-B4A1-DDB0B675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E0ECD-E2AD-484C-83BF-37444BEE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D35-D350-47F8-BD1D-070CBE0A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20FB9-86A0-4F76-90E2-3F3CEE60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771C7-2500-4B0A-9638-4B27A58C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21B09-EF3B-4744-90B0-F7ADCB99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16BDC-C67E-4D85-9FDF-E836BFB2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4D193-9CFA-496F-8720-08E9CE6F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21363-2958-4FF3-9AC1-3638DCAC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FE665-19DB-4A51-A8C6-C405C143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BAD8D-EE51-4094-B9FE-6353A880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C5DED-BC04-476B-B658-44567A25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FD406-150A-47AE-B5D7-EF17F3F2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D7F7-028E-4A5C-B73A-4CA799AE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C1091-77B1-4B36-982E-9CC3730E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C9CBC-C883-4C74-8DE9-F6597F21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9F499-E4F5-47AF-B40B-A9661BDC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B4C4D-1FF3-4146-8DAB-FB66B485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3A1A4-599C-4395-9BCC-AB351691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BA572-4A4D-4E8E-9D8D-AC8C5E20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A3954-F64B-4420-8A2B-8FD419BB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D91B0-DC8F-41CF-985B-A2EC9228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3A30D-CEA5-40BF-BCE2-9890BEBF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A6DCA-0EDA-4EA5-9952-5DBE4CAB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CD3B-F8A4-44B9-A7DD-9B64869C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D67EB-73C2-48D1-9AC8-91BF878B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00B97-5A12-416C-9698-C6137027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24BCA-A577-42B1-8B6D-9A612E06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2166-0942-4261-9F75-AFC974CB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A72-4E7B-45F9-ABDC-21699C07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3AE3-EAD3-4F4F-BB76-15C45D15E1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8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8763-5335-422D-BD7F-A3E8668D88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C0B2-D3B0-4F82-9DCD-491B61B2791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5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9B49-B2A8-4F60-957D-B14C71DF15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0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2921-8990-4752-889F-7355F923DC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57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8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E3BB-94CE-4AFC-A98E-A664250ADD5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Природные зоны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Тундра ч.2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том прилетают журавли, гуси, лебеди, кули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ого комаров и мош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Песец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хищник, имеет густой  серый мех, его лапы короткие и широкие, питается леммингами и куропатками. Зимой у него появляется ещё подшерст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2" name="Picture 4" descr="песец"/>
          <p:cNvPicPr/>
          <p:nvPr/>
        </p:nvPicPr>
        <p:blipFill>
          <a:blip r:embed="rId1"/>
          <a:stretch/>
        </p:blipFill>
        <p:spPr>
          <a:xfrm>
            <a:off x="6516720" y="4797360"/>
            <a:ext cx="2627280" cy="206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Дикий северный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лен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зкорослое животно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авоядное – питается мхом-ягел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всех животных тундры это самое крупное, имеет густой мех, зимний подшерсток и подкожный слой жи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пыта раздвоенные, чтобы не проваливаться в снегу 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капывать мох из-под сне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. тетрадь стр.28 №3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р. 29 № 5(б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5" name="Picture 4" descr="северный олень"/>
          <p:cNvPicPr/>
          <p:nvPr/>
        </p:nvPicPr>
        <p:blipFill>
          <a:blip r:embed="rId1"/>
          <a:stretch/>
        </p:blipFill>
        <p:spPr>
          <a:xfrm>
            <a:off x="5796000" y="4575240"/>
            <a:ext cx="3564000" cy="228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Цепи пит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. тетрадь стр.29 №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мминг – песец – вол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годы – куропатка – белая с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стения тунд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тундре растут: мох, ягель, морошка, голубика, брусника, карликовая берёза, карликовая и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4" descr="мхи"/>
          <p:cNvPicPr/>
          <p:nvPr/>
        </p:nvPicPr>
        <p:blipFill>
          <a:blip r:embed="rId1"/>
          <a:stretch/>
        </p:blipFill>
        <p:spPr>
          <a:xfrm>
            <a:off x="0" y="3500280"/>
            <a:ext cx="3492360" cy="3357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ягель"/>
          <p:cNvPicPr/>
          <p:nvPr/>
        </p:nvPicPr>
        <p:blipFill>
          <a:blip r:embed="rId2"/>
          <a:stretch/>
        </p:blipFill>
        <p:spPr>
          <a:xfrm>
            <a:off x="4932360" y="3573360"/>
            <a:ext cx="4211640" cy="3284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ликовая берёза и 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4" descr="карликовая берёза"/>
          <p:cNvPicPr/>
          <p:nvPr/>
        </p:nvPicPr>
        <p:blipFill>
          <a:blip r:embed="rId1"/>
          <a:stretch/>
        </p:blipFill>
        <p:spPr>
          <a:xfrm>
            <a:off x="0" y="2781360"/>
            <a:ext cx="3809880" cy="4076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карликовая ива"/>
          <p:cNvPicPr/>
          <p:nvPr/>
        </p:nvPicPr>
        <p:blipFill>
          <a:blip r:embed="rId2"/>
          <a:stretch/>
        </p:blipFill>
        <p:spPr>
          <a:xfrm>
            <a:off x="4067280" y="2565360"/>
            <a:ext cx="5076720" cy="4292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Ягоды тунд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4" descr="220px-Морошка_кр"/>
          <p:cNvPicPr/>
          <p:nvPr/>
        </p:nvPicPr>
        <p:blipFill>
          <a:blip r:embed="rId1"/>
          <a:stretch/>
        </p:blipFill>
        <p:spPr>
          <a:xfrm>
            <a:off x="0" y="1413000"/>
            <a:ext cx="3564000" cy="3240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брусника"/>
          <p:cNvPicPr/>
          <p:nvPr/>
        </p:nvPicPr>
        <p:blipFill>
          <a:blip r:embed="rId2"/>
          <a:stretch/>
        </p:blipFill>
        <p:spPr>
          <a:xfrm>
            <a:off x="4788000" y="4365720"/>
            <a:ext cx="4356000" cy="2492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голубика"/>
          <p:cNvPicPr/>
          <p:nvPr/>
        </p:nvPicPr>
        <p:blipFill>
          <a:blip r:embed="rId3"/>
          <a:stretch/>
        </p:blipFill>
        <p:spPr>
          <a:xfrm>
            <a:off x="3851280" y="1413000"/>
            <a:ext cx="529272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обенности растений тунд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 растения низкоросл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х-ягель- пища северных оленей. Растёт на поверхности почвы, похож на маленькие деревца или кус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" descr="олений мох"/>
          <p:cNvPicPr/>
          <p:nvPr/>
        </p:nvPicPr>
        <p:blipFill>
          <a:blip r:embed="rId1"/>
          <a:stretch/>
        </p:blipFill>
        <p:spPr>
          <a:xfrm>
            <a:off x="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тундра"/>
          <p:cNvPicPr/>
          <p:nvPr/>
        </p:nvPicPr>
        <p:blipFill>
          <a:blip r:embed="rId2"/>
          <a:stretch/>
        </p:blipFill>
        <p:spPr>
          <a:xfrm>
            <a:off x="3860640" y="4005360"/>
            <a:ext cx="5283360" cy="2852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юква – стелющийся кустарничек, имеет короткие корни, разветвлённые небольшие листочки, красные яг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годы и листья остаются на зи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рликовая берёза имеет невысокий изогнутый ствол, листья небольших размеров, небольшие корни. Растения стараются прижаться к земле, там теплее, а зимой снег закроет их полностью и защитит от мороз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. тетрадь стр.29 №5 (а); стр. 28 № 3 ( приклеить ягель и карликовую берёзу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ивотные тунд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оянно живу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тундр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мминг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сц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верные ол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Picture 4" descr="животные тундры"/>
          <p:cNvPicPr/>
          <p:nvPr/>
        </p:nvPicPr>
        <p:blipFill>
          <a:blip r:embed="rId1"/>
          <a:stretch/>
        </p:blipFill>
        <p:spPr>
          <a:xfrm>
            <a:off x="0" y="1197000"/>
            <a:ext cx="4762440" cy="566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ивотные тунд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Белые куропатки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тениеядная птиц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няет оперение 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висимости от вре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ни года. Зим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рывается перь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 самых когтей, защи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щаясь от хол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Picture 4" descr="куропатка"/>
          <p:cNvPicPr/>
          <p:nvPr/>
        </p:nvPicPr>
        <p:blipFill>
          <a:blip r:embed="rId1"/>
          <a:stretch/>
        </p:blipFill>
        <p:spPr>
          <a:xfrm>
            <a:off x="4643280" y="2492280"/>
            <a:ext cx="4500720" cy="378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Белая со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ищная птица, оперение всегда белое, хорошо защищает от холода, потому что плотное. Питается леммингами, куропатк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9" name="Picture 4" descr="полярная сова"/>
          <p:cNvPicPr/>
          <p:nvPr/>
        </p:nvPicPr>
        <p:blipFill>
          <a:blip r:embed="rId1"/>
          <a:stretch/>
        </p:blipFill>
        <p:spPr>
          <a:xfrm>
            <a:off x="5796000" y="3068640"/>
            <a:ext cx="3348000" cy="378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8:28:48Z</dcterms:created>
  <dc:creator>Евгений</dc:creator>
  <dc:description/>
  <dc:language>en-US</dc:language>
  <cp:lastModifiedBy>User</cp:lastModifiedBy>
  <dcterms:modified xsi:type="dcterms:W3CDTF">2024-01-29T11:06:08Z</dcterms:modified>
  <cp:revision>7</cp:revision>
  <dc:subject/>
  <dc:title>Природные зоны</dc:title>
</cp:coreProperties>
</file>