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BE16-C297-42E0-BB74-72C638E71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3587-6A42-43F1-9502-9DCDA80C7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2BBC-9CB0-4E10-A0E6-C85D1A894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ACBF-6FA4-4E1E-BF9E-7EAD79F2A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B57EE-0001-4B83-8A9A-5B29780F6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3C7E1-1487-48B2-8156-65465121B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68553-2926-4B9D-97A7-562F753D3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BB556-4DD8-46A9-9CB0-3EF45B50E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9EDE5-6C3F-422D-9754-2C088BB68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5925F-3B51-4C8E-ABDD-9D76221A7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13218-2FAE-456B-AF4E-68AC0DFE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1AA2-516D-4AA3-B08D-C88433EFA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13E4B-0305-48EC-828C-55C493F9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16652-6309-46EE-BF9A-147DBA28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CE33B-51E4-48B5-9D1C-68745B405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763E5-F2CB-488B-B527-CA82C4366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DED47-AB8B-45F1-A36A-45A01A3BC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64755-DB12-4916-9DB7-CCF4C5461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DC8AB-648C-4594-A525-6EB390520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14B69-743A-4306-BF8E-4400D23D4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FD221-8DFE-4593-964C-3CA2754B2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C0AA8-C31D-4CE7-A1E4-C903A0A1D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C9FA-7350-47BA-A99C-A61FE745C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E307C-6853-4646-A233-66D79B0F2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1D166-218D-47A5-9DB9-F6184F07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0F837-C017-497E-8186-CC72DC59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AAADA-DE18-4DF2-80F7-0906A1E9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93B27-9517-4BAE-86F1-4D3B24D03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41382-0F1F-4BE7-BAA5-D1477004E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6BA6F-35C4-4F57-AFFB-1599EFF7A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0630A-B4A2-4DFC-936D-2940C437C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65A77-E372-42E3-9D7C-96A4605AC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F80AA-46C1-4669-97A4-1C7AE167D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0EF7-9054-4521-8B66-B496D066D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34BEE-1D6B-458C-A0F6-599A7389A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059E3-D675-4784-9893-5F1F4BC53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29AB3-A040-4EB5-BEA8-797963E6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AC348-F556-4BE3-8254-92854B8E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84E4E-6622-42EB-B2C2-B638B5CE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15CF2-C8C9-486B-A01B-8ED9F7A5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CA4B7-6C3E-4F88-81B6-CBCF08A2A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CF464-60DA-4327-AD58-53221C554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45449-369A-4741-80D6-590E88A95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0A8E9-AED9-4EC9-AC6B-659BFE240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55C8-71DD-4605-A754-C17DEBCF1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3B7F1-FAD2-4FCE-868E-A15EB7A55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2769A-826D-411D-854C-15CC2F005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E3A96-61F1-402F-BE8B-66E6F0935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8C0E4-8C3D-46E0-B86B-685680A64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58F1A-11F1-4F40-B3F4-A64F731B8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94A53-3036-40E8-8EFA-9F18D793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2220E-9B90-4BBD-8F75-39C83B65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ED3C4-2098-46C5-8B73-7AF02E06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4FB19-A6D3-4FF7-A0B7-CE32F0D3A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14924-FDC7-4DB4-8E6F-3B88B12F9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1819-D2A5-475D-A616-14F0983FF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7C470-6136-4EA6-A84C-0F0D827C9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C1452E-0C72-44E9-98D0-608359341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61E03-372F-4567-8F63-DD7B9366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5D6C7-5886-4688-84D0-97330A557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ADD55-C36F-4137-8F89-A06164E33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79AF6-AFDA-4100-8DF6-473B1C783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166FF-AC87-48B3-AA06-D9C1B29B9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20A34-5C7E-43F2-BB89-9EAD6A98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B8076E-063F-4C97-B7FB-E21CACDD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254C0-B029-4DFE-85DA-60FD6E27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C135-B33A-4978-A819-7E4867CE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5C6E8-C3C0-47F5-9210-921E4A8EF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6D682-602C-4E78-B1DE-707A07CA4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81EFE-E957-452B-926F-C047FB414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4B91-16B8-400B-BDEE-16568B1A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DAE4-F632-42FF-8C29-BA9C7363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1D5A4-A58A-43D9-856F-E0E1EE62A1E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58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D9A74-E158-45C2-AE5C-75A44FECF0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08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9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DB7E7-DCF2-4943-B177-B272D047BC5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52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3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4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5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6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7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8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9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60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61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62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63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64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65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66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02070-5FD7-4A50-8E5D-9D59EEA4274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09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10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11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12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13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14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3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4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466A6-95DD-450C-9AD5-4B5A743723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257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58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D3F27-BBAD-475D-8D78-44A2A16FEEC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Природные зоны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Тундра ч.2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етом прилетают журавли, гуси, лебеди, кулик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ного комаров и моше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Песец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хищник, имеет густой  серый мех, его лапы короткие и широкие, питается леммингами и куропатками. Зимой у него появляется ещё подшерсто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2" name="Picture 4" descr="песец"/>
          <p:cNvPicPr/>
          <p:nvPr/>
        </p:nvPicPr>
        <p:blipFill>
          <a:blip r:embed="rId1"/>
          <a:stretch/>
        </p:blipFill>
        <p:spPr>
          <a:xfrm>
            <a:off x="6516720" y="4797360"/>
            <a:ext cx="2627280" cy="2060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Дикий северный 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олень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изкорослое животное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равоядное – питается мхом-ягеле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 всех животных тундры это самое крупное, имеет густой мех, зимний подшерсток и подкожный слой жир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пыта раздвоенные, чтобы не проваливаться в снегу 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скапывать мох из-под снег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б. тетрадь стр.28 №3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р. 29 № 5(б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5" name="Picture 4" descr="северный олень"/>
          <p:cNvPicPr/>
          <p:nvPr/>
        </p:nvPicPr>
        <p:blipFill>
          <a:blip r:embed="rId1"/>
          <a:stretch/>
        </p:blipFill>
        <p:spPr>
          <a:xfrm>
            <a:off x="5796000" y="4575240"/>
            <a:ext cx="3564000" cy="2282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Цепи пита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б. тетрадь стр.29 №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емминг – песец – вол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Ягоды – куропатка – белая со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астения тундр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тундре растут: мох, ягель, морошка, голубика, брусника, карликовая берёза, карликовая и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Picture 4" descr="мхи"/>
          <p:cNvPicPr/>
          <p:nvPr/>
        </p:nvPicPr>
        <p:blipFill>
          <a:blip r:embed="rId1"/>
          <a:stretch/>
        </p:blipFill>
        <p:spPr>
          <a:xfrm>
            <a:off x="0" y="3500280"/>
            <a:ext cx="3492360" cy="335772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ягель"/>
          <p:cNvPicPr/>
          <p:nvPr/>
        </p:nvPicPr>
        <p:blipFill>
          <a:blip r:embed="rId2"/>
          <a:stretch/>
        </p:blipFill>
        <p:spPr>
          <a:xfrm>
            <a:off x="4932360" y="3573360"/>
            <a:ext cx="4211640" cy="3284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рликовая берёза и и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4" descr="карликовая берёза"/>
          <p:cNvPicPr/>
          <p:nvPr/>
        </p:nvPicPr>
        <p:blipFill>
          <a:blip r:embed="rId1"/>
          <a:stretch/>
        </p:blipFill>
        <p:spPr>
          <a:xfrm>
            <a:off x="0" y="2781360"/>
            <a:ext cx="3809880" cy="40766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" descr="карликовая ива"/>
          <p:cNvPicPr/>
          <p:nvPr/>
        </p:nvPicPr>
        <p:blipFill>
          <a:blip r:embed="rId2"/>
          <a:stretch/>
        </p:blipFill>
        <p:spPr>
          <a:xfrm>
            <a:off x="4067280" y="2565360"/>
            <a:ext cx="5076720" cy="4292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Ягоды тундр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Picture 4" descr="220px-Морошка_кр"/>
          <p:cNvPicPr/>
          <p:nvPr/>
        </p:nvPicPr>
        <p:blipFill>
          <a:blip r:embed="rId1"/>
          <a:stretch/>
        </p:blipFill>
        <p:spPr>
          <a:xfrm>
            <a:off x="0" y="1413000"/>
            <a:ext cx="3564000" cy="32400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5" descr="брусника"/>
          <p:cNvPicPr/>
          <p:nvPr/>
        </p:nvPicPr>
        <p:blipFill>
          <a:blip r:embed="rId2"/>
          <a:stretch/>
        </p:blipFill>
        <p:spPr>
          <a:xfrm>
            <a:off x="4788000" y="4365720"/>
            <a:ext cx="4356000" cy="24922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6" descr="голубика"/>
          <p:cNvPicPr/>
          <p:nvPr/>
        </p:nvPicPr>
        <p:blipFill>
          <a:blip r:embed="rId3"/>
          <a:stretch/>
        </p:blipFill>
        <p:spPr>
          <a:xfrm>
            <a:off x="3851280" y="1413000"/>
            <a:ext cx="5292720" cy="2879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собенности растений тундр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се растения низкорослы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х-ягель- пища северных оленей. Растёт на поверхности почвы, похож на маленькие деревца или кусти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Picture 4" descr="олений мох"/>
          <p:cNvPicPr/>
          <p:nvPr/>
        </p:nvPicPr>
        <p:blipFill>
          <a:blip r:embed="rId1"/>
          <a:stretch/>
        </p:blipFill>
        <p:spPr>
          <a:xfrm>
            <a:off x="0" y="40006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5" descr="тундра"/>
          <p:cNvPicPr/>
          <p:nvPr/>
        </p:nvPicPr>
        <p:blipFill>
          <a:blip r:embed="rId2"/>
          <a:stretch/>
        </p:blipFill>
        <p:spPr>
          <a:xfrm>
            <a:off x="3860640" y="4005360"/>
            <a:ext cx="5283360" cy="2852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люква – стелющийся кустарничек, имеет короткие корни, разветвлённые небольшие листочки, красные яго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годы и листья остаются на зим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рликовая берёза имеет невысокий изогнутый ствол, листья небольших размеров, небольшие корни. Растения стараются прижаться к земле, там теплее, а зимой снег закроет их полностью и защитит от мороз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б. тетрадь стр.29 №5 (а); стр. 28 № 3 ( приклеить ягель и карликовую берёзу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Животные тундр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стоянно живу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тундр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емминги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сцы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еверные олен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3" name="Picture 4" descr="животные тундры"/>
          <p:cNvPicPr/>
          <p:nvPr/>
        </p:nvPicPr>
        <p:blipFill>
          <a:blip r:embed="rId1"/>
          <a:stretch/>
        </p:blipFill>
        <p:spPr>
          <a:xfrm>
            <a:off x="0" y="1197000"/>
            <a:ext cx="4762440" cy="5661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Животные тундр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Белые куропатки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стениеядная птиц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еняет оперение в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висимости от вре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ени года. Зим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крывается перья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о самых когтей, защи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щаясь от холод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6" name="Picture 4" descr="куропатка"/>
          <p:cNvPicPr/>
          <p:nvPr/>
        </p:nvPicPr>
        <p:blipFill>
          <a:blip r:embed="rId1"/>
          <a:stretch/>
        </p:blipFill>
        <p:spPr>
          <a:xfrm>
            <a:off x="4643280" y="2492280"/>
            <a:ext cx="4500720" cy="3789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Белая сов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Хищная птица, оперение всегда белое, хорошо защищает от холода, потому что плотное. Питается леммингами, куропатка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9" name="Picture 4" descr="полярная сова"/>
          <p:cNvPicPr/>
          <p:nvPr/>
        </p:nvPicPr>
        <p:blipFill>
          <a:blip r:embed="rId1"/>
          <a:stretch/>
        </p:blipFill>
        <p:spPr>
          <a:xfrm>
            <a:off x="5796000" y="3068640"/>
            <a:ext cx="3348000" cy="3789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4T08:28:48Z</dcterms:created>
  <dc:creator>Евгений</dc:creator>
  <dc:description/>
  <dc:language>en-US</dc:language>
  <cp:lastModifiedBy>User</cp:lastModifiedBy>
  <dcterms:modified xsi:type="dcterms:W3CDTF">2024-01-29T11:06:08Z</dcterms:modified>
  <cp:revision>7</cp:revision>
  <dc:subject/>
  <dc:title>Природные зоны</dc:title>
</cp:coreProperties>
</file>