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AA4-B442-492F-AA86-08438EE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81C-0047-40A1-8B84-74ECB0E3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97C-B45E-4B80-9C19-58C1AFA2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A5B-3EDB-4737-ADFA-80CF90BD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06BA-6D2D-47FB-9B8C-3E960B01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7C1F-82C4-4FAC-BFCC-D1560DD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135-F82B-4F71-AF8D-FAFEF470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38C-3393-4A6B-8D42-2CEFB51E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B64A-9986-41D3-85F2-E3EC441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CADD-F930-49C1-B4F7-AD04E9B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A89F-979A-4B4D-A636-1A76CD4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94C-2BAC-423D-9044-0113CCF1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FCCE-E10E-4E8D-8FC1-DE96498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4047-7459-4F7B-A6C7-AFC358FF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6693-D8C3-44A8-88D3-84EEFDD5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56E-82F3-4910-A1F1-A717BAB8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00F9-654A-4D14-852F-B692F2FB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9900-32FD-468A-A305-566B52EB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9BF4-3CE3-4F4B-9DD9-3295D60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4078-A1A2-455A-BE3A-3AAFFC7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2E2F-33A2-425C-8E87-02DEDE4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96A7-E9F6-45B9-8617-8840443A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B77-595A-437B-BD3F-937971FF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8A92-4033-41F3-B0F5-98197392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B5F3-549F-4F41-8555-B557091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CFCA-EDE3-40C7-9182-23FDF80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14FF-A746-4D94-907E-B331D6C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580D-CF24-44C3-97B4-A57DF979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3902-E90C-4283-8268-ACE1CDE5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0876-9EBC-4ADB-997A-AC7BF64D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AD2D-EB93-4F47-82DD-0B97BD52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F637-8346-4F09-B0D1-FE17163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EB60-55D0-499E-B7C5-513CBDE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C96-2362-4C8A-B618-ED49E999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D8D0-807B-4FBA-9BFE-8FCB065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DCC0-6C48-4A02-A404-D5C17141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918A-75C7-471F-8E94-087C6744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6908-A7E0-4E56-96D2-ABB9C127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9FD7-3C9C-4730-96C2-9C24E6E3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CF78-760A-40C1-B25D-9D59391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EE03-2A2B-4CAB-875F-3DA931C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396C-3157-4764-A211-FF8AFFED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896F-9951-4A17-886A-BA6A8EF9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7C21-26A8-499C-B9AE-2E8A0065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1D1-DF01-46E2-8E05-F7F67791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0D1C-AF87-435D-8E71-1FB7AE0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B6F4-A86D-4D14-9061-A5D3019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C693-A4DC-469C-8B77-D3F06D8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1DA5-BD3C-4A39-B185-B8B4F91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9471-7082-42F9-98DF-BF280CF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8E78-8345-4C99-948E-CA4B2C4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9E56-5A16-472D-8045-C1E9C5C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17E2-F1B8-4C3E-A77F-DEAB431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63F6-B491-4119-9480-03FF399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46AE-678A-4B02-944D-DFDC4E7B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F05-9276-4E75-BB2E-E78DDD7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C4BD-59C7-4A8E-8FCC-F3724401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ECC-B73C-4F9D-8C6C-896C2913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925-65B9-48E2-A692-B381C82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BD3-8B44-4FC6-B30F-FF5138A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AA6-415E-4F78-AADE-C6ED962116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E6F7-B9A2-4064-B78A-E756464D7F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36A-8BB3-4885-B174-A29214051A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B31-732A-4849-A4F4-7AC0BB1453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6C70-4174-4FD8-AB59-462300FD53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915920"/>
            <a:ext cx="7859880" cy="194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УБЪЕКТЫ ХОЗЯЙСТВЕННОЙ ДЕЯТЕЛЬНОСТИ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71280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Й ИНТЕРЕС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3980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Стремление человека получить блага, необходимые для обеспечения жизни или своих потребност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547640" y="907560"/>
            <a:ext cx="5832720" cy="2233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Рычаги воздействия на людей с целью достижения большей производительности тру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Стрелка вниз 4"/>
          <p:cNvSpPr/>
          <p:nvPr/>
        </p:nvSpPr>
        <p:spPr>
          <a:xfrm>
            <a:off x="2411280" y="3137040"/>
            <a:ext cx="576360" cy="718920"/>
          </a:xfrm>
          <a:prstGeom prst="downArrow">
            <a:avLst>
              <a:gd name="adj1" fmla="val 50000"/>
              <a:gd name="adj2" fmla="val 4989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Стрелка вниз 5"/>
          <p:cNvSpPr/>
          <p:nvPr/>
        </p:nvSpPr>
        <p:spPr>
          <a:xfrm>
            <a:off x="5651640" y="3137040"/>
            <a:ext cx="576000" cy="7189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971640" y="3862440"/>
            <a:ext cx="3132000" cy="1655640"/>
          </a:xfrm>
          <a:prstGeom prst="rect">
            <a:avLst/>
          </a:pr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ринуждение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Прямоугольник 7"/>
          <p:cNvSpPr/>
          <p:nvPr/>
        </p:nvSpPr>
        <p:spPr>
          <a:xfrm>
            <a:off x="4626000" y="3855960"/>
            <a:ext cx="3402000" cy="1657440"/>
          </a:xfrm>
          <a:prstGeom prst="rect">
            <a:avLst/>
          </a:pr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Экономический интерес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Рисунок 6" descr=""/>
          <p:cNvPicPr/>
          <p:nvPr/>
        </p:nvPicPr>
        <p:blipFill>
          <a:blip r:embed="rId1"/>
          <a:srcRect l="25988" t="28000" r="27157" b="8791"/>
          <a:stretch/>
        </p:blipFill>
        <p:spPr>
          <a:xfrm>
            <a:off x="811080" y="714240"/>
            <a:ext cx="79441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1263240"/>
            <a:ext cx="764244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гармонизации экономических отнош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4000" y="2204640"/>
            <a:ext cx="33829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Философские 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Мораль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нност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скусств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Религ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ультур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Традиц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 т.д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Пятиугольник 6"/>
          <p:cNvSpPr/>
          <p:nvPr/>
        </p:nvSpPr>
        <p:spPr>
          <a:xfrm>
            <a:off x="3600360" y="2467080"/>
            <a:ext cx="935280" cy="3817800"/>
          </a:xfrm>
          <a:custGeom>
            <a:avLst/>
            <a:gdLst>
              <a:gd name="textAreaLeft" fmla="*/ 0 w 935280"/>
              <a:gd name="textAreaRight" fmla="*/ 935640 w 9352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Скругленный прямоугольник 7"/>
          <p:cNvSpPr/>
          <p:nvPr/>
        </p:nvSpPr>
        <p:spPr>
          <a:xfrm>
            <a:off x="4510080" y="2852640"/>
            <a:ext cx="4175280" cy="324036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ЕЛОВАЯ ЭТИКА -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ОРМЫ И ПРАВИЛА ПОВЕДЕНИЯ В ХОЗЯЙСТВЕННОЙ ДЕЯТЕЛЬНОСТИ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9160" y="5013360"/>
            <a:ext cx="812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ЧЕМУ ПРЕДПРИНИМАТЕЛИ ЗАДУМЫВАЮТСЯ О НРАВСТВЕННОСТИ И БЛАГОЕ ВСЕГО ОБЩЕСТВ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Рисунок 4" descr=""/>
          <p:cNvPicPr/>
          <p:nvPr/>
        </p:nvPicPr>
        <p:blipFill>
          <a:blip r:embed="rId1"/>
          <a:stretch/>
        </p:blipFill>
        <p:spPr>
          <a:xfrm>
            <a:off x="1187280" y="871560"/>
            <a:ext cx="68662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5056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ффективность решения экономических задач во многом зависит от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оциально-экономических качеств и экономической направленности личности (мотивы, интересы, потребности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Рисунок 4" descr=""/>
          <p:cNvPicPr/>
          <p:nvPr/>
        </p:nvPicPr>
        <p:blipFill>
          <a:blip r:embed="rId1"/>
          <a:stretch/>
        </p:blipFill>
        <p:spPr>
          <a:xfrm>
            <a:off x="1784520" y="2943360"/>
            <a:ext cx="557496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Экономическая свобода – свобода принятия решений и действи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ид деятель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Сфера актив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Форма участ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Рисунок 4" descr=""/>
          <p:cNvPicPr/>
          <p:nvPr/>
        </p:nvPicPr>
        <p:blipFill>
          <a:blip r:embed="rId1"/>
          <a:srcRect l="0" t="0" r="0" b="6722"/>
          <a:stretch/>
        </p:blipFill>
        <p:spPr>
          <a:xfrm>
            <a:off x="4249800" y="3284640"/>
            <a:ext cx="4354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411280" y="1341360"/>
            <a:ext cx="4824720" cy="1224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Хозяйственная свобода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5364000" y="2781360"/>
            <a:ext cx="2808360" cy="3217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Потребител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бор това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бор производител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орма потребления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1332000" y="2781360"/>
            <a:ext cx="2663640" cy="3168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Производител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ид деятельности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бъем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орма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Прямоугольник 4"/>
          <p:cNvSpPr/>
          <p:nvPr/>
        </p:nvSpPr>
        <p:spPr>
          <a:xfrm>
            <a:off x="755640" y="2492280"/>
            <a:ext cx="2736720" cy="230508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кономическая свобод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5508720" y="2492280"/>
            <a:ext cx="2808360" cy="230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оциальная ответ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Стрелка вправо 7"/>
          <p:cNvSpPr/>
          <p:nvPr/>
        </p:nvSpPr>
        <p:spPr>
          <a:xfrm>
            <a:off x="3691080" y="2637000"/>
            <a:ext cx="1655640" cy="8632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Стрелка вправо 8"/>
          <p:cNvSpPr/>
          <p:nvPr/>
        </p:nvSpPr>
        <p:spPr>
          <a:xfrm flipH="1">
            <a:off x="3654360" y="3618000"/>
            <a:ext cx="1602000" cy="863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95280" y="144792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Рациональное поведени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– способность человека иметь ясные цели и достигать их наилучшим способом. Оно предполагает сопоставление результатов с затрат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Потребитель 2020: 11 типов и стратегии привлечения 📈 New Retail"/>
          <p:cNvPicPr/>
          <p:nvPr/>
        </p:nvPicPr>
        <p:blipFill>
          <a:blip r:embed="rId1"/>
          <a:stretch/>
        </p:blipFill>
        <p:spPr>
          <a:xfrm>
            <a:off x="2340000" y="3429000"/>
            <a:ext cx="46591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экономической деятельност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ономические отношения и интересы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ономическая свобода и социальная ответ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циональное экономическое поведене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Работа в группах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ациональное поведение потребителе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ациональное поведение производителе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4360" y="62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дания стр. 49 №1-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/з пр.4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7880" y="1052640"/>
            <a:ext cx="84362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 </a:t>
            </a: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Экономическая деятельность –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се виды хозяйственной деятельности людей для удовлетворения их потребностей и обеспечения материальных условий жизн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6477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е блага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3280" y="1447920"/>
            <a:ext cx="4043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товары и услуги, удовлетворяющие ту или иную потребность человека и имеющиеся в распоряжении общества в ограниченном количеств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357120" y="1673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е субъекты: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домашние хозяйства (отдельных лиц и семьи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едприятия (фирм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осударство (органы государственного управления, государственные учреждения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собенность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– принятие и реализация самостоятельных решений в сфере хозяйственной деятельност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Домашнее хозяйство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кономическая единица, состоящая из одного или нескольких лиц, которая самостоятельно принимает решения, является собственником какого-либо фактора производства и стремиться к максимальному удовлетворению своих потребностей, максимальной полезности благ, исходя из размера имеющихся доход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Рисунок 4" descr=""/>
          <p:cNvPicPr/>
          <p:nvPr/>
        </p:nvPicPr>
        <p:blipFill>
          <a:blip r:embed="rId1"/>
          <a:srcRect l="0" t="35439" r="1252" b="0"/>
          <a:stretch/>
        </p:blipFill>
        <p:spPr>
          <a:xfrm>
            <a:off x="684360" y="4365720"/>
            <a:ext cx="7632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Предприятие (фирма)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5520" y="133668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хозяйствующий субъект, реализующий собственные интересы путем производства и реализации товаров и услуг, имеет в собственности или управлении имущество, необходимое для осуществления деятельности с целью получения дохода (прибыли) и стремится к его максимизаци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Цели деятельности фирмы"/>
          <p:cNvPicPr/>
          <p:nvPr/>
        </p:nvPicPr>
        <p:blipFill>
          <a:blip r:embed="rId1"/>
          <a:srcRect l="0" t="6056" r="-286" b="13113"/>
          <a:stretch/>
        </p:blipFill>
        <p:spPr>
          <a:xfrm>
            <a:off x="2532240" y="4221000"/>
            <a:ext cx="45367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Государство 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ак субъект экономики представлено различными правительственными учреждениями, осуществляющими юридическую и политическую власть для обеспечения в случае необходимости контроля над хозяйственными субъектами и над рынком для достижения общественных ц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2611440" y="4437000"/>
            <a:ext cx="4378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rcRect l="21593" t="30894" r="21313" b="20812"/>
          <a:stretch/>
        </p:blipFill>
        <p:spPr>
          <a:xfrm>
            <a:off x="179280" y="1125360"/>
            <a:ext cx="87854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1:51:14Z</dcterms:created>
  <dc:creator>Я</dc:creator>
  <dc:description/>
  <dc:language>en-US</dc:language>
  <cp:lastModifiedBy>Учетная запись Майкрософт</cp:lastModifiedBy>
  <dcterms:modified xsi:type="dcterms:W3CDTF">2024-02-11T11:12:26Z</dcterms:modified>
  <cp:revision>53</cp:revision>
  <dc:subject/>
  <dc:title>РОЛЬ ЭКОНОМИКИ В ЖИЗНИ ОБЩЕСТВА</dc:title>
</cp:coreProperties>
</file>