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2156-5A72-403E-9DAA-164084C3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DA23-81F8-443E-AA71-5B81578A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2A0-FB4D-4673-95DF-63A4D219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9358-25EF-471B-BA70-5BBE71A3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94B9-D787-4DD1-9CDD-D820AD1B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61DA-1182-422E-9BDE-6E8F84D5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B3EB-5EC3-4F89-8BD0-748C63C2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2AA0-4222-46FC-B021-A26E8CBF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7C95-9A72-4EE6-8307-8FCD287C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6CB9-B752-46E3-B047-F26CA726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CEA7-3A01-46C4-AC8F-A9535410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25B8-ED9D-44A1-B947-03E5B8DE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CDAF-8C46-4A51-A5E5-73481D65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7250-258C-4916-9B7F-46161D8F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D709-448F-46B5-979A-9D4E2F69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1A63-2864-44FF-83B7-56EF0AB8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655E-76AF-415E-9B48-67405216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D6F68-DA7A-4D9A-8753-5A8158DE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F8D4E-3666-4025-A9CA-1395B165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45DD1-D21D-4730-A55D-D0C0DE92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D8B16-9938-47B3-B537-7222BE99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77CA7-DC19-4F8C-AEAF-E61BACA5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D9B-1ABA-45CE-B457-0AB004CD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29E59-9150-4063-B9F1-55BDCE8C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594E1-6EA8-41E7-926C-33721363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92650-F24F-4D7F-9156-DC21DB89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4BCD8-6BD8-47BB-B587-BAB48740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3819B-29E4-4426-8BD9-D3369E93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12A38-5273-4271-908C-1E399305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881F7-2DEB-425B-BF7E-E5C01867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C3554-9697-49B3-B491-CBB76FF8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940F1-DE6D-4662-85E4-E436059D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79BED-DACE-4741-9473-334477D8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BE6A-58AC-439C-ABBE-657D4654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05A6E-3F86-49BD-91D4-0DD8E8D0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870FA-1905-4725-9795-50E9413F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26242-EA39-4314-B2FB-3F807E64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043CC-BF33-4192-9B3C-111B638D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7AE5B-56AB-4D6C-BC83-8A8E87A3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5BA91-1B48-4F3C-9278-06823460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F3988-26CF-4D8C-9E75-CD0C3D92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38F31-4DC8-4CC1-B56D-10927320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3FFE7-7984-464B-B966-0E794C81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54F9A-1A1B-48FC-B530-28574308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B73-3B17-4F7B-9728-B9EC87F7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5AB28-442B-42F8-8516-EE1C98D4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69636-00CB-45AD-BDE9-288713A3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37190-901A-4C77-8942-0B0CB35E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3581F-E707-4727-8502-48E1E5DF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26CD5-12E8-40E8-B56E-7BFC6688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47996-017D-4884-BB90-40D34D11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7E91F-3A81-4148-A668-45C8FFAD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B3EE4-C1BC-4B4F-901A-41566792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1D166-0D67-4A92-941A-794326DA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5B976-39F2-4294-BB30-5256B738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1EC3-984A-48FB-9110-6ED01F49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5A828-5510-450C-ACB7-C2114327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0FA-CB18-4080-857F-3016B8E1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0D5B-9D34-4A18-A32A-65D30BCA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903-34FA-4578-9262-B52EEC80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0B67-ADC8-41AE-9310-C4E1B72BC61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31B4-0C7B-49D1-B893-0D012F6DF64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8372-8F32-408A-BA65-B21EA92B16E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5ED1-63EC-441C-93BB-5AAC2D57E3B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4335-455F-411B-A996-50E000C09E2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915920"/>
            <a:ext cx="7859880" cy="1944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СУБЪЕКТЫ ХОЗЯЙСТВЕННОЙ ДЕЯТЕЛЬНОСТИ 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712800"/>
            <a:ext cx="8004240" cy="704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4817"/>
                </a:solidFill>
                <a:uFillTx/>
                <a:latin typeface="Calibri"/>
              </a:rPr>
              <a:t>ЭКОНОМИЧЕСКИЙ ИНТЕРЕС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39800" y="1916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Стремление человека получить блага, необходимые для обеспечения жизни или своих потребносте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Заголовок 1"/>
          <p:cNvSpPr/>
          <p:nvPr/>
        </p:nvSpPr>
        <p:spPr>
          <a:xfrm>
            <a:off x="108000" y="19080"/>
            <a:ext cx="9036000" cy="6937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ЭКОНОМИЧЕСКИЕ ОТНОШЕНИЯ И ИНТЕРЕСЫ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1547640" y="907560"/>
            <a:ext cx="5832720" cy="223380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Рычаги воздействия на людей с целью достижения большей производительности труд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Заголовок 1"/>
          <p:cNvSpPr/>
          <p:nvPr/>
        </p:nvSpPr>
        <p:spPr>
          <a:xfrm>
            <a:off x="108000" y="19080"/>
            <a:ext cx="9036000" cy="6937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ЭКОНОМИЧЕСКИЕ ОТНОШЕНИЯ И ИНТЕРЕСЫ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Стрелка вниз 4"/>
          <p:cNvSpPr/>
          <p:nvPr/>
        </p:nvSpPr>
        <p:spPr>
          <a:xfrm>
            <a:off x="2411280" y="3137040"/>
            <a:ext cx="576360" cy="718920"/>
          </a:xfrm>
          <a:prstGeom prst="downArrow">
            <a:avLst>
              <a:gd name="adj1" fmla="val 50000"/>
              <a:gd name="adj2" fmla="val 49894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Стрелка вниз 5"/>
          <p:cNvSpPr/>
          <p:nvPr/>
        </p:nvSpPr>
        <p:spPr>
          <a:xfrm>
            <a:off x="5651640" y="3137040"/>
            <a:ext cx="576000" cy="718920"/>
          </a:xfrm>
          <a:prstGeom prst="downArrow">
            <a:avLst>
              <a:gd name="adj1" fmla="val 50000"/>
              <a:gd name="adj2" fmla="val 4992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Прямоугольник 6"/>
          <p:cNvSpPr/>
          <p:nvPr/>
        </p:nvSpPr>
        <p:spPr>
          <a:xfrm>
            <a:off x="971640" y="3862440"/>
            <a:ext cx="3132000" cy="1655640"/>
          </a:xfrm>
          <a:prstGeom prst="rect">
            <a:avLst/>
          </a:prstGeom>
          <a:solidFill>
            <a:srgbClr val="e99d93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Принуждение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Прямоугольник 7"/>
          <p:cNvSpPr/>
          <p:nvPr/>
        </p:nvSpPr>
        <p:spPr>
          <a:xfrm>
            <a:off x="4626000" y="3855960"/>
            <a:ext cx="3402000" cy="1657440"/>
          </a:xfrm>
          <a:prstGeom prst="rect">
            <a:avLst/>
          </a:prstGeom>
          <a:solidFill>
            <a:srgbClr val="e99d93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Экономический интерес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Заголовок 1"/>
          <p:cNvSpPr/>
          <p:nvPr/>
        </p:nvSpPr>
        <p:spPr>
          <a:xfrm>
            <a:off x="108000" y="19080"/>
            <a:ext cx="9036000" cy="6937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ЭКОНОМИЧЕСКИЕ ОТНОШЕНИЯ И ИНТЕРЕСЫ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9" name="Рисунок 6" descr=""/>
          <p:cNvPicPr/>
          <p:nvPr/>
        </p:nvPicPr>
        <p:blipFill>
          <a:blip r:embed="rId1"/>
          <a:srcRect l="25988" t="28000" r="27157" b="8791"/>
          <a:stretch/>
        </p:blipFill>
        <p:spPr>
          <a:xfrm>
            <a:off x="811080" y="714240"/>
            <a:ext cx="794412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2560" y="1263240"/>
            <a:ext cx="7642440" cy="652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гармонизации экономических отношени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4000" y="2204640"/>
            <a:ext cx="33829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Философские учени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Мораль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Ценности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Искусство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Религия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Культура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Традици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и т.д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Заголовок 1"/>
          <p:cNvSpPr/>
          <p:nvPr/>
        </p:nvSpPr>
        <p:spPr>
          <a:xfrm>
            <a:off x="0" y="23760"/>
            <a:ext cx="9144000" cy="59688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ЭКОНОМИЧЕСКИЕ ОТНОШЕНИЯ И ИНТЕРЕСЫ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Пятиугольник 6"/>
          <p:cNvSpPr/>
          <p:nvPr/>
        </p:nvSpPr>
        <p:spPr>
          <a:xfrm>
            <a:off x="3600360" y="2467080"/>
            <a:ext cx="935280" cy="3817800"/>
          </a:xfrm>
          <a:custGeom>
            <a:avLst/>
            <a:gdLst>
              <a:gd name="textAreaLeft" fmla="*/ 0 w 935280"/>
              <a:gd name="textAreaRight" fmla="*/ 935640 w 935280"/>
              <a:gd name="textAreaTop" fmla="*/ 0 h 3817800"/>
              <a:gd name="textAreaBottom" fmla="*/ 3818160 h 38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Скругленный прямоугольник 7"/>
          <p:cNvSpPr/>
          <p:nvPr/>
        </p:nvSpPr>
        <p:spPr>
          <a:xfrm>
            <a:off x="4510080" y="2852640"/>
            <a:ext cx="4175280" cy="324036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ДЕЛОВАЯ ЭТИКА -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НОРМЫ И ПРАВИЛА ПОВЕДЕНИЯ В ХОЗЯЙСТВЕННОЙ ДЕЯТЕЛЬНОСТИ 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79160" y="5013360"/>
            <a:ext cx="8124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ПОЧЕМУ ПРЕДПРИНИМАТЕЛИ ЗАДУМЫВАЮТСЯ О НРАВСТВЕННОСТИ И БЛАГОЕ ВСЕГО ОБЩЕСТВА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Заголовок 1"/>
          <p:cNvSpPr/>
          <p:nvPr/>
        </p:nvSpPr>
        <p:spPr>
          <a:xfrm>
            <a:off x="0" y="23760"/>
            <a:ext cx="9144000" cy="59688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ЭКОНОМИЧЕСКИЕ ОТНОШЕНИЯ И ИНТЕРЕСЫ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8" name="Рисунок 4" descr=""/>
          <p:cNvPicPr/>
          <p:nvPr/>
        </p:nvPicPr>
        <p:blipFill>
          <a:blip r:embed="rId1"/>
          <a:stretch/>
        </p:blipFill>
        <p:spPr>
          <a:xfrm>
            <a:off x="1187280" y="871560"/>
            <a:ext cx="68662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250560" y="83664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Эффективность решения экономических задач во многом зависит от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социально-экономических качеств и экономической направленности личности (мотивы, интересы, потребности)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Заголовок 1"/>
          <p:cNvSpPr/>
          <p:nvPr/>
        </p:nvSpPr>
        <p:spPr>
          <a:xfrm>
            <a:off x="0" y="23760"/>
            <a:ext cx="9144000" cy="59688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ЭКОНОМИЧЕСКИЕ ОТНОШЕНИЯ И ИНТЕРЕСЫ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1" name="Рисунок 4" descr=""/>
          <p:cNvPicPr/>
          <p:nvPr/>
        </p:nvPicPr>
        <p:blipFill>
          <a:blip r:embed="rId1"/>
          <a:stretch/>
        </p:blipFill>
        <p:spPr>
          <a:xfrm>
            <a:off x="1784520" y="2943360"/>
            <a:ext cx="557496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9b2d1f"/>
                </a:solidFill>
                <a:uFillTx/>
                <a:latin typeface="Cambria"/>
              </a:rPr>
              <a:t>Экономическая свобода – свобода принятия решений и действий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Вид деятельност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Сфера активност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Форма участи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Заголовок 1"/>
          <p:cNvSpPr/>
          <p:nvPr/>
        </p:nvSpPr>
        <p:spPr>
          <a:xfrm>
            <a:off x="0" y="23760"/>
            <a:ext cx="9036000" cy="110160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экономическая свобода и социальная ответственность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4" name="Рисунок 4" descr=""/>
          <p:cNvPicPr/>
          <p:nvPr/>
        </p:nvPicPr>
        <p:blipFill>
          <a:blip r:embed="rId1"/>
          <a:srcRect l="0" t="0" r="0" b="6722"/>
          <a:stretch/>
        </p:blipFill>
        <p:spPr>
          <a:xfrm>
            <a:off x="4249800" y="3284640"/>
            <a:ext cx="43545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Заголовок 1"/>
          <p:cNvSpPr/>
          <p:nvPr/>
        </p:nvSpPr>
        <p:spPr>
          <a:xfrm>
            <a:off x="0" y="23760"/>
            <a:ext cx="9036000" cy="110160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экономическая свобода и социальная ответственность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2411280" y="1341360"/>
            <a:ext cx="4824720" cy="1224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Хозяйственная свобода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5364000" y="2781360"/>
            <a:ext cx="2808360" cy="32176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ambria"/>
              </a:rPr>
              <a:t>Потребитель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ыбор товар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ыбор производителя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Форма потребления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1332000" y="2781360"/>
            <a:ext cx="2663640" cy="31687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ambria"/>
              </a:rPr>
              <a:t>Производитель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ид деятельности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бъем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Форма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0" name="Заголовок 1"/>
          <p:cNvSpPr/>
          <p:nvPr/>
        </p:nvSpPr>
        <p:spPr>
          <a:xfrm>
            <a:off x="0" y="23760"/>
            <a:ext cx="9036000" cy="110160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экономическая свобода и социальная ответственность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Прямоугольник 4"/>
          <p:cNvSpPr/>
          <p:nvPr/>
        </p:nvSpPr>
        <p:spPr>
          <a:xfrm>
            <a:off x="755640" y="2492280"/>
            <a:ext cx="2736720" cy="2305080"/>
          </a:xfrm>
          <a:prstGeom prst="rect">
            <a:avLst/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Экономическая свобода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Прямоугольник 5"/>
          <p:cNvSpPr/>
          <p:nvPr/>
        </p:nvSpPr>
        <p:spPr>
          <a:xfrm>
            <a:off x="5508720" y="2492280"/>
            <a:ext cx="2808360" cy="2305080"/>
          </a:xfrm>
          <a:prstGeom prst="rect">
            <a:avLst/>
          </a:prstGeom>
          <a:solidFill>
            <a:srgbClr val="0070c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Социальная ответственность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Стрелка вправо 7"/>
          <p:cNvSpPr/>
          <p:nvPr/>
        </p:nvSpPr>
        <p:spPr>
          <a:xfrm>
            <a:off x="3691080" y="2637000"/>
            <a:ext cx="1655640" cy="863280"/>
          </a:xfrm>
          <a:prstGeom prst="rightArrow">
            <a:avLst>
              <a:gd name="adj1" fmla="val 50000"/>
              <a:gd name="adj2" fmla="val 50033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Стрелка вправо 8"/>
          <p:cNvSpPr/>
          <p:nvPr/>
        </p:nvSpPr>
        <p:spPr>
          <a:xfrm flipH="1">
            <a:off x="3654360" y="3618000"/>
            <a:ext cx="1602000" cy="86364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95280" y="1447920"/>
            <a:ext cx="82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9b2d1f"/>
                </a:solidFill>
                <a:uFillTx/>
                <a:latin typeface="Cambria"/>
              </a:rPr>
              <a:t>Рациональное поведение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– способность человека иметь ясные цели и достигать их наилучшим способом. Оно предполагает сопоставление результатов с затратами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Заголовок 1"/>
          <p:cNvSpPr/>
          <p:nvPr/>
        </p:nvSpPr>
        <p:spPr>
          <a:xfrm>
            <a:off x="0" y="23760"/>
            <a:ext cx="9036000" cy="110160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РАЦИОНАЛЬНОЕ ЭКОНОМИЧЕСКОЕ ПОВЕДЕНИЕ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7" name="Picture 2" descr="Потребитель 2020: 11 типов и стратегии привлечения 📈 New Retail"/>
          <p:cNvPicPr/>
          <p:nvPr/>
        </p:nvPicPr>
        <p:blipFill>
          <a:blip r:embed="rId1"/>
          <a:stretch/>
        </p:blipFill>
        <p:spPr>
          <a:xfrm>
            <a:off x="2340000" y="3429000"/>
            <a:ext cx="465912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ЛАН УРОКА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убъекты экономической деятельност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кономические отношения и интересы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кономическая свобода и социальная ответственн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циональное экономическое поведенеи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9b2d1f"/>
                </a:solidFill>
                <a:uFillTx/>
                <a:latin typeface="Cambria"/>
              </a:rPr>
              <a:t>Работа в группах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Рациональное поведение потребителей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Рациональное поведение производителей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0" y="23760"/>
            <a:ext cx="9036000" cy="110160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РАЦИОНАЛЬНОЕ ЭКОНОМИЧЕСКОЕ ПОВЕДЕНИЕ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684360" y="620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дания стр. 49 №1-3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д/з пр.4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07880" y="1052640"/>
            <a:ext cx="843624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 </a:t>
            </a: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Экономическая деятельность –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все виды хозяйственной деятельности людей для удовлетворения их потребностей и обеспечения материальных условий жизн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108000" y="19080"/>
            <a:ext cx="9036000" cy="6937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УБЪЕКТЫ ЭКОНОМИЧЕСКОЙ ДЕЯТЕЛЬНОСТИ  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3" name="Рисунок 1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6477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34817"/>
                </a:solidFill>
                <a:uFillTx/>
                <a:latin typeface="Calibri"/>
              </a:rPr>
              <a:t>Экономические блага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43280" y="1447920"/>
            <a:ext cx="40435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товары и услуги, удовлетворяющие ту или иную потребность человека и имеющиеся в распоряжении общества в ограниченном количеств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Заголовок 1"/>
          <p:cNvSpPr/>
          <p:nvPr/>
        </p:nvSpPr>
        <p:spPr>
          <a:xfrm>
            <a:off x="39600" y="19080"/>
            <a:ext cx="9036000" cy="6937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УБЪЕКТЫ ЭКОНОМИЧЕСКОЙ ДЕЯТЕЛЬНОСТИ  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7" name="Рисунок 1" descr=""/>
          <p:cNvPicPr/>
          <p:nvPr/>
        </p:nvPicPr>
        <p:blipFill>
          <a:blip r:embed="rId1"/>
          <a:stretch/>
        </p:blipFill>
        <p:spPr>
          <a:xfrm>
            <a:off x="357120" y="167328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34817"/>
                </a:solidFill>
                <a:uFillTx/>
                <a:latin typeface="Calibri"/>
              </a:rPr>
              <a:t>Экономические субъекты: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- домашние хозяйства (отдельных лиц и семьи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Предприятия (фирмы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Государство (органы государственного управления, государственные учреждения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Особенность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– принятие и реализация самостоятельных решений в сфере хозяйственной деятельности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Заголовок 1"/>
          <p:cNvSpPr/>
          <p:nvPr/>
        </p:nvSpPr>
        <p:spPr>
          <a:xfrm>
            <a:off x="39600" y="19080"/>
            <a:ext cx="9036000" cy="6937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УБЪЕКТЫ ЭКОНОМИЧЕСКОЙ ДЕЯТЕЛЬНОСТИ  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34817"/>
                </a:solidFill>
                <a:uFillTx/>
                <a:latin typeface="Calibri"/>
              </a:rPr>
              <a:t>Домашнее хозяйство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280" y="1447920"/>
            <a:ext cx="81471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экономическая единица, состоящая из одного или нескольких лиц, которая самостоятельно принимает решения, является собственником какого-либо фактора производства и стремиться к максимальному удовлетворению своих потребностей, максимальной полезности благ, исходя из размера имеющихся доход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3" name="Заголовок 1"/>
          <p:cNvSpPr/>
          <p:nvPr/>
        </p:nvSpPr>
        <p:spPr>
          <a:xfrm>
            <a:off x="39600" y="19080"/>
            <a:ext cx="9036000" cy="6937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УБЪЕКТЫ ЭКОНОМИЧЕСКОЙ ДЕЯТЕЛЬНОСТИ  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Рисунок 4" descr=""/>
          <p:cNvPicPr/>
          <p:nvPr/>
        </p:nvPicPr>
        <p:blipFill>
          <a:blip r:embed="rId1"/>
          <a:srcRect l="0" t="35439" r="1252" b="0"/>
          <a:stretch/>
        </p:blipFill>
        <p:spPr>
          <a:xfrm>
            <a:off x="684360" y="4365720"/>
            <a:ext cx="763272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34817"/>
                </a:solidFill>
                <a:uFillTx/>
                <a:latin typeface="Calibri"/>
              </a:rPr>
              <a:t>Предприятие (фирма)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15520" y="1336680"/>
            <a:ext cx="81471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хозяйствующий субъект, реализующий собственные интересы путем производства и реализации товаров и услуг, имеет в собственности или управлении имущество, необходимое для осуществления деятельности с целью получения дохода (прибыли) и стремится к его максимизации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Заголовок 1"/>
          <p:cNvSpPr/>
          <p:nvPr/>
        </p:nvSpPr>
        <p:spPr>
          <a:xfrm>
            <a:off x="39600" y="19080"/>
            <a:ext cx="9036000" cy="6937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УБЪЕКТЫ ЭКОНОМИЧЕСКОЙ ДЕЯТЕЛЬНОСТИ  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Picture 2" descr="Цели деятельности фирмы"/>
          <p:cNvPicPr/>
          <p:nvPr/>
        </p:nvPicPr>
        <p:blipFill>
          <a:blip r:embed="rId1"/>
          <a:srcRect l="0" t="6056" r="-286" b="13113"/>
          <a:stretch/>
        </p:blipFill>
        <p:spPr>
          <a:xfrm>
            <a:off x="2532240" y="4221000"/>
            <a:ext cx="453672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34817"/>
                </a:solidFill>
                <a:uFillTx/>
                <a:latin typeface="Calibri"/>
              </a:rPr>
              <a:t>Государство 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9280" y="1447920"/>
            <a:ext cx="81471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как субъект экономики представлено различными правительственными учреждениями, осуществляющими юридическую и политическую власть для обеспечения в случае необходимости контроля над хозяйственными субъектами и над рынком для достижения общественных целе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Заголовок 1"/>
          <p:cNvSpPr/>
          <p:nvPr/>
        </p:nvSpPr>
        <p:spPr>
          <a:xfrm>
            <a:off x="39600" y="19080"/>
            <a:ext cx="9036000" cy="6937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УБЪЕКТЫ ЭКОНОМИЧЕСКОЙ ДЕЯТЕЛЬНОСТИ  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Рисунок 1" descr=""/>
          <p:cNvPicPr/>
          <p:nvPr/>
        </p:nvPicPr>
        <p:blipFill>
          <a:blip r:embed="rId1"/>
          <a:stretch/>
        </p:blipFill>
        <p:spPr>
          <a:xfrm>
            <a:off x="2611440" y="4437000"/>
            <a:ext cx="43783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34817"/>
                </a:solidFill>
                <a:uFillTx/>
                <a:latin typeface="Calibri"/>
              </a:rPr>
              <a:t>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9280" y="1447920"/>
            <a:ext cx="81471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Заголовок 1"/>
          <p:cNvSpPr/>
          <p:nvPr/>
        </p:nvSpPr>
        <p:spPr>
          <a:xfrm>
            <a:off x="39600" y="19080"/>
            <a:ext cx="9036000" cy="693720"/>
          </a:xfrm>
          <a:prstGeom prst="rect">
            <a:avLst/>
          </a:prstGeom>
          <a:solidFill>
            <a:srgbClr val="e99d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УБЪЕКТЫ ЭКОНОМИЧЕСКОЙ ДЕЯТЕЛЬНОСТИ  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6" name="Рисунок 4" descr=""/>
          <p:cNvPicPr/>
          <p:nvPr/>
        </p:nvPicPr>
        <p:blipFill>
          <a:blip r:embed="rId1"/>
          <a:srcRect l="21593" t="30894" r="21313" b="20812"/>
          <a:stretch/>
        </p:blipFill>
        <p:spPr>
          <a:xfrm>
            <a:off x="179280" y="1125360"/>
            <a:ext cx="87854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6T11:51:14Z</dcterms:created>
  <dc:creator>Я</dc:creator>
  <dc:description/>
  <dc:language>en-US</dc:language>
  <cp:lastModifiedBy>Учетная запись Майкрософт</cp:lastModifiedBy>
  <dcterms:modified xsi:type="dcterms:W3CDTF">2024-02-11T11:12:26Z</dcterms:modified>
  <cp:revision>53</cp:revision>
  <dc:subject/>
  <dc:title>РОЛЬ ЭКОНОМИКИ В ЖИЗНИ ОБЩЕСТВА</dc:title>
</cp:coreProperties>
</file>