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9.png" ContentType="image/png"/>
  <Override PartName="/ppt/media/image8.jpeg" ContentType="image/jpeg"/>
  <Override PartName="/ppt/media/image1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22BD-5ECE-4159-9113-C37E60EA7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DA85-1E51-4AF9-8000-65C38708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5435-09CE-42A4-9958-15DBF5580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27FB-06D0-4C6D-871F-F805CBD45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5C7F-2C5B-4899-9857-FA5386E98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6B5B-7BA1-46A7-B96E-6AC706BD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6FA1-509C-4B51-AC7F-A0F795B0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479A-92FE-4BE7-A4A3-0162C089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E8158-AEF9-43CB-8CCA-35F8E72D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7773-FD4B-406D-9BE6-27129863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DB8B-E379-475F-A4C5-BADF7E13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6330-2B63-4420-A51F-01532DBF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4089A-7E46-4F12-90B3-B53BEBD3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0267-D9BE-4011-8748-2C765826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C78C-5BA3-4A82-98B7-050A7045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7469-5B7B-4AFD-89DC-315409A19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70F6D-C8ED-416A-9A03-FCCE6A72C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A5E44-3D13-49CD-BCEE-4B1559538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8F848-BE82-41AC-9CBD-83D049D7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3699E-8279-4C4C-A9AA-F5A836FA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B481B-03AA-4459-BF1A-B2DACF5D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EF248-A73A-4AB3-A4A2-370967E8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2B1D-497F-4B83-9DC4-B231C77A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0902A-DEF4-4BFB-83FC-3999DEA2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2D9CF-59DB-487B-837F-4488F5C4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221C8-F2BB-429A-A2CF-FD62DAB3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1E7E8-911D-4EDB-88B9-7810B4F2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8F291-A72D-43C9-A7E2-1D37335B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21829-7956-450C-8A8A-198DC249C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A2520-D8E4-49BD-8D8F-25C1EB45A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B6260-C00F-4734-AB21-1F0F2EA2A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D5A77-31B3-45D5-A1A9-F0B793FD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5CECB-34FF-42D6-8D77-93F4B3D9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DEC9-08B2-47B2-9DF9-9F288073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5EE84-9646-4415-B289-2D72DCB4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FDC9B-6BFA-492E-A724-092098BB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FB1F7-9E56-4C8F-ABC5-5E805183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69997-3D70-407C-BED9-A9F2A976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B6611-32EA-4D67-A831-73568972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EBB3E-E1BE-40E6-91F9-CBF5457A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B70BB-542C-4528-9F65-75AB91E3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219D5-08C3-4680-B237-C46B01386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531D8-6AEA-4149-B68B-C753B2745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49B83-AEE7-4947-9DDA-65CCE37F6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251F-8E67-472C-A099-A226954D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7C9CF-F7F4-4737-A4C5-242949A1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807BF-76EC-452E-AB5B-652AB269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5826C-C342-439D-A260-27A22ADA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E9F65-B612-4AC0-988A-66A1BFF4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E3D8A-CC38-4B96-8AD6-3751C495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1EA5E-8151-4936-B34D-F4E11129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EC5CC-857F-4512-ACCC-8714E677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1382C-BA62-4207-9E6A-29600BFE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77F49-58A5-42AF-BE5C-081CBD57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2E716-EAD9-40F4-8549-F52C24B08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8DA6-5275-480A-8D5C-21B065F1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64996-6C6C-4BDE-A048-2C9DD5E14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7545-67A7-4609-A6FC-6F872653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0AE9-48F2-477D-955E-65A57998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453A-4798-4CB9-B360-7F81DBB2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3A7F-0CEB-4284-8241-0FFBBC2F7D6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9C4D-08E7-45E3-B269-41ABFD3DAF8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00C6-9806-45A3-ADC1-99856538A0B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AD4A-C43A-4BD5-89E2-EAAF72948A0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1EDA-168A-4BE3-80CF-654141BB62F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phys-ege.sdamgia.ru/" TargetMode="External"/><Relationship Id="rId2" Type="http://schemas.openxmlformats.org/officeDocument/2006/relationships/hyperlink" Target="https://phys-ege.sdamgia.ru/" TargetMode="External"/><Relationship Id="rId3" Type="http://schemas.openxmlformats.org/officeDocument/2006/relationships/hyperlink" Target="https://phys-ege.sdamgia.ru/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7640" y="1338120"/>
            <a:ext cx="8785080" cy="182736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marL="182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 для самоконтроля: «Законы постоянного тока»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29" name="Picture 6" descr="https://helpiks.org/helpiksorg/baza6/271239921311.files/image002.jpg"/>
          <p:cNvPicPr/>
          <p:nvPr/>
        </p:nvPicPr>
        <p:blipFill>
          <a:blip r:embed="rId1"/>
          <a:stretch/>
        </p:blipFill>
        <p:spPr>
          <a:xfrm>
            <a:off x="5435640" y="3141720"/>
            <a:ext cx="2886120" cy="2469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https://5terka.com/images/fiz11kas/voprindex-5.jpg"/>
          <p:cNvPicPr/>
          <p:nvPr/>
        </p:nvPicPr>
        <p:blipFill>
          <a:blip r:embed="rId2"/>
          <a:srcRect l="6662" t="11790" r="3989" b="25669"/>
          <a:stretch/>
        </p:blipFill>
        <p:spPr>
          <a:xfrm>
            <a:off x="1042920" y="3141720"/>
            <a:ext cx="3181320" cy="2469960"/>
          </a:xfrm>
          <a:prstGeom prst="rect">
            <a:avLst/>
          </a:prstGeom>
          <a:ln w="0">
            <a:noFill/>
          </a:ln>
        </p:spPr>
      </p:pic>
      <p:sp>
        <p:nvSpPr>
          <p:cNvPr id="231" name="Стрелка вправо 10">
            <a:hlinkClick r:id="" action="ppaction://hlinkshowjump?jump=nextslide"/>
          </p:cNvPr>
          <p:cNvSpPr/>
          <p:nvPr/>
        </p:nvSpPr>
        <p:spPr>
          <a:xfrm>
            <a:off x="7580160" y="6039000"/>
            <a:ext cx="1482840" cy="706320"/>
          </a:xfrm>
          <a:prstGeom prst="rightArrow">
            <a:avLst>
              <a:gd name="adj1" fmla="val 50000"/>
              <a:gd name="adj2" fmla="val 50016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696464"/>
              </a:solidFill>
              <a:latin typeface="Cambr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https://phys-ege.sdamgia.ru/get_file?id=25219"/>
          <p:cNvPicPr/>
          <p:nvPr/>
        </p:nvPicPr>
        <p:blipFill>
          <a:blip r:embed="rId1"/>
          <a:stretch/>
        </p:blipFill>
        <p:spPr>
          <a:xfrm>
            <a:off x="2124000" y="1447920"/>
            <a:ext cx="4619880" cy="237168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11120" y="13032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изображена зависимость силы тока через лампу накаливания от приложенного к ней напряжения. Выберите два верных утверждения, которые можно сделать, анализируя этот график.</a:t>
            </a:r>
            <a:endParaRPr b="0" lang="en-US" sz="2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5" name="TextBox 5"/>
          <p:cNvSpPr/>
          <p:nvPr/>
        </p:nvSpPr>
        <p:spPr>
          <a:xfrm>
            <a:off x="770040" y="381960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противление лампы не зависит от приложенного напряж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6"/>
          <p:cNvSpPr/>
          <p:nvPr/>
        </p:nvSpPr>
        <p:spPr>
          <a:xfrm>
            <a:off x="785880" y="4313160"/>
            <a:ext cx="81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Мощность, выделяемая в лампе при напряжении 110 В, равна 38,5 В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Box 7"/>
          <p:cNvSpPr/>
          <p:nvPr/>
        </p:nvSpPr>
        <p:spPr>
          <a:xfrm>
            <a:off x="790560" y="4775040"/>
            <a:ext cx="791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Мощность, выделяемая в лампе при напряжении 170 В, равна 40 В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8"/>
          <p:cNvSpPr/>
          <p:nvPr/>
        </p:nvSpPr>
        <p:spPr>
          <a:xfrm>
            <a:off x="803520" y="5235480"/>
            <a:ext cx="746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Сопротивление лампы при силе тока в ней 0,15 А равно 200 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9"/>
          <p:cNvSpPr/>
          <p:nvPr/>
        </p:nvSpPr>
        <p:spPr>
          <a:xfrm>
            <a:off x="804240" y="5722920"/>
            <a:ext cx="705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Сопротивление лампы при напряжении 100 В равно 400 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Прямая соединительная линия 11"/>
          <p:cNvSpPr/>
          <p:nvPr/>
        </p:nvSpPr>
        <p:spPr>
          <a:xfrm>
            <a:off x="1979640" y="3882960"/>
            <a:ext cx="3271680" cy="3366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Прямая соединительная линия 15"/>
          <p:cNvSpPr/>
          <p:nvPr/>
        </p:nvSpPr>
        <p:spPr>
          <a:xfrm>
            <a:off x="1979640" y="4834080"/>
            <a:ext cx="3168720" cy="342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Прямая соединительная линия 16"/>
          <p:cNvSpPr/>
          <p:nvPr/>
        </p:nvSpPr>
        <p:spPr>
          <a:xfrm>
            <a:off x="1979640" y="5769000"/>
            <a:ext cx="3168720" cy="3538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Плюс 18"/>
          <p:cNvSpPr/>
          <p:nvPr/>
        </p:nvSpPr>
        <p:spPr>
          <a:xfrm>
            <a:off x="130320" y="4179960"/>
            <a:ext cx="650880" cy="664920"/>
          </a:xfrm>
          <a:custGeom>
            <a:avLst/>
            <a:gdLst/>
            <a:ahLst/>
            <a:rect l="l" t="t" r="r" b="b"/>
            <a:pathLst>
              <a:path w="650875" h="665162">
                <a:moveTo>
                  <a:pt x="86273" y="256038"/>
                </a:moveTo>
                <a:lnTo>
                  <a:pt x="248895" y="256038"/>
                </a:lnTo>
                <a:lnTo>
                  <a:pt x="248895" y="88167"/>
                </a:lnTo>
                <a:lnTo>
                  <a:pt x="401980" y="88167"/>
                </a:lnTo>
                <a:lnTo>
                  <a:pt x="401980" y="256038"/>
                </a:lnTo>
                <a:lnTo>
                  <a:pt x="564602" y="256038"/>
                </a:lnTo>
                <a:lnTo>
                  <a:pt x="564602" y="409124"/>
                </a:lnTo>
                <a:lnTo>
                  <a:pt x="401980" y="409124"/>
                </a:lnTo>
                <a:lnTo>
                  <a:pt x="401980" y="576995"/>
                </a:lnTo>
                <a:lnTo>
                  <a:pt x="248895" y="576995"/>
                </a:lnTo>
                <a:lnTo>
                  <a:pt x="248895" y="409124"/>
                </a:lnTo>
                <a:lnTo>
                  <a:pt x="86273" y="409124"/>
                </a:lnTo>
                <a:lnTo>
                  <a:pt x="86273" y="256038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Плюс 20"/>
          <p:cNvSpPr/>
          <p:nvPr/>
        </p:nvSpPr>
        <p:spPr>
          <a:xfrm>
            <a:off x="130320" y="5103720"/>
            <a:ext cx="649080" cy="665280"/>
          </a:xfrm>
          <a:custGeom>
            <a:avLst/>
            <a:gdLst/>
            <a:ahLst/>
            <a:rect l="l" t="t" r="r" b="b"/>
            <a:pathLst>
              <a:path w="649288" h="665162">
                <a:moveTo>
                  <a:pt x="86063" y="256225"/>
                </a:moveTo>
                <a:lnTo>
                  <a:pt x="248288" y="256225"/>
                </a:lnTo>
                <a:lnTo>
                  <a:pt x="248288" y="88167"/>
                </a:lnTo>
                <a:lnTo>
                  <a:pt x="401000" y="88167"/>
                </a:lnTo>
                <a:lnTo>
                  <a:pt x="401000" y="256225"/>
                </a:lnTo>
                <a:lnTo>
                  <a:pt x="563225" y="256225"/>
                </a:lnTo>
                <a:lnTo>
                  <a:pt x="563225" y="408937"/>
                </a:lnTo>
                <a:lnTo>
                  <a:pt x="401000" y="408937"/>
                </a:lnTo>
                <a:lnTo>
                  <a:pt x="401000" y="576995"/>
                </a:lnTo>
                <a:lnTo>
                  <a:pt x="248288" y="576995"/>
                </a:lnTo>
                <a:lnTo>
                  <a:pt x="248288" y="408937"/>
                </a:lnTo>
                <a:lnTo>
                  <a:pt x="86063" y="408937"/>
                </a:lnTo>
                <a:lnTo>
                  <a:pt x="86063" y="256225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Стрелка вправо 1">
            <a:hlinkClick r:id="" action="ppaction://hlinkshowjump?jump=nextslide"/>
          </p:cNvPr>
          <p:cNvSpPr/>
          <p:nvPr/>
        </p:nvSpPr>
        <p:spPr>
          <a:xfrm>
            <a:off x="7580160" y="6039000"/>
            <a:ext cx="1482840" cy="706320"/>
          </a:xfrm>
          <a:prstGeom prst="rightArrow">
            <a:avLst>
              <a:gd name="adj1" fmla="val 50000"/>
              <a:gd name="adj2" fmla="val 50016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233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239" nodeType="clickEffect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245" nodeType="clickEffect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251" nodeType="clickEffect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257" nodeType="clickEffect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https://phys-ege.sdamgia.ru/get_file?id=45767"/>
          <p:cNvPicPr/>
          <p:nvPr/>
        </p:nvPicPr>
        <p:blipFill>
          <a:blip r:embed="rId1"/>
          <a:stretch/>
        </p:blipFill>
        <p:spPr>
          <a:xfrm>
            <a:off x="5477040" y="1541520"/>
            <a:ext cx="3435120" cy="2260440"/>
          </a:xfrm>
          <a:prstGeom prst="rect">
            <a:avLst/>
          </a:prstGeom>
          <a:ln w="0">
            <a:noFill/>
          </a:ln>
        </p:spPr>
      </p:pic>
      <p:pic>
        <p:nvPicPr>
          <p:cNvPr id="347" name="Заголовок 3" descr=""/>
          <p:cNvPicPr/>
          <p:nvPr/>
        </p:nvPicPr>
        <p:blipFill>
          <a:blip r:embed="rId2"/>
          <a:stretch/>
        </p:blipFill>
        <p:spPr>
          <a:xfrm>
            <a:off x="407880" y="128520"/>
            <a:ext cx="8229600" cy="1859040"/>
          </a:xfrm>
          <a:prstGeom prst="rect">
            <a:avLst/>
          </a:prstGeom>
          <a:ln w="0">
            <a:noFill/>
          </a:ln>
        </p:spPr>
      </p:pic>
      <p:sp>
        <p:nvSpPr>
          <p:cNvPr id="348" name="TextBox 5"/>
          <p:cNvSpPr/>
          <p:nvPr/>
        </p:nvSpPr>
        <p:spPr>
          <a:xfrm>
            <a:off x="555480" y="2033640"/>
            <a:ext cx="748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Так как при замкнутом ключе ток через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денсатор не течёт, то напряжение 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денсаторе равно нул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extBox 6"/>
          <p:cNvSpPr/>
          <p:nvPr/>
        </p:nvSpPr>
        <p:spPr>
          <a:xfrm>
            <a:off x="596880" y="3114720"/>
            <a:ext cx="616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При замкнутом ключе сумма напряжени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езисторах больше напряжения на конденсатор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TextBox 7"/>
          <p:cNvSpPr/>
          <p:nvPr/>
        </p:nvSpPr>
        <p:spPr>
          <a:xfrm>
            <a:off x="588240" y="3908520"/>
            <a:ext cx="754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Напряжение на конденсаторе равно ЭДС источника напряж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TextBox 8" descr=""/>
          <p:cNvPicPr/>
          <p:nvPr/>
        </p:nvPicPr>
        <p:blipFill>
          <a:blip r:embed="rId3"/>
          <a:stretch/>
        </p:blipFill>
        <p:spPr>
          <a:xfrm>
            <a:off x="585720" y="4462560"/>
            <a:ext cx="7021440" cy="706320"/>
          </a:xfrm>
          <a:prstGeom prst="rect">
            <a:avLst/>
          </a:prstGeom>
          <a:ln w="0">
            <a:noFill/>
          </a:ln>
        </p:spPr>
      </p:pic>
      <p:pic>
        <p:nvPicPr>
          <p:cNvPr id="352" name="TextBox 9" descr=""/>
          <p:cNvPicPr/>
          <p:nvPr/>
        </p:nvPicPr>
        <p:blipFill>
          <a:blip r:embed="rId4"/>
          <a:stretch/>
        </p:blipFill>
        <p:spPr>
          <a:xfrm>
            <a:off x="585720" y="5273640"/>
            <a:ext cx="8015400" cy="1017720"/>
          </a:xfrm>
          <a:prstGeom prst="rect">
            <a:avLst/>
          </a:prstGeom>
          <a:ln w="0">
            <a:noFill/>
          </a:ln>
        </p:spPr>
      </p:pic>
      <p:sp>
        <p:nvSpPr>
          <p:cNvPr id="353" name="Прямая соединительная линия 11"/>
          <p:cNvSpPr/>
          <p:nvPr/>
        </p:nvSpPr>
        <p:spPr>
          <a:xfrm>
            <a:off x="1332000" y="2033640"/>
            <a:ext cx="3417840" cy="747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Прямая соединительная линия 15"/>
          <p:cNvSpPr/>
          <p:nvPr/>
        </p:nvSpPr>
        <p:spPr>
          <a:xfrm>
            <a:off x="1332000" y="3100320"/>
            <a:ext cx="3417840" cy="6746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Прямая соединительная линия 16"/>
          <p:cNvSpPr/>
          <p:nvPr/>
        </p:nvSpPr>
        <p:spPr>
          <a:xfrm>
            <a:off x="1187280" y="5273640"/>
            <a:ext cx="3562560" cy="892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Плюс 18"/>
          <p:cNvSpPr/>
          <p:nvPr/>
        </p:nvSpPr>
        <p:spPr>
          <a:xfrm>
            <a:off x="20520" y="3774960"/>
            <a:ext cx="650880" cy="665280"/>
          </a:xfrm>
          <a:custGeom>
            <a:avLst/>
            <a:gdLst/>
            <a:ahLst/>
            <a:rect l="l" t="t" r="r" b="b"/>
            <a:pathLst>
              <a:path w="650875" h="665163">
                <a:moveTo>
                  <a:pt x="86273" y="256039"/>
                </a:moveTo>
                <a:lnTo>
                  <a:pt x="248895" y="256039"/>
                </a:lnTo>
                <a:lnTo>
                  <a:pt x="248895" y="88167"/>
                </a:lnTo>
                <a:lnTo>
                  <a:pt x="401980" y="88167"/>
                </a:lnTo>
                <a:lnTo>
                  <a:pt x="401980" y="256039"/>
                </a:lnTo>
                <a:lnTo>
                  <a:pt x="564602" y="256039"/>
                </a:lnTo>
                <a:lnTo>
                  <a:pt x="564602" y="409124"/>
                </a:lnTo>
                <a:lnTo>
                  <a:pt x="401980" y="409124"/>
                </a:lnTo>
                <a:lnTo>
                  <a:pt x="401980" y="576996"/>
                </a:lnTo>
                <a:lnTo>
                  <a:pt x="248895" y="576996"/>
                </a:lnTo>
                <a:lnTo>
                  <a:pt x="248895" y="409124"/>
                </a:lnTo>
                <a:lnTo>
                  <a:pt x="86273" y="409124"/>
                </a:lnTo>
                <a:lnTo>
                  <a:pt x="86273" y="256039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Плюс 20"/>
          <p:cNvSpPr/>
          <p:nvPr/>
        </p:nvSpPr>
        <p:spPr>
          <a:xfrm>
            <a:off x="20520" y="4438800"/>
            <a:ext cx="649440" cy="664920"/>
          </a:xfrm>
          <a:custGeom>
            <a:avLst/>
            <a:gdLst/>
            <a:ahLst/>
            <a:rect l="l" t="t" r="r" b="b"/>
            <a:pathLst>
              <a:path w="649287" h="665163">
                <a:moveTo>
                  <a:pt x="86063" y="256225"/>
                </a:moveTo>
                <a:lnTo>
                  <a:pt x="248287" y="256225"/>
                </a:lnTo>
                <a:lnTo>
                  <a:pt x="248287" y="88167"/>
                </a:lnTo>
                <a:lnTo>
                  <a:pt x="401000" y="88167"/>
                </a:lnTo>
                <a:lnTo>
                  <a:pt x="401000" y="256225"/>
                </a:lnTo>
                <a:lnTo>
                  <a:pt x="563224" y="256225"/>
                </a:lnTo>
                <a:lnTo>
                  <a:pt x="563224" y="408938"/>
                </a:lnTo>
                <a:lnTo>
                  <a:pt x="401000" y="408938"/>
                </a:lnTo>
                <a:lnTo>
                  <a:pt x="401000" y="576996"/>
                </a:lnTo>
                <a:lnTo>
                  <a:pt x="248287" y="576996"/>
                </a:lnTo>
                <a:lnTo>
                  <a:pt x="248287" y="408938"/>
                </a:lnTo>
                <a:lnTo>
                  <a:pt x="86063" y="408938"/>
                </a:lnTo>
                <a:lnTo>
                  <a:pt x="86063" y="256225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Стрелка вправо 1">
            <a:hlinkClick r:id="" action="ppaction://hlinkshowjump?jump=nextslide"/>
          </p:cNvPr>
          <p:cNvSpPr/>
          <p:nvPr/>
        </p:nvSpPr>
        <p:spPr>
          <a:xfrm>
            <a:off x="7580160" y="6039000"/>
            <a:ext cx="1482840" cy="706320"/>
          </a:xfrm>
          <a:prstGeom prst="rightArrow">
            <a:avLst>
              <a:gd name="adj1" fmla="val 50000"/>
              <a:gd name="adj2" fmla="val 50016"/>
            </a:avLst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264" nodeType="clickEffect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270" nodeType="clickEffect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276" nodeType="clickEffect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282" nodeType="clickEffect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288" nodeType="clickEffect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источников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94920" y="1447920"/>
            <a:ext cx="84978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10 задания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1"/>
              </a:rPr>
              <a:t>https</a:t>
            </a:r>
            <a:r>
              <a:rPr b="0" lang="en-US" sz="24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2"/>
              </a:rPr>
              <a:t>://phys-ege.sdamgia.ru</a:t>
            </a:r>
            <a:r>
              <a:rPr b="0" lang="en-US" sz="24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3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айт Д.Д. Гущина «Решу ЕГЭ/Сдам ГИА»)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3 задания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Э 2007–2008. Физика : сборник заданий / Г.Г. Никифоров, В.А. Орлов, Н.К. Ханнанов. – М. : Эксмо, 2007. – 240 с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задание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ка: новый полный справочник для подготовки к единому государственному экзамену / Н.С. Пурышева, Е.Э. Ратбиль. – Москва : АСТ : Астрель, 2016. – 319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.: ил. – (Государственная итоговая аттестация)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1" name="Стрелка вправо 4">
            <a:hlinkClick r:id="" action="ppaction://hlinkshowjump?jump=endshow"/>
          </p:cNvPr>
          <p:cNvSpPr/>
          <p:nvPr/>
        </p:nvSpPr>
        <p:spPr>
          <a:xfrm>
            <a:off x="7580160" y="6039000"/>
            <a:ext cx="1482840" cy="706320"/>
          </a:xfrm>
          <a:prstGeom prst="rightArrow">
            <a:avLst>
              <a:gd name="adj1" fmla="val 50000"/>
              <a:gd name="adj2" fmla="val 50016"/>
            </a:avLst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013600" cy="2052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изменится сопротивление проводника, если его разрезать на две равные части и соединить эти части параллельно?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4" name="TextBox 5"/>
          <p:cNvSpPr/>
          <p:nvPr/>
        </p:nvSpPr>
        <p:spPr>
          <a:xfrm>
            <a:off x="2916360" y="3338640"/>
            <a:ext cx="37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змени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2968920" y="3994200"/>
            <a:ext cx="373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Уменьшится в 2 ра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7"/>
          <p:cNvSpPr/>
          <p:nvPr/>
        </p:nvSpPr>
        <p:spPr>
          <a:xfrm>
            <a:off x="2968920" y="4662360"/>
            <a:ext cx="373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Уменьшится в 4 ра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9"/>
          <p:cNvSpPr/>
          <p:nvPr/>
        </p:nvSpPr>
        <p:spPr>
          <a:xfrm>
            <a:off x="2963880" y="5288040"/>
            <a:ext cx="359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Увеличится в 2 ра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Прямая соединительная линия 11"/>
          <p:cNvSpPr/>
          <p:nvPr/>
        </p:nvSpPr>
        <p:spPr>
          <a:xfrm>
            <a:off x="3344760" y="3333600"/>
            <a:ext cx="2235240" cy="478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Прямая соединительная линия 15"/>
          <p:cNvSpPr/>
          <p:nvPr/>
        </p:nvSpPr>
        <p:spPr>
          <a:xfrm>
            <a:off x="3417840" y="4035600"/>
            <a:ext cx="2378160" cy="4824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Прямая соединительная линия 16"/>
          <p:cNvSpPr/>
          <p:nvPr/>
        </p:nvSpPr>
        <p:spPr>
          <a:xfrm>
            <a:off x="3427560" y="5316480"/>
            <a:ext cx="2234880" cy="5238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Плюс 18"/>
          <p:cNvSpPr/>
          <p:nvPr/>
        </p:nvSpPr>
        <p:spPr>
          <a:xfrm>
            <a:off x="2265480" y="4592520"/>
            <a:ext cx="650880" cy="665280"/>
          </a:xfrm>
          <a:custGeom>
            <a:avLst/>
            <a:gdLst/>
            <a:ahLst/>
            <a:rect l="l" t="t" r="r" b="b"/>
            <a:pathLst>
              <a:path w="650875" h="665162">
                <a:moveTo>
                  <a:pt x="86273" y="256038"/>
                </a:moveTo>
                <a:lnTo>
                  <a:pt x="248895" y="256038"/>
                </a:lnTo>
                <a:lnTo>
                  <a:pt x="248895" y="88167"/>
                </a:lnTo>
                <a:lnTo>
                  <a:pt x="401980" y="88167"/>
                </a:lnTo>
                <a:lnTo>
                  <a:pt x="401980" y="256038"/>
                </a:lnTo>
                <a:lnTo>
                  <a:pt x="564602" y="256038"/>
                </a:lnTo>
                <a:lnTo>
                  <a:pt x="564602" y="409124"/>
                </a:lnTo>
                <a:lnTo>
                  <a:pt x="401980" y="409124"/>
                </a:lnTo>
                <a:lnTo>
                  <a:pt x="401980" y="576995"/>
                </a:lnTo>
                <a:lnTo>
                  <a:pt x="248895" y="576995"/>
                </a:lnTo>
                <a:lnTo>
                  <a:pt x="248895" y="409124"/>
                </a:lnTo>
                <a:lnTo>
                  <a:pt x="86273" y="409124"/>
                </a:lnTo>
                <a:lnTo>
                  <a:pt x="86273" y="256038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Стрелка вправо 1">
            <a:hlinkClick r:id="" action="ppaction://hlinkshowjump?jump=nextslide"/>
          </p:cNvPr>
          <p:cNvSpPr/>
          <p:nvPr/>
        </p:nvSpPr>
        <p:spPr>
          <a:xfrm>
            <a:off x="7580160" y="6039000"/>
            <a:ext cx="1482840" cy="706320"/>
          </a:xfrm>
          <a:prstGeom prst="rightArrow">
            <a:avLst>
              <a:gd name="adj1" fmla="val 50000"/>
              <a:gd name="adj2" fmla="val 50016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2"/>
          <a:srcRect l="37773" t="29035" r="40631" b="64341"/>
          <a:stretch/>
        </p:blipFill>
        <p:spPr>
          <a:xfrm rot="598800">
            <a:off x="6192360" y="496800"/>
            <a:ext cx="2810160" cy="4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0120" y="765000"/>
            <a:ext cx="8013600" cy="1440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противление между точками А и 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ической цепи, представленной на рисунке, равно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5" name="TextBox 5"/>
          <p:cNvSpPr/>
          <p:nvPr/>
        </p:nvSpPr>
        <p:spPr>
          <a:xfrm>
            <a:off x="1332000" y="2814480"/>
            <a:ext cx="37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 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6"/>
          <p:cNvSpPr/>
          <p:nvPr/>
        </p:nvSpPr>
        <p:spPr>
          <a:xfrm>
            <a:off x="1341000" y="360504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16 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7"/>
          <p:cNvSpPr/>
          <p:nvPr/>
        </p:nvSpPr>
        <p:spPr>
          <a:xfrm>
            <a:off x="1328040" y="436572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14 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9"/>
          <p:cNvSpPr/>
          <p:nvPr/>
        </p:nvSpPr>
        <p:spPr>
          <a:xfrm>
            <a:off x="1341000" y="506088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12 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Прямая соединительная линия 11"/>
          <p:cNvSpPr/>
          <p:nvPr/>
        </p:nvSpPr>
        <p:spPr>
          <a:xfrm>
            <a:off x="1503360" y="2859120"/>
            <a:ext cx="1670040" cy="3538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Прямая соединительная линия 15"/>
          <p:cNvSpPr/>
          <p:nvPr/>
        </p:nvSpPr>
        <p:spPr>
          <a:xfrm>
            <a:off x="1503360" y="4365720"/>
            <a:ext cx="1670040" cy="44136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Прямая соединительная линия 16"/>
          <p:cNvSpPr/>
          <p:nvPr/>
        </p:nvSpPr>
        <p:spPr>
          <a:xfrm>
            <a:off x="1503360" y="5114880"/>
            <a:ext cx="1670040" cy="4698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Плюс 18"/>
          <p:cNvSpPr/>
          <p:nvPr/>
        </p:nvSpPr>
        <p:spPr>
          <a:xfrm>
            <a:off x="498600" y="3533760"/>
            <a:ext cx="650880" cy="665280"/>
          </a:xfrm>
          <a:custGeom>
            <a:avLst/>
            <a:gdLst/>
            <a:ahLst/>
            <a:rect l="l" t="t" r="r" b="b"/>
            <a:pathLst>
              <a:path w="650875" h="665163">
                <a:moveTo>
                  <a:pt x="86273" y="256039"/>
                </a:moveTo>
                <a:lnTo>
                  <a:pt x="248895" y="256039"/>
                </a:lnTo>
                <a:lnTo>
                  <a:pt x="248895" y="88167"/>
                </a:lnTo>
                <a:lnTo>
                  <a:pt x="401980" y="88167"/>
                </a:lnTo>
                <a:lnTo>
                  <a:pt x="401980" y="256039"/>
                </a:lnTo>
                <a:lnTo>
                  <a:pt x="564602" y="256039"/>
                </a:lnTo>
                <a:lnTo>
                  <a:pt x="564602" y="409124"/>
                </a:lnTo>
                <a:lnTo>
                  <a:pt x="401980" y="409124"/>
                </a:lnTo>
                <a:lnTo>
                  <a:pt x="401980" y="576996"/>
                </a:lnTo>
                <a:lnTo>
                  <a:pt x="248895" y="576996"/>
                </a:lnTo>
                <a:lnTo>
                  <a:pt x="248895" y="409124"/>
                </a:lnTo>
                <a:lnTo>
                  <a:pt x="86273" y="409124"/>
                </a:lnTo>
                <a:lnTo>
                  <a:pt x="86273" y="256039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Стрелка вправо 1">
            <a:hlinkClick r:id="" action="ppaction://hlinkshowjump?jump=nextslide"/>
          </p:cNvPr>
          <p:cNvSpPr/>
          <p:nvPr/>
        </p:nvSpPr>
        <p:spPr>
          <a:xfrm>
            <a:off x="7580160" y="6039000"/>
            <a:ext cx="1482840" cy="706320"/>
          </a:xfrm>
          <a:prstGeom prst="rightArrow">
            <a:avLst>
              <a:gd name="adj1" fmla="val 50000"/>
              <a:gd name="adj2" fmla="val 50016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2" descr="http://www.soloby.ru/?qa=blob&amp;qa_blobid=14817370346745592109"/>
          <p:cNvPicPr/>
          <p:nvPr/>
        </p:nvPicPr>
        <p:blipFill>
          <a:blip r:embed="rId2"/>
          <a:srcRect l="53458" t="6560" r="2271" b="31234"/>
          <a:stretch/>
        </p:blipFill>
        <p:spPr>
          <a:xfrm>
            <a:off x="4272120" y="2552760"/>
            <a:ext cx="4443120" cy="196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34" nodeType="clickEffect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40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46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496000" cy="3055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тся три утверждени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ренебречь потерями на трение, то работа тока при работе электродвигателя, равномерно поднимающего груз, приводит к увеличению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потенциальной энергии груза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кинетической энергии груза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внутренней энергии обмотки электродвигател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из них верны?</a:t>
            </a:r>
            <a:endParaRPr b="0" lang="en-US" sz="2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6" name="TextBox 5"/>
          <p:cNvSpPr/>
          <p:nvPr/>
        </p:nvSpPr>
        <p:spPr>
          <a:xfrm>
            <a:off x="3173400" y="3533760"/>
            <a:ext cx="37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6"/>
          <p:cNvSpPr/>
          <p:nvPr/>
        </p:nvSpPr>
        <p:spPr>
          <a:xfrm>
            <a:off x="3182040" y="4103640"/>
            <a:ext cx="139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А и 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Box 7"/>
          <p:cNvSpPr/>
          <p:nvPr/>
        </p:nvSpPr>
        <p:spPr>
          <a:xfrm>
            <a:off x="3181680" y="4826160"/>
            <a:ext cx="137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Б и 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Box 9"/>
          <p:cNvSpPr/>
          <p:nvPr/>
        </p:nvSpPr>
        <p:spPr>
          <a:xfrm>
            <a:off x="3182760" y="5514840"/>
            <a:ext cx="142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А и 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Прямая соединительная линия 11"/>
          <p:cNvSpPr/>
          <p:nvPr/>
        </p:nvSpPr>
        <p:spPr>
          <a:xfrm>
            <a:off x="3333600" y="3595680"/>
            <a:ext cx="1668600" cy="3538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Прямая соединительная линия 15"/>
          <p:cNvSpPr/>
          <p:nvPr/>
        </p:nvSpPr>
        <p:spPr>
          <a:xfrm>
            <a:off x="3338640" y="4157640"/>
            <a:ext cx="1668240" cy="44136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Прямая соединительная линия 16"/>
          <p:cNvSpPr/>
          <p:nvPr/>
        </p:nvSpPr>
        <p:spPr>
          <a:xfrm>
            <a:off x="3338640" y="4881600"/>
            <a:ext cx="1668240" cy="46836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Плюс 18"/>
          <p:cNvSpPr/>
          <p:nvPr/>
        </p:nvSpPr>
        <p:spPr>
          <a:xfrm>
            <a:off x="2522520" y="5445000"/>
            <a:ext cx="650880" cy="665280"/>
          </a:xfrm>
          <a:custGeom>
            <a:avLst/>
            <a:gdLst/>
            <a:ahLst/>
            <a:rect l="l" t="t" r="r" b="b"/>
            <a:pathLst>
              <a:path w="650875" h="665163">
                <a:moveTo>
                  <a:pt x="86273" y="256039"/>
                </a:moveTo>
                <a:lnTo>
                  <a:pt x="248895" y="256039"/>
                </a:lnTo>
                <a:lnTo>
                  <a:pt x="248895" y="88167"/>
                </a:lnTo>
                <a:lnTo>
                  <a:pt x="401980" y="88167"/>
                </a:lnTo>
                <a:lnTo>
                  <a:pt x="401980" y="256039"/>
                </a:lnTo>
                <a:lnTo>
                  <a:pt x="564602" y="256039"/>
                </a:lnTo>
                <a:lnTo>
                  <a:pt x="564602" y="409124"/>
                </a:lnTo>
                <a:lnTo>
                  <a:pt x="401980" y="409124"/>
                </a:lnTo>
                <a:lnTo>
                  <a:pt x="401980" y="576996"/>
                </a:lnTo>
                <a:lnTo>
                  <a:pt x="248895" y="576996"/>
                </a:lnTo>
                <a:lnTo>
                  <a:pt x="248895" y="409124"/>
                </a:lnTo>
                <a:lnTo>
                  <a:pt x="86273" y="409124"/>
                </a:lnTo>
                <a:lnTo>
                  <a:pt x="86273" y="256039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Стрелка вправо 1">
            <a:hlinkClick r:id="" action="ppaction://hlinkshowjump?jump=nextslide"/>
          </p:cNvPr>
          <p:cNvSpPr/>
          <p:nvPr/>
        </p:nvSpPr>
        <p:spPr>
          <a:xfrm>
            <a:off x="7580160" y="6039000"/>
            <a:ext cx="1482840" cy="706320"/>
          </a:xfrm>
          <a:prstGeom prst="rightArrow">
            <a:avLst>
              <a:gd name="adj1" fmla="val 50000"/>
              <a:gd name="adj2" fmla="val 50016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2" descr="https://polaremont.ru/news/wp-content/uploads/2019/10/233662-vms-Elektrodvigatel-postoyannogo-toka.jpg"/>
          <p:cNvPicPr/>
          <p:nvPr/>
        </p:nvPicPr>
        <p:blipFill>
          <a:blip r:embed="rId2"/>
          <a:stretch/>
        </p:blipFill>
        <p:spPr>
          <a:xfrm>
            <a:off x="5952960" y="3652920"/>
            <a:ext cx="2737080" cy="202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65" nodeType="clickEffect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https://phys-ege.sdamgia.ru/get_file?id=15860"/>
          <p:cNvPicPr/>
          <p:nvPr/>
        </p:nvPicPr>
        <p:blipFill>
          <a:blip r:embed="rId1"/>
          <a:stretch/>
        </p:blipFill>
        <p:spPr>
          <a:xfrm>
            <a:off x="6411960" y="2362320"/>
            <a:ext cx="2454120" cy="367344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11120" y="1299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. 1 приведена схема установки, с помощью которой исследовалась зависимость напряжения на реостате от величины протекающего тока при движении ползунка реостата справа налево. На рис. 2 приведены графики, построенные по результатам измерений для двух разных источников напряжения. Выберите два утверждения, соответствующих результатам этих опытов, и запишите в ответ цифры, под которыми указаны эти утверждения. Вольтметр считать идеальным.</a:t>
            </a:r>
            <a:endParaRPr b="0" lang="en-US" sz="2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8" name="TextBox 5"/>
          <p:cNvSpPr/>
          <p:nvPr/>
        </p:nvSpPr>
        <p:spPr>
          <a:xfrm>
            <a:off x="1187280" y="2583000"/>
            <a:ext cx="609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иле тока 12 А вольтметр показывает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ЭДС источн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6"/>
          <p:cNvSpPr/>
          <p:nvPr/>
        </p:nvSpPr>
        <p:spPr>
          <a:xfrm>
            <a:off x="1175040" y="3486240"/>
            <a:ext cx="45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Ток короткого замыкания равен 12 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7"/>
          <p:cNvSpPr/>
          <p:nvPr/>
        </p:nvSpPr>
        <p:spPr>
          <a:xfrm>
            <a:off x="1197720" y="4048200"/>
            <a:ext cx="520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Во втором опыте сопротивление резисто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алось с большей скорость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8"/>
          <p:cNvSpPr/>
          <p:nvPr/>
        </p:nvSpPr>
        <p:spPr>
          <a:xfrm>
            <a:off x="1182240" y="4941720"/>
            <a:ext cx="503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Во втором опыте ЭДС источника в 2 раз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ьше, чем в перв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9"/>
          <p:cNvSpPr/>
          <p:nvPr/>
        </p:nvSpPr>
        <p:spPr>
          <a:xfrm>
            <a:off x="1188720" y="5838840"/>
            <a:ext cx="512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В первом опыте ЭДС источника равна 5 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Прямая соединительная линия 11"/>
          <p:cNvSpPr/>
          <p:nvPr/>
        </p:nvSpPr>
        <p:spPr>
          <a:xfrm>
            <a:off x="1876320" y="2638440"/>
            <a:ext cx="3168720" cy="6238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Прямая соединительная линия 15"/>
          <p:cNvSpPr/>
          <p:nvPr/>
        </p:nvSpPr>
        <p:spPr>
          <a:xfrm>
            <a:off x="1860480" y="4089240"/>
            <a:ext cx="3168720" cy="6238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Прямая соединительная линия 16"/>
          <p:cNvSpPr/>
          <p:nvPr/>
        </p:nvSpPr>
        <p:spPr>
          <a:xfrm>
            <a:off x="1871640" y="5838840"/>
            <a:ext cx="3168720" cy="6238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Плюс 18"/>
          <p:cNvSpPr/>
          <p:nvPr/>
        </p:nvSpPr>
        <p:spPr>
          <a:xfrm>
            <a:off x="392040" y="3354480"/>
            <a:ext cx="650880" cy="664920"/>
          </a:xfrm>
          <a:custGeom>
            <a:avLst/>
            <a:gdLst/>
            <a:ahLst/>
            <a:rect l="l" t="t" r="r" b="b"/>
            <a:pathLst>
              <a:path w="650875" h="665162">
                <a:moveTo>
                  <a:pt x="86273" y="256038"/>
                </a:moveTo>
                <a:lnTo>
                  <a:pt x="248895" y="256038"/>
                </a:lnTo>
                <a:lnTo>
                  <a:pt x="248895" y="88167"/>
                </a:lnTo>
                <a:lnTo>
                  <a:pt x="401980" y="88167"/>
                </a:lnTo>
                <a:lnTo>
                  <a:pt x="401980" y="256038"/>
                </a:lnTo>
                <a:lnTo>
                  <a:pt x="564602" y="256038"/>
                </a:lnTo>
                <a:lnTo>
                  <a:pt x="564602" y="409124"/>
                </a:lnTo>
                <a:lnTo>
                  <a:pt x="401980" y="409124"/>
                </a:lnTo>
                <a:lnTo>
                  <a:pt x="401980" y="576995"/>
                </a:lnTo>
                <a:lnTo>
                  <a:pt x="248895" y="576995"/>
                </a:lnTo>
                <a:lnTo>
                  <a:pt x="248895" y="409124"/>
                </a:lnTo>
                <a:lnTo>
                  <a:pt x="86273" y="409124"/>
                </a:lnTo>
                <a:lnTo>
                  <a:pt x="86273" y="256038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Плюс 20"/>
          <p:cNvSpPr/>
          <p:nvPr/>
        </p:nvSpPr>
        <p:spPr>
          <a:xfrm>
            <a:off x="446040" y="4835520"/>
            <a:ext cx="649440" cy="665280"/>
          </a:xfrm>
          <a:custGeom>
            <a:avLst/>
            <a:gdLst/>
            <a:ahLst/>
            <a:rect l="l" t="t" r="r" b="b"/>
            <a:pathLst>
              <a:path w="649287" h="665163">
                <a:moveTo>
                  <a:pt x="86063" y="256225"/>
                </a:moveTo>
                <a:lnTo>
                  <a:pt x="248287" y="256225"/>
                </a:lnTo>
                <a:lnTo>
                  <a:pt x="248287" y="88167"/>
                </a:lnTo>
                <a:lnTo>
                  <a:pt x="401000" y="88167"/>
                </a:lnTo>
                <a:lnTo>
                  <a:pt x="401000" y="256225"/>
                </a:lnTo>
                <a:lnTo>
                  <a:pt x="563224" y="256225"/>
                </a:lnTo>
                <a:lnTo>
                  <a:pt x="563224" y="408938"/>
                </a:lnTo>
                <a:lnTo>
                  <a:pt x="401000" y="408938"/>
                </a:lnTo>
                <a:lnTo>
                  <a:pt x="401000" y="576996"/>
                </a:lnTo>
                <a:lnTo>
                  <a:pt x="248287" y="576996"/>
                </a:lnTo>
                <a:lnTo>
                  <a:pt x="248287" y="408938"/>
                </a:lnTo>
                <a:lnTo>
                  <a:pt x="86063" y="408938"/>
                </a:lnTo>
                <a:lnTo>
                  <a:pt x="86063" y="256225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Стрелка вправо 1">
            <a:hlinkClick r:id="" action="ppaction://hlinkshowjump?jump=nextslide"/>
          </p:cNvPr>
          <p:cNvSpPr/>
          <p:nvPr/>
        </p:nvSpPr>
        <p:spPr>
          <a:xfrm>
            <a:off x="7580160" y="6039000"/>
            <a:ext cx="1482840" cy="706320"/>
          </a:xfrm>
          <a:prstGeom prst="rightArrow">
            <a:avLst>
              <a:gd name="adj1" fmla="val 50000"/>
              <a:gd name="adj2" fmla="val 50016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84" nodeType="clickEffect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90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96" nodeType="clickEffect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102" nodeType="clickEffect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69720" y="40464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денсатор подключен к источнику тока последовательно с резистором R = 20 кОм (см. рисунок). В момент времени t = 0 ключ замыкают. В этот момент конденсатор полностью разряжен. Результаты измерений силы тока в цепи, выполненных с точностью ±1 мкА, представлены в таблице</a:t>
            </a:r>
            <a:br>
              <a:rPr sz="2000"/>
            </a:br>
            <a:endParaRPr b="0" lang="en-US" sz="2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0" name="TextBox 5"/>
          <p:cNvSpPr/>
          <p:nvPr/>
        </p:nvSpPr>
        <p:spPr>
          <a:xfrm>
            <a:off x="1187280" y="2814480"/>
            <a:ext cx="609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 через резистор в процессе наблюд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вает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Box 6"/>
          <p:cNvSpPr/>
          <p:nvPr/>
        </p:nvSpPr>
        <p:spPr>
          <a:xfrm>
            <a:off x="1197360" y="3716280"/>
            <a:ext cx="431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Через 6 с после замыкания ключ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денсатор полностью зарядил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Box 7"/>
          <p:cNvSpPr/>
          <p:nvPr/>
        </p:nvSpPr>
        <p:spPr>
          <a:xfrm>
            <a:off x="1190160" y="4508640"/>
            <a:ext cx="441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ЭДС источника тока составляет 6 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8"/>
          <p:cNvSpPr/>
          <p:nvPr/>
        </p:nvSpPr>
        <p:spPr>
          <a:xfrm>
            <a:off x="1202760" y="5014800"/>
            <a:ext cx="736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В момент времени t = 3 с напряжение на резисторе равно 0,6 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Box 9"/>
          <p:cNvSpPr/>
          <p:nvPr/>
        </p:nvSpPr>
        <p:spPr>
          <a:xfrm>
            <a:off x="1195560" y="5627520"/>
            <a:ext cx="77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В момент времени t = 3 с напряжение на конденсаторе равно 5,7 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Прямая соединительная линия 11"/>
          <p:cNvSpPr/>
          <p:nvPr/>
        </p:nvSpPr>
        <p:spPr>
          <a:xfrm>
            <a:off x="1812960" y="2855880"/>
            <a:ext cx="3168720" cy="6238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Прямая соединительная линия 15"/>
          <p:cNvSpPr/>
          <p:nvPr/>
        </p:nvSpPr>
        <p:spPr>
          <a:xfrm>
            <a:off x="1933560" y="4991040"/>
            <a:ext cx="3168720" cy="6238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Прямая соединительная линия 16"/>
          <p:cNvSpPr/>
          <p:nvPr/>
        </p:nvSpPr>
        <p:spPr>
          <a:xfrm>
            <a:off x="1933560" y="3754440"/>
            <a:ext cx="3168720" cy="6238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Плюс 18"/>
          <p:cNvSpPr/>
          <p:nvPr/>
        </p:nvSpPr>
        <p:spPr>
          <a:xfrm>
            <a:off x="538200" y="5494320"/>
            <a:ext cx="650880" cy="665280"/>
          </a:xfrm>
          <a:custGeom>
            <a:avLst/>
            <a:gdLst/>
            <a:ahLst/>
            <a:rect l="l" t="t" r="r" b="b"/>
            <a:pathLst>
              <a:path w="650875" h="665162">
                <a:moveTo>
                  <a:pt x="86273" y="256038"/>
                </a:moveTo>
                <a:lnTo>
                  <a:pt x="248895" y="256038"/>
                </a:lnTo>
                <a:lnTo>
                  <a:pt x="248895" y="88167"/>
                </a:lnTo>
                <a:lnTo>
                  <a:pt x="401980" y="88167"/>
                </a:lnTo>
                <a:lnTo>
                  <a:pt x="401980" y="256038"/>
                </a:lnTo>
                <a:lnTo>
                  <a:pt x="564602" y="256038"/>
                </a:lnTo>
                <a:lnTo>
                  <a:pt x="564602" y="409124"/>
                </a:lnTo>
                <a:lnTo>
                  <a:pt x="401980" y="409124"/>
                </a:lnTo>
                <a:lnTo>
                  <a:pt x="401980" y="576995"/>
                </a:lnTo>
                <a:lnTo>
                  <a:pt x="248895" y="576995"/>
                </a:lnTo>
                <a:lnTo>
                  <a:pt x="248895" y="409124"/>
                </a:lnTo>
                <a:lnTo>
                  <a:pt x="86273" y="409124"/>
                </a:lnTo>
                <a:lnTo>
                  <a:pt x="86273" y="256038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Плюс 20"/>
          <p:cNvSpPr/>
          <p:nvPr/>
        </p:nvSpPr>
        <p:spPr>
          <a:xfrm>
            <a:off x="539640" y="4424400"/>
            <a:ext cx="649440" cy="665280"/>
          </a:xfrm>
          <a:custGeom>
            <a:avLst/>
            <a:gdLst/>
            <a:ahLst/>
            <a:rect l="l" t="t" r="r" b="b"/>
            <a:pathLst>
              <a:path w="649288" h="665162">
                <a:moveTo>
                  <a:pt x="86063" y="256225"/>
                </a:moveTo>
                <a:lnTo>
                  <a:pt x="248288" y="256225"/>
                </a:lnTo>
                <a:lnTo>
                  <a:pt x="248288" y="88167"/>
                </a:lnTo>
                <a:lnTo>
                  <a:pt x="401000" y="88167"/>
                </a:lnTo>
                <a:lnTo>
                  <a:pt x="401000" y="256225"/>
                </a:lnTo>
                <a:lnTo>
                  <a:pt x="563225" y="256225"/>
                </a:lnTo>
                <a:lnTo>
                  <a:pt x="563225" y="408937"/>
                </a:lnTo>
                <a:lnTo>
                  <a:pt x="401000" y="408937"/>
                </a:lnTo>
                <a:lnTo>
                  <a:pt x="401000" y="576995"/>
                </a:lnTo>
                <a:lnTo>
                  <a:pt x="248288" y="576995"/>
                </a:lnTo>
                <a:lnTo>
                  <a:pt x="248288" y="408937"/>
                </a:lnTo>
                <a:lnTo>
                  <a:pt x="86063" y="408937"/>
                </a:lnTo>
                <a:lnTo>
                  <a:pt x="86063" y="256225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189080" y="1989000"/>
          <a:ext cx="6681600" cy="731880"/>
        </p:xfrm>
        <a:graphic>
          <a:graphicData uri="http://schemas.openxmlformats.org/drawingml/2006/table">
            <a:tbl>
              <a:tblPr/>
              <a:tblGrid>
                <a:gridCol w="834840"/>
                <a:gridCol w="835200"/>
                <a:gridCol w="834840"/>
                <a:gridCol w="835200"/>
                <a:gridCol w="836640"/>
                <a:gridCol w="834840"/>
                <a:gridCol w="835200"/>
                <a:gridCol w="83484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t,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I,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м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  <p:pic>
        <p:nvPicPr>
          <p:cNvPr id="291" name="Picture 2" descr="https://phys-ege.sdamgia.ru/get_file?id=17033"/>
          <p:cNvPicPr/>
          <p:nvPr/>
        </p:nvPicPr>
        <p:blipFill>
          <a:blip r:embed="rId1"/>
          <a:stretch/>
        </p:blipFill>
        <p:spPr>
          <a:xfrm>
            <a:off x="6189840" y="3276720"/>
            <a:ext cx="2401560" cy="1587240"/>
          </a:xfrm>
          <a:prstGeom prst="rect">
            <a:avLst/>
          </a:prstGeom>
          <a:ln w="0">
            <a:noFill/>
          </a:ln>
        </p:spPr>
      </p:pic>
      <p:sp>
        <p:nvSpPr>
          <p:cNvPr id="292" name="Стрелка вправо 17">
            <a:hlinkClick r:id="" action="ppaction://hlinkshowjump?jump=nextslide"/>
          </p:cNvPr>
          <p:cNvSpPr/>
          <p:nvPr/>
        </p:nvSpPr>
        <p:spPr>
          <a:xfrm>
            <a:off x="7580160" y="6039000"/>
            <a:ext cx="1482840" cy="706320"/>
          </a:xfrm>
          <a:prstGeom prst="rightArrow">
            <a:avLst>
              <a:gd name="adj1" fmla="val 50000"/>
              <a:gd name="adj2" fmla="val 50016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109" nodeType="clickEffect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115" nodeType="clickEffect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121" nodeType="clickEffect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127" nodeType="clickEffect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133" nodeType="clickEffect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69720" y="333360"/>
            <a:ext cx="8229600" cy="1943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ушка индуктивности подключена к источнику тока с пренебрежимо малым внутренним сопротивлением через резистор R = 40 Ом (см. рисунок). В момент t = 0 ключ K замыкают. Значения силы тока в цепи, измеренные в последовательные моменты времени с точностью ±0,01 А, представлены в таблице.</a:t>
            </a:r>
            <a:br>
              <a:rPr sz="2000"/>
            </a:br>
            <a:endParaRPr b="0" lang="en-US" sz="2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4" name="TextBox 5"/>
          <p:cNvSpPr/>
          <p:nvPr/>
        </p:nvSpPr>
        <p:spPr>
          <a:xfrm>
            <a:off x="1047600" y="2803680"/>
            <a:ext cx="609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 через резистор в процессе наблюде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зменяет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Box 6"/>
          <p:cNvSpPr/>
          <p:nvPr/>
        </p:nvSpPr>
        <p:spPr>
          <a:xfrm>
            <a:off x="1090440" y="3505320"/>
            <a:ext cx="479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Через 5 с после замыкания ключа ток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катушку полностью прекратил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7"/>
          <p:cNvSpPr/>
          <p:nvPr/>
        </p:nvSpPr>
        <p:spPr>
          <a:xfrm>
            <a:off x="1048680" y="4346640"/>
            <a:ext cx="45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ЭДС источника тока составляе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8"/>
          <p:cNvSpPr/>
          <p:nvPr/>
        </p:nvSpPr>
        <p:spPr>
          <a:xfrm>
            <a:off x="1060560" y="4913280"/>
            <a:ext cx="80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В момент времени t = 3,0 с ЭДС самоиндукции катушки равно 0,29 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Box 9"/>
          <p:cNvSpPr/>
          <p:nvPr/>
        </p:nvSpPr>
        <p:spPr>
          <a:xfrm>
            <a:off x="1168200" y="5527800"/>
            <a:ext cx="75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В момент времени t = 1,0 с напряжение на резисторе равно 7,6 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Прямая соединительная линия 11"/>
          <p:cNvSpPr/>
          <p:nvPr/>
        </p:nvSpPr>
        <p:spPr>
          <a:xfrm>
            <a:off x="1933560" y="2846520"/>
            <a:ext cx="3168720" cy="6238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Прямая соединительная линия 15"/>
          <p:cNvSpPr/>
          <p:nvPr/>
        </p:nvSpPr>
        <p:spPr>
          <a:xfrm>
            <a:off x="1933560" y="4878360"/>
            <a:ext cx="3168720" cy="6238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Прямая соединительная линия 16"/>
          <p:cNvSpPr/>
          <p:nvPr/>
        </p:nvSpPr>
        <p:spPr>
          <a:xfrm>
            <a:off x="1901880" y="3511440"/>
            <a:ext cx="3168720" cy="6238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Плюс 18"/>
          <p:cNvSpPr/>
          <p:nvPr/>
        </p:nvSpPr>
        <p:spPr>
          <a:xfrm>
            <a:off x="398520" y="5394240"/>
            <a:ext cx="650880" cy="665280"/>
          </a:xfrm>
          <a:custGeom>
            <a:avLst/>
            <a:gdLst/>
            <a:ahLst/>
            <a:rect l="l" t="t" r="r" b="b"/>
            <a:pathLst>
              <a:path w="650875" h="665163">
                <a:moveTo>
                  <a:pt x="86273" y="256039"/>
                </a:moveTo>
                <a:lnTo>
                  <a:pt x="248895" y="256039"/>
                </a:lnTo>
                <a:lnTo>
                  <a:pt x="248895" y="88167"/>
                </a:lnTo>
                <a:lnTo>
                  <a:pt x="401980" y="88167"/>
                </a:lnTo>
                <a:lnTo>
                  <a:pt x="401980" y="256039"/>
                </a:lnTo>
                <a:lnTo>
                  <a:pt x="564602" y="256039"/>
                </a:lnTo>
                <a:lnTo>
                  <a:pt x="564602" y="409124"/>
                </a:lnTo>
                <a:lnTo>
                  <a:pt x="401980" y="409124"/>
                </a:lnTo>
                <a:lnTo>
                  <a:pt x="401980" y="576996"/>
                </a:lnTo>
                <a:lnTo>
                  <a:pt x="248895" y="576996"/>
                </a:lnTo>
                <a:lnTo>
                  <a:pt x="248895" y="409124"/>
                </a:lnTo>
                <a:lnTo>
                  <a:pt x="86273" y="409124"/>
                </a:lnTo>
                <a:lnTo>
                  <a:pt x="86273" y="256039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Плюс 20"/>
          <p:cNvSpPr/>
          <p:nvPr/>
        </p:nvSpPr>
        <p:spPr>
          <a:xfrm>
            <a:off x="398520" y="4213080"/>
            <a:ext cx="649080" cy="665280"/>
          </a:xfrm>
          <a:custGeom>
            <a:avLst/>
            <a:gdLst/>
            <a:ahLst/>
            <a:rect l="l" t="t" r="r" b="b"/>
            <a:pathLst>
              <a:path w="649287" h="665163">
                <a:moveTo>
                  <a:pt x="86063" y="256225"/>
                </a:moveTo>
                <a:lnTo>
                  <a:pt x="248287" y="256225"/>
                </a:lnTo>
                <a:lnTo>
                  <a:pt x="248287" y="88167"/>
                </a:lnTo>
                <a:lnTo>
                  <a:pt x="401000" y="88167"/>
                </a:lnTo>
                <a:lnTo>
                  <a:pt x="401000" y="256225"/>
                </a:lnTo>
                <a:lnTo>
                  <a:pt x="563224" y="256225"/>
                </a:lnTo>
                <a:lnTo>
                  <a:pt x="563224" y="408938"/>
                </a:lnTo>
                <a:lnTo>
                  <a:pt x="401000" y="408938"/>
                </a:lnTo>
                <a:lnTo>
                  <a:pt x="401000" y="576996"/>
                </a:lnTo>
                <a:lnTo>
                  <a:pt x="248287" y="576996"/>
                </a:lnTo>
                <a:lnTo>
                  <a:pt x="248287" y="408938"/>
                </a:lnTo>
                <a:lnTo>
                  <a:pt x="86063" y="408938"/>
                </a:lnTo>
                <a:lnTo>
                  <a:pt x="86063" y="256225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900000" y="1989000"/>
          <a:ext cx="6950160" cy="731880"/>
        </p:xfrm>
        <a:graphic>
          <a:graphicData uri="http://schemas.openxmlformats.org/drawingml/2006/table">
            <a:tbl>
              <a:tblPr/>
              <a:tblGrid>
                <a:gridCol w="695520"/>
                <a:gridCol w="695160"/>
                <a:gridCol w="693720"/>
                <a:gridCol w="695520"/>
                <a:gridCol w="695160"/>
                <a:gridCol w="695520"/>
                <a:gridCol w="695160"/>
                <a:gridCol w="693720"/>
                <a:gridCol w="695520"/>
                <a:gridCol w="6951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t,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I,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,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,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,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,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,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,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  <p:sp>
        <p:nvSpPr>
          <p:cNvPr id="305" name="Стрелка вправо 17">
            <a:hlinkClick r:id="" action="ppaction://hlinkshowjump?jump=nextslide"/>
          </p:cNvPr>
          <p:cNvSpPr/>
          <p:nvPr/>
        </p:nvSpPr>
        <p:spPr>
          <a:xfrm>
            <a:off x="7580160" y="6039000"/>
            <a:ext cx="1482840" cy="706320"/>
          </a:xfrm>
          <a:prstGeom prst="rightArrow">
            <a:avLst>
              <a:gd name="adj1" fmla="val 50000"/>
              <a:gd name="adj2" fmla="val 50016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Picture 2" descr="https://phys-ege.sdamgia.ru/get_file?id=17039"/>
          <p:cNvPicPr/>
          <p:nvPr/>
        </p:nvPicPr>
        <p:blipFill>
          <a:blip r:embed="rId2"/>
          <a:stretch/>
        </p:blipFill>
        <p:spPr>
          <a:xfrm>
            <a:off x="5959440" y="3306600"/>
            <a:ext cx="2479680" cy="14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140" nodeType="clickEffect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146" nodeType="clickEffect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152" nodeType="clickEffect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158" nodeType="clickEffect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164" nodeType="clickEffect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74760" y="76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графике представлены результаты измерения напряжения на реостате U при различных значениях сопротивления реостата R. Погрешность измерения напряжения ΔU = ±0,2 В, сопротивления ΔR = ±0,5 Ом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два утверждения, соответствующие результатам этих измерений.</a:t>
            </a:r>
            <a:endParaRPr b="0" lang="en-US" sz="2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8" name="TextBox 5"/>
          <p:cNvSpPr/>
          <p:nvPr/>
        </p:nvSpPr>
        <p:spPr>
          <a:xfrm>
            <a:off x="1030320" y="2119320"/>
            <a:ext cx="60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меньшением сопротивле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яжение уменьшает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Box 6"/>
          <p:cNvSpPr/>
          <p:nvPr/>
        </p:nvSpPr>
        <p:spPr>
          <a:xfrm>
            <a:off x="1074240" y="3116160"/>
            <a:ext cx="430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При сопротивлении 2 Ом сила т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о равна 0,5 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Box 7"/>
          <p:cNvSpPr/>
          <p:nvPr/>
        </p:nvSpPr>
        <p:spPr>
          <a:xfrm>
            <a:off x="1061640" y="3989520"/>
            <a:ext cx="430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При сопротивлении 1 Ом сила т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пи примерно равна 3 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extBox 8"/>
          <p:cNvSpPr/>
          <p:nvPr/>
        </p:nvSpPr>
        <p:spPr>
          <a:xfrm>
            <a:off x="1068840" y="4913280"/>
            <a:ext cx="706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При сопротивлении 10 Ом сила тока примерно равна 0,48 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TextBox 9"/>
          <p:cNvSpPr/>
          <p:nvPr/>
        </p:nvSpPr>
        <p:spPr>
          <a:xfrm>
            <a:off x="1064520" y="5527800"/>
            <a:ext cx="507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Напряжение не зависит от сопротивл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Прямая соединительная линия 11"/>
          <p:cNvSpPr/>
          <p:nvPr/>
        </p:nvSpPr>
        <p:spPr>
          <a:xfrm>
            <a:off x="1736640" y="3200400"/>
            <a:ext cx="3168720" cy="6238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Прямая соединительная линия 15"/>
          <p:cNvSpPr/>
          <p:nvPr/>
        </p:nvSpPr>
        <p:spPr>
          <a:xfrm>
            <a:off x="1736640" y="5527800"/>
            <a:ext cx="3168720" cy="6238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Прямая соединительная линия 16"/>
          <p:cNvSpPr/>
          <p:nvPr/>
        </p:nvSpPr>
        <p:spPr>
          <a:xfrm>
            <a:off x="1736640" y="4030560"/>
            <a:ext cx="3168720" cy="6238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Плюс 18"/>
          <p:cNvSpPr/>
          <p:nvPr/>
        </p:nvSpPr>
        <p:spPr>
          <a:xfrm>
            <a:off x="379440" y="4781520"/>
            <a:ext cx="650880" cy="665280"/>
          </a:xfrm>
          <a:custGeom>
            <a:avLst/>
            <a:gdLst/>
            <a:ahLst/>
            <a:rect l="l" t="t" r="r" b="b"/>
            <a:pathLst>
              <a:path w="650875" h="665163">
                <a:moveTo>
                  <a:pt x="86273" y="256039"/>
                </a:moveTo>
                <a:lnTo>
                  <a:pt x="248895" y="256039"/>
                </a:lnTo>
                <a:lnTo>
                  <a:pt x="248895" y="88167"/>
                </a:lnTo>
                <a:lnTo>
                  <a:pt x="401980" y="88167"/>
                </a:lnTo>
                <a:lnTo>
                  <a:pt x="401980" y="256039"/>
                </a:lnTo>
                <a:lnTo>
                  <a:pt x="564602" y="256039"/>
                </a:lnTo>
                <a:lnTo>
                  <a:pt x="564602" y="409124"/>
                </a:lnTo>
                <a:lnTo>
                  <a:pt x="401980" y="409124"/>
                </a:lnTo>
                <a:lnTo>
                  <a:pt x="401980" y="576996"/>
                </a:lnTo>
                <a:lnTo>
                  <a:pt x="248895" y="576996"/>
                </a:lnTo>
                <a:lnTo>
                  <a:pt x="248895" y="409124"/>
                </a:lnTo>
                <a:lnTo>
                  <a:pt x="86273" y="409124"/>
                </a:lnTo>
                <a:lnTo>
                  <a:pt x="86273" y="256039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Плюс 20"/>
          <p:cNvSpPr/>
          <p:nvPr/>
        </p:nvSpPr>
        <p:spPr>
          <a:xfrm>
            <a:off x="399960" y="1982880"/>
            <a:ext cx="649440" cy="664920"/>
          </a:xfrm>
          <a:custGeom>
            <a:avLst/>
            <a:gdLst/>
            <a:ahLst/>
            <a:rect l="l" t="t" r="r" b="b"/>
            <a:pathLst>
              <a:path w="649288" h="665162">
                <a:moveTo>
                  <a:pt x="86063" y="256225"/>
                </a:moveTo>
                <a:lnTo>
                  <a:pt x="248288" y="256225"/>
                </a:lnTo>
                <a:lnTo>
                  <a:pt x="248288" y="88167"/>
                </a:lnTo>
                <a:lnTo>
                  <a:pt x="401000" y="88167"/>
                </a:lnTo>
                <a:lnTo>
                  <a:pt x="401000" y="256225"/>
                </a:lnTo>
                <a:lnTo>
                  <a:pt x="563225" y="256225"/>
                </a:lnTo>
                <a:lnTo>
                  <a:pt x="563225" y="408937"/>
                </a:lnTo>
                <a:lnTo>
                  <a:pt x="401000" y="408937"/>
                </a:lnTo>
                <a:lnTo>
                  <a:pt x="401000" y="576995"/>
                </a:lnTo>
                <a:lnTo>
                  <a:pt x="248288" y="576995"/>
                </a:lnTo>
                <a:lnTo>
                  <a:pt x="248288" y="408937"/>
                </a:lnTo>
                <a:lnTo>
                  <a:pt x="86063" y="408937"/>
                </a:lnTo>
                <a:lnTo>
                  <a:pt x="86063" y="256225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Стрелка вправо 17">
            <a:hlinkClick r:id="" action="ppaction://hlinkshowjump?jump=nextslide"/>
          </p:cNvPr>
          <p:cNvSpPr/>
          <p:nvPr/>
        </p:nvSpPr>
        <p:spPr>
          <a:xfrm>
            <a:off x="7580160" y="6039000"/>
            <a:ext cx="1482840" cy="706320"/>
          </a:xfrm>
          <a:prstGeom prst="rightArrow">
            <a:avLst>
              <a:gd name="adj1" fmla="val 50000"/>
              <a:gd name="adj2" fmla="val 50016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Picture 2" descr="https://phys-ege.sdamgia.ru/get_file?id=17054"/>
          <p:cNvPicPr/>
          <p:nvPr/>
        </p:nvPicPr>
        <p:blipFill>
          <a:blip r:embed="rId2"/>
          <a:stretch/>
        </p:blipFill>
        <p:spPr>
          <a:xfrm>
            <a:off x="5327640" y="1666800"/>
            <a:ext cx="36338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171" nodeType="clickEffect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177" nodeType="clickEffect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183" nodeType="clickEffect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189" nodeType="clickEffect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195" nodeType="clickEffect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7640" y="189000"/>
            <a:ext cx="8955000" cy="3960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ьник проводил эксперименты, соединяя друг с другом различными способами батарейку и пронумерованные лампочки. Сопротивление батарейки и соединительных проводов было пренебрежимо мало. Измерительные приборы, которые использовал школьник, можно считать идеальными. Сопротивление всех лампочек не зависит от напряжения, к которому они подключены. Ход своих экспериментов и полученные результаты школьник заносил в лабораторный журнал. Вот что написано в этом журнал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Опыт А). Подсоединил к батарейке лампочку № 1. Сила тока через батарейку 2 А, напряжение на лампочке 8 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Опыт Б). Подключил лампочку № 2 последовательно с лампочкой № 1. Сила тока через лампочку №1 равна 1 А, напряжение на лампочке № 2 составляет 4 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Опыт В). Подсоединил параллельно с лампочкой № 2 лампочку № 3. Сила тока через лампочку № 1 примерно 1,14 А, напряжение на лампочке № 2 примерно 3,44 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Исходя из записей в журнале, выберите два правильных утверждения и запишите в таблицу цифры, под которыми указаны эти утверждения.</a:t>
            </a:r>
            <a:endParaRPr b="0" lang="en-US" sz="1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1" name="TextBox 5"/>
          <p:cNvSpPr/>
          <p:nvPr/>
        </p:nvSpPr>
        <p:spPr>
          <a:xfrm>
            <a:off x="996840" y="416556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мпочки № 1, № 2 и № 3 одинаковы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Box 6"/>
          <p:cNvSpPr/>
          <p:nvPr/>
        </p:nvSpPr>
        <p:spPr>
          <a:xfrm>
            <a:off x="1001160" y="4581360"/>
            <a:ext cx="424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Лампочки № 1 и № 2 одинаковы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Box 7"/>
          <p:cNvSpPr/>
          <p:nvPr/>
        </p:nvSpPr>
        <p:spPr>
          <a:xfrm>
            <a:off x="1001160" y="5046840"/>
            <a:ext cx="424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Лампочки № 2 и № 3 одинаковы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Box 8"/>
          <p:cNvSpPr/>
          <p:nvPr/>
        </p:nvSpPr>
        <p:spPr>
          <a:xfrm>
            <a:off x="1053360" y="5533920"/>
            <a:ext cx="802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Сопротивление лампочки № 3 меньше сопротивления лампочки № 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9"/>
          <p:cNvSpPr/>
          <p:nvPr/>
        </p:nvSpPr>
        <p:spPr>
          <a:xfrm>
            <a:off x="1032480" y="603900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ЭДС батарейки равна 8 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Прямая соединительная линия 11"/>
          <p:cNvSpPr/>
          <p:nvPr/>
        </p:nvSpPr>
        <p:spPr>
          <a:xfrm>
            <a:off x="1522440" y="4240080"/>
            <a:ext cx="3168720" cy="3412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Прямая соединительная линия 15"/>
          <p:cNvSpPr/>
          <p:nvPr/>
        </p:nvSpPr>
        <p:spPr>
          <a:xfrm>
            <a:off x="1476360" y="5575320"/>
            <a:ext cx="3168720" cy="3589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Прямая соединительная линия 16"/>
          <p:cNvSpPr/>
          <p:nvPr/>
        </p:nvSpPr>
        <p:spPr>
          <a:xfrm>
            <a:off x="1476360" y="5097600"/>
            <a:ext cx="3168720" cy="3492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Плюс 18"/>
          <p:cNvSpPr/>
          <p:nvPr/>
        </p:nvSpPr>
        <p:spPr>
          <a:xfrm>
            <a:off x="379440" y="5907240"/>
            <a:ext cx="650880" cy="664920"/>
          </a:xfrm>
          <a:custGeom>
            <a:avLst/>
            <a:gdLst/>
            <a:ahLst/>
            <a:rect l="l" t="t" r="r" b="b"/>
            <a:pathLst>
              <a:path w="650875" h="665162">
                <a:moveTo>
                  <a:pt x="86273" y="256038"/>
                </a:moveTo>
                <a:lnTo>
                  <a:pt x="248895" y="256038"/>
                </a:lnTo>
                <a:lnTo>
                  <a:pt x="248895" y="88167"/>
                </a:lnTo>
                <a:lnTo>
                  <a:pt x="401980" y="88167"/>
                </a:lnTo>
                <a:lnTo>
                  <a:pt x="401980" y="256038"/>
                </a:lnTo>
                <a:lnTo>
                  <a:pt x="564602" y="256038"/>
                </a:lnTo>
                <a:lnTo>
                  <a:pt x="564602" y="409124"/>
                </a:lnTo>
                <a:lnTo>
                  <a:pt x="401980" y="409124"/>
                </a:lnTo>
                <a:lnTo>
                  <a:pt x="401980" y="576995"/>
                </a:lnTo>
                <a:lnTo>
                  <a:pt x="248895" y="576995"/>
                </a:lnTo>
                <a:lnTo>
                  <a:pt x="248895" y="409124"/>
                </a:lnTo>
                <a:lnTo>
                  <a:pt x="86273" y="409124"/>
                </a:lnTo>
                <a:lnTo>
                  <a:pt x="86273" y="256038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Плюс 20"/>
          <p:cNvSpPr/>
          <p:nvPr/>
        </p:nvSpPr>
        <p:spPr>
          <a:xfrm>
            <a:off x="347760" y="4448160"/>
            <a:ext cx="649080" cy="665280"/>
          </a:xfrm>
          <a:custGeom>
            <a:avLst/>
            <a:gdLst/>
            <a:ahLst/>
            <a:rect l="l" t="t" r="r" b="b"/>
            <a:pathLst>
              <a:path w="649287" h="665163">
                <a:moveTo>
                  <a:pt x="86063" y="256225"/>
                </a:moveTo>
                <a:lnTo>
                  <a:pt x="248287" y="256225"/>
                </a:lnTo>
                <a:lnTo>
                  <a:pt x="248287" y="88167"/>
                </a:lnTo>
                <a:lnTo>
                  <a:pt x="401000" y="88167"/>
                </a:lnTo>
                <a:lnTo>
                  <a:pt x="401000" y="256225"/>
                </a:lnTo>
                <a:lnTo>
                  <a:pt x="563224" y="256225"/>
                </a:lnTo>
                <a:lnTo>
                  <a:pt x="563224" y="408938"/>
                </a:lnTo>
                <a:lnTo>
                  <a:pt x="401000" y="408938"/>
                </a:lnTo>
                <a:lnTo>
                  <a:pt x="401000" y="576996"/>
                </a:lnTo>
                <a:lnTo>
                  <a:pt x="248287" y="576996"/>
                </a:lnTo>
                <a:lnTo>
                  <a:pt x="248287" y="408938"/>
                </a:lnTo>
                <a:lnTo>
                  <a:pt x="86063" y="408938"/>
                </a:lnTo>
                <a:lnTo>
                  <a:pt x="86063" y="256225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Стрелка вправо 17">
            <a:hlinkClick r:id="" action="ppaction://hlinkshowjump?jump=nextslide"/>
          </p:cNvPr>
          <p:cNvSpPr/>
          <p:nvPr/>
        </p:nvSpPr>
        <p:spPr>
          <a:xfrm>
            <a:off x="7580160" y="6039000"/>
            <a:ext cx="1482840" cy="706320"/>
          </a:xfrm>
          <a:prstGeom prst="rightArrow">
            <a:avLst>
              <a:gd name="adj1" fmla="val 50000"/>
              <a:gd name="adj2" fmla="val 50016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Picture 14" descr=""/>
          <p:cNvPicPr/>
          <p:nvPr/>
        </p:nvPicPr>
        <p:blipFill>
          <a:blip r:embed="rId2"/>
          <a:srcRect l="7557" t="0" r="-684" b="0"/>
          <a:stretch/>
        </p:blipFill>
        <p:spPr>
          <a:xfrm>
            <a:off x="6624720" y="3973680"/>
            <a:ext cx="1911240" cy="133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" dur="indefinite" restart="never" nodeType="tmRoot">
          <p:childTnLst>
            <p:seq>
              <p:cTn id="201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202" nodeType="clickEffect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208" nodeType="clickEffect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214" nodeType="clickEffect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220" nodeType="clickEffect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226" nodeType="clickEffect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27T16:10:50Z</dcterms:created>
  <dc:creator>Виктория</dc:creator>
  <dc:description/>
  <dc:language>en-US</dc:language>
  <cp:lastModifiedBy>Виктория Пахомычева</cp:lastModifiedBy>
  <dcterms:modified xsi:type="dcterms:W3CDTF">2024-02-09T17:34:43Z</dcterms:modified>
  <cp:revision>35</cp:revision>
  <dc:subject/>
  <dc:title>Презентация PowerPoint</dc:title>
</cp:coreProperties>
</file>