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568-DB55-4C05-A426-7744FC93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A85-973B-4876-BCED-844793D2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B5F-C72D-43D8-9188-C7B59029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2F4-FC46-494D-A758-FFB6BFF7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9E0A-4155-45E3-B3E7-F844AF60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9660-A9CD-42E0-B90A-C9617DA5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8D01-4A34-4858-8F70-76A0A6C9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802A-6247-483C-B5ED-1D63BAF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4F4E-FFF8-4CF5-87B0-ABA5665F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0FCC-A2C0-431C-BA47-0028F612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15D5-0B2E-4B37-809B-EE22E006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863-E6BB-4073-A1F7-7CB0A495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A94E-7998-411F-B18B-7EB230B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10A0-ED6B-4092-A277-8DACE1C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70F-463D-4A18-A261-6838036C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CD1B-46F2-4241-8726-9B91D045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8E53-6768-40FD-8ABE-28CEE175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8A9A-8F83-49D4-80DE-1E16F62D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97ED-606C-4305-BCE1-C86A77EB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205D-D03E-4B5A-BDB9-AB705EEB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8922-F2E9-4457-A84F-9BE62522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384A-3CE8-43EC-A4E2-AF90029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2B6-65E0-4353-A5DE-706BD380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39E0-3CCD-4E0B-9138-3AD26252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4B96-5C75-416B-804A-1031383E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F5A9-4546-441D-A5E2-BE7A449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0139-D0D2-4ACE-8394-244A55EF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939E-4F2F-4941-9405-8437E6FB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699B-1567-46ED-838A-D1BB081E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A349-88BD-40B0-8D03-A0B4AB7C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9427-9506-42E0-B372-AC0BAF9C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7D582-BFFC-4054-8EC2-77C394FA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1F3B-22D1-4DEE-9230-3209AAD4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6BC-8BEA-421A-8A0F-1AE11FE1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68A9E-CA11-44FD-BC8F-B5969FB7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6B7E9-E5CB-4D41-9FD1-AE7F0BC1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C30E-0548-4A48-A1C9-34378C31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1ADD-89A4-4882-8050-286CDC5C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F7B4B-8398-478E-B831-407B6069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4581A-3F89-4BAE-9933-D4DC32BD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79BD-5AE9-400B-8EE8-E00F67D9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5F3AC-5A8F-46F8-AFA5-1A9116A1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6093-6EC2-4867-9F14-4EC0EE72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EA93A-FC96-452A-93E0-65D1990F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BA0-C050-48D9-8FC5-908F79C9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712A5-3B81-4309-9714-524DE50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F1205-B1C2-492B-823B-A2B313E4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51756-68F1-40C4-BAAC-9D920E52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E8E01-08D7-49F8-B641-A876D9ED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0A704-AA0F-499F-9440-C5788EB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57CCE-4C3C-4DEE-AD62-724898C6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FBC0F-6B61-4606-BD82-3A8D2B8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24FCB-8BD1-4DC3-B87A-9156E906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22CF5-206D-4C49-A056-7D30570D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9E3D-1793-46DA-90E4-5CEBAA76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443-803F-44CD-92FF-580FD031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EA37-E772-4EBE-ACBF-9471E263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E42-64E6-4527-9433-D8C00801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FC5-6EAC-4374-901A-E4646010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F94-B82B-4FED-9226-47151A92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8348-AA2A-40AC-B56A-935FBF23E1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1B67-BA51-42BC-A655-61DBC0DF1B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1E7F-FF87-4F9E-99D1-69355C635C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777D-8AE3-4540-8342-51AC43C040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D462-E844-49B5-A7EB-5B1B44F5CF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phys-ege.sdamgia.ru/" TargetMode="External"/><Relationship Id="rId2" Type="http://schemas.openxmlformats.org/officeDocument/2006/relationships/hyperlink" Target="https://phys-ege.sdamgia.ru/" TargetMode="External"/><Relationship Id="rId3" Type="http://schemas.openxmlformats.org/officeDocument/2006/relationships/hyperlink" Target="https://phys-ege.sdamgia.ru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640" y="1338120"/>
            <a:ext cx="8785080" cy="1827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для самоконтроля: «Законы постоянного тока»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6" descr="https://helpiks.org/helpiksorg/baza6/271239921311.files/image002.jpg"/>
          <p:cNvPicPr/>
          <p:nvPr/>
        </p:nvPicPr>
        <p:blipFill>
          <a:blip r:embed="rId1"/>
          <a:stretch/>
        </p:blipFill>
        <p:spPr>
          <a:xfrm>
            <a:off x="5435640" y="3141720"/>
            <a:ext cx="2886120" cy="24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https://5terka.com/images/fiz11kas/voprindex-5.jpg"/>
          <p:cNvPicPr/>
          <p:nvPr/>
        </p:nvPicPr>
        <p:blipFill>
          <a:blip r:embed="rId2"/>
          <a:srcRect l="6662" t="11790" r="3989" b="25669"/>
          <a:stretch/>
        </p:blipFill>
        <p:spPr>
          <a:xfrm>
            <a:off x="1042920" y="3141720"/>
            <a:ext cx="3181320" cy="2469960"/>
          </a:xfrm>
          <a:prstGeom prst="rect">
            <a:avLst/>
          </a:prstGeom>
          <a:ln w="0">
            <a:noFill/>
          </a:ln>
        </p:spPr>
      </p:pic>
      <p:sp>
        <p:nvSpPr>
          <p:cNvPr id="231" name="Стрелка вправо 10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s://phys-ege.sdamgia.ru/get_file?id=25219"/>
          <p:cNvPicPr/>
          <p:nvPr/>
        </p:nvPicPr>
        <p:blipFill>
          <a:blip r:embed="rId1"/>
          <a:stretch/>
        </p:blipFill>
        <p:spPr>
          <a:xfrm>
            <a:off x="2124000" y="1447920"/>
            <a:ext cx="4619880" cy="23716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1120" y="1303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а зависимость силы тока через лампу накаливания от приложенного к ней напряжения. Выберите два верных утверждения, которые можно сделать, анализируя этот график.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770040" y="38196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лампы не зависит от приложенного напря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785880" y="4313160"/>
            <a:ext cx="81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ощность, выделяемая в лампе при напряжении 110 В, равна 38,5 В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790560" y="4775040"/>
            <a:ext cx="79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ощность, выделяемая в лампе при напряжении 170 В, равна 40 В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803520" y="5235480"/>
            <a:ext cx="74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противление лампы при силе тока в ней 0,15 А равно 200 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9"/>
          <p:cNvSpPr/>
          <p:nvPr/>
        </p:nvSpPr>
        <p:spPr>
          <a:xfrm>
            <a:off x="804240" y="5722920"/>
            <a:ext cx="70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опротивление лампы при напряжении 100 В равно 400 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ая соединительная линия 11"/>
          <p:cNvSpPr/>
          <p:nvPr/>
        </p:nvSpPr>
        <p:spPr>
          <a:xfrm>
            <a:off x="1979640" y="3882960"/>
            <a:ext cx="3271680" cy="3366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15"/>
          <p:cNvSpPr/>
          <p:nvPr/>
        </p:nvSpPr>
        <p:spPr>
          <a:xfrm>
            <a:off x="1979640" y="4834080"/>
            <a:ext cx="3168720" cy="342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ая соединительная линия 16"/>
          <p:cNvSpPr/>
          <p:nvPr/>
        </p:nvSpPr>
        <p:spPr>
          <a:xfrm>
            <a:off x="1979640" y="5769000"/>
            <a:ext cx="3168720" cy="35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люс 18"/>
          <p:cNvSpPr/>
          <p:nvPr/>
        </p:nvSpPr>
        <p:spPr>
          <a:xfrm>
            <a:off x="130320" y="4179960"/>
            <a:ext cx="650880" cy="66492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люс 20"/>
          <p:cNvSpPr/>
          <p:nvPr/>
        </p:nvSpPr>
        <p:spPr>
          <a:xfrm>
            <a:off x="130320" y="5103720"/>
            <a:ext cx="649080" cy="665280"/>
          </a:xfrm>
          <a:custGeom>
            <a:avLst/>
            <a:gdLst/>
            <a:ahLst/>
            <a:rect l="l" t="t" r="r" b="b"/>
            <a:pathLst>
              <a:path w="649288" h="665162">
                <a:moveTo>
                  <a:pt x="86063" y="256225"/>
                </a:moveTo>
                <a:lnTo>
                  <a:pt x="248288" y="256225"/>
                </a:lnTo>
                <a:lnTo>
                  <a:pt x="248288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5" y="256225"/>
                </a:lnTo>
                <a:lnTo>
                  <a:pt x="563225" y="408937"/>
                </a:lnTo>
                <a:lnTo>
                  <a:pt x="401000" y="408937"/>
                </a:lnTo>
                <a:lnTo>
                  <a:pt x="401000" y="576995"/>
                </a:lnTo>
                <a:lnTo>
                  <a:pt x="248288" y="576995"/>
                </a:lnTo>
                <a:lnTo>
                  <a:pt x="248288" y="408937"/>
                </a:lnTo>
                <a:lnTo>
                  <a:pt x="86063" y="408937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s://phys-ege.sdamgia.ru/get_file?id=45767"/>
          <p:cNvPicPr/>
          <p:nvPr/>
        </p:nvPicPr>
        <p:blipFill>
          <a:blip r:embed="rId1"/>
          <a:stretch/>
        </p:blipFill>
        <p:spPr>
          <a:xfrm>
            <a:off x="5477040" y="1541520"/>
            <a:ext cx="3435120" cy="2260440"/>
          </a:xfrm>
          <a:prstGeom prst="rect">
            <a:avLst/>
          </a:prstGeom>
          <a:ln w="0">
            <a:noFill/>
          </a:ln>
        </p:spPr>
      </p:pic>
      <p:pic>
        <p:nvPicPr>
          <p:cNvPr id="347" name="Заголовок 3" descr=""/>
          <p:cNvPicPr/>
          <p:nvPr/>
        </p:nvPicPr>
        <p:blipFill>
          <a:blip r:embed="rId2"/>
          <a:stretch/>
        </p:blipFill>
        <p:spPr>
          <a:xfrm>
            <a:off x="407880" y="128520"/>
            <a:ext cx="8229600" cy="18590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5"/>
          <p:cNvSpPr/>
          <p:nvPr/>
        </p:nvSpPr>
        <p:spPr>
          <a:xfrm>
            <a:off x="555480" y="203364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Так как при замкнутом ключе ток через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тор не течёт, то напряжение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торе равно ну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596880" y="3114720"/>
            <a:ext cx="61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замкнутом ключе сумма напряж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зисторах больше напряжения на конденсато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588240" y="3908520"/>
            <a:ext cx="75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пряжение на конденсаторе равно ЭДС источника напря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TextBox 8" descr=""/>
          <p:cNvPicPr/>
          <p:nvPr/>
        </p:nvPicPr>
        <p:blipFill>
          <a:blip r:embed="rId3"/>
          <a:stretch/>
        </p:blipFill>
        <p:spPr>
          <a:xfrm>
            <a:off x="585720" y="4462560"/>
            <a:ext cx="7021440" cy="70632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9" descr=""/>
          <p:cNvPicPr/>
          <p:nvPr/>
        </p:nvPicPr>
        <p:blipFill>
          <a:blip r:embed="rId4"/>
          <a:stretch/>
        </p:blipFill>
        <p:spPr>
          <a:xfrm>
            <a:off x="585720" y="5273640"/>
            <a:ext cx="8015400" cy="10177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ая соединительная линия 11"/>
          <p:cNvSpPr/>
          <p:nvPr/>
        </p:nvSpPr>
        <p:spPr>
          <a:xfrm>
            <a:off x="1332000" y="2033640"/>
            <a:ext cx="3417840" cy="747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ая соединительная линия 15"/>
          <p:cNvSpPr/>
          <p:nvPr/>
        </p:nvSpPr>
        <p:spPr>
          <a:xfrm>
            <a:off x="1332000" y="3100320"/>
            <a:ext cx="3417840" cy="67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ая соединительная линия 16"/>
          <p:cNvSpPr/>
          <p:nvPr/>
        </p:nvSpPr>
        <p:spPr>
          <a:xfrm>
            <a:off x="1187280" y="5273640"/>
            <a:ext cx="3562560" cy="892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люс 18"/>
          <p:cNvSpPr/>
          <p:nvPr/>
        </p:nvSpPr>
        <p:spPr>
          <a:xfrm>
            <a:off x="20520" y="377496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люс 20"/>
          <p:cNvSpPr/>
          <p:nvPr/>
        </p:nvSpPr>
        <p:spPr>
          <a:xfrm>
            <a:off x="20520" y="4438800"/>
            <a:ext cx="649440" cy="664920"/>
          </a:xfrm>
          <a:custGeom>
            <a:avLst/>
            <a:gdLst/>
            <a:ahLst/>
            <a:rect l="l" t="t" r="r" b="b"/>
            <a:pathLst>
              <a:path w="649287" h="665163">
                <a:moveTo>
                  <a:pt x="86063" y="256225"/>
                </a:moveTo>
                <a:lnTo>
                  <a:pt x="248287" y="256225"/>
                </a:lnTo>
                <a:lnTo>
                  <a:pt x="248287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4" y="256225"/>
                </a:lnTo>
                <a:lnTo>
                  <a:pt x="563224" y="408938"/>
                </a:lnTo>
                <a:lnTo>
                  <a:pt x="401000" y="408938"/>
                </a:lnTo>
                <a:lnTo>
                  <a:pt x="401000" y="576996"/>
                </a:lnTo>
                <a:lnTo>
                  <a:pt x="248287" y="576996"/>
                </a:lnTo>
                <a:lnTo>
                  <a:pt x="248287" y="408938"/>
                </a:lnTo>
                <a:lnTo>
                  <a:pt x="86063" y="408938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точников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94920" y="1447920"/>
            <a:ext cx="8497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10 задани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https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://phys-ege.sdamgia.ru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айт Д.Д. Гущина «Решу ЕГЭ/Сдам ГИА»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3 задани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 2007–2008. Физика : сборник заданий / Г.Г. Никифоров, В.А. Орлов, Н.К. Ханнанов. – М. : Эксмо, 2007. – 240 с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задание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: новый полный справочник для подготовки к единому государственному экзамену / Н.С. Пурышева, Е.Э. Ратбиль. – Москва : АСТ : Астрель, 2016. – 319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: ил. – (Государственная итоговая аттестация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Стрелка вправо 4">
            <a:hlinkClick r:id="" action="ppaction://hlinkshowjump?jump=endshow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13600" cy="205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сопротивление проводника, если его разрезать на две равные части и соединить эти части параллельно?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916360" y="333864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968920" y="399420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меньшится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968920" y="466236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меньшится в 4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2963880" y="52880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величится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ая соединительная линия 11"/>
          <p:cNvSpPr/>
          <p:nvPr/>
        </p:nvSpPr>
        <p:spPr>
          <a:xfrm>
            <a:off x="3344760" y="3333600"/>
            <a:ext cx="2235240" cy="478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ая соединительная линия 15"/>
          <p:cNvSpPr/>
          <p:nvPr/>
        </p:nvSpPr>
        <p:spPr>
          <a:xfrm>
            <a:off x="3417840" y="4035600"/>
            <a:ext cx="2378160" cy="4824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ая соединительная линия 16"/>
          <p:cNvSpPr/>
          <p:nvPr/>
        </p:nvSpPr>
        <p:spPr>
          <a:xfrm>
            <a:off x="3427560" y="5316480"/>
            <a:ext cx="2234880" cy="523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люс 18"/>
          <p:cNvSpPr/>
          <p:nvPr/>
        </p:nvSpPr>
        <p:spPr>
          <a:xfrm>
            <a:off x="2265480" y="4592520"/>
            <a:ext cx="650880" cy="66528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2"/>
          <a:srcRect l="37773" t="29035" r="40631" b="64341"/>
          <a:stretch/>
        </p:blipFill>
        <p:spPr>
          <a:xfrm rot="598800">
            <a:off x="6192360" y="496800"/>
            <a:ext cx="2810160" cy="4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0120" y="765000"/>
            <a:ext cx="8013600" cy="144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между точками А и 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ой цепи, представленной на рисунке, равно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1332000" y="281448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1341000" y="360504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6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1328040" y="43657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4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1341000" y="50608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12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11"/>
          <p:cNvSpPr/>
          <p:nvPr/>
        </p:nvSpPr>
        <p:spPr>
          <a:xfrm>
            <a:off x="1503360" y="2859120"/>
            <a:ext cx="1670040" cy="35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15"/>
          <p:cNvSpPr/>
          <p:nvPr/>
        </p:nvSpPr>
        <p:spPr>
          <a:xfrm>
            <a:off x="1503360" y="4365720"/>
            <a:ext cx="1670040" cy="441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ая соединительная линия 16"/>
          <p:cNvSpPr/>
          <p:nvPr/>
        </p:nvSpPr>
        <p:spPr>
          <a:xfrm>
            <a:off x="1503360" y="5114880"/>
            <a:ext cx="1670040" cy="469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люс 18"/>
          <p:cNvSpPr/>
          <p:nvPr/>
        </p:nvSpPr>
        <p:spPr>
          <a:xfrm>
            <a:off x="498600" y="353376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http://www.soloby.ru/?qa=blob&amp;qa_blobid=14817370346745592109"/>
          <p:cNvPicPr/>
          <p:nvPr/>
        </p:nvPicPr>
        <p:blipFill>
          <a:blip r:embed="rId2"/>
          <a:srcRect l="53458" t="6560" r="2271" b="31234"/>
          <a:stretch/>
        </p:blipFill>
        <p:spPr>
          <a:xfrm>
            <a:off x="4272120" y="2552760"/>
            <a:ext cx="444312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305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три утвержд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енебречь потерями на трение, то работа тока при работе электродвигателя, равномерно поднимающего груз, приводит к увеличени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отенциальной энергии груз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кинетической энергии груз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нутренней энергии обмотки электродвигате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них верны?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3173400" y="353376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3182040" y="410364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А и 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3181680" y="482616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Б и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9"/>
          <p:cNvSpPr/>
          <p:nvPr/>
        </p:nvSpPr>
        <p:spPr>
          <a:xfrm>
            <a:off x="3182760" y="55148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 и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11"/>
          <p:cNvSpPr/>
          <p:nvPr/>
        </p:nvSpPr>
        <p:spPr>
          <a:xfrm>
            <a:off x="3333600" y="3595680"/>
            <a:ext cx="1668600" cy="35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ая соединительная линия 15"/>
          <p:cNvSpPr/>
          <p:nvPr/>
        </p:nvSpPr>
        <p:spPr>
          <a:xfrm>
            <a:off x="3338640" y="4157640"/>
            <a:ext cx="1668240" cy="441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ая соединительная линия 16"/>
          <p:cNvSpPr/>
          <p:nvPr/>
        </p:nvSpPr>
        <p:spPr>
          <a:xfrm>
            <a:off x="3338640" y="4881600"/>
            <a:ext cx="1668240" cy="468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люс 18"/>
          <p:cNvSpPr/>
          <p:nvPr/>
        </p:nvSpPr>
        <p:spPr>
          <a:xfrm>
            <a:off x="2522520" y="544500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https://polaremont.ru/news/wp-content/uploads/2019/10/233662-vms-Elektrodvigatel-postoyannogo-toka.jpg"/>
          <p:cNvPicPr/>
          <p:nvPr/>
        </p:nvPicPr>
        <p:blipFill>
          <a:blip r:embed="rId2"/>
          <a:stretch/>
        </p:blipFill>
        <p:spPr>
          <a:xfrm>
            <a:off x="5952960" y="3652920"/>
            <a:ext cx="2737080" cy="20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s://phys-ege.sdamgia.ru/get_file?id=15860"/>
          <p:cNvPicPr/>
          <p:nvPr/>
        </p:nvPicPr>
        <p:blipFill>
          <a:blip r:embed="rId1"/>
          <a:stretch/>
        </p:blipFill>
        <p:spPr>
          <a:xfrm>
            <a:off x="6411960" y="2362320"/>
            <a:ext cx="2454120" cy="3673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1120" y="129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. 1 приведена схема установки, с помощью которой исследовалась зависимость напряжения на реостате от величины протекающего тока при движении ползунка реостата справа налево. На рис. 2 приведены графики, построенные по результатам измерений для двух разных источников напряжения. Выберите два утверждения, соответствующих результатам этих опытов, и запишите в ответ цифры, под которыми указаны эти утверждения. Вольтметр считать идеальным.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187280" y="258300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иле тока 12 А вольтметр показывает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ЭДС источ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175040" y="348624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ок короткого замыкания равен 12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197720" y="4048200"/>
            <a:ext cx="520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о втором опыте сопротивление резист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лось с большей скор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1182240" y="4941720"/>
            <a:ext cx="503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о втором опыте ЭДС источника в 2 раз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, чем в пер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1188720" y="5838840"/>
            <a:ext cx="51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 первом опыте ЭДС источника равна 5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ая соединительная линия 11"/>
          <p:cNvSpPr/>
          <p:nvPr/>
        </p:nvSpPr>
        <p:spPr>
          <a:xfrm>
            <a:off x="1876320" y="26384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ая соединительная линия 15"/>
          <p:cNvSpPr/>
          <p:nvPr/>
        </p:nvSpPr>
        <p:spPr>
          <a:xfrm>
            <a:off x="1860480" y="40892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1871640" y="58388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люс 18"/>
          <p:cNvSpPr/>
          <p:nvPr/>
        </p:nvSpPr>
        <p:spPr>
          <a:xfrm>
            <a:off x="392040" y="3354480"/>
            <a:ext cx="650880" cy="66492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люс 20"/>
          <p:cNvSpPr/>
          <p:nvPr/>
        </p:nvSpPr>
        <p:spPr>
          <a:xfrm>
            <a:off x="446040" y="4835520"/>
            <a:ext cx="649440" cy="665280"/>
          </a:xfrm>
          <a:custGeom>
            <a:avLst/>
            <a:gdLst/>
            <a:ahLst/>
            <a:rect l="l" t="t" r="r" b="b"/>
            <a:pathLst>
              <a:path w="649287" h="665163">
                <a:moveTo>
                  <a:pt x="86063" y="256225"/>
                </a:moveTo>
                <a:lnTo>
                  <a:pt x="248287" y="256225"/>
                </a:lnTo>
                <a:lnTo>
                  <a:pt x="248287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4" y="256225"/>
                </a:lnTo>
                <a:lnTo>
                  <a:pt x="563224" y="408938"/>
                </a:lnTo>
                <a:lnTo>
                  <a:pt x="401000" y="408938"/>
                </a:lnTo>
                <a:lnTo>
                  <a:pt x="401000" y="576996"/>
                </a:lnTo>
                <a:lnTo>
                  <a:pt x="248287" y="576996"/>
                </a:lnTo>
                <a:lnTo>
                  <a:pt x="248287" y="408938"/>
                </a:lnTo>
                <a:lnTo>
                  <a:pt x="86063" y="408938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Стрелка вправо 1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9720" y="40464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тор подключен к источнику тока последовательно с резистором R = 20 кОм (см. рисунок). В момент времени t = 0 ключ замыкают. В этот момент конденсатор полностью разряжен. Результаты измерений силы тока в цепи, выполненных с точностью ±1 мкА, представлены в таблице</a:t>
            </a: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187280" y="281448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через резистор в процессе наблю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1197360" y="3716280"/>
            <a:ext cx="43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Через 6 с после замыкания ключ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тор полностью зарядил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1190160" y="450864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ЭДС источника тока составляет 6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1202760" y="5014800"/>
            <a:ext cx="73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 момент времени t = 3 с напряжение на резисторе равно 0,6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1195560" y="562752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 момент времени t = 3 с напряжение на конденсаторе равно 5,7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Прямая соединительная линия 11"/>
          <p:cNvSpPr/>
          <p:nvPr/>
        </p:nvSpPr>
        <p:spPr>
          <a:xfrm>
            <a:off x="1812960" y="285588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Прямая соединительная линия 15"/>
          <p:cNvSpPr/>
          <p:nvPr/>
        </p:nvSpPr>
        <p:spPr>
          <a:xfrm>
            <a:off x="1933560" y="49910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Прямая соединительная линия 16"/>
          <p:cNvSpPr/>
          <p:nvPr/>
        </p:nvSpPr>
        <p:spPr>
          <a:xfrm>
            <a:off x="1933560" y="37544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люс 18"/>
          <p:cNvSpPr/>
          <p:nvPr/>
        </p:nvSpPr>
        <p:spPr>
          <a:xfrm>
            <a:off x="538200" y="5494320"/>
            <a:ext cx="650880" cy="66528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Плюс 20"/>
          <p:cNvSpPr/>
          <p:nvPr/>
        </p:nvSpPr>
        <p:spPr>
          <a:xfrm>
            <a:off x="539640" y="4424400"/>
            <a:ext cx="649440" cy="665280"/>
          </a:xfrm>
          <a:custGeom>
            <a:avLst/>
            <a:gdLst/>
            <a:ahLst/>
            <a:rect l="l" t="t" r="r" b="b"/>
            <a:pathLst>
              <a:path w="649288" h="665162">
                <a:moveTo>
                  <a:pt x="86063" y="256225"/>
                </a:moveTo>
                <a:lnTo>
                  <a:pt x="248288" y="256225"/>
                </a:lnTo>
                <a:lnTo>
                  <a:pt x="248288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5" y="256225"/>
                </a:lnTo>
                <a:lnTo>
                  <a:pt x="563225" y="408937"/>
                </a:lnTo>
                <a:lnTo>
                  <a:pt x="401000" y="408937"/>
                </a:lnTo>
                <a:lnTo>
                  <a:pt x="401000" y="576995"/>
                </a:lnTo>
                <a:lnTo>
                  <a:pt x="248288" y="576995"/>
                </a:lnTo>
                <a:lnTo>
                  <a:pt x="248288" y="408937"/>
                </a:lnTo>
                <a:lnTo>
                  <a:pt x="86063" y="408937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89080" y="1989000"/>
          <a:ext cx="6681600" cy="731880"/>
        </p:xfrm>
        <a:graphic>
          <a:graphicData uri="http://schemas.openxmlformats.org/drawingml/2006/table">
            <a:tbl>
              <a:tblPr/>
              <a:tblGrid>
                <a:gridCol w="834840"/>
                <a:gridCol w="835200"/>
                <a:gridCol w="834840"/>
                <a:gridCol w="835200"/>
                <a:gridCol w="836640"/>
                <a:gridCol w="834840"/>
                <a:gridCol w="835200"/>
                <a:gridCol w="834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t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pic>
        <p:nvPicPr>
          <p:cNvPr id="291" name="Picture 2" descr="https://phys-ege.sdamgia.ru/get_file?id=17033"/>
          <p:cNvPicPr/>
          <p:nvPr/>
        </p:nvPicPr>
        <p:blipFill>
          <a:blip r:embed="rId1"/>
          <a:stretch/>
        </p:blipFill>
        <p:spPr>
          <a:xfrm>
            <a:off x="6189840" y="3276720"/>
            <a:ext cx="2401560" cy="1587240"/>
          </a:xfrm>
          <a:prstGeom prst="rect">
            <a:avLst/>
          </a:prstGeom>
          <a:ln w="0">
            <a:noFill/>
          </a:ln>
        </p:spPr>
      </p:pic>
      <p:sp>
        <p:nvSpPr>
          <p:cNvPr id="292" name="Стрелка вправо 17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972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ушка индуктивности подключена к источнику тока с пренебрежимо малым внутренним сопротивлением через резистор R = 40 Ом (см. рисунок). В момент t = 0 ключ K замыкают. Значения силы тока в цепи, измеренные в последовательные моменты времени с точностью ±0,01 А, представлены в таблице.</a:t>
            </a: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1047600" y="280368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 через резистор в процессе наблюд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я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1090440" y="3505320"/>
            <a:ext cx="479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Через 5 с после замыкания ключа т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катушку полностью прекратил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1048680" y="434664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ЭДС источника тока составляе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1060560" y="4913280"/>
            <a:ext cx="80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 момент времени t = 3,0 с ЭДС самоиндукции катушки равно 0,29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1168200" y="5527800"/>
            <a:ext cx="75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 момент времени t = 1,0 с напряжение на резисторе равно 7,6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ая соединительная линия 11"/>
          <p:cNvSpPr/>
          <p:nvPr/>
        </p:nvSpPr>
        <p:spPr>
          <a:xfrm>
            <a:off x="1933560" y="284652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>
            <a:off x="1933560" y="487836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ая соединительная линия 16"/>
          <p:cNvSpPr/>
          <p:nvPr/>
        </p:nvSpPr>
        <p:spPr>
          <a:xfrm>
            <a:off x="1901880" y="351144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люс 18"/>
          <p:cNvSpPr/>
          <p:nvPr/>
        </p:nvSpPr>
        <p:spPr>
          <a:xfrm>
            <a:off x="398520" y="539424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люс 20"/>
          <p:cNvSpPr/>
          <p:nvPr/>
        </p:nvSpPr>
        <p:spPr>
          <a:xfrm>
            <a:off x="398520" y="4213080"/>
            <a:ext cx="649080" cy="665280"/>
          </a:xfrm>
          <a:custGeom>
            <a:avLst/>
            <a:gdLst/>
            <a:ahLst/>
            <a:rect l="l" t="t" r="r" b="b"/>
            <a:pathLst>
              <a:path w="649287" h="665163">
                <a:moveTo>
                  <a:pt x="86063" y="256225"/>
                </a:moveTo>
                <a:lnTo>
                  <a:pt x="248287" y="256225"/>
                </a:lnTo>
                <a:lnTo>
                  <a:pt x="248287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4" y="256225"/>
                </a:lnTo>
                <a:lnTo>
                  <a:pt x="563224" y="408938"/>
                </a:lnTo>
                <a:lnTo>
                  <a:pt x="401000" y="408938"/>
                </a:lnTo>
                <a:lnTo>
                  <a:pt x="401000" y="576996"/>
                </a:lnTo>
                <a:lnTo>
                  <a:pt x="248287" y="576996"/>
                </a:lnTo>
                <a:lnTo>
                  <a:pt x="248287" y="408938"/>
                </a:lnTo>
                <a:lnTo>
                  <a:pt x="86063" y="408938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00000" y="1989000"/>
          <a:ext cx="6950160" cy="731880"/>
        </p:xfrm>
        <a:graphic>
          <a:graphicData uri="http://schemas.openxmlformats.org/drawingml/2006/table">
            <a:tbl>
              <a:tblPr/>
              <a:tblGrid>
                <a:gridCol w="695520"/>
                <a:gridCol w="695160"/>
                <a:gridCol w="693720"/>
                <a:gridCol w="695520"/>
                <a:gridCol w="695160"/>
                <a:gridCol w="695520"/>
                <a:gridCol w="695160"/>
                <a:gridCol w="693720"/>
                <a:gridCol w="695520"/>
                <a:gridCol w="695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t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305" name="Стрелка вправо 17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2" descr="https://phys-ege.sdamgia.ru/get_file?id=17039"/>
          <p:cNvPicPr/>
          <p:nvPr/>
        </p:nvPicPr>
        <p:blipFill>
          <a:blip r:embed="rId2"/>
          <a:stretch/>
        </p:blipFill>
        <p:spPr>
          <a:xfrm>
            <a:off x="5959440" y="3306600"/>
            <a:ext cx="24796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7476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афике представлены результаты измерения напряжения на реостате U при различных значениях сопротивления реостата R. Погрешность измерения напряжения ΔU = ±0,2 В, сопротивления ΔR = ±0,5 Ом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два утверждения, соответствующие результатам этих измерений.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1030320" y="21193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меньшением сопротив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умень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1074240" y="3116160"/>
            <a:ext cx="430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сопротивлении 2 Ом сила т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 равна 0,5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1061640" y="3989520"/>
            <a:ext cx="430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и сопротивлении 1 Ом сила т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пи примерно равна 3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1068840" y="4913280"/>
            <a:ext cx="706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и сопротивлении 10 Ом сила тока примерно равна 0,48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1064520" y="552780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апряжение не зависит от сопроти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ая соединительная линия 11"/>
          <p:cNvSpPr/>
          <p:nvPr/>
        </p:nvSpPr>
        <p:spPr>
          <a:xfrm>
            <a:off x="1736640" y="320040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ая соединительная линия 15"/>
          <p:cNvSpPr/>
          <p:nvPr/>
        </p:nvSpPr>
        <p:spPr>
          <a:xfrm>
            <a:off x="1736640" y="552780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ая соединительная линия 16"/>
          <p:cNvSpPr/>
          <p:nvPr/>
        </p:nvSpPr>
        <p:spPr>
          <a:xfrm>
            <a:off x="1736640" y="4030560"/>
            <a:ext cx="3168720" cy="623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люс 18"/>
          <p:cNvSpPr/>
          <p:nvPr/>
        </p:nvSpPr>
        <p:spPr>
          <a:xfrm>
            <a:off x="379440" y="4781520"/>
            <a:ext cx="650880" cy="665280"/>
          </a:xfrm>
          <a:custGeom>
            <a:avLst/>
            <a:gdLst/>
            <a:ahLst/>
            <a:rect l="l" t="t" r="r" b="b"/>
            <a:pathLst>
              <a:path w="650875" h="665163">
                <a:moveTo>
                  <a:pt x="86273" y="256039"/>
                </a:moveTo>
                <a:lnTo>
                  <a:pt x="248895" y="256039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9"/>
                </a:lnTo>
                <a:lnTo>
                  <a:pt x="564602" y="256039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6"/>
                </a:lnTo>
                <a:lnTo>
                  <a:pt x="248895" y="576996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9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люс 20"/>
          <p:cNvSpPr/>
          <p:nvPr/>
        </p:nvSpPr>
        <p:spPr>
          <a:xfrm>
            <a:off x="399960" y="1982880"/>
            <a:ext cx="649440" cy="664920"/>
          </a:xfrm>
          <a:custGeom>
            <a:avLst/>
            <a:gdLst/>
            <a:ahLst/>
            <a:rect l="l" t="t" r="r" b="b"/>
            <a:pathLst>
              <a:path w="649288" h="665162">
                <a:moveTo>
                  <a:pt x="86063" y="256225"/>
                </a:moveTo>
                <a:lnTo>
                  <a:pt x="248288" y="256225"/>
                </a:lnTo>
                <a:lnTo>
                  <a:pt x="248288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5" y="256225"/>
                </a:lnTo>
                <a:lnTo>
                  <a:pt x="563225" y="408937"/>
                </a:lnTo>
                <a:lnTo>
                  <a:pt x="401000" y="408937"/>
                </a:lnTo>
                <a:lnTo>
                  <a:pt x="401000" y="576995"/>
                </a:lnTo>
                <a:lnTo>
                  <a:pt x="248288" y="576995"/>
                </a:lnTo>
                <a:lnTo>
                  <a:pt x="248288" y="408937"/>
                </a:lnTo>
                <a:lnTo>
                  <a:pt x="86063" y="408937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Стрелка вправо 17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https://phys-ege.sdamgia.ru/get_file?id=17054"/>
          <p:cNvPicPr/>
          <p:nvPr/>
        </p:nvPicPr>
        <p:blipFill>
          <a:blip r:embed="rId2"/>
          <a:stretch/>
        </p:blipFill>
        <p:spPr>
          <a:xfrm>
            <a:off x="5327640" y="1666800"/>
            <a:ext cx="36338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8955000" cy="396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 проводил эксперименты, соединяя друг с другом различными способами батарейку и пронумерованные лампочки. Сопротивление батарейки и соединительных проводов было пренебрежимо мало. Измерительные приборы, которые использовал школьник, можно считать идеальными. Сопротивление всех лампочек не зависит от напряжения, к которому они подключены. Ход своих экспериментов и полученные результаты школьник заносил в лабораторный журнал. Вот что написано в этом журнал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пыт А). Подсоединил к батарейке лампочку № 1. Сила тока через батарейку 2 А, напряжение на лампочке 8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пыт Б). Подключил лампочку № 2 последовательно с лампочкой № 1. Сила тока через лампочку №1 равна 1 А, напряжение на лампочке № 2 составляет 4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пыт В). Подсоединил параллельно с лампочкой № 2 лампочку № 3. Сила тока через лампочку № 1 примерно 1,14 А, напряжение на лампочке № 2 примерно 3,44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сходя из записей в журнале, выберите два правильных утверждения и запишите в таблицу цифры, под которыми указаны эти утверждения.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996840" y="416556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очки № 1, № 2 и № 3 одинаков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1001160" y="458136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Лампочки № 1 и № 2 одинаков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1001160" y="504684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Лампочки № 2 и № 3 одинаков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1053360" y="5533920"/>
            <a:ext cx="80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противление лампочки № 3 меньше сопротивления лампочки №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1032480" y="603900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ЭДС батарейки равна 8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1522440" y="4240080"/>
            <a:ext cx="3168720" cy="341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ая соединительная линия 15"/>
          <p:cNvSpPr/>
          <p:nvPr/>
        </p:nvSpPr>
        <p:spPr>
          <a:xfrm>
            <a:off x="1476360" y="5575320"/>
            <a:ext cx="3168720" cy="35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ая соединительная линия 16"/>
          <p:cNvSpPr/>
          <p:nvPr/>
        </p:nvSpPr>
        <p:spPr>
          <a:xfrm>
            <a:off x="1476360" y="5097600"/>
            <a:ext cx="3168720" cy="349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люс 18"/>
          <p:cNvSpPr/>
          <p:nvPr/>
        </p:nvSpPr>
        <p:spPr>
          <a:xfrm>
            <a:off x="379440" y="5907240"/>
            <a:ext cx="650880" cy="664920"/>
          </a:xfrm>
          <a:custGeom>
            <a:avLst/>
            <a:gdLst/>
            <a:ahLst/>
            <a:rect l="l" t="t" r="r" b="b"/>
            <a:pathLst>
              <a:path w="650875" h="665162">
                <a:moveTo>
                  <a:pt x="86273" y="256038"/>
                </a:moveTo>
                <a:lnTo>
                  <a:pt x="248895" y="256038"/>
                </a:lnTo>
                <a:lnTo>
                  <a:pt x="248895" y="88167"/>
                </a:lnTo>
                <a:lnTo>
                  <a:pt x="401980" y="88167"/>
                </a:lnTo>
                <a:lnTo>
                  <a:pt x="401980" y="256038"/>
                </a:lnTo>
                <a:lnTo>
                  <a:pt x="564602" y="256038"/>
                </a:lnTo>
                <a:lnTo>
                  <a:pt x="564602" y="409124"/>
                </a:lnTo>
                <a:lnTo>
                  <a:pt x="401980" y="409124"/>
                </a:lnTo>
                <a:lnTo>
                  <a:pt x="401980" y="576995"/>
                </a:lnTo>
                <a:lnTo>
                  <a:pt x="248895" y="576995"/>
                </a:lnTo>
                <a:lnTo>
                  <a:pt x="248895" y="409124"/>
                </a:lnTo>
                <a:lnTo>
                  <a:pt x="86273" y="409124"/>
                </a:lnTo>
                <a:lnTo>
                  <a:pt x="86273" y="256038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люс 20"/>
          <p:cNvSpPr/>
          <p:nvPr/>
        </p:nvSpPr>
        <p:spPr>
          <a:xfrm>
            <a:off x="347760" y="4448160"/>
            <a:ext cx="649080" cy="665280"/>
          </a:xfrm>
          <a:custGeom>
            <a:avLst/>
            <a:gdLst/>
            <a:ahLst/>
            <a:rect l="l" t="t" r="r" b="b"/>
            <a:pathLst>
              <a:path w="649287" h="665163">
                <a:moveTo>
                  <a:pt x="86063" y="256225"/>
                </a:moveTo>
                <a:lnTo>
                  <a:pt x="248287" y="256225"/>
                </a:lnTo>
                <a:lnTo>
                  <a:pt x="248287" y="88167"/>
                </a:lnTo>
                <a:lnTo>
                  <a:pt x="401000" y="88167"/>
                </a:lnTo>
                <a:lnTo>
                  <a:pt x="401000" y="256225"/>
                </a:lnTo>
                <a:lnTo>
                  <a:pt x="563224" y="256225"/>
                </a:lnTo>
                <a:lnTo>
                  <a:pt x="563224" y="408938"/>
                </a:lnTo>
                <a:lnTo>
                  <a:pt x="401000" y="408938"/>
                </a:lnTo>
                <a:lnTo>
                  <a:pt x="401000" y="576996"/>
                </a:lnTo>
                <a:lnTo>
                  <a:pt x="248287" y="576996"/>
                </a:lnTo>
                <a:lnTo>
                  <a:pt x="248287" y="408938"/>
                </a:lnTo>
                <a:lnTo>
                  <a:pt x="86063" y="408938"/>
                </a:lnTo>
                <a:lnTo>
                  <a:pt x="86063" y="256225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Стрелка вправо 17">
            <a:hlinkClick r:id="" action="ppaction://hlinkshowjump?jump=nextslide"/>
          </p:cNvPr>
          <p:cNvSpPr/>
          <p:nvPr/>
        </p:nvSpPr>
        <p:spPr>
          <a:xfrm>
            <a:off x="7580160" y="6039000"/>
            <a:ext cx="1482840" cy="706320"/>
          </a:xfrm>
          <a:prstGeom prst="rightArrow">
            <a:avLst>
              <a:gd name="adj1" fmla="val 50000"/>
              <a:gd name="adj2" fmla="val 5001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4" descr=""/>
          <p:cNvPicPr/>
          <p:nvPr/>
        </p:nvPicPr>
        <p:blipFill>
          <a:blip r:embed="rId2"/>
          <a:srcRect l="7557" t="0" r="-684" b="0"/>
          <a:stretch/>
        </p:blipFill>
        <p:spPr>
          <a:xfrm>
            <a:off x="6624720" y="3973680"/>
            <a:ext cx="191124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7T16:10:50Z</dcterms:created>
  <dc:creator>Виктория</dc:creator>
  <dc:description/>
  <dc:language>en-US</dc:language>
  <cp:lastModifiedBy>Виктория Пахомычева</cp:lastModifiedBy>
  <dcterms:modified xsi:type="dcterms:W3CDTF">2024-02-09T17:34:43Z</dcterms:modified>
  <cp:revision>35</cp:revision>
  <dc:subject/>
  <dc:title>Презентация PowerPoint</dc:title>
</cp:coreProperties>
</file>