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AF61D-E774-4865-92CA-23B83D11C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94A84D-0A76-41DB-B58E-AF7645D4AA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075-4BFD-48E5-99C6-F5C1C159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5E4-CA8F-42E1-96F9-B8D5502D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296-6C65-4123-B24D-5791980E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6A9-3A04-43A1-97F1-7ECB81B1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E11-6AC9-49B3-81E5-38D3CE5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2F5-DB17-47C5-9833-50E4319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5A5-5F91-4A79-A857-670BD25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2E4-881D-48DB-A6FE-D49CF3B4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D19-1703-4472-A1CB-6A064DA9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100-F98C-4AAF-A9E5-B51681E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D0F-3E1B-4C13-BB46-40EC896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D4B-C851-4587-BCE0-048F39F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8A688E-AA0F-4CF3-9C6E-7EAAD6FB81B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29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РАБОЧЕЕ ВРЕМЯ И ВРЕМЯ ОТДЫХ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papus666.narod.ru/clipart/ch/chas/chas49.png"/>
          <p:cNvPicPr/>
          <p:nvPr/>
        </p:nvPicPr>
        <p:blipFill>
          <a:blip r:embed="rId1"/>
          <a:stretch/>
        </p:blipFill>
        <p:spPr>
          <a:xfrm>
            <a:off x="2627640" y="3141000"/>
            <a:ext cx="3816000" cy="340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МЕР 2 (неполная рабочая неделя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2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ОО "Гвоздика"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становл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осьмичасовой рабочи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день при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ятидневной рабочей недел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клад водителя Петрова П.П. рав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0 000 руб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 1 октября 2021 г. Петров по соглашению с работодателем переведен на режим неполной рабочей недели, при котором ему установлен дополнительный выходной день в неделю -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При этом установлено, что оплата труда производится пропорционально отработанному времени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тябрь 2021 г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тров отработал полностью (не болел, не брал отпуск, отгулы и т.п.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 октябрь бухгалтер рассчитает ему зарплату так: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октябре 2021 г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й день (при пятидневной рабочей неделе). Однако в соответствии со своим режимом работы Петров отработал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дней (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 октябре 2021 г. у него было четыре дополнительных выходных дня, выпавших на среду - 5, 12, 19 и 26-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 октябрь Петрову должна быть начислена зарплата в размере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2 380,92 руб. (40 000 руб. : 21 день x 17 дней)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5031BA-1CF4-4147-BBCB-B81D8155B8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784720" cy="65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ежедневной работы (смены) не может превыша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от 15 до 16 лет – 5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 в возрасте от 16 до 18 лет – 7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обучающихся в свободное время учащихся  в возрасте от 14  до 16 лет – 2,5 час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возрасте от 16 до 18 лет – 4 час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 занятых во вредном производстве при 30 часовой рабочей недели – 6 часов, при 36 часовой рабочей недели – 8 час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( статья 94 ТК РФ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5B9D45-55A6-4EF4-8DF1-359E87C6954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6. Работа в ночное время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340640"/>
            <a:ext cx="828648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Ночным считается время с 22 часов 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до 6 часов. </a:t>
            </a: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При работе в ночное время установленная продолжительность смены сокращается </a:t>
            </a: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на 1 час.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1"/>
              </a:spcBef>
              <a:buNone/>
              <a:tabLst>
                <a:tab algn="l" pos="0"/>
              </a:tabLst>
            </a:pPr>
            <a:r>
              <a:rPr b="1" lang="ru-RU" sz="6700" spc="-1" strike="noStrike">
                <a:solidFill>
                  <a:srgbClr val="000000"/>
                </a:solidFill>
                <a:latin typeface="Times New Roman"/>
              </a:rPr>
              <a:t>К работе в ночное время не допускаются: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беременные женщины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женщины, имеющие детей в возрасте до 3 лет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990720" indent="-457200">
              <a:lnSpc>
                <a:spcPct val="100000"/>
              </a:lnSpc>
              <a:spcBef>
                <a:spcPts val="13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Times New Roman"/>
              </a:rPr>
              <a:t>работники, не достигшие возраста 18 лет;</a:t>
            </a:r>
            <a:endParaRPr b="0" lang="ru-RU" sz="67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CCBA30-3967-4133-B31E-D3D5C6D571D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6. Работа в ночное время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640" y="1340640"/>
            <a:ext cx="81777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валид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и, имеющие детей инвалид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и, осуществляющие уход за больными членами семь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 и отцы, воспитывающие детей без супруга (супруги) детей в возрасте до 5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255680" indent="-531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куны детей указанного возрас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676-583A-4951-91A9-7158BCDB9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</a:rPr>
              <a:t>Статья 99. Сверхурочная работа</a:t>
            </a:r>
            <a:endParaRPr b="0" lang="ru-RU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хурочная рабо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работа, производимая работником по инициативе работодателя за пределами установленной продолжительности рабочего времени, ежедневной работы (смены), а также работа сверх нормального числа рабочих часов за учетный период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FCA-BB8E-4F63-8001-627BAA155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8856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влечение работодателем  работника к сверхурочной работе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без его соглас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опускается в следующих случаях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работ, необходимых для предотвращ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тастрофы, производственной аварии либо устранения последствий катастрофы, производственной аварии или стихийного бед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общественно необходимых работ п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ранению непредвиденных обстоятель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рушающих нормальное функционирование систем водоснабжения, газоснабжения, отопления, освещения, канализации, транспорта, связ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735480" indent="-46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работ, необходимость которых обусловлена введ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резвычайного или военного полож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427-AACE-49BB-BA96-1AE23EF26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496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ивлечение работодателем работника к сверхурочной работе допускается с его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письменного соглас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следующих условиях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обходим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ть начатую рабо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вследствие непредвиденной задержки по техническим условиям производства не могла быть выполнена в течении установленной  для работника продолжительности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роизводств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менных работ по ремонту и восстановлению механизмов или сооружен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х случаях, когда их неисправность может стать причиной прекращения работы для значительного числа работник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одолж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ы при неявке сменяющего работника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сли работа не допускает переры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253-B513-4B46-BD7D-E5236ABA0F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352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допускается привлечение в сверхурочным работам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менных женщин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ов в возрасте до 18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рхурочные работы не должны превышать для кажд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четырех часов в течении двух дней подряд и 120 часов в го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рхурочная работа оплачивается з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ервые два ча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е менее чем в полуторном разме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следующие час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менее чем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двойном размер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354-66CC-43EB-9898-E13CDB297F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3640" y="332640"/>
            <a:ext cx="836280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жим рабочего времен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распределение работы течение конкретного календарного пери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сутки, неделя, месяц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ло и окончание ежедневной работы, графики сменности, продолжительность и число смен в сутки, чередование рабочих и нерабочих дней, время и продолжительность переры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режиму относится и вахтовы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работы, гибкие 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зящие графи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.100 ТК РФ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сява\Desktop\oO7qwscZaII-400x292.jpg"/>
          <p:cNvPicPr/>
          <p:nvPr/>
        </p:nvPicPr>
        <p:blipFill>
          <a:blip r:embed="rId1"/>
          <a:stretch/>
        </p:blipFill>
        <p:spPr>
          <a:xfrm>
            <a:off x="4932000" y="4005000"/>
            <a:ext cx="3634560" cy="2653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E79FA-DF57-4936-8021-0435D44C111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7640" y="548640"/>
            <a:ext cx="856872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рудовое законодательство  определяет следующие виды режима рабочего времен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нормированный  рабочий де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жим гибкого рабочего време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нный режи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хтовый режи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38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жим раздобренного рабочего дн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855-2891-4917-A007-BDD00891B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35272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бочее время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время, в течении которого  работники   в соответствии с правилами внутреннего  трудового распорядка организации и условиями трудового договора должны исполнять  трудовые обязанности (ст.91 ТК Р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owaza.ru/_pu/1/56823092.jpg"/>
          <p:cNvPicPr/>
          <p:nvPr/>
        </p:nvPicPr>
        <p:blipFill>
          <a:blip r:embed="rId1"/>
          <a:stretch/>
        </p:blipFill>
        <p:spPr>
          <a:xfrm>
            <a:off x="1361880" y="3501000"/>
            <a:ext cx="5658120" cy="3193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BD3-5522-4ED2-B623-57DBBF221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13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нормированный рабочий ден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особый режим работы в соответствии с которым отдельные работники могут по распоряжению работодателя при необходимости привлекаться к выполнению своих трудовых функций за пределами нормальной  продолжительности рабочего време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4" name="Picture 3" descr="C:\Users\Вячеслав\Desktop\rabochijj-den.jpg"/>
          <p:cNvPicPr/>
          <p:nvPr/>
        </p:nvPicPr>
        <p:blipFill>
          <a:blip r:embed="rId1"/>
          <a:stretch/>
        </p:blipFill>
        <p:spPr>
          <a:xfrm>
            <a:off x="2483640" y="4106160"/>
            <a:ext cx="2414880" cy="241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Вячеслав\Desktop\online-150x150.png"/>
          <p:cNvPicPr/>
          <p:nvPr/>
        </p:nvPicPr>
        <p:blipFill>
          <a:blip r:embed="rId2"/>
          <a:stretch/>
        </p:blipFill>
        <p:spPr>
          <a:xfrm>
            <a:off x="5076000" y="3933000"/>
            <a:ext cx="2760840" cy="27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2CD-7629-4123-8428-4343B3EDC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4967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ечень должностей работников с ненормированным рабочим днем устанавливается коллективным договором, соглашением или правилами внутреннего трудового распорядка орган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сява\Desktop\images.jpg"/>
          <p:cNvPicPr/>
          <p:nvPr/>
        </p:nvPicPr>
        <p:blipFill>
          <a:blip r:embed="rId1"/>
          <a:stretch/>
        </p:blipFill>
        <p:spPr>
          <a:xfrm>
            <a:off x="2411640" y="3213000"/>
            <a:ext cx="4104000" cy="300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0FE-A97D-4562-A123-660308322F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2" name="Picture 2" descr="C:\Users\Вячеслав\Desktop\prikaz-e1486301884900.png"/>
          <p:cNvPicPr/>
          <p:nvPr/>
        </p:nvPicPr>
        <p:blipFill>
          <a:blip r:embed="rId1"/>
          <a:stretch/>
        </p:blipFill>
        <p:spPr>
          <a:xfrm>
            <a:off x="428760" y="285840"/>
            <a:ext cx="8308800" cy="6143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010-0EEC-4149-AF69-4F1BBD88D9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548640"/>
            <a:ext cx="8280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ибкое рабочее время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орма организац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чего врем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 которой в определённых пределах работник может самостоятельно определять часы работы в смену по соглашению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рон (ст. 102 ТК Р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сява\Desktop\mirsoeva.jpg"/>
          <p:cNvPicPr/>
          <p:nvPr/>
        </p:nvPicPr>
        <p:blipFill>
          <a:blip r:embed="rId1"/>
          <a:stretch/>
        </p:blipFill>
        <p:spPr>
          <a:xfrm>
            <a:off x="4740480" y="2637000"/>
            <a:ext cx="3809520" cy="333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2F4-E511-4FD0-8686-20219D127E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3640" y="562680"/>
            <a:ext cx="8424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менная работа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в две, три или четыре смен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водится в тех случаях, когда длительность производственного процесса превышает допустимую продолжительность ежедневной работы, а также в целях более эффективного использования оборудования, увеличения объема выпускаемой продукции или оказываем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у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сява\Desktop\4K19jGHjoL8.jpg"/>
          <p:cNvPicPr/>
          <p:nvPr/>
        </p:nvPicPr>
        <p:blipFill>
          <a:blip r:embed="rId1"/>
          <a:stretch/>
        </p:blipFill>
        <p:spPr>
          <a:xfrm>
            <a:off x="3996000" y="4150800"/>
            <a:ext cx="4248000" cy="2388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E30-571A-4546-9FCF-B89F18D6F7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1640" y="620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рафики сменности, являются приложением к коллективному договор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оводятся до сведения работнико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позднее чем за 1 месяц до введение в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БОТА В ТЕЧЕНИЕ 2 СМЕН ПОДРЯД ЗАПРЕЩАЕТСЯ!!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.103 ТК РФ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6C1-54CC-407A-A831-2CDEB3904E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ахтовый метод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ая форма осуществления трудового процесса вне места постоянного проживания работников, когда не может быть обеспеченно ежедневное  их возвращение к месту постоянного прожи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сява\Desktop\48555414.jpg"/>
          <p:cNvPicPr/>
          <p:nvPr/>
        </p:nvPicPr>
        <p:blipFill>
          <a:blip r:embed="rId1"/>
          <a:stretch/>
        </p:blipFill>
        <p:spPr>
          <a:xfrm>
            <a:off x="467640" y="3701520"/>
            <a:ext cx="3960000" cy="27374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123" name="Picture 3" descr="C:\Users\сява\Desktop\13.jpg"/>
          <p:cNvPicPr/>
          <p:nvPr/>
        </p:nvPicPr>
        <p:blipFill>
          <a:blip r:embed="rId2"/>
          <a:stretch/>
        </p:blipFill>
        <p:spPr>
          <a:xfrm>
            <a:off x="4577400" y="3701520"/>
            <a:ext cx="4128120" cy="27374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24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3D8-5C82-4CDE-AFE4-C152F70FA8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352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жим раздробленного рабочего дн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ен для некоторых работников, например, для животноводов (часы уборки, кормления животных, дойка коров – остальное время свободно от работ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и при таком режим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должен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ботать за неделю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яц положенно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рабочи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7" name="Picture 2" descr="C:\Users\Вячеслав\Desktop\902baba8f_300x180.jpg"/>
          <p:cNvPicPr/>
          <p:nvPr/>
        </p:nvPicPr>
        <p:blipFill>
          <a:blip r:embed="rId1"/>
          <a:stretch/>
        </p:blipFill>
        <p:spPr>
          <a:xfrm>
            <a:off x="4716000" y="2997000"/>
            <a:ext cx="4032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63-95BF-41C2-80CD-F88EA7D92C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7640" y="548640"/>
            <a:ext cx="835272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овместительство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 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полнение работником другой регулярной оплачиваемой работы на условиях трудового договора в свободное от основной работы время (ст.282 ТК РФ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местительство может осуществляться работником   по месту его основной работы (внутреннее) и в другой организации (внешнее).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должительность работы по совместительству не может превышать четырех часов в ден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по совместительству оплачивается в зависимости от проработанного времени или выработ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51E-3E47-4AC1-9B98-A2DEF83E04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Статья 106. Время отдыха</a:t>
            </a:r>
            <a:endParaRPr b="0" lang="ru-RU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 отдых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, в течение которого работник свободен от исполнения трудовых обязанностей и которое он может использовать по своему усмотрен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сява\Desktop\555055d12bd03b0f5e8f8758742a7aaa_w600_h400_cp.jpg"/>
          <p:cNvPicPr/>
          <p:nvPr/>
        </p:nvPicPr>
        <p:blipFill>
          <a:blip r:embed="rId1"/>
          <a:stretch/>
        </p:blipFill>
        <p:spPr>
          <a:xfrm>
            <a:off x="4716000" y="3645000"/>
            <a:ext cx="3960000" cy="28857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133" name="Picture 3" descr="C:\Users\сява\Desktop\1449820503.4456.681557394.jpg"/>
          <p:cNvPicPr/>
          <p:nvPr/>
        </p:nvPicPr>
        <p:blipFill>
          <a:blip r:embed="rId2"/>
          <a:stretch/>
        </p:blipFill>
        <p:spPr>
          <a:xfrm>
            <a:off x="539640" y="3645000"/>
            <a:ext cx="3960000" cy="28857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34" name="PlaceHolder 3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894-8C85-4D84-94DD-04689851CA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1640" y="548640"/>
            <a:ext cx="8712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рудовое законодательство устанавливает следующие виды рабочего времени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нормальная продолжительность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сокращенная продолжительность рабочего време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неполное рабочее врем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сява\Desktop\audit_rabochego_vremeni._metod_momentnyh_nablyudeniy-400x280.jpg"/>
          <p:cNvPicPr/>
          <p:nvPr/>
        </p:nvPicPr>
        <p:blipFill>
          <a:blip r:embed="rId1"/>
          <a:stretch/>
        </p:blipFill>
        <p:spPr>
          <a:xfrm>
            <a:off x="2555640" y="3236040"/>
            <a:ext cx="5760360" cy="327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F04-CEB7-45CE-9A8E-03BE5EC8E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86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идами времени отдыха являю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перерывы в течение рабочего дня    (смены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ежедневный (междусменный) отдых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ыходные дни (еженедельный непрерывный отдых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ерабочие праздничные дн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тпус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сява\Desktop\images.jpg"/>
          <p:cNvPicPr/>
          <p:nvPr/>
        </p:nvPicPr>
        <p:blipFill>
          <a:blip r:embed="rId1"/>
          <a:stretch/>
        </p:blipFill>
        <p:spPr>
          <a:xfrm>
            <a:off x="3357720" y="4143240"/>
            <a:ext cx="3708720" cy="1786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84B-416E-451B-90FB-56482CF57F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течение рабочего дня (смены) работнику должен быть предоставлен перерыв для отдыха и питания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должительностью не более двух часов и не менее 30 минут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торый в рабочее время не включаетс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сява\Desktop\article3888.jpg"/>
          <p:cNvPicPr/>
          <p:nvPr/>
        </p:nvPicPr>
        <p:blipFill>
          <a:blip r:embed="rId1"/>
          <a:stretch/>
        </p:blipFill>
        <p:spPr>
          <a:xfrm>
            <a:off x="5364000" y="3833640"/>
            <a:ext cx="3024000" cy="2763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603-7E29-45D8-B224-744445E4B3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424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огласно статье 109 ТК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ам работающим в холодное время года на открытом воздухе или в закрытых необогреваемых помещениях предоставляются специальные перерывы для обогрева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Ежедневный междусменный отдых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время между окончанием работы и ее началом на следующий день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ость еженедельного непрерывного отдыха не может быть менее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2 ча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т. 110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699-85C2-4265-AEFA-4BE45452F2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640" y="404640"/>
            <a:ext cx="871272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м работникам предоставляется выходные дн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и пятидневно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ей недели - два выходных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и шестиднев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ей недели – один выходной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бщим выходным днем является воскресенье (ст. 111 ТК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сява\Desktop\konkurs-ot-tvoj-vyxodnoj--priglasi-druga.jpg"/>
          <p:cNvPicPr/>
          <p:nvPr/>
        </p:nvPicPr>
        <p:blipFill>
          <a:blip r:embed="rId1"/>
          <a:stretch/>
        </p:blipFill>
        <p:spPr>
          <a:xfrm>
            <a:off x="1785960" y="3429000"/>
            <a:ext cx="5641200" cy="32025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827-3569-4513-AF29-FE25DD5FB6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12. Нерабочие праздничные д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32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абочими праздничными днями в Российской   Федерации я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, 2, 3, 4, 5, 6 и 8 января - Новогодние канику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7 января - Рождество Христово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23 февраля - День защитника Отечеств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8 марта - Международный женский ден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 мая - Праздник Весны и Труд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9 мая - День Побед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12 июня - День Росс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7480" indent="-4032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4 ноября - День народного единст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E11-1688-4528-A239-313DE6F1E6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864072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Статья 114. Ежегодные оплачиваемые отпуска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640" y="1124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предоставляются ежегодные отпуска с сохранением места работы (должности) и среднего заработ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отпуска в зависимости от цели их предоставления можно разделить на две групп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51600" indent="-5144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тпуска, предоставляемые для восстановления трудоспособ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51600" indent="-5144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тпуска, предоставление которых связанно с социальным статусом работни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D4D-956E-486B-9419-5DF46ACDA843}" type="slidenum">
              <a:t>35</a:t>
            </a:fld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712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  <a:p>
            <a:pPr marL="135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 отпускам предоставляемым для восстановления трудоспособности относя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644760" indent="-50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й ежегодный оплачиваемый отпуск предоставляется продолжительностью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8 календарных дн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644760" indent="-50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линенный основной ежегодный отпуск предоставляется несовершеннолетним в возрасте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 л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1 календарный ден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а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42 – до 56 календарных дн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алидам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 30 календарных дн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57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515-BDEE-422D-AC03-D673879336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. Дополнительные ежегодные оплачиваемые  отпуска (ст.116 ТК РФ), предоста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занятым на работах с вредными или опасными условиями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 рабочи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имеющим особый характер работы (гос. служащие)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 календарны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с ненормированным рабочим днем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 рабочих д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ам работающим в районах крайнего севера и приравненных к ним местностям –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2 календарных дн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3C8-0BF1-4560-9021-8CC6191006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 отпускам второй группы относятся отпуска связанные с социальным статусом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а имеющие семейные обязанности (женщины по беременности и родам, женщины усыновившие ребенка или де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а работникам совмещающим работу и учебу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 без сохранения заработной пла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499-D567-4B1F-991A-085CD1B101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татья 122. Порядок предоставления ежегодных оплачиваемых отпусков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4639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лачиваемый отпуск должен предоставляться работнику ежегодно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о на использование отпуск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а первый год рабо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никает у работник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 истечении шести месяце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непрерывной работы в данной организации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260-B225-48D4-B636-49C26D4943BB}" type="slidenum">
              <a:t>39</a:t>
            </a:fld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92. Сокращенная продолжительность рабочего време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908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ращенная продолжительность рабочего времени устанавливае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до 16 лет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 в возрасте от 16 до 18 лет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ботников, являющихся инвалидами 1 или 2 группы – не бол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D36-AD86-44C5-AA0C-537CC1C9D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640" y="260640"/>
            <a:ext cx="89640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18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о истечения шести месяцев непрерывной работы оплачиваемый отпуск по заявлению работника должен быть предоставлен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нщинам - перед отпуском по беременности и родам или непосредственно после него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 в возрасте до 18 ле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, усыновившим ребенка (детей) в возрасте до 3 месяце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угих случаях, предусмотренных федеральными зако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уск за второй и последующие годы работы может предоставляться в любое время рабочего года в соответствии с очередностью предоставления ежегодных оплачиваемых отпусков, установленной в данной организ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14B-9F02-467C-A799-C9616BCC7A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4. Продление или перенесение ежегодного оплачиваемого отпуск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29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жегодный оплачиваемый отпуск должен быть продлен или перенесен на другой срок, определяемый работодателем с учетом пожеланий работника, в случаях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енной нетрудоспособности работни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ения работником во время ежегодного оплачиваемого отпуска государственных обязанностей, если для этого трудовым законодательством предусмотрено освобождение от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28C-0BDC-4410-A251-CD1A5DFC46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5. Разделение ежегодного оплачиваемого отпуска. Отзыв из отпус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4880" y="1556640"/>
            <a:ext cx="8856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соглашению между работникам и работодателем ежегодный оплачиваемый отпуск может быть разделен на части. При этом хотя бы одна из частей этого отпуска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менее 14 дн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зыв работника из отпуска допускается только с его согласия!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757-04B4-4D09-9963-E8D7A44462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6. Замена ежегодного оплачиваемого отпуска денежной компенс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ь ежегодного оплачиваемого отпуска, превышающая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8 календарных дн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по письменному заявлению работника может быть заменена денежной компенсаци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0E7-C2FD-4F2D-898B-9AD9D3D48D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атья 126. Замена ежегодного оплачиваемого отпуска денежной компенс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1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допускается замена денежной компенсацией ежегодного основного оплачиваемого отпуска и ежегодных дополнительных оплачиваемых отпуск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менным женщина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 в возрасте до 18 ле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70240" indent="-43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ам, занятым на работах с вредными и (или) опасными условиями тру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30E-3BEE-41C1-8003-3B0A8C1A68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татья 127. Реализация права на отпуск при увольнении работни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3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вольнен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 работнику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ыплачивается денежная компенсация за все неиспользованные отпуска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13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исьменному заявлени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ника неиспользованные отпуска могут быть предоставлены ему с последующим увольнением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(за исключением случаев увольнения за виновные действия)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 этом днем увольнения считается последний день отпуска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9DE-8422-49BD-934A-484FD5A04D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128. Отпуск без сохранения заработной пла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емейным обстоятельствам и другим уважительным причинам работнику по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сьменному заявл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быть предоставлен отпуск без сохранения заработной платы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 которого определяется по соглашению между работником и работодателем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одатель обязан на основании письменного заявления работника предоставить отпуск без сохранения заработной платы: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никам Великой Отечественной войны - д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лендарных дней в году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ющим пенсионерам по старости (по возрасту) - д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лендарных дней в году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838-F5D2-4A1A-B368-EA788E1059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одителям и женам (мужьям) военнослужащих, сотрудников органов внутренних дел, федеральной противопожарной службы, таможенных органов, сотрудников учреждений и органов уголовно-исполнительной системы, погибших или умерших вследствие ранения, контузии или увечья, полученных при исполнении обязанностей военной службы (службы), либо вследствие заболевания, связанного с прохождением военной службы (службы)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14 календарных дней в году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ающим инвалидам 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60 календарных дней в году;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ботникам в случаях рождения ребенка, регистрации брака, смерти близких родственников –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 5 календарных дн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0BC-43DF-47DD-91B5-DA829A2A94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64296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13716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C:\Users\сява\Desktop\slide_34.jpg"/>
          <p:cNvPicPr/>
          <p:nvPr/>
        </p:nvPicPr>
        <p:blipFill>
          <a:blip r:embed="rId1"/>
          <a:srcRect l="22008" t="43475" r="24181" b="0"/>
          <a:stretch/>
        </p:blipFill>
        <p:spPr>
          <a:xfrm>
            <a:off x="2071800" y="250020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E7D-C444-4943-BCA8-B830DD2FD57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64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ников, занятых на работах с вредными и (или) опасными условиями труда – не бол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в неделю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учащихся образовательных учреждений, работающих в свободное от учебы время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едагогических работников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медицинских работников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асов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B0E-6389-4D4B-ACEF-78F5E849D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тья 93. Неполное рабочее врем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71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полное рабочее время может быть трех видов: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ый рабочий день (сокращается количество рабочих часов в ден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ая рабочая смена (сокращается количество рабочих часов  течении смены)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ая рабочая неделя (сокращено количество рабочих дней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неполном рабочем времени труд работника оплачивается пропорционально отработанному времени или в зависимости от вырабо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7E1894-89E7-4E79-B6C3-440D82C70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640" y="47664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становить неполное рабочее время возможно 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95320" indent="-361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бщему правилу, соглашение между работником и работодателе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и поступлении на работу или в период работ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сява\Desktop\index.jpg"/>
          <p:cNvPicPr/>
          <p:nvPr/>
        </p:nvPicPr>
        <p:blipFill>
          <a:blip r:embed="rId1"/>
          <a:stretch/>
        </p:blipFill>
        <p:spPr>
          <a:xfrm>
            <a:off x="4038480" y="2714760"/>
            <a:ext cx="4061520" cy="355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7F5-906E-4FE8-9909-E29AB921A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640" y="47664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работодатель обязан устанавливать режим неполного рабочего времени по просьб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менной женщин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го из родителей (опекуна, попечителя), имеющего ребенка в возрасте до 14 лет (ребенка-инвалида в возрасте до 18 лет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6285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ца, осуществляющего уход за больным членом семьи в соответствии с медицинским заключени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977-22B7-45D2-877D-9F7101F84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МЕР 1 (неполный рабочий день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ООО "Ромашка" установлен восьмичасовой рабочий день при пятидневной рабочей неделе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лад менеджера Иванова И.И. равен 45 000 руб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 1 октября 2021 г. Иванов переведен на неполный рабочий день - в соответствии с соглашением с работодателем ему установлен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асовой рабочий день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и сохранении пятидневной рабочей недел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 При этом установлено, что оплата труда производится пропорционально отработанному времени.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тябрь 2021 г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ванов отработал полностью (не болел, не брал отпуск, отгулы и т.п.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 октябрь бухгалтер рассчитает ему зарплату так: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 производственному календарю в октябре 2021 г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й день (при пятидневной рабочей неделе) и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часов (при 40-ка часовой рабочей неделе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ванов отработал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рабочих часов (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1 дн. x 6 ч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ответственно, за октябрь ему должна быть начислена зарплата в размере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3 750,00 руб. (45 000 руб. : 168 ч x 126 ч)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656215-0752-448D-918A-75A22AB7F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  <Words>2232</Words>
  <Paragraphs>2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6:07:19Z</dcterms:created>
  <dc:creator>User</dc:creator>
  <dc:description/>
  <dc:language>en-US</dc:language>
  <cp:lastModifiedBy>Вячеслав</cp:lastModifiedBy>
  <dcterms:modified xsi:type="dcterms:W3CDTF">2024-02-11T12:02:06Z</dcterms:modified>
  <cp:revision>14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8</vt:r8>
  </property>
</Properties>
</file>