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59510-661E-45A2-84F2-274F3C8BD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9DEA6D-1BF7-43EC-BEBB-02266F14E9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8C1-2E40-4D17-9423-4C8C4AB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4C1-721C-4E4F-9D68-6A628399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E26-6B50-45E8-BF52-BB3D6D6D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CAE-128C-43AF-B3AC-A181D7B8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CA9-2857-43E3-8761-866B6EC7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338-8D82-4A02-AB61-E05B1B6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758-BE37-4380-ACC6-9C4A6CB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8EC-2B6E-4C07-9FE2-2389BDA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DD1-1442-4A9E-9DBD-2100EF2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25A-2557-447F-9A77-3DA519E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0FA-3E55-445A-B999-B3179BB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D8E-7C32-462C-9285-8AA788C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DBFED-22E2-44E0-B1C6-0C007A95D04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29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РАБОЧЕЕ ВРЕМЯ И ВРЕМЯ ОТДЫХ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papus666.narod.ru/clipart/ch/chas/chas49.png"/>
          <p:cNvPicPr/>
          <p:nvPr/>
        </p:nvPicPr>
        <p:blipFill>
          <a:blip r:embed="rId1"/>
          <a:stretch/>
        </p:blipFill>
        <p:spPr>
          <a:xfrm>
            <a:off x="2627640" y="3141000"/>
            <a:ext cx="3816000" cy="340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МЕР 2 (неполная рабочая неделя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ОО "Гвоздика"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становл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осьмичасовой рабочи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день при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ятидневной рабочей недел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клад водителя Петрова П.П. рав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0 000 руб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 1 октября 2021 г. Петров по соглашению с работодателем переведен на режим неполной рабочей недели, при котором ему установлен дополнительный выходной день в неделю -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При этом установлено, что оплата труда производится пропорционально отработанному времени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тябрь 2021 г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тров отработал полностью (не болел, не брал отпуск, отгулы и т.п.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 октябрь бухгалтер рассчитает ему зарплату так: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октябре 2021 г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й день (при пятидневной рабочей неделе). Однако в соответствии со своим режимом работы Петров отработал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дней (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 октябре 2021 г. у него было четыре дополнительных выходных дня, выпавших на среду - 5, 12, 19 и 26-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 октябрь Петрову должна быть начислена зарплата в размере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2 380,92 руб. (40 000 руб. : 21 день x 17 дней)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B71EF-EE9B-479C-A228-25F59AF16C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784720" cy="65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ежедневной работы (смены) не может превыша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от 15 до 16 лет – 5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 в возрасте от 16 до 18 лет – 7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обучающихся в свободное время учащихся  в возрасте от 14  до 16 лет – 2,5 час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возрасте от 16 до 18 лет – 4 час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занятых во вредном производстве при 30 часовой рабочей недели – 6 часов, при 36 часовой рабочей недели – 8 час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( статья 94 ТК РФ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483659-2D5B-482E-AA44-72B7DEC4E571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6. Работа в ночное время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340640"/>
            <a:ext cx="828648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Ночным считается время с 22 часов 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до 6 часов. </a:t>
            </a: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При работе в ночное время установленная продолжительность смены сокращается </a:t>
            </a: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на 1 час.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К работе в ночное время не допускаются: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беременные женщины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женщины, имеющие детей в возрасте до 3 лет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работники, не достигшие возраста 18 лет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43BB12-3567-40B3-8530-52352093B7D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6. Работа в ночное время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640" y="1340640"/>
            <a:ext cx="81777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валид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и, имеющие детей инвалид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и, осуществляющие уход за больными членами семь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 и отцы, воспитывающие детей без супруга (супруги) детей в возрасте до 5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куны детей указанного возрас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F1B-2AE3-44A1-AE83-CB1470C4F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9. Сверхурочная работа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хурочная рабо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работа, производимая работником по инициативе работодателя за пределами установленной продолжительности рабочего времени, ежедневной работы (смены), а также работа сверх нормального числа рабочих часов за учетный период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AF7-7B84-45B1-BA1E-D84A1B9C3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8856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влечение работодателем  работника к сверхурочной работе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без его соглас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пускается в следующих случаях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работ, необходимых для предотвращ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тастрофы, производственной аварии либо устранения последствий катастрофы, производственной аварии или стихийного бед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общественно необходимых работ п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ранению непредвиденных обстоятель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рушающих нормальное функционирование систем водоснабжения, газоснабжения, отопления, освещения, канализации, транспорта, связ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работ, необходимость которых обусловлена введ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резвычайного или военного полож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C8A-09BD-47AA-9F28-83FB07E59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496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влечение работодателем работника к сверхурочной работе допускается с его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письменного соглас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следующих условиях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обходим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ть начатую рабо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вследствие непредвиденной задержки по техническим условиям производства не могла быть выполнена в течении установленной  для работника продолжительности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менных работ по ремонту и восстановлению механизмов или сооружен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х случаях, когда их неисправность может стать причиной прекращения работы для значительного числа работник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одолж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ы при неявке сменяющего работника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сли работа не допускает переры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8F8-0A89-489E-B429-F5C93A2F56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352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допускается привлечение в сверхурочным работам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менных женщин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ов в возрасте до 18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рхурочные работы не должны превышать для кажд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четырех часов в течении двух дней подряд и 120 часов в го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рхурочная работа оплачивается з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ервые два ча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е менее чем в полуторном разме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следующие час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менее чем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двойном размер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769-1DAE-436E-8738-162291491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3640" y="332640"/>
            <a:ext cx="836280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жим рабочего времен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распределение работы течение конкретного календарного пери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сутки, неделя, месяц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о и окончание ежедневной работы, графики сменности, продолжительность и число смен в сутки, чередование рабочих и нерабочих дней, время и продолжительность переры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режиму относится и вахтовы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работы, гибкие 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зящие графи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.100 ТК РФ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сява\Desktop\oO7qwscZaII-400x292.jpg"/>
          <p:cNvPicPr/>
          <p:nvPr/>
        </p:nvPicPr>
        <p:blipFill>
          <a:blip r:embed="rId1"/>
          <a:stretch/>
        </p:blipFill>
        <p:spPr>
          <a:xfrm>
            <a:off x="4932000" y="4005000"/>
            <a:ext cx="3634560" cy="2653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626496-346E-4092-A271-CCD0F9BC9715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7640" y="548640"/>
            <a:ext cx="856872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рудовое законодательство  определяет следующие виды режима рабочего времен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нормированный  рабочий де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жим гибкого рабочего време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нный режи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хтовый режи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жим раздобренного рабочего дн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D2F-DC76-497A-888D-29B243D94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352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бочее время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время, в течении которого  работники   в соответствии с правилами внутреннего  трудового распорядка организации и условиями трудового договора должны исполнять  трудовые обязанности (ст.91 ТК Р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owaza.ru/_pu/1/56823092.jpg"/>
          <p:cNvPicPr/>
          <p:nvPr/>
        </p:nvPicPr>
        <p:blipFill>
          <a:blip r:embed="rId1"/>
          <a:stretch/>
        </p:blipFill>
        <p:spPr>
          <a:xfrm>
            <a:off x="1361880" y="3501000"/>
            <a:ext cx="5658120" cy="3193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D75-9C4C-4B81-8A17-F398E344A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13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нормированный рабочий ден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особый режим работы в соответствии с которым отдельные работники могут по распоряжению работодателя при необходимости привлекаться к выполнению своих трудовых функций за пределами нормальной  продолжительности рабочего време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4" name="Picture 3" descr="C:\Users\Вячеслав\Desktop\rabochijj-den.jpg"/>
          <p:cNvPicPr/>
          <p:nvPr/>
        </p:nvPicPr>
        <p:blipFill>
          <a:blip r:embed="rId1"/>
          <a:stretch/>
        </p:blipFill>
        <p:spPr>
          <a:xfrm>
            <a:off x="2483640" y="4106160"/>
            <a:ext cx="2414880" cy="241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Вячеслав\Desktop\online-150x150.png"/>
          <p:cNvPicPr/>
          <p:nvPr/>
        </p:nvPicPr>
        <p:blipFill>
          <a:blip r:embed="rId2"/>
          <a:stretch/>
        </p:blipFill>
        <p:spPr>
          <a:xfrm>
            <a:off x="5076000" y="3933000"/>
            <a:ext cx="2760840" cy="27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5B8-F728-4896-852E-9D2913C08C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49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ечень должностей работников с ненормированным рабочим днем устанавливается коллективным договором, соглашением или правилами внутреннего трудового распорядка орган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сява\Desktop\images.jpg"/>
          <p:cNvPicPr/>
          <p:nvPr/>
        </p:nvPicPr>
        <p:blipFill>
          <a:blip r:embed="rId1"/>
          <a:stretch/>
        </p:blipFill>
        <p:spPr>
          <a:xfrm>
            <a:off x="2411640" y="3213000"/>
            <a:ext cx="4104000" cy="300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EDB-1F89-45D8-A143-36D7B5D161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2" name="Picture 2" descr="C:\Users\Вячеслав\Desktop\prikaz-e1486301884900.png"/>
          <p:cNvPicPr/>
          <p:nvPr/>
        </p:nvPicPr>
        <p:blipFill>
          <a:blip r:embed="rId1"/>
          <a:stretch/>
        </p:blipFill>
        <p:spPr>
          <a:xfrm>
            <a:off x="428760" y="285840"/>
            <a:ext cx="8308800" cy="6143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9D6-F02A-4F6F-B118-57122C006F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548640"/>
            <a:ext cx="8280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ибкое рабочее время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орма организац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чего врем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 которой в определённых пределах работник может самостоятельно определять часы работы в смену по соглашению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рон (ст. 102 ТК Р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сява\Desktop\mirsoeva.jpg"/>
          <p:cNvPicPr/>
          <p:nvPr/>
        </p:nvPicPr>
        <p:blipFill>
          <a:blip r:embed="rId1"/>
          <a:stretch/>
        </p:blipFill>
        <p:spPr>
          <a:xfrm>
            <a:off x="4740480" y="2637000"/>
            <a:ext cx="3809520" cy="333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C10-141C-4941-8EFD-EFD90CFAE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3640" y="562680"/>
            <a:ext cx="8424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менная работа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в две, три или четыре смен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водится в тех случаях, когда длительность производственного процесса превышает допустимую продолжительность ежедневной работы, а также в целях более эффективного использования оборудования, увеличения объема выпускаемой продукции или оказываем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у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сява\Desktop\4K19jGHjoL8.jpg"/>
          <p:cNvPicPr/>
          <p:nvPr/>
        </p:nvPicPr>
        <p:blipFill>
          <a:blip r:embed="rId1"/>
          <a:stretch/>
        </p:blipFill>
        <p:spPr>
          <a:xfrm>
            <a:off x="3996000" y="4150800"/>
            <a:ext cx="4248000" cy="2388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122-66DF-4E64-8FAC-7EDAF79F3E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1640" y="620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рафики сменности, являются приложением к коллективному договор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оводятся до сведения работнико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позднее чем за 1 месяц до введение в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БОТА В ТЕЧЕНИЕ 2 СМЕН ПОДРЯД ЗАПРЕЩАЕТСЯ!!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.103 ТК РФ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662-675D-4F61-B639-EB19007E55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ахтовый метод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ая форма осуществления трудового процесса вне места постоянного проживания работников, когда не может быть обеспеченно ежедневное  их возвращение к месту постоянного прожи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сява\Desktop\48555414.jpg"/>
          <p:cNvPicPr/>
          <p:nvPr/>
        </p:nvPicPr>
        <p:blipFill>
          <a:blip r:embed="rId1"/>
          <a:stretch/>
        </p:blipFill>
        <p:spPr>
          <a:xfrm>
            <a:off x="467640" y="3701520"/>
            <a:ext cx="3960000" cy="27374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123" name="Picture 3" descr="C:\Users\сява\Desktop\13.jpg"/>
          <p:cNvPicPr/>
          <p:nvPr/>
        </p:nvPicPr>
        <p:blipFill>
          <a:blip r:embed="rId2"/>
          <a:stretch/>
        </p:blipFill>
        <p:spPr>
          <a:xfrm>
            <a:off x="4577400" y="3701520"/>
            <a:ext cx="4128120" cy="27374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24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5A4-EAE1-4FF1-856A-A769708328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352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жим раздробленного рабочего дн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ен для некоторых работников, например, для животноводов (часы уборки, кормления животных, дойка коров – остальное время свободно от работ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и при таком режим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должен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ботать за неделю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яц положенно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рабочи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7" name="Picture 2" descr="C:\Users\Вячеслав\Desktop\902baba8f_300x180.jpg"/>
          <p:cNvPicPr/>
          <p:nvPr/>
        </p:nvPicPr>
        <p:blipFill>
          <a:blip r:embed="rId1"/>
          <a:stretch/>
        </p:blipFill>
        <p:spPr>
          <a:xfrm>
            <a:off x="4716000" y="2997000"/>
            <a:ext cx="4032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9D1-8495-458C-B6C6-B31DEC1E5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7640" y="548640"/>
            <a:ext cx="835272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овместительство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 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полнение работником другой регулярной оплачиваемой работы на условиях трудового договора в свободное от основной работы время (ст.282 ТК РФ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местительство может осуществляться работником   по месту его основной работы (внутреннее) и в другой организации (внешнее).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должительность работы по совместительству не может превышать четырех часов в ден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по совместительству оплачивается в зависимости от проработанного времени или выработ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961-C944-4EBE-B13C-4FCB62D101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Статья 106. Время отдыха</a:t>
            </a:r>
            <a:endParaRPr b="0" lang="ru-RU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 отдых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, в течение которого работник свободен от исполнения трудовых обязанностей и которое он может использовать по своему усмотрен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сява\Desktop\555055d12bd03b0f5e8f8758742a7aaa_w600_h400_cp.jpg"/>
          <p:cNvPicPr/>
          <p:nvPr/>
        </p:nvPicPr>
        <p:blipFill>
          <a:blip r:embed="rId1"/>
          <a:stretch/>
        </p:blipFill>
        <p:spPr>
          <a:xfrm>
            <a:off x="4716000" y="3645000"/>
            <a:ext cx="3960000" cy="28857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133" name="Picture 3" descr="C:\Users\сява\Desktop\1449820503.4456.681557394.jpg"/>
          <p:cNvPicPr/>
          <p:nvPr/>
        </p:nvPicPr>
        <p:blipFill>
          <a:blip r:embed="rId2"/>
          <a:stretch/>
        </p:blipFill>
        <p:spPr>
          <a:xfrm>
            <a:off x="539640" y="3645000"/>
            <a:ext cx="3960000" cy="28857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34" name="PlaceHolder 3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665-C7F0-457F-8E7E-72258C9EFD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1640" y="548640"/>
            <a:ext cx="8712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рудовое законодательство устанавливает следующие виды рабочего времени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нормальная продолжительность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сокращенная продолжительность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неполное рабочее врем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сява\Desktop\audit_rabochego_vremeni._metod_momentnyh_nablyudeniy-400x280.jpg"/>
          <p:cNvPicPr/>
          <p:nvPr/>
        </p:nvPicPr>
        <p:blipFill>
          <a:blip r:embed="rId1"/>
          <a:stretch/>
        </p:blipFill>
        <p:spPr>
          <a:xfrm>
            <a:off x="2555640" y="3236040"/>
            <a:ext cx="5760360" cy="327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BBB-40B3-483E-A2FE-5EF9B4D8A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86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идами времени отдыха являю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ерерывы в течение рабочего дня    (смены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ежедневный (междусменный) отдых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ыходные дни (еженедельный непрерывный отдых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ерабочие праздничные д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тпус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сява\Desktop\images.jpg"/>
          <p:cNvPicPr/>
          <p:nvPr/>
        </p:nvPicPr>
        <p:blipFill>
          <a:blip r:embed="rId1"/>
          <a:stretch/>
        </p:blipFill>
        <p:spPr>
          <a:xfrm>
            <a:off x="3357720" y="4143240"/>
            <a:ext cx="3708720" cy="1786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57C-A177-4696-BD4D-BF4F527148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течение рабочего дня (смены) работнику должен быть предоставлен перерыв для отдыха и питания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должительностью не более двух часов и не менее 30 минут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торый в рабочее время не включаетс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сява\Desktop\article3888.jpg"/>
          <p:cNvPicPr/>
          <p:nvPr/>
        </p:nvPicPr>
        <p:blipFill>
          <a:blip r:embed="rId1"/>
          <a:stretch/>
        </p:blipFill>
        <p:spPr>
          <a:xfrm>
            <a:off x="5364000" y="3833640"/>
            <a:ext cx="3024000" cy="2763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3B6-7024-495B-B21E-F65B2D435D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424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огласно статье 109 ТК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ам работающим в холодное время года на открытом воздухе или в закрытых необогреваемых помещениях предоставляются специальные перерывы для обогрева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Ежедневный междусменный отдых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время между окончанием работы и ее началом на следующий день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ость еженедельного непрерывного отдыха не может быть менее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2 ча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т. 110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F35-3E7D-47CF-8D51-94B7A6DB94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640" y="404640"/>
            <a:ext cx="871272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м работникам предоставляется выходные дн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и пятидневно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ей недели - два выходных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и шестиднев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ей недели – один выходной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бщим выходным днем является воскресенье (ст. 111 ТК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сява\Desktop\konkurs-ot-tvoj-vyxodnoj--priglasi-druga.jpg"/>
          <p:cNvPicPr/>
          <p:nvPr/>
        </p:nvPicPr>
        <p:blipFill>
          <a:blip r:embed="rId1"/>
          <a:stretch/>
        </p:blipFill>
        <p:spPr>
          <a:xfrm>
            <a:off x="1785960" y="3429000"/>
            <a:ext cx="5641200" cy="3202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CF8-3F37-494B-B06A-40FA659382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12. Нерабочие праздничные д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32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абочими праздничными днями в Российской   Федерации я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, 2, 3, 4, 5, 6 и 8 января - Новогодние канику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7 января - Рождество Христово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23 февраля - День защитника Отечеств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8 марта - Международный женский ден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 мая - Праздник Весны и Труд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9 мая - День Побед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2 июня - День Росс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 ноября - День народного единст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622-86F0-41B6-BCE3-9FA4A1BBCC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8640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Статья 114. Ежегодные оплачиваемые отпуска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640" y="1124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предоставляются ежегодные отпуска с сохранением места работы (должности) и среднего заработ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отпуска в зависимости от цели их предоставления можно разделить на две групп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51600" indent="-5144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тпуска, предоставляемые для восстановления трудоспособ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51600" indent="-5144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тпуска, предоставление которых связанно с социальным статусом работни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3F5-B331-4BCD-B667-79CD7A2AB029}" type="slidenum">
              <a:t>35</a:t>
            </a:fld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12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  <a:p>
            <a:pPr marL="135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 отпускам предоставляемым для восстановления трудоспособности относя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644760" indent="-50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й ежегодный оплачиваемый отпуск предоставляется продолжительностью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8 календарных дн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644760" indent="-50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линенный основной ежегодный отпуск предоставляется несовершеннолетним в возрасте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 л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1 календарный ден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а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42 – до 56 календарных дн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алидам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 30 календарных дн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5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378-01AC-4EBC-B75D-3F81993F72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. Дополнительные ежегодные оплачиваемые  отпуска (ст.116 ТК РФ), предоста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занятым на работах с вредными или опасными условиями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 рабочи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имеющим особый характер работы (гос. служащие)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 календарны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с ненормированным рабочим днем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 рабочи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работающим в районах крайнего севера и приравненных к ним местностям –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2 календарных д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D63-F253-445F-A38A-AB7B52939A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 отпускам второй группы относятся отпуска связанные с социальным статусом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а имеющие семейные обязанности (женщины по беременности и родам, женщины усыновившие ребенка или де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а работникам совмещающим работу и учебу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 без сохранения заработной пла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AF0-B44E-4F54-B417-CB11D74028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атья 122. Порядок предоставления ежегодных оплачиваемых отпусков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4639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лачиваемый отпуск должен предоставляться работнику ежегодно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о на использование отпуск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а первый год рабо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никает у работник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 истечении шести месяце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непрерывной работы в данной организации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170-24BB-4AED-93FA-87EFC79EA7FE}" type="slidenum">
              <a:t>39</a:t>
            </a:fld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92. Сокращенная продолжительность рабочего време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908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ращенная продолжительность рабочего времени устанавливае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до 16 лет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от 16 до 18 лет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, являющихся инвалидами 1 или 2 группы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533-1E93-46C0-9E89-43489EEFF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640" y="260640"/>
            <a:ext cx="89640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18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о истечения шести месяцев непрерывной работы оплачиваемый отпуск по заявлению работника должен быть предоставлен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нщинам - перед отпуском по беременности и родам или непосредственно после него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 в возрасте до 18 ле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, усыновившим ребенка (детей) в возрасте до 3 месяце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угих случаях, предусмотренных федеральными зако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 за второй и последующие годы работы может предоставляться в любое время рабочего года в соответствии с очередностью предоставления ежегодных оплачиваемых отпусков, установленной в данной организ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2EA-8529-4F11-80A0-6C02204D04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4. Продление или перенесение ежегодного оплачиваемого отпуск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29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жегодный оплачиваемый отпуск должен быть продлен или перенесен на другой срок, определяемый работодателем с учетом пожеланий работника, в случаях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енной нетрудоспособности работни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ения работником во время ежегодного оплачиваемого отпуска государственных обязанностей, если для этого трудовым законодательством предусмотрено освобождение от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B49-B354-404F-A1F8-5D5839B527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5. Разделение ежегодного оплачиваемого отпуска. Отзыв из отпус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4880" y="1556640"/>
            <a:ext cx="8856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соглашению между работникам и работодателем ежегодный оплачиваемый отпуск может быть разделен на части. При этом хотя бы одна из частей этого отпуска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менее 14 дн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зыв работника из отпуска допускается только с его согласия!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5F2-1602-4992-8D47-C80325849E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6. Замена ежегодного оплачиваемого отпуска денежной компенс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ь ежегодного оплачиваемого отпуска, превышающая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8 календарных дн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по письменному заявлению работника может быть заменена денежной компенсаци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EAC-D5E3-4119-9C42-F92F0C79DA8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атья 126. Замена ежегодного оплачиваемого отпуска денежной компенс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1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допускается замена денежной компенсацией ежегодного основного оплачиваемого отпуска и ежегодных дополнительных оплачиваемых отпуск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менным женщина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 в возрасте до 18 ле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, занятым на работах с вредными и (или) опасными условиями тру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78B-D75E-4AB9-93A0-F50DD68719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татья 127. Реализация права на отпуск при увольнении работни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3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вольнен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 работник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ыплачивается денежная компенсация за все неиспользованные отпуска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13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исьменному заявлени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ника неиспользованные отпуска могут быть предоставлены ему с последующим увольнением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(за исключением случаев увольнения за виновные действия)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 этом днем увольнения считается последний день отпуска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7F0-3D1A-427C-8E8C-E8B9FA2850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8. Отпуск без сохранения заработной пла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емейным обстоятельствам и другим уважительным причинам работнику по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сьменному заявл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быть предоставлен отпуск без сохранения заработной платы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которого определяется по соглашению между работником и работодателем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одатель обязан на основании письменного заявления работника предоставить отпуск без сохранения заработной платы: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никам Великой Отечественной войны - д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лендарных дней в году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ющим пенсионерам по старости (по возрасту) - д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лендарных дней в году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350-A670-49CC-840D-2A8D02473F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одителям и женам (мужьям) военнослужащих, сотрудников органов внутренних дел, федеральной противопожарной службы, таможенных органов, сотрудников учреждений и органов уголовно-исполнительной системы, погибших или умерших вследствие ранения, контузии или увечья, полученных при исполнении обязанностей военной службы (службы), либо вследствие заболевания, связанного с прохождением военной службы (службы)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14 календарных дней в году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ающим инвалидам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60 календарных дней в году;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никам в случаях рождения ребенка, регистрации брака, смерти близких родственников –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5 календарных дн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801-17E6-4F31-9F14-B670FADD78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64296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C:\Users\сява\Desktop\slide_34.jpg"/>
          <p:cNvPicPr/>
          <p:nvPr/>
        </p:nvPicPr>
        <p:blipFill>
          <a:blip r:embed="rId1"/>
          <a:srcRect l="22008" t="43475" r="24181" b="0"/>
          <a:stretch/>
        </p:blipFill>
        <p:spPr>
          <a:xfrm>
            <a:off x="2071800" y="250020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523-CEA0-448D-9D9E-30658A2E250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, занятых на работах с вредными и (или) опасными условиями труда – не бол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учащихся образовательных учреждений, работающих в свободное от учебы время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едагогических работников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медицинских работников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A31-E49E-4E51-A6DF-6EA7EBB80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93. Неполное рабочее врем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71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полное рабочее время может быть трех видов: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ый рабочий день (сокращается количество рабочих часов в ден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ая рабочая смена (сокращается количество рабочих часов  течении смены)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ая рабочая неделя (сокращено количество рабочих дней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неполном рабочем времени труд работника оплачивается пропорционально отработанному времени или в зависимости от вырабо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B1E3F6-7078-49AF-8862-33085C49E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640" y="47664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становить неполное рабочее время возможно 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95320" indent="-36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бщему правилу, соглашение между работником и работодателе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и поступлении на работу или в период работ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сява\Desktop\index.jpg"/>
          <p:cNvPicPr/>
          <p:nvPr/>
        </p:nvPicPr>
        <p:blipFill>
          <a:blip r:embed="rId1"/>
          <a:stretch/>
        </p:blipFill>
        <p:spPr>
          <a:xfrm>
            <a:off x="4038480" y="2714760"/>
            <a:ext cx="4061520" cy="355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FE2-3971-4A2F-B321-49BCF0302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640" y="47664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работодатель обязан устанавливать режим неполного рабочего времени по просьб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менной женщин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го из родителей (опекуна, попечителя), имеющего ребенка в возрасте до 14 лет (ребенка-инвалида в возрасте до 18 лет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ца, осуществляющего уход за больным членом семьи в соответствии с медицинским заключени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A33-AC66-4741-9FBD-E988E04ED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МЕР 1 (неполный рабочий день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ООО "Ромашка" установлен восьмичасовой рабочий день при пятидневной рабочей неделе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лад менеджера Иванова И.И. равен 45 000 руб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 1 октября 2021 г. Иванов переведен на неполный рабочий день - в соответствии с соглашением с работодателем ему установл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асовой рабочий день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и сохранении пятидневной рабочей недел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При этом установлено, что оплата труда производится пропорционально отработанному времени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тябрь 2021 г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ванов отработал полностью (не болел, не брал отпуск, отгулы и т.п.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 октябрь бухгалтер рассчитает ему зарплату так: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 производственному календарю в октябре 2021 г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й день (при пятидневной рабочей неделе) и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часов (при 40-ка часовой рабочей неделе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ванов отработал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часов (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 дн. x 6 ч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ответственно, за октябрь ему должна быть начислена зарплата в размере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3 750,00 руб. (45 000 руб. : 168 ч x 126 ч)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0061B4-DC93-4C16-AA17-323A51CB9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  <Words>2232</Words>
  <Paragraphs>2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6:07:19Z</dcterms:created>
  <dc:creator>User</dc:creator>
  <dc:description/>
  <dc:language>en-US</dc:language>
  <cp:lastModifiedBy>Вячеслав</cp:lastModifiedBy>
  <dcterms:modified xsi:type="dcterms:W3CDTF">2024-02-11T12:02:06Z</dcterms:modified>
  <cp:revision>14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8</vt:r8>
  </property>
</Properties>
</file>