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6E5-9C65-4501-AE9F-51F2E32FC7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8181-5AE3-43F9-AE16-223E3C2E9B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D96-4C32-4653-A753-63DCDA1F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376-656C-40CC-BC43-87C7B005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09E-5AA8-474E-A673-2808CE8A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65D-469A-486C-8E21-0FB8EBF6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FDF7-F47E-4A84-BCEA-5A2146DC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C8F6-94E0-4075-A8A8-3EBC358F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B376-A49A-4BED-A8EA-E5098DF1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4271-4930-4568-9F7F-90F7D96E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8D0A-E211-4929-9B7B-FE509AA8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C6CC-4A16-4443-B8CE-0CB12058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D5C8-8482-48E8-88A7-96C233E8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A21-A82F-4E03-A2CD-98D6640B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FD73-A0ED-40EA-9CAC-A5BAFCC6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40D4-1443-4371-A7B5-F710806A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CFAD-7773-45FF-86B8-350309AA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C972-CE12-4BB6-BF71-2EC6A69D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7FB0-4219-4D61-ADCF-5578568A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D11C-F747-47FD-8850-FBA3FD79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CDEB-D2D9-47CF-8511-8B90B8D0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EF50-B06F-4DD0-8274-E2D2639A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FB8F-EB56-4B43-8F5B-670A8679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761E4-26CC-4EC8-892F-17C388FB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F6A-32C4-4696-94E1-72D22D32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291E-CF2C-47E9-81E0-756F5216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B67C-C599-437C-BE5C-6B95D445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5A1EC-41A4-41E5-AFD6-55C5D619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0FEE-5684-4BF6-92B4-08FDFBED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5B78-627D-4E49-B34E-611113D8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79800-A669-4839-9126-DD65DDD5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22AF-C6A1-42C5-9272-A44D4BD3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1DE-32BE-4253-9765-6756AEE3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5A2-3D33-425C-AA2E-2B2C54F6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4E9-D5EE-4EB9-8422-CBEF27E6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7A4-0679-4121-ACF3-E940435D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A5D-B3E0-4491-AAE0-D1329899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388-3431-4D92-AC78-B8ABCED4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72E8-9B6B-4C8B-84E6-38B6579BF403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924A-5D80-466F-87A0-CF0B061CC5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C1AE-93FD-489C-A50E-F205738083FF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ehint://type=image&amp;src=/DATA/components/inform1/miiska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nterdoka.ru/kulinaria/1982/3_bluda_katof_ovosh_gribi/2_tushoniy/6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КРУЖОК «КУЛИНАРИЯ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12.05.2020Г.  ГР№2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ТЕМА: ПРИГОТОВЛЕНИЯ БЛЮД ИЗ ОВОЩЕЙ И ГРИБОВ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68320" y="3809880"/>
            <a:ext cx="6858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418ab3"/>
                </a:solidFill>
                <a:latin typeface="Corbel"/>
              </a:rPr>
              <a:t>Мастер п/о: Джелялова Д.Р. </a:t>
            </a:r>
            <a:r>
              <a:rPr b="0" lang="en-US" sz="3200" spc="-1" strike="noStrike">
                <a:solidFill>
                  <a:srgbClr val="418ab3"/>
                </a:solidFill>
                <a:latin typeface="Corbel"/>
              </a:rPr>
              <a:t>dilyarajelyalova@yandex.u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61640"/>
            <a:ext cx="693396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800" spc="-1" strike="noStrike">
                <a:solidFill>
                  <a:srgbClr val="a6b727"/>
                </a:solidFill>
                <a:latin typeface="Corbel"/>
              </a:rPr>
              <a:t>Алгоритм трудовых действий повара:</a:t>
            </a:r>
            <a:endParaRPr b="0" lang="en-US" sz="3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475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Выполнение подготовительных работ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Приемка сырья по количеству и качеству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Обоснование выбора способа первичной обработки сырья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a6b727"/>
                </a:solidFill>
                <a:latin typeface="Corbel"/>
              </a:rPr>
              <a:t>Обоснование выбора оборудования, инвентаря и инструментов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Приготовление  полуфабрикатов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Проведение бракеража полуфабрикатов на соответствие требованиям к качеству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Приготовление блюда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Проведение бракеража блюда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Обоснование выбора варианта оформления и сервировки блюда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Определение сроков реализации и условия хранения  блюда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Выполнение заключительных работ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85360" y="187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Нам потребуется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58640"/>
            <a:ext cx="6348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Столы производственные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лита электрическая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ароконвектомат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61" name="Рисунок 6" descr=""/>
          <p:cNvPicPr/>
          <p:nvPr/>
        </p:nvPicPr>
        <p:blipFill>
          <a:blip r:embed="rId1"/>
          <a:stretch/>
        </p:blipFill>
        <p:spPr>
          <a:xfrm>
            <a:off x="0" y="3276720"/>
            <a:ext cx="5372280" cy="35812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"/>
          <p:cNvPicPr/>
          <p:nvPr/>
        </p:nvPicPr>
        <p:blipFill>
          <a:blip r:embed="rId2"/>
          <a:stretch/>
        </p:blipFill>
        <p:spPr>
          <a:xfrm>
            <a:off x="4489560" y="0"/>
            <a:ext cx="4887720" cy="3537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ttps://alftorg.ru/upload/iblock/5a5/5a56d724e396ae8e8e6bc370c36790e7.jpg"/>
          <p:cNvPicPr/>
          <p:nvPr/>
        </p:nvPicPr>
        <p:blipFill>
          <a:blip r:embed="rId3"/>
          <a:stretch/>
        </p:blipFill>
        <p:spPr>
          <a:xfrm>
            <a:off x="4876920" y="3427560"/>
            <a:ext cx="449244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Керамический горшок"/>
          <p:cNvPicPr/>
          <p:nvPr/>
        </p:nvPicPr>
        <p:blipFill>
          <a:blip r:embed="rId1"/>
          <a:stretch/>
        </p:blipFill>
        <p:spPr>
          <a:xfrm>
            <a:off x="2873520" y="4181400"/>
            <a:ext cx="1904760" cy="2381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http://kitchen-profi.kz/image/cache/data/mauviel/41e4x-2BIj6pL-700x700.jpg"/>
          <p:cNvPicPr/>
          <p:nvPr/>
        </p:nvPicPr>
        <p:blipFill>
          <a:blip r:embed="rId2"/>
          <a:stretch/>
        </p:blipFill>
        <p:spPr>
          <a:xfrm>
            <a:off x="4203720" y="2346480"/>
            <a:ext cx="2476440" cy="2476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0" y="15228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Для тушения используют не только кастрюли, но и сотейники, жаровни, утятницы, керамические горшки, казан, жаровни, чугунки.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В процессе приготовления различных блюд также могут потребоваться </a:t>
            </a:r>
            <a:r>
              <a:rPr b="0" lang="ru-RU" sz="2000" spc="-1" strike="noStrike" u="sng">
                <a:solidFill>
                  <a:srgbClr val="f59e00"/>
                </a:solidFill>
                <a:uFillTx/>
                <a:latin typeface="Corbel"/>
                <a:hlinkClick r:id="rId3"/>
              </a:rPr>
              <a:t>миски</a:t>
            </a: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различных размеров.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67" name="Picture 7" descr="https://media2.24aul.ru/imgs/56220ce523bbeb3e7c3f170c/nabor-kastryul-winner-wr1102-8prnerzhstalzerkalnaya-1-6284521.jpg"/>
          <p:cNvPicPr/>
          <p:nvPr/>
        </p:nvPicPr>
        <p:blipFill>
          <a:blip r:embed="rId4"/>
          <a:stretch/>
        </p:blipFill>
        <p:spPr>
          <a:xfrm>
            <a:off x="380880" y="2403360"/>
            <a:ext cx="3622680" cy="217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Казан"/>
          <p:cNvPicPr/>
          <p:nvPr/>
        </p:nvPicPr>
        <p:blipFill>
          <a:blip r:embed="rId5"/>
          <a:stretch/>
        </p:blipFill>
        <p:spPr>
          <a:xfrm>
            <a:off x="7058160" y="2346480"/>
            <a:ext cx="1904760" cy="2381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https://im0-tub-ru.yandex.net/i?id=fda23bc9da78e20e8376bb563721f664-l&amp;n=13"/>
          <p:cNvPicPr/>
          <p:nvPr/>
        </p:nvPicPr>
        <p:blipFill>
          <a:blip r:embed="rId6"/>
          <a:stretch/>
        </p:blipFill>
        <p:spPr>
          <a:xfrm>
            <a:off x="250920" y="4727520"/>
            <a:ext cx="2568600" cy="183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http://parivari.ru/images/goods/ec27b618a4b1c8ebc6af89415cf21c5e_full.jpg"/>
          <p:cNvPicPr/>
          <p:nvPr/>
        </p:nvPicPr>
        <p:blipFill>
          <a:blip r:embed="rId7"/>
          <a:stretch/>
        </p:blipFill>
        <p:spPr>
          <a:xfrm>
            <a:off x="5442120" y="4727520"/>
            <a:ext cx="23302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Также необходимы:</a:t>
            </a:r>
            <a:br>
              <a:rPr sz="4000"/>
            </a:b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доски разделочные</a:t>
            </a:r>
            <a:br>
              <a:rPr sz="4000"/>
            </a:b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ножи поварские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73" name="Picture 2" descr="http://to-corpvolga.ru/img/catalog/products/1674345022.jpg"/>
          <p:cNvPicPr/>
          <p:nvPr/>
        </p:nvPicPr>
        <p:blipFill>
          <a:blip r:embed="rId1"/>
          <a:stretch/>
        </p:blipFill>
        <p:spPr>
          <a:xfrm>
            <a:off x="304920" y="2438280"/>
            <a:ext cx="5105160" cy="419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restmarket.com/nozhi/povar3/mini_C119.jpg"/>
          <p:cNvPicPr/>
          <p:nvPr/>
        </p:nvPicPr>
        <p:blipFill>
          <a:blip r:embed="rId2"/>
          <a:stretch/>
        </p:blipFill>
        <p:spPr>
          <a:xfrm>
            <a:off x="5486400" y="2571840"/>
            <a:ext cx="34336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7560" y="55836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Сегодня на уроке мы будем готовить:</a:t>
            </a: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 капусту тушеную, </a:t>
            </a: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капусту, тушеную с грибами,</a:t>
            </a: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 картофель и овощи, тушеные в соусе, </a:t>
            </a: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рагу из овощей, </a:t>
            </a: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картофель, тушеный грибами и луком.</a:t>
            </a:r>
            <a:br>
              <a:rPr sz="2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м алгоритм выполнения данной работы: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782520" y="2550600"/>
            <a:ext cx="63500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rbel"/>
              </a:rPr>
              <a:t>Организация рабочего места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rbel"/>
              </a:rPr>
              <a:t>Первичная обработка овощей и нарезка овощей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rbel"/>
              </a:rPr>
              <a:t>Приготовление тушеных овощей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77" name="Picture 6" descr="http://p.ocdn.ee/17/i/000077/x-1ba7831c-d283-4146-a2b7-1d068fa1a62f.jpg"/>
          <p:cNvPicPr/>
          <p:nvPr/>
        </p:nvPicPr>
        <p:blipFill>
          <a:blip r:embed="rId1"/>
          <a:stretch/>
        </p:blipFill>
        <p:spPr>
          <a:xfrm>
            <a:off x="279360" y="4038480"/>
            <a:ext cx="45370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риготовление капусты тушеной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1066680"/>
            <a:ext cx="4419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Нарезанную соломкой свежую капусту кладут в котел, добавляют бульон или воду уксус, жир, пассерованное томатное пюре и тушат до полуготовносги при периодическом помешивании. Затем добавляют пассерованные нарезанные соломкой морковь, коренья и лук, лавровый лист, перец и тушат до готовности. За 5 мин до конца тушения капусту заправляют мучной пассеровкой, сахаром, солью и вновь доводят до кипения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При отпуске можно посыпать мелко нарезанной зеленью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0" name="Picture 5" descr="http://howcooktasty.ru/wp-content/uploads/2016/12/%D0%A2%D1%83%D1%88%D0%B5%D0%BD%D0%B0%D1%8F-%D0%BA%D0%B0%D0%BF%D1%83%D1%81%D1%82%D0%B0.jpg"/>
          <p:cNvPicPr/>
          <p:nvPr/>
        </p:nvPicPr>
        <p:blipFill>
          <a:blip r:embed="rId1"/>
          <a:stretch/>
        </p:blipFill>
        <p:spPr>
          <a:xfrm>
            <a:off x="4191120" y="1523880"/>
            <a:ext cx="4775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риготовление капусты тушеной с грибами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350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Капусту тушат, как указано в рец. </a:t>
            </a:r>
            <a:r>
              <a:rPr b="0" lang="ru-RU" sz="2400" spc="-1" strike="noStrike" u="sng">
                <a:solidFill>
                  <a:srgbClr val="f59e00"/>
                </a:solidFill>
                <a:uFillTx/>
                <a:latin typeface="Corbel"/>
                <a:hlinkClick r:id="rId1"/>
              </a:rPr>
              <a:t>капуста тушеная</a:t>
            </a: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Свежие грибы, нарезанные дольками, жарят до готовности. Сушеные грибы замачивают, варят, нарезают соломкой и обжаривают. Подготовленные грибы смешивают с тушеной капустой, обжаренным картофелем и тушат до готовности.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ри отпуске можно посыпать мелко нарезанной зеленью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3" name="Picture 6" descr="http://alfarielty.ru/img/5a9fd2d0efb2cb77a1a3d858341a99a9.jpg"/>
          <p:cNvPicPr/>
          <p:nvPr/>
        </p:nvPicPr>
        <p:blipFill>
          <a:blip r:embed="rId2"/>
          <a:stretch/>
        </p:blipFill>
        <p:spPr>
          <a:xfrm>
            <a:off x="4191120" y="2057400"/>
            <a:ext cx="4724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000" y="34560"/>
            <a:ext cx="8999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риготовление картофеля и овощей, тушеных в соусе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880" y="1369080"/>
            <a:ext cx="3810240" cy="502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Картофель и коренья, нарезанные дольками, слегка обжаривают по отдельности, лук пассеруют, соединяют и заливают соусом красным, или томатным, или сметанным, добавляют перец горошком, лавровый лист, соль и тушат. Консервированный зеленый горошек кладут за 5 мин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6" name="Picture 6" descr="http://kuhnya.org/uploads/iRecipe/photos/large/Feb-2012/kartofel_tushenyj_s_ovocshami_s3xdu.jpg"/>
          <p:cNvPicPr/>
          <p:nvPr/>
        </p:nvPicPr>
        <p:blipFill>
          <a:blip r:embed="rId1"/>
          <a:stretch/>
        </p:blipFill>
        <p:spPr>
          <a:xfrm>
            <a:off x="4191120" y="2301840"/>
            <a:ext cx="47052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риготовление  рагу из овощей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Нарезанные дольками или кубиками картофель и коренья слегка обжаривают, лук пассеруют. Капусту белокочанную нарезают шашками, припускают, цветную - разбирают на отдельные кочешки и варят. Затем картофель и овощи соединяют с соусом красным, или томатным, или сметанным и тушат 10-15 мин. После этого добавляют нарезанную сырую тыкву или кабачки, очищенные от кожицы и семян, припущенную белокочанную капусту или вареную цветную капусту и продолжают тушить 15-20 мин. За 5-10 мин до готовности кладут горошек зеленый консервированный, растертый чеснок и специи. При отпуске рагу поливают жиром и посыпают зеленью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9" name="Picture 8" descr="http://kushay.info/uploads/posts/2014-02/1392034496_ovoshhnoe-ragu-s-myasom-v-multivarke-polaris.jpg"/>
          <p:cNvPicPr/>
          <p:nvPr/>
        </p:nvPicPr>
        <p:blipFill>
          <a:blip r:embed="rId1"/>
          <a:stretch/>
        </p:blipFill>
        <p:spPr>
          <a:xfrm>
            <a:off x="4572000" y="19051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риготовление  картофеля тушеного с грибами и луком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Нарезанные дольками или кубиками картофель и коренья слегка обжаривают, лук пассеруют. Капусту белокочанную нарезают шашками, припускают, цветную - разбирают на отдельные кочешки и варят. Затем картофель и овощи соединяют с соусом красным, или томатным, или сметанным и тушат 10-15 мин. После этого добавляют нарезанную сырую тыкву или кабачки, очищенные от кожицы и семян, припущенную белокочанную капусту или вареную цветную капусту и продолжают тушить 15-20 мин. За 5-10 мин до готовности кладут горошек зеленый консервированный, растертый чеснок и специи. При отпуске рагу поливают жиром и посыпают зеленью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92" name="Picture 8" descr="http://kushay.info/uploads/posts/2014-02/1392034496_ovoshhnoe-ragu-s-myasom-v-multivarke-polaris.jpg"/>
          <p:cNvPicPr/>
          <p:nvPr/>
        </p:nvPicPr>
        <p:blipFill>
          <a:blip r:embed="rId1"/>
          <a:stretch/>
        </p:blipFill>
        <p:spPr>
          <a:xfrm>
            <a:off x="4572000" y="19051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38" name="Picture 8" descr="http://www.nefisyemekmutfagi.com/wp-content/uploads/2014/06/karisik-guvec-tarifi-malzemeleri-yapilisi-nefis-yemek-com.jpg"/>
          <p:cNvPicPr/>
          <p:nvPr/>
        </p:nvPicPr>
        <p:blipFill>
          <a:blip r:embed="rId1"/>
          <a:stretch/>
        </p:blipFill>
        <p:spPr>
          <a:xfrm>
            <a:off x="-23760" y="0"/>
            <a:ext cx="5207040" cy="31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ttp://cdn01.ru/files/users/images/d5/bc/d5bc7bd26fb33a137aa7c139122ff7cf.jpg"/>
          <p:cNvPicPr/>
          <p:nvPr/>
        </p:nvPicPr>
        <p:blipFill>
          <a:blip r:embed="rId2"/>
          <a:stretch/>
        </p:blipFill>
        <p:spPr>
          <a:xfrm>
            <a:off x="5638680" y="228600"/>
            <a:ext cx="3286080" cy="3124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http://howcooktasty.ru/wp-content/uploads/2013/09/98135826_1362512452_Ruyba.jpg"/>
          <p:cNvPicPr/>
          <p:nvPr/>
        </p:nvPicPr>
        <p:blipFill>
          <a:blip r:embed="rId3"/>
          <a:stretch/>
        </p:blipFill>
        <p:spPr>
          <a:xfrm>
            <a:off x="3308400" y="3124080"/>
            <a:ext cx="5835600" cy="375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https://previews.123rf.com/images/alexkava/alexkava1112/alexkava111200195/11650274-chef-hat-with-spoon-and-fork-Stock-Vector-kitchen.jpg"/>
          <p:cNvPicPr/>
          <p:nvPr/>
        </p:nvPicPr>
        <p:blipFill>
          <a:blip r:embed="rId4"/>
          <a:stretch/>
        </p:blipFill>
        <p:spPr>
          <a:xfrm>
            <a:off x="574560" y="3375000"/>
            <a:ext cx="22939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Требования к качеству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066320"/>
            <a:ext cx="48006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49040" indent="-118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Тушеные овощи имеют одинаковую форму нарезки, картофель — частично разварившийся. Консистенция овощей мягкая, у капусты упругая. Цвет соответствует используемому виду овощей, но допускается изменение до бурого. У тушеных овощей не должно быть запаха за­паренных овощей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95" name="Picture 6" descr="http://www.gigagerc.ru/image/keys/309650"/>
          <p:cNvPicPr/>
          <p:nvPr/>
        </p:nvPicPr>
        <p:blipFill>
          <a:blip r:embed="rId1"/>
          <a:stretch/>
        </p:blipFill>
        <p:spPr>
          <a:xfrm>
            <a:off x="4800600" y="2057400"/>
            <a:ext cx="39686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9000" y="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ВНИМАНИЕ!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88640" y="990720"/>
            <a:ext cx="8762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 </a:t>
            </a:r>
            <a:r>
              <a:rPr b="1" lang="ru-RU" sz="2000" spc="-1" strike="noStrike">
                <a:solidFill>
                  <a:srgbClr val="a6b727"/>
                </a:solidFill>
                <a:latin typeface="Corbel"/>
              </a:rPr>
              <a:t>Требования охраны труда перед началом работы с кухонной электроплитой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Надеть спецодежду, волосы заправить под косынку или колпак. Проверить наличие на полу около кухонной электроплиты специальных диэлектрических ковриков.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 </a:t>
            </a:r>
            <a:r>
              <a:rPr b="1" lang="ru-RU" sz="2000" spc="-1" strike="noStrike">
                <a:solidFill>
                  <a:srgbClr val="a6b727"/>
                </a:solidFill>
                <a:latin typeface="Corbel"/>
              </a:rPr>
              <a:t>Требования охраны труда во время работы с кухонной электроплитой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Во время работы с кухонной электроплитой необходимо встать на диэлектрический коврик и включить кухонную электроплиту, при этом убедиться в нормальной и стабильной работе ее нагревательных элементов.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Любые кастрюли или баки заполнять жидкостью не более 3/4 от их объема, в связи с тем чтобы закипающая жидкость не выплескивалась и не переливалась, тем самым не заливала электроплиту.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Крышки горячей посуды на электроплите брать только полотенцем или прихваткой и открывать только от себя, чтобы не получить ожоги выходящего пара.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При снятии посуды с горячей жидкостью с электроплиты особенно соблюдать осторожность, быть внимательным, брать посуду только за ручки полотенцем или прихваткой. </a:t>
            </a:r>
            <a:br>
              <a:rPr sz="2000"/>
            </a:b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21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a6b727"/>
                </a:solidFill>
                <a:latin typeface="Corbel"/>
              </a:rPr>
              <a:t>Сроки хранения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837720"/>
            <a:ext cx="67057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20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Блюдо и гарниры из овощей нельзя долго хранить в горячем состоянии ,т.к. ухудшается качество, снижается пищевая ценность разрушается витамин С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20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Тушеные и запеченные блюда из овощей и блюда из грибов хранят в горячем состоянии не более 2 ч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52680" y="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Подача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63320"/>
            <a:ext cx="8286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 температуре подачи вторые блюда подают только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горячим ,температура подачи не ниже 65 градусов С ,чтобы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блюдо оставалась дольше горячим , фарфоровые тарелки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для подачи горячего блюда подогревают до температуры</a:t>
            </a:r>
            <a:br>
              <a:rPr sz="2400"/>
            </a:b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40-50 ° С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2" name="Picture 2" descr="https://www.rentedlifestyle.com/wp-content/uploads/2015/10/private_chef1.jpg"/>
          <p:cNvPicPr/>
          <p:nvPr/>
        </p:nvPicPr>
        <p:blipFill>
          <a:blip r:embed="rId1"/>
          <a:stretch/>
        </p:blipFill>
        <p:spPr>
          <a:xfrm>
            <a:off x="168120" y="3429000"/>
            <a:ext cx="8823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52140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Тема следующего занятия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8288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a6b727"/>
                </a:solidFill>
                <a:latin typeface="Corbel"/>
              </a:rPr>
              <a:t>«Приготовление,  порционирование, проведение бракеража, сервирование и оформление блюд и гарниров из жареных овощей». 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5" name="Picture 6" descr="http://1eda.ru/img451-500/_31008O6TM.jpg"/>
          <p:cNvPicPr/>
          <p:nvPr/>
        </p:nvPicPr>
        <p:blipFill>
          <a:blip r:embed="rId1"/>
          <a:stretch/>
        </p:blipFill>
        <p:spPr>
          <a:xfrm>
            <a:off x="2743200" y="4267080"/>
            <a:ext cx="382896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http://cs636226.vk.me/v636226108/2711c/gLbr0LW6O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94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51176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иступаем к работе!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" descr=""/>
          <p:cNvPicPr/>
          <p:nvPr/>
        </p:nvPicPr>
        <p:blipFill>
          <a:blip r:embed="rId1"/>
          <a:stretch/>
        </p:blipFill>
        <p:spPr>
          <a:xfrm>
            <a:off x="12600" y="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Домашнее задание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«Составить технологическую карту приготовления: 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ctr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Капуста тушеная;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ctr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свекла тушеная в сметане или соусе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ctr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Рагу из овощей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ctr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42840" y="2163600"/>
            <a:ext cx="8631360" cy="44690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605160" y="45720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изучения темы Вы буд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2"/>
          <a:stretch/>
        </p:blipFill>
        <p:spPr>
          <a:xfrm>
            <a:off x="23760" y="1023840"/>
            <a:ext cx="9041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0" y="-22860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Знать: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характеристику основных видов пряностей, приправ, пищевых добавок, применяемых при приготовлении блюд из овощей и грибов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технику обработки овощей, грибов, пряностей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способы минимизации отходов при нарезке и обработке овощей и грибов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температурный режим и правила приготовления простых блюд и гарниров из овощей и грибов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равила проведения бракеража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способы сервировки и варианты оформления и подачи простых блюд и гарниров, температуру подачи;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виды технологического оборудования и производственного инвентаря, используемых при обработке овощей, грибов, пряностей; правила их безопасного использования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3160" y="380520"/>
            <a:ext cx="75121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Вопросы входного контроля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600" y="914040"/>
            <a:ext cx="832968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1. Перечислите овощи, которые можно приготовить при помощи тушения?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2. Чем полезны тушеные блюда?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3. Перечислите правила туш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4. Перечислите требования к качеству тушеных блюд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8" name="Picture 6" descr="http://babysue.ru/prefix/4737135b17e76206b028eeafffafeb17.jpg"/>
          <p:cNvPicPr/>
          <p:nvPr/>
        </p:nvPicPr>
        <p:blipFill>
          <a:blip r:embed="rId1"/>
          <a:stretch/>
        </p:blipFill>
        <p:spPr>
          <a:xfrm>
            <a:off x="2743200" y="3962520"/>
            <a:ext cx="2963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120" y="304920"/>
            <a:ext cx="80010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1.</a:t>
            </a: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 Перечислите овощи, которые можно приготовить при помощи тушения?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Любые овощи (помидоры, картофель, морковь, лук, кабачки, перец и т.д.)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0" name="Picture 5" descr="http://sfera.fm/content/13b4db8a8a46987104debf44cf4766db.jpg"/>
          <p:cNvPicPr/>
          <p:nvPr/>
        </p:nvPicPr>
        <p:blipFill>
          <a:blip r:embed="rId1"/>
          <a:stretch/>
        </p:blipFill>
        <p:spPr>
          <a:xfrm>
            <a:off x="1413000" y="2590920"/>
            <a:ext cx="6394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2286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a6b727"/>
                </a:solidFill>
                <a:latin typeface="Corbel"/>
              </a:rPr>
              <a:t>2. Чем полезны тушеные блюда?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Такой метод приготовления пищи считается самым здоровым и наиболее щадящим. Тушение в отличие от варки сохраняет больше витаминов и минералов, которые содержатся в продуктах. 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2" name="Picture 5" descr="http://bagiraclub.ru/images/bagiraclub/2017/01/v14.jpg"/>
          <p:cNvPicPr/>
          <p:nvPr/>
        </p:nvPicPr>
        <p:blipFill>
          <a:blip r:embed="rId1"/>
          <a:stretch/>
        </p:blipFill>
        <p:spPr>
          <a:xfrm>
            <a:off x="668160" y="2743200"/>
            <a:ext cx="773136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228240"/>
            <a:ext cx="3962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7760" indent="-13356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3. Перечислите правила туш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67760" indent="-13356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 </a:t>
            </a:r>
            <a:r>
              <a:rPr b="0" lang="ru-RU" sz="2200" spc="-1" strike="noStrike">
                <a:solidFill>
                  <a:srgbClr val="a6b727"/>
                </a:solidFill>
                <a:latin typeface="Corbel"/>
              </a:rPr>
              <a:t>Тушить значить готовить пищу под крышкой. В процессе тушения используется жидкость и масло. Тушить можно практически все продукты питания рыбу, мясо, овощи. Тушить нужно правильно, поэтому существует несколько правил: тушить нужно на медленном огне, под крышкой, овощи нужно нарезать одинаковыми порционными кусочками, чтобы равномерно готовилось блюдо. Для тушения можно использовать воду, соусы, бульоны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4" name="Picture 9" descr="http://www.passionforum.ru/uploads/images/topic/2014/02/12/83217cde4c.jpg"/>
          <p:cNvPicPr/>
          <p:nvPr/>
        </p:nvPicPr>
        <p:blipFill>
          <a:blip r:embed="rId1"/>
          <a:stretch/>
        </p:blipFill>
        <p:spPr>
          <a:xfrm>
            <a:off x="4262400" y="1762200"/>
            <a:ext cx="49910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a6b727"/>
                </a:solidFill>
                <a:latin typeface="Corbel"/>
              </a:rPr>
              <a:t>4 . Перечислите требования к качеству тушеных блю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599840"/>
            <a:ext cx="810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ушеные овощи имеют одинаковую форму нарезки, картофель — частично разварившийся. Консистенция овощей мягкая, у капусты упругая. Цвет соответствует используемому виду овощей, но допускается изменение до бурого. У тушеных овощей не должно быть запаха за­паренных овощей.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йля</dc:creator>
  <dc:description/>
  <dc:language>en-US</dc:language>
  <cp:lastModifiedBy>лейля</cp:lastModifiedBy>
  <dcterms:modified xsi:type="dcterms:W3CDTF">2020-05-11T15:32:21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