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2307-C686-42A3-8BF1-2E914A7FA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1A9F-0BD9-4B84-AF8D-B03FDE7D50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699-C14F-49FD-AC97-06F13414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B29-E151-4B50-8AF4-9596C0CA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9E0-ECEE-47DE-A935-B18DB3B7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B97-0B31-4F32-BC34-AD2ABF68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E74-4B76-4623-8E47-2F386A92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611-ACEB-4D47-868C-72600BA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016-5D01-4D86-BB78-4176B8A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4B4-0719-40E1-B756-CDEF4FE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745-4FD5-4374-BB97-00CBB91E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2D1-0D3F-4A0F-B097-909C4D7C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3DB-96BB-45FC-8568-000796D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473-4330-472E-A924-C13101F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CA44-D72B-4E77-9BDA-7C01517CDD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938840" y="199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236600" y="10000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285920" y="1500120"/>
            <a:ext cx="6215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*2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*2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-32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+58)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03-7)*(300-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4-39)+(48+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946880" y="3859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ная рабо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00080" y="4929120"/>
          <a:ext cx="6810480" cy="1158840"/>
        </p:xfrm>
        <a:graphic>
          <a:graphicData uri="http://schemas.openxmlformats.org/drawingml/2006/table">
            <a:tbl>
              <a:tblPr/>
              <a:tblGrid>
                <a:gridCol w="1135080"/>
                <a:gridCol w="1135080"/>
                <a:gridCol w="1135080"/>
                <a:gridCol w="1135080"/>
                <a:gridCol w="1135080"/>
                <a:gridCol w="1135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14400" y="277920"/>
            <a:ext cx="7772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85840"/>
            <a:ext cx="8572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ерите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) Скорость – это расстояние между двумя точ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) Скорость – это расстояние, пройденное телом за единицу врем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) Скорость – это быстрая езда</a:t>
            </a:r>
            <a:r>
              <a:rPr b="0" lang="ru-RU" sz="2000" spc="-1" strike="noStrike">
                <a:solidFill>
                  <a:srgbClr val="4a206a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28760" y="2357280"/>
            <a:ext cx="42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е 1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ите таб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2786040"/>
          <a:ext cx="6900840" cy="3130560"/>
        </p:xfrm>
        <a:graphic>
          <a:graphicData uri="http://schemas.openxmlformats.org/drawingml/2006/table">
            <a:tbl>
              <a:tblPr/>
              <a:tblGrid>
                <a:gridCol w="2300400"/>
                <a:gridCol w="2300040"/>
                <a:gridCol w="230040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4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4357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S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5*3=45км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v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270:9=30км/ч</a:t>
            </a:r>
            <a:br>
              <a:rPr sz="4000"/>
            </a:b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9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80:45=4ч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 сутки=24 ч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   S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50*24=1200к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2560"/>
            <a:ext cx="403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заимо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1640" y="3714840"/>
            <a:ext cx="40719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ценив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– все ответы вер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- 1 ошиб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- 2 ошиб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 - более 2 оши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8760" y="642960"/>
          <a:ext cx="6900840" cy="2816280"/>
        </p:xfrm>
        <a:graphic>
          <a:graphicData uri="http://schemas.openxmlformats.org/drawingml/2006/table">
            <a:tbl>
              <a:tblPr/>
              <a:tblGrid>
                <a:gridCol w="2300040"/>
                <a:gridCol w="2300400"/>
                <a:gridCol w="230040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5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5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80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0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00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одзаголовок 2"/>
          <p:cNvSpPr/>
          <p:nvPr/>
        </p:nvSpPr>
        <p:spPr>
          <a:xfrm>
            <a:off x="214200" y="928800"/>
            <a:ext cx="85726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a206a"/>
                </a:solidFill>
                <a:uFillTx/>
                <a:latin typeface="Times New Roman"/>
                <a:ea typeface="Times New Roman"/>
              </a:rPr>
              <a:t>1.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Движение в разных (противоположных) направле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да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встречу  друг дру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a206a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. Движении в одинаковых(одном) направл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тста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ого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428760" y="392904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14200" y="357120"/>
            <a:ext cx="835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задач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ordArt 2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1165320"/>
          </a:xfrm>
          <a:prstGeom prst="rect">
            <a:avLst/>
          </a:prstGeom>
          <a:ln w="0">
            <a:noFill/>
          </a:ln>
        </p:spPr>
      </p:pic>
      <p:sp>
        <p:nvSpPr>
          <p:cNvPr id="87" name="Line 3"/>
          <p:cNvSpPr/>
          <p:nvPr/>
        </p:nvSpPr>
        <p:spPr>
          <a:xfrm>
            <a:off x="826920" y="220500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203640" y="191628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826920" y="191628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2842920" y="19162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838080" y="1905120"/>
            <a:ext cx="493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08000" y="1773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908000" y="1773360"/>
            <a:ext cx="287640" cy="1429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4000" y="2349360"/>
            <a:ext cx="36716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противоположном направлении –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встречу друг друг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1280" y="472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5508720" y="213372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6588000" y="1773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6588000" y="17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H="1">
            <a:off x="630072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 flipH="1">
            <a:off x="5796000" y="1916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5"/>
          <p:cNvSpPr/>
          <p:nvPr/>
        </p:nvSpPr>
        <p:spPr>
          <a:xfrm>
            <a:off x="6588000" y="177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143240" y="242892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противоположном направле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д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435640" y="4508640"/>
            <a:ext cx="266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81010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69483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H="1">
            <a:off x="6659640" y="42926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 flipH="1">
            <a:off x="7380000" y="422100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4572000" y="3220920"/>
            <a:ext cx="3929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одном направлении –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тста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одном направлении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ого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379440" y="545940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 Black"/>
              </a:rPr>
              <a:t>При решении этих задач надо использовать понятия «скорость сближения» и « скорость уда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4"/>
          <p:cNvSpPr/>
          <p:nvPr/>
        </p:nvSpPr>
        <p:spPr>
          <a:xfrm>
            <a:off x="5364000" y="522936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8143920" y="47862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8143920" y="500076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 flipH="1">
            <a:off x="7286400" y="478620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 flipH="1">
            <a:off x="7643880" y="50007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3722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дном нап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вдогонку, с отста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714240" y="1928880"/>
            <a:ext cx="778680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сближения равна разности  скоростей  объ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 </a:t>
            </a:r>
            <a:r>
              <a:rPr b="1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2286000" y="4500720"/>
            <a:ext cx="457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3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gt;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3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противоположном  направлении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 удален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00120" y="2071440"/>
            <a:ext cx="74296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удаления показывает на сколько километров в час объекты  удаляются друг от дру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удал.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286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противоположном  направлении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навстречу друг другу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2071800"/>
            <a:ext cx="74566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сближения показывает на сколько километров в час объекты  сближаются друг с другом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7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7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0" lang="ru-RU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</a:t>
            </a:r>
            <a:r>
              <a:rPr b="0" i="1" lang="en-US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7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 движении в разных направлен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 движении в одинаковых направлен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1017720" y="2004840"/>
            <a:ext cx="5864040" cy="1470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1017720" y="4290840"/>
            <a:ext cx="6761160" cy="16830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" descr=""/>
          <p:cNvPicPr/>
          <p:nvPr/>
        </p:nvPicPr>
        <p:blipFill>
          <a:blip r:embed="rId3"/>
          <a:stretch/>
        </p:blipFill>
        <p:spPr>
          <a:xfrm>
            <a:off x="2693880" y="255600"/>
            <a:ext cx="35607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https://urok.1sept.ru/articles/538151/14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338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е 2 </a:t>
            </a:r>
            <a:br>
              <a:rPr sz="2000"/>
            </a:b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абота в парах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3071880"/>
            <a:ext cx="79675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ровер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противоположном направлении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австречу друг другу)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6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=25км/ч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=25*3=75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противоположном направлении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уда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5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6=90км/ч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0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70к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одном направлении(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отставанием)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=13км/ч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9к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одном направлении(вдогонку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=5км/ч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км</a:t>
            </a:r>
            <a:br>
              <a:rPr sz="2000"/>
            </a:br>
            <a:br>
              <a:rPr sz="2000"/>
            </a:b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цени себя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 – я не работа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– я работал хорошо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– я активно работал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042920" y="571680"/>
            <a:ext cx="764388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5400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15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цени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3 - решил все примеры без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2 - 1 оши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1 - 2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0 - более 2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 rot="21064200">
            <a:off x="-252360" y="4379760"/>
            <a:ext cx="9601200" cy="1189080"/>
          </a:xfrm>
          <a:prstGeom prst="rect">
            <a:avLst/>
          </a:prstGeom>
          <a:gradFill rotWithShape="0">
            <a:gsLst>
              <a:gs pos="0">
                <a:srgbClr val="0dffff"/>
              </a:gs>
              <a:gs pos="100000">
                <a:srgbClr val="79d2ff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6500160" y="2928960"/>
            <a:ext cx="2745000" cy="1152720"/>
            <a:chOff x="6500160" y="2928960"/>
            <a:chExt cx="2745000" cy="1152720"/>
          </a:xfrm>
        </p:grpSpPr>
        <p:sp>
          <p:nvSpPr>
            <p:cNvPr id="131" name="Rectangle 4"/>
            <p:cNvSpPr/>
            <p:nvPr/>
          </p:nvSpPr>
          <p:spPr>
            <a:xfrm rot="21048600">
              <a:off x="6539040" y="313740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ff"/>
                  </a:solidFill>
                  <a:latin typeface="Arial"/>
                </a:rPr>
                <a:t>36 км/ч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 rot="21048600">
              <a:off x="6873840" y="3895200"/>
              <a:ext cx="2173320" cy="12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8"/>
          <p:cNvSpPr/>
          <p:nvPr/>
        </p:nvSpPr>
        <p:spPr>
          <a:xfrm rot="21100800">
            <a:off x="6483960" y="4954680"/>
            <a:ext cx="236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 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7214760" y="3571560"/>
            <a:ext cx="2755080" cy="1271880"/>
            <a:chOff x="7214760" y="3571560"/>
            <a:chExt cx="2755080" cy="1271880"/>
          </a:xfrm>
        </p:grpSpPr>
        <p:sp>
          <p:nvSpPr>
            <p:cNvPr id="135" name="Rectangle 10"/>
            <p:cNvSpPr/>
            <p:nvPr/>
          </p:nvSpPr>
          <p:spPr>
            <a:xfrm rot="20875200">
              <a:off x="7258680" y="384264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ff"/>
                  </a:solidFill>
                  <a:latin typeface="Arial"/>
                </a:rPr>
                <a:t>28 км/ч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 rot="20875200">
              <a:off x="7624080" y="4691520"/>
              <a:ext cx="1333440" cy="12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357120" y="357120"/>
            <a:ext cx="863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 три задачи из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111, №401,403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ДАЧА №1(№401,стр.111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ного порта в другой одновременно отправились теплоход и катер. Скорость теплохода составляет 28 км/ч, а скорость катера- 36 км/ч. Какое расстояние будет между ними через 5 ч после начала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6"/>
          <p:cNvGrpSpPr/>
          <p:nvPr/>
        </p:nvGrpSpPr>
        <p:grpSpPr>
          <a:xfrm>
            <a:off x="8521560" y="4707360"/>
            <a:ext cx="633600" cy="732960"/>
            <a:chOff x="8521560" y="4707360"/>
            <a:chExt cx="633600" cy="732960"/>
          </a:xfrm>
        </p:grpSpPr>
        <p:grpSp>
          <p:nvGrpSpPr>
            <p:cNvPr id="139" name="Group 47"/>
            <p:cNvGrpSpPr/>
            <p:nvPr/>
          </p:nvGrpSpPr>
          <p:grpSpPr>
            <a:xfrm>
              <a:off x="8521560" y="5211720"/>
              <a:ext cx="533520" cy="228600"/>
              <a:chOff x="8521560" y="5211720"/>
              <a:chExt cx="533520" cy="228600"/>
            </a:xfrm>
          </p:grpSpPr>
          <p:sp>
            <p:nvSpPr>
              <p:cNvPr id="140" name="Oval 48"/>
              <p:cNvSpPr/>
              <p:nvPr/>
            </p:nvSpPr>
            <p:spPr>
              <a:xfrm>
                <a:off x="8521560" y="5257440"/>
                <a:ext cx="53352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49"/>
              <p:cNvSpPr/>
              <p:nvPr/>
            </p:nvSpPr>
            <p:spPr>
              <a:xfrm>
                <a:off x="8594280" y="523440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50"/>
              <p:cNvSpPr/>
              <p:nvPr/>
            </p:nvSpPr>
            <p:spPr>
              <a:xfrm>
                <a:off x="8642880" y="521172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51"/>
            <p:cNvSpPr/>
            <p:nvPr/>
          </p:nvSpPr>
          <p:spPr>
            <a:xfrm rot="21451200">
              <a:off x="8776800" y="4714920"/>
              <a:ext cx="366840" cy="5331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авая фигурная скобка 9"/>
          <p:cNvSpPr/>
          <p:nvPr/>
        </p:nvSpPr>
        <p:spPr>
          <a:xfrm rot="5400000">
            <a:off x="4107240" y="548280"/>
            <a:ext cx="928800" cy="8001000"/>
          </a:xfrm>
          <a:custGeom>
            <a:avLst/>
            <a:gdLst>
              <a:gd name="textAreaLeft" fmla="*/ 0 w 928800"/>
              <a:gd name="textAreaRight" fmla="*/ 335520 w 928800"/>
              <a:gd name="textAreaTop" fmla="*/ 24120 h 8001000"/>
              <a:gd name="textAreaBottom" fmla="*/ 797688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16200" y="10800"/>
                  <a:pt x="21600" y="10800"/>
                </a:cubicBezTo>
                <a:cubicBezTo>
                  <a:pt x="162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5"/>
          <p:cNvSpPr/>
          <p:nvPr/>
        </p:nvSpPr>
        <p:spPr>
          <a:xfrm>
            <a:off x="500040" y="3801960"/>
            <a:ext cx="8077320" cy="131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042920" y="357120"/>
            <a:ext cx="776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ДАЧА №2(№403,стр.111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анции в противоположных направлениях одновременно отправились два поезда. Один из них двигался со скоростью 64 км/ч, а второй- 57 км/ч. Какое расстояние будет между ними через 9ч после начала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2792520" y="29289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64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4863960" y="29289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57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3862440" y="48499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4791960" y="48499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6"/>
          <p:cNvGrpSpPr/>
          <p:nvPr/>
        </p:nvGrpSpPr>
        <p:grpSpPr>
          <a:xfrm>
            <a:off x="4286160" y="3135600"/>
            <a:ext cx="635040" cy="732240"/>
            <a:chOff x="4286160" y="3135600"/>
            <a:chExt cx="635040" cy="732240"/>
          </a:xfrm>
        </p:grpSpPr>
        <p:grpSp>
          <p:nvGrpSpPr>
            <p:cNvPr id="152" name="Group 47"/>
            <p:cNvGrpSpPr/>
            <p:nvPr/>
          </p:nvGrpSpPr>
          <p:grpSpPr>
            <a:xfrm>
              <a:off x="4286160" y="3614040"/>
              <a:ext cx="533520" cy="253800"/>
              <a:chOff x="4286160" y="3614040"/>
              <a:chExt cx="533520" cy="253800"/>
            </a:xfrm>
          </p:grpSpPr>
          <p:sp>
            <p:nvSpPr>
              <p:cNvPr id="153" name="Oval 48"/>
              <p:cNvSpPr/>
              <p:nvPr/>
            </p:nvSpPr>
            <p:spPr>
              <a:xfrm>
                <a:off x="4286160" y="3664800"/>
                <a:ext cx="533520" cy="20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4358880" y="3639240"/>
                <a:ext cx="411840" cy="1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4407480" y="3614040"/>
                <a:ext cx="290880" cy="7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Freeform 51"/>
            <p:cNvSpPr/>
            <p:nvPr/>
          </p:nvSpPr>
          <p:spPr>
            <a:xfrm rot="21451200">
              <a:off x="4541400" y="3143160"/>
              <a:ext cx="366840" cy="601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Стрелка влево 25"/>
          <p:cNvSpPr/>
          <p:nvPr/>
        </p:nvSpPr>
        <p:spPr>
          <a:xfrm>
            <a:off x="2857680" y="335772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26"/>
          <p:cNvSpPr/>
          <p:nvPr/>
        </p:nvSpPr>
        <p:spPr>
          <a:xfrm>
            <a:off x="5072040" y="3357720"/>
            <a:ext cx="107172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12" descr=""/>
          <p:cNvPicPr/>
          <p:nvPr/>
        </p:nvPicPr>
        <p:blipFill>
          <a:blip r:embed="rId1"/>
          <a:stretch/>
        </p:blipFill>
        <p:spPr>
          <a:xfrm>
            <a:off x="901800" y="476280"/>
            <a:ext cx="8119800" cy="3187800"/>
          </a:xfrm>
          <a:prstGeom prst="rect">
            <a:avLst/>
          </a:prstGeom>
          <a:ln w="0">
            <a:noFill/>
          </a:ln>
        </p:spPr>
      </p:pic>
      <p:sp>
        <p:nvSpPr>
          <p:cNvPr id="160" name="Левая фигурная скобка 30"/>
          <p:cNvSpPr/>
          <p:nvPr/>
        </p:nvSpPr>
        <p:spPr>
          <a:xfrm rot="16200000">
            <a:off x="4250520" y="1980000"/>
            <a:ext cx="428760" cy="6643800"/>
          </a:xfrm>
          <a:custGeom>
            <a:avLst/>
            <a:gdLst>
              <a:gd name="textAreaLeft" fmla="*/ 273960 w 428760"/>
              <a:gd name="textAreaRight" fmla="*/ 429120 w 428760"/>
              <a:gd name="textAreaTop" fmla="*/ 94320 h 6643800"/>
              <a:gd name="textAreaBottom" fmla="*/ 6549480 h 664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2"/>
                  <a:pt x="10800" y="983"/>
                </a:cubicBezTo>
                <a:lnTo>
                  <a:pt x="10800" y="9782"/>
                </a:lnTo>
                <a:cubicBezTo>
                  <a:pt x="10800" y="10274"/>
                  <a:pt x="5400" y="10765"/>
                  <a:pt x="0" y="10765"/>
                </a:cubicBezTo>
                <a:cubicBezTo>
                  <a:pt x="5400" y="10765"/>
                  <a:pt x="10800" y="11257"/>
                  <a:pt x="10800" y="11748"/>
                </a:cubicBezTo>
                <a:lnTo>
                  <a:pt x="10800" y="20617"/>
                </a:lnTo>
                <a:cubicBezTo>
                  <a:pt x="10800" y="211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1"/>
          <p:cNvSpPr/>
          <p:nvPr/>
        </p:nvSpPr>
        <p:spPr>
          <a:xfrm>
            <a:off x="3873960" y="557064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=4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ч,     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3"/>
          <p:cNvSpPr/>
          <p:nvPr/>
        </p:nvSpPr>
        <p:spPr>
          <a:xfrm>
            <a:off x="4143240" y="4840200"/>
            <a:ext cx="44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 7 раз быст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34" descr=""/>
          <p:cNvPicPr/>
          <p:nvPr/>
        </p:nvPicPr>
        <p:blipFill>
          <a:blip r:embed="rId2"/>
          <a:stretch/>
        </p:blipFill>
        <p:spPr>
          <a:xfrm>
            <a:off x="1584360" y="4791240"/>
            <a:ext cx="2092320" cy="5191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3" descr="8853.gif"/>
          <p:cNvPicPr/>
          <p:nvPr/>
        </p:nvPicPr>
        <p:blipFill>
          <a:blip r:embed="rId3"/>
          <a:stretch/>
        </p:blipFill>
        <p:spPr>
          <a:xfrm>
            <a:off x="5000760" y="5500800"/>
            <a:ext cx="357120" cy="495360"/>
          </a:xfrm>
          <a:prstGeom prst="rect">
            <a:avLst/>
          </a:prstGeom>
          <a:ln w="0">
            <a:noFill/>
          </a:ln>
        </p:spPr>
      </p:pic>
      <p:sp>
        <p:nvSpPr>
          <p:cNvPr id="165" name="Стрелка вправо 15"/>
          <p:cNvSpPr/>
          <p:nvPr/>
        </p:nvSpPr>
        <p:spPr>
          <a:xfrm>
            <a:off x="1143000" y="4500720"/>
            <a:ext cx="142884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лево 17"/>
          <p:cNvSpPr/>
          <p:nvPr/>
        </p:nvSpPr>
        <p:spPr>
          <a:xfrm>
            <a:off x="5786280" y="4500720"/>
            <a:ext cx="192888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6"/>
          <p:cNvGrpSpPr/>
          <p:nvPr/>
        </p:nvGrpSpPr>
        <p:grpSpPr>
          <a:xfrm>
            <a:off x="4143240" y="4493160"/>
            <a:ext cx="635040" cy="732240"/>
            <a:chOff x="4143240" y="4493160"/>
            <a:chExt cx="635040" cy="732240"/>
          </a:xfrm>
        </p:grpSpPr>
        <p:grpSp>
          <p:nvGrpSpPr>
            <p:cNvPr id="168" name="Group 47"/>
            <p:cNvGrpSpPr/>
            <p:nvPr/>
          </p:nvGrpSpPr>
          <p:grpSpPr>
            <a:xfrm>
              <a:off x="4143240" y="4971600"/>
              <a:ext cx="533520" cy="253800"/>
              <a:chOff x="4143240" y="4971600"/>
              <a:chExt cx="533520" cy="253800"/>
            </a:xfrm>
          </p:grpSpPr>
          <p:sp>
            <p:nvSpPr>
              <p:cNvPr id="169" name="Oval 48"/>
              <p:cNvSpPr/>
              <p:nvPr/>
            </p:nvSpPr>
            <p:spPr>
              <a:xfrm>
                <a:off x="4143240" y="5022360"/>
                <a:ext cx="533520" cy="20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9"/>
              <p:cNvSpPr/>
              <p:nvPr/>
            </p:nvSpPr>
            <p:spPr>
              <a:xfrm>
                <a:off x="4215960" y="4996800"/>
                <a:ext cx="411840" cy="1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50"/>
              <p:cNvSpPr/>
              <p:nvPr/>
            </p:nvSpPr>
            <p:spPr>
              <a:xfrm>
                <a:off x="4264560" y="4971600"/>
                <a:ext cx="290880" cy="7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51"/>
            <p:cNvSpPr/>
            <p:nvPr/>
          </p:nvSpPr>
          <p:spPr>
            <a:xfrm rot="21451200">
              <a:off x="4398480" y="4500720"/>
              <a:ext cx="366840" cy="601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971640" y="238320"/>
            <a:ext cx="8172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тог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Сегодня на уроке я познакомился 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Я испытал затруднения 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2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цен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21428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Calibri"/>
              </a:rPr>
              <a:t>«5» - 13 – 15 бал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Calibri"/>
              </a:rPr>
              <a:t>«4» - 10 – 12 бал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Calibri"/>
              </a:rPr>
              <a:t>«3» – 7 – 9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Прямоугольник 4" descr=""/>
          <p:cNvPicPr/>
          <p:nvPr/>
        </p:nvPicPr>
        <p:blipFill>
          <a:blip r:embed="rId1"/>
          <a:stretch/>
        </p:blipFill>
        <p:spPr>
          <a:xfrm>
            <a:off x="298440" y="4041720"/>
            <a:ext cx="8620200" cy="181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Luda\Pictures\Для мамы\KC3319-21.jpg"/>
          <p:cNvPicPr/>
          <p:nvPr/>
        </p:nvPicPr>
        <p:blipFill>
          <a:blip r:embed="rId2"/>
          <a:srcRect l="35052" t="0" r="38264" b="0"/>
          <a:stretch/>
        </p:blipFill>
        <p:spPr>
          <a:xfrm rot="3810600">
            <a:off x="7273800" y="4614120"/>
            <a:ext cx="654120" cy="24526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ая соединительная линия 7"/>
          <p:cNvSpPr/>
          <p:nvPr/>
        </p:nvSpPr>
        <p:spPr>
          <a:xfrm>
            <a:off x="285840" y="1143000"/>
            <a:ext cx="7500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1116000" y="666360"/>
            <a:ext cx="777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2, 404,4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 по  желанию: придумать   свою  задачу на  движение (записать текст), решить 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C:\Users\Luda\Pictures\Для мамы\1232998623_downhouse_info_64112634797.jpg"/>
          <p:cNvPicPr/>
          <p:nvPr/>
        </p:nvPicPr>
        <p:blipFill>
          <a:blip r:embed="rId1"/>
          <a:stretch/>
        </p:blipFill>
        <p:spPr>
          <a:xfrm>
            <a:off x="5357880" y="1857240"/>
            <a:ext cx="1515960" cy="13352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ая соединительная линия 128"/>
          <p:cNvSpPr/>
          <p:nvPr/>
        </p:nvSpPr>
        <p:spPr>
          <a:xfrm>
            <a:off x="285840" y="3286080"/>
            <a:ext cx="8072280" cy="1800"/>
          </a:xfrm>
          <a:prstGeom prst="line">
            <a:avLst/>
          </a:prstGeom>
          <a:ln w="9360">
            <a:solidFill>
              <a:srgbClr val="c8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31"/>
          <p:cNvSpPr/>
          <p:nvPr/>
        </p:nvSpPr>
        <p:spPr>
          <a:xfrm>
            <a:off x="285840" y="3143160"/>
            <a:ext cx="1785960" cy="142920"/>
          </a:xfrm>
          <a:prstGeom prst="rect">
            <a:avLst/>
          </a:prstGeom>
          <a:solidFill>
            <a:srgbClr val="c889cd"/>
          </a:solidFill>
          <a:ln w="25560">
            <a:solidFill>
              <a:srgbClr val="c8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103" descr=""/>
          <p:cNvPicPr/>
          <p:nvPr/>
        </p:nvPicPr>
        <p:blipFill>
          <a:blip r:embed="rId2"/>
          <a:stretch/>
        </p:blipFill>
        <p:spPr>
          <a:xfrm>
            <a:off x="-6480" y="3419640"/>
            <a:ext cx="9120240" cy="1670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05"/>
          <p:cNvSpPr/>
          <p:nvPr/>
        </p:nvSpPr>
        <p:spPr>
          <a:xfrm>
            <a:off x="6858000" y="1785960"/>
            <a:ext cx="1500120" cy="1500120"/>
          </a:xfrm>
          <a:prstGeom prst="rect">
            <a:avLst/>
          </a:prstGeom>
          <a:solidFill>
            <a:srgbClr val="c889cd"/>
          </a:solidFill>
          <a:ln w="25560">
            <a:solidFill>
              <a:srgbClr val="c8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6"/>
          <p:cNvSpPr/>
          <p:nvPr/>
        </p:nvSpPr>
        <p:spPr>
          <a:xfrm>
            <a:off x="3857760" y="1785960"/>
            <a:ext cx="1500120" cy="1500120"/>
          </a:xfrm>
          <a:prstGeom prst="rect">
            <a:avLst/>
          </a:prstGeom>
          <a:solidFill>
            <a:srgbClr val="72afd8"/>
          </a:solidFill>
          <a:ln w="255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7"/>
          <p:cNvSpPr/>
          <p:nvPr/>
        </p:nvSpPr>
        <p:spPr>
          <a:xfrm>
            <a:off x="5357880" y="285840"/>
            <a:ext cx="1500120" cy="1500120"/>
          </a:xfrm>
          <a:prstGeom prst="rect">
            <a:avLst/>
          </a:prstGeom>
          <a:solidFill>
            <a:srgbClr val="80cab1"/>
          </a:solidFill>
          <a:ln w="255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Users\Luda\Pictures\Для мамы\1191268972_c4107.jpg"/>
          <p:cNvPicPr/>
          <p:nvPr/>
        </p:nvPicPr>
        <p:blipFill>
          <a:blip r:embed="rId3"/>
          <a:stretch/>
        </p:blipFill>
        <p:spPr>
          <a:xfrm>
            <a:off x="3849840" y="285840"/>
            <a:ext cx="143640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Users\Luda\Pictures\Для мамы\120091101164951adm1-00-25.gif"/>
          <p:cNvPicPr/>
          <p:nvPr/>
        </p:nvPicPr>
        <p:blipFill>
          <a:blip r:embed="rId4"/>
          <a:stretch/>
        </p:blipFill>
        <p:spPr>
          <a:xfrm>
            <a:off x="2286000" y="1714680"/>
            <a:ext cx="1501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357120" y="129816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из экзамена за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городов, расстояние между которыми равно 560 км, навстречу друг другу одновременно выехали два автомобиля. Через сколько часов автомобили встретятся, если их скорости равны 65 км/ч и 75 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520" y="19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9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в противоположном направлении </a:t>
            </a:r>
            <a:r>
              <a:rPr b="0" i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навстречу друг другу)</a:t>
            </a:r>
            <a:br>
              <a:rPr sz="2900"/>
            </a:br>
            <a:r>
              <a:rPr b="0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</a:t>
            </a:r>
            <a:r>
              <a:rPr b="0" lang="ru-RU" sz="29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сбл.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 </a:t>
            </a:r>
            <a:r>
              <a:rPr b="0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</a:t>
            </a:r>
            <a:r>
              <a:rPr b="0" lang="ru-RU" sz="29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1 </a:t>
            </a:r>
            <a:r>
              <a:rPr b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+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</a:t>
            </a:r>
            <a:r>
              <a:rPr b="0" lang="ru-RU" sz="29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65</a:t>
            </a:r>
            <a:r>
              <a:rPr b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+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5=140км/ч</a:t>
            </a:r>
            <a:br>
              <a:rPr sz="2900"/>
            </a:b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</a:t>
            </a:r>
            <a:r>
              <a:rPr b="0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=560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140</a:t>
            </a:r>
            <a:r>
              <a:rPr b="0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ч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714240" y="162360"/>
            <a:ext cx="75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   из  учебника  «Физика 7 клас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ыжник,  спускаясь  с  горы, проходи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0м  за 5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устившись  с  горы и  продолжая  двигаться, он  до  полной   остановки  проходит 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0м  за  15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йдите  среднюю  скорость  лыжника  за  все время 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938840" y="199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236600" y="10000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967040" y="385920"/>
            <a:ext cx="39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ФР к уст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28880"/>
          <a:ext cx="6810120" cy="1158840"/>
        </p:xfrm>
        <a:graphic>
          <a:graphicData uri="http://schemas.openxmlformats.org/drawingml/2006/table">
            <a:tbl>
              <a:tblPr/>
              <a:tblGrid>
                <a:gridCol w="1135080"/>
                <a:gridCol w="1135080"/>
                <a:gridCol w="1135080"/>
                <a:gridCol w="1134720"/>
                <a:gridCol w="1135080"/>
                <a:gridCol w="1135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1095840" y="1541880"/>
            <a:ext cx="63698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50 + 30) : (15 + 5) = 4 м/с – ν</a:t>
            </a:r>
            <a:r>
              <a:rPr b="0" lang="ru-RU" sz="2800" spc="-1" strike="noStrike" baseline="-30000">
                <a:solidFill>
                  <a:srgbClr val="0033cc"/>
                </a:solidFill>
                <a:latin typeface="Times New Roman"/>
                <a:ea typeface="Times New Roman"/>
              </a:rPr>
              <a:t>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вет:  4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редняя  скорость движения - это  пу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йденный  телом,  раздел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 время  его 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332000" y="421560"/>
            <a:ext cx="78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static.diary.ru/userdir/1/4/0/8/1408432/48328025.png"/>
          <p:cNvPicPr/>
          <p:nvPr/>
        </p:nvPicPr>
        <p:blipFill>
          <a:blip r:embed="rId1"/>
          <a:stretch/>
        </p:blipFill>
        <p:spPr>
          <a:xfrm>
            <a:off x="6337440" y="3952800"/>
            <a:ext cx="2771640" cy="2905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807920" y="785880"/>
            <a:ext cx="6186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ая тема объединяет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229040" y="1857240"/>
            <a:ext cx="621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м, </a:t>
            </a:r>
            <a:r>
              <a:rPr b="1" i="1" lang="el-GR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ν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автомобиль, км/ч,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/мин,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пеш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-176040" y="2389320"/>
            <a:ext cx="9485280" cy="1854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6.10.2022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85840" y="534240"/>
            <a:ext cx="8786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c0000"/>
                </a:solidFill>
                <a:latin typeface="Arial"/>
              </a:rPr>
              <a:t>Если вы хотите научиться плавать, то смело входите в воду, а если хотите научиться решать задачи,то решайте 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вейцарский математ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ьёрдь Пой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одзаголовок 2"/>
          <p:cNvSpPr/>
          <p:nvPr/>
        </p:nvSpPr>
        <p:spPr>
          <a:xfrm>
            <a:off x="214200" y="928800"/>
            <a:ext cx="857268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ν</a:t>
            </a:r>
            <a:r>
              <a:rPr b="1" i="1" lang="en-US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 s</a:t>
            </a:r>
            <a:r>
              <a:rPr b="1" i="1" lang="ru-RU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t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-163440" y="268200"/>
            <a:ext cx="93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едини части правила-формулы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819840" y="1582560"/>
            <a:ext cx="1462320" cy="1008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V·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815160" y="3306600"/>
            <a:ext cx="1467000" cy="1008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1" lang="ru-RU" sz="6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827040" y="4965840"/>
            <a:ext cx="1314360" cy="1008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1" lang="ru-RU" sz="6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11280" y="2786040"/>
            <a:ext cx="29923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129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601560" y="4444920"/>
            <a:ext cx="28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129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11280" y="1249200"/>
            <a:ext cx="29210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ru-RU" sz="129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39549 -0.2331 E">
                                      <p:cBhvr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2685 L 0.38785 -0.21296 E">
                                      <p:cBhvr>
                                        <p:cTn id="1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2 0.03773 L 0.37587 0.44861 E">
                                      <p:cBhvr>
                                        <p:cTn id="2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одержимое 2"/>
          <p:cNvSpPr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s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428760" y="35712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форму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5:56Z</dcterms:created>
  <dc:creator>Admin</dc:creator>
  <dc:description/>
  <dc:language>en-US</dc:language>
  <cp:lastModifiedBy>1</cp:lastModifiedBy>
  <dcterms:modified xsi:type="dcterms:W3CDTF">2022-10-25T16:21:28Z</dcterms:modified>
  <cp:revision>214</cp:revision>
  <dc:subject/>
  <dc:title>Слайд 1</dc:title>
</cp:coreProperties>
</file>