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466F-26F8-4EDE-9202-ACEBEC4F07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D716-F471-4D5A-B789-CF1486C8594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D0D-4A1A-4666-996B-4ED436FB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B35-28AE-48F2-B8A0-5DA84E40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DBF-96C2-4F31-B25F-D845705C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789-1033-4CBA-9A56-3E45B398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4FB-AA34-4046-B238-4C30D687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F5F6-0470-48C2-A23F-F8850B60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93D-69DB-4DEE-8415-5BEB3ED8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84C-6BDC-411F-8A1A-E077561D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69D-6AA7-4B85-A437-82239981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554-486D-43D3-85C4-7300DB30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F02-DE73-4657-BA8E-6A40F1B4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551-083A-49DE-AA98-1242C8A0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1742-E8C4-4155-B96A-78A73E2D28E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4938840" y="1995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1236600" y="10000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ычисл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285920" y="1500120"/>
            <a:ext cx="6215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*2-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*2*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-32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2+58)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003-7)*(300-3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4-39)+(48+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946880" y="385920"/>
            <a:ext cx="26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ная рабо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00080" y="4929120"/>
          <a:ext cx="6810480" cy="1158840"/>
        </p:xfrm>
        <a:graphic>
          <a:graphicData uri="http://schemas.openxmlformats.org/drawingml/2006/table">
            <a:tbl>
              <a:tblPr/>
              <a:tblGrid>
                <a:gridCol w="1135080"/>
                <a:gridCol w="1135080"/>
                <a:gridCol w="1135080"/>
                <a:gridCol w="1135080"/>
                <a:gridCol w="1135080"/>
                <a:gridCol w="1135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914400" y="277920"/>
            <a:ext cx="77724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85840" y="285840"/>
            <a:ext cx="85723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М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берите правильное утвержд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А) Скорость – это расстояние между двумя точ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Б) Скорость – это расстояние, пройденное телом за единицу време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) Скорость – это быстрая езда</a:t>
            </a:r>
            <a:r>
              <a:rPr b="0" lang="ru-RU" sz="2000" spc="-1" strike="noStrike">
                <a:solidFill>
                  <a:srgbClr val="4a206a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428760" y="2357280"/>
            <a:ext cx="42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ние 1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лните табл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2786040"/>
          <a:ext cx="6900840" cy="3130560"/>
        </p:xfrm>
        <a:graphic>
          <a:graphicData uri="http://schemas.openxmlformats.org/drawingml/2006/table">
            <a:tbl>
              <a:tblPr/>
              <a:tblGrid>
                <a:gridCol w="2300400"/>
                <a:gridCol w="2300040"/>
                <a:gridCol w="2300400"/>
              </a:tblGrid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5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 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9 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7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45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8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5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43574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S=</a:t>
            </a: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15*3=45км</a:t>
            </a:r>
            <a:br>
              <a:rPr sz="4000"/>
            </a:b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v=</a:t>
            </a: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270:9=30км/ч</a:t>
            </a:r>
            <a:br>
              <a:rPr sz="4000"/>
            </a:b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9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=</a:t>
            </a: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180:45=4ч</a:t>
            </a:r>
            <a:br>
              <a:rPr sz="4000"/>
            </a:b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1 сутки=24 ч </a:t>
            </a: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   S=</a:t>
            </a: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50*24=1200к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42560"/>
            <a:ext cx="4038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Взаимопровер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1640" y="3714840"/>
            <a:ext cx="40719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ценив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– все ответы вер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- 1 ошиб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- 2 ошиб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0 - более 2 ошиб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28760" y="642960"/>
          <a:ext cx="6900840" cy="2816280"/>
        </p:xfrm>
        <a:graphic>
          <a:graphicData uri="http://schemas.openxmlformats.org/drawingml/2006/table">
            <a:tbl>
              <a:tblPr/>
              <a:tblGrid>
                <a:gridCol w="2300040"/>
                <a:gridCol w="2300400"/>
                <a:gridCol w="230040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5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5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9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70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5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80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50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200 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одзаголовок 2"/>
          <p:cNvSpPr/>
          <p:nvPr/>
        </p:nvSpPr>
        <p:spPr>
          <a:xfrm>
            <a:off x="214200" y="928800"/>
            <a:ext cx="85726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4a206a"/>
                </a:solidFill>
                <a:uFillTx/>
                <a:latin typeface="Times New Roman"/>
                <a:ea typeface="Times New Roman"/>
              </a:rPr>
              <a:t>1.</a:t>
            </a:r>
            <a:r>
              <a:rPr b="1" lang="ru-RU" sz="4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Движение в разных (противоположных) направлени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уда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встречу  друг дру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4a206a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ru-RU" sz="4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. Движении в одинаковых(одном) направл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отстава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догон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одержимое 2"/>
          <p:cNvSpPr/>
          <p:nvPr/>
        </p:nvSpPr>
        <p:spPr>
          <a:xfrm>
            <a:off x="428760" y="3929040"/>
            <a:ext cx="8229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Calibri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14200" y="357120"/>
            <a:ext cx="835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задач на дви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WordArt 2" descr=""/>
          <p:cNvPicPr/>
          <p:nvPr/>
        </p:nvPicPr>
        <p:blipFill>
          <a:blip r:embed="rId1"/>
          <a:stretch/>
        </p:blipFill>
        <p:spPr>
          <a:xfrm>
            <a:off x="682560" y="182520"/>
            <a:ext cx="7785000" cy="1165320"/>
          </a:xfrm>
          <a:prstGeom prst="rect">
            <a:avLst/>
          </a:prstGeom>
          <a:ln w="0">
            <a:noFill/>
          </a:ln>
        </p:spPr>
      </p:pic>
      <p:sp>
        <p:nvSpPr>
          <p:cNvPr id="87" name="Line 3"/>
          <p:cNvSpPr/>
          <p:nvPr/>
        </p:nvSpPr>
        <p:spPr>
          <a:xfrm>
            <a:off x="826920" y="2205000"/>
            <a:ext cx="23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3203640" y="191628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826920" y="191628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 flipH="1">
            <a:off x="2842920" y="191628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838080" y="1905120"/>
            <a:ext cx="493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908000" y="17733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908000" y="1773360"/>
            <a:ext cx="287640" cy="1429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24000" y="2349360"/>
            <a:ext cx="36716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в противоположном направлении – 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встречу друг друг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1280" y="4724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0"/>
          <p:cNvSpPr/>
          <p:nvPr/>
        </p:nvSpPr>
        <p:spPr>
          <a:xfrm>
            <a:off x="5508720" y="2133720"/>
            <a:ext cx="244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1"/>
          <p:cNvSpPr/>
          <p:nvPr/>
        </p:nvSpPr>
        <p:spPr>
          <a:xfrm>
            <a:off x="6588000" y="177336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6588000" y="17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3"/>
          <p:cNvSpPr/>
          <p:nvPr/>
        </p:nvSpPr>
        <p:spPr>
          <a:xfrm flipH="1">
            <a:off x="630072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4"/>
          <p:cNvSpPr/>
          <p:nvPr/>
        </p:nvSpPr>
        <p:spPr>
          <a:xfrm flipH="1">
            <a:off x="5796000" y="19162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5"/>
          <p:cNvSpPr/>
          <p:nvPr/>
        </p:nvSpPr>
        <p:spPr>
          <a:xfrm>
            <a:off x="6588000" y="17733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4143240" y="2428920"/>
            <a:ext cx="47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в противоположном направлен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уда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7"/>
          <p:cNvSpPr/>
          <p:nvPr/>
        </p:nvSpPr>
        <p:spPr>
          <a:xfrm>
            <a:off x="5435640" y="4508640"/>
            <a:ext cx="266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8"/>
          <p:cNvSpPr/>
          <p:nvPr/>
        </p:nvSpPr>
        <p:spPr>
          <a:xfrm>
            <a:off x="8101080" y="422100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9"/>
          <p:cNvSpPr/>
          <p:nvPr/>
        </p:nvSpPr>
        <p:spPr>
          <a:xfrm>
            <a:off x="6948360" y="429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0"/>
          <p:cNvSpPr/>
          <p:nvPr/>
        </p:nvSpPr>
        <p:spPr>
          <a:xfrm flipH="1">
            <a:off x="6659640" y="429264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1"/>
          <p:cNvSpPr/>
          <p:nvPr/>
        </p:nvSpPr>
        <p:spPr>
          <a:xfrm flipH="1">
            <a:off x="7380000" y="4221000"/>
            <a:ext cx="71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4572000" y="3220920"/>
            <a:ext cx="39290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в одном направлении – 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отста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в одном направлении 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дого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3"/>
          <p:cNvSpPr/>
          <p:nvPr/>
        </p:nvSpPr>
        <p:spPr>
          <a:xfrm>
            <a:off x="379440" y="5459400"/>
            <a:ext cx="83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 Black"/>
              </a:rPr>
              <a:t>При решении этих задач надо использовать понятия «скорость сближения» и « скорость удал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4"/>
          <p:cNvSpPr/>
          <p:nvPr/>
        </p:nvSpPr>
        <p:spPr>
          <a:xfrm>
            <a:off x="5364000" y="522936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5"/>
          <p:cNvSpPr/>
          <p:nvPr/>
        </p:nvSpPr>
        <p:spPr>
          <a:xfrm>
            <a:off x="8143920" y="47862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6"/>
          <p:cNvSpPr/>
          <p:nvPr/>
        </p:nvSpPr>
        <p:spPr>
          <a:xfrm>
            <a:off x="8143920" y="500076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7"/>
          <p:cNvSpPr/>
          <p:nvPr/>
        </p:nvSpPr>
        <p:spPr>
          <a:xfrm flipH="1">
            <a:off x="7286400" y="478620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8"/>
          <p:cNvSpPr/>
          <p:nvPr/>
        </p:nvSpPr>
        <p:spPr>
          <a:xfrm flipH="1">
            <a:off x="7643880" y="500076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357120" y="37224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жение  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одном направл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жение вдогонку, с отстава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714240" y="1928880"/>
            <a:ext cx="7786800" cy="32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сближения равна разности  скоростей  объе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1" lang="ru-RU" sz="6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сбл.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1" i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1" i="1" lang="ru-RU" sz="6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6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 </a:t>
            </a:r>
            <a:r>
              <a:rPr b="1" i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1" i="1" lang="ru-RU" sz="6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2286000" y="4500720"/>
            <a:ext cx="457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1" i="1" lang="ru-RU" sz="3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&gt; 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1" i="1" lang="ru-RU" sz="32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5010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жение 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противоположном  направлении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на удаление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00120" y="2071440"/>
            <a:ext cx="742968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удаления показывает на сколько километров в час объекты  удаляются друг от друг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6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удал.</a:t>
            </a: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0" i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6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 </a:t>
            </a: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 </a:t>
            </a:r>
            <a:r>
              <a:rPr b="0" i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6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2868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жение 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противоположном  направлении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навстречу друг другу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15640" y="2071800"/>
            <a:ext cx="745668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сближения показывает на сколько километров в час объекты  сближаются друг с другом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7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7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сбл.</a:t>
            </a:r>
            <a:r>
              <a:rPr b="0" lang="ru-RU" sz="7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0" i="1" lang="en-US" sz="7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7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 </a:t>
            </a:r>
            <a:r>
              <a:rPr b="0" lang="ru-RU" sz="7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 </a:t>
            </a:r>
            <a:r>
              <a:rPr b="0" i="1" lang="en-US" sz="7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7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712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 движении в разных направлен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 движении в одинаковых направлен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1" descr=""/>
          <p:cNvPicPr/>
          <p:nvPr/>
        </p:nvPicPr>
        <p:blipFill>
          <a:blip r:embed="rId1"/>
          <a:stretch/>
        </p:blipFill>
        <p:spPr>
          <a:xfrm>
            <a:off x="1017720" y="2004840"/>
            <a:ext cx="5864040" cy="14702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" descr=""/>
          <p:cNvPicPr/>
          <p:nvPr/>
        </p:nvPicPr>
        <p:blipFill>
          <a:blip r:embed="rId2"/>
          <a:stretch/>
        </p:blipFill>
        <p:spPr>
          <a:xfrm>
            <a:off x="1017720" y="4290840"/>
            <a:ext cx="6761160" cy="16830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2" descr=""/>
          <p:cNvPicPr/>
          <p:nvPr/>
        </p:nvPicPr>
        <p:blipFill>
          <a:blip r:embed="rId3"/>
          <a:stretch/>
        </p:blipFill>
        <p:spPr>
          <a:xfrm>
            <a:off x="2693880" y="255600"/>
            <a:ext cx="35607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2" descr="https://urok.1sept.ru/articles/538151/14.jpg"/>
          <p:cNvPicPr/>
          <p:nvPr/>
        </p:nvPicPr>
        <p:blipFill>
          <a:blip r:embed="rId1"/>
          <a:stretch/>
        </p:blipFill>
        <p:spPr>
          <a:xfrm>
            <a:off x="785880" y="928800"/>
            <a:ext cx="7500960" cy="5338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ние 2 </a:t>
            </a:r>
            <a:br>
              <a:rPr sz="2000"/>
            </a:b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абота в парах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3071880"/>
            <a:ext cx="79675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Проверк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 противоположном направлении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навстречу друг другу)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сбл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6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=25км/ч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=25*3=75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 противоположном направлении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удал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5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6=90км/ч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=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0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3=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70к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)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 одном направлении(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отставанием)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сбл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=13км/ч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=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3=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9к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ение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 одном направлении(вдогонку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сбл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5=5км/ч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=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3=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5км</a:t>
            </a:r>
            <a:br>
              <a:rPr sz="2000"/>
            </a:br>
            <a:br>
              <a:rPr sz="2000"/>
            </a:br>
            <a:r>
              <a:rPr b="0" lang="ru-RU" sz="2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Оцени себя: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0 – я не работал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– я работал хорошо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– я активно работал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1042920" y="571680"/>
            <a:ext cx="764388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5400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15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Оцени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3 - решил все примеры без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2 - 1 ошиб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1 - 2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0 - более 2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 rot="21064200">
            <a:off x="-252360" y="4379760"/>
            <a:ext cx="9601200" cy="1189080"/>
          </a:xfrm>
          <a:prstGeom prst="rect">
            <a:avLst/>
          </a:prstGeom>
          <a:gradFill rotWithShape="0">
            <a:gsLst>
              <a:gs pos="0">
                <a:srgbClr val="0dffff"/>
              </a:gs>
              <a:gs pos="100000">
                <a:srgbClr val="79d2ff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6500160" y="2928960"/>
            <a:ext cx="2745000" cy="1152720"/>
            <a:chOff x="6500160" y="2928960"/>
            <a:chExt cx="2745000" cy="1152720"/>
          </a:xfrm>
        </p:grpSpPr>
        <p:sp>
          <p:nvSpPr>
            <p:cNvPr id="131" name="Rectangle 4"/>
            <p:cNvSpPr/>
            <p:nvPr/>
          </p:nvSpPr>
          <p:spPr>
            <a:xfrm rot="21048600">
              <a:off x="6539040" y="313740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ff"/>
                  </a:solidFill>
                  <a:latin typeface="Arial"/>
                </a:rPr>
                <a:t>36 км/ч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"/>
            <p:cNvSpPr/>
            <p:nvPr/>
          </p:nvSpPr>
          <p:spPr>
            <a:xfrm rot="21048600">
              <a:off x="6873840" y="3895200"/>
              <a:ext cx="2173320" cy="1260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8"/>
          <p:cNvSpPr/>
          <p:nvPr/>
        </p:nvSpPr>
        <p:spPr>
          <a:xfrm rot="21100800">
            <a:off x="6483960" y="4954680"/>
            <a:ext cx="236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=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? к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9"/>
          <p:cNvGrpSpPr/>
          <p:nvPr/>
        </p:nvGrpSpPr>
        <p:grpSpPr>
          <a:xfrm>
            <a:off x="7214760" y="3571560"/>
            <a:ext cx="2755080" cy="1271880"/>
            <a:chOff x="7214760" y="3571560"/>
            <a:chExt cx="2755080" cy="1271880"/>
          </a:xfrm>
        </p:grpSpPr>
        <p:sp>
          <p:nvSpPr>
            <p:cNvPr id="135" name="Rectangle 10"/>
            <p:cNvSpPr/>
            <p:nvPr/>
          </p:nvSpPr>
          <p:spPr>
            <a:xfrm rot="20875200">
              <a:off x="7258680" y="384264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ff"/>
                  </a:solidFill>
                  <a:latin typeface="Arial"/>
                </a:rPr>
                <a:t>28 км/ч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 rot="20875200">
              <a:off x="7624080" y="4691520"/>
              <a:ext cx="1333440" cy="1260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2"/>
          <p:cNvSpPr/>
          <p:nvPr/>
        </p:nvSpPr>
        <p:spPr>
          <a:xfrm>
            <a:off x="357120" y="357120"/>
            <a:ext cx="863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е три задачи из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111, №401,403,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ЗАДАЧА №1(№401,стр.111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дного порта в другой одновременно отправились теплоход и катер. Скорость теплохода составляет 28 км/ч, а скорость катера- 36 км/ч. Какое расстояние будет между ними через 5 ч после начала дви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6"/>
          <p:cNvGrpSpPr/>
          <p:nvPr/>
        </p:nvGrpSpPr>
        <p:grpSpPr>
          <a:xfrm>
            <a:off x="8521560" y="4707360"/>
            <a:ext cx="633600" cy="732960"/>
            <a:chOff x="8521560" y="4707360"/>
            <a:chExt cx="633600" cy="732960"/>
          </a:xfrm>
        </p:grpSpPr>
        <p:grpSp>
          <p:nvGrpSpPr>
            <p:cNvPr id="139" name="Group 47"/>
            <p:cNvGrpSpPr/>
            <p:nvPr/>
          </p:nvGrpSpPr>
          <p:grpSpPr>
            <a:xfrm>
              <a:off x="8521560" y="5211720"/>
              <a:ext cx="533520" cy="228600"/>
              <a:chOff x="8521560" y="5211720"/>
              <a:chExt cx="533520" cy="228600"/>
            </a:xfrm>
          </p:grpSpPr>
          <p:sp>
            <p:nvSpPr>
              <p:cNvPr id="140" name="Oval 48"/>
              <p:cNvSpPr/>
              <p:nvPr/>
            </p:nvSpPr>
            <p:spPr>
              <a:xfrm>
                <a:off x="8521560" y="5257440"/>
                <a:ext cx="533520" cy="18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49"/>
              <p:cNvSpPr/>
              <p:nvPr/>
            </p:nvSpPr>
            <p:spPr>
              <a:xfrm>
                <a:off x="8594280" y="5234400"/>
                <a:ext cx="41184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50"/>
              <p:cNvSpPr/>
              <p:nvPr/>
            </p:nvSpPr>
            <p:spPr>
              <a:xfrm>
                <a:off x="8642880" y="5211720"/>
                <a:ext cx="290880" cy="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Freeform 51"/>
            <p:cNvSpPr/>
            <p:nvPr/>
          </p:nvSpPr>
          <p:spPr>
            <a:xfrm rot="21451200">
              <a:off x="8776800" y="4714920"/>
              <a:ext cx="366840" cy="53316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авая фигурная скобка 9"/>
          <p:cNvSpPr/>
          <p:nvPr/>
        </p:nvSpPr>
        <p:spPr>
          <a:xfrm rot="5400000">
            <a:off x="4107240" y="548280"/>
            <a:ext cx="928800" cy="8001000"/>
          </a:xfrm>
          <a:custGeom>
            <a:avLst/>
            <a:gdLst>
              <a:gd name="textAreaLeft" fmla="*/ 0 w 928800"/>
              <a:gd name="textAreaRight" fmla="*/ 335520 w 928800"/>
              <a:gd name="textAreaTop" fmla="*/ 24120 h 8001000"/>
              <a:gd name="textAreaBottom" fmla="*/ 797688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5"/>
                  <a:pt x="10800" y="209"/>
                </a:cubicBezTo>
                <a:lnTo>
                  <a:pt x="10800" y="10591"/>
                </a:lnTo>
                <a:cubicBezTo>
                  <a:pt x="10800" y="10696"/>
                  <a:pt x="16200" y="10800"/>
                  <a:pt x="21600" y="10800"/>
                </a:cubicBezTo>
                <a:cubicBezTo>
                  <a:pt x="16200" y="10800"/>
                  <a:pt x="10800" y="10905"/>
                  <a:pt x="10800" y="11009"/>
                </a:cubicBezTo>
                <a:lnTo>
                  <a:pt x="10800" y="21391"/>
                </a:lnTo>
                <a:cubicBezTo>
                  <a:pt x="10800" y="2149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олилиния 5"/>
          <p:cNvSpPr/>
          <p:nvPr/>
        </p:nvSpPr>
        <p:spPr>
          <a:xfrm>
            <a:off x="500040" y="3801960"/>
            <a:ext cx="8077320" cy="1317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1042920" y="357120"/>
            <a:ext cx="7764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ЗАДАЧА №2(№403,стр.111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дной станции в противоположных направлениях одновременно отправились два поезда. Один из них двигался со скоростью 64 км/ч, а второй- 57 км/ч. Какое расстояние будет между ними через 9ч после начала дви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1"/>
          <p:cNvSpPr/>
          <p:nvPr/>
        </p:nvSpPr>
        <p:spPr>
          <a:xfrm>
            <a:off x="2792520" y="29289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64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4863960" y="29289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57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3862440" y="484992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9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3"/>
          <p:cNvSpPr/>
          <p:nvPr/>
        </p:nvSpPr>
        <p:spPr>
          <a:xfrm>
            <a:off x="4791960" y="48499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 -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6"/>
          <p:cNvGrpSpPr/>
          <p:nvPr/>
        </p:nvGrpSpPr>
        <p:grpSpPr>
          <a:xfrm>
            <a:off x="4286160" y="3135600"/>
            <a:ext cx="635040" cy="732240"/>
            <a:chOff x="4286160" y="3135600"/>
            <a:chExt cx="635040" cy="732240"/>
          </a:xfrm>
        </p:grpSpPr>
        <p:grpSp>
          <p:nvGrpSpPr>
            <p:cNvPr id="152" name="Group 47"/>
            <p:cNvGrpSpPr/>
            <p:nvPr/>
          </p:nvGrpSpPr>
          <p:grpSpPr>
            <a:xfrm>
              <a:off x="4286160" y="3614040"/>
              <a:ext cx="533520" cy="253800"/>
              <a:chOff x="4286160" y="3614040"/>
              <a:chExt cx="533520" cy="253800"/>
            </a:xfrm>
          </p:grpSpPr>
          <p:sp>
            <p:nvSpPr>
              <p:cNvPr id="153" name="Oval 48"/>
              <p:cNvSpPr/>
              <p:nvPr/>
            </p:nvSpPr>
            <p:spPr>
              <a:xfrm>
                <a:off x="4286160" y="3664800"/>
                <a:ext cx="533520" cy="203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49"/>
              <p:cNvSpPr/>
              <p:nvPr/>
            </p:nvSpPr>
            <p:spPr>
              <a:xfrm>
                <a:off x="4358880" y="3639240"/>
                <a:ext cx="411840" cy="15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0"/>
              <p:cNvSpPr/>
              <p:nvPr/>
            </p:nvSpPr>
            <p:spPr>
              <a:xfrm>
                <a:off x="4407480" y="3614040"/>
                <a:ext cx="290880" cy="7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Freeform 51"/>
            <p:cNvSpPr/>
            <p:nvPr/>
          </p:nvSpPr>
          <p:spPr>
            <a:xfrm rot="21451200">
              <a:off x="4541400" y="3143160"/>
              <a:ext cx="366840" cy="60120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Стрелка влево 25"/>
          <p:cNvSpPr/>
          <p:nvPr/>
        </p:nvSpPr>
        <p:spPr>
          <a:xfrm>
            <a:off x="2857680" y="3357720"/>
            <a:ext cx="1143000" cy="35712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26"/>
          <p:cNvSpPr/>
          <p:nvPr/>
        </p:nvSpPr>
        <p:spPr>
          <a:xfrm>
            <a:off x="5072040" y="3357720"/>
            <a:ext cx="107172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Прямоугольник 12" descr=""/>
          <p:cNvPicPr/>
          <p:nvPr/>
        </p:nvPicPr>
        <p:blipFill>
          <a:blip r:embed="rId1"/>
          <a:stretch/>
        </p:blipFill>
        <p:spPr>
          <a:xfrm>
            <a:off x="901800" y="476280"/>
            <a:ext cx="8119800" cy="3187800"/>
          </a:xfrm>
          <a:prstGeom prst="rect">
            <a:avLst/>
          </a:prstGeom>
          <a:ln w="0">
            <a:noFill/>
          </a:ln>
        </p:spPr>
      </p:pic>
      <p:sp>
        <p:nvSpPr>
          <p:cNvPr id="160" name="Левая фигурная скобка 30"/>
          <p:cNvSpPr/>
          <p:nvPr/>
        </p:nvSpPr>
        <p:spPr>
          <a:xfrm rot="16200000">
            <a:off x="4250520" y="1980000"/>
            <a:ext cx="428760" cy="6643800"/>
          </a:xfrm>
          <a:custGeom>
            <a:avLst/>
            <a:gdLst>
              <a:gd name="textAreaLeft" fmla="*/ 273960 w 428760"/>
              <a:gd name="textAreaRight" fmla="*/ 429120 w 428760"/>
              <a:gd name="textAreaTop" fmla="*/ 94320 h 6643800"/>
              <a:gd name="textAreaBottom" fmla="*/ 6549480 h 664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2"/>
                  <a:pt x="10800" y="983"/>
                </a:cubicBezTo>
                <a:lnTo>
                  <a:pt x="10800" y="9782"/>
                </a:lnTo>
                <a:cubicBezTo>
                  <a:pt x="10800" y="10274"/>
                  <a:pt x="5400" y="10765"/>
                  <a:pt x="0" y="10765"/>
                </a:cubicBezTo>
                <a:cubicBezTo>
                  <a:pt x="5400" y="10765"/>
                  <a:pt x="10800" y="11257"/>
                  <a:pt x="10800" y="11748"/>
                </a:cubicBezTo>
                <a:lnTo>
                  <a:pt x="10800" y="20617"/>
                </a:lnTo>
                <a:cubicBezTo>
                  <a:pt x="10800" y="211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31"/>
          <p:cNvSpPr/>
          <p:nvPr/>
        </p:nvSpPr>
        <p:spPr>
          <a:xfrm>
            <a:off x="3873960" y="5570640"/>
            <a:ext cx="21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=4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ч,     к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33"/>
          <p:cNvSpPr/>
          <p:nvPr/>
        </p:nvSpPr>
        <p:spPr>
          <a:xfrm>
            <a:off x="4143240" y="4840200"/>
            <a:ext cx="44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 7 раз быст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34" descr=""/>
          <p:cNvPicPr/>
          <p:nvPr/>
        </p:nvPicPr>
        <p:blipFill>
          <a:blip r:embed="rId2"/>
          <a:stretch/>
        </p:blipFill>
        <p:spPr>
          <a:xfrm>
            <a:off x="1584360" y="4791240"/>
            <a:ext cx="2092320" cy="5191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3" descr="8853.gif"/>
          <p:cNvPicPr/>
          <p:nvPr/>
        </p:nvPicPr>
        <p:blipFill>
          <a:blip r:embed="rId3"/>
          <a:stretch/>
        </p:blipFill>
        <p:spPr>
          <a:xfrm>
            <a:off x="5000760" y="5500800"/>
            <a:ext cx="357120" cy="495360"/>
          </a:xfrm>
          <a:prstGeom prst="rect">
            <a:avLst/>
          </a:prstGeom>
          <a:ln w="0">
            <a:noFill/>
          </a:ln>
        </p:spPr>
      </p:pic>
      <p:sp>
        <p:nvSpPr>
          <p:cNvPr id="165" name="Стрелка вправо 15"/>
          <p:cNvSpPr/>
          <p:nvPr/>
        </p:nvSpPr>
        <p:spPr>
          <a:xfrm>
            <a:off x="1143000" y="4500720"/>
            <a:ext cx="1428840" cy="28548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трелка влево 17"/>
          <p:cNvSpPr/>
          <p:nvPr/>
        </p:nvSpPr>
        <p:spPr>
          <a:xfrm>
            <a:off x="5786280" y="4500720"/>
            <a:ext cx="1928880" cy="35712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46"/>
          <p:cNvGrpSpPr/>
          <p:nvPr/>
        </p:nvGrpSpPr>
        <p:grpSpPr>
          <a:xfrm>
            <a:off x="4143240" y="4493160"/>
            <a:ext cx="635040" cy="732240"/>
            <a:chOff x="4143240" y="4493160"/>
            <a:chExt cx="635040" cy="732240"/>
          </a:xfrm>
        </p:grpSpPr>
        <p:grpSp>
          <p:nvGrpSpPr>
            <p:cNvPr id="168" name="Group 47"/>
            <p:cNvGrpSpPr/>
            <p:nvPr/>
          </p:nvGrpSpPr>
          <p:grpSpPr>
            <a:xfrm>
              <a:off x="4143240" y="4971600"/>
              <a:ext cx="533520" cy="253800"/>
              <a:chOff x="4143240" y="4971600"/>
              <a:chExt cx="533520" cy="253800"/>
            </a:xfrm>
          </p:grpSpPr>
          <p:sp>
            <p:nvSpPr>
              <p:cNvPr id="169" name="Oval 48"/>
              <p:cNvSpPr/>
              <p:nvPr/>
            </p:nvSpPr>
            <p:spPr>
              <a:xfrm>
                <a:off x="4143240" y="5022360"/>
                <a:ext cx="533520" cy="203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49"/>
              <p:cNvSpPr/>
              <p:nvPr/>
            </p:nvSpPr>
            <p:spPr>
              <a:xfrm>
                <a:off x="4215960" y="4996800"/>
                <a:ext cx="411840" cy="15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50"/>
              <p:cNvSpPr/>
              <p:nvPr/>
            </p:nvSpPr>
            <p:spPr>
              <a:xfrm>
                <a:off x="4264560" y="4971600"/>
                <a:ext cx="290880" cy="7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51"/>
            <p:cNvSpPr/>
            <p:nvPr/>
          </p:nvSpPr>
          <p:spPr>
            <a:xfrm rot="21451200">
              <a:off x="4398480" y="4500720"/>
              <a:ext cx="366840" cy="60120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971640" y="238320"/>
            <a:ext cx="817236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тог 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c0000"/>
                </a:solidFill>
                <a:latin typeface="Arial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Сегодня на уроке я познакомился с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Я испытал затруднения 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2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цен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214280" y="1714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c0000"/>
                </a:solidFill>
                <a:latin typeface="Calibri"/>
              </a:rPr>
              <a:t>«5» - 13 – 15 балло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c0000"/>
                </a:solidFill>
                <a:latin typeface="Calibri"/>
              </a:rPr>
              <a:t>«4» - 10 – 12 балло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c0000"/>
                </a:solidFill>
                <a:latin typeface="Calibri"/>
              </a:rPr>
              <a:t>«3» – 7 – 9 бал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Прямоугольник 4" descr=""/>
          <p:cNvPicPr/>
          <p:nvPr/>
        </p:nvPicPr>
        <p:blipFill>
          <a:blip r:embed="rId1"/>
          <a:stretch/>
        </p:blipFill>
        <p:spPr>
          <a:xfrm>
            <a:off x="298440" y="4041720"/>
            <a:ext cx="8620200" cy="1816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C:\Users\Luda\Pictures\Для мамы\KC3319-21.jpg"/>
          <p:cNvPicPr/>
          <p:nvPr/>
        </p:nvPicPr>
        <p:blipFill>
          <a:blip r:embed="rId2"/>
          <a:srcRect l="35052" t="0" r="38264" b="0"/>
          <a:stretch/>
        </p:blipFill>
        <p:spPr>
          <a:xfrm rot="3810600">
            <a:off x="7273800" y="4614120"/>
            <a:ext cx="654120" cy="245268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ая соединительная линия 7"/>
          <p:cNvSpPr/>
          <p:nvPr/>
        </p:nvSpPr>
        <p:spPr>
          <a:xfrm>
            <a:off x="285840" y="1143000"/>
            <a:ext cx="75009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1116000" y="666360"/>
            <a:ext cx="777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02, 404,40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 по  желанию: придумать   свою  задачу на  движение (записать текст), решить 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47984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C:\Users\Luda\Pictures\Для мамы\1232998623_downhouse_info_64112634797.jpg"/>
          <p:cNvPicPr/>
          <p:nvPr/>
        </p:nvPicPr>
        <p:blipFill>
          <a:blip r:embed="rId1"/>
          <a:stretch/>
        </p:blipFill>
        <p:spPr>
          <a:xfrm>
            <a:off x="5357880" y="1857240"/>
            <a:ext cx="1515960" cy="133524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ая соединительная линия 128"/>
          <p:cNvSpPr/>
          <p:nvPr/>
        </p:nvSpPr>
        <p:spPr>
          <a:xfrm>
            <a:off x="285840" y="3286080"/>
            <a:ext cx="8072280" cy="1800"/>
          </a:xfrm>
          <a:prstGeom prst="line">
            <a:avLst/>
          </a:prstGeom>
          <a:ln w="9360">
            <a:solidFill>
              <a:srgbClr val="c88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31"/>
          <p:cNvSpPr/>
          <p:nvPr/>
        </p:nvSpPr>
        <p:spPr>
          <a:xfrm>
            <a:off x="285840" y="3143160"/>
            <a:ext cx="1785960" cy="142920"/>
          </a:xfrm>
          <a:prstGeom prst="rect">
            <a:avLst/>
          </a:prstGeom>
          <a:solidFill>
            <a:srgbClr val="c889cd"/>
          </a:solidFill>
          <a:ln w="25560">
            <a:solidFill>
              <a:srgbClr val="c88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Прямоугольник 103" descr=""/>
          <p:cNvPicPr/>
          <p:nvPr/>
        </p:nvPicPr>
        <p:blipFill>
          <a:blip r:embed="rId2"/>
          <a:stretch/>
        </p:blipFill>
        <p:spPr>
          <a:xfrm>
            <a:off x="-6480" y="3419640"/>
            <a:ext cx="9120240" cy="167004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105"/>
          <p:cNvSpPr/>
          <p:nvPr/>
        </p:nvSpPr>
        <p:spPr>
          <a:xfrm>
            <a:off x="6858000" y="1785960"/>
            <a:ext cx="1500120" cy="1500120"/>
          </a:xfrm>
          <a:prstGeom prst="rect">
            <a:avLst/>
          </a:prstGeom>
          <a:solidFill>
            <a:srgbClr val="c889cd"/>
          </a:solidFill>
          <a:ln w="25560">
            <a:solidFill>
              <a:srgbClr val="c88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06"/>
          <p:cNvSpPr/>
          <p:nvPr/>
        </p:nvSpPr>
        <p:spPr>
          <a:xfrm>
            <a:off x="3857760" y="1785960"/>
            <a:ext cx="1500120" cy="1500120"/>
          </a:xfrm>
          <a:prstGeom prst="rect">
            <a:avLst/>
          </a:prstGeom>
          <a:solidFill>
            <a:srgbClr val="72afd8"/>
          </a:solidFill>
          <a:ln w="25560">
            <a:solidFill>
              <a:srgbClr val="72a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07"/>
          <p:cNvSpPr/>
          <p:nvPr/>
        </p:nvSpPr>
        <p:spPr>
          <a:xfrm>
            <a:off x="5357880" y="285840"/>
            <a:ext cx="1500120" cy="1500120"/>
          </a:xfrm>
          <a:prstGeom prst="rect">
            <a:avLst/>
          </a:prstGeom>
          <a:solidFill>
            <a:srgbClr val="80cab1"/>
          </a:solidFill>
          <a:ln w="25560">
            <a:solidFill>
              <a:srgbClr val="80c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C:\Users\Luda\Pictures\Для мамы\1191268972_c4107.jpg"/>
          <p:cNvPicPr/>
          <p:nvPr/>
        </p:nvPicPr>
        <p:blipFill>
          <a:blip r:embed="rId3"/>
          <a:stretch/>
        </p:blipFill>
        <p:spPr>
          <a:xfrm>
            <a:off x="3849840" y="285840"/>
            <a:ext cx="1436400" cy="1428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C:\Users\Luda\Pictures\Для мамы\120091101164951adm1-00-25.gif"/>
          <p:cNvPicPr/>
          <p:nvPr/>
        </p:nvPicPr>
        <p:blipFill>
          <a:blip r:embed="rId4"/>
          <a:stretch/>
        </p:blipFill>
        <p:spPr>
          <a:xfrm>
            <a:off x="2286000" y="1714680"/>
            <a:ext cx="15019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357120" y="1298160"/>
            <a:ext cx="77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из экзамена за 9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вух городов, расстояние между которыми равно 560 км, навстречу друг другу одновременно выехали два автомобиля. Через сколько часов автомобили встретятся, если их скорости равны 65 км/ч и 75 км/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520" y="1999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вижение </a:t>
            </a:r>
            <a:r>
              <a:rPr b="0" i="1" lang="ru-RU" sz="29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в противоположном направлении </a:t>
            </a:r>
            <a:r>
              <a:rPr b="0" i="1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навстречу друг другу)</a:t>
            </a:r>
            <a:br>
              <a:rPr sz="2900"/>
            </a:br>
            <a:r>
              <a:rPr b="0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</a:t>
            </a:r>
            <a:r>
              <a:rPr b="0" lang="ru-RU" sz="29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сбл.</a:t>
            </a:r>
            <a:r>
              <a:rPr b="0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= </a:t>
            </a:r>
            <a:r>
              <a:rPr b="0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</a:t>
            </a:r>
            <a:r>
              <a:rPr b="0" lang="ru-RU" sz="29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1 </a:t>
            </a:r>
            <a:r>
              <a:rPr b="1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+</a:t>
            </a:r>
            <a:r>
              <a:rPr b="0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</a:t>
            </a:r>
            <a:r>
              <a:rPr b="0" lang="ru-RU" sz="29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r>
              <a:rPr b="0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=65</a:t>
            </a:r>
            <a:r>
              <a:rPr b="1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+</a:t>
            </a:r>
            <a:r>
              <a:rPr b="0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5=140км/ч</a:t>
            </a:r>
            <a:br>
              <a:rPr sz="2900"/>
            </a:br>
            <a:r>
              <a:rPr b="0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</a:t>
            </a:r>
            <a:r>
              <a:rPr b="0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=560</a:t>
            </a:r>
            <a:r>
              <a:rPr b="0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140</a:t>
            </a:r>
            <a:r>
              <a:rPr b="0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=</a:t>
            </a:r>
            <a:r>
              <a:rPr b="0" lang="ru-RU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ч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714240" y="162360"/>
            <a:ext cx="7500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а   из  учебника  «Физика 7 клас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Лыжник,  спускаясь  с  горы, проходи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0м  за 5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устившись  с  горы и  продолжая  двигаться, он  до  полной   остановки  проходит  е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0м  за  15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йдите  среднюю  скорость  лыжника  за  все время 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4938840" y="1995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1236600" y="10000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1967040" y="385920"/>
            <a:ext cx="39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ИФР к уст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28800" y="1928880"/>
          <a:ext cx="6810120" cy="1158840"/>
        </p:xfrm>
        <a:graphic>
          <a:graphicData uri="http://schemas.openxmlformats.org/drawingml/2006/table">
            <a:tbl>
              <a:tblPr/>
              <a:tblGrid>
                <a:gridCol w="1135080"/>
                <a:gridCol w="1135080"/>
                <a:gridCol w="1135080"/>
                <a:gridCol w="1134720"/>
                <a:gridCol w="1135080"/>
                <a:gridCol w="1135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1095840" y="1541880"/>
            <a:ext cx="636984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50 + 30) : (15 + 5) = 4 м/с – ν</a:t>
            </a:r>
            <a:r>
              <a:rPr b="0" lang="ru-RU" sz="2800" spc="-1" strike="noStrike" baseline="-30000">
                <a:solidFill>
                  <a:srgbClr val="0033cc"/>
                </a:solidFill>
                <a:latin typeface="Times New Roman"/>
                <a:ea typeface="Times New Roman"/>
              </a:rPr>
              <a:t>с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вет:  4м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редняя  скорость движения - это  пу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ойденный  телом,  раздел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  время  его 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332000" y="421560"/>
            <a:ext cx="78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http://static.diary.ru/userdir/1/4/0/8/1408432/48328025.png"/>
          <p:cNvPicPr/>
          <p:nvPr/>
        </p:nvPicPr>
        <p:blipFill>
          <a:blip r:embed="rId1"/>
          <a:stretch/>
        </p:blipFill>
        <p:spPr>
          <a:xfrm>
            <a:off x="6337440" y="3952800"/>
            <a:ext cx="2771640" cy="29052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807920" y="785880"/>
            <a:ext cx="6186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ая тема объединяет эти поня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1229040" y="1857240"/>
            <a:ext cx="621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м, </a:t>
            </a:r>
            <a:r>
              <a:rPr b="1" i="1" lang="el-GR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ν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автомобиль, км/ч,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/мин,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пеше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2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-176040" y="2389320"/>
            <a:ext cx="9485280" cy="1854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6.10.2022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285840" y="534240"/>
            <a:ext cx="87868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c0000"/>
                </a:solidFill>
                <a:latin typeface="Arial"/>
              </a:rPr>
              <a:t>Если вы хотите научиться плавать, то смело входите в воду, а если хотите научиться решать задачи,то решайте и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вейцарский математи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ьёрдь Пой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одзаголовок 2"/>
          <p:cNvSpPr/>
          <p:nvPr/>
        </p:nvSpPr>
        <p:spPr>
          <a:xfrm>
            <a:off x="214200" y="928800"/>
            <a:ext cx="857268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99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ν</a:t>
            </a:r>
            <a:r>
              <a:rPr b="1" i="1" lang="en-US" sz="199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   s</a:t>
            </a:r>
            <a:r>
              <a:rPr b="1" i="1" lang="ru-RU" sz="199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19900" spc="-1" strike="noStrike">
                <a:solidFill>
                  <a:srgbClr val="ac0000"/>
                </a:solidFill>
                <a:latin typeface="Times New Roman"/>
                <a:ea typeface="Times New Roman"/>
              </a:rPr>
              <a:t> t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-163440" y="268200"/>
            <a:ext cx="93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едини части правила-формулы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819840" y="1582560"/>
            <a:ext cx="1462320" cy="10083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V·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6815160" y="3306600"/>
            <a:ext cx="1467000" cy="10083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S</a:t>
            </a:r>
            <a:r>
              <a:rPr b="1" lang="ru-RU" sz="60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827040" y="4965840"/>
            <a:ext cx="1314360" cy="10083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S</a:t>
            </a:r>
            <a:r>
              <a:rPr b="1" lang="ru-RU" sz="60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611280" y="2786040"/>
            <a:ext cx="29923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129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601560" y="4444920"/>
            <a:ext cx="2845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129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611280" y="1249200"/>
            <a:ext cx="29210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ru-RU" sz="129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 L 0.39549 -0.2331 E">
                                      <p:cBhvr>
                                        <p:cTn id="15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46 -0.02685 L 0.38785 -0.21296 E">
                                      <p:cBhvr>
                                        <p:cTn id="1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82 0.03773 L 0.37587 0.44861 E">
                                      <p:cBhvr>
                                        <p:cTn id="2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Содержимое 2"/>
          <p:cNvSpPr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s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l-G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×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428760" y="35712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формул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45:56Z</dcterms:created>
  <dc:creator>Admin</dc:creator>
  <dc:description/>
  <dc:language>en-US</dc:language>
  <cp:lastModifiedBy>1</cp:lastModifiedBy>
  <dcterms:modified xsi:type="dcterms:W3CDTF">2022-10-25T16:21:28Z</dcterms:modified>
  <cp:revision>214</cp:revision>
  <dc:subject/>
  <dc:title>Слайд 1</dc:title>
</cp:coreProperties>
</file>