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B20-45A9-4A0B-A6E3-234E9DCC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E13-485E-4A9A-A13B-560FE888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C28-5D23-4A95-AD03-258A6E5D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0B6-41E8-43AC-96E7-9F409373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9A83C-94CE-4A85-BC10-52A9EA24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1A79A-4074-4118-8AE3-802E31D9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1C7A-3AC0-4D42-AC68-E8524365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AFC22-FE96-4615-8AE3-62D30C7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0B400-94C5-4975-9101-99C9F25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01643-0FDF-4965-A535-9F2B8750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BAC85-E218-4273-9835-BAAE701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78A-1369-4070-B9B9-6DFBE5A9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05A9B-7012-4DC1-BCA4-DF5DCEA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FD6B4-C85A-4EF8-8700-F50904A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E1C22-52EE-4E73-BAE6-BD3653A4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D0055-72F1-4F34-8195-6335EE9F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738D-D223-46F1-BF52-932FC361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3AA-9F95-4F27-BBAA-CD105E8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E3F-A192-42E8-A1B7-C797E14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988-BB99-4EB7-A1FB-D79114A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02C-EF9B-49FB-8C3E-2681C439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0CE-BA2E-4206-ABB9-75EE1ED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C68-4F6E-4C77-A50B-74C886A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2C3-23EF-444E-9689-603DDAB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260-0619-4BC9-A518-E341F182E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1F0F-E3C1-4B37-8DB5-C158A49790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5" descr=""/>
          <p:cNvPicPr/>
          <p:nvPr/>
        </p:nvPicPr>
        <p:blipFill>
          <a:blip r:embed="rId1"/>
          <a:stretch/>
        </p:blipFill>
        <p:spPr>
          <a:xfrm>
            <a:off x="4498920" y="5505480"/>
            <a:ext cx="46450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otvet.imgsmail.ru/download/9ac4490501935a10f0daea15c932e206_i-54.jpg"/>
          <p:cNvPicPr/>
          <p:nvPr/>
        </p:nvPicPr>
        <p:blipFill>
          <a:blip r:embed="rId2"/>
          <a:stretch/>
        </p:blipFill>
        <p:spPr>
          <a:xfrm>
            <a:off x="0" y="1300320"/>
            <a:ext cx="4214880" cy="55576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8" descr=""/>
          <p:cNvPicPr/>
          <p:nvPr/>
        </p:nvPicPr>
        <p:blipFill>
          <a:blip r:embed="rId3"/>
          <a:stretch/>
        </p:blipFill>
        <p:spPr>
          <a:xfrm>
            <a:off x="3730680" y="139680"/>
            <a:ext cx="5413320" cy="2865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Ниг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8280360" y="613872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12966" y="3837"/>
                </a:moveTo>
                <a:lnTo>
                  <a:pt x="15543" y="6448"/>
                </a:ln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lnTo>
                  <a:pt x="19929" y="10800"/>
                </a:lnTo>
                <a:lnTo>
                  <a:pt x="18276" y="10800"/>
                </a:lnTo>
                <a:lnTo>
                  <a:pt x="18276" y="17989"/>
                </a:lnTo>
                <a:lnTo>
                  <a:pt x="7657" y="17989"/>
                </a:lnTo>
                <a:lnTo>
                  <a:pt x="7657" y="10800"/>
                </a:lnTo>
                <a:lnTo>
                  <a:pt x="6004" y="10800"/>
                </a:lnTo>
                <a:close/>
              </a:path>
              <a:path fill="darkenLess" w="25933" h="21600">
                <a:moveTo>
                  <a:pt x="15543" y="6448"/>
                </a:move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close/>
              </a:path>
              <a:path fill="darkenLess" w="25933" h="21600">
                <a:moveTo>
                  <a:pt x="12044" y="14299"/>
                </a:moveTo>
                <a:lnTo>
                  <a:pt x="13889" y="14299"/>
                </a:lnTo>
                <a:lnTo>
                  <a:pt x="13889" y="17989"/>
                </a:lnTo>
                <a:lnTo>
                  <a:pt x="18276" y="17989"/>
                </a:lnTo>
                <a:lnTo>
                  <a:pt x="18276" y="10800"/>
                </a:lnTo>
                <a:lnTo>
                  <a:pt x="7657" y="10800"/>
                </a:lnTo>
                <a:lnTo>
                  <a:pt x="7657" y="17989"/>
                </a:lnTo>
                <a:lnTo>
                  <a:pt x="12044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C:\Users\Admin\Desktop\Niger_river_map.jpg"/>
          <p:cNvPicPr/>
          <p:nvPr/>
        </p:nvPicPr>
        <p:blipFill>
          <a:blip r:embed="rId1"/>
          <a:stretch/>
        </p:blipFill>
        <p:spPr>
          <a:xfrm>
            <a:off x="0" y="2066760"/>
            <a:ext cx="762012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362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 самом деле эта очень даже реальная река. И существует она не только в сказках Чуковского. На ее берегах в самом деле лучше не гулять, так как там полно больших злых крокодилов, и гиппопотамов. Не даром другое название реки – Крокодиловая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Лимпоп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8388360" y="6138720"/>
            <a:ext cx="755640" cy="71928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2691" h="21600">
                <a:moveTo>
                  <a:pt x="0" y="0"/>
                </a:moveTo>
                <a:lnTo>
                  <a:pt x="22691" y="0"/>
                </a:lnTo>
                <a:lnTo>
                  <a:pt x="22691" y="21600"/>
                </a:lnTo>
                <a:lnTo>
                  <a:pt x="0" y="21600"/>
                </a:lnTo>
                <a:close/>
              </a:path>
              <a:path fill="lightenLess" w="22691" h="21600">
                <a:moveTo>
                  <a:pt x="0" y="0"/>
                </a:moveTo>
                <a:lnTo>
                  <a:pt x="22691" y="0"/>
                </a:lnTo>
                <a:lnTo>
                  <a:pt x="21291" y="1400"/>
                </a:lnTo>
                <a:lnTo>
                  <a:pt x="1400" y="1400"/>
                </a:lnTo>
                <a:close/>
              </a:path>
              <a:path fill="darken" w="22691" h="21600">
                <a:moveTo>
                  <a:pt x="22691" y="0"/>
                </a:moveTo>
                <a:lnTo>
                  <a:pt x="22691" y="21600"/>
                </a:lnTo>
                <a:lnTo>
                  <a:pt x="21291" y="20200"/>
                </a:lnTo>
                <a:lnTo>
                  <a:pt x="21291" y="1400"/>
                </a:lnTo>
                <a:close/>
              </a:path>
              <a:path fill="darkenLess" w="22691" h="21600">
                <a:moveTo>
                  <a:pt x="2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1" y="20200"/>
                </a:lnTo>
                <a:close/>
              </a:path>
              <a:path fill="lighten" w="2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1" h="21600">
                <a:moveTo>
                  <a:pt x="11346" y="3837"/>
                </a:moveTo>
                <a:lnTo>
                  <a:pt x="13922" y="6448"/>
                </a:lnTo>
                <a:lnTo>
                  <a:pt x="13922" y="4707"/>
                </a:lnTo>
                <a:lnTo>
                  <a:pt x="15698" y="4707"/>
                </a:lnTo>
                <a:lnTo>
                  <a:pt x="15698" y="8224"/>
                </a:lnTo>
                <a:lnTo>
                  <a:pt x="18309" y="10800"/>
                </a:lnTo>
                <a:lnTo>
                  <a:pt x="16655" y="10800"/>
                </a:lnTo>
                <a:lnTo>
                  <a:pt x="16655" y="17989"/>
                </a:lnTo>
                <a:lnTo>
                  <a:pt x="6036" y="17989"/>
                </a:lnTo>
                <a:lnTo>
                  <a:pt x="6036" y="10800"/>
                </a:lnTo>
                <a:lnTo>
                  <a:pt x="4383" y="10800"/>
                </a:lnTo>
                <a:close/>
              </a:path>
              <a:path fill="darkenLess" w="22691" h="21600">
                <a:moveTo>
                  <a:pt x="13922" y="6448"/>
                </a:moveTo>
                <a:lnTo>
                  <a:pt x="13922" y="4707"/>
                </a:lnTo>
                <a:lnTo>
                  <a:pt x="15698" y="4707"/>
                </a:lnTo>
                <a:lnTo>
                  <a:pt x="15698" y="8224"/>
                </a:lnTo>
                <a:close/>
              </a:path>
              <a:path fill="darkenLess" w="22691" h="21600">
                <a:moveTo>
                  <a:pt x="10423" y="14299"/>
                </a:moveTo>
                <a:lnTo>
                  <a:pt x="12268" y="14299"/>
                </a:lnTo>
                <a:lnTo>
                  <a:pt x="12268" y="17989"/>
                </a:lnTo>
                <a:lnTo>
                  <a:pt x="16655" y="17989"/>
                </a:lnTo>
                <a:lnTo>
                  <a:pt x="16655" y="10800"/>
                </a:lnTo>
                <a:lnTo>
                  <a:pt x="6036" y="10800"/>
                </a:lnTo>
                <a:lnTo>
                  <a:pt x="6036" y="17989"/>
                </a:lnTo>
                <a:lnTo>
                  <a:pt x="1042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C:\Users\Admin\Desktop\croc-limpopo1.jpg"/>
          <p:cNvPicPr/>
          <p:nvPr/>
        </p:nvPicPr>
        <p:blipFill>
          <a:blip r:embed="rId1"/>
          <a:stretch/>
        </p:blipFill>
        <p:spPr>
          <a:xfrm>
            <a:off x="395280" y="1268280"/>
            <a:ext cx="7188120" cy="5391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Горы какого возраста расположены на материке Афр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4392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e"/>
                </a:solidFill>
                <a:latin typeface="Tahoma"/>
              </a:rPr>
              <a:t>Древние горы Капские и Драконовы, молодые горы Атл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4722" y="3837"/>
                </a:moveTo>
                <a:lnTo>
                  <a:pt x="17298" y="6448"/>
                </a:lnTo>
                <a:lnTo>
                  <a:pt x="17298" y="4707"/>
                </a:lnTo>
                <a:lnTo>
                  <a:pt x="19074" y="4707"/>
                </a:lnTo>
                <a:lnTo>
                  <a:pt x="19074" y="8224"/>
                </a:lnTo>
                <a:lnTo>
                  <a:pt x="21685" y="10800"/>
                </a:lnTo>
                <a:lnTo>
                  <a:pt x="20031" y="10800"/>
                </a:lnTo>
                <a:lnTo>
                  <a:pt x="20031" y="17989"/>
                </a:lnTo>
                <a:lnTo>
                  <a:pt x="9412" y="17989"/>
                </a:lnTo>
                <a:lnTo>
                  <a:pt x="9412" y="10800"/>
                </a:lnTo>
                <a:lnTo>
                  <a:pt x="7759" y="10800"/>
                </a:lnTo>
                <a:close/>
              </a:path>
              <a:path fill="darkenLess" w="29443" h="21600">
                <a:moveTo>
                  <a:pt x="17298" y="6448"/>
                </a:moveTo>
                <a:lnTo>
                  <a:pt x="17298" y="4707"/>
                </a:lnTo>
                <a:lnTo>
                  <a:pt x="19074" y="4707"/>
                </a:lnTo>
                <a:lnTo>
                  <a:pt x="19074" y="8224"/>
                </a:lnTo>
                <a:close/>
              </a:path>
              <a:path fill="darkenLess" w="29443" h="21600">
                <a:moveTo>
                  <a:pt x="13799" y="14299"/>
                </a:moveTo>
                <a:lnTo>
                  <a:pt x="15644" y="14299"/>
                </a:lnTo>
                <a:lnTo>
                  <a:pt x="15644" y="17989"/>
                </a:lnTo>
                <a:lnTo>
                  <a:pt x="20031" y="17989"/>
                </a:lnTo>
                <a:lnTo>
                  <a:pt x="20031" y="10800"/>
                </a:lnTo>
                <a:lnTo>
                  <a:pt x="9412" y="10800"/>
                </a:lnTo>
                <a:lnTo>
                  <a:pt x="9412" y="17989"/>
                </a:lnTo>
                <a:lnTo>
                  <a:pt x="1379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C:\Users\Admin\Desktop\Maroko_5.jpg"/>
          <p:cNvPicPr/>
          <p:nvPr/>
        </p:nvPicPr>
        <p:blipFill>
          <a:blip r:embed="rId1"/>
          <a:stretch/>
        </p:blipFill>
        <p:spPr>
          <a:xfrm>
            <a:off x="0" y="3564000"/>
            <a:ext cx="4394160" cy="329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Admin\Desktop\4_9_ZA_0065_IT(1).jpg"/>
          <p:cNvPicPr/>
          <p:nvPr/>
        </p:nvPicPr>
        <p:blipFill>
          <a:blip r:embed="rId2"/>
          <a:stretch/>
        </p:blipFill>
        <p:spPr>
          <a:xfrm>
            <a:off x="4784760" y="0"/>
            <a:ext cx="4359240" cy="3268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734920"/>
            <a:ext cx="82296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Самая высокая гора Афри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5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Вулкан Килиманджаро  5895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7885080" y="5877000"/>
            <a:ext cx="1258920" cy="981000"/>
          </a:xfrm>
          <a:custGeom>
            <a:avLst/>
            <a:gdLst>
              <a:gd name="textAreaLeft" fmla="*/ 63360 w 1258920"/>
              <a:gd name="textAreaRight" fmla="*/ 1195560 w 1258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7717" h="21600">
                <a:moveTo>
                  <a:pt x="0" y="0"/>
                </a:moveTo>
                <a:lnTo>
                  <a:pt x="27717" y="0"/>
                </a:lnTo>
                <a:lnTo>
                  <a:pt x="27717" y="21600"/>
                </a:lnTo>
                <a:lnTo>
                  <a:pt x="0" y="21600"/>
                </a:lnTo>
                <a:close/>
              </a:path>
              <a:path fill="lightenLess" w="27717" h="21600">
                <a:moveTo>
                  <a:pt x="0" y="0"/>
                </a:moveTo>
                <a:lnTo>
                  <a:pt x="27717" y="0"/>
                </a:lnTo>
                <a:lnTo>
                  <a:pt x="26317" y="1400"/>
                </a:lnTo>
                <a:lnTo>
                  <a:pt x="1400" y="1400"/>
                </a:lnTo>
                <a:close/>
              </a:path>
              <a:path fill="darken" w="27717" h="21600">
                <a:moveTo>
                  <a:pt x="27717" y="0"/>
                </a:moveTo>
                <a:lnTo>
                  <a:pt x="27717" y="21600"/>
                </a:lnTo>
                <a:lnTo>
                  <a:pt x="26317" y="20200"/>
                </a:lnTo>
                <a:lnTo>
                  <a:pt x="26317" y="1400"/>
                </a:lnTo>
                <a:close/>
              </a:path>
              <a:path fill="darkenLess" w="27717" h="21600">
                <a:moveTo>
                  <a:pt x="277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7" y="20200"/>
                </a:lnTo>
                <a:close/>
              </a:path>
              <a:path fill="lighten" w="277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7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0" y="4707"/>
                </a:lnTo>
                <a:lnTo>
                  <a:pt x="18210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49" y="17989"/>
                </a:lnTo>
                <a:lnTo>
                  <a:pt x="8549" y="10800"/>
                </a:lnTo>
                <a:lnTo>
                  <a:pt x="6896" y="10800"/>
                </a:lnTo>
                <a:close/>
              </a:path>
              <a:path fill="darkenLess" w="27717" h="21600">
                <a:moveTo>
                  <a:pt x="16435" y="6448"/>
                </a:moveTo>
                <a:lnTo>
                  <a:pt x="16435" y="4707"/>
                </a:lnTo>
                <a:lnTo>
                  <a:pt x="18210" y="4707"/>
                </a:lnTo>
                <a:lnTo>
                  <a:pt x="18210" y="8224"/>
                </a:lnTo>
                <a:close/>
              </a:path>
              <a:path fill="darkenLess" w="27717" h="21600">
                <a:moveTo>
                  <a:pt x="12936" y="14299"/>
                </a:moveTo>
                <a:lnTo>
                  <a:pt x="14781" y="14299"/>
                </a:lnTo>
                <a:lnTo>
                  <a:pt x="14781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49" y="10800"/>
                </a:lnTo>
                <a:lnTo>
                  <a:pt x="8549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C:\Users\Admin\Desktop\kilimanjara-590x442.jpg"/>
          <p:cNvPicPr/>
          <p:nvPr/>
        </p:nvPicPr>
        <p:blipFill>
          <a:blip r:embed="rId1"/>
          <a:stretch/>
        </p:blipFill>
        <p:spPr>
          <a:xfrm>
            <a:off x="0" y="1490760"/>
            <a:ext cx="7164360" cy="5367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 западе Африки расположен вулкан высотой 4070 м. в одноимённой стране. Назовите страну и вулкан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65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Вулкан Камеру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C:\Users\Admin\Desktop\thumbnail.php.jpg"/>
          <p:cNvPicPr/>
          <p:nvPr/>
        </p:nvPicPr>
        <p:blipFill>
          <a:blip r:embed="rId1"/>
          <a:stretch/>
        </p:blipFill>
        <p:spPr>
          <a:xfrm>
            <a:off x="755640" y="1274760"/>
            <a:ext cx="648036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Как называются плита и платформа,  на которой  расположен  материк Африка, в каком направлении и с какой скоростью движется плит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utoShape 4" descr=""/>
          <p:cNvPicPr/>
          <p:nvPr/>
        </p:nvPicPr>
        <p:blipFill>
          <a:blip r:embed="rId1"/>
          <a:stretch/>
        </p:blipFill>
        <p:spPr>
          <a:xfrm>
            <a:off x="1689120" y="104760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87" name="AutoShape 5" descr=""/>
          <p:cNvPicPr/>
          <p:nvPr/>
        </p:nvPicPr>
        <p:blipFill>
          <a:blip r:embed="rId2"/>
          <a:stretch/>
        </p:blipFill>
        <p:spPr>
          <a:xfrm>
            <a:off x="4565520" y="1047600"/>
            <a:ext cx="1092240" cy="963720"/>
          </a:xfrm>
          <a:prstGeom prst="rect">
            <a:avLst/>
          </a:prstGeom>
          <a:ln w="0">
            <a:noFill/>
          </a:ln>
        </p:spPr>
      </p:pic>
      <p:pic>
        <p:nvPicPr>
          <p:cNvPr id="88" name="AutoShape 6" descr=""/>
          <p:cNvPicPr/>
          <p:nvPr/>
        </p:nvPicPr>
        <p:blipFill>
          <a:blip r:embed="rId3"/>
          <a:stretch/>
        </p:blipFill>
        <p:spPr>
          <a:xfrm>
            <a:off x="3127320" y="1047600"/>
            <a:ext cx="1090800" cy="963720"/>
          </a:xfrm>
          <a:prstGeom prst="rect">
            <a:avLst/>
          </a:prstGeom>
          <a:ln w="0">
            <a:noFill/>
          </a:ln>
        </p:spPr>
      </p:pic>
      <p:pic>
        <p:nvPicPr>
          <p:cNvPr id="89" name="AutoShape 7" descr=""/>
          <p:cNvPicPr/>
          <p:nvPr/>
        </p:nvPicPr>
        <p:blipFill>
          <a:blip r:embed="rId4"/>
          <a:stretch/>
        </p:blipFill>
        <p:spPr>
          <a:xfrm>
            <a:off x="1689120" y="2468520"/>
            <a:ext cx="1090440" cy="969840"/>
          </a:xfrm>
          <a:prstGeom prst="rect">
            <a:avLst/>
          </a:prstGeom>
          <a:ln w="0">
            <a:noFill/>
          </a:ln>
        </p:spPr>
      </p:pic>
      <p:pic>
        <p:nvPicPr>
          <p:cNvPr id="90" name="AutoShape 8" descr=""/>
          <p:cNvPicPr/>
          <p:nvPr/>
        </p:nvPicPr>
        <p:blipFill>
          <a:blip r:embed="rId5"/>
          <a:stretch/>
        </p:blipFill>
        <p:spPr>
          <a:xfrm>
            <a:off x="1689120" y="3925800"/>
            <a:ext cx="1090440" cy="970200"/>
          </a:xfrm>
          <a:prstGeom prst="rect">
            <a:avLst/>
          </a:prstGeom>
          <a:ln w="0">
            <a:noFill/>
          </a:ln>
        </p:spPr>
      </p:pic>
      <p:pic>
        <p:nvPicPr>
          <p:cNvPr id="91" name="AutoShape 9" descr=""/>
          <p:cNvPicPr/>
          <p:nvPr/>
        </p:nvPicPr>
        <p:blipFill>
          <a:blip r:embed="rId6"/>
          <a:stretch/>
        </p:blipFill>
        <p:spPr>
          <a:xfrm>
            <a:off x="1689120" y="537048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10" descr=""/>
          <p:cNvPicPr/>
          <p:nvPr/>
        </p:nvPicPr>
        <p:blipFill>
          <a:blip r:embed="rId7"/>
          <a:stretch/>
        </p:blipFill>
        <p:spPr>
          <a:xfrm>
            <a:off x="6004080" y="1047600"/>
            <a:ext cx="1091880" cy="963720"/>
          </a:xfrm>
          <a:prstGeom prst="rect">
            <a:avLst/>
          </a:prstGeom>
          <a:ln w="0">
            <a:noFill/>
          </a:ln>
        </p:spPr>
      </p:pic>
      <p:pic>
        <p:nvPicPr>
          <p:cNvPr id="93" name="AutoShape 11" descr=""/>
          <p:cNvPicPr/>
          <p:nvPr/>
        </p:nvPicPr>
        <p:blipFill>
          <a:blip r:embed="rId8"/>
          <a:stretch/>
        </p:blipFill>
        <p:spPr>
          <a:xfrm>
            <a:off x="7443720" y="1047600"/>
            <a:ext cx="1090800" cy="963720"/>
          </a:xfrm>
          <a:prstGeom prst="rect">
            <a:avLst/>
          </a:prstGeom>
          <a:ln w="0">
            <a:noFill/>
          </a:ln>
        </p:spPr>
      </p:pic>
      <p:pic>
        <p:nvPicPr>
          <p:cNvPr id="94" name="AutoShape 12" descr=""/>
          <p:cNvPicPr/>
          <p:nvPr/>
        </p:nvPicPr>
        <p:blipFill>
          <a:blip r:embed="rId9"/>
          <a:stretch/>
        </p:blipFill>
        <p:spPr>
          <a:xfrm>
            <a:off x="6004080" y="2468520"/>
            <a:ext cx="1091880" cy="969840"/>
          </a:xfrm>
          <a:prstGeom prst="rect">
            <a:avLst/>
          </a:prstGeom>
          <a:ln w="0">
            <a:noFill/>
          </a:ln>
        </p:spPr>
      </p:pic>
      <p:pic>
        <p:nvPicPr>
          <p:cNvPr id="95" name="AutoShape 13" descr=""/>
          <p:cNvPicPr/>
          <p:nvPr/>
        </p:nvPicPr>
        <p:blipFill>
          <a:blip r:embed="rId10"/>
          <a:stretch/>
        </p:blipFill>
        <p:spPr>
          <a:xfrm>
            <a:off x="4565520" y="2468520"/>
            <a:ext cx="1092240" cy="969840"/>
          </a:xfrm>
          <a:prstGeom prst="rect">
            <a:avLst/>
          </a:prstGeom>
          <a:ln w="0">
            <a:noFill/>
          </a:ln>
        </p:spPr>
      </p:pic>
      <p:pic>
        <p:nvPicPr>
          <p:cNvPr id="96" name="AutoShape 14" descr=""/>
          <p:cNvPicPr/>
          <p:nvPr/>
        </p:nvPicPr>
        <p:blipFill>
          <a:blip r:embed="rId11"/>
          <a:stretch/>
        </p:blipFill>
        <p:spPr>
          <a:xfrm>
            <a:off x="3127320" y="2468520"/>
            <a:ext cx="1090800" cy="969840"/>
          </a:xfrm>
          <a:prstGeom prst="rect">
            <a:avLst/>
          </a:prstGeom>
          <a:ln w="0">
            <a:noFill/>
          </a:ln>
        </p:spPr>
      </p:pic>
      <p:pic>
        <p:nvPicPr>
          <p:cNvPr id="97" name="AutoShape 15" descr=""/>
          <p:cNvPicPr/>
          <p:nvPr/>
        </p:nvPicPr>
        <p:blipFill>
          <a:blip r:embed="rId12"/>
          <a:stretch/>
        </p:blipFill>
        <p:spPr>
          <a:xfrm>
            <a:off x="4565520" y="3925800"/>
            <a:ext cx="1092240" cy="970200"/>
          </a:xfrm>
          <a:prstGeom prst="rect">
            <a:avLst/>
          </a:prstGeom>
          <a:ln w="0">
            <a:noFill/>
          </a:ln>
        </p:spPr>
      </p:pic>
      <p:pic>
        <p:nvPicPr>
          <p:cNvPr id="98" name="AutoShape 16" descr=""/>
          <p:cNvPicPr/>
          <p:nvPr/>
        </p:nvPicPr>
        <p:blipFill>
          <a:blip r:embed="rId13"/>
          <a:stretch/>
        </p:blipFill>
        <p:spPr>
          <a:xfrm>
            <a:off x="3127320" y="3925800"/>
            <a:ext cx="1090800" cy="970200"/>
          </a:xfrm>
          <a:prstGeom prst="rect">
            <a:avLst/>
          </a:prstGeom>
          <a:ln w="0">
            <a:noFill/>
          </a:ln>
        </p:spPr>
      </p:pic>
      <p:pic>
        <p:nvPicPr>
          <p:cNvPr id="99" name="AutoShape 17" descr=""/>
          <p:cNvPicPr/>
          <p:nvPr/>
        </p:nvPicPr>
        <p:blipFill>
          <a:blip r:embed="rId14"/>
          <a:stretch/>
        </p:blipFill>
        <p:spPr>
          <a:xfrm>
            <a:off x="7443720" y="2468520"/>
            <a:ext cx="1090800" cy="969840"/>
          </a:xfrm>
          <a:prstGeom prst="rect">
            <a:avLst/>
          </a:prstGeom>
          <a:ln w="0">
            <a:noFill/>
          </a:ln>
        </p:spPr>
      </p:pic>
      <p:pic>
        <p:nvPicPr>
          <p:cNvPr id="100" name="AutoShape 18" descr=""/>
          <p:cNvPicPr/>
          <p:nvPr/>
        </p:nvPicPr>
        <p:blipFill>
          <a:blip r:embed="rId15"/>
          <a:stretch/>
        </p:blipFill>
        <p:spPr>
          <a:xfrm>
            <a:off x="7443720" y="5370480"/>
            <a:ext cx="1090800" cy="963720"/>
          </a:xfrm>
          <a:prstGeom prst="rect">
            <a:avLst/>
          </a:prstGeom>
          <a:ln w="0">
            <a:noFill/>
          </a:ln>
        </p:spPr>
      </p:pic>
      <p:pic>
        <p:nvPicPr>
          <p:cNvPr id="101" name="AutoShape 19" descr=""/>
          <p:cNvPicPr/>
          <p:nvPr/>
        </p:nvPicPr>
        <p:blipFill>
          <a:blip r:embed="rId16"/>
          <a:stretch/>
        </p:blipFill>
        <p:spPr>
          <a:xfrm>
            <a:off x="6004080" y="5370480"/>
            <a:ext cx="1091880" cy="963720"/>
          </a:xfrm>
          <a:prstGeom prst="rect">
            <a:avLst/>
          </a:prstGeom>
          <a:ln w="0">
            <a:noFill/>
          </a:ln>
        </p:spPr>
      </p:pic>
      <p:pic>
        <p:nvPicPr>
          <p:cNvPr id="102" name="AutoShape 20" descr=""/>
          <p:cNvPicPr/>
          <p:nvPr/>
        </p:nvPicPr>
        <p:blipFill>
          <a:blip r:embed="rId17"/>
          <a:stretch/>
        </p:blipFill>
        <p:spPr>
          <a:xfrm>
            <a:off x="4565520" y="5370480"/>
            <a:ext cx="1092240" cy="963720"/>
          </a:xfrm>
          <a:prstGeom prst="rect">
            <a:avLst/>
          </a:prstGeom>
          <a:ln w="0">
            <a:noFill/>
          </a:ln>
        </p:spPr>
      </p:pic>
      <p:pic>
        <p:nvPicPr>
          <p:cNvPr id="103" name="AutoShape 21" descr=""/>
          <p:cNvPicPr/>
          <p:nvPr/>
        </p:nvPicPr>
        <p:blipFill>
          <a:blip r:embed="rId18"/>
          <a:stretch/>
        </p:blipFill>
        <p:spPr>
          <a:xfrm>
            <a:off x="3127320" y="5370480"/>
            <a:ext cx="1090800" cy="9637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2"/>
          <p:cNvSpPr/>
          <p:nvPr/>
        </p:nvSpPr>
        <p:spPr>
          <a:xfrm>
            <a:off x="7451640" y="3933720"/>
            <a:ext cx="1079640" cy="952560"/>
          </a:xfrm>
          <a:custGeom>
            <a:avLst/>
            <a:gdLst>
              <a:gd name="textAreaLeft" fmla="*/ 61560 w 1079640"/>
              <a:gd name="textAreaRight" fmla="*/ 1018080 w 1079640"/>
              <a:gd name="textAreaTop" fmla="*/ 61560 h 952560"/>
              <a:gd name="textAreaBottom" fmla="*/ 891000 h 952560"/>
            </a:gdLst>
            <a:ahLst/>
            <a:rect l="textAreaLeft" t="textAreaTop" r="textAreaRight" b="textAreaBottom"/>
            <a:pathLst>
              <a:path w="24481" h="21600">
                <a:moveTo>
                  <a:pt x="0" y="0"/>
                </a:moveTo>
                <a:lnTo>
                  <a:pt x="24481" y="0"/>
                </a:lnTo>
                <a:lnTo>
                  <a:pt x="24481" y="21600"/>
                </a:lnTo>
                <a:lnTo>
                  <a:pt x="0" y="21600"/>
                </a:lnTo>
                <a:close/>
              </a:path>
              <a:path fill="lightenLess" w="24481" h="21600">
                <a:moveTo>
                  <a:pt x="0" y="0"/>
                </a:moveTo>
                <a:lnTo>
                  <a:pt x="24481" y="0"/>
                </a:lnTo>
                <a:lnTo>
                  <a:pt x="23081" y="1400"/>
                </a:lnTo>
                <a:lnTo>
                  <a:pt x="1400" y="1400"/>
                </a:lnTo>
                <a:close/>
              </a:path>
              <a:path fill="darken" w="24481" h="21600">
                <a:moveTo>
                  <a:pt x="24481" y="0"/>
                </a:moveTo>
                <a:lnTo>
                  <a:pt x="24481" y="21600"/>
                </a:lnTo>
                <a:lnTo>
                  <a:pt x="23081" y="20200"/>
                </a:lnTo>
                <a:lnTo>
                  <a:pt x="23081" y="1400"/>
                </a:lnTo>
                <a:close/>
              </a:path>
              <a:path fill="darkenLess" w="24481" h="21600">
                <a:moveTo>
                  <a:pt x="244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1" y="20200"/>
                </a:lnTo>
                <a:close/>
              </a:path>
              <a:path fill="lighten" w="244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AutoShape 23" descr=""/>
          <p:cNvPicPr/>
          <p:nvPr/>
        </p:nvPicPr>
        <p:blipFill>
          <a:blip r:embed="rId19"/>
          <a:stretch/>
        </p:blipFill>
        <p:spPr>
          <a:xfrm>
            <a:off x="6004080" y="3925800"/>
            <a:ext cx="1091880" cy="970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4"/>
          <p:cNvSpPr/>
          <p:nvPr/>
        </p:nvSpPr>
        <p:spPr>
          <a:xfrm>
            <a:off x="1692360" y="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2e"/>
                </a:solidFill>
                <a:latin typeface="Times New Roman"/>
              </a:rPr>
              <a:t>СВОЯ ИГР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50920" y="126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d00"/>
                </a:solidFill>
                <a:latin typeface="Times New Roman"/>
              </a:rPr>
              <a:t>Африка в ми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50920" y="2565360"/>
            <a:ext cx="136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d00"/>
                </a:solidFill>
                <a:latin typeface="Times New Roman"/>
              </a:rPr>
              <a:t>Рельеф и полезные ископаем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250920" y="4005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d00"/>
                </a:solidFill>
                <a:latin typeface="Times New Roman"/>
              </a:rPr>
              <a:t>Климат и реки Афр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250920" y="5373720"/>
            <a:ext cx="136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d00"/>
                </a:solidFill>
                <a:latin typeface="Times New Roman"/>
              </a:rPr>
              <a:t>Природные зоны Афр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AutoShape 29" descr=""/>
          <p:cNvPicPr/>
          <p:nvPr/>
        </p:nvPicPr>
        <p:blipFill>
          <a:blip r:embed="rId20"/>
          <a:stretch/>
        </p:blipFill>
        <p:spPr>
          <a:xfrm>
            <a:off x="7443720" y="3925800"/>
            <a:ext cx="1090800" cy="970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Африканская плита движется на северо-восток со скоростью -1,9 см в г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C:\Users\Admin\Desktop\58ab4900ae67591468db3933020de1f0.jpg"/>
          <p:cNvPicPr/>
          <p:nvPr/>
        </p:nvPicPr>
        <p:blipFill>
          <a:blip r:embed="rId1"/>
          <a:srcRect l="4319" t="0" r="0" b="0"/>
          <a:stretch/>
        </p:blipFill>
        <p:spPr>
          <a:xfrm>
            <a:off x="0" y="1857240"/>
            <a:ext cx="638028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 границе Замбии и Зимбабве, находится самый широкий в Африке водопад. Назовите водопад и р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Водопад Виктория на реке Замбез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11558" y="3837"/>
                </a:moveTo>
                <a:lnTo>
                  <a:pt x="14134" y="6448"/>
                </a:ln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lnTo>
                  <a:pt x="18521" y="10800"/>
                </a:lnTo>
                <a:lnTo>
                  <a:pt x="16867" y="10800"/>
                </a:lnTo>
                <a:lnTo>
                  <a:pt x="16867" y="17989"/>
                </a:lnTo>
                <a:lnTo>
                  <a:pt x="6248" y="17989"/>
                </a:lnTo>
                <a:lnTo>
                  <a:pt x="6248" y="10800"/>
                </a:lnTo>
                <a:lnTo>
                  <a:pt x="4595" y="10800"/>
                </a:lnTo>
                <a:close/>
              </a:path>
              <a:path fill="darkenLess" w="23115" h="21600">
                <a:moveTo>
                  <a:pt x="14134" y="6448"/>
                </a:move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close/>
              </a:path>
              <a:path fill="darkenLess" w="23115" h="21600">
                <a:moveTo>
                  <a:pt x="10635" y="14299"/>
                </a:moveTo>
                <a:lnTo>
                  <a:pt x="12480" y="14299"/>
                </a:lnTo>
                <a:lnTo>
                  <a:pt x="12480" y="17989"/>
                </a:lnTo>
                <a:lnTo>
                  <a:pt x="16867" y="17989"/>
                </a:lnTo>
                <a:lnTo>
                  <a:pt x="16867" y="10800"/>
                </a:lnTo>
                <a:lnTo>
                  <a:pt x="6248" y="10800"/>
                </a:lnTo>
                <a:lnTo>
                  <a:pt x="6248" y="17989"/>
                </a:lnTo>
                <a:lnTo>
                  <a:pt x="10635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C:\Users\Admin\Desktop\0_98d68_3afcc204_XL.jpg"/>
          <p:cNvPicPr/>
          <p:nvPr/>
        </p:nvPicPr>
        <p:blipFill>
          <a:blip r:embed="rId1"/>
          <a:stretch/>
        </p:blipFill>
        <p:spPr>
          <a:xfrm>
            <a:off x="971640" y="2349360"/>
            <a:ext cx="6535800" cy="4148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Назовите основные элементы береговой линии Африки</a:t>
            </a: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e"/>
                </a:solidFill>
                <a:latin typeface="Tahoma"/>
              </a:rPr>
              <a:t>Гибралтарский пр-в, Средиземное море, Суэцкий канал, Красное море, Баб-эль-Мандебский, Аденский з-в, Мозамбикский пр-в, Гвинейский з-в, о. Мадагаск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17236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32" h="21600">
                <a:moveTo>
                  <a:pt x="13716" y="3837"/>
                </a:moveTo>
                <a:lnTo>
                  <a:pt x="16292" y="6448"/>
                </a:lnTo>
                <a:lnTo>
                  <a:pt x="16292" y="4707"/>
                </a:lnTo>
                <a:lnTo>
                  <a:pt x="18068" y="4707"/>
                </a:lnTo>
                <a:lnTo>
                  <a:pt x="18068" y="8224"/>
                </a:lnTo>
                <a:lnTo>
                  <a:pt x="20679" y="10800"/>
                </a:lnTo>
                <a:lnTo>
                  <a:pt x="19025" y="10800"/>
                </a:lnTo>
                <a:lnTo>
                  <a:pt x="19025" y="17989"/>
                </a:lnTo>
                <a:lnTo>
                  <a:pt x="8407" y="17989"/>
                </a:lnTo>
                <a:lnTo>
                  <a:pt x="8407" y="10800"/>
                </a:lnTo>
                <a:lnTo>
                  <a:pt x="6753" y="10800"/>
                </a:lnTo>
                <a:close/>
              </a:path>
              <a:path fill="darkenLess" w="27432" h="21600">
                <a:moveTo>
                  <a:pt x="16292" y="6448"/>
                </a:moveTo>
                <a:lnTo>
                  <a:pt x="16292" y="4707"/>
                </a:lnTo>
                <a:lnTo>
                  <a:pt x="18068" y="4707"/>
                </a:lnTo>
                <a:lnTo>
                  <a:pt x="18068" y="8224"/>
                </a:lnTo>
                <a:close/>
              </a:path>
              <a:path fill="darkenLess" w="27432" h="21600">
                <a:moveTo>
                  <a:pt x="12793" y="14299"/>
                </a:moveTo>
                <a:lnTo>
                  <a:pt x="14638" y="14299"/>
                </a:lnTo>
                <a:lnTo>
                  <a:pt x="14638" y="17989"/>
                </a:lnTo>
                <a:lnTo>
                  <a:pt x="19025" y="17989"/>
                </a:lnTo>
                <a:lnTo>
                  <a:pt x="19025" y="10800"/>
                </a:lnTo>
                <a:lnTo>
                  <a:pt x="8407" y="10800"/>
                </a:lnTo>
                <a:lnTo>
                  <a:pt x="8407" y="17989"/>
                </a:lnTo>
                <a:lnTo>
                  <a:pt x="1279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6" descr="C:\Users\Admin\Desktop\africa-map.jpg"/>
          <p:cNvPicPr/>
          <p:nvPr/>
        </p:nvPicPr>
        <p:blipFill>
          <a:blip r:embed="rId1"/>
          <a:stretch/>
        </p:blipFill>
        <p:spPr>
          <a:xfrm>
            <a:off x="0" y="1844640"/>
            <a:ext cx="464328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Какие названия берега имеет побережье Гвинейского зали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Берег Слоновой кости, Золотой берег, Невольничий берег, перцовый бере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12542" y="3837"/>
                </a:moveTo>
                <a:lnTo>
                  <a:pt x="15118" y="6448"/>
                </a:lnTo>
                <a:lnTo>
                  <a:pt x="15118" y="4707"/>
                </a:lnTo>
                <a:lnTo>
                  <a:pt x="16894" y="4707"/>
                </a:lnTo>
                <a:lnTo>
                  <a:pt x="16894" y="8224"/>
                </a:lnTo>
                <a:lnTo>
                  <a:pt x="19505" y="10800"/>
                </a:lnTo>
                <a:lnTo>
                  <a:pt x="17851" y="10800"/>
                </a:lnTo>
                <a:lnTo>
                  <a:pt x="17851" y="17989"/>
                </a:lnTo>
                <a:lnTo>
                  <a:pt x="7233" y="17989"/>
                </a:lnTo>
                <a:lnTo>
                  <a:pt x="7233" y="10800"/>
                </a:lnTo>
                <a:lnTo>
                  <a:pt x="5579" y="10800"/>
                </a:lnTo>
                <a:close/>
              </a:path>
              <a:path fill="darkenLess" w="25084" h="21600">
                <a:moveTo>
                  <a:pt x="15118" y="6448"/>
                </a:moveTo>
                <a:lnTo>
                  <a:pt x="15118" y="4707"/>
                </a:lnTo>
                <a:lnTo>
                  <a:pt x="16894" y="4707"/>
                </a:lnTo>
                <a:lnTo>
                  <a:pt x="16894" y="8224"/>
                </a:lnTo>
                <a:close/>
              </a:path>
              <a:path fill="darkenLess" w="25084" h="21600">
                <a:moveTo>
                  <a:pt x="11619" y="14299"/>
                </a:moveTo>
                <a:lnTo>
                  <a:pt x="13465" y="14299"/>
                </a:lnTo>
                <a:lnTo>
                  <a:pt x="13465" y="17989"/>
                </a:lnTo>
                <a:lnTo>
                  <a:pt x="17851" y="17989"/>
                </a:lnTo>
                <a:lnTo>
                  <a:pt x="17851" y="10800"/>
                </a:lnTo>
                <a:lnTo>
                  <a:pt x="7233" y="10800"/>
                </a:lnTo>
                <a:lnTo>
                  <a:pt x="7233" y="17989"/>
                </a:lnTo>
                <a:lnTo>
                  <a:pt x="1161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C:\Users\Admin\Desktop\8752662f7cd0.jpg"/>
          <p:cNvPicPr/>
          <p:nvPr/>
        </p:nvPicPr>
        <p:blipFill>
          <a:blip r:embed="rId1"/>
          <a:stretch/>
        </p:blipFill>
        <p:spPr>
          <a:xfrm>
            <a:off x="0" y="2019240"/>
            <a:ext cx="609588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Назовите  крайние точки материка и океаны омывающие Афри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12405" y="3837"/>
                </a:moveTo>
                <a:lnTo>
                  <a:pt x="14982" y="6448"/>
                </a:ln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lnTo>
                  <a:pt x="19368" y="10800"/>
                </a:lnTo>
                <a:lnTo>
                  <a:pt x="17714" y="10800"/>
                </a:lnTo>
                <a:lnTo>
                  <a:pt x="17714" y="17989"/>
                </a:lnTo>
                <a:lnTo>
                  <a:pt x="7096" y="17989"/>
                </a:lnTo>
                <a:lnTo>
                  <a:pt x="7096" y="10800"/>
                </a:lnTo>
                <a:lnTo>
                  <a:pt x="5442" y="10800"/>
                </a:lnTo>
                <a:close/>
              </a:path>
              <a:path fill="darkenLess" w="24810" h="21600">
                <a:moveTo>
                  <a:pt x="14982" y="6448"/>
                </a:move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close/>
              </a:path>
              <a:path fill="darkenLess" w="24810" h="21600">
                <a:moveTo>
                  <a:pt x="11483" y="14299"/>
                </a:moveTo>
                <a:lnTo>
                  <a:pt x="13328" y="14299"/>
                </a:lnTo>
                <a:lnTo>
                  <a:pt x="13328" y="17989"/>
                </a:lnTo>
                <a:lnTo>
                  <a:pt x="17714" y="17989"/>
                </a:lnTo>
                <a:lnTo>
                  <a:pt x="17714" y="10800"/>
                </a:lnTo>
                <a:lnTo>
                  <a:pt x="7096" y="10800"/>
                </a:lnTo>
                <a:lnTo>
                  <a:pt x="7096" y="17989"/>
                </a:lnTo>
                <a:lnTo>
                  <a:pt x="1148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C:\Users\Admin\Desktop\0028-029-Urok-materiki.jpg"/>
          <p:cNvPicPr/>
          <p:nvPr/>
        </p:nvPicPr>
        <p:blipFill>
          <a:blip r:embed="rId1"/>
          <a:stretch/>
        </p:blipFill>
        <p:spPr>
          <a:xfrm>
            <a:off x="539640" y="692280"/>
            <a:ext cx="763272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Название стране дало озеро</a:t>
            </a: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?</a:t>
            </a: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От экватора до Средиземного моря несет свои воды эта река, даря влагу девяти государства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Озеро Ча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11618" y="3837"/>
                </a:moveTo>
                <a:lnTo>
                  <a:pt x="14194" y="6448"/>
                </a:ln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lnTo>
                  <a:pt x="18581" y="10800"/>
                </a:lnTo>
                <a:lnTo>
                  <a:pt x="16927" y="10800"/>
                </a:lnTo>
                <a:lnTo>
                  <a:pt x="16927" y="17989"/>
                </a:lnTo>
                <a:lnTo>
                  <a:pt x="6308" y="17989"/>
                </a:lnTo>
                <a:lnTo>
                  <a:pt x="6308" y="10800"/>
                </a:lnTo>
                <a:lnTo>
                  <a:pt x="4655" y="10800"/>
                </a:lnTo>
                <a:close/>
              </a:path>
              <a:path fill="darkenLess" w="23235" h="21600">
                <a:moveTo>
                  <a:pt x="14194" y="6448"/>
                </a:move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close/>
              </a:path>
              <a:path fill="darkenLess" w="23235" h="21600">
                <a:moveTo>
                  <a:pt x="10695" y="14299"/>
                </a:moveTo>
                <a:lnTo>
                  <a:pt x="12540" y="14299"/>
                </a:lnTo>
                <a:lnTo>
                  <a:pt x="12540" y="17989"/>
                </a:lnTo>
                <a:lnTo>
                  <a:pt x="16927" y="17989"/>
                </a:lnTo>
                <a:lnTo>
                  <a:pt x="16927" y="10800"/>
                </a:lnTo>
                <a:lnTo>
                  <a:pt x="6308" y="10800"/>
                </a:lnTo>
                <a:lnTo>
                  <a:pt x="6308" y="17989"/>
                </a:lnTo>
                <a:lnTo>
                  <a:pt x="10695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C:\Users\Admin\Desktop\1303810419_ozero-4.jpg"/>
          <p:cNvPicPr/>
          <p:nvPr/>
        </p:nvPicPr>
        <p:blipFill>
          <a:blip r:embed="rId1"/>
          <a:stretch/>
        </p:blipFill>
        <p:spPr>
          <a:xfrm>
            <a:off x="1238400" y="1262160"/>
            <a:ext cx="6667200" cy="4333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Великая древняя цивилизация расположенная на двух материках, давшая миру 365-дневный календарь, папирус и иероглифическую письменность, начало арифметики и геометрии. Столица – крупнейший город арабского мира</a:t>
            </a: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2e"/>
                </a:solidFill>
                <a:latin typeface="Tahoma"/>
              </a:rPr>
              <a:t>Страна - Египет, столица - Каи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C:\Users\Admin\Desktop\1322005342_egipet.jpg"/>
          <p:cNvPicPr/>
          <p:nvPr/>
        </p:nvPicPr>
        <p:blipFill>
          <a:blip r:embed="rId1"/>
          <a:stretch/>
        </p:blipFill>
        <p:spPr>
          <a:xfrm>
            <a:off x="147492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Какое дерево выращивается в оазисах пустынь Африки. Какое значение этого дерев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Финиковая пальма - это и тень, и пища, и строй материал. Из волокон плетут циновки и верев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">
            <a:hlinkClick r:id="" action="ppaction://hlinkshowjump?jump=firstslide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13462" y="3837"/>
                </a:moveTo>
                <a:lnTo>
                  <a:pt x="16038" y="6448"/>
                </a:lnTo>
                <a:lnTo>
                  <a:pt x="16038" y="4707"/>
                </a:lnTo>
                <a:lnTo>
                  <a:pt x="17814" y="4707"/>
                </a:lnTo>
                <a:lnTo>
                  <a:pt x="17814" y="8224"/>
                </a:lnTo>
                <a:lnTo>
                  <a:pt x="20425" y="10800"/>
                </a:lnTo>
                <a:lnTo>
                  <a:pt x="18771" y="10800"/>
                </a:lnTo>
                <a:lnTo>
                  <a:pt x="18771" y="17989"/>
                </a:lnTo>
                <a:lnTo>
                  <a:pt x="8152" y="17989"/>
                </a:lnTo>
                <a:lnTo>
                  <a:pt x="8152" y="10800"/>
                </a:lnTo>
                <a:lnTo>
                  <a:pt x="6499" y="10800"/>
                </a:lnTo>
                <a:close/>
              </a:path>
              <a:path fill="darkenLess" w="26923" h="21600">
                <a:moveTo>
                  <a:pt x="16038" y="6448"/>
                </a:moveTo>
                <a:lnTo>
                  <a:pt x="16038" y="4707"/>
                </a:lnTo>
                <a:lnTo>
                  <a:pt x="17814" y="4707"/>
                </a:lnTo>
                <a:lnTo>
                  <a:pt x="17814" y="8224"/>
                </a:lnTo>
                <a:close/>
              </a:path>
              <a:path fill="darkenLess" w="26923" h="21600">
                <a:moveTo>
                  <a:pt x="12539" y="14299"/>
                </a:moveTo>
                <a:lnTo>
                  <a:pt x="14384" y="14299"/>
                </a:lnTo>
                <a:lnTo>
                  <a:pt x="14384" y="17989"/>
                </a:lnTo>
                <a:lnTo>
                  <a:pt x="18771" y="17989"/>
                </a:lnTo>
                <a:lnTo>
                  <a:pt x="18771" y="10800"/>
                </a:lnTo>
                <a:lnTo>
                  <a:pt x="8152" y="10800"/>
                </a:lnTo>
                <a:lnTo>
                  <a:pt x="8152" y="17989"/>
                </a:lnTo>
                <a:lnTo>
                  <a:pt x="1253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C:\Users\Admin\Desktop\100419708_finikvprirode.jpg"/>
          <p:cNvPicPr/>
          <p:nvPr/>
        </p:nvPicPr>
        <p:blipFill>
          <a:blip r:embed="rId1"/>
          <a:stretch/>
        </p:blipFill>
        <p:spPr>
          <a:xfrm>
            <a:off x="0" y="2170080"/>
            <a:ext cx="7031160" cy="4687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Какое условие повлияло на образование пустыни Намиб на побережье Афри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33156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Бенгельское холодное теч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13274" y="3837"/>
                </a:moveTo>
                <a:lnTo>
                  <a:pt x="15850" y="6448"/>
                </a:ln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lnTo>
                  <a:pt x="20237" y="10800"/>
                </a:lnTo>
                <a:lnTo>
                  <a:pt x="18583" y="10800"/>
                </a:lnTo>
                <a:lnTo>
                  <a:pt x="18583" y="17989"/>
                </a:lnTo>
                <a:lnTo>
                  <a:pt x="7965" y="17989"/>
                </a:lnTo>
                <a:lnTo>
                  <a:pt x="7965" y="10800"/>
                </a:lnTo>
                <a:lnTo>
                  <a:pt x="6311" y="10800"/>
                </a:lnTo>
                <a:close/>
              </a:path>
              <a:path fill="darkenLess" w="26548" h="21600">
                <a:moveTo>
                  <a:pt x="15850" y="6448"/>
                </a:moveTo>
                <a:lnTo>
                  <a:pt x="15850" y="4707"/>
                </a:lnTo>
                <a:lnTo>
                  <a:pt x="17626" y="4707"/>
                </a:lnTo>
                <a:lnTo>
                  <a:pt x="17626" y="8224"/>
                </a:lnTo>
                <a:close/>
              </a:path>
              <a:path fill="darkenLess" w="26548" h="21600">
                <a:moveTo>
                  <a:pt x="12352" y="14299"/>
                </a:moveTo>
                <a:lnTo>
                  <a:pt x="14197" y="14299"/>
                </a:lnTo>
                <a:lnTo>
                  <a:pt x="14197" y="17989"/>
                </a:lnTo>
                <a:lnTo>
                  <a:pt x="18583" y="17989"/>
                </a:lnTo>
                <a:lnTo>
                  <a:pt x="18583" y="10800"/>
                </a:lnTo>
                <a:lnTo>
                  <a:pt x="7965" y="10800"/>
                </a:lnTo>
                <a:lnTo>
                  <a:pt x="7965" y="17989"/>
                </a:lnTo>
                <a:lnTo>
                  <a:pt x="12352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C:\Users\Admin\Desktop\4.jpg"/>
          <p:cNvPicPr/>
          <p:nvPr/>
        </p:nvPicPr>
        <p:blipFill>
          <a:blip r:embed="rId1"/>
          <a:stretch/>
        </p:blipFill>
        <p:spPr>
          <a:xfrm>
            <a:off x="324000" y="1773360"/>
            <a:ext cx="6381720" cy="4790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Для какой природной зоны характерны гепард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Саван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11558" y="3837"/>
                </a:moveTo>
                <a:lnTo>
                  <a:pt x="14134" y="6448"/>
                </a:ln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lnTo>
                  <a:pt x="18521" y="10800"/>
                </a:lnTo>
                <a:lnTo>
                  <a:pt x="16867" y="10800"/>
                </a:lnTo>
                <a:lnTo>
                  <a:pt x="16867" y="17989"/>
                </a:lnTo>
                <a:lnTo>
                  <a:pt x="6248" y="17989"/>
                </a:lnTo>
                <a:lnTo>
                  <a:pt x="6248" y="10800"/>
                </a:lnTo>
                <a:lnTo>
                  <a:pt x="4595" y="10800"/>
                </a:lnTo>
                <a:close/>
              </a:path>
              <a:path fill="darkenLess" w="23115" h="21600">
                <a:moveTo>
                  <a:pt x="14134" y="6448"/>
                </a:move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close/>
              </a:path>
              <a:path fill="darkenLess" w="23115" h="21600">
                <a:moveTo>
                  <a:pt x="10635" y="14299"/>
                </a:moveTo>
                <a:lnTo>
                  <a:pt x="12480" y="14299"/>
                </a:lnTo>
                <a:lnTo>
                  <a:pt x="12480" y="17989"/>
                </a:lnTo>
                <a:lnTo>
                  <a:pt x="16867" y="17989"/>
                </a:lnTo>
                <a:lnTo>
                  <a:pt x="16867" y="10800"/>
                </a:lnTo>
                <a:lnTo>
                  <a:pt x="6248" y="10800"/>
                </a:lnTo>
                <a:lnTo>
                  <a:pt x="6248" y="17989"/>
                </a:lnTo>
                <a:lnTo>
                  <a:pt x="10635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C:\Users\Admin\Desktop\savanni-afriki.jpg"/>
          <p:cNvPicPr/>
          <p:nvPr/>
        </p:nvPicPr>
        <p:blipFill>
          <a:blip r:embed="rId1"/>
          <a:stretch/>
        </p:blipFill>
        <p:spPr>
          <a:xfrm>
            <a:off x="1474920" y="14842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e"/>
                </a:solidFill>
                <a:latin typeface="Tahoma"/>
              </a:rPr>
              <a:t>Это необычное дерево, диаметр может достигать 10м. Белая кисловатая мякоть плодов - любимое лакомство обезьян. Из него делают напиток похожий на лимонад. Дерево кормит, поит и одевает людей. Живёт оно до 300 лет. Где растёт и что это за дерев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Ни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7">
            <a:hlinkClick r:id="" action="ppaction://hlinkshowjump?jump=firstslide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C:\Users\Admin\Desktop\nilo.jpg"/>
          <p:cNvPicPr/>
          <p:nvPr/>
        </p:nvPicPr>
        <p:blipFill>
          <a:blip r:embed="rId1"/>
          <a:stretch/>
        </p:blipFill>
        <p:spPr>
          <a:xfrm>
            <a:off x="684360" y="1557360"/>
            <a:ext cx="7034040" cy="5106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597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Баобаб, саван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4">
            <a:hlinkClick r:id="" action="ppaction://hlinkshowjump?jump=firstslide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12405" y="3837"/>
                </a:moveTo>
                <a:lnTo>
                  <a:pt x="14982" y="6448"/>
                </a:ln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lnTo>
                  <a:pt x="19368" y="10800"/>
                </a:lnTo>
                <a:lnTo>
                  <a:pt x="17714" y="10800"/>
                </a:lnTo>
                <a:lnTo>
                  <a:pt x="17714" y="17989"/>
                </a:lnTo>
                <a:lnTo>
                  <a:pt x="7096" y="17989"/>
                </a:lnTo>
                <a:lnTo>
                  <a:pt x="7096" y="10800"/>
                </a:lnTo>
                <a:lnTo>
                  <a:pt x="5442" y="10800"/>
                </a:lnTo>
                <a:close/>
              </a:path>
              <a:path fill="darkenLess" w="24810" h="21600">
                <a:moveTo>
                  <a:pt x="14982" y="6448"/>
                </a:moveTo>
                <a:lnTo>
                  <a:pt x="14982" y="4707"/>
                </a:lnTo>
                <a:lnTo>
                  <a:pt x="16757" y="4707"/>
                </a:lnTo>
                <a:lnTo>
                  <a:pt x="16757" y="8224"/>
                </a:lnTo>
                <a:close/>
              </a:path>
              <a:path fill="darkenLess" w="24810" h="21600">
                <a:moveTo>
                  <a:pt x="11483" y="14299"/>
                </a:moveTo>
                <a:lnTo>
                  <a:pt x="13328" y="14299"/>
                </a:lnTo>
                <a:lnTo>
                  <a:pt x="13328" y="17989"/>
                </a:lnTo>
                <a:lnTo>
                  <a:pt x="17714" y="17989"/>
                </a:lnTo>
                <a:lnTo>
                  <a:pt x="17714" y="10800"/>
                </a:lnTo>
                <a:lnTo>
                  <a:pt x="7096" y="10800"/>
                </a:lnTo>
                <a:lnTo>
                  <a:pt x="7096" y="17989"/>
                </a:lnTo>
                <a:lnTo>
                  <a:pt x="11483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C:\Users\Admin\Desktop\EMOK-Picdump-225_36.jpg"/>
          <p:cNvPicPr/>
          <p:nvPr/>
        </p:nvPicPr>
        <p:blipFill>
          <a:blip r:embed="rId1"/>
          <a:stretch/>
        </p:blipFill>
        <p:spPr>
          <a:xfrm>
            <a:off x="0" y="2162160"/>
            <a:ext cx="704844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Самое удивительное растение пустыни Намиб. Это дерево с коротким, но толстым стволом. Его ещё называют осьминогом пустыни. Редкое растение, охраняется законом и изображено на марках Намиб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Вельвичия удивитель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5">
            <a:hlinkClick r:id="" action="ppaction://hlinkshowjump?jump=firstslide"/>
          </p:cNvPr>
          <p:cNvSpPr/>
          <p:nvPr/>
        </p:nvSpPr>
        <p:spPr>
          <a:xfrm>
            <a:off x="8101080" y="5877000"/>
            <a:ext cx="1042920" cy="981000"/>
          </a:xfrm>
          <a:custGeom>
            <a:avLst/>
            <a:gdLst>
              <a:gd name="textAreaLeft" fmla="*/ 63360 w 1042920"/>
              <a:gd name="textAreaRight" fmla="*/ 979560 w 1042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963" h="21600">
                <a:moveTo>
                  <a:pt x="0" y="0"/>
                </a:moveTo>
                <a:lnTo>
                  <a:pt x="22963" y="0"/>
                </a:lnTo>
                <a:lnTo>
                  <a:pt x="22963" y="21600"/>
                </a:lnTo>
                <a:lnTo>
                  <a:pt x="0" y="21600"/>
                </a:lnTo>
                <a:close/>
              </a:path>
              <a:path fill="lightenLess" w="22963" h="21600">
                <a:moveTo>
                  <a:pt x="0" y="0"/>
                </a:moveTo>
                <a:lnTo>
                  <a:pt x="22963" y="0"/>
                </a:lnTo>
                <a:lnTo>
                  <a:pt x="21563" y="1400"/>
                </a:lnTo>
                <a:lnTo>
                  <a:pt x="1400" y="1400"/>
                </a:lnTo>
                <a:close/>
              </a:path>
              <a:path fill="darken" w="22963" h="21600">
                <a:moveTo>
                  <a:pt x="22963" y="0"/>
                </a:moveTo>
                <a:lnTo>
                  <a:pt x="22963" y="21600"/>
                </a:lnTo>
                <a:lnTo>
                  <a:pt x="21563" y="20200"/>
                </a:lnTo>
                <a:lnTo>
                  <a:pt x="21563" y="1400"/>
                </a:lnTo>
                <a:close/>
              </a:path>
              <a:path fill="darkenLess" w="22963" h="21600">
                <a:moveTo>
                  <a:pt x="22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3" y="20200"/>
                </a:lnTo>
                <a:close/>
              </a:path>
              <a:path fill="lighten" w="22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3" h="21600">
                <a:moveTo>
                  <a:pt x="11481" y="3837"/>
                </a:moveTo>
                <a:lnTo>
                  <a:pt x="14058" y="6448"/>
                </a:lnTo>
                <a:lnTo>
                  <a:pt x="14058" y="4707"/>
                </a:lnTo>
                <a:lnTo>
                  <a:pt x="15833" y="4707"/>
                </a:lnTo>
                <a:lnTo>
                  <a:pt x="15833" y="8224"/>
                </a:lnTo>
                <a:lnTo>
                  <a:pt x="18444" y="10800"/>
                </a:lnTo>
                <a:lnTo>
                  <a:pt x="16791" y="10800"/>
                </a:lnTo>
                <a:lnTo>
                  <a:pt x="16791" y="17989"/>
                </a:lnTo>
                <a:lnTo>
                  <a:pt x="6172" y="17989"/>
                </a:lnTo>
                <a:lnTo>
                  <a:pt x="6172" y="10800"/>
                </a:lnTo>
                <a:lnTo>
                  <a:pt x="4518" y="10800"/>
                </a:lnTo>
                <a:close/>
              </a:path>
              <a:path fill="darkenLess" w="22963" h="21600">
                <a:moveTo>
                  <a:pt x="14058" y="6448"/>
                </a:moveTo>
                <a:lnTo>
                  <a:pt x="14058" y="4707"/>
                </a:lnTo>
                <a:lnTo>
                  <a:pt x="15833" y="4707"/>
                </a:lnTo>
                <a:lnTo>
                  <a:pt x="15833" y="8224"/>
                </a:lnTo>
                <a:close/>
              </a:path>
              <a:path fill="darkenLess" w="22963" h="21600">
                <a:moveTo>
                  <a:pt x="10559" y="14299"/>
                </a:moveTo>
                <a:lnTo>
                  <a:pt x="12404" y="14299"/>
                </a:lnTo>
                <a:lnTo>
                  <a:pt x="12404" y="17989"/>
                </a:lnTo>
                <a:lnTo>
                  <a:pt x="16791" y="17989"/>
                </a:lnTo>
                <a:lnTo>
                  <a:pt x="16791" y="10800"/>
                </a:lnTo>
                <a:lnTo>
                  <a:pt x="6172" y="10800"/>
                </a:lnTo>
                <a:lnTo>
                  <a:pt x="6172" y="17989"/>
                </a:lnTo>
                <a:lnTo>
                  <a:pt x="10559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C:\Users\Admin\Desktop\welwitschia_6.jpg"/>
          <p:cNvPicPr/>
          <p:nvPr/>
        </p:nvPicPr>
        <p:blipFill>
          <a:blip r:embed="rId1"/>
          <a:stretch/>
        </p:blipFill>
        <p:spPr>
          <a:xfrm>
            <a:off x="0" y="1916280"/>
            <a:ext cx="741996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Она дважды пересекает  экватор и пробивает себе дорогу через болота и джунгл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Кон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>
            <a:hlinkClick r:id="" action="ppaction://hlinkshowjump?jump=firstslide"/>
          </p:cNvPr>
          <p:cNvSpPr/>
          <p:nvPr/>
        </p:nvSpPr>
        <p:spPr>
          <a:xfrm>
            <a:off x="8424720" y="613872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:\Users\Admin\Desktop\kongo.jpg"/>
          <p:cNvPicPr/>
          <p:nvPr/>
        </p:nvPicPr>
        <p:blipFill>
          <a:blip r:embed="rId1"/>
          <a:stretch/>
        </p:blipFill>
        <p:spPr>
          <a:xfrm>
            <a:off x="324000" y="1341360"/>
            <a:ext cx="7019640" cy="526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2e"/>
                </a:solidFill>
                <a:latin typeface="Tahoma"/>
              </a:rPr>
              <a:t>Этот пояс располагается между экваториальным и тропическим основными типами климата Земли. Летом в этом поясе господствуют экваториальные воздушные массы, а зимой — тропические. Количество осадков летом – 1000-3000 мм. Средняя летняя температура   +30°С. Зимой осадков выпадает мало, средняя температура +14°С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65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Субэкваториальный климатический поя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244000" y="6138720"/>
            <a:ext cx="900000" cy="719280"/>
          </a:xfrm>
          <a:custGeom>
            <a:avLst/>
            <a:gdLst>
              <a:gd name="textAreaLeft" fmla="*/ 46440 w 900000"/>
              <a:gd name="textAreaRight" fmla="*/ 853560 w 900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90" y="14299"/>
                </a:moveTo>
                <a:lnTo>
                  <a:pt x="14435" y="14299"/>
                </a:lnTo>
                <a:lnTo>
                  <a:pt x="14435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90" y="17989"/>
                </a:lnTo>
                <a:close/>
              </a:path>
            </a:pathLst>
          </a:custGeom>
          <a:solidFill>
            <a:srgbClr val="b7c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C:\Users\Admin\Desktop\img9.jpg"/>
          <p:cNvPicPr/>
          <p:nvPr/>
        </p:nvPicPr>
        <p:blipFill>
          <a:blip r:embed="rId1"/>
          <a:stretch/>
        </p:blipFill>
        <p:spPr>
          <a:xfrm>
            <a:off x="0" y="164628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356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e"/>
                </a:solidFill>
                <a:latin typeface="Tahoma"/>
              </a:rPr>
              <a:t>Река по форме напоминает бумеранг, она начинается на побережье Атлантического океана и впадает в него ж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33:34Z</dcterms:created>
  <dc:creator>Alex</dc:creator>
  <dc:description/>
  <dc:language>en-US</dc:language>
  <cp:lastModifiedBy>Ольга Семиошкина</cp:lastModifiedBy>
  <dcterms:modified xsi:type="dcterms:W3CDTF">2021-04-11T19:12:10Z</dcterms:modified>
  <cp:revision>47</cp:revision>
  <dc:subject/>
  <dc:title>Слайд 1</dc:title>
</cp:coreProperties>
</file>