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4.png" ContentType="image/png"/>
  <Override PartName="/ppt/media/image29.jpeg" ContentType="image/jpeg"/>
  <Override PartName="/ppt/media/image30.jpeg" ContentType="image/jpeg"/>
  <Override PartName="/ppt/media/image15.png" ContentType="image/png"/>
  <Override PartName="/ppt/media/image31.jpeg" ContentType="image/jpeg"/>
  <Override PartName="/ppt/media/image2.png" ContentType="image/png"/>
  <Override PartName="/ppt/media/image25.jpeg" ContentType="image/jpeg"/>
  <Override PartName="/ppt/media/image41.jpeg" ContentType="image/jpeg"/>
  <Override PartName="/ppt/media/image45.jpeg" ContentType="image/jpeg"/>
  <Override PartName="/ppt/media/image9.png" ContentType="image/png"/>
  <Override PartName="/ppt/media/image38.jpeg" ContentType="image/jpeg"/>
  <Override PartName="/ppt/media/image40.jpeg" ContentType="image/jpeg"/>
  <Override PartName="/ppt/media/image44.jpeg" ContentType="image/jpeg"/>
  <Override PartName="/ppt/media/image33.jpeg" ContentType="image/jpeg"/>
  <Override PartName="/ppt/media/image27.jpeg" ContentType="image/jpeg"/>
  <Override PartName="/ppt/media/image42.jpeg" ContentType="image/jpeg"/>
  <Override PartName="/ppt/media/image39.jpeg" ContentType="image/jpeg"/>
  <Override PartName="/ppt/media/image8.png" ContentType="image/png"/>
  <Override PartName="/ppt/media/image13.png" ContentType="image/png"/>
  <Override PartName="/ppt/media/image3.jpeg" ContentType="image/jpeg"/>
  <Override PartName="/ppt/media/image37.jpeg" ContentType="image/jpeg"/>
  <Override PartName="/ppt/media/image12.png" ContentType="image/png"/>
  <Override PartName="/ppt/media/image34.jpeg" ContentType="image/jpeg"/>
  <Override PartName="/ppt/media/image7.png" ContentType="image/png"/>
  <Override PartName="/ppt/media/image11.png" ContentType="image/png"/>
  <Override PartName="/ppt/media/image6.png" ContentType="image/png"/>
  <Override PartName="/ppt/media/image4.png" ContentType="image/png"/>
  <Override PartName="/ppt/media/image10.png" ContentType="image/png"/>
  <Override PartName="/ppt/media/image1.jpeg" ContentType="image/jpeg"/>
  <Override PartName="/ppt/media/image35.jpeg" ContentType="image/jpeg"/>
  <Override PartName="/ppt/media/image5.png" ContentType="image/png"/>
  <Override PartName="/ppt/media/image4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7113-2865-4848-90DF-E5A787B80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B0F8-C4C6-41C1-ADFB-D3DF6907A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A650-2821-42B7-B7E0-D34455852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5FEA-2A12-4A33-9743-47DD38141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776514-13AB-4FA7-B518-B892A8A94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3438A6-A11D-41D8-B27E-BBEAD122C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933483-5A3A-4FC7-84D7-E51200811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DE0E58-DFDA-4C11-B861-3230A21C6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61F929-0F2D-49B7-B369-35C8D7BB5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D6017A-2697-4DB0-9F83-59FD6FC61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EDDE61-19CF-486E-9882-947F500E4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9022-3205-4787-BCC6-AA78AC020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449A4D-FB66-4687-ABD5-211159609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6C67CA-72E3-45F0-BEDE-A1E43D4ED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DC31D4-ED7A-4155-9214-863702061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80F238-1C11-49D9-AB08-AA030A288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8A20BD-F718-4066-B71B-B893110C4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4928-B1CC-4BAA-8D09-74C8EB764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AEB2-127A-4A87-B6DD-BD293C16D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4CE2-E7B2-432F-90E1-6AD7C94FB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706D-0A7F-42BD-9B88-B9CA26B21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352E-2052-430B-BDC1-AE3B9CD8A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26F1-AF1F-4D4A-AE04-80640A2AB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8093-95A8-4693-B919-598312CC2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E4A9D-FDE1-4CF4-B029-C0CB79C7A14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9A0BB-3889-47AF-A7A8-99AEF6CFD98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image" Target="../media/image18.png"/><Relationship Id="rId15" Type="http://schemas.openxmlformats.org/officeDocument/2006/relationships/image" Target="../media/image19.png"/><Relationship Id="rId16" Type="http://schemas.openxmlformats.org/officeDocument/2006/relationships/image" Target="../media/image20.png"/><Relationship Id="rId17" Type="http://schemas.openxmlformats.org/officeDocument/2006/relationships/image" Target="../media/image21.png"/><Relationship Id="rId18" Type="http://schemas.openxmlformats.org/officeDocument/2006/relationships/image" Target="../media/image22.png"/><Relationship Id="rId19" Type="http://schemas.openxmlformats.org/officeDocument/2006/relationships/image" Target="../media/image23.png"/><Relationship Id="rId20" Type="http://schemas.openxmlformats.org/officeDocument/2006/relationships/image" Target="../media/image24.png"/><Relationship Id="rId2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Прямоугольник 5" descr=""/>
          <p:cNvPicPr/>
          <p:nvPr/>
        </p:nvPicPr>
        <p:blipFill>
          <a:blip r:embed="rId1"/>
          <a:stretch/>
        </p:blipFill>
        <p:spPr>
          <a:xfrm>
            <a:off x="4498920" y="5505480"/>
            <a:ext cx="4645080" cy="5842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http://otvet.imgsmail.ru/download/9ac4490501935a10f0daea15c932e206_i-54.jpg"/>
          <p:cNvPicPr/>
          <p:nvPr/>
        </p:nvPicPr>
        <p:blipFill>
          <a:blip r:embed="rId2"/>
          <a:stretch/>
        </p:blipFill>
        <p:spPr>
          <a:xfrm>
            <a:off x="0" y="1300320"/>
            <a:ext cx="4214880" cy="5557680"/>
          </a:xfrm>
          <a:prstGeom prst="rect">
            <a:avLst/>
          </a:prstGeom>
          <a:ln w="0">
            <a:noFill/>
          </a:ln>
        </p:spPr>
      </p:pic>
      <p:pic>
        <p:nvPicPr>
          <p:cNvPr id="85" name="Прямоугольник 8" descr=""/>
          <p:cNvPicPr/>
          <p:nvPr/>
        </p:nvPicPr>
        <p:blipFill>
          <a:blip r:embed="rId3"/>
          <a:stretch/>
        </p:blipFill>
        <p:spPr>
          <a:xfrm>
            <a:off x="3730680" y="139680"/>
            <a:ext cx="5413320" cy="286560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539640" y="259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2e"/>
                </a:solidFill>
                <a:latin typeface="Tahoma"/>
              </a:rPr>
              <a:t>Река Нигер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AutoShape 4">
            <a:hlinkClick r:id="" action="ppaction://hlinkshowjump?jump=firstslide"/>
          </p:cNvPr>
          <p:cNvSpPr/>
          <p:nvPr/>
        </p:nvSpPr>
        <p:spPr>
          <a:xfrm>
            <a:off x="8280360" y="6138720"/>
            <a:ext cx="863640" cy="71928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5933" h="21600">
                <a:moveTo>
                  <a:pt x="0" y="0"/>
                </a:moveTo>
                <a:lnTo>
                  <a:pt x="25933" y="0"/>
                </a:lnTo>
                <a:lnTo>
                  <a:pt x="25933" y="21600"/>
                </a:lnTo>
                <a:lnTo>
                  <a:pt x="0" y="21600"/>
                </a:lnTo>
                <a:close/>
              </a:path>
              <a:path fill="lightenLess" w="25933" h="21600">
                <a:moveTo>
                  <a:pt x="0" y="0"/>
                </a:moveTo>
                <a:lnTo>
                  <a:pt x="25933" y="0"/>
                </a:lnTo>
                <a:lnTo>
                  <a:pt x="24533" y="1400"/>
                </a:lnTo>
                <a:lnTo>
                  <a:pt x="1400" y="1400"/>
                </a:lnTo>
                <a:close/>
              </a:path>
              <a:path fill="darken" w="25933" h="21600">
                <a:moveTo>
                  <a:pt x="25933" y="0"/>
                </a:moveTo>
                <a:lnTo>
                  <a:pt x="25933" y="21600"/>
                </a:lnTo>
                <a:lnTo>
                  <a:pt x="24533" y="20200"/>
                </a:lnTo>
                <a:lnTo>
                  <a:pt x="24533" y="1400"/>
                </a:lnTo>
                <a:close/>
              </a:path>
              <a:path fill="darkenLess" w="25933" h="21600">
                <a:moveTo>
                  <a:pt x="25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33" y="20200"/>
                </a:lnTo>
                <a:close/>
              </a:path>
              <a:path fill="lighten" w="25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33" h="21600">
                <a:moveTo>
                  <a:pt x="12966" y="3837"/>
                </a:moveTo>
                <a:lnTo>
                  <a:pt x="15543" y="6448"/>
                </a:lnTo>
                <a:lnTo>
                  <a:pt x="15543" y="4707"/>
                </a:lnTo>
                <a:lnTo>
                  <a:pt x="17318" y="4707"/>
                </a:lnTo>
                <a:lnTo>
                  <a:pt x="17318" y="8224"/>
                </a:lnTo>
                <a:lnTo>
                  <a:pt x="19929" y="10800"/>
                </a:lnTo>
                <a:lnTo>
                  <a:pt x="18276" y="10800"/>
                </a:lnTo>
                <a:lnTo>
                  <a:pt x="18276" y="17989"/>
                </a:lnTo>
                <a:lnTo>
                  <a:pt x="7657" y="17989"/>
                </a:lnTo>
                <a:lnTo>
                  <a:pt x="7657" y="10800"/>
                </a:lnTo>
                <a:lnTo>
                  <a:pt x="6004" y="10800"/>
                </a:lnTo>
                <a:close/>
              </a:path>
              <a:path fill="darkenLess" w="25933" h="21600">
                <a:moveTo>
                  <a:pt x="15543" y="6448"/>
                </a:moveTo>
                <a:lnTo>
                  <a:pt x="15543" y="4707"/>
                </a:lnTo>
                <a:lnTo>
                  <a:pt x="17318" y="4707"/>
                </a:lnTo>
                <a:lnTo>
                  <a:pt x="17318" y="8224"/>
                </a:lnTo>
                <a:close/>
              </a:path>
              <a:path fill="darkenLess" w="25933" h="21600">
                <a:moveTo>
                  <a:pt x="12044" y="14299"/>
                </a:moveTo>
                <a:lnTo>
                  <a:pt x="13889" y="14299"/>
                </a:lnTo>
                <a:lnTo>
                  <a:pt x="13889" y="17989"/>
                </a:lnTo>
                <a:lnTo>
                  <a:pt x="18276" y="17989"/>
                </a:lnTo>
                <a:lnTo>
                  <a:pt x="18276" y="10800"/>
                </a:lnTo>
                <a:lnTo>
                  <a:pt x="7657" y="10800"/>
                </a:lnTo>
                <a:lnTo>
                  <a:pt x="7657" y="17989"/>
                </a:lnTo>
                <a:lnTo>
                  <a:pt x="12044" y="17989"/>
                </a:lnTo>
                <a:close/>
              </a:path>
            </a:pathLst>
          </a:custGeom>
          <a:solidFill>
            <a:srgbClr val="b7c5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Picture 4" descr="C:\Users\Admin\Desktop\Niger_river_map.jpg"/>
          <p:cNvPicPr/>
          <p:nvPr/>
        </p:nvPicPr>
        <p:blipFill>
          <a:blip r:embed="rId1"/>
          <a:stretch/>
        </p:blipFill>
        <p:spPr>
          <a:xfrm>
            <a:off x="0" y="2066760"/>
            <a:ext cx="7620120" cy="479124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362800" cy="38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2e"/>
                </a:solidFill>
                <a:latin typeface="Tahoma"/>
              </a:rPr>
              <a:t>На самом деле эта очень даже реальная река. И существует она не только в сказках Чуковского. На ее берегах в самом деле лучше не гулять, так как там полно больших злых крокодилов, и гиппопотамов. Не даром другое название реки – Крокодиловая?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heel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611280" y="333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2e"/>
                </a:solidFill>
                <a:latin typeface="Tahoma"/>
              </a:rPr>
              <a:t>Река Лимпопо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AutoShape 4">
            <a:hlinkClick r:id="" action="ppaction://hlinkshowjump?jump=firstslide"/>
          </p:cNvPr>
          <p:cNvSpPr/>
          <p:nvPr/>
        </p:nvSpPr>
        <p:spPr>
          <a:xfrm>
            <a:off x="8388360" y="6138720"/>
            <a:ext cx="755640" cy="719280"/>
          </a:xfrm>
          <a:custGeom>
            <a:avLst/>
            <a:gdLst>
              <a:gd name="textAreaLeft" fmla="*/ 46440 w 755640"/>
              <a:gd name="textAreaRight" fmla="*/ 709200 w 75564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2691" h="21600">
                <a:moveTo>
                  <a:pt x="0" y="0"/>
                </a:moveTo>
                <a:lnTo>
                  <a:pt x="22691" y="0"/>
                </a:lnTo>
                <a:lnTo>
                  <a:pt x="22691" y="21600"/>
                </a:lnTo>
                <a:lnTo>
                  <a:pt x="0" y="21600"/>
                </a:lnTo>
                <a:close/>
              </a:path>
              <a:path fill="lightenLess" w="22691" h="21600">
                <a:moveTo>
                  <a:pt x="0" y="0"/>
                </a:moveTo>
                <a:lnTo>
                  <a:pt x="22691" y="0"/>
                </a:lnTo>
                <a:lnTo>
                  <a:pt x="21291" y="1400"/>
                </a:lnTo>
                <a:lnTo>
                  <a:pt x="1400" y="1400"/>
                </a:lnTo>
                <a:close/>
              </a:path>
              <a:path fill="darken" w="22691" h="21600">
                <a:moveTo>
                  <a:pt x="22691" y="0"/>
                </a:moveTo>
                <a:lnTo>
                  <a:pt x="22691" y="21600"/>
                </a:lnTo>
                <a:lnTo>
                  <a:pt x="21291" y="20200"/>
                </a:lnTo>
                <a:lnTo>
                  <a:pt x="21291" y="1400"/>
                </a:lnTo>
                <a:close/>
              </a:path>
              <a:path fill="darkenLess" w="22691" h="21600">
                <a:moveTo>
                  <a:pt x="226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91" y="20200"/>
                </a:lnTo>
                <a:close/>
              </a:path>
              <a:path fill="lighten" w="226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91" h="21600">
                <a:moveTo>
                  <a:pt x="11346" y="3837"/>
                </a:moveTo>
                <a:lnTo>
                  <a:pt x="13922" y="6448"/>
                </a:lnTo>
                <a:lnTo>
                  <a:pt x="13922" y="4707"/>
                </a:lnTo>
                <a:lnTo>
                  <a:pt x="15698" y="4707"/>
                </a:lnTo>
                <a:lnTo>
                  <a:pt x="15698" y="8224"/>
                </a:lnTo>
                <a:lnTo>
                  <a:pt x="18309" y="10800"/>
                </a:lnTo>
                <a:lnTo>
                  <a:pt x="16655" y="10800"/>
                </a:lnTo>
                <a:lnTo>
                  <a:pt x="16655" y="17989"/>
                </a:lnTo>
                <a:lnTo>
                  <a:pt x="6036" y="17989"/>
                </a:lnTo>
                <a:lnTo>
                  <a:pt x="6036" y="10800"/>
                </a:lnTo>
                <a:lnTo>
                  <a:pt x="4383" y="10800"/>
                </a:lnTo>
                <a:close/>
              </a:path>
              <a:path fill="darkenLess" w="22691" h="21600">
                <a:moveTo>
                  <a:pt x="13922" y="6448"/>
                </a:moveTo>
                <a:lnTo>
                  <a:pt x="13922" y="4707"/>
                </a:lnTo>
                <a:lnTo>
                  <a:pt x="15698" y="4707"/>
                </a:lnTo>
                <a:lnTo>
                  <a:pt x="15698" y="8224"/>
                </a:lnTo>
                <a:close/>
              </a:path>
              <a:path fill="darkenLess" w="22691" h="21600">
                <a:moveTo>
                  <a:pt x="10423" y="14299"/>
                </a:moveTo>
                <a:lnTo>
                  <a:pt x="12268" y="14299"/>
                </a:lnTo>
                <a:lnTo>
                  <a:pt x="12268" y="17989"/>
                </a:lnTo>
                <a:lnTo>
                  <a:pt x="16655" y="17989"/>
                </a:lnTo>
                <a:lnTo>
                  <a:pt x="16655" y="10800"/>
                </a:lnTo>
                <a:lnTo>
                  <a:pt x="6036" y="10800"/>
                </a:lnTo>
                <a:lnTo>
                  <a:pt x="6036" y="17989"/>
                </a:lnTo>
                <a:lnTo>
                  <a:pt x="10423" y="17989"/>
                </a:lnTo>
                <a:close/>
              </a:path>
            </a:pathLst>
          </a:custGeom>
          <a:solidFill>
            <a:srgbClr val="b7c5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Picture 4" descr="C:\Users\Admin\Desktop\croc-limpopo1.jpg"/>
          <p:cNvPicPr/>
          <p:nvPr/>
        </p:nvPicPr>
        <p:blipFill>
          <a:blip r:embed="rId1"/>
          <a:stretch/>
        </p:blipFill>
        <p:spPr>
          <a:xfrm>
            <a:off x="395280" y="1268280"/>
            <a:ext cx="7188120" cy="539136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2060640"/>
            <a:ext cx="8229600" cy="29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2e"/>
                </a:solidFill>
                <a:latin typeface="Tahoma"/>
              </a:rPr>
              <a:t>Горы какого возраста расположены на материке Африка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heel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08000" y="836640"/>
            <a:ext cx="439272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2e"/>
                </a:solidFill>
                <a:latin typeface="Tahoma"/>
              </a:rPr>
              <a:t>Древние горы Капские и Драконовы, молодые горы Атлас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AutoShape 4">
            <a:hlinkClick r:id="" action="ppaction://hlinkshowjump?jump=firstslide"/>
          </p:cNvPr>
          <p:cNvSpPr/>
          <p:nvPr/>
        </p:nvSpPr>
        <p:spPr>
          <a:xfrm>
            <a:off x="8101080" y="6093000"/>
            <a:ext cx="1042920" cy="765000"/>
          </a:xfrm>
          <a:custGeom>
            <a:avLst/>
            <a:gdLst>
              <a:gd name="textAreaLeft" fmla="*/ 49320 w 1042920"/>
              <a:gd name="textAreaRight" fmla="*/ 993600 w 104292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29443" h="21600">
                <a:moveTo>
                  <a:pt x="0" y="0"/>
                </a:moveTo>
                <a:lnTo>
                  <a:pt x="29443" y="0"/>
                </a:lnTo>
                <a:lnTo>
                  <a:pt x="29443" y="21600"/>
                </a:lnTo>
                <a:lnTo>
                  <a:pt x="0" y="21600"/>
                </a:lnTo>
                <a:close/>
              </a:path>
              <a:path fill="lightenLess" w="29443" h="21600">
                <a:moveTo>
                  <a:pt x="0" y="0"/>
                </a:moveTo>
                <a:lnTo>
                  <a:pt x="29443" y="0"/>
                </a:lnTo>
                <a:lnTo>
                  <a:pt x="28043" y="1400"/>
                </a:lnTo>
                <a:lnTo>
                  <a:pt x="1400" y="1400"/>
                </a:lnTo>
                <a:close/>
              </a:path>
              <a:path fill="darken" w="29443" h="21600">
                <a:moveTo>
                  <a:pt x="29443" y="0"/>
                </a:moveTo>
                <a:lnTo>
                  <a:pt x="29443" y="21600"/>
                </a:lnTo>
                <a:lnTo>
                  <a:pt x="28043" y="20200"/>
                </a:lnTo>
                <a:lnTo>
                  <a:pt x="28043" y="1400"/>
                </a:lnTo>
                <a:close/>
              </a:path>
              <a:path fill="darkenLess" w="29443" h="21600">
                <a:moveTo>
                  <a:pt x="294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43" y="20200"/>
                </a:lnTo>
                <a:close/>
              </a:path>
              <a:path fill="lighten" w="294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443" h="21600">
                <a:moveTo>
                  <a:pt x="14722" y="3837"/>
                </a:moveTo>
                <a:lnTo>
                  <a:pt x="17298" y="6448"/>
                </a:lnTo>
                <a:lnTo>
                  <a:pt x="17298" y="4707"/>
                </a:lnTo>
                <a:lnTo>
                  <a:pt x="19074" y="4707"/>
                </a:lnTo>
                <a:lnTo>
                  <a:pt x="19074" y="8224"/>
                </a:lnTo>
                <a:lnTo>
                  <a:pt x="21685" y="10800"/>
                </a:lnTo>
                <a:lnTo>
                  <a:pt x="20031" y="10800"/>
                </a:lnTo>
                <a:lnTo>
                  <a:pt x="20031" y="17989"/>
                </a:lnTo>
                <a:lnTo>
                  <a:pt x="9412" y="17989"/>
                </a:lnTo>
                <a:lnTo>
                  <a:pt x="9412" y="10800"/>
                </a:lnTo>
                <a:lnTo>
                  <a:pt x="7759" y="10800"/>
                </a:lnTo>
                <a:close/>
              </a:path>
              <a:path fill="darkenLess" w="29443" h="21600">
                <a:moveTo>
                  <a:pt x="17298" y="6448"/>
                </a:moveTo>
                <a:lnTo>
                  <a:pt x="17298" y="4707"/>
                </a:lnTo>
                <a:lnTo>
                  <a:pt x="19074" y="4707"/>
                </a:lnTo>
                <a:lnTo>
                  <a:pt x="19074" y="8224"/>
                </a:lnTo>
                <a:close/>
              </a:path>
              <a:path fill="darkenLess" w="29443" h="21600">
                <a:moveTo>
                  <a:pt x="13799" y="14299"/>
                </a:moveTo>
                <a:lnTo>
                  <a:pt x="15644" y="14299"/>
                </a:lnTo>
                <a:lnTo>
                  <a:pt x="15644" y="17989"/>
                </a:lnTo>
                <a:lnTo>
                  <a:pt x="20031" y="17989"/>
                </a:lnTo>
                <a:lnTo>
                  <a:pt x="20031" y="10800"/>
                </a:lnTo>
                <a:lnTo>
                  <a:pt x="9412" y="10800"/>
                </a:lnTo>
                <a:lnTo>
                  <a:pt x="9412" y="17989"/>
                </a:lnTo>
                <a:lnTo>
                  <a:pt x="13799" y="17989"/>
                </a:lnTo>
                <a:close/>
              </a:path>
            </a:pathLst>
          </a:custGeom>
          <a:solidFill>
            <a:srgbClr val="b7c5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Picture 5" descr="C:\Users\Admin\Desktop\Maroko_5.jpg"/>
          <p:cNvPicPr/>
          <p:nvPr/>
        </p:nvPicPr>
        <p:blipFill>
          <a:blip r:embed="rId1"/>
          <a:stretch/>
        </p:blipFill>
        <p:spPr>
          <a:xfrm>
            <a:off x="0" y="3564000"/>
            <a:ext cx="4394160" cy="3294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6" descr="C:\Users\Admin\Desktop\4_9_ZA_0065_IT(1).jpg"/>
          <p:cNvPicPr/>
          <p:nvPr/>
        </p:nvPicPr>
        <p:blipFill>
          <a:blip r:embed="rId2"/>
          <a:stretch/>
        </p:blipFill>
        <p:spPr>
          <a:xfrm>
            <a:off x="4784760" y="0"/>
            <a:ext cx="4359240" cy="326880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7200" y="2734920"/>
            <a:ext cx="8229600" cy="16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2e"/>
                </a:solidFill>
                <a:latin typeface="Tahoma"/>
              </a:rPr>
              <a:t>Самая высокая гора Африки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heel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6560" y="260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2e"/>
                </a:solidFill>
                <a:latin typeface="Tahoma"/>
              </a:rPr>
              <a:t>Вулкан Килиманджаро  5895м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AutoShape 4">
            <a:hlinkClick r:id="" action="ppaction://hlinkshowjump?jump=firstslide"/>
          </p:cNvPr>
          <p:cNvSpPr/>
          <p:nvPr/>
        </p:nvSpPr>
        <p:spPr>
          <a:xfrm>
            <a:off x="7885080" y="5877000"/>
            <a:ext cx="1258920" cy="981000"/>
          </a:xfrm>
          <a:custGeom>
            <a:avLst/>
            <a:gdLst>
              <a:gd name="textAreaLeft" fmla="*/ 63360 w 1258920"/>
              <a:gd name="textAreaRight" fmla="*/ 1195560 w 1258920"/>
              <a:gd name="textAreaTop" fmla="*/ 63360 h 981000"/>
              <a:gd name="textAreaBottom" fmla="*/ 917640 h 981000"/>
            </a:gdLst>
            <a:ahLst/>
            <a:rect l="textAreaLeft" t="textAreaTop" r="textAreaRight" b="textAreaBottom"/>
            <a:pathLst>
              <a:path w="27717" h="21600">
                <a:moveTo>
                  <a:pt x="0" y="0"/>
                </a:moveTo>
                <a:lnTo>
                  <a:pt x="27717" y="0"/>
                </a:lnTo>
                <a:lnTo>
                  <a:pt x="27717" y="21600"/>
                </a:lnTo>
                <a:lnTo>
                  <a:pt x="0" y="21600"/>
                </a:lnTo>
                <a:close/>
              </a:path>
              <a:path fill="lightenLess" w="27717" h="21600">
                <a:moveTo>
                  <a:pt x="0" y="0"/>
                </a:moveTo>
                <a:lnTo>
                  <a:pt x="27717" y="0"/>
                </a:lnTo>
                <a:lnTo>
                  <a:pt x="26317" y="1400"/>
                </a:lnTo>
                <a:lnTo>
                  <a:pt x="1400" y="1400"/>
                </a:lnTo>
                <a:close/>
              </a:path>
              <a:path fill="darken" w="27717" h="21600">
                <a:moveTo>
                  <a:pt x="27717" y="0"/>
                </a:moveTo>
                <a:lnTo>
                  <a:pt x="27717" y="21600"/>
                </a:lnTo>
                <a:lnTo>
                  <a:pt x="26317" y="20200"/>
                </a:lnTo>
                <a:lnTo>
                  <a:pt x="26317" y="1400"/>
                </a:lnTo>
                <a:close/>
              </a:path>
              <a:path fill="darkenLess" w="27717" h="21600">
                <a:moveTo>
                  <a:pt x="277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17" y="20200"/>
                </a:lnTo>
                <a:close/>
              </a:path>
              <a:path fill="lighten" w="277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17" h="21600">
                <a:moveTo>
                  <a:pt x="13859" y="3837"/>
                </a:moveTo>
                <a:lnTo>
                  <a:pt x="16435" y="6448"/>
                </a:lnTo>
                <a:lnTo>
                  <a:pt x="16435" y="4707"/>
                </a:lnTo>
                <a:lnTo>
                  <a:pt x="18210" y="4707"/>
                </a:lnTo>
                <a:lnTo>
                  <a:pt x="18210" y="8224"/>
                </a:lnTo>
                <a:lnTo>
                  <a:pt x="20822" y="10800"/>
                </a:lnTo>
                <a:lnTo>
                  <a:pt x="19168" y="10800"/>
                </a:lnTo>
                <a:lnTo>
                  <a:pt x="19168" y="17989"/>
                </a:lnTo>
                <a:lnTo>
                  <a:pt x="8549" y="17989"/>
                </a:lnTo>
                <a:lnTo>
                  <a:pt x="8549" y="10800"/>
                </a:lnTo>
                <a:lnTo>
                  <a:pt x="6896" y="10800"/>
                </a:lnTo>
                <a:close/>
              </a:path>
              <a:path fill="darkenLess" w="27717" h="21600">
                <a:moveTo>
                  <a:pt x="16435" y="6448"/>
                </a:moveTo>
                <a:lnTo>
                  <a:pt x="16435" y="4707"/>
                </a:lnTo>
                <a:lnTo>
                  <a:pt x="18210" y="4707"/>
                </a:lnTo>
                <a:lnTo>
                  <a:pt x="18210" y="8224"/>
                </a:lnTo>
                <a:close/>
              </a:path>
              <a:path fill="darkenLess" w="27717" h="21600">
                <a:moveTo>
                  <a:pt x="12936" y="14299"/>
                </a:moveTo>
                <a:lnTo>
                  <a:pt x="14781" y="14299"/>
                </a:lnTo>
                <a:lnTo>
                  <a:pt x="14781" y="17989"/>
                </a:lnTo>
                <a:lnTo>
                  <a:pt x="19168" y="17989"/>
                </a:lnTo>
                <a:lnTo>
                  <a:pt x="19168" y="10800"/>
                </a:lnTo>
                <a:lnTo>
                  <a:pt x="8549" y="10800"/>
                </a:lnTo>
                <a:lnTo>
                  <a:pt x="8549" y="17989"/>
                </a:lnTo>
                <a:lnTo>
                  <a:pt x="12936" y="17989"/>
                </a:lnTo>
                <a:close/>
              </a:path>
            </a:pathLst>
          </a:custGeom>
          <a:solidFill>
            <a:srgbClr val="b7c5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Picture 5" descr="C:\Users\Admin\Desktop\kilimanjara-590x442.jpg"/>
          <p:cNvPicPr/>
          <p:nvPr/>
        </p:nvPicPr>
        <p:blipFill>
          <a:blip r:embed="rId1"/>
          <a:stretch/>
        </p:blipFill>
        <p:spPr>
          <a:xfrm>
            <a:off x="0" y="1490760"/>
            <a:ext cx="7164360" cy="536724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2e"/>
                </a:solidFill>
                <a:latin typeface="Tahoma"/>
              </a:rPr>
              <a:t>На западе Африки расположен вулкан высотой 4070 м. в одноимённой стране. Назовите страну и вулкан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heel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6656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2e"/>
                </a:solidFill>
                <a:latin typeface="Tahoma"/>
              </a:rPr>
              <a:t>Вулкан Камерун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AutoShape 4">
            <a:hlinkClick r:id="" action="ppaction://hlinkshowjump?jump=firstslide"/>
          </p:cNvPr>
          <p:cNvSpPr/>
          <p:nvPr/>
        </p:nvSpPr>
        <p:spPr>
          <a:xfrm>
            <a:off x="8028000" y="5950080"/>
            <a:ext cx="1116000" cy="907920"/>
          </a:xfrm>
          <a:custGeom>
            <a:avLst/>
            <a:gdLst>
              <a:gd name="textAreaLeft" fmla="*/ 58680 w 1116000"/>
              <a:gd name="textAreaRight" fmla="*/ 1057320 w 1116000"/>
              <a:gd name="textAreaTop" fmla="*/ 58680 h 907920"/>
              <a:gd name="textAreaBottom" fmla="*/ 849240 h 907920"/>
            </a:gdLst>
            <a:ahLst/>
            <a:rect l="textAreaLeft" t="textAreaTop" r="textAreaRight" b="textAreaBottom"/>
            <a:pathLst>
              <a:path w="26548" h="21600">
                <a:moveTo>
                  <a:pt x="0" y="0"/>
                </a:moveTo>
                <a:lnTo>
                  <a:pt x="26548" y="0"/>
                </a:lnTo>
                <a:lnTo>
                  <a:pt x="26548" y="21600"/>
                </a:lnTo>
                <a:lnTo>
                  <a:pt x="0" y="21600"/>
                </a:lnTo>
                <a:close/>
              </a:path>
              <a:path fill="lightenLess" w="26548" h="21600">
                <a:moveTo>
                  <a:pt x="0" y="0"/>
                </a:moveTo>
                <a:lnTo>
                  <a:pt x="26548" y="0"/>
                </a:lnTo>
                <a:lnTo>
                  <a:pt x="25148" y="1400"/>
                </a:lnTo>
                <a:lnTo>
                  <a:pt x="1400" y="1400"/>
                </a:lnTo>
                <a:close/>
              </a:path>
              <a:path fill="darken" w="26548" h="21600">
                <a:moveTo>
                  <a:pt x="26548" y="0"/>
                </a:moveTo>
                <a:lnTo>
                  <a:pt x="26548" y="21600"/>
                </a:lnTo>
                <a:lnTo>
                  <a:pt x="25148" y="20200"/>
                </a:lnTo>
                <a:lnTo>
                  <a:pt x="25148" y="1400"/>
                </a:lnTo>
                <a:close/>
              </a:path>
              <a:path fill="darkenLess" w="26548" h="21600">
                <a:moveTo>
                  <a:pt x="265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48" y="20200"/>
                </a:lnTo>
                <a:close/>
              </a:path>
              <a:path fill="lighten" w="265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48" h="21600">
                <a:moveTo>
                  <a:pt x="13274" y="3837"/>
                </a:moveTo>
                <a:lnTo>
                  <a:pt x="15850" y="6448"/>
                </a:lnTo>
                <a:lnTo>
                  <a:pt x="15850" y="4707"/>
                </a:lnTo>
                <a:lnTo>
                  <a:pt x="17626" y="4707"/>
                </a:lnTo>
                <a:lnTo>
                  <a:pt x="17626" y="8224"/>
                </a:lnTo>
                <a:lnTo>
                  <a:pt x="20237" y="10800"/>
                </a:lnTo>
                <a:lnTo>
                  <a:pt x="18583" y="10800"/>
                </a:lnTo>
                <a:lnTo>
                  <a:pt x="18583" y="17989"/>
                </a:lnTo>
                <a:lnTo>
                  <a:pt x="7965" y="17989"/>
                </a:lnTo>
                <a:lnTo>
                  <a:pt x="7965" y="10800"/>
                </a:lnTo>
                <a:lnTo>
                  <a:pt x="6311" y="10800"/>
                </a:lnTo>
                <a:close/>
              </a:path>
              <a:path fill="darkenLess" w="26548" h="21600">
                <a:moveTo>
                  <a:pt x="15850" y="6448"/>
                </a:moveTo>
                <a:lnTo>
                  <a:pt x="15850" y="4707"/>
                </a:lnTo>
                <a:lnTo>
                  <a:pt x="17626" y="4707"/>
                </a:lnTo>
                <a:lnTo>
                  <a:pt x="17626" y="8224"/>
                </a:lnTo>
                <a:close/>
              </a:path>
              <a:path fill="darkenLess" w="26548" h="21600">
                <a:moveTo>
                  <a:pt x="12352" y="14299"/>
                </a:moveTo>
                <a:lnTo>
                  <a:pt x="14197" y="14299"/>
                </a:lnTo>
                <a:lnTo>
                  <a:pt x="14197" y="17989"/>
                </a:lnTo>
                <a:lnTo>
                  <a:pt x="18583" y="17989"/>
                </a:lnTo>
                <a:lnTo>
                  <a:pt x="18583" y="10800"/>
                </a:lnTo>
                <a:lnTo>
                  <a:pt x="7965" y="10800"/>
                </a:lnTo>
                <a:lnTo>
                  <a:pt x="7965" y="17989"/>
                </a:lnTo>
                <a:lnTo>
                  <a:pt x="12352" y="17989"/>
                </a:lnTo>
                <a:close/>
              </a:path>
            </a:pathLst>
          </a:custGeom>
          <a:solidFill>
            <a:srgbClr val="b7c5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4" name="Picture 5" descr="C:\Users\Admin\Desktop\thumbnail.php.jpg"/>
          <p:cNvPicPr/>
          <p:nvPr/>
        </p:nvPicPr>
        <p:blipFill>
          <a:blip r:embed="rId1"/>
          <a:stretch/>
        </p:blipFill>
        <p:spPr>
          <a:xfrm>
            <a:off x="755640" y="1274760"/>
            <a:ext cx="6480360" cy="540072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1557000"/>
            <a:ext cx="8229600" cy="31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2e"/>
                </a:solidFill>
                <a:latin typeface="Tahoma"/>
              </a:rPr>
              <a:t>Как называются плита и платформа,  на которой  расположен  материк Африка, в каком направлении и с какой скоростью движется плита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heel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AutoShape 4" descr=""/>
          <p:cNvPicPr/>
          <p:nvPr/>
        </p:nvPicPr>
        <p:blipFill>
          <a:blip r:embed="rId1"/>
          <a:stretch/>
        </p:blipFill>
        <p:spPr>
          <a:xfrm>
            <a:off x="1689120" y="1047600"/>
            <a:ext cx="1090440" cy="963720"/>
          </a:xfrm>
          <a:prstGeom prst="rect">
            <a:avLst/>
          </a:prstGeom>
          <a:ln w="0">
            <a:noFill/>
          </a:ln>
        </p:spPr>
      </p:pic>
      <p:pic>
        <p:nvPicPr>
          <p:cNvPr id="87" name="AutoShape 5" descr=""/>
          <p:cNvPicPr/>
          <p:nvPr/>
        </p:nvPicPr>
        <p:blipFill>
          <a:blip r:embed="rId2"/>
          <a:stretch/>
        </p:blipFill>
        <p:spPr>
          <a:xfrm>
            <a:off x="4565520" y="1047600"/>
            <a:ext cx="1092240" cy="963720"/>
          </a:xfrm>
          <a:prstGeom prst="rect">
            <a:avLst/>
          </a:prstGeom>
          <a:ln w="0">
            <a:noFill/>
          </a:ln>
        </p:spPr>
      </p:pic>
      <p:pic>
        <p:nvPicPr>
          <p:cNvPr id="88" name="AutoShape 6" descr=""/>
          <p:cNvPicPr/>
          <p:nvPr/>
        </p:nvPicPr>
        <p:blipFill>
          <a:blip r:embed="rId3"/>
          <a:stretch/>
        </p:blipFill>
        <p:spPr>
          <a:xfrm>
            <a:off x="3127320" y="1047600"/>
            <a:ext cx="1090800" cy="963720"/>
          </a:xfrm>
          <a:prstGeom prst="rect">
            <a:avLst/>
          </a:prstGeom>
          <a:ln w="0">
            <a:noFill/>
          </a:ln>
        </p:spPr>
      </p:pic>
      <p:pic>
        <p:nvPicPr>
          <p:cNvPr id="89" name="AutoShape 7" descr=""/>
          <p:cNvPicPr/>
          <p:nvPr/>
        </p:nvPicPr>
        <p:blipFill>
          <a:blip r:embed="rId4"/>
          <a:stretch/>
        </p:blipFill>
        <p:spPr>
          <a:xfrm>
            <a:off x="1689120" y="2468520"/>
            <a:ext cx="1090440" cy="969840"/>
          </a:xfrm>
          <a:prstGeom prst="rect">
            <a:avLst/>
          </a:prstGeom>
          <a:ln w="0">
            <a:noFill/>
          </a:ln>
        </p:spPr>
      </p:pic>
      <p:pic>
        <p:nvPicPr>
          <p:cNvPr id="90" name="AutoShape 8" descr=""/>
          <p:cNvPicPr/>
          <p:nvPr/>
        </p:nvPicPr>
        <p:blipFill>
          <a:blip r:embed="rId5"/>
          <a:stretch/>
        </p:blipFill>
        <p:spPr>
          <a:xfrm>
            <a:off x="1689120" y="3925800"/>
            <a:ext cx="1090440" cy="970200"/>
          </a:xfrm>
          <a:prstGeom prst="rect">
            <a:avLst/>
          </a:prstGeom>
          <a:ln w="0">
            <a:noFill/>
          </a:ln>
        </p:spPr>
      </p:pic>
      <p:pic>
        <p:nvPicPr>
          <p:cNvPr id="91" name="AutoShape 9" descr=""/>
          <p:cNvPicPr/>
          <p:nvPr/>
        </p:nvPicPr>
        <p:blipFill>
          <a:blip r:embed="rId6"/>
          <a:stretch/>
        </p:blipFill>
        <p:spPr>
          <a:xfrm>
            <a:off x="1689120" y="5370480"/>
            <a:ext cx="1090440" cy="963720"/>
          </a:xfrm>
          <a:prstGeom prst="rect">
            <a:avLst/>
          </a:prstGeom>
          <a:ln w="0">
            <a:noFill/>
          </a:ln>
        </p:spPr>
      </p:pic>
      <p:pic>
        <p:nvPicPr>
          <p:cNvPr id="92" name="AutoShape 10" descr=""/>
          <p:cNvPicPr/>
          <p:nvPr/>
        </p:nvPicPr>
        <p:blipFill>
          <a:blip r:embed="rId7"/>
          <a:stretch/>
        </p:blipFill>
        <p:spPr>
          <a:xfrm>
            <a:off x="6004080" y="1047600"/>
            <a:ext cx="1091880" cy="963720"/>
          </a:xfrm>
          <a:prstGeom prst="rect">
            <a:avLst/>
          </a:prstGeom>
          <a:ln w="0">
            <a:noFill/>
          </a:ln>
        </p:spPr>
      </p:pic>
      <p:pic>
        <p:nvPicPr>
          <p:cNvPr id="93" name="AutoShape 11" descr=""/>
          <p:cNvPicPr/>
          <p:nvPr/>
        </p:nvPicPr>
        <p:blipFill>
          <a:blip r:embed="rId8"/>
          <a:stretch/>
        </p:blipFill>
        <p:spPr>
          <a:xfrm>
            <a:off x="7443720" y="1047600"/>
            <a:ext cx="1090800" cy="963720"/>
          </a:xfrm>
          <a:prstGeom prst="rect">
            <a:avLst/>
          </a:prstGeom>
          <a:ln w="0">
            <a:noFill/>
          </a:ln>
        </p:spPr>
      </p:pic>
      <p:pic>
        <p:nvPicPr>
          <p:cNvPr id="94" name="AutoShape 12" descr=""/>
          <p:cNvPicPr/>
          <p:nvPr/>
        </p:nvPicPr>
        <p:blipFill>
          <a:blip r:embed="rId9"/>
          <a:stretch/>
        </p:blipFill>
        <p:spPr>
          <a:xfrm>
            <a:off x="6004080" y="2468520"/>
            <a:ext cx="1091880" cy="969840"/>
          </a:xfrm>
          <a:prstGeom prst="rect">
            <a:avLst/>
          </a:prstGeom>
          <a:ln w="0">
            <a:noFill/>
          </a:ln>
        </p:spPr>
      </p:pic>
      <p:pic>
        <p:nvPicPr>
          <p:cNvPr id="95" name="AutoShape 13" descr=""/>
          <p:cNvPicPr/>
          <p:nvPr/>
        </p:nvPicPr>
        <p:blipFill>
          <a:blip r:embed="rId10"/>
          <a:stretch/>
        </p:blipFill>
        <p:spPr>
          <a:xfrm>
            <a:off x="4565520" y="2468520"/>
            <a:ext cx="1092240" cy="969840"/>
          </a:xfrm>
          <a:prstGeom prst="rect">
            <a:avLst/>
          </a:prstGeom>
          <a:ln w="0">
            <a:noFill/>
          </a:ln>
        </p:spPr>
      </p:pic>
      <p:pic>
        <p:nvPicPr>
          <p:cNvPr id="96" name="AutoShape 14" descr=""/>
          <p:cNvPicPr/>
          <p:nvPr/>
        </p:nvPicPr>
        <p:blipFill>
          <a:blip r:embed="rId11"/>
          <a:stretch/>
        </p:blipFill>
        <p:spPr>
          <a:xfrm>
            <a:off x="3127320" y="2468520"/>
            <a:ext cx="1090800" cy="969840"/>
          </a:xfrm>
          <a:prstGeom prst="rect">
            <a:avLst/>
          </a:prstGeom>
          <a:ln w="0">
            <a:noFill/>
          </a:ln>
        </p:spPr>
      </p:pic>
      <p:pic>
        <p:nvPicPr>
          <p:cNvPr id="97" name="AutoShape 15" descr=""/>
          <p:cNvPicPr/>
          <p:nvPr/>
        </p:nvPicPr>
        <p:blipFill>
          <a:blip r:embed="rId12"/>
          <a:stretch/>
        </p:blipFill>
        <p:spPr>
          <a:xfrm>
            <a:off x="4565520" y="3925800"/>
            <a:ext cx="1092240" cy="970200"/>
          </a:xfrm>
          <a:prstGeom prst="rect">
            <a:avLst/>
          </a:prstGeom>
          <a:ln w="0">
            <a:noFill/>
          </a:ln>
        </p:spPr>
      </p:pic>
      <p:pic>
        <p:nvPicPr>
          <p:cNvPr id="98" name="AutoShape 16" descr=""/>
          <p:cNvPicPr/>
          <p:nvPr/>
        </p:nvPicPr>
        <p:blipFill>
          <a:blip r:embed="rId13"/>
          <a:stretch/>
        </p:blipFill>
        <p:spPr>
          <a:xfrm>
            <a:off x="3127320" y="3925800"/>
            <a:ext cx="1090800" cy="970200"/>
          </a:xfrm>
          <a:prstGeom prst="rect">
            <a:avLst/>
          </a:prstGeom>
          <a:ln w="0">
            <a:noFill/>
          </a:ln>
        </p:spPr>
      </p:pic>
      <p:pic>
        <p:nvPicPr>
          <p:cNvPr id="99" name="AutoShape 17" descr=""/>
          <p:cNvPicPr/>
          <p:nvPr/>
        </p:nvPicPr>
        <p:blipFill>
          <a:blip r:embed="rId14"/>
          <a:stretch/>
        </p:blipFill>
        <p:spPr>
          <a:xfrm>
            <a:off x="7443720" y="2468520"/>
            <a:ext cx="1090800" cy="969840"/>
          </a:xfrm>
          <a:prstGeom prst="rect">
            <a:avLst/>
          </a:prstGeom>
          <a:ln w="0">
            <a:noFill/>
          </a:ln>
        </p:spPr>
      </p:pic>
      <p:pic>
        <p:nvPicPr>
          <p:cNvPr id="100" name="AutoShape 18" descr=""/>
          <p:cNvPicPr/>
          <p:nvPr/>
        </p:nvPicPr>
        <p:blipFill>
          <a:blip r:embed="rId15"/>
          <a:stretch/>
        </p:blipFill>
        <p:spPr>
          <a:xfrm>
            <a:off x="7443720" y="5370480"/>
            <a:ext cx="1090800" cy="963720"/>
          </a:xfrm>
          <a:prstGeom prst="rect">
            <a:avLst/>
          </a:prstGeom>
          <a:ln w="0">
            <a:noFill/>
          </a:ln>
        </p:spPr>
      </p:pic>
      <p:pic>
        <p:nvPicPr>
          <p:cNvPr id="101" name="AutoShape 19" descr=""/>
          <p:cNvPicPr/>
          <p:nvPr/>
        </p:nvPicPr>
        <p:blipFill>
          <a:blip r:embed="rId16"/>
          <a:stretch/>
        </p:blipFill>
        <p:spPr>
          <a:xfrm>
            <a:off x="6004080" y="5370480"/>
            <a:ext cx="1091880" cy="963720"/>
          </a:xfrm>
          <a:prstGeom prst="rect">
            <a:avLst/>
          </a:prstGeom>
          <a:ln w="0">
            <a:noFill/>
          </a:ln>
        </p:spPr>
      </p:pic>
      <p:pic>
        <p:nvPicPr>
          <p:cNvPr id="102" name="AutoShape 20" descr=""/>
          <p:cNvPicPr/>
          <p:nvPr/>
        </p:nvPicPr>
        <p:blipFill>
          <a:blip r:embed="rId17"/>
          <a:stretch/>
        </p:blipFill>
        <p:spPr>
          <a:xfrm>
            <a:off x="4565520" y="5370480"/>
            <a:ext cx="1092240" cy="963720"/>
          </a:xfrm>
          <a:prstGeom prst="rect">
            <a:avLst/>
          </a:prstGeom>
          <a:ln w="0">
            <a:noFill/>
          </a:ln>
        </p:spPr>
      </p:pic>
      <p:pic>
        <p:nvPicPr>
          <p:cNvPr id="103" name="AutoShape 21" descr=""/>
          <p:cNvPicPr/>
          <p:nvPr/>
        </p:nvPicPr>
        <p:blipFill>
          <a:blip r:embed="rId18"/>
          <a:stretch/>
        </p:blipFill>
        <p:spPr>
          <a:xfrm>
            <a:off x="3127320" y="5370480"/>
            <a:ext cx="1090800" cy="963720"/>
          </a:xfrm>
          <a:prstGeom prst="rect">
            <a:avLst/>
          </a:prstGeom>
          <a:ln w="0">
            <a:noFill/>
          </a:ln>
        </p:spPr>
      </p:pic>
      <p:sp>
        <p:nvSpPr>
          <p:cNvPr id="104" name="AutoShape 22"/>
          <p:cNvSpPr/>
          <p:nvPr/>
        </p:nvSpPr>
        <p:spPr>
          <a:xfrm>
            <a:off x="7451640" y="3933720"/>
            <a:ext cx="1079640" cy="952560"/>
          </a:xfrm>
          <a:custGeom>
            <a:avLst/>
            <a:gdLst>
              <a:gd name="textAreaLeft" fmla="*/ 61560 w 1079640"/>
              <a:gd name="textAreaRight" fmla="*/ 1018080 w 1079640"/>
              <a:gd name="textAreaTop" fmla="*/ 61560 h 952560"/>
              <a:gd name="textAreaBottom" fmla="*/ 891000 h 952560"/>
            </a:gdLst>
            <a:ahLst/>
            <a:rect l="textAreaLeft" t="textAreaTop" r="textAreaRight" b="textAreaBottom"/>
            <a:pathLst>
              <a:path w="24481" h="21600">
                <a:moveTo>
                  <a:pt x="0" y="0"/>
                </a:moveTo>
                <a:lnTo>
                  <a:pt x="24481" y="0"/>
                </a:lnTo>
                <a:lnTo>
                  <a:pt x="24481" y="21600"/>
                </a:lnTo>
                <a:lnTo>
                  <a:pt x="0" y="21600"/>
                </a:lnTo>
                <a:close/>
              </a:path>
              <a:path fill="lightenLess" w="24481" h="21600">
                <a:moveTo>
                  <a:pt x="0" y="0"/>
                </a:moveTo>
                <a:lnTo>
                  <a:pt x="24481" y="0"/>
                </a:lnTo>
                <a:lnTo>
                  <a:pt x="23081" y="1400"/>
                </a:lnTo>
                <a:lnTo>
                  <a:pt x="1400" y="1400"/>
                </a:lnTo>
                <a:close/>
              </a:path>
              <a:path fill="darken" w="24481" h="21600">
                <a:moveTo>
                  <a:pt x="24481" y="0"/>
                </a:moveTo>
                <a:lnTo>
                  <a:pt x="24481" y="21600"/>
                </a:lnTo>
                <a:lnTo>
                  <a:pt x="23081" y="20200"/>
                </a:lnTo>
                <a:lnTo>
                  <a:pt x="23081" y="1400"/>
                </a:lnTo>
                <a:close/>
              </a:path>
              <a:path fill="darkenLess" w="24481" h="21600">
                <a:moveTo>
                  <a:pt x="244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81" y="20200"/>
                </a:lnTo>
                <a:close/>
              </a:path>
              <a:path fill="lighten" w="244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50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AutoShape 23" descr=""/>
          <p:cNvPicPr/>
          <p:nvPr/>
        </p:nvPicPr>
        <p:blipFill>
          <a:blip r:embed="rId19"/>
          <a:stretch/>
        </p:blipFill>
        <p:spPr>
          <a:xfrm>
            <a:off x="6004080" y="3925800"/>
            <a:ext cx="1091880" cy="9702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24"/>
          <p:cNvSpPr/>
          <p:nvPr/>
        </p:nvSpPr>
        <p:spPr>
          <a:xfrm>
            <a:off x="1692360" y="0"/>
            <a:ext cx="575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2e"/>
                </a:solidFill>
                <a:latin typeface="Times New Roman"/>
              </a:rPr>
              <a:t>СВОЯ ИГРА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Text Box 25"/>
          <p:cNvSpPr/>
          <p:nvPr/>
        </p:nvSpPr>
        <p:spPr>
          <a:xfrm>
            <a:off x="250920" y="126828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64d00"/>
                </a:solidFill>
                <a:latin typeface="Times New Roman"/>
              </a:rPr>
              <a:t>Африка в мир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Text Box 26"/>
          <p:cNvSpPr/>
          <p:nvPr/>
        </p:nvSpPr>
        <p:spPr>
          <a:xfrm>
            <a:off x="250920" y="2565360"/>
            <a:ext cx="1369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64d00"/>
                </a:solidFill>
                <a:latin typeface="Times New Roman"/>
              </a:rPr>
              <a:t>Рельеф и полезные ископаемы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Text Box 27"/>
          <p:cNvSpPr/>
          <p:nvPr/>
        </p:nvSpPr>
        <p:spPr>
          <a:xfrm>
            <a:off x="250920" y="4005360"/>
            <a:ext cx="136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64d00"/>
                </a:solidFill>
                <a:latin typeface="Times New Roman"/>
              </a:rPr>
              <a:t>Климат и реки Африк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Text Box 28"/>
          <p:cNvSpPr/>
          <p:nvPr/>
        </p:nvSpPr>
        <p:spPr>
          <a:xfrm>
            <a:off x="250920" y="5373720"/>
            <a:ext cx="1369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64d00"/>
                </a:solidFill>
                <a:latin typeface="Times New Roman"/>
              </a:rPr>
              <a:t>Природные зоны Африки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AutoShape 29" descr=""/>
          <p:cNvPicPr/>
          <p:nvPr/>
        </p:nvPicPr>
        <p:blipFill>
          <a:blip r:embed="rId20"/>
          <a:stretch/>
        </p:blipFill>
        <p:spPr>
          <a:xfrm>
            <a:off x="7443720" y="3925800"/>
            <a:ext cx="1090800" cy="9702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755640" y="189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 marL="2160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2e"/>
                </a:solidFill>
                <a:latin typeface="Tahoma"/>
              </a:rPr>
              <a:t>Африканская плита движется на северо-восток со скоростью -1,9 см в год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AutoShape 4">
            <a:hlinkClick r:id="" action="ppaction://hlinkshowjump?jump=firstslide"/>
          </p:cNvPr>
          <p:cNvSpPr/>
          <p:nvPr/>
        </p:nvSpPr>
        <p:spPr>
          <a:xfrm>
            <a:off x="8028000" y="6021360"/>
            <a:ext cx="1116000" cy="836640"/>
          </a:xfrm>
          <a:custGeom>
            <a:avLst/>
            <a:gdLst>
              <a:gd name="textAreaLeft" fmla="*/ 54000 w 1116000"/>
              <a:gd name="textAreaRight" fmla="*/ 1062000 w 1116000"/>
              <a:gd name="textAreaTop" fmla="*/ 54000 h 836640"/>
              <a:gd name="textAreaBottom" fmla="*/ 782640 h 836640"/>
            </a:gdLst>
            <a:ahLst/>
            <a:rect l="textAreaLeft" t="textAreaTop" r="textAreaRight" b="textAreaBottom"/>
            <a:pathLst>
              <a:path w="28809" h="21600">
                <a:moveTo>
                  <a:pt x="0" y="0"/>
                </a:moveTo>
                <a:lnTo>
                  <a:pt x="28809" y="0"/>
                </a:lnTo>
                <a:lnTo>
                  <a:pt x="28809" y="21600"/>
                </a:lnTo>
                <a:lnTo>
                  <a:pt x="0" y="21600"/>
                </a:lnTo>
                <a:close/>
              </a:path>
              <a:path fill="lightenLess" w="28809" h="21600">
                <a:moveTo>
                  <a:pt x="0" y="0"/>
                </a:moveTo>
                <a:lnTo>
                  <a:pt x="28809" y="0"/>
                </a:lnTo>
                <a:lnTo>
                  <a:pt x="27409" y="1400"/>
                </a:lnTo>
                <a:lnTo>
                  <a:pt x="1400" y="1400"/>
                </a:lnTo>
                <a:close/>
              </a:path>
              <a:path fill="darken" w="28809" h="21600">
                <a:moveTo>
                  <a:pt x="28809" y="0"/>
                </a:moveTo>
                <a:lnTo>
                  <a:pt x="28809" y="21600"/>
                </a:lnTo>
                <a:lnTo>
                  <a:pt x="27409" y="20200"/>
                </a:lnTo>
                <a:lnTo>
                  <a:pt x="27409" y="1400"/>
                </a:lnTo>
                <a:close/>
              </a:path>
              <a:path fill="darkenLess" w="28809" h="21600">
                <a:moveTo>
                  <a:pt x="288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9" y="20200"/>
                </a:lnTo>
                <a:close/>
              </a:path>
              <a:path fill="lighten" w="288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9" h="21600">
                <a:moveTo>
                  <a:pt x="14405" y="3837"/>
                </a:moveTo>
                <a:lnTo>
                  <a:pt x="16981" y="6448"/>
                </a:lnTo>
                <a:lnTo>
                  <a:pt x="16981" y="4707"/>
                </a:lnTo>
                <a:lnTo>
                  <a:pt x="18756" y="4707"/>
                </a:lnTo>
                <a:lnTo>
                  <a:pt x="18756" y="8224"/>
                </a:lnTo>
                <a:lnTo>
                  <a:pt x="21368" y="10800"/>
                </a:lnTo>
                <a:lnTo>
                  <a:pt x="19714" y="10800"/>
                </a:lnTo>
                <a:lnTo>
                  <a:pt x="19714" y="17989"/>
                </a:lnTo>
                <a:lnTo>
                  <a:pt x="9095" y="17989"/>
                </a:lnTo>
                <a:lnTo>
                  <a:pt x="9095" y="10800"/>
                </a:lnTo>
                <a:lnTo>
                  <a:pt x="7442" y="10800"/>
                </a:lnTo>
                <a:close/>
              </a:path>
              <a:path fill="darkenLess" w="28809" h="21600">
                <a:moveTo>
                  <a:pt x="16981" y="6448"/>
                </a:moveTo>
                <a:lnTo>
                  <a:pt x="16981" y="4707"/>
                </a:lnTo>
                <a:lnTo>
                  <a:pt x="18756" y="4707"/>
                </a:lnTo>
                <a:lnTo>
                  <a:pt x="18756" y="8224"/>
                </a:lnTo>
                <a:close/>
              </a:path>
              <a:path fill="darkenLess" w="28809" h="21600">
                <a:moveTo>
                  <a:pt x="13482" y="14299"/>
                </a:moveTo>
                <a:lnTo>
                  <a:pt x="15327" y="14299"/>
                </a:lnTo>
                <a:lnTo>
                  <a:pt x="15327" y="17989"/>
                </a:lnTo>
                <a:lnTo>
                  <a:pt x="19714" y="17989"/>
                </a:lnTo>
                <a:lnTo>
                  <a:pt x="19714" y="10800"/>
                </a:lnTo>
                <a:lnTo>
                  <a:pt x="9095" y="10800"/>
                </a:lnTo>
                <a:lnTo>
                  <a:pt x="9095" y="17989"/>
                </a:lnTo>
                <a:lnTo>
                  <a:pt x="13482" y="17989"/>
                </a:lnTo>
                <a:close/>
              </a:path>
            </a:pathLst>
          </a:custGeom>
          <a:solidFill>
            <a:srgbClr val="b7c5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Picture 5" descr="C:\Users\Admin\Desktop\58ab4900ae67591468db3933020de1f0.jpg"/>
          <p:cNvPicPr/>
          <p:nvPr/>
        </p:nvPicPr>
        <p:blipFill>
          <a:blip r:embed="rId1"/>
          <a:srcRect l="4319" t="0" r="0" b="0"/>
          <a:stretch/>
        </p:blipFill>
        <p:spPr>
          <a:xfrm>
            <a:off x="0" y="1857240"/>
            <a:ext cx="6380280" cy="500076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2e"/>
                </a:solidFill>
                <a:latin typeface="Tahoma"/>
              </a:rPr>
              <a:t>На границе Замбии и Зимбабве, находится самый широкий в Африке водопад. Назовите водопад и реку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heel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395280" y="333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2e"/>
                </a:solidFill>
                <a:latin typeface="Tahoma"/>
              </a:rPr>
              <a:t>Водопад Виктория на реке Замбези.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AutoShape 4">
            <a:hlinkClick r:id="" action="ppaction://hlinkshowjump?jump=firstslide"/>
          </p:cNvPr>
          <p:cNvSpPr/>
          <p:nvPr/>
        </p:nvSpPr>
        <p:spPr>
          <a:xfrm>
            <a:off x="8172360" y="5950080"/>
            <a:ext cx="971640" cy="907920"/>
          </a:xfrm>
          <a:custGeom>
            <a:avLst/>
            <a:gdLst>
              <a:gd name="textAreaLeft" fmla="*/ 58680 w 971640"/>
              <a:gd name="textAreaRight" fmla="*/ 912960 w 971640"/>
              <a:gd name="textAreaTop" fmla="*/ 58680 h 907920"/>
              <a:gd name="textAreaBottom" fmla="*/ 849240 h 907920"/>
            </a:gdLst>
            <a:ahLst/>
            <a:rect l="textAreaLeft" t="textAreaTop" r="textAreaRight" b="textAreaBottom"/>
            <a:pathLst>
              <a:path w="23115" h="21600">
                <a:moveTo>
                  <a:pt x="0" y="0"/>
                </a:moveTo>
                <a:lnTo>
                  <a:pt x="23115" y="0"/>
                </a:lnTo>
                <a:lnTo>
                  <a:pt x="23115" y="21600"/>
                </a:lnTo>
                <a:lnTo>
                  <a:pt x="0" y="21600"/>
                </a:lnTo>
                <a:close/>
              </a:path>
              <a:path fill="lightenLess" w="23115" h="21600">
                <a:moveTo>
                  <a:pt x="0" y="0"/>
                </a:moveTo>
                <a:lnTo>
                  <a:pt x="23115" y="0"/>
                </a:lnTo>
                <a:lnTo>
                  <a:pt x="21715" y="1400"/>
                </a:lnTo>
                <a:lnTo>
                  <a:pt x="1400" y="1400"/>
                </a:lnTo>
                <a:close/>
              </a:path>
              <a:path fill="darken" w="23115" h="21600">
                <a:moveTo>
                  <a:pt x="23115" y="0"/>
                </a:moveTo>
                <a:lnTo>
                  <a:pt x="23115" y="21600"/>
                </a:lnTo>
                <a:lnTo>
                  <a:pt x="21715" y="20200"/>
                </a:lnTo>
                <a:lnTo>
                  <a:pt x="21715" y="1400"/>
                </a:lnTo>
                <a:close/>
              </a:path>
              <a:path fill="darkenLess" w="23115" h="21600">
                <a:moveTo>
                  <a:pt x="231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715" y="20200"/>
                </a:lnTo>
                <a:close/>
              </a:path>
              <a:path fill="lighten" w="231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115" h="21600">
                <a:moveTo>
                  <a:pt x="11558" y="3837"/>
                </a:moveTo>
                <a:lnTo>
                  <a:pt x="14134" y="6448"/>
                </a:lnTo>
                <a:lnTo>
                  <a:pt x="14134" y="4707"/>
                </a:lnTo>
                <a:lnTo>
                  <a:pt x="15910" y="4707"/>
                </a:lnTo>
                <a:lnTo>
                  <a:pt x="15910" y="8224"/>
                </a:lnTo>
                <a:lnTo>
                  <a:pt x="18521" y="10800"/>
                </a:lnTo>
                <a:lnTo>
                  <a:pt x="16867" y="10800"/>
                </a:lnTo>
                <a:lnTo>
                  <a:pt x="16867" y="17989"/>
                </a:lnTo>
                <a:lnTo>
                  <a:pt x="6248" y="17989"/>
                </a:lnTo>
                <a:lnTo>
                  <a:pt x="6248" y="10800"/>
                </a:lnTo>
                <a:lnTo>
                  <a:pt x="4595" y="10800"/>
                </a:lnTo>
                <a:close/>
              </a:path>
              <a:path fill="darkenLess" w="23115" h="21600">
                <a:moveTo>
                  <a:pt x="14134" y="6448"/>
                </a:moveTo>
                <a:lnTo>
                  <a:pt x="14134" y="4707"/>
                </a:lnTo>
                <a:lnTo>
                  <a:pt x="15910" y="4707"/>
                </a:lnTo>
                <a:lnTo>
                  <a:pt x="15910" y="8224"/>
                </a:lnTo>
                <a:close/>
              </a:path>
              <a:path fill="darkenLess" w="23115" h="21600">
                <a:moveTo>
                  <a:pt x="10635" y="14299"/>
                </a:moveTo>
                <a:lnTo>
                  <a:pt x="12480" y="14299"/>
                </a:lnTo>
                <a:lnTo>
                  <a:pt x="12480" y="17989"/>
                </a:lnTo>
                <a:lnTo>
                  <a:pt x="16867" y="17989"/>
                </a:lnTo>
                <a:lnTo>
                  <a:pt x="16867" y="10800"/>
                </a:lnTo>
                <a:lnTo>
                  <a:pt x="6248" y="10800"/>
                </a:lnTo>
                <a:lnTo>
                  <a:pt x="6248" y="17989"/>
                </a:lnTo>
                <a:lnTo>
                  <a:pt x="10635" y="17989"/>
                </a:lnTo>
                <a:close/>
              </a:path>
            </a:pathLst>
          </a:custGeom>
          <a:solidFill>
            <a:srgbClr val="b7c5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2" name="Picture 5" descr="C:\Users\Admin\Desktop\0_98d68_3afcc204_XL.jpg"/>
          <p:cNvPicPr/>
          <p:nvPr/>
        </p:nvPicPr>
        <p:blipFill>
          <a:blip r:embed="rId1"/>
          <a:stretch/>
        </p:blipFill>
        <p:spPr>
          <a:xfrm>
            <a:off x="971640" y="2349360"/>
            <a:ext cx="6535800" cy="414828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2e"/>
                </a:solidFill>
                <a:latin typeface="Tahoma"/>
              </a:rPr>
              <a:t>Назовите основные элементы береговой линии Африки</a:t>
            </a:r>
            <a:r>
              <a:rPr b="1" lang="ru-RU" sz="3200" spc="-1" strike="noStrike">
                <a:solidFill>
                  <a:srgbClr val="00002e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heel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24000" y="33336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2e"/>
                </a:solidFill>
                <a:latin typeface="Tahoma"/>
              </a:rPr>
              <a:t>Гибралтарский пр-в, Средиземное море, Суэцкий канал, Красное море, Баб-эль-Мандебский, Аденский з-в, Мозамбикский пр-в, Гвинейский з-в, о. Мадагаска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AutoShape 4">
            <a:hlinkClick r:id="" action="ppaction://hlinkshowjump?jump=firstslide"/>
          </p:cNvPr>
          <p:cNvSpPr/>
          <p:nvPr/>
        </p:nvSpPr>
        <p:spPr>
          <a:xfrm>
            <a:off x="8172360" y="6093000"/>
            <a:ext cx="971640" cy="765000"/>
          </a:xfrm>
          <a:custGeom>
            <a:avLst/>
            <a:gdLst>
              <a:gd name="textAreaLeft" fmla="*/ 49320 w 971640"/>
              <a:gd name="textAreaRight" fmla="*/ 922320 w 97164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27432" h="21600">
                <a:moveTo>
                  <a:pt x="0" y="0"/>
                </a:moveTo>
                <a:lnTo>
                  <a:pt x="27432" y="0"/>
                </a:lnTo>
                <a:lnTo>
                  <a:pt x="27432" y="21600"/>
                </a:lnTo>
                <a:lnTo>
                  <a:pt x="0" y="21600"/>
                </a:lnTo>
                <a:close/>
              </a:path>
              <a:path fill="lightenLess" w="27432" h="21600">
                <a:moveTo>
                  <a:pt x="0" y="0"/>
                </a:moveTo>
                <a:lnTo>
                  <a:pt x="27432" y="0"/>
                </a:lnTo>
                <a:lnTo>
                  <a:pt x="26032" y="1400"/>
                </a:lnTo>
                <a:lnTo>
                  <a:pt x="1400" y="1400"/>
                </a:lnTo>
                <a:close/>
              </a:path>
              <a:path fill="darken" w="27432" h="21600">
                <a:moveTo>
                  <a:pt x="27432" y="0"/>
                </a:moveTo>
                <a:lnTo>
                  <a:pt x="27432" y="21600"/>
                </a:lnTo>
                <a:lnTo>
                  <a:pt x="26032" y="20200"/>
                </a:lnTo>
                <a:lnTo>
                  <a:pt x="26032" y="1400"/>
                </a:lnTo>
                <a:close/>
              </a:path>
              <a:path fill="darkenLess" w="27432" h="21600">
                <a:moveTo>
                  <a:pt x="274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32" y="20200"/>
                </a:lnTo>
                <a:close/>
              </a:path>
              <a:path fill="lighten" w="274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32" h="21600">
                <a:moveTo>
                  <a:pt x="13716" y="3837"/>
                </a:moveTo>
                <a:lnTo>
                  <a:pt x="16292" y="6448"/>
                </a:lnTo>
                <a:lnTo>
                  <a:pt x="16292" y="4707"/>
                </a:lnTo>
                <a:lnTo>
                  <a:pt x="18068" y="4707"/>
                </a:lnTo>
                <a:lnTo>
                  <a:pt x="18068" y="8224"/>
                </a:lnTo>
                <a:lnTo>
                  <a:pt x="20679" y="10800"/>
                </a:lnTo>
                <a:lnTo>
                  <a:pt x="19025" y="10800"/>
                </a:lnTo>
                <a:lnTo>
                  <a:pt x="19025" y="17989"/>
                </a:lnTo>
                <a:lnTo>
                  <a:pt x="8407" y="17989"/>
                </a:lnTo>
                <a:lnTo>
                  <a:pt x="8407" y="10800"/>
                </a:lnTo>
                <a:lnTo>
                  <a:pt x="6753" y="10800"/>
                </a:lnTo>
                <a:close/>
              </a:path>
              <a:path fill="darkenLess" w="27432" h="21600">
                <a:moveTo>
                  <a:pt x="16292" y="6448"/>
                </a:moveTo>
                <a:lnTo>
                  <a:pt x="16292" y="4707"/>
                </a:lnTo>
                <a:lnTo>
                  <a:pt x="18068" y="4707"/>
                </a:lnTo>
                <a:lnTo>
                  <a:pt x="18068" y="8224"/>
                </a:lnTo>
                <a:close/>
              </a:path>
              <a:path fill="darkenLess" w="27432" h="21600">
                <a:moveTo>
                  <a:pt x="12793" y="14299"/>
                </a:moveTo>
                <a:lnTo>
                  <a:pt x="14638" y="14299"/>
                </a:lnTo>
                <a:lnTo>
                  <a:pt x="14638" y="17989"/>
                </a:lnTo>
                <a:lnTo>
                  <a:pt x="19025" y="17989"/>
                </a:lnTo>
                <a:lnTo>
                  <a:pt x="19025" y="10800"/>
                </a:lnTo>
                <a:lnTo>
                  <a:pt x="8407" y="10800"/>
                </a:lnTo>
                <a:lnTo>
                  <a:pt x="8407" y="17989"/>
                </a:lnTo>
                <a:lnTo>
                  <a:pt x="12793" y="17989"/>
                </a:lnTo>
                <a:close/>
              </a:path>
            </a:pathLst>
          </a:custGeom>
          <a:solidFill>
            <a:srgbClr val="b7c5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Picture 6" descr="C:\Users\Admin\Desktop\africa-map.jpg"/>
          <p:cNvPicPr/>
          <p:nvPr/>
        </p:nvPicPr>
        <p:blipFill>
          <a:blip r:embed="rId1"/>
          <a:stretch/>
        </p:blipFill>
        <p:spPr>
          <a:xfrm>
            <a:off x="0" y="1844640"/>
            <a:ext cx="4643280" cy="501336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1628280"/>
            <a:ext cx="8229600" cy="27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2e"/>
                </a:solidFill>
                <a:latin typeface="Tahoma"/>
              </a:rPr>
              <a:t>Какие названия берега имеет побережье Гвинейского залива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heel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539640" y="260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2e"/>
                </a:solidFill>
                <a:latin typeface="Tahoma"/>
              </a:rPr>
              <a:t>Берег Слоновой кости, Золотой берег, Невольничий берег, перцовый берег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AutoShape 4">
            <a:hlinkClick r:id="" action="ppaction://hlinkshowjump?jump=firstslide"/>
          </p:cNvPr>
          <p:cNvSpPr/>
          <p:nvPr/>
        </p:nvSpPr>
        <p:spPr>
          <a:xfrm>
            <a:off x="8172360" y="6021360"/>
            <a:ext cx="971640" cy="836640"/>
          </a:xfrm>
          <a:custGeom>
            <a:avLst/>
            <a:gdLst>
              <a:gd name="textAreaLeft" fmla="*/ 54000 w 971640"/>
              <a:gd name="textAreaRight" fmla="*/ 917640 w 971640"/>
              <a:gd name="textAreaTop" fmla="*/ 54000 h 836640"/>
              <a:gd name="textAreaBottom" fmla="*/ 782640 h 836640"/>
            </a:gdLst>
            <a:ahLst/>
            <a:rect l="textAreaLeft" t="textAreaTop" r="textAreaRight" b="textAreaBottom"/>
            <a:pathLst>
              <a:path w="25084" h="21600">
                <a:moveTo>
                  <a:pt x="0" y="0"/>
                </a:moveTo>
                <a:lnTo>
                  <a:pt x="25084" y="0"/>
                </a:lnTo>
                <a:lnTo>
                  <a:pt x="25084" y="21600"/>
                </a:lnTo>
                <a:lnTo>
                  <a:pt x="0" y="21600"/>
                </a:lnTo>
                <a:close/>
              </a:path>
              <a:path fill="lightenLess" w="25084" h="21600">
                <a:moveTo>
                  <a:pt x="0" y="0"/>
                </a:moveTo>
                <a:lnTo>
                  <a:pt x="25084" y="0"/>
                </a:lnTo>
                <a:lnTo>
                  <a:pt x="23684" y="1400"/>
                </a:lnTo>
                <a:lnTo>
                  <a:pt x="1400" y="1400"/>
                </a:lnTo>
                <a:close/>
              </a:path>
              <a:path fill="darken" w="25084" h="21600">
                <a:moveTo>
                  <a:pt x="25084" y="0"/>
                </a:moveTo>
                <a:lnTo>
                  <a:pt x="25084" y="21600"/>
                </a:lnTo>
                <a:lnTo>
                  <a:pt x="23684" y="20200"/>
                </a:lnTo>
                <a:lnTo>
                  <a:pt x="23684" y="1400"/>
                </a:lnTo>
                <a:close/>
              </a:path>
              <a:path fill="darkenLess" w="25084" h="21600">
                <a:moveTo>
                  <a:pt x="250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84" y="20200"/>
                </a:lnTo>
                <a:close/>
              </a:path>
              <a:path fill="lighten" w="250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84" h="21600">
                <a:moveTo>
                  <a:pt x="12542" y="3837"/>
                </a:moveTo>
                <a:lnTo>
                  <a:pt x="15118" y="6448"/>
                </a:lnTo>
                <a:lnTo>
                  <a:pt x="15118" y="4707"/>
                </a:lnTo>
                <a:lnTo>
                  <a:pt x="16894" y="4707"/>
                </a:lnTo>
                <a:lnTo>
                  <a:pt x="16894" y="8224"/>
                </a:lnTo>
                <a:lnTo>
                  <a:pt x="19505" y="10800"/>
                </a:lnTo>
                <a:lnTo>
                  <a:pt x="17851" y="10800"/>
                </a:lnTo>
                <a:lnTo>
                  <a:pt x="17851" y="17989"/>
                </a:lnTo>
                <a:lnTo>
                  <a:pt x="7233" y="17989"/>
                </a:lnTo>
                <a:lnTo>
                  <a:pt x="7233" y="10800"/>
                </a:lnTo>
                <a:lnTo>
                  <a:pt x="5579" y="10800"/>
                </a:lnTo>
                <a:close/>
              </a:path>
              <a:path fill="darkenLess" w="25084" h="21600">
                <a:moveTo>
                  <a:pt x="15118" y="6448"/>
                </a:moveTo>
                <a:lnTo>
                  <a:pt x="15118" y="4707"/>
                </a:lnTo>
                <a:lnTo>
                  <a:pt x="16894" y="4707"/>
                </a:lnTo>
                <a:lnTo>
                  <a:pt x="16894" y="8224"/>
                </a:lnTo>
                <a:close/>
              </a:path>
              <a:path fill="darkenLess" w="25084" h="21600">
                <a:moveTo>
                  <a:pt x="11619" y="14299"/>
                </a:moveTo>
                <a:lnTo>
                  <a:pt x="13465" y="14299"/>
                </a:lnTo>
                <a:lnTo>
                  <a:pt x="13465" y="17989"/>
                </a:lnTo>
                <a:lnTo>
                  <a:pt x="17851" y="17989"/>
                </a:lnTo>
                <a:lnTo>
                  <a:pt x="17851" y="10800"/>
                </a:lnTo>
                <a:lnTo>
                  <a:pt x="7233" y="10800"/>
                </a:lnTo>
                <a:lnTo>
                  <a:pt x="7233" y="17989"/>
                </a:lnTo>
                <a:lnTo>
                  <a:pt x="11619" y="17989"/>
                </a:lnTo>
                <a:close/>
              </a:path>
            </a:pathLst>
          </a:custGeom>
          <a:solidFill>
            <a:srgbClr val="b7c5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0" name="Picture 5" descr="C:\Users\Admin\Desktop\8752662f7cd0.jpg"/>
          <p:cNvPicPr/>
          <p:nvPr/>
        </p:nvPicPr>
        <p:blipFill>
          <a:blip r:embed="rId1"/>
          <a:stretch/>
        </p:blipFill>
        <p:spPr>
          <a:xfrm>
            <a:off x="0" y="2019240"/>
            <a:ext cx="6095880" cy="483876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1844280"/>
            <a:ext cx="82296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2e"/>
                </a:solidFill>
                <a:latin typeface="Tahoma"/>
              </a:rPr>
              <a:t>Назовите  крайние точки материка и океаны омывающие Африку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heel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AutoShape 4">
            <a:hlinkClick r:id="" action="ppaction://hlinkshowjump?jump=firstslide"/>
          </p:cNvPr>
          <p:cNvSpPr/>
          <p:nvPr/>
        </p:nvSpPr>
        <p:spPr>
          <a:xfrm>
            <a:off x="8101080" y="5950080"/>
            <a:ext cx="1042920" cy="907920"/>
          </a:xfrm>
          <a:custGeom>
            <a:avLst/>
            <a:gdLst>
              <a:gd name="textAreaLeft" fmla="*/ 58680 w 1042920"/>
              <a:gd name="textAreaRight" fmla="*/ 984240 w 1042920"/>
              <a:gd name="textAreaTop" fmla="*/ 58680 h 907920"/>
              <a:gd name="textAreaBottom" fmla="*/ 849240 h 907920"/>
            </a:gdLst>
            <a:ahLst/>
            <a:rect l="textAreaLeft" t="textAreaTop" r="textAreaRight" b="textAreaBottom"/>
            <a:pathLst>
              <a:path w="24810" h="21600">
                <a:moveTo>
                  <a:pt x="0" y="0"/>
                </a:moveTo>
                <a:lnTo>
                  <a:pt x="24810" y="0"/>
                </a:lnTo>
                <a:lnTo>
                  <a:pt x="24810" y="21600"/>
                </a:lnTo>
                <a:lnTo>
                  <a:pt x="0" y="21600"/>
                </a:lnTo>
                <a:close/>
              </a:path>
              <a:path fill="lightenLess" w="24810" h="21600">
                <a:moveTo>
                  <a:pt x="0" y="0"/>
                </a:moveTo>
                <a:lnTo>
                  <a:pt x="24810" y="0"/>
                </a:lnTo>
                <a:lnTo>
                  <a:pt x="23410" y="1400"/>
                </a:lnTo>
                <a:lnTo>
                  <a:pt x="1400" y="1400"/>
                </a:lnTo>
                <a:close/>
              </a:path>
              <a:path fill="darken" w="24810" h="21600">
                <a:moveTo>
                  <a:pt x="24810" y="0"/>
                </a:moveTo>
                <a:lnTo>
                  <a:pt x="24810" y="21600"/>
                </a:lnTo>
                <a:lnTo>
                  <a:pt x="23410" y="20200"/>
                </a:lnTo>
                <a:lnTo>
                  <a:pt x="23410" y="1400"/>
                </a:lnTo>
                <a:close/>
              </a:path>
              <a:path fill="darkenLess" w="24810" h="21600">
                <a:moveTo>
                  <a:pt x="248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410" y="20200"/>
                </a:lnTo>
                <a:close/>
              </a:path>
              <a:path fill="lighten" w="248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810" h="21600">
                <a:moveTo>
                  <a:pt x="12405" y="3837"/>
                </a:moveTo>
                <a:lnTo>
                  <a:pt x="14982" y="6448"/>
                </a:lnTo>
                <a:lnTo>
                  <a:pt x="14982" y="4707"/>
                </a:lnTo>
                <a:lnTo>
                  <a:pt x="16757" y="4707"/>
                </a:lnTo>
                <a:lnTo>
                  <a:pt x="16757" y="8224"/>
                </a:lnTo>
                <a:lnTo>
                  <a:pt x="19368" y="10800"/>
                </a:lnTo>
                <a:lnTo>
                  <a:pt x="17714" y="10800"/>
                </a:lnTo>
                <a:lnTo>
                  <a:pt x="17714" y="17989"/>
                </a:lnTo>
                <a:lnTo>
                  <a:pt x="7096" y="17989"/>
                </a:lnTo>
                <a:lnTo>
                  <a:pt x="7096" y="10800"/>
                </a:lnTo>
                <a:lnTo>
                  <a:pt x="5442" y="10800"/>
                </a:lnTo>
                <a:close/>
              </a:path>
              <a:path fill="darkenLess" w="24810" h="21600">
                <a:moveTo>
                  <a:pt x="14982" y="6448"/>
                </a:moveTo>
                <a:lnTo>
                  <a:pt x="14982" y="4707"/>
                </a:lnTo>
                <a:lnTo>
                  <a:pt x="16757" y="4707"/>
                </a:lnTo>
                <a:lnTo>
                  <a:pt x="16757" y="8224"/>
                </a:lnTo>
                <a:close/>
              </a:path>
              <a:path fill="darkenLess" w="24810" h="21600">
                <a:moveTo>
                  <a:pt x="11483" y="14299"/>
                </a:moveTo>
                <a:lnTo>
                  <a:pt x="13328" y="14299"/>
                </a:lnTo>
                <a:lnTo>
                  <a:pt x="13328" y="17989"/>
                </a:lnTo>
                <a:lnTo>
                  <a:pt x="17714" y="17989"/>
                </a:lnTo>
                <a:lnTo>
                  <a:pt x="17714" y="10800"/>
                </a:lnTo>
                <a:lnTo>
                  <a:pt x="7096" y="10800"/>
                </a:lnTo>
                <a:lnTo>
                  <a:pt x="7096" y="17989"/>
                </a:lnTo>
                <a:lnTo>
                  <a:pt x="11483" y="17989"/>
                </a:lnTo>
                <a:close/>
              </a:path>
            </a:pathLst>
          </a:custGeom>
          <a:solidFill>
            <a:srgbClr val="b7c5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3" name="Picture 5" descr="C:\Users\Admin\Desktop\0028-029-Urok-materiki.jpg"/>
          <p:cNvPicPr/>
          <p:nvPr/>
        </p:nvPicPr>
        <p:blipFill>
          <a:blip r:embed="rId1"/>
          <a:stretch/>
        </p:blipFill>
        <p:spPr>
          <a:xfrm>
            <a:off x="539640" y="692280"/>
            <a:ext cx="7632720" cy="464184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457200" y="1989000"/>
            <a:ext cx="8229600" cy="25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2e"/>
                </a:solidFill>
                <a:latin typeface="Tahoma"/>
              </a:rPr>
              <a:t>Название стране дало озеро</a:t>
            </a:r>
            <a:r>
              <a:rPr b="1" lang="ru-RU" sz="4000" spc="-1" strike="noStrike">
                <a:solidFill>
                  <a:srgbClr val="00002e"/>
                </a:solidFill>
                <a:latin typeface="Tahoma"/>
              </a:rPr>
              <a:t>?</a:t>
            </a:r>
            <a:r>
              <a:rPr b="1" lang="ru-RU" sz="4000" spc="-1" strike="noStrike">
                <a:solidFill>
                  <a:srgbClr val="00002e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heel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395280" y="1484280"/>
            <a:ext cx="8353440" cy="282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2e"/>
                </a:solidFill>
                <a:latin typeface="Tahoma"/>
              </a:rPr>
              <a:t>От экватора до Средиземного моря несет свои воды эта река, даря влагу девяти государствам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heel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684360" y="259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2e"/>
                </a:solidFill>
                <a:latin typeface="Tahoma"/>
              </a:rPr>
              <a:t>Озеро Чад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AutoShape 4">
            <a:hlinkClick r:id="" action="ppaction://hlinkshowjump?jump=firstslide"/>
          </p:cNvPr>
          <p:cNvSpPr/>
          <p:nvPr/>
        </p:nvSpPr>
        <p:spPr>
          <a:xfrm>
            <a:off x="8244000" y="6021360"/>
            <a:ext cx="900000" cy="836640"/>
          </a:xfrm>
          <a:custGeom>
            <a:avLst/>
            <a:gdLst>
              <a:gd name="textAreaLeft" fmla="*/ 54000 w 900000"/>
              <a:gd name="textAreaRight" fmla="*/ 846000 w 900000"/>
              <a:gd name="textAreaTop" fmla="*/ 54000 h 836640"/>
              <a:gd name="textAreaBottom" fmla="*/ 782640 h 836640"/>
            </a:gdLst>
            <a:ahLst/>
            <a:rect l="textAreaLeft" t="textAreaTop" r="textAreaRight" b="textAreaBottom"/>
            <a:pathLst>
              <a:path w="23235" h="21600">
                <a:moveTo>
                  <a:pt x="0" y="0"/>
                </a:moveTo>
                <a:lnTo>
                  <a:pt x="23235" y="0"/>
                </a:lnTo>
                <a:lnTo>
                  <a:pt x="23235" y="21600"/>
                </a:lnTo>
                <a:lnTo>
                  <a:pt x="0" y="21600"/>
                </a:lnTo>
                <a:close/>
              </a:path>
              <a:path fill="lightenLess" w="23235" h="21600">
                <a:moveTo>
                  <a:pt x="0" y="0"/>
                </a:moveTo>
                <a:lnTo>
                  <a:pt x="23235" y="0"/>
                </a:lnTo>
                <a:lnTo>
                  <a:pt x="21835" y="1400"/>
                </a:lnTo>
                <a:lnTo>
                  <a:pt x="1400" y="1400"/>
                </a:lnTo>
                <a:close/>
              </a:path>
              <a:path fill="darken" w="23235" h="21600">
                <a:moveTo>
                  <a:pt x="23235" y="0"/>
                </a:moveTo>
                <a:lnTo>
                  <a:pt x="23235" y="21600"/>
                </a:lnTo>
                <a:lnTo>
                  <a:pt x="21835" y="20200"/>
                </a:lnTo>
                <a:lnTo>
                  <a:pt x="21835" y="1400"/>
                </a:lnTo>
                <a:close/>
              </a:path>
              <a:path fill="darkenLess" w="23235" h="21600">
                <a:moveTo>
                  <a:pt x="232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35" y="20200"/>
                </a:lnTo>
                <a:close/>
              </a:path>
              <a:path fill="lighten" w="232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35" h="21600">
                <a:moveTo>
                  <a:pt x="11618" y="3837"/>
                </a:moveTo>
                <a:lnTo>
                  <a:pt x="14194" y="6448"/>
                </a:lnTo>
                <a:lnTo>
                  <a:pt x="14194" y="4707"/>
                </a:lnTo>
                <a:lnTo>
                  <a:pt x="15969" y="4707"/>
                </a:lnTo>
                <a:lnTo>
                  <a:pt x="15969" y="8224"/>
                </a:lnTo>
                <a:lnTo>
                  <a:pt x="18581" y="10800"/>
                </a:lnTo>
                <a:lnTo>
                  <a:pt x="16927" y="10800"/>
                </a:lnTo>
                <a:lnTo>
                  <a:pt x="16927" y="17989"/>
                </a:lnTo>
                <a:lnTo>
                  <a:pt x="6308" y="17989"/>
                </a:lnTo>
                <a:lnTo>
                  <a:pt x="6308" y="10800"/>
                </a:lnTo>
                <a:lnTo>
                  <a:pt x="4655" y="10800"/>
                </a:lnTo>
                <a:close/>
              </a:path>
              <a:path fill="darkenLess" w="23235" h="21600">
                <a:moveTo>
                  <a:pt x="14194" y="6448"/>
                </a:moveTo>
                <a:lnTo>
                  <a:pt x="14194" y="4707"/>
                </a:lnTo>
                <a:lnTo>
                  <a:pt x="15969" y="4707"/>
                </a:lnTo>
                <a:lnTo>
                  <a:pt x="15969" y="8224"/>
                </a:lnTo>
                <a:close/>
              </a:path>
              <a:path fill="darkenLess" w="23235" h="21600">
                <a:moveTo>
                  <a:pt x="10695" y="14299"/>
                </a:moveTo>
                <a:lnTo>
                  <a:pt x="12540" y="14299"/>
                </a:lnTo>
                <a:lnTo>
                  <a:pt x="12540" y="17989"/>
                </a:lnTo>
                <a:lnTo>
                  <a:pt x="16927" y="17989"/>
                </a:lnTo>
                <a:lnTo>
                  <a:pt x="16927" y="10800"/>
                </a:lnTo>
                <a:lnTo>
                  <a:pt x="6308" y="10800"/>
                </a:lnTo>
                <a:lnTo>
                  <a:pt x="6308" y="17989"/>
                </a:lnTo>
                <a:lnTo>
                  <a:pt x="10695" y="17989"/>
                </a:lnTo>
                <a:close/>
              </a:path>
            </a:pathLst>
          </a:custGeom>
          <a:solidFill>
            <a:srgbClr val="b7c5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7" name="Picture 5" descr="C:\Users\Admin\Desktop\1303810419_ozero-4.jpg"/>
          <p:cNvPicPr/>
          <p:nvPr/>
        </p:nvPicPr>
        <p:blipFill>
          <a:blip r:embed="rId1"/>
          <a:stretch/>
        </p:blipFill>
        <p:spPr>
          <a:xfrm>
            <a:off x="1238400" y="1262160"/>
            <a:ext cx="6667200" cy="433368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57200" y="98064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2e"/>
                </a:solidFill>
                <a:latin typeface="Tahoma"/>
              </a:rPr>
              <a:t>Великая древняя цивилизация расположенная на двух материках, давшая миру 365-дневный календарь, папирус и иероглифическую письменность, начало арифметики и геометрии. Столица – крупнейший город арабского мира</a:t>
            </a:r>
            <a:r>
              <a:rPr b="1" lang="ru-RU" sz="3200" spc="-1" strike="noStrike">
                <a:solidFill>
                  <a:srgbClr val="00002e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heel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395280" y="115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2e"/>
                </a:solidFill>
                <a:latin typeface="Tahoma"/>
              </a:rPr>
              <a:t>Страна - Египет, столица - Каир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AutoShape 4">
            <a:hlinkClick r:id="" action="ppaction://hlinkshowjump?jump=firstslide"/>
          </p:cNvPr>
          <p:cNvSpPr/>
          <p:nvPr/>
        </p:nvSpPr>
        <p:spPr>
          <a:xfrm>
            <a:off x="8028000" y="5950080"/>
            <a:ext cx="1116000" cy="907920"/>
          </a:xfrm>
          <a:custGeom>
            <a:avLst/>
            <a:gdLst>
              <a:gd name="textAreaLeft" fmla="*/ 58680 w 1116000"/>
              <a:gd name="textAreaRight" fmla="*/ 1057320 w 1116000"/>
              <a:gd name="textAreaTop" fmla="*/ 58680 h 907920"/>
              <a:gd name="textAreaBottom" fmla="*/ 849240 h 907920"/>
            </a:gdLst>
            <a:ahLst/>
            <a:rect l="textAreaLeft" t="textAreaTop" r="textAreaRight" b="textAreaBottom"/>
            <a:pathLst>
              <a:path w="26548" h="21600">
                <a:moveTo>
                  <a:pt x="0" y="0"/>
                </a:moveTo>
                <a:lnTo>
                  <a:pt x="26548" y="0"/>
                </a:lnTo>
                <a:lnTo>
                  <a:pt x="26548" y="21600"/>
                </a:lnTo>
                <a:lnTo>
                  <a:pt x="0" y="21600"/>
                </a:lnTo>
                <a:close/>
              </a:path>
              <a:path fill="lightenLess" w="26548" h="21600">
                <a:moveTo>
                  <a:pt x="0" y="0"/>
                </a:moveTo>
                <a:lnTo>
                  <a:pt x="26548" y="0"/>
                </a:lnTo>
                <a:lnTo>
                  <a:pt x="25148" y="1400"/>
                </a:lnTo>
                <a:lnTo>
                  <a:pt x="1400" y="1400"/>
                </a:lnTo>
                <a:close/>
              </a:path>
              <a:path fill="darken" w="26548" h="21600">
                <a:moveTo>
                  <a:pt x="26548" y="0"/>
                </a:moveTo>
                <a:lnTo>
                  <a:pt x="26548" y="21600"/>
                </a:lnTo>
                <a:lnTo>
                  <a:pt x="25148" y="20200"/>
                </a:lnTo>
                <a:lnTo>
                  <a:pt x="25148" y="1400"/>
                </a:lnTo>
                <a:close/>
              </a:path>
              <a:path fill="darkenLess" w="26548" h="21600">
                <a:moveTo>
                  <a:pt x="265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48" y="20200"/>
                </a:lnTo>
                <a:close/>
              </a:path>
              <a:path fill="lighten" w="265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48" h="21600">
                <a:moveTo>
                  <a:pt x="13274" y="3837"/>
                </a:moveTo>
                <a:lnTo>
                  <a:pt x="15850" y="6448"/>
                </a:lnTo>
                <a:lnTo>
                  <a:pt x="15850" y="4707"/>
                </a:lnTo>
                <a:lnTo>
                  <a:pt x="17626" y="4707"/>
                </a:lnTo>
                <a:lnTo>
                  <a:pt x="17626" y="8224"/>
                </a:lnTo>
                <a:lnTo>
                  <a:pt x="20237" y="10800"/>
                </a:lnTo>
                <a:lnTo>
                  <a:pt x="18583" y="10800"/>
                </a:lnTo>
                <a:lnTo>
                  <a:pt x="18583" y="17989"/>
                </a:lnTo>
                <a:lnTo>
                  <a:pt x="7965" y="17989"/>
                </a:lnTo>
                <a:lnTo>
                  <a:pt x="7965" y="10800"/>
                </a:lnTo>
                <a:lnTo>
                  <a:pt x="6311" y="10800"/>
                </a:lnTo>
                <a:close/>
              </a:path>
              <a:path fill="darkenLess" w="26548" h="21600">
                <a:moveTo>
                  <a:pt x="15850" y="6448"/>
                </a:moveTo>
                <a:lnTo>
                  <a:pt x="15850" y="4707"/>
                </a:lnTo>
                <a:lnTo>
                  <a:pt x="17626" y="4707"/>
                </a:lnTo>
                <a:lnTo>
                  <a:pt x="17626" y="8224"/>
                </a:lnTo>
                <a:close/>
              </a:path>
              <a:path fill="darkenLess" w="26548" h="21600">
                <a:moveTo>
                  <a:pt x="12352" y="14299"/>
                </a:moveTo>
                <a:lnTo>
                  <a:pt x="14197" y="14299"/>
                </a:lnTo>
                <a:lnTo>
                  <a:pt x="14197" y="17989"/>
                </a:lnTo>
                <a:lnTo>
                  <a:pt x="18583" y="17989"/>
                </a:lnTo>
                <a:lnTo>
                  <a:pt x="18583" y="10800"/>
                </a:lnTo>
                <a:lnTo>
                  <a:pt x="7965" y="10800"/>
                </a:lnTo>
                <a:lnTo>
                  <a:pt x="7965" y="17989"/>
                </a:lnTo>
                <a:lnTo>
                  <a:pt x="12352" y="17989"/>
                </a:lnTo>
                <a:close/>
              </a:path>
            </a:pathLst>
          </a:custGeom>
          <a:solidFill>
            <a:srgbClr val="b7c5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1" name="Picture 5" descr="C:\Users\Admin\Desktop\1322005342_egipet.jpg"/>
          <p:cNvPicPr/>
          <p:nvPr/>
        </p:nvPicPr>
        <p:blipFill>
          <a:blip r:embed="rId1"/>
          <a:stretch/>
        </p:blipFill>
        <p:spPr>
          <a:xfrm>
            <a:off x="1474920" y="126828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1773000"/>
            <a:ext cx="8229600" cy="262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2e"/>
                </a:solidFill>
                <a:latin typeface="Tahoma"/>
              </a:rPr>
              <a:t>Какое дерево выращивается в оазисах пустынь Африки. Какое значение этого дерева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heel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179280" y="404640"/>
            <a:ext cx="856944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2e"/>
                </a:solidFill>
                <a:latin typeface="Tahoma"/>
              </a:rPr>
              <a:t>Финиковая пальма - это и тень, и пища, и строй материал. Из волокон плетут циновки и веревк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63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AutoShape 4">
            <a:hlinkClick r:id="" action="ppaction://hlinkshowjump?jump=firstslide"/>
          </p:cNvPr>
          <p:cNvSpPr/>
          <p:nvPr/>
        </p:nvSpPr>
        <p:spPr>
          <a:xfrm>
            <a:off x="8101080" y="6021360"/>
            <a:ext cx="1042920" cy="836640"/>
          </a:xfrm>
          <a:custGeom>
            <a:avLst/>
            <a:gdLst>
              <a:gd name="textAreaLeft" fmla="*/ 54000 w 1042920"/>
              <a:gd name="textAreaRight" fmla="*/ 988920 w 1042920"/>
              <a:gd name="textAreaTop" fmla="*/ 54000 h 836640"/>
              <a:gd name="textAreaBottom" fmla="*/ 782640 h 836640"/>
            </a:gdLst>
            <a:ahLst/>
            <a:rect l="textAreaLeft" t="textAreaTop" r="textAreaRight" b="textAreaBottom"/>
            <a:pathLst>
              <a:path w="26923" h="21600">
                <a:moveTo>
                  <a:pt x="0" y="0"/>
                </a:moveTo>
                <a:lnTo>
                  <a:pt x="26923" y="0"/>
                </a:lnTo>
                <a:lnTo>
                  <a:pt x="26923" y="21600"/>
                </a:lnTo>
                <a:lnTo>
                  <a:pt x="0" y="21600"/>
                </a:lnTo>
                <a:close/>
              </a:path>
              <a:path fill="lightenLess" w="26923" h="21600">
                <a:moveTo>
                  <a:pt x="0" y="0"/>
                </a:moveTo>
                <a:lnTo>
                  <a:pt x="26923" y="0"/>
                </a:lnTo>
                <a:lnTo>
                  <a:pt x="25523" y="1400"/>
                </a:lnTo>
                <a:lnTo>
                  <a:pt x="1400" y="1400"/>
                </a:lnTo>
                <a:close/>
              </a:path>
              <a:path fill="darken" w="26923" h="21600">
                <a:moveTo>
                  <a:pt x="26923" y="0"/>
                </a:moveTo>
                <a:lnTo>
                  <a:pt x="26923" y="21600"/>
                </a:lnTo>
                <a:lnTo>
                  <a:pt x="25523" y="20200"/>
                </a:lnTo>
                <a:lnTo>
                  <a:pt x="25523" y="1400"/>
                </a:lnTo>
                <a:close/>
              </a:path>
              <a:path fill="darkenLess" w="26923" h="21600">
                <a:moveTo>
                  <a:pt x="269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23" y="20200"/>
                </a:lnTo>
                <a:close/>
              </a:path>
              <a:path fill="lighten" w="269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23" h="21600">
                <a:moveTo>
                  <a:pt x="13462" y="3837"/>
                </a:moveTo>
                <a:lnTo>
                  <a:pt x="16038" y="6448"/>
                </a:lnTo>
                <a:lnTo>
                  <a:pt x="16038" y="4707"/>
                </a:lnTo>
                <a:lnTo>
                  <a:pt x="17814" y="4707"/>
                </a:lnTo>
                <a:lnTo>
                  <a:pt x="17814" y="8224"/>
                </a:lnTo>
                <a:lnTo>
                  <a:pt x="20425" y="10800"/>
                </a:lnTo>
                <a:lnTo>
                  <a:pt x="18771" y="10800"/>
                </a:lnTo>
                <a:lnTo>
                  <a:pt x="18771" y="17989"/>
                </a:lnTo>
                <a:lnTo>
                  <a:pt x="8152" y="17989"/>
                </a:lnTo>
                <a:lnTo>
                  <a:pt x="8152" y="10800"/>
                </a:lnTo>
                <a:lnTo>
                  <a:pt x="6499" y="10800"/>
                </a:lnTo>
                <a:close/>
              </a:path>
              <a:path fill="darkenLess" w="26923" h="21600">
                <a:moveTo>
                  <a:pt x="16038" y="6448"/>
                </a:moveTo>
                <a:lnTo>
                  <a:pt x="16038" y="4707"/>
                </a:lnTo>
                <a:lnTo>
                  <a:pt x="17814" y="4707"/>
                </a:lnTo>
                <a:lnTo>
                  <a:pt x="17814" y="8224"/>
                </a:lnTo>
                <a:close/>
              </a:path>
              <a:path fill="darkenLess" w="26923" h="21600">
                <a:moveTo>
                  <a:pt x="12539" y="14299"/>
                </a:moveTo>
                <a:lnTo>
                  <a:pt x="14384" y="14299"/>
                </a:lnTo>
                <a:lnTo>
                  <a:pt x="14384" y="17989"/>
                </a:lnTo>
                <a:lnTo>
                  <a:pt x="18771" y="17989"/>
                </a:lnTo>
                <a:lnTo>
                  <a:pt x="18771" y="10800"/>
                </a:lnTo>
                <a:lnTo>
                  <a:pt x="8152" y="10800"/>
                </a:lnTo>
                <a:lnTo>
                  <a:pt x="8152" y="17989"/>
                </a:lnTo>
                <a:lnTo>
                  <a:pt x="12539" y="17989"/>
                </a:lnTo>
                <a:close/>
              </a:path>
            </a:pathLst>
          </a:custGeom>
          <a:solidFill>
            <a:srgbClr val="b7c5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5" name="Picture 5" descr="C:\Users\Admin\Desktop\100419708_finikvprirode.jpg"/>
          <p:cNvPicPr/>
          <p:nvPr/>
        </p:nvPicPr>
        <p:blipFill>
          <a:blip r:embed="rId1"/>
          <a:stretch/>
        </p:blipFill>
        <p:spPr>
          <a:xfrm>
            <a:off x="0" y="2170080"/>
            <a:ext cx="7031160" cy="468792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57200" y="2133720"/>
            <a:ext cx="8229600" cy="276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2e"/>
                </a:solidFill>
                <a:latin typeface="Tahoma"/>
              </a:rPr>
              <a:t>Какое условие повлияло на образование пустыни Намиб на побережье Африки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heel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24000" y="331560"/>
            <a:ext cx="842472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2e"/>
                </a:solidFill>
                <a:latin typeface="Tahoma"/>
              </a:rPr>
              <a:t>Бенгельское холодное течени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2707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AutoShape 4">
            <a:hlinkClick r:id="" action="ppaction://hlinkshowjump?jump=firstslide"/>
          </p:cNvPr>
          <p:cNvSpPr/>
          <p:nvPr/>
        </p:nvSpPr>
        <p:spPr>
          <a:xfrm>
            <a:off x="8028000" y="5950080"/>
            <a:ext cx="1116000" cy="907920"/>
          </a:xfrm>
          <a:custGeom>
            <a:avLst/>
            <a:gdLst>
              <a:gd name="textAreaLeft" fmla="*/ 58680 w 1116000"/>
              <a:gd name="textAreaRight" fmla="*/ 1057320 w 1116000"/>
              <a:gd name="textAreaTop" fmla="*/ 58680 h 907920"/>
              <a:gd name="textAreaBottom" fmla="*/ 849240 h 907920"/>
            </a:gdLst>
            <a:ahLst/>
            <a:rect l="textAreaLeft" t="textAreaTop" r="textAreaRight" b="textAreaBottom"/>
            <a:pathLst>
              <a:path w="26548" h="21600">
                <a:moveTo>
                  <a:pt x="0" y="0"/>
                </a:moveTo>
                <a:lnTo>
                  <a:pt x="26548" y="0"/>
                </a:lnTo>
                <a:lnTo>
                  <a:pt x="26548" y="21600"/>
                </a:lnTo>
                <a:lnTo>
                  <a:pt x="0" y="21600"/>
                </a:lnTo>
                <a:close/>
              </a:path>
              <a:path fill="lightenLess" w="26548" h="21600">
                <a:moveTo>
                  <a:pt x="0" y="0"/>
                </a:moveTo>
                <a:lnTo>
                  <a:pt x="26548" y="0"/>
                </a:lnTo>
                <a:lnTo>
                  <a:pt x="25148" y="1400"/>
                </a:lnTo>
                <a:lnTo>
                  <a:pt x="1400" y="1400"/>
                </a:lnTo>
                <a:close/>
              </a:path>
              <a:path fill="darken" w="26548" h="21600">
                <a:moveTo>
                  <a:pt x="26548" y="0"/>
                </a:moveTo>
                <a:lnTo>
                  <a:pt x="26548" y="21600"/>
                </a:lnTo>
                <a:lnTo>
                  <a:pt x="25148" y="20200"/>
                </a:lnTo>
                <a:lnTo>
                  <a:pt x="25148" y="1400"/>
                </a:lnTo>
                <a:close/>
              </a:path>
              <a:path fill="darkenLess" w="26548" h="21600">
                <a:moveTo>
                  <a:pt x="265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48" y="20200"/>
                </a:lnTo>
                <a:close/>
              </a:path>
              <a:path fill="lighten" w="265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48" h="21600">
                <a:moveTo>
                  <a:pt x="13274" y="3837"/>
                </a:moveTo>
                <a:lnTo>
                  <a:pt x="15850" y="6448"/>
                </a:lnTo>
                <a:lnTo>
                  <a:pt x="15850" y="4707"/>
                </a:lnTo>
                <a:lnTo>
                  <a:pt x="17626" y="4707"/>
                </a:lnTo>
                <a:lnTo>
                  <a:pt x="17626" y="8224"/>
                </a:lnTo>
                <a:lnTo>
                  <a:pt x="20237" y="10800"/>
                </a:lnTo>
                <a:lnTo>
                  <a:pt x="18583" y="10800"/>
                </a:lnTo>
                <a:lnTo>
                  <a:pt x="18583" y="17989"/>
                </a:lnTo>
                <a:lnTo>
                  <a:pt x="7965" y="17989"/>
                </a:lnTo>
                <a:lnTo>
                  <a:pt x="7965" y="10800"/>
                </a:lnTo>
                <a:lnTo>
                  <a:pt x="6311" y="10800"/>
                </a:lnTo>
                <a:close/>
              </a:path>
              <a:path fill="darkenLess" w="26548" h="21600">
                <a:moveTo>
                  <a:pt x="15850" y="6448"/>
                </a:moveTo>
                <a:lnTo>
                  <a:pt x="15850" y="4707"/>
                </a:lnTo>
                <a:lnTo>
                  <a:pt x="17626" y="4707"/>
                </a:lnTo>
                <a:lnTo>
                  <a:pt x="17626" y="8224"/>
                </a:lnTo>
                <a:close/>
              </a:path>
              <a:path fill="darkenLess" w="26548" h="21600">
                <a:moveTo>
                  <a:pt x="12352" y="14299"/>
                </a:moveTo>
                <a:lnTo>
                  <a:pt x="14197" y="14299"/>
                </a:lnTo>
                <a:lnTo>
                  <a:pt x="14197" y="17989"/>
                </a:lnTo>
                <a:lnTo>
                  <a:pt x="18583" y="17989"/>
                </a:lnTo>
                <a:lnTo>
                  <a:pt x="18583" y="10800"/>
                </a:lnTo>
                <a:lnTo>
                  <a:pt x="7965" y="10800"/>
                </a:lnTo>
                <a:lnTo>
                  <a:pt x="7965" y="17989"/>
                </a:lnTo>
                <a:lnTo>
                  <a:pt x="12352" y="17989"/>
                </a:lnTo>
                <a:close/>
              </a:path>
            </a:pathLst>
          </a:custGeom>
          <a:solidFill>
            <a:srgbClr val="b7c5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9" name="Picture 5" descr="C:\Users\Admin\Desktop\4.jpg"/>
          <p:cNvPicPr/>
          <p:nvPr/>
        </p:nvPicPr>
        <p:blipFill>
          <a:blip r:embed="rId1"/>
          <a:stretch/>
        </p:blipFill>
        <p:spPr>
          <a:xfrm>
            <a:off x="324000" y="1773360"/>
            <a:ext cx="6381720" cy="479088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457200" y="2133720"/>
            <a:ext cx="8229600" cy="24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2e"/>
                </a:solidFill>
                <a:latin typeface="Tahoma"/>
              </a:rPr>
              <a:t>Для какой природной зоны характерны гепарды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heel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684360" y="40464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2e"/>
                </a:solidFill>
                <a:latin typeface="Tahoma"/>
              </a:rPr>
              <a:t>Саванн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AutoShape 4">
            <a:hlinkClick r:id="" action="ppaction://hlinkshowjump?jump=firstslide"/>
          </p:cNvPr>
          <p:cNvSpPr/>
          <p:nvPr/>
        </p:nvSpPr>
        <p:spPr>
          <a:xfrm>
            <a:off x="8172360" y="5950080"/>
            <a:ext cx="971640" cy="907920"/>
          </a:xfrm>
          <a:custGeom>
            <a:avLst/>
            <a:gdLst>
              <a:gd name="textAreaLeft" fmla="*/ 58680 w 971640"/>
              <a:gd name="textAreaRight" fmla="*/ 912960 w 971640"/>
              <a:gd name="textAreaTop" fmla="*/ 58680 h 907920"/>
              <a:gd name="textAreaBottom" fmla="*/ 849240 h 907920"/>
            </a:gdLst>
            <a:ahLst/>
            <a:rect l="textAreaLeft" t="textAreaTop" r="textAreaRight" b="textAreaBottom"/>
            <a:pathLst>
              <a:path w="23115" h="21600">
                <a:moveTo>
                  <a:pt x="0" y="0"/>
                </a:moveTo>
                <a:lnTo>
                  <a:pt x="23115" y="0"/>
                </a:lnTo>
                <a:lnTo>
                  <a:pt x="23115" y="21600"/>
                </a:lnTo>
                <a:lnTo>
                  <a:pt x="0" y="21600"/>
                </a:lnTo>
                <a:close/>
              </a:path>
              <a:path fill="lightenLess" w="23115" h="21600">
                <a:moveTo>
                  <a:pt x="0" y="0"/>
                </a:moveTo>
                <a:lnTo>
                  <a:pt x="23115" y="0"/>
                </a:lnTo>
                <a:lnTo>
                  <a:pt x="21715" y="1400"/>
                </a:lnTo>
                <a:lnTo>
                  <a:pt x="1400" y="1400"/>
                </a:lnTo>
                <a:close/>
              </a:path>
              <a:path fill="darken" w="23115" h="21600">
                <a:moveTo>
                  <a:pt x="23115" y="0"/>
                </a:moveTo>
                <a:lnTo>
                  <a:pt x="23115" y="21600"/>
                </a:lnTo>
                <a:lnTo>
                  <a:pt x="21715" y="20200"/>
                </a:lnTo>
                <a:lnTo>
                  <a:pt x="21715" y="1400"/>
                </a:lnTo>
                <a:close/>
              </a:path>
              <a:path fill="darkenLess" w="23115" h="21600">
                <a:moveTo>
                  <a:pt x="231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715" y="20200"/>
                </a:lnTo>
                <a:close/>
              </a:path>
              <a:path fill="lighten" w="231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115" h="21600">
                <a:moveTo>
                  <a:pt x="11558" y="3837"/>
                </a:moveTo>
                <a:lnTo>
                  <a:pt x="14134" y="6448"/>
                </a:lnTo>
                <a:lnTo>
                  <a:pt x="14134" y="4707"/>
                </a:lnTo>
                <a:lnTo>
                  <a:pt x="15910" y="4707"/>
                </a:lnTo>
                <a:lnTo>
                  <a:pt x="15910" y="8224"/>
                </a:lnTo>
                <a:lnTo>
                  <a:pt x="18521" y="10800"/>
                </a:lnTo>
                <a:lnTo>
                  <a:pt x="16867" y="10800"/>
                </a:lnTo>
                <a:lnTo>
                  <a:pt x="16867" y="17989"/>
                </a:lnTo>
                <a:lnTo>
                  <a:pt x="6248" y="17989"/>
                </a:lnTo>
                <a:lnTo>
                  <a:pt x="6248" y="10800"/>
                </a:lnTo>
                <a:lnTo>
                  <a:pt x="4595" y="10800"/>
                </a:lnTo>
                <a:close/>
              </a:path>
              <a:path fill="darkenLess" w="23115" h="21600">
                <a:moveTo>
                  <a:pt x="14134" y="6448"/>
                </a:moveTo>
                <a:lnTo>
                  <a:pt x="14134" y="4707"/>
                </a:lnTo>
                <a:lnTo>
                  <a:pt x="15910" y="4707"/>
                </a:lnTo>
                <a:lnTo>
                  <a:pt x="15910" y="8224"/>
                </a:lnTo>
                <a:close/>
              </a:path>
              <a:path fill="darkenLess" w="23115" h="21600">
                <a:moveTo>
                  <a:pt x="10635" y="14299"/>
                </a:moveTo>
                <a:lnTo>
                  <a:pt x="12480" y="14299"/>
                </a:lnTo>
                <a:lnTo>
                  <a:pt x="12480" y="17989"/>
                </a:lnTo>
                <a:lnTo>
                  <a:pt x="16867" y="17989"/>
                </a:lnTo>
                <a:lnTo>
                  <a:pt x="16867" y="10800"/>
                </a:lnTo>
                <a:lnTo>
                  <a:pt x="6248" y="10800"/>
                </a:lnTo>
                <a:lnTo>
                  <a:pt x="6248" y="17989"/>
                </a:lnTo>
                <a:lnTo>
                  <a:pt x="10635" y="17989"/>
                </a:lnTo>
                <a:close/>
              </a:path>
            </a:pathLst>
          </a:custGeom>
          <a:solidFill>
            <a:srgbClr val="b7c5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3" name="Picture 5" descr="C:\Users\Admin\Desktop\savanni-afriki.jpg"/>
          <p:cNvPicPr/>
          <p:nvPr/>
        </p:nvPicPr>
        <p:blipFill>
          <a:blip r:embed="rId1"/>
          <a:stretch/>
        </p:blipFill>
        <p:spPr>
          <a:xfrm>
            <a:off x="1474920" y="1484280"/>
            <a:ext cx="6191280" cy="464832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457200" y="1700280"/>
            <a:ext cx="8229600" cy="30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2e"/>
                </a:solidFill>
                <a:latin typeface="Tahoma"/>
              </a:rPr>
              <a:t>Это необычное дерево, диаметр может достигать 10м. Белая кисловатая мякоть плодов - любимое лакомство обезьян. Из него делают напиток похожий на лимонад. Дерево кормит, поит и одевает людей. Живёт оно до 300 лет. Где растёт и что это за дерево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heel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1332000" y="404640"/>
            <a:ext cx="64008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2e"/>
                </a:solidFill>
                <a:latin typeface="Tahoma"/>
              </a:rPr>
              <a:t>Река Ни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AutoShape 7">
            <a:hlinkClick r:id="" action="ppaction://hlinkshowjump?jump=firstslide"/>
          </p:cNvPr>
          <p:cNvSpPr/>
          <p:nvPr/>
        </p:nvSpPr>
        <p:spPr>
          <a:xfrm>
            <a:off x="8317080" y="6165720"/>
            <a:ext cx="826920" cy="692280"/>
          </a:xfrm>
          <a:custGeom>
            <a:avLst/>
            <a:gdLst>
              <a:gd name="textAreaLeft" fmla="*/ 44640 w 826920"/>
              <a:gd name="textAreaRight" fmla="*/ 782280 w 8269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5799" h="21600">
                <a:moveTo>
                  <a:pt x="0" y="0"/>
                </a:moveTo>
                <a:lnTo>
                  <a:pt x="25799" y="0"/>
                </a:lnTo>
                <a:lnTo>
                  <a:pt x="25799" y="21600"/>
                </a:lnTo>
                <a:lnTo>
                  <a:pt x="0" y="21600"/>
                </a:lnTo>
                <a:close/>
              </a:path>
              <a:path fill="lightenLess" w="25799" h="21600">
                <a:moveTo>
                  <a:pt x="0" y="0"/>
                </a:moveTo>
                <a:lnTo>
                  <a:pt x="25799" y="0"/>
                </a:lnTo>
                <a:lnTo>
                  <a:pt x="24399" y="1400"/>
                </a:lnTo>
                <a:lnTo>
                  <a:pt x="1400" y="1400"/>
                </a:lnTo>
                <a:close/>
              </a:path>
              <a:path fill="darken" w="25799" h="21600">
                <a:moveTo>
                  <a:pt x="25799" y="0"/>
                </a:moveTo>
                <a:lnTo>
                  <a:pt x="25799" y="21600"/>
                </a:lnTo>
                <a:lnTo>
                  <a:pt x="24399" y="20200"/>
                </a:lnTo>
                <a:lnTo>
                  <a:pt x="24399" y="1400"/>
                </a:lnTo>
                <a:close/>
              </a:path>
              <a:path fill="darkenLess" w="25799" h="21600">
                <a:moveTo>
                  <a:pt x="257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99" y="20200"/>
                </a:lnTo>
                <a:close/>
              </a:path>
              <a:path fill="lighten" w="257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799" h="21600">
                <a:moveTo>
                  <a:pt x="12899" y="3837"/>
                </a:moveTo>
                <a:lnTo>
                  <a:pt x="15476" y="6448"/>
                </a:ln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lnTo>
                  <a:pt x="19862" y="10800"/>
                </a:lnTo>
                <a:lnTo>
                  <a:pt x="18209" y="10800"/>
                </a:lnTo>
                <a:lnTo>
                  <a:pt x="18209" y="17989"/>
                </a:lnTo>
                <a:lnTo>
                  <a:pt x="7590" y="17989"/>
                </a:lnTo>
                <a:lnTo>
                  <a:pt x="7590" y="10800"/>
                </a:lnTo>
                <a:lnTo>
                  <a:pt x="5936" y="10800"/>
                </a:lnTo>
                <a:close/>
              </a:path>
              <a:path fill="darkenLess" w="25799" h="21600">
                <a:moveTo>
                  <a:pt x="15476" y="6448"/>
                </a:move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close/>
              </a:path>
              <a:path fill="darkenLess" w="25799" h="21600">
                <a:moveTo>
                  <a:pt x="11977" y="14299"/>
                </a:moveTo>
                <a:lnTo>
                  <a:pt x="13822" y="14299"/>
                </a:lnTo>
                <a:lnTo>
                  <a:pt x="13822" y="17989"/>
                </a:lnTo>
                <a:lnTo>
                  <a:pt x="18209" y="17989"/>
                </a:lnTo>
                <a:lnTo>
                  <a:pt x="18209" y="10800"/>
                </a:lnTo>
                <a:lnTo>
                  <a:pt x="7590" y="10800"/>
                </a:lnTo>
                <a:lnTo>
                  <a:pt x="7590" y="17989"/>
                </a:lnTo>
                <a:lnTo>
                  <a:pt x="11977" y="17989"/>
                </a:lnTo>
                <a:close/>
              </a:path>
            </a:pathLst>
          </a:custGeom>
          <a:solidFill>
            <a:srgbClr val="b7c5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Picture 5" descr="C:\Users\Admin\Desktop\nilo.jpg"/>
          <p:cNvPicPr/>
          <p:nvPr/>
        </p:nvPicPr>
        <p:blipFill>
          <a:blip r:embed="rId1"/>
          <a:stretch/>
        </p:blipFill>
        <p:spPr>
          <a:xfrm>
            <a:off x="684360" y="1557360"/>
            <a:ext cx="7034040" cy="510696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1692360" y="404640"/>
            <a:ext cx="597672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2e"/>
                </a:solidFill>
                <a:latin typeface="Tahoma"/>
              </a:rPr>
              <a:t>Баобаб, саванн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AutoShape 4">
            <a:hlinkClick r:id="" action="ppaction://hlinkshowjump?jump=firstslide"/>
          </p:cNvPr>
          <p:cNvSpPr/>
          <p:nvPr/>
        </p:nvSpPr>
        <p:spPr>
          <a:xfrm>
            <a:off x="8101080" y="5950080"/>
            <a:ext cx="1042920" cy="907920"/>
          </a:xfrm>
          <a:custGeom>
            <a:avLst/>
            <a:gdLst>
              <a:gd name="textAreaLeft" fmla="*/ 58680 w 1042920"/>
              <a:gd name="textAreaRight" fmla="*/ 984240 w 1042920"/>
              <a:gd name="textAreaTop" fmla="*/ 58680 h 907920"/>
              <a:gd name="textAreaBottom" fmla="*/ 849240 h 907920"/>
            </a:gdLst>
            <a:ahLst/>
            <a:rect l="textAreaLeft" t="textAreaTop" r="textAreaRight" b="textAreaBottom"/>
            <a:pathLst>
              <a:path w="24810" h="21600">
                <a:moveTo>
                  <a:pt x="0" y="0"/>
                </a:moveTo>
                <a:lnTo>
                  <a:pt x="24810" y="0"/>
                </a:lnTo>
                <a:lnTo>
                  <a:pt x="24810" y="21600"/>
                </a:lnTo>
                <a:lnTo>
                  <a:pt x="0" y="21600"/>
                </a:lnTo>
                <a:close/>
              </a:path>
              <a:path fill="lightenLess" w="24810" h="21600">
                <a:moveTo>
                  <a:pt x="0" y="0"/>
                </a:moveTo>
                <a:lnTo>
                  <a:pt x="24810" y="0"/>
                </a:lnTo>
                <a:lnTo>
                  <a:pt x="23410" y="1400"/>
                </a:lnTo>
                <a:lnTo>
                  <a:pt x="1400" y="1400"/>
                </a:lnTo>
                <a:close/>
              </a:path>
              <a:path fill="darken" w="24810" h="21600">
                <a:moveTo>
                  <a:pt x="24810" y="0"/>
                </a:moveTo>
                <a:lnTo>
                  <a:pt x="24810" y="21600"/>
                </a:lnTo>
                <a:lnTo>
                  <a:pt x="23410" y="20200"/>
                </a:lnTo>
                <a:lnTo>
                  <a:pt x="23410" y="1400"/>
                </a:lnTo>
                <a:close/>
              </a:path>
              <a:path fill="darkenLess" w="24810" h="21600">
                <a:moveTo>
                  <a:pt x="248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410" y="20200"/>
                </a:lnTo>
                <a:close/>
              </a:path>
              <a:path fill="lighten" w="248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810" h="21600">
                <a:moveTo>
                  <a:pt x="12405" y="3837"/>
                </a:moveTo>
                <a:lnTo>
                  <a:pt x="14982" y="6448"/>
                </a:lnTo>
                <a:lnTo>
                  <a:pt x="14982" y="4707"/>
                </a:lnTo>
                <a:lnTo>
                  <a:pt x="16757" y="4707"/>
                </a:lnTo>
                <a:lnTo>
                  <a:pt x="16757" y="8224"/>
                </a:lnTo>
                <a:lnTo>
                  <a:pt x="19368" y="10800"/>
                </a:lnTo>
                <a:lnTo>
                  <a:pt x="17714" y="10800"/>
                </a:lnTo>
                <a:lnTo>
                  <a:pt x="17714" y="17989"/>
                </a:lnTo>
                <a:lnTo>
                  <a:pt x="7096" y="17989"/>
                </a:lnTo>
                <a:lnTo>
                  <a:pt x="7096" y="10800"/>
                </a:lnTo>
                <a:lnTo>
                  <a:pt x="5442" y="10800"/>
                </a:lnTo>
                <a:close/>
              </a:path>
              <a:path fill="darkenLess" w="24810" h="21600">
                <a:moveTo>
                  <a:pt x="14982" y="6448"/>
                </a:moveTo>
                <a:lnTo>
                  <a:pt x="14982" y="4707"/>
                </a:lnTo>
                <a:lnTo>
                  <a:pt x="16757" y="4707"/>
                </a:lnTo>
                <a:lnTo>
                  <a:pt x="16757" y="8224"/>
                </a:lnTo>
                <a:close/>
              </a:path>
              <a:path fill="darkenLess" w="24810" h="21600">
                <a:moveTo>
                  <a:pt x="11483" y="14299"/>
                </a:moveTo>
                <a:lnTo>
                  <a:pt x="13328" y="14299"/>
                </a:lnTo>
                <a:lnTo>
                  <a:pt x="13328" y="17989"/>
                </a:lnTo>
                <a:lnTo>
                  <a:pt x="17714" y="17989"/>
                </a:lnTo>
                <a:lnTo>
                  <a:pt x="17714" y="10800"/>
                </a:lnTo>
                <a:lnTo>
                  <a:pt x="7096" y="10800"/>
                </a:lnTo>
                <a:lnTo>
                  <a:pt x="7096" y="17989"/>
                </a:lnTo>
                <a:lnTo>
                  <a:pt x="11483" y="17989"/>
                </a:lnTo>
                <a:close/>
              </a:path>
            </a:pathLst>
          </a:custGeom>
          <a:solidFill>
            <a:srgbClr val="b7c5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7" name="Picture 5" descr="C:\Users\Admin\Desktop\EMOK-Picdump-225_36.jpg"/>
          <p:cNvPicPr/>
          <p:nvPr/>
        </p:nvPicPr>
        <p:blipFill>
          <a:blip r:embed="rId1"/>
          <a:stretch/>
        </p:blipFill>
        <p:spPr>
          <a:xfrm>
            <a:off x="0" y="2162160"/>
            <a:ext cx="7048440" cy="469584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395280" y="1341000"/>
            <a:ext cx="82296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2e"/>
                </a:solidFill>
                <a:latin typeface="Tahoma"/>
              </a:rPr>
              <a:t>Самое удивительное растение пустыни Намиб. Это дерево с коротким, но толстым стволом. Его ещё называют осьминогом пустыни. Редкое растение, охраняется законом и изображено на марках Намибии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heel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755280" y="476280"/>
            <a:ext cx="705636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2e"/>
                </a:solidFill>
                <a:latin typeface="Tahoma"/>
              </a:rPr>
              <a:t>Вельвичия удивительна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AutoShape 5">
            <a:hlinkClick r:id="" action="ppaction://hlinkshowjump?jump=firstslide"/>
          </p:cNvPr>
          <p:cNvSpPr/>
          <p:nvPr/>
        </p:nvSpPr>
        <p:spPr>
          <a:xfrm>
            <a:off x="8101080" y="5877000"/>
            <a:ext cx="1042920" cy="981000"/>
          </a:xfrm>
          <a:custGeom>
            <a:avLst/>
            <a:gdLst>
              <a:gd name="textAreaLeft" fmla="*/ 63360 w 1042920"/>
              <a:gd name="textAreaRight" fmla="*/ 979560 w 1042920"/>
              <a:gd name="textAreaTop" fmla="*/ 63360 h 981000"/>
              <a:gd name="textAreaBottom" fmla="*/ 917640 h 981000"/>
            </a:gdLst>
            <a:ahLst/>
            <a:rect l="textAreaLeft" t="textAreaTop" r="textAreaRight" b="textAreaBottom"/>
            <a:pathLst>
              <a:path w="22963" h="21600">
                <a:moveTo>
                  <a:pt x="0" y="0"/>
                </a:moveTo>
                <a:lnTo>
                  <a:pt x="22963" y="0"/>
                </a:lnTo>
                <a:lnTo>
                  <a:pt x="22963" y="21600"/>
                </a:lnTo>
                <a:lnTo>
                  <a:pt x="0" y="21600"/>
                </a:lnTo>
                <a:close/>
              </a:path>
              <a:path fill="lightenLess" w="22963" h="21600">
                <a:moveTo>
                  <a:pt x="0" y="0"/>
                </a:moveTo>
                <a:lnTo>
                  <a:pt x="22963" y="0"/>
                </a:lnTo>
                <a:lnTo>
                  <a:pt x="21563" y="1400"/>
                </a:lnTo>
                <a:lnTo>
                  <a:pt x="1400" y="1400"/>
                </a:lnTo>
                <a:close/>
              </a:path>
              <a:path fill="darken" w="22963" h="21600">
                <a:moveTo>
                  <a:pt x="22963" y="0"/>
                </a:moveTo>
                <a:lnTo>
                  <a:pt x="22963" y="21600"/>
                </a:lnTo>
                <a:lnTo>
                  <a:pt x="21563" y="20200"/>
                </a:lnTo>
                <a:lnTo>
                  <a:pt x="21563" y="1400"/>
                </a:lnTo>
                <a:close/>
              </a:path>
              <a:path fill="darkenLess" w="22963" h="21600">
                <a:moveTo>
                  <a:pt x="229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63" y="20200"/>
                </a:lnTo>
                <a:close/>
              </a:path>
              <a:path fill="lighten" w="229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63" h="21600">
                <a:moveTo>
                  <a:pt x="11481" y="3837"/>
                </a:moveTo>
                <a:lnTo>
                  <a:pt x="14058" y="6448"/>
                </a:lnTo>
                <a:lnTo>
                  <a:pt x="14058" y="4707"/>
                </a:lnTo>
                <a:lnTo>
                  <a:pt x="15833" y="4707"/>
                </a:lnTo>
                <a:lnTo>
                  <a:pt x="15833" y="8224"/>
                </a:lnTo>
                <a:lnTo>
                  <a:pt x="18444" y="10800"/>
                </a:lnTo>
                <a:lnTo>
                  <a:pt x="16791" y="10800"/>
                </a:lnTo>
                <a:lnTo>
                  <a:pt x="16791" y="17989"/>
                </a:lnTo>
                <a:lnTo>
                  <a:pt x="6172" y="17989"/>
                </a:lnTo>
                <a:lnTo>
                  <a:pt x="6172" y="10800"/>
                </a:lnTo>
                <a:lnTo>
                  <a:pt x="4518" y="10800"/>
                </a:lnTo>
                <a:close/>
              </a:path>
              <a:path fill="darkenLess" w="22963" h="21600">
                <a:moveTo>
                  <a:pt x="14058" y="6448"/>
                </a:moveTo>
                <a:lnTo>
                  <a:pt x="14058" y="4707"/>
                </a:lnTo>
                <a:lnTo>
                  <a:pt x="15833" y="4707"/>
                </a:lnTo>
                <a:lnTo>
                  <a:pt x="15833" y="8224"/>
                </a:lnTo>
                <a:close/>
              </a:path>
              <a:path fill="darkenLess" w="22963" h="21600">
                <a:moveTo>
                  <a:pt x="10559" y="14299"/>
                </a:moveTo>
                <a:lnTo>
                  <a:pt x="12404" y="14299"/>
                </a:lnTo>
                <a:lnTo>
                  <a:pt x="12404" y="17989"/>
                </a:lnTo>
                <a:lnTo>
                  <a:pt x="16791" y="17989"/>
                </a:lnTo>
                <a:lnTo>
                  <a:pt x="16791" y="10800"/>
                </a:lnTo>
                <a:lnTo>
                  <a:pt x="6172" y="10800"/>
                </a:lnTo>
                <a:lnTo>
                  <a:pt x="6172" y="17989"/>
                </a:lnTo>
                <a:lnTo>
                  <a:pt x="10559" y="17989"/>
                </a:lnTo>
                <a:close/>
              </a:path>
            </a:pathLst>
          </a:custGeom>
          <a:solidFill>
            <a:srgbClr val="b7c5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1" name="Picture 5" descr="C:\Users\Admin\Desktop\welwitschia_6.jpg"/>
          <p:cNvPicPr/>
          <p:nvPr/>
        </p:nvPicPr>
        <p:blipFill>
          <a:blip r:embed="rId1"/>
          <a:stretch/>
        </p:blipFill>
        <p:spPr>
          <a:xfrm>
            <a:off x="0" y="1916280"/>
            <a:ext cx="7419960" cy="494172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2e"/>
                </a:solidFill>
                <a:latin typeface="Tahoma"/>
              </a:rPr>
              <a:t>Она дважды пересекает  экватор и пробивает себе дорогу через болота и джунгли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heel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53964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2e"/>
                </a:solidFill>
                <a:latin typeface="Tahoma"/>
              </a:rPr>
              <a:t>Река Конго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AutoShape 4">
            <a:hlinkClick r:id="" action="ppaction://hlinkshowjump?jump=firstslide"/>
          </p:cNvPr>
          <p:cNvSpPr/>
          <p:nvPr/>
        </p:nvSpPr>
        <p:spPr>
          <a:xfrm>
            <a:off x="8424720" y="6138720"/>
            <a:ext cx="719280" cy="71928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7c5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Picture 4" descr="C:\Users\Admin\Desktop\kongo.jpg"/>
          <p:cNvPicPr/>
          <p:nvPr/>
        </p:nvPicPr>
        <p:blipFill>
          <a:blip r:embed="rId1"/>
          <a:stretch/>
        </p:blipFill>
        <p:spPr>
          <a:xfrm>
            <a:off x="324000" y="1341360"/>
            <a:ext cx="7019640" cy="526428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2e"/>
                </a:solidFill>
                <a:latin typeface="Tahoma"/>
              </a:rPr>
              <a:t>Этот пояс располагается между экваториальным и тропическим основными типами климата Земли. Летом в этом поясе господствуют экваториальные воздушные массы, а зимой — тропические. Количество осадков летом – 1000-3000 мм. Средняя летняя температура   +30°С. Зимой осадков выпадает мало, средняя температура +14°С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heel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6656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2e"/>
                </a:solidFill>
                <a:latin typeface="Tahoma"/>
              </a:rPr>
              <a:t>Субэкваториальный климатический пояс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AutoShape 4">
            <a:hlinkClick r:id="" action="ppaction://hlinkshowjump?jump=firstslide"/>
          </p:cNvPr>
          <p:cNvSpPr/>
          <p:nvPr/>
        </p:nvSpPr>
        <p:spPr>
          <a:xfrm>
            <a:off x="8244000" y="6138720"/>
            <a:ext cx="900000" cy="719280"/>
          </a:xfrm>
          <a:custGeom>
            <a:avLst/>
            <a:gdLst>
              <a:gd name="textAreaLeft" fmla="*/ 46440 w 900000"/>
              <a:gd name="textAreaRight" fmla="*/ 853560 w 90000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7024" h="21600">
                <a:moveTo>
                  <a:pt x="0" y="0"/>
                </a:moveTo>
                <a:lnTo>
                  <a:pt x="27024" y="0"/>
                </a:lnTo>
                <a:lnTo>
                  <a:pt x="27024" y="21600"/>
                </a:lnTo>
                <a:lnTo>
                  <a:pt x="0" y="21600"/>
                </a:lnTo>
                <a:close/>
              </a:path>
              <a:path fill="lightenLess" w="27024" h="21600">
                <a:moveTo>
                  <a:pt x="0" y="0"/>
                </a:moveTo>
                <a:lnTo>
                  <a:pt x="27024" y="0"/>
                </a:lnTo>
                <a:lnTo>
                  <a:pt x="25624" y="1400"/>
                </a:lnTo>
                <a:lnTo>
                  <a:pt x="1400" y="1400"/>
                </a:lnTo>
                <a:close/>
              </a:path>
              <a:path fill="darken" w="27024" h="21600">
                <a:moveTo>
                  <a:pt x="27024" y="0"/>
                </a:moveTo>
                <a:lnTo>
                  <a:pt x="27024" y="21600"/>
                </a:lnTo>
                <a:lnTo>
                  <a:pt x="25624" y="20200"/>
                </a:lnTo>
                <a:lnTo>
                  <a:pt x="25624" y="1400"/>
                </a:lnTo>
                <a:close/>
              </a:path>
              <a:path fill="darkenLess" w="27024" h="21600">
                <a:moveTo>
                  <a:pt x="27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24" y="20200"/>
                </a:lnTo>
                <a:close/>
              </a:path>
              <a:path fill="lighten" w="27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24" h="21600">
                <a:moveTo>
                  <a:pt x="13512" y="3837"/>
                </a:moveTo>
                <a:lnTo>
                  <a:pt x="16088" y="6448"/>
                </a:lnTo>
                <a:lnTo>
                  <a:pt x="16088" y="4707"/>
                </a:lnTo>
                <a:lnTo>
                  <a:pt x="17864" y="4707"/>
                </a:lnTo>
                <a:lnTo>
                  <a:pt x="17864" y="8224"/>
                </a:lnTo>
                <a:lnTo>
                  <a:pt x="20475" y="10800"/>
                </a:lnTo>
                <a:lnTo>
                  <a:pt x="18821" y="10800"/>
                </a:lnTo>
                <a:lnTo>
                  <a:pt x="18821" y="17989"/>
                </a:lnTo>
                <a:lnTo>
                  <a:pt x="8203" y="17989"/>
                </a:lnTo>
                <a:lnTo>
                  <a:pt x="8203" y="10800"/>
                </a:lnTo>
                <a:lnTo>
                  <a:pt x="6549" y="10800"/>
                </a:lnTo>
                <a:close/>
              </a:path>
              <a:path fill="darkenLess" w="27024" h="21600">
                <a:moveTo>
                  <a:pt x="16088" y="6448"/>
                </a:moveTo>
                <a:lnTo>
                  <a:pt x="16088" y="4707"/>
                </a:lnTo>
                <a:lnTo>
                  <a:pt x="17864" y="4707"/>
                </a:lnTo>
                <a:lnTo>
                  <a:pt x="17864" y="8224"/>
                </a:lnTo>
                <a:close/>
              </a:path>
              <a:path fill="darkenLess" w="27024" h="21600">
                <a:moveTo>
                  <a:pt x="12590" y="14299"/>
                </a:moveTo>
                <a:lnTo>
                  <a:pt x="14435" y="14299"/>
                </a:lnTo>
                <a:lnTo>
                  <a:pt x="14435" y="17989"/>
                </a:lnTo>
                <a:lnTo>
                  <a:pt x="18821" y="17989"/>
                </a:lnTo>
                <a:lnTo>
                  <a:pt x="18821" y="10800"/>
                </a:lnTo>
                <a:lnTo>
                  <a:pt x="8203" y="10800"/>
                </a:lnTo>
                <a:lnTo>
                  <a:pt x="8203" y="17989"/>
                </a:lnTo>
                <a:lnTo>
                  <a:pt x="12590" y="17989"/>
                </a:lnTo>
                <a:close/>
              </a:path>
            </a:pathLst>
          </a:custGeom>
          <a:solidFill>
            <a:srgbClr val="b7c5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Picture 4" descr="C:\Users\Admin\Desktop\img9.jpg"/>
          <p:cNvPicPr/>
          <p:nvPr/>
        </p:nvPicPr>
        <p:blipFill>
          <a:blip r:embed="rId1"/>
          <a:stretch/>
        </p:blipFill>
        <p:spPr>
          <a:xfrm>
            <a:off x="0" y="1646280"/>
            <a:ext cx="6948360" cy="521172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123560"/>
            <a:ext cx="8229600" cy="32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2e"/>
                </a:solidFill>
                <a:latin typeface="Tahoma"/>
              </a:rPr>
              <a:t>Река по форме напоминает бумеранг, она начинается на побережье Атлантического океана и впадает в него же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heel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31T17:33:34Z</dcterms:created>
  <dc:creator>Alex</dc:creator>
  <dc:description/>
  <dc:language>en-US</dc:language>
  <cp:lastModifiedBy>Ольга Семиошкина</cp:lastModifiedBy>
  <dcterms:modified xsi:type="dcterms:W3CDTF">2021-04-11T19:12:10Z</dcterms:modified>
  <cp:revision>47</cp:revision>
  <dc:subject/>
  <dc:title>Слайд 1</dc:title>
</cp:coreProperties>
</file>