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wmf" ContentType="image/x-wmf"/>
  <Override PartName="/ppt/media/image8.jpeg" ContentType="image/jpeg"/>
  <Override PartName="/ppt/media/image10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D4F1-154D-4867-80E8-3B17F3A20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67F2-46EC-4CB6-875B-C2C991CFE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B5CD68-C707-4568-A1A4-7C7EC7DF0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A347A6-5585-471B-8BF8-89DE22260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D7CF6D-E2D7-4832-A731-9D0E8AD18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67363B-2A11-4C09-AF1C-23DEE4A8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3457F0-CA71-4D45-ADB5-897DA80F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D54B0D-FA82-416F-8C76-387F55DE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404DD2-DAE1-4400-861B-373240E05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1BAEC6-4BC5-42A2-8E38-5DE8A76A9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4BF49B-4D40-4B48-BAD1-AD66714FA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0ABEF8-27E3-4A72-833A-12E743622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E69D-708F-4E37-BA39-66C9AE980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0E91A1-5A82-46E8-ACD0-8B4679FD2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AA9D6D-591A-4A2D-A33C-2605B3CE8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2E65A7-2E18-4D9D-A851-D6B8F26AB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17F993-0654-47E8-80B8-1CEAB5C49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79E83E-FED0-435D-A2F6-0C7D347E5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1BEF71-287F-4617-910A-D0ADA548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B6A1CC-F26F-4FC2-939B-B5803AAC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F26B74-35D8-4CDD-85ED-CC46F121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19ABF3-ACEC-476A-BFD3-60C2F160D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5761C8-64A8-41E1-992A-66B369FF4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DA76-96B0-4BF2-ACF6-F85ECA9DC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986FB2-ED53-4809-BC44-6A5476DB0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90E9DB-34CE-45E6-B9B3-D7319D1A1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67001D-3DEC-4C94-A91B-00C102D50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D55B8A-01CD-4FD6-B3DF-9C883736D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AF7BC7-7986-4F29-93EE-E56907C6D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9FF3C4-32BF-4F73-B112-D727CA82E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5C08D5-95EE-44AE-8E65-785DF4BB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F86091-D0AF-421D-8F85-0B480E82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4E2B3A-8BA7-43BF-923C-91CC9992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DEB3E3-8C8E-40EB-96FD-AEAC1888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8C4B3-3683-42DA-B073-F71912E0A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C570A2-DE88-4C46-B9DA-97F6A1D8A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0A8D60-13D5-4CCB-85CB-B3E64D227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726A0A-2817-42E3-A7B3-440AF2F49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FFDA6A-634D-454C-B568-C243FA0B9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0F6F7F-081C-40A1-8FA3-BA67EC661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15A211-CA33-44CF-973D-CB9D7376B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8BB25C-AC53-4303-B7D4-C09E32739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6C1757-7D98-4811-B034-22A5FA96D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489731-3A47-49D2-9003-5D137393A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71C047-C4D7-4803-9CD6-B9FAD3BF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23231-D7F3-49EA-8B9D-A71BD719B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8EDF46-B125-4DC0-8E71-8C8B2D1C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7AEC58-187C-41AF-9BD3-6CD8789E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C52912-C207-4353-8ABC-B4FA5F70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F4A6CB-24AF-4789-B084-6BBFD0C4B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676A50-BEB3-4799-910E-BCDE53071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1850FE-730B-4A30-A049-03B379E04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D95F56-3705-4DE1-A3AF-128A88DE6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AA8551-7D08-42C9-8C92-53AAAE46E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C0486C-BB72-4355-8D4B-D9BB9CA8E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1D97B2-9904-4BF6-A868-79569460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2933B-E4AE-46E4-B31A-3CD67B0F1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7A934F-052D-48C4-BDD4-557A40128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25875D-3948-4003-BE9F-CD1588A4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3CAD42-0AFE-41FC-B5F7-6D92D859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CAF9A0-FB4D-4CE9-B5E0-30B33370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8342B9-D9F0-438E-97E9-A38CAFD22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8D0764-E348-4064-9C1A-9AB89CB67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16C023-1FEA-4525-BF3A-EB5CB88EE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D2122-9EED-4E53-8478-42AB8ABB9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31602-4AA4-4EE9-9877-ED189CCAB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CBB09-A572-41D1-B7B7-7CA3415B1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7C809-CBB3-4E8B-B5CD-1A4082CE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8627-C26F-4CFC-91E4-C37AD5E91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C7498-0725-49F0-AB9E-BB7D1DCB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58395-E0A4-4DA7-8741-14DB160D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AA5AB-8D7D-4D9A-B6E0-3E1A04F8D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EF13B-63EC-4926-B0B5-785B8A261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44E67-E839-4FA7-B243-E380FBEAD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20D10-D2B0-4BF3-9069-E3973ACB6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ED479-C202-4F9B-807F-3D7A18943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0186D-75F8-420A-BCC8-B00FFC26A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7C464-184A-4341-8F9A-AE6478322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40809-4401-4EEF-8677-3BE2A164F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B015-A3AD-4A4D-89E7-CAE0BF58A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A1070-A19D-4CE7-9F55-70E9F8E59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10AF1-D599-4B8F-ACE0-2D06AFCD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C6CA7-7064-4230-A839-87C1A8D1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9CE66-8D4C-4868-87DA-3E15D8AB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CDFF3-ABD4-4B18-86DF-8790751F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205E5-BDE6-4994-8B41-E6A0896D4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BD800-F060-41BF-B661-6A25F31D8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AA2C9-0550-495C-B9FC-CD44F7BB7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33CF1-6713-40F2-9096-DB201E9F2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1115C-2ECF-4982-B117-81A2878D2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6DAA-5064-475A-A52D-E46BFCAE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536E4-BC55-43D3-9D32-FF05D63ED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CAEF9-432C-421E-BAB7-958D78685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8856D-E18D-4DE2-A8F3-58BB5B719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FA425-2D14-45A9-83CD-25389DA7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C843B-099F-4152-836B-168F49D0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E8614-A479-4775-95B7-D5F2BC8A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70DF0-AA04-4205-B2D4-3FD633072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4C117-B304-467F-923B-5D4289762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08E73-B629-4DA7-A391-56EC26CF6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2E304-F18D-4D22-A12D-D23A922F9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719D-B1D8-44A0-8003-FEBC8C4A9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4213D-18B5-44D4-B1C9-E2A37BA56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45DF2-5CA2-481D-8B82-06B7EFA6A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8199B-94F2-4215-B449-2AFBE624E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3DAA2-4504-4AE7-9BFF-A7E0ED4BD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38BB2-FFB0-4064-BC6F-5B687CD05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C048A-D4F4-40B7-989E-B28F4420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A3E49-74A7-400A-87AA-EE28FDC1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69C10-EDC4-4BA6-AACF-DD2B0A2F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32B40-E4B1-465D-A178-4B509099B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7A5C0-3C47-484B-92F3-064F8ED62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6936-954C-45D7-BBC9-37A1054FE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A4106-F5A3-4C00-89A1-D973220E9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73BEE-8E4E-4C27-B5B9-EBEC07793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B1FCD-35A7-4448-B3B9-20425C905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DC2E8-B0CE-4319-A2B1-1BAC5257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0E4A9-75B8-4017-AD0C-EBEA804F1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08EC0-96A6-4655-A3EA-21F99C2E2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5685CB-53ED-402B-BFD4-2020D7416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0012B-7287-4EFD-B62C-17A5FEB7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3D54B-A2A0-412D-B14A-A5A7CDF7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2E549-5A25-4F48-AD79-9B692A09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9AF9-3362-418B-9505-10EF3D06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F519E-676B-4B03-B997-BF6A77953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EFF987-8854-424D-9A6E-D9666456A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E1EFF-7F80-4416-82B9-CC1EC8358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1EBE4-C994-43FA-B035-A287CD042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6E5C75-8568-47BF-85EB-0FC2B5E3E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B4B51-23A1-4A3D-8A99-97D1CBCC6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8507B-449E-45DF-B339-EBBC8E810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541FB-A44B-4FAE-95B2-DDBD1F63F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841AF-948F-4C89-ACF8-D188BAAD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36C8BA-472D-470E-98FD-07A2B40F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F2BA-5017-495D-BF3B-B8F7EFC7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85EBA6-8F01-4E6A-9725-D6B3FC67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31169-1E10-444E-A8A7-6AB7E388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6ECAEE-3AE7-4F15-84D9-F99EF2026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4FF95F-9791-4BF5-AF83-27AEC4522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073DA-2233-45F8-9507-967343A3B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05DBAD-2B4D-4664-9B34-8ABF1553C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CDA167-A9F2-4B43-B8A0-B80DE13A8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291775-C744-4A38-BA8D-CB754EC05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7BF4D9-80D4-4772-84FD-889336316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665962-11F7-41BB-BC36-AAC1DA626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A1D8-8B55-43CE-A26A-110336AE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EBF089-9377-41D0-96AB-0DBC75F96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D15F8C-842C-4AD8-A2B9-2BCE2558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CE7EC-5A21-43DD-B702-A0E39D82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1F5FDF-EF4F-4199-A0B1-7D1D82EF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142E2D-F6EA-4413-8722-BDEB549C2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B2D6D-9EB8-49BC-B3DA-3DF03D4E7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0BFF4-96FF-486E-8CCE-0B0017AA2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43D174-7482-4B4D-9AD7-F79A65727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C01E0B-A5C8-4ED2-8FD3-43E4B9112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198261-4FC9-46B0-9C52-741BE7DE5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182B4-3FEF-412D-9217-E67EC8EFC6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>
            <a:alpha val="8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9A81F-7D58-4561-B4B7-B3C7DE32AD2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>
            <a:alpha val="8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EF6D-E65E-490A-BDFF-4332BC094FB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>
            <a:alpha val="8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5967-3591-4ECD-81C4-1C890CF6D67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>
            <a:alpha val="8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29670-573C-4705-9622-72C69B626CE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>
            <a:alpha val="8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0C099-47B4-40B0-A064-C8D1C24C89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>
            <a:alpha val="8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2AB6E-A01F-4127-A771-B5D67106262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>
            <a:alpha val="8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4C525-95D6-4DC2-B51D-8F89A01D1BC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>
            <a:alpha val="8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CEDF3-A321-4E68-A329-78B835C00D4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>
            <a:alpha val="8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60DB2-3614-41DA-B5A4-8EB6525F8D0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>
            <a:alpha val="8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75139-F601-4988-A9A2-7A3344DD67A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>
            <a:alpha val="8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1FFDD-6A4C-4172-90A8-095E2ED0C1B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>
            <a:alpha val="8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6EFD6-1999-44C0-B3DA-932C4AD2BCF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3.hostingkartinok.com/uploads/images/2013/07/079d2226cc846b69d86f8ff88c353d8d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Рисунок 1" descr=""/>
          <p:cNvPicPr/>
          <p:nvPr/>
        </p:nvPicPr>
        <p:blipFill>
          <a:blip r:embed="rId1"/>
          <a:stretch/>
        </p:blipFill>
        <p:spPr>
          <a:xfrm>
            <a:off x="914400" y="-38160"/>
            <a:ext cx="7543800" cy="67914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5438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спех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результаты в работе, учебе; побед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8" name="Picture 2" descr="http://s3.hostingkartinok.com/uploads/images/2013/07/079d2226cc846b69d86f8ff88c353d8d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1469880"/>
            <a:ext cx="632448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WordArt 4"/>
          <p:cNvSpPr txBox="1"/>
          <p:nvPr/>
        </p:nvSpPr>
        <p:spPr>
          <a:xfrm>
            <a:off x="533520" y="228600"/>
            <a:ext cx="78483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60" name="Rectangle 9"/>
          <p:cNvSpPr/>
          <p:nvPr/>
        </p:nvSpPr>
        <p:spPr>
          <a:xfrm>
            <a:off x="390600" y="-167760"/>
            <a:ext cx="8229600" cy="3993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НО!      Чтобы так и было помните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                                                                                        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Вы - сами творцы своего будущего!!!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                                                                                     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Каждый должен сотворить себя сам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Verdan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2" descr="http://im7-tub-ru.yandex.net/i?id=350006344-07-72&amp;n=21"/>
          <p:cNvPicPr/>
          <p:nvPr/>
        </p:nvPicPr>
        <p:blipFill>
          <a:blip r:embed="rId1"/>
          <a:stretch/>
        </p:blipFill>
        <p:spPr>
          <a:xfrm>
            <a:off x="3352680" y="3352680"/>
            <a:ext cx="2621160" cy="3429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Прямоугольник 1"/>
          <p:cNvSpPr/>
          <p:nvPr/>
        </p:nvSpPr>
        <p:spPr>
          <a:xfrm>
            <a:off x="1143000" y="685800"/>
            <a:ext cx="76201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Times New Roman"/>
                <a:ea typeface="Calibri"/>
              </a:rPr>
              <a:t>«В каждом человеке солнце, только дайте ему светить»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Box 1"/>
          <p:cNvSpPr/>
          <p:nvPr/>
        </p:nvSpPr>
        <p:spPr>
          <a:xfrm>
            <a:off x="1295280" y="838080"/>
            <a:ext cx="6934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00ff"/>
                </a:solidFill>
                <a:latin typeface="Monotype Corsiva"/>
                <a:ea typeface="Times New Roman"/>
              </a:rPr>
              <a:t>Желаю успеха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9" descr="CATZMAIL"/>
          <p:cNvPicPr/>
          <p:nvPr/>
        </p:nvPicPr>
        <p:blipFill>
          <a:blip r:embed="rId1"/>
          <a:stretch/>
        </p:blipFill>
        <p:spPr>
          <a:xfrm>
            <a:off x="5029200" y="2333520"/>
            <a:ext cx="3809880" cy="4464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2" descr=""/>
          <p:cNvPicPr/>
          <p:nvPr/>
        </p:nvPicPr>
        <p:blipFill>
          <a:blip r:embed="rId1"/>
          <a:stretch/>
        </p:blipFill>
        <p:spPr>
          <a:xfrm>
            <a:off x="1214280" y="0"/>
            <a:ext cx="6786720" cy="6786720"/>
          </a:xfrm>
          <a:prstGeom prst="rect">
            <a:avLst/>
          </a:prstGeom>
          <a:ln w="0">
            <a:noFill/>
          </a:ln>
        </p:spPr>
      </p:pic>
      <p:pic>
        <p:nvPicPr>
          <p:cNvPr id="535" name="Заголовок 1" descr=""/>
          <p:cNvPicPr/>
          <p:nvPr/>
        </p:nvPicPr>
        <p:blipFill>
          <a:blip r:embed="rId2"/>
          <a:stretch/>
        </p:blipFill>
        <p:spPr>
          <a:xfrm>
            <a:off x="1262160" y="4816440"/>
            <a:ext cx="6486480" cy="173664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Box 1"/>
          <p:cNvSpPr/>
          <p:nvPr/>
        </p:nvSpPr>
        <p:spPr>
          <a:xfrm>
            <a:off x="457200" y="380880"/>
            <a:ext cx="792972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ff"/>
                </a:solidFill>
                <a:latin typeface="Arial"/>
              </a:rPr>
              <a:t>Упражнени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ff"/>
                </a:solidFill>
                <a:latin typeface="Arial"/>
              </a:rPr>
              <a:t>     </a:t>
            </a:r>
            <a:r>
              <a:rPr b="1" i="1" lang="ru-RU" sz="4800" spc="-1" strike="noStrike">
                <a:solidFill>
                  <a:srgbClr val="ff00ff"/>
                </a:solidFill>
                <a:latin typeface="Arial"/>
              </a:rPr>
              <a:t>Говорящий микрофо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ff"/>
                </a:solidFill>
                <a:latin typeface="Arial"/>
              </a:rPr>
              <a:t>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Рисунок 2" descr="https://avatars.mds.yandex.net/i?id=530067eacdf9e9c1b9ea727ac657ec4f4d3c4b07-9106782-images-thumbs&amp;n=13"/>
          <p:cNvPicPr/>
          <p:nvPr/>
        </p:nvPicPr>
        <p:blipFill>
          <a:blip r:embed="rId1"/>
          <a:stretch/>
        </p:blipFill>
        <p:spPr>
          <a:xfrm>
            <a:off x="609480" y="2057400"/>
            <a:ext cx="7777440" cy="4572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Прямоугольник 1"/>
          <p:cNvSpPr/>
          <p:nvPr/>
        </p:nvSpPr>
        <p:spPr>
          <a:xfrm>
            <a:off x="533520" y="609480"/>
            <a:ext cx="83055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Успех – это душевная гармо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Успех – это, значит, быть счастлив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Успех – это реализация самого себя и раскрытие своего потенциа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Успех – это наполненность в жиз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Успех – это, значит, заниматься любимым делом, которое вас зажигает и вы можете делать это круглосуточ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Успех – это отдавать себя для других и делать этот мир лучше, а других людей счастливее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WordArt 4"/>
          <p:cNvSpPr txBox="1"/>
          <p:nvPr/>
        </p:nvSpPr>
        <p:spPr>
          <a:xfrm>
            <a:off x="1143000" y="228600"/>
            <a:ext cx="69343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40" name="Text Box 5"/>
          <p:cNvSpPr/>
          <p:nvPr/>
        </p:nvSpPr>
        <p:spPr>
          <a:xfrm>
            <a:off x="1066680" y="1600200"/>
            <a:ext cx="69343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Прямоугольник 3"/>
          <p:cNvSpPr/>
          <p:nvPr/>
        </p:nvSpPr>
        <p:spPr>
          <a:xfrm>
            <a:off x="1371600" y="304812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Прямоугольник 1"/>
          <p:cNvSpPr/>
          <p:nvPr/>
        </p:nvSpPr>
        <p:spPr>
          <a:xfrm>
            <a:off x="685800" y="609480"/>
            <a:ext cx="8001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Определение дано в словаре С.И. Ожегов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Успе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щественное признание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дача в достижении чего-нибудь, хорошие результаты в работе, учебе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357120" y="228240"/>
            <a:ext cx="8229600" cy="49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Если жизнь не меняется, измени отношение к жизни. стань счастливым «по собственному желанию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«Делай, что можешь тем, что имеешь там, где ты ест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Вырабатывай в себе характ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Умей распределять время. Вера в успе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2" descr="http://www.sunhome.ru/UsersGallery/052008/242221.jpg"/>
          <p:cNvPicPr/>
          <p:nvPr/>
        </p:nvPicPr>
        <p:blipFill>
          <a:blip r:embed="rId1"/>
          <a:stretch/>
        </p:blipFill>
        <p:spPr>
          <a:xfrm>
            <a:off x="5334120" y="4114800"/>
            <a:ext cx="3711600" cy="26226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ff"/>
                </a:solidFill>
                <a:latin typeface="Arial"/>
              </a:rPr>
              <a:t>Формула  к успеху =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Цель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+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Качест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Действ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WordArt 4"/>
          <p:cNvSpPr txBox="1"/>
          <p:nvPr/>
        </p:nvSpPr>
        <p:spPr>
          <a:xfrm>
            <a:off x="1143000" y="228600"/>
            <a:ext cx="69343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48" name="Text Box 5"/>
          <p:cNvSpPr/>
          <p:nvPr/>
        </p:nvSpPr>
        <p:spPr>
          <a:xfrm>
            <a:off x="1066680" y="1600200"/>
            <a:ext cx="69343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Прямоугольник 3"/>
          <p:cNvSpPr/>
          <p:nvPr/>
        </p:nvSpPr>
        <p:spPr>
          <a:xfrm>
            <a:off x="1371600" y="304812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Прямоугольник 1"/>
          <p:cNvSpPr/>
          <p:nvPr/>
        </p:nvSpPr>
        <p:spPr>
          <a:xfrm>
            <a:off x="914400" y="533520"/>
            <a:ext cx="7162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00000"/>
                </a:solidFill>
                <a:latin typeface="Arial"/>
              </a:rPr>
              <a:t>Упражнение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ff"/>
                </a:solidFill>
                <a:latin typeface="Arial"/>
              </a:rPr>
              <a:t>«Портрет успешного человека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5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4" name="Объект 4"/>
          <p:cNvGraphicFramePr/>
          <p:nvPr/>
        </p:nvGraphicFramePr>
        <p:xfrm>
          <a:off x="457200" y="247680"/>
          <a:ext cx="8381880" cy="595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5" name="Объект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47680"/>
                    <a:ext cx="8381880" cy="59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user</cp:lastModifiedBy>
  <dcterms:modified xsi:type="dcterms:W3CDTF">2024-01-30T13:57:10Z</dcterms:modified>
  <cp:revision>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