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jpeg" ContentType="image/jpeg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D0D-D631-4F5B-91EB-F900E819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92C-BF32-44DC-9ABB-1C2B149E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7B9D5-0906-4866-B475-A74C4A59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2BC23-6895-4B67-B857-8A64A94C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BF884-DCB5-4911-9040-0A3B9B3E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78A9A-A1C0-44F7-AFBE-6CB3D2C4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87E28-E987-4BED-BB7F-42A18C93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3194F-5B8F-49F5-91E4-52B37A7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8EA69-6C11-4784-9FB8-305FA05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BDC76-A476-4D86-8A94-9C369243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1424F-AEED-4388-AA93-E9AD3F43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1BC96-76F2-41C6-B6B3-CC4289BE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B52-73AC-43E7-9FB3-38284B10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692D6-2F4F-4657-AB5E-658CD5C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11703-0B80-400A-9A0B-8CA28940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E3154-C25C-4635-B68B-3D2D0BDB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49FC5-423C-4568-A0D3-E2833620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2BCA1-F4CC-4561-9A76-794D6457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52357-BFD4-4BE3-A2BB-4FACE56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AE950-F762-4FF9-9C9B-64CBABF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69F6D-88AC-423F-B0C1-9EAC7A38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3081B-B97C-49FF-A196-CA59704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C0679-EDD4-4F29-ABAC-D6B4E18D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CBE-2D74-4EE1-91BF-0742B594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C554D-BE59-4DDA-8CDE-21CEBA2B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96027-1D26-4789-9839-E20DE26C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019CD-5A20-44B7-9ECB-5D42B7D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DA9C5-0F38-4B47-AE3A-7CB2687F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91BB4-D4E0-4A20-9508-2D21C68F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CEAAF-8A6F-462C-9937-6C9CA3B0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917A0-1E16-48E9-A039-5C5F91AD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EEB95-2318-4704-8CA8-91393C85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6F238-D924-4088-926B-39133826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8581F-824D-4CEE-A158-982818B7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B6E5-5466-419E-BEC3-336C6A0B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FA10F-2A91-4E22-AC25-A74020A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0A6E1-C40B-40B4-BBB7-9C849448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7AF6F-4C48-4D83-94BB-D8040C45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026D9-3275-4B1A-84AE-37BD0EE3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1F7E1-44FC-4E97-860D-6044F649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100B1-344F-462E-B4EB-8EBD63AE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ABFF6-87AA-48F7-8AC9-EECCCDEA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E50B6-EC51-4A7E-9BD8-31657555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7DADB-7A10-4E51-B254-929F96AF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8136F-0FE3-4799-9B1B-A0C0514C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815D-6D59-4528-B601-B2386E22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A5357-3312-462C-A799-D64D38C2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F61C6-D3E9-4454-AFCD-5C7AE059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776DE-E750-4DFD-BFD8-6E5A85CB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A72F4-E6D1-4715-A7CC-A38055D0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DADCB-0E2C-498C-A069-CD8F1C21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25D65-68E2-4A3F-A1C9-D81536B9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1417B-3367-4099-8804-B62C39EF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76E87-81F3-4971-8DAB-97112F6F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8047B-D05A-4B21-BE56-F48F05C8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615FB-8469-4F9B-80FF-0F8E053B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749B-B93F-4592-8CCE-1B17FB97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5F72E-0335-45C1-AC01-732479C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6D97D-2D9C-428A-8C76-E36D1B4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F2DB7-DE7C-465F-9971-A9DB002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B1056-D4CB-49C0-AA86-A674389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EC9F8-25D6-4698-A807-C8C1DAC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16FF7-98B3-41CD-B273-78CE319A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CD1D6-77B0-45C2-8C79-7468CA65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A512-ECCD-40C1-8C6E-02C54C35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877F-FF91-4905-AA5A-FC75E4D3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C7B7-CC63-4C02-8DA0-BDED0D2C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2040-8166-4802-B09B-038EA4F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C03-D07B-4613-9C79-08770E04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47D9-440B-47C1-9D77-D8FC497C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2899-5E58-4FA6-9BAE-EB11C24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7419-08DE-41A0-AA48-FB37CFFC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130C-7219-4054-B94A-02C69471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14A0-6649-4DD3-95E2-4C821602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A5DF-452E-46A7-975A-1C3726D7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61AC-1737-48A8-8003-B92FF6AE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533D-D341-44F9-AEAA-3BA3FD64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66B5-A928-4BF8-B1ED-3C13138C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1457-D182-4598-B51C-1337D78D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4C5-BB2B-47F0-9E7C-2F464192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D5A3-8B9D-4620-A945-A9F9F94B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F21F-458E-4096-9F80-D3C93D6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FB55-3919-4692-8DEF-7CC032DA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EC7F-B10E-4109-94F1-238782D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B132-7A3B-4C61-B8A6-4393AE0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E8DF-A828-4DC6-A62D-D90403AF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68E2-A3DD-4852-98AA-F31D6935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5C110-51D6-4551-9782-7ADEF125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1FE1-BF44-440B-870F-F3E89687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314A-7D0E-45BD-9134-9A525AD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B56-6A8F-449E-9F4F-8D4666D4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467D-FB33-4278-99C1-67C942FB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9814-95C3-4EBC-8908-BEBC235C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9227F-C045-4FB3-9036-94C65A35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C3E0-CE11-4FC8-9D4D-E62226D3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2BFE-8397-41F4-BA6A-D1F30DDE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84A3-144E-4079-8CCB-AEEDB55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F7C6-FBE5-42D3-990D-9E3F5035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9244-6A28-4C57-A3B8-F4B2453D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6B8F-823D-405D-88DA-1ED134F2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2C563-8041-4A91-BDD4-898C421B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25A-1038-4628-9D60-4122A38F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2441D-6FA4-4DEA-AB7E-73F56829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C518F-B830-4FBF-8016-41D82895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BFD9-B148-4BD9-9C76-1344F013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1291F-F41D-466D-8E49-10065AEC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77082-5126-46F4-8B6E-D9C0275E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ADB0-D20A-4A6C-BC1E-52C3EFD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4280-B550-4C06-A652-4F52315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8394-180F-47A0-B470-99AC6B49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BAC5-D306-451D-BD7C-AB065A23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6D0B-2A4D-4C0B-8800-B4D1B00E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630-EBCE-47EC-8D78-DFDB245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AF78-CAF0-44FA-9A6B-FDE78B55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E973-4DEB-45EC-8B99-24899230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56BAB-35A2-4E1E-BAFE-F3CFB51E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9333-E758-4479-91C9-6EA18B41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C025B-40CA-4DF3-A009-1CF49569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7A5D0-1CBD-4077-BC41-1328C8A5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3813A-EDA8-4551-AF4E-4CAB2BF6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82396-CDA7-47AC-814A-2E705B1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00B97-FDA4-4485-9688-4A2004C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E0200-E21C-412F-A750-54C40CAE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6BA-7DC9-45B2-AADD-D98BFC4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BE802-BB87-49EC-A27A-EA403A2A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79CBB-850B-4DD8-A004-A1BF8A41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85A4-22DD-410C-BBD0-B235F471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96FE4-8B84-4B37-9F30-58938EFD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68FCA-02BD-4309-B103-068AB60D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ED43F-7792-4673-B425-8B04E9F7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9CB35-A630-4A2F-8675-6D7785B8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5F6DA-A294-4934-82CF-516853EE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A2A2D-C2CE-4F58-A12B-968A317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8D5CB-4C01-41A3-B59F-F7BF2993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5B1-08B0-4B24-B69F-47B903AD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44D9-D8BE-4771-ABF9-A2937933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AE466-C426-4D11-98EA-CF54A1F3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317CE-6287-43A4-88A5-688DE77C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20AF-C13A-416A-8470-68DB7864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24773-FC42-40F0-853E-411AF47C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BD5A4-E87B-4858-A4F1-BAE659DE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ACA80-71C9-4563-9488-C8B25E68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B560C-93A5-4901-9924-6CE5472A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E27A5-EEF8-485A-89EE-6D0A60BF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38662-6C4A-4202-AE19-46DFA29C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E27-ED5B-437C-B5F4-F2A5C1BF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352CD-9837-4CF0-9583-26A0202C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2DC34-E213-4255-8A71-6750EEE4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0178E-711E-401E-8C4D-A3546FBE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9344-695F-4066-A3F1-9A03EC4A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E74F1-C3C7-480B-B826-FFC57365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290E0-B09A-4FB6-8446-1DFC9474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3A16F-A761-47B7-B991-3A8F87D8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7A773-A609-4FAE-8CC7-66359B45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FB13F-98C9-4181-B785-A19E26AC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F32AA-F533-4225-9012-A2ADD15A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78BC-D420-424D-801F-2B8E5FF41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FDA9-8425-4F9E-B87B-2606A729364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AD51-178D-469C-A07B-9A4931FA83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C909-FC06-440C-BB58-B8BA6BF880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72E6-7E84-42A3-ACBC-7B9BF9D6FF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C255-DE02-4043-A7D8-24CD9B09E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A272-E720-4BFD-B609-D30061506B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89C8-A0E6-476B-864A-F71E7CE39A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A71-1D03-46DC-B817-E55E45EA09F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B965-3213-432D-8009-6543EE93F17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D02A-EA34-48C4-9096-79D1ECCFCB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9C05-CDE7-40B3-9B02-6F4531F107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F301-807E-4D24-AFF3-84AE01609A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3.hostingkartinok.com/uploads/images/2013/07/079d2226cc846b69d86f8ff88c353d8d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Рисунок 1" descr=""/>
          <p:cNvPicPr/>
          <p:nvPr/>
        </p:nvPicPr>
        <p:blipFill>
          <a:blip r:embed="rId1"/>
          <a:stretch/>
        </p:blipFill>
        <p:spPr>
          <a:xfrm>
            <a:off x="914400" y="-38160"/>
            <a:ext cx="7543800" cy="6791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пе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результаты в работе, учебе; побед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http://s3.hostingkartinok.com/uploads/images/2013/07/079d2226cc846b69d86f8ff88c353d8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469880"/>
            <a:ext cx="63244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4"/>
          <p:cNvSpPr txBox="1"/>
          <p:nvPr/>
        </p:nvSpPr>
        <p:spPr>
          <a:xfrm>
            <a:off x="533520" y="228600"/>
            <a:ext cx="7848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390600" y="-167760"/>
            <a:ext cx="8229600" cy="3993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О!      Чтобы так и было помните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 - сами творцы своего будущего!!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ждый должен сотворить себя сам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://im7-tub-ru.yandex.net/i?id=350006344-07-72&amp;n=21"/>
          <p:cNvPicPr/>
          <p:nvPr/>
        </p:nvPicPr>
        <p:blipFill>
          <a:blip r:embed="rId1"/>
          <a:stretch/>
        </p:blipFill>
        <p:spPr>
          <a:xfrm>
            <a:off x="3352680" y="3352680"/>
            <a:ext cx="2621160" cy="3429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1"/>
          <p:cNvSpPr/>
          <p:nvPr/>
        </p:nvSpPr>
        <p:spPr>
          <a:xfrm>
            <a:off x="1143000" y="685800"/>
            <a:ext cx="7620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В каждом человеке солнце, только дайте ему светить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"/>
          <p:cNvSpPr/>
          <p:nvPr/>
        </p:nvSpPr>
        <p:spPr>
          <a:xfrm>
            <a:off x="1295280" y="838080"/>
            <a:ext cx="693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ff"/>
                </a:solidFill>
                <a:latin typeface="Monotype Corsiva"/>
                <a:ea typeface="Times New Roman"/>
              </a:rPr>
              <a:t>Желаю успех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9" descr="CATZMAIL"/>
          <p:cNvPicPr/>
          <p:nvPr/>
        </p:nvPicPr>
        <p:blipFill>
          <a:blip r:embed="rId1"/>
          <a:stretch/>
        </p:blipFill>
        <p:spPr>
          <a:xfrm>
            <a:off x="5029200" y="2333520"/>
            <a:ext cx="3809880" cy="4464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1214280" y="0"/>
            <a:ext cx="6786720" cy="6786720"/>
          </a:xfrm>
          <a:prstGeom prst="rect">
            <a:avLst/>
          </a:prstGeom>
          <a:ln w="0">
            <a:noFill/>
          </a:ln>
        </p:spPr>
      </p:pic>
      <p:pic>
        <p:nvPicPr>
          <p:cNvPr id="535" name="Заголовок 1" descr=""/>
          <p:cNvPicPr/>
          <p:nvPr/>
        </p:nvPicPr>
        <p:blipFill>
          <a:blip r:embed="rId2"/>
          <a:stretch/>
        </p:blipFill>
        <p:spPr>
          <a:xfrm>
            <a:off x="1262160" y="4816440"/>
            <a:ext cx="6486480" cy="1736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457200" y="380880"/>
            <a:ext cx="7929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Arial"/>
              </a:rPr>
              <a:t>Упражн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ff00ff"/>
                </a:solidFill>
                <a:latin typeface="Arial"/>
              </a:rPr>
              <a:t>Говорящий микроф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Рисунок 2" descr="https://avatars.mds.yandex.net/i?id=530067eacdf9e9c1b9ea727ac657ec4f4d3c4b07-9106782-images-thumbs&amp;n=13"/>
          <p:cNvPicPr/>
          <p:nvPr/>
        </p:nvPicPr>
        <p:blipFill>
          <a:blip r:embed="rId1"/>
          <a:stretch/>
        </p:blipFill>
        <p:spPr>
          <a:xfrm>
            <a:off x="609480" y="2057400"/>
            <a:ext cx="7777440" cy="457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Прямоугольник 1"/>
          <p:cNvSpPr/>
          <p:nvPr/>
        </p:nvSpPr>
        <p:spPr>
          <a:xfrm>
            <a:off x="533520" y="60948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 душевная гармо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, значит, быть счастли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 реализация самого себя и раскрытие своего потенц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 наполненность в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, значит, заниматься любимым делом, которое вас зажигает и вы можете делать это круглосуто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 отдавать себя для других и делать этот мир лучше, а других людей счастливее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4"/>
          <p:cNvSpPr txBox="1"/>
          <p:nvPr/>
        </p:nvSpPr>
        <p:spPr>
          <a:xfrm>
            <a:off x="1143000" y="22860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066680" y="1600200"/>
            <a:ext cx="69343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"/>
          <p:cNvSpPr/>
          <p:nvPr/>
        </p:nvSpPr>
        <p:spPr>
          <a:xfrm>
            <a:off x="1371600" y="3048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"/>
          <p:cNvSpPr/>
          <p:nvPr/>
        </p:nvSpPr>
        <p:spPr>
          <a:xfrm>
            <a:off x="685800" y="6094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пределение дано в словаре С.И. Ожег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спе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призна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ача в достижении чего-нибудь, хорошие результаты в работе, учеб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57120" y="2282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Если жизнь не меняется, измени отношение к жизни. стань счастливым «по собственному желани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«Делай, что можешь тем, что имеешь там, где ты е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рабатывай в себе харак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Умей распределять время. Вера в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http://www.sunhome.ru/UsersGallery/052008/242221.jpg"/>
          <p:cNvPicPr/>
          <p:nvPr/>
        </p:nvPicPr>
        <p:blipFill>
          <a:blip r:embed="rId1"/>
          <a:stretch/>
        </p:blipFill>
        <p:spPr>
          <a:xfrm>
            <a:off x="5334120" y="4114800"/>
            <a:ext cx="3711600" cy="2622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Формула  к успеху =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Цел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Кач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ейст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WordArt 4"/>
          <p:cNvSpPr txBox="1"/>
          <p:nvPr/>
        </p:nvSpPr>
        <p:spPr>
          <a:xfrm>
            <a:off x="1143000" y="22860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066680" y="1600200"/>
            <a:ext cx="69343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1371600" y="3048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"/>
          <p:cNvSpPr/>
          <p:nvPr/>
        </p:nvSpPr>
        <p:spPr>
          <a:xfrm>
            <a:off x="914400" y="53352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Arial"/>
              </a:rPr>
              <a:t>Упражне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ff"/>
                </a:solidFill>
                <a:latin typeface="Arial"/>
              </a:rPr>
              <a:t>«Портрет успешного челове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Объект 4"/>
          <p:cNvGraphicFramePr/>
          <p:nvPr/>
        </p:nvGraphicFramePr>
        <p:xfrm>
          <a:off x="457200" y="247680"/>
          <a:ext cx="8381880" cy="595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5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47680"/>
                    <a:ext cx="838188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24-01-30T13:57:10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