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E74B-8C64-4002-928B-EBC805BD75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7696-87BD-4720-8019-E3385B51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8928-4740-42B9-BD30-52E51C1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1F475-46F3-40D8-BC53-820DEB9CFF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CDBAB-450E-4B2C-B01A-077AAA0F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13DF7-D1B9-4776-8BB1-7C9765F3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94DC-E9F7-465C-9119-0BFC8190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24330-9D03-480A-8A5A-898B2458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108C-0683-4056-AE1F-6F7D5983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567E-1ADF-40F9-BE9B-EA0B745E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47F9-0519-4EA9-AB19-CF0D997B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D058-5320-48AA-A719-32FA6D30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449084-EF75-4B31-869C-83592A46EA9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емократические выборы и политические парт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142920" y="0"/>
            <a:ext cx="8786880" cy="66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литическая партия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общественное объединение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зданное в целях участия граждан РФ в политической жизни общества посредством формирования и выражения их политической воли, участия в общественных и политических акциях, в выборах и референдумах, а также в целях представления интересов граждан в органах государственной власти и органах местного самоуправлени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                    (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З «О политических партиях РФ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организованная группа единомышленников, выражающая интересы определенных социальных слоев и стремящаяся к достижению определенных политических целей (завоевание гос.власти или участие в ее осуществлении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руппа единомышленников, ставящая цель завоевание власти законным путем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2920" y="0"/>
          <a:ext cx="8788320" cy="6669000"/>
        </p:xfrm>
        <a:graphic>
          <a:graphicData uri="http://schemas.openxmlformats.org/drawingml/2006/table">
            <a:tbl>
              <a:tblPr/>
              <a:tblGrid>
                <a:gridCol w="147600"/>
                <a:gridCol w="8640720"/>
              </a:tblGrid>
              <a:tr h="420840">
                <a:tc>
                  <a:txBody>
                    <a:bodyPr lIns="0" rIns="0" tIns="43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7360" rIns="27360" tIns="42480" bIns="273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Отличительные признаки политических парт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7360" marR="27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ce4"/>
                    </a:solidFill>
                  </a:tcPr>
                </a:tc>
              </a:tr>
              <a:tr h="6248160">
                <a:tc gridSpan="2">
                  <a:txBody>
                    <a:bodyPr lIns="27360" rIns="27360" tIns="27360" bIns="2736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ситель определенной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деолог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или особого видения мира и человека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еленность на завоевание и осуществление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ласти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литическая программа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де сформулированы цели и стратегия партии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рганизаци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уководящие органы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как центральные, так и местные, на которых лежит задача выработки стратегий и тактик политической активности парти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член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ртийный устав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щий важнейшие нормы внутрипартийной жизни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2000"/>
                        </a:lnSpc>
                        <a:buClr>
                          <a:srgbClr val="ff0000"/>
                        </a:buClr>
                        <a:buFont typeface="Arial"/>
                        <a:buChar char="•"/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азветвленная сеть первичных местных организаций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оящая из добровольных активис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7360" marR="27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42920" y="0"/>
          <a:ext cx="8788320" cy="6856560"/>
        </p:xfrm>
        <a:graphic>
          <a:graphicData uri="http://schemas.openxmlformats.org/drawingml/2006/table">
            <a:tbl>
              <a:tblPr/>
              <a:tblGrid>
                <a:gridCol w="69840"/>
                <a:gridCol w="8718480"/>
              </a:tblGrid>
              <a:tr h="591480">
                <a:tc>
                  <a:txBody>
                    <a:bodyPr lIns="0" rIns="0" tIns="396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3760" rIns="23760" tIns="46440" bIns="2376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Функции политических партий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3760" marR="23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4fce4"/>
                    </a:solidFill>
                  </a:tcPr>
                </a:tc>
              </a:tr>
              <a:tr h="6267240">
                <a:tc gridSpan="2">
                  <a:txBody>
                    <a:bodyPr lIns="23760" rIns="23760" tIns="33840" bIns="23760" anchor="t">
                      <a:noAutofit/>
                    </a:bodyPr>
                    <a:p>
                      <a:pPr marL="88920">
                        <a:lnSpc>
                          <a:spcPct val="95000"/>
                        </a:lnSpc>
                        <a:tabLst>
                          <a:tab algn="l" pos="0"/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тическая - овладение государственной властью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ельская - выражение интересов определенных групп и слоев населения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лекторальная - организация и участие в избирательных кампаниях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изации - воспитание преданных членов и формирование политической культуры граждан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круиторская - отбор и выдвижение политически грамотных лидеров для парламента и правительства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88920">
                        <a:lnSpc>
                          <a:spcPct val="102000"/>
                        </a:lnSpc>
                        <a:tabLst>
                          <a:tab algn="l" pos="0"/>
                          <a:tab algn="l" pos="88920"/>
                          <a:tab algn="l" pos="1003320"/>
                          <a:tab algn="l" pos="1917720"/>
                          <a:tab algn="l" pos="2832120"/>
                          <a:tab algn="l" pos="3746520"/>
                          <a:tab algn="l" pos="4660920"/>
                          <a:tab algn="l" pos="5575320"/>
                          <a:tab algn="l" pos="6489720"/>
                          <a:tab algn="l" pos="7404120"/>
                          <a:tab algn="l" pos="8318520"/>
                          <a:tab algn="l" pos="9232920"/>
                          <a:tab algn="l" pos="1014732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23760" marR="23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1"/>
          <p:cNvGraphicFramePr/>
          <p:nvPr/>
        </p:nvGraphicFramePr>
        <p:xfrm>
          <a:off x="428760" y="142920"/>
          <a:ext cx="8215200" cy="67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42920"/>
                    <a:ext cx="8215200" cy="67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428760" y="142920"/>
            <a:ext cx="8072280" cy="6500880"/>
          </a:xfrm>
          <a:prstGeom prst="rect">
            <a:avLst/>
          </a:prstGeom>
          <a:ln w="0">
            <a:noFill/>
          </a:ln>
        </p:spPr>
      </p:pic>
      <p:sp>
        <p:nvSpPr>
          <p:cNvPr id="84" name="Line 2"/>
          <p:cNvSpPr/>
          <p:nvPr/>
        </p:nvSpPr>
        <p:spPr>
          <a:xfrm>
            <a:off x="571680" y="2000160"/>
            <a:ext cx="1440" cy="114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64396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ТИЙНАЯ СИСТЕМ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совокупность всех существующих и действующих в стране парт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523800" y="853920"/>
            <a:ext cx="9753480" cy="602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142920" y="214200"/>
            <a:ext cx="8858160" cy="18576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бирательн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особый политический институт, связанный с организацией выборов политических деятелей, способом проведения голосования и определения его результатов, а также с распределением мандатов между парт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бирательная систем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рядок выборов в представительные учреждения и выборных должностных лиц, а также определения результатов голос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2857680" y="2357280"/>
            <a:ext cx="4643280" cy="4287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мпоненты избиратель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14200" y="3000240"/>
            <a:ext cx="392904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Избирательное право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правовых норм о порядке вы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715000" y="3000240"/>
            <a:ext cx="300024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Избирательный процесс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мплекс действий в процессе вы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14200" y="4214880"/>
            <a:ext cx="2071800" cy="242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В узком смы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итическое право гражданина избирать (активное право) и быть избранным (пассивное прав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571840" y="4214880"/>
            <a:ext cx="1785960" cy="2428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В широком смы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ирательные законы и иные акты (инструкции, разъясн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000760" y="4143240"/>
            <a:ext cx="4000320" cy="2571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тад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Подготовительная (название даты выборов, регистрация, учет избирателе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движение и регистрация кандида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едвыборная агитация и финансирование выбор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Голосование и подведение ит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" name="AutoShape 8"/>
          <p:cNvCxnSpPr>
            <a:stCxn id="43" idx="2"/>
          </p:cNvCxnSpPr>
          <p:nvPr/>
        </p:nvCxnSpPr>
        <p:spPr>
          <a:xfrm flipH="1">
            <a:off x="3644640" y="2785680"/>
            <a:ext cx="573840" cy="965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0" name="AutoShape 9"/>
          <p:cNvCxnSpPr>
            <a:stCxn id="44" idx="2"/>
          </p:cNvCxnSpPr>
          <p:nvPr/>
        </p:nvCxnSpPr>
        <p:spPr>
          <a:xfrm flipH="1">
            <a:off x="931680" y="3786120"/>
            <a:ext cx="357840" cy="892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1" name="AutoShape 10"/>
          <p:cNvCxnSpPr>
            <a:stCxn id="44" idx="2"/>
          </p:cNvCxnSpPr>
          <p:nvPr/>
        </p:nvCxnSpPr>
        <p:spPr>
          <a:xfrm>
            <a:off x="1824120" y="3786120"/>
            <a:ext cx="357840" cy="1108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2" name="AutoShape 11"/>
          <p:cNvCxnSpPr>
            <a:stCxn id="45" idx="2"/>
          </p:cNvCxnSpPr>
          <p:nvPr/>
        </p:nvCxnSpPr>
        <p:spPr>
          <a:xfrm flipH="1">
            <a:off x="6928560" y="3787920"/>
            <a:ext cx="28836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3" name="AutoShape 12"/>
          <p:cNvCxnSpPr>
            <a:stCxn id="43" idx="2"/>
            <a:endCxn id="45" idx="1"/>
          </p:cNvCxnSpPr>
          <p:nvPr/>
        </p:nvCxnSpPr>
        <p:spPr>
          <a:xfrm>
            <a:off x="4574880" y="2787120"/>
            <a:ext cx="608760" cy="537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В Российской Федерации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бирать имеют право лица, достигшие 18-летне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18-летнего возраста можно избираться депутатом местного сове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21 года – депутатом Государственной Дум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30 лет – главой администрации субъектов Р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35 – Президентом стра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107172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Типы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избирательных сист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2"/>
          <p:cNvSpPr/>
          <p:nvPr/>
        </p:nvSpPr>
        <p:spPr>
          <a:xfrm flipH="1">
            <a:off x="2284200" y="1071720"/>
            <a:ext cx="87156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5500800" y="1071720"/>
            <a:ext cx="785880" cy="42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000080" y="1357200"/>
            <a:ext cx="3959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609dd"/>
                </a:solidFill>
                <a:latin typeface="Times New Roman"/>
              </a:rPr>
              <a:t>Мажоритар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(Беларусь,  Англия, Франция, Япо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429160" y="1428840"/>
            <a:ext cx="3238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609dd"/>
                </a:solidFill>
                <a:latin typeface="Times New Roman"/>
              </a:rPr>
              <a:t>Пропорциональн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Россия (ГД), Италия, Израиль, Швейцария, Нидерланды, Чех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786120" y="2643120"/>
            <a:ext cx="5828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 flipH="1">
            <a:off x="1426680" y="2643120"/>
            <a:ext cx="64620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85840" y="3286080"/>
            <a:ext cx="230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бсолютного больши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встрал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786040" y="3357720"/>
            <a:ext cx="2589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носительного больши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ША, Канада, Инд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14200" y="528624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3609dd"/>
                </a:solidFill>
                <a:latin typeface="Times New Roman"/>
              </a:rPr>
              <a:t>Смешан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основана на принципах мажоритарной и пропорциональной систем. (Франция, Италия, Польш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42920" y="142920"/>
            <a:ext cx="87868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мажоритарной (лат. большинство) сист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42920" y="714240"/>
            <a:ext cx="8858160" cy="58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территория страны разбивается на территориальные единицы – избирательные округа (одномандатны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ется только один депута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уют за личность того или иного кандидат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голосования определяются большинством гол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ложительная сторо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тся прямая ответственность избранного депутата со своими избирателями и населением окру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ет партии-победителю значительное большинство в парламенте, позволяющее при парламентарных и смешанных формах правления формировать устойчивое правитель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о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шие незначительное меньшинство могут быть вообще не представлены во властных структурах (парламент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ая нерезультативность выборов, которая приводит к повторному голосова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и исключает возможность победы на выборах маленькой парт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142920" y="142920"/>
            <a:ext cx="885816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жоритарная (лат. большинство) система –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ма определения результатов выборов, согласно которой избранным считается кандидат, набравший установленное законом большинство голосов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142920" y="2143080"/>
            <a:ext cx="8858160" cy="39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тносительного большинств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вшим считается кандидат, набравший простое большинство гол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победы на таких выборах число набранных голосов может быть менее 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голосование в один и два ту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солютного большинства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ранным считается кандидат, который набрал абсолютное большинство голосов, 50% + 1 гол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ется при выборах Президента России и во Фра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928800" y="335772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85840" y="142920"/>
            <a:ext cx="85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порциональной систем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14200" y="1071720"/>
            <a:ext cx="8643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едставительства партий и движений, основанная на том, что каждая партия получает в парламенте число мандатов пропорционально количеству голосов, поданных за ее кандидатов на выбор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страны объявляется единым избирательным округ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 партии выдвигают списки своих кандида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и голосуют только за один из таких спис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уют не за личность, а за партии в масштабе всей ст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одсчета голосов партии получают число мест в представительные органы четко пропорционально числу отданных за них голос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-246240"/>
            <a:ext cx="8229600" cy="15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обенности пропорциональной системы: </a:t>
            </a:r>
            <a:br>
              <a:rPr sz="40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714240"/>
            <a:ext cx="82296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оинства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широкий спектр политических партий, тем самым отражая волю меньшинст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гарантом представительства в парламенте мелких и средних парт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достатки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ранные депутаты ответственны перед партией, а не избирателя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ь выбирает список кандидатов, которые в большинстве ему не известн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мелких фракций в парламенте препятствуют принятию нужных решени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мешанная сист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асть мест распределяется в соответствии с мажоритарной системой, а другая часть в соответствии с пропорциональной системо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язательное введение нижнего предела, который препятствует прохождению в парламент слишком мелких парти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РФ выборы Президента по мажоритарной системе, выборы депутатов ГД по пропорциональной систем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Достоин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уется действительно представительный парламен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Недостат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большей степени благоприятна для столичных партий, чем для местных политических объединений и независимых кандидат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ртии не отражают в полном объеме интересы своих избирателе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0T16:05:54Z</dcterms:created>
  <dc:creator>Admin</dc:creator>
  <dc:description/>
  <dc:language>en-US</dc:language>
  <cp:lastModifiedBy>User</cp:lastModifiedBy>
  <dcterms:modified xsi:type="dcterms:W3CDTF">2023-09-13T07:43:39Z</dcterms:modified>
  <cp:revision>29</cp:revision>
  <dc:subject/>
  <dc:title>Демократические выборы и политические партии</dc:title>
</cp:coreProperties>
</file>