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F3F5-D52A-4841-BF3D-A9E043710D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7210-A8F0-4BE2-BB46-58A7B332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209A-4E04-4B3C-A46C-56081200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63C1B-9311-486F-90C8-9A36C3D710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D5EA-0477-4D2C-97BA-5668CA41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F844-04DB-4009-9109-7DEEA0FE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E76E-6040-4343-A39A-6619B35E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E049-AB1F-44BB-A24C-8703FB73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0C53-06F9-4472-BBC2-1F041D4A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2BDD-826F-4A01-99A7-BAE52481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93C3-D32C-4462-A318-CBB3723F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333D-5F1A-4FD6-977A-571C3D87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5DA9D6-E694-412E-8636-BCBCCB749B5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мократические выборы и политические парт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142920" y="0"/>
            <a:ext cx="878688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итическая партия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общественное объединение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ное в целях участия граждан РФ в политической жизни общества посредством формирования и выражения их политической воли, участия в общественных и политических акциях, в выборах и референдумах, а также в целях представления интересов граждан в органах государственной власти и органах местного самоуправления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        (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З «О политических партиях РФ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организованная группа единомышленников, выражающая интересы определенных социальных слоев и стремящаяся к достижению определенных политических целей (завоевание гос.власти или участие в ее осуществлени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руппа единомышленников, ставящая цель завоевание власти законным пут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2920" y="0"/>
          <a:ext cx="8788320" cy="6669000"/>
        </p:xfrm>
        <a:graphic>
          <a:graphicData uri="http://schemas.openxmlformats.org/drawingml/2006/table">
            <a:tbl>
              <a:tblPr/>
              <a:tblGrid>
                <a:gridCol w="147600"/>
                <a:gridCol w="8640720"/>
              </a:tblGrid>
              <a:tr h="420840">
                <a:tc>
                  <a:txBody>
                    <a:bodyPr lIns="0" rIns="0" tIns="43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7360" rIns="27360" tIns="42480" bIns="27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личительные признаки политических парт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ce4"/>
                    </a:solidFill>
                  </a:tcPr>
                </a:tc>
              </a:tr>
              <a:tr h="6248160">
                <a:tc gridSpan="2">
                  <a:txBody>
                    <a:bodyPr lIns="27360" rIns="27360" tIns="27360" bIns="27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ситель определенной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деолог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ли особого видения мира и человека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еленность на завоевание и осуществление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ласти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литическая программ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 сформулированы цели и стратегия партии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рганизаци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уководящие органы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ак центральные, так и местные, на которых лежит задача выработки стратегий и тактик политической активности парти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член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ртийный устав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щий важнейшие нормы внутрипартийной жизни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зветвленная сеть первичных местных организаций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оящая из добровольных активис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42920" y="0"/>
          <a:ext cx="8788320" cy="6856560"/>
        </p:xfrm>
        <a:graphic>
          <a:graphicData uri="http://schemas.openxmlformats.org/drawingml/2006/table">
            <a:tbl>
              <a:tblPr/>
              <a:tblGrid>
                <a:gridCol w="69840"/>
                <a:gridCol w="8718480"/>
              </a:tblGrid>
              <a:tr h="591480">
                <a:tc>
                  <a:txBody>
                    <a:bodyPr lIns="0" rIns="0" tIns="396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3760" rIns="23760" tIns="46440" bIns="237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ункции политических парти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ce4"/>
                    </a:solidFill>
                  </a:tcPr>
                </a:tc>
              </a:tr>
              <a:tr h="6267240">
                <a:tc gridSpan="2">
                  <a:txBody>
                    <a:bodyPr lIns="23760" rIns="23760" tIns="33840" bIns="23760" anchor="t">
                      <a:noAutofit/>
                    </a:bodyPr>
                    <a:p>
                      <a:pPr marL="88920">
                        <a:lnSpc>
                          <a:spcPct val="95000"/>
                        </a:lnSpc>
                        <a:tabLst>
                          <a:tab algn="l" pos="0"/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итическая - овладение государственной властью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ительская - выражение интересов определенных групп и слоев населения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оральная - организация и участие в избирательных кампаниях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изации - воспитание преданных членов и формирование политической культуры граждан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круиторская - отбор и выдвижение политически грамотных лидеров для парламента и правительства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tabLst>
                          <a:tab algn="l" pos="0"/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1"/>
          <p:cNvGraphicFramePr/>
          <p:nvPr/>
        </p:nvGraphicFramePr>
        <p:xfrm>
          <a:off x="428760" y="142920"/>
          <a:ext cx="8215200" cy="67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42920"/>
                    <a:ext cx="8215200" cy="67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6500880"/>
          </a:xfrm>
          <a:prstGeom prst="rect">
            <a:avLst/>
          </a:prstGeom>
          <a:ln w="0">
            <a:noFill/>
          </a:ln>
        </p:spPr>
      </p:pic>
      <p:sp>
        <p:nvSpPr>
          <p:cNvPr id="84" name="Line 2"/>
          <p:cNvSpPr/>
          <p:nvPr/>
        </p:nvSpPr>
        <p:spPr>
          <a:xfrm>
            <a:off x="571680" y="2000160"/>
            <a:ext cx="1440" cy="114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643960" cy="67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ТИЙНАЯ СИСТЕМ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совокупность всех существующих и действующих в стране пар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523800" y="853920"/>
            <a:ext cx="9753480" cy="602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142920" y="214200"/>
            <a:ext cx="8858160" cy="1857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бирательн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особый политический институт, связанный с организацией выборов политических деятелей, способом проведения голосования и определения его результатов, а также с распределением мандатов между парт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бирательн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орядок выборов в представительные учреждения и выборных должностных лиц, а также определения результатов голос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2857680" y="2357280"/>
            <a:ext cx="464328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мпоненты избиратель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14200" y="3000240"/>
            <a:ext cx="392904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збирательное право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правовых норм о порядке вы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715000" y="3000240"/>
            <a:ext cx="300024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Избирательный процесс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действий в процессе вы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14200" y="4214880"/>
            <a:ext cx="2071800" cy="242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В узком смы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тическое право гражданина избирать (активное право) и быть избранным (пассивное прав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571840" y="4214880"/>
            <a:ext cx="1785960" cy="242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В широком смы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бирательные законы и иные акты (инструкции, разъясн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000760" y="4143240"/>
            <a:ext cx="4000320" cy="25718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тад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Подготовительная (название даты выборов, регистрация, учет избирател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ыдвижение и регистрация кандид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редвыборная агитация и финансирование вы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Голосование и подведение ит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" name="AutoShape 8"/>
          <p:cNvCxnSpPr>
            <a:stCxn id="43" idx="2"/>
          </p:cNvCxnSpPr>
          <p:nvPr/>
        </p:nvCxnSpPr>
        <p:spPr>
          <a:xfrm flipH="1">
            <a:off x="3644640" y="2785680"/>
            <a:ext cx="573840" cy="965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0" name="AutoShape 9"/>
          <p:cNvCxnSpPr>
            <a:stCxn id="44" idx="2"/>
          </p:cNvCxnSpPr>
          <p:nvPr/>
        </p:nvCxnSpPr>
        <p:spPr>
          <a:xfrm flipH="1">
            <a:off x="931680" y="3786120"/>
            <a:ext cx="357840" cy="892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1" name="AutoShape 10"/>
          <p:cNvCxnSpPr>
            <a:stCxn id="44" idx="2"/>
          </p:cNvCxnSpPr>
          <p:nvPr/>
        </p:nvCxnSpPr>
        <p:spPr>
          <a:xfrm>
            <a:off x="1824120" y="3786120"/>
            <a:ext cx="357840" cy="1108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2" name="AutoShape 11"/>
          <p:cNvCxnSpPr>
            <a:stCxn id="45" idx="2"/>
          </p:cNvCxnSpPr>
          <p:nvPr/>
        </p:nvCxnSpPr>
        <p:spPr>
          <a:xfrm flipH="1">
            <a:off x="6928560" y="3787920"/>
            <a:ext cx="28836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3" name="AutoShape 12"/>
          <p:cNvCxnSpPr>
            <a:stCxn id="43" idx="2"/>
            <a:endCxn id="45" idx="1"/>
          </p:cNvCxnSpPr>
          <p:nvPr/>
        </p:nvCxnSpPr>
        <p:spPr>
          <a:xfrm>
            <a:off x="4574880" y="2787120"/>
            <a:ext cx="608760" cy="537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В Российской Федераци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бирать имеют право лица, достигшие 18-летнего возра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18-летнего возраста можно избираться депутатом местного сове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21 года – депутатом Государственной Ду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30 лет – главой администрации субъектов Р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35 – Президентом стр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107172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Типы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избирательных сист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 flipH="1">
            <a:off x="2284200" y="1071720"/>
            <a:ext cx="8715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5500800" y="1071720"/>
            <a:ext cx="78588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000080" y="1357200"/>
            <a:ext cx="39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609dd"/>
                </a:solidFill>
                <a:latin typeface="Times New Roman"/>
              </a:rPr>
              <a:t>Мажорита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(Беларусь,  Англия, Франция, Япо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429160" y="1428840"/>
            <a:ext cx="3238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609dd"/>
                </a:solidFill>
                <a:latin typeface="Times New Roman"/>
              </a:rPr>
              <a:t>Пропорциональ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Россия (ГД), Италия, Израиль, Швейцария, Нидерланды, Чех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786120" y="2643120"/>
            <a:ext cx="5828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H="1">
            <a:off x="1426680" y="2643120"/>
            <a:ext cx="64620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85840" y="328608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бсолютного больши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встрал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786040" y="3357720"/>
            <a:ext cx="258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го больши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ША, Канада, Инд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14200" y="528624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609dd"/>
                </a:solidFill>
                <a:latin typeface="Times New Roman"/>
              </a:rPr>
              <a:t>Смешан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снована на принципах мажоритарной и пропорциональной систем. (Франция, Италия, Польш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42920" y="142920"/>
            <a:ext cx="8786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мажоритарной (лат. большинство) сист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42920" y="714240"/>
            <a:ext cx="885816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территория страны разбивается на территориальные единицы – избирательные округа (одномандатны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ется только один депу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уют за личность того или иного кандида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олосования определяются большинством гол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ожительная сторо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прямая ответственность избранного депутата со своими избирателями и населением окру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партии-победителю значительное большинство в парламенте, позволяющее при парламентарных и смешанных формах правления формировать устойчивое правитель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остато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вшие незначительное меньшинство могут быть вообще не представлены во властных структурах (парламент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ая нерезультативность выборов, которая приводит к повторному голосов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исключает возможность победы на выборах маленькой пар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142920" y="142920"/>
            <a:ext cx="88581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жоритарная (лат. большинство) система –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ма определения результатов выборов, согласно которой избранным считается кандидат, набравший установленное законом большинство голосов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42920" y="2143080"/>
            <a:ext cx="885816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носительного большинств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вшим считается кандидат, набравший простое большинство гол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обеды на таких выборах число набранных голосов может быть менее 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голосование в один и два ту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солютного большинств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ранным считается кандидат, который набрал абсолютное большинство голосов, 50% + 1 гол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 при выборах Президента России и во Фра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928800" y="335772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85840" y="14292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порциональной систем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14200" y="1071720"/>
            <a:ext cx="8643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едставительства партий и движений, основанная на том, что каждая партия получает в парламенте число мандатов пропорционально количеству голосов, поданных за ее кандидатов на выбор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страны объявляется единым избирательным округ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 партии выдвигают списки своих кандид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ели голосуют только за один из таких спис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уют не за личность, а за партии в масштабе всей 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одсчета голосов партии получают число мест в представительные органы четко пропорционально числу отданных за них гол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-246240"/>
            <a:ext cx="822960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порциональной системы: 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714240"/>
            <a:ext cx="82296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оинств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широкий спектр политических партий, тем самым отражая волю меньшин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гарантом представительства в парламенте мелких и средних парт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остатк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ранные депутаты ответственны перед партией, а не избирателя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ель выбирает список кандидатов, которые в большинстве ему не извест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мелких фракций в парламенте препятствуют принятию нужных решен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мешанная сист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асть мест распределяется в соответствии с мажоритарной системой, а другая часть в соответствии с пропорциональной систем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язательное введение нижнего предела, который препятствует прохождению в парламент слишком мелких парт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Ф выборы Президента по мажоритарной системе, выборы депутатов ГД по пропорциональной систем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Достоин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уется действительно представительный парламен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Недостат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большей степени благоприятна для столичных партий, чем для местных политических объединений и независимых кандидат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артии не отражают в полном объеме интересы своих избирате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05:54Z</dcterms:created>
  <dc:creator>Admin</dc:creator>
  <dc:description/>
  <dc:language>en-US</dc:language>
  <cp:lastModifiedBy>User</cp:lastModifiedBy>
  <dcterms:modified xsi:type="dcterms:W3CDTF">2023-09-13T07:43:39Z</dcterms:modified>
  <cp:revision>29</cp:revision>
  <dc:subject/>
  <dc:title>Демократические выборы и политические партии</dc:title>
</cp:coreProperties>
</file>