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F0CA-FE0A-4E20-B6A0-EEE092D85D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ED55-0E4B-44A7-BBA0-BCB93602D1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47A4-8039-4BB4-8907-BF15881551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D036-DBE0-4618-8431-E0B2842AA8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3910-5C9C-47B7-AC03-579764F000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7819-10AB-4069-A2ED-B5B414C38D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220A-B855-4C6D-B8B8-B0C4825A80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CB91-922B-4BD1-ADCF-47FFFF4DF4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AFB0-0934-42A0-BE16-97A8242965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257B-C9C7-4EB8-8AE7-23DD55B9DD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A04A-33A2-4298-B45B-7FA9090BCE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F46D-7EAB-486D-9BF6-7D09B367BE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D412-33EE-4607-874A-E67088A9B5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5352-2B3E-4BD7-8CD7-D642D5CB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D81-4D92-4C32-9BEE-F22D1400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6601-F986-4BF5-AC1B-ACADC24F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C8E3-8D26-44FB-9176-EEC89122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F40B-2D67-45CB-9994-A1B7FB78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45C1-EDB8-4A11-92F8-FD572D94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130E-A10E-420C-ABFC-C1B498AD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AFB3-81E6-459E-AEF0-FA886343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140A-20FA-4789-BDC9-56F36684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CAEF-1BF6-4B7C-9B71-BCFBAE51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3BC7-9E94-4BDD-A903-B3D18F3A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4A7D-0647-46ED-A922-FC5CAA5C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8199-D5F6-4097-90B2-A8CA60FF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E2DE-B71F-4F58-AB53-B20C4E36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BA2C-6B12-431F-BA70-13B6A85C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367D-7DAE-4BF5-8888-1298CE29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00DB-9CCF-41C9-92FB-09428168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1C29-9364-46E4-98BE-EF81BD37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DB77E-D9D9-406E-A4E6-6C39CD29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6C8C3-11D5-4C3D-98C1-1E9C4AE3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FE009-F92D-4E42-AD7A-0D5C9506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95719-A14D-49AC-B442-82B42210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E89-D0F8-4624-A9C9-E2872852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A33DE-4662-45E9-95AA-D8592C1D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CA89C-F21F-4209-8712-E0C28976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081BF-B278-40A1-AB88-8B49E6D4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AC4DD-8602-480B-B139-0D72A559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E276F-52FC-42B3-B4AF-3E7B50F0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2D207-E339-4295-AEDC-4D2E2A67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6AEB2-C3AE-471C-9E92-9FEC667C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19778-0C85-422A-9040-E90D4F83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3D1A7-998F-47BE-A35D-BBF29ACD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55496-4262-4EA5-81F7-5A4A65A2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A436-D745-4D7A-9211-B6235336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2B10D-BB38-4D25-ADB9-6A11E46F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910E5-386B-4B90-9E15-FDB1ACD0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B160B-3F2E-494A-8B3C-7D750356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82FD3-ADB0-4E08-9BED-9834208E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2B045-E7E9-4CFD-86DB-09F97CE8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7F79F-C987-43E1-BD49-F985C08F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5DA87-B7C7-4C02-AE05-39B090C2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DAB63-8224-4856-BE46-C5A2B30F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B2B83-9F4B-4E08-AC05-CF503B13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E9196-20F0-4CBD-A104-E9A9EED1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0964-C9FF-4689-AAA2-0F0C59B9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6D616-ABCA-43FE-BB04-BB40B403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87891-2746-4801-9635-01F27708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EF8A4-8C4D-434E-940E-463039F3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401BE-7236-49BC-B93E-00AA266B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49319-B276-4B2C-B61F-7963346A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447B3-75E9-461C-A856-02B87AA0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C497D-926E-43E5-A623-56039911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23654-E731-4B0D-9322-73E7B3BB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C5C76-48F6-4819-BB3C-178538F9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D37E3-8DE2-4299-B583-14D90FFF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5284-B8D5-48B5-B444-BE468C43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409AD-E39B-4B03-8D51-7EE14C55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831-C8E5-4888-8D13-488CF879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7D8-4762-498D-891D-BA64A5A2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F7D9-AC70-43E9-974A-99BA14B7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52520" y="468360"/>
            <a:ext cx="8238960" cy="5418000"/>
            <a:chOff x="452520" y="468360"/>
            <a:chExt cx="8238960" cy="5418000"/>
          </a:xfrm>
        </p:grpSpPr>
        <p:sp>
          <p:nvSpPr>
            <p:cNvPr id="2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E19E-4324-490C-9007-BD0B003F104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Скругленный прямоугольник 10"/>
          <p:cNvGrpSpPr/>
          <p:nvPr/>
        </p:nvGrpSpPr>
        <p:grpSpPr>
          <a:xfrm>
            <a:off x="460440" y="476280"/>
            <a:ext cx="8223120" cy="3025800"/>
            <a:chOff x="460440" y="476280"/>
            <a:chExt cx="8223120" cy="3025800"/>
          </a:xfrm>
        </p:grpSpPr>
        <p:sp>
          <p:nvSpPr>
            <p:cNvPr id="46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404E-2951-498B-BDB7-9AAA0046841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Скругленный прямоугольник 10"/>
          <p:cNvGrpSpPr/>
          <p:nvPr/>
        </p:nvGrpSpPr>
        <p:grpSpPr>
          <a:xfrm>
            <a:off x="446040" y="461880"/>
            <a:ext cx="8251920" cy="4286160"/>
            <a:chOff x="446040" y="461880"/>
            <a:chExt cx="8251920" cy="4286160"/>
          </a:xfrm>
        </p:grpSpPr>
        <p:sp>
          <p:nvSpPr>
            <p:cNvPr id="90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5970-444A-4972-B9B7-A1AD9C831F2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055C-6777-4B22-8383-CEAEB3CDC93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A6E2-EC6B-42C5-B232-840B13275B1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Готовимся к ОГЭ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04920" y="1371600"/>
            <a:ext cx="847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Stencil"/>
              </a:rPr>
              <a:t>Учебный тренажёр по 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tencil"/>
              </a:rPr>
              <a:t>Задание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tenci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Stencil"/>
              </a:rPr>
              <a:t>Средства художественной вырази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tencil"/>
              </a:rPr>
              <a:t>Фразеологиз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27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383760" y="5413320"/>
            <a:ext cx="32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Барлук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вчёнок Н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80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8"/>
          <p:cNvSpPr/>
          <p:nvPr/>
        </p:nvSpPr>
        <p:spPr>
          <a:xfrm>
            <a:off x="990720" y="1523880"/>
            <a:ext cx="7272360" cy="101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  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сы были на тонком коричневом ремешке, формой напоминали кирпичик, у циферблата было торжественное выражение л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9"/>
          <p:cNvSpPr/>
          <p:nvPr/>
        </p:nvSpPr>
        <p:spPr>
          <a:xfrm>
            <a:off x="468360" y="1738440"/>
            <a:ext cx="360360" cy="358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0"/>
          <p:cNvSpPr/>
          <p:nvPr/>
        </p:nvSpPr>
        <p:spPr>
          <a:xfrm>
            <a:off x="469800" y="3033720"/>
            <a:ext cx="360360" cy="3589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3"/>
          <p:cNvSpPr/>
          <p:nvPr/>
        </p:nvSpPr>
        <p:spPr>
          <a:xfrm>
            <a:off x="1066680" y="2895480"/>
            <a:ext cx="71964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а, ты починил?  — не веря своим глазам, спросила Д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4"/>
          <p:cNvSpPr/>
          <p:nvPr/>
        </p:nvSpPr>
        <p:spPr>
          <a:xfrm>
            <a:off x="1046160" y="3979800"/>
            <a:ext cx="72388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а не плакала, но было так тяжело, как будто она несла на спине мешок карто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5"/>
          <p:cNvSpPr/>
          <p:nvPr/>
        </p:nvSpPr>
        <p:spPr>
          <a:xfrm>
            <a:off x="990720" y="5105520"/>
            <a:ext cx="727236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азалось, что деревья остолбенели перед случившимся несчасть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16"/>
          <p:cNvSpPr/>
          <p:nvPr/>
        </p:nvSpPr>
        <p:spPr>
          <a:xfrm>
            <a:off x="8439120" y="1849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7"/>
          <p:cNvSpPr/>
          <p:nvPr/>
        </p:nvSpPr>
        <p:spPr>
          <a:xfrm>
            <a:off x="8415360" y="3097080"/>
            <a:ext cx="360360" cy="3589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8"/>
          <p:cNvSpPr/>
          <p:nvPr/>
        </p:nvSpPr>
        <p:spPr>
          <a:xfrm>
            <a:off x="8418600" y="4255920"/>
            <a:ext cx="360360" cy="3621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22"/>
          <p:cNvSpPr/>
          <p:nvPr/>
        </p:nvSpPr>
        <p:spPr>
          <a:xfrm>
            <a:off x="893880" y="4874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8.Укажи вариант ответа, в котором средством выразительности речи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1"/>
          <p:cNvSpPr/>
          <p:nvPr/>
        </p:nvSpPr>
        <p:spPr>
          <a:xfrm>
            <a:off x="1143000" y="17560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682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730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189000"/>
            <a:ext cx="8937360" cy="6668640"/>
            <a:chOff x="0" y="189000"/>
            <a:chExt cx="8937360" cy="6668640"/>
          </a:xfrm>
        </p:grpSpPr>
        <p:sp>
          <p:nvSpPr>
            <p:cNvPr id="401" name="Line 3"/>
            <p:cNvSpPr/>
            <p:nvPr/>
          </p:nvSpPr>
          <p:spPr>
            <a:xfrm>
              <a:off x="0" y="18900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4"/>
            <p:cNvSpPr/>
            <p:nvPr/>
          </p:nvSpPr>
          <p:spPr>
            <a:xfrm>
              <a:off x="0" y="18900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5"/>
            <p:cNvSpPr/>
            <p:nvPr/>
          </p:nvSpPr>
          <p:spPr>
            <a:xfrm>
              <a:off x="0" y="685764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6"/>
            <p:cNvSpPr/>
            <p:nvPr/>
          </p:nvSpPr>
          <p:spPr>
            <a:xfrm>
              <a:off x="8937360" y="18900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Rectangle 7"/>
          <p:cNvSpPr/>
          <p:nvPr/>
        </p:nvSpPr>
        <p:spPr>
          <a:xfrm>
            <a:off x="284040" y="533520"/>
            <a:ext cx="84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Укажи варианты ответов, в которых средством выразительности речи явля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разео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/>
          <p:cNvSpPr/>
          <p:nvPr/>
        </p:nvSpPr>
        <p:spPr>
          <a:xfrm>
            <a:off x="903240" y="1576440"/>
            <a:ext cx="7238880" cy="103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и пуговицы бросились мне в глаза прежде всего: у всех были железные пуговицы со звёздочкой, а у Витьки Борецкого  — с якор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9"/>
          <p:cNvSpPr/>
          <p:nvPr/>
        </p:nvSpPr>
        <p:spPr>
          <a:xfrm>
            <a:off x="396720" y="1955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457200" y="3059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1"/>
          <p:cNvSpPr/>
          <p:nvPr/>
        </p:nvSpPr>
        <p:spPr>
          <a:xfrm>
            <a:off x="40968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2"/>
          <p:cNvSpPr/>
          <p:nvPr/>
        </p:nvSpPr>
        <p:spPr>
          <a:xfrm>
            <a:off x="457200" y="5442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927000" y="2819520"/>
            <a:ext cx="727416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л он развязный, невоспитанный, и у него даже, казалось, глазки хищно щурились, когда он смотрел на Вить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4"/>
          <p:cNvSpPr/>
          <p:nvPr/>
        </p:nvSpPr>
        <p:spPr>
          <a:xfrm>
            <a:off x="976320" y="3879720"/>
            <a:ext cx="716292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однажды Анна Николаевна сказала, что школе дали много денег для оборудования, и мы отправились в магазин наглядных пособ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5"/>
          <p:cNvSpPr/>
          <p:nvPr/>
        </p:nvSpPr>
        <p:spPr>
          <a:xfrm>
            <a:off x="927000" y="5127480"/>
            <a:ext cx="73152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шительным шагом я подошёл к Борецкому, придвинул его к скелету, взял костлявую кисть и положил Витьке на плеч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6"/>
          <p:cNvSpPr/>
          <p:nvPr/>
        </p:nvSpPr>
        <p:spPr>
          <a:xfrm>
            <a:off x="8431200" y="4183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7"/>
          <p:cNvSpPr/>
          <p:nvPr/>
        </p:nvSpPr>
        <p:spPr>
          <a:xfrm>
            <a:off x="8431200" y="30225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8"/>
          <p:cNvSpPr/>
          <p:nvPr/>
        </p:nvSpPr>
        <p:spPr>
          <a:xfrm>
            <a:off x="8418600" y="1925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9"/>
          <p:cNvSpPr/>
          <p:nvPr/>
        </p:nvSpPr>
        <p:spPr>
          <a:xfrm>
            <a:off x="8431200" y="54957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2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7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кажи варианты ответов, в которых средством выразительности речи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разеолог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99072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дальше уходили они по высокой некошеной траве, по весёлым цве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2"/>
          <p:cNvSpPr/>
          <p:nvPr/>
        </p:nvSpPr>
        <p:spPr>
          <a:xfrm>
            <a:off x="565200" y="5160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3"/>
          <p:cNvSpPr/>
          <p:nvPr/>
        </p:nvSpPr>
        <p:spPr>
          <a:xfrm>
            <a:off x="1033560" y="2563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 шёл, у него распухла губа, и веко распухло, и глаз закры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4"/>
          <p:cNvSpPr/>
          <p:nvPr/>
        </p:nvSpPr>
        <p:spPr>
          <a:xfrm>
            <a:off x="973080" y="37497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я с Гринькой от пчёл убежали,— сказала бабушка,— а наш простофиля полез Васятку спаса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5"/>
          <p:cNvSpPr/>
          <p:nvPr/>
        </p:nvSpPr>
        <p:spPr>
          <a:xfrm>
            <a:off x="1104840" y="4932360"/>
            <a:ext cx="6858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 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-то здесь пчёл видимо-невидим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8"/>
          <p:cNvSpPr/>
          <p:nvPr/>
        </p:nvSpPr>
        <p:spPr>
          <a:xfrm>
            <a:off x="8286840" y="5170320"/>
            <a:ext cx="360360" cy="3621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9"/>
          <p:cNvSpPr/>
          <p:nvPr/>
        </p:nvSpPr>
        <p:spPr>
          <a:xfrm>
            <a:off x="8418600" y="4006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4"/>
          <p:cNvSpPr/>
          <p:nvPr/>
        </p:nvSpPr>
        <p:spPr>
          <a:xfrm>
            <a:off x="762120" y="173916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5"/>
          <p:cNvSpPr/>
          <p:nvPr/>
        </p:nvSpPr>
        <p:spPr>
          <a:xfrm>
            <a:off x="762120" y="26676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201600" y="39751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876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900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34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9"/>
          <p:cNvSpPr/>
          <p:nvPr/>
        </p:nvSpPr>
        <p:spPr>
          <a:xfrm>
            <a:off x="284040" y="449280"/>
            <a:ext cx="84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228600" y="12193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Если ты выбрал правильный ответ, появится    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Если ты выбрал неверный ответ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Желаю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"/>
          <p:cNvGrpSpPr/>
          <p:nvPr/>
        </p:nvGrpSpPr>
        <p:grpSpPr>
          <a:xfrm>
            <a:off x="206280" y="0"/>
            <a:ext cx="8937360" cy="6668640"/>
            <a:chOff x="206280" y="0"/>
            <a:chExt cx="8937360" cy="6668640"/>
          </a:xfrm>
        </p:grpSpPr>
        <p:sp>
          <p:nvSpPr>
            <p:cNvPr id="243" name="Line 5"/>
            <p:cNvSpPr/>
            <p:nvPr/>
          </p:nvSpPr>
          <p:spPr>
            <a:xfrm>
              <a:off x="206280" y="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6"/>
            <p:cNvSpPr/>
            <p:nvPr/>
          </p:nvSpPr>
          <p:spPr>
            <a:xfrm>
              <a:off x="206280" y="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"/>
            <p:cNvSpPr/>
            <p:nvPr/>
          </p:nvSpPr>
          <p:spPr>
            <a:xfrm>
              <a:off x="206280" y="666864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8"/>
            <p:cNvSpPr/>
            <p:nvPr/>
          </p:nvSpPr>
          <p:spPr>
            <a:xfrm>
              <a:off x="9143640" y="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9"/>
          <p:cNvSpPr/>
          <p:nvPr/>
        </p:nvSpPr>
        <p:spPr>
          <a:xfrm>
            <a:off x="228600" y="228600"/>
            <a:ext cx="84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1066680" y="1295280"/>
            <a:ext cx="734868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видел его подпухший нос, тонкое лицо, шелковистые брови, непрочное, нежное, будто фарфоровое, лицо, и горло забило картофели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1"/>
          <p:cNvSpPr/>
          <p:nvPr/>
        </p:nvSpPr>
        <p:spPr>
          <a:xfrm>
            <a:off x="457200" y="1676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 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ение моё против гостя ро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8"/>
          <p:cNvSpPr/>
          <p:nvPr/>
        </p:nvSpPr>
        <p:spPr>
          <a:xfrm>
            <a:off x="990720" y="3789360"/>
            <a:ext cx="7315200" cy="108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  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никогда больше пальцем не тронул Оську, как бы он ни задирался, а это случалось порой в первые годы нашей так сложно начавшейся друж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9"/>
          <p:cNvSpPr/>
          <p:nvPr/>
        </p:nvSpPr>
        <p:spPr>
          <a:xfrm>
            <a:off x="990720" y="52578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выметнулся из кресла, подошёл ко мне и протянул ру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498600" y="552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.Укажи  вариант ответа, в котором средством выразительности речи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разеолог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63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ectangle 9"/>
          <p:cNvSpPr/>
          <p:nvPr/>
        </p:nvSpPr>
        <p:spPr>
          <a:xfrm>
            <a:off x="311040" y="457200"/>
            <a:ext cx="8479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2.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кажи вариант ответа, в котором средством выразительности речи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0"/>
          <p:cNvSpPr/>
          <p:nvPr/>
        </p:nvSpPr>
        <p:spPr>
          <a:xfrm>
            <a:off x="914400" y="1295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ежду тем в театре было тепло, в зале приятно и сложно пахло, в фойе гуляли нарядные люди, окна были укутаны шторами из парашютного шёлка, будто кучевыми обла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7"/>
          <p:cNvSpPr/>
          <p:nvPr/>
        </p:nvSpPr>
        <p:spPr>
          <a:xfrm>
            <a:off x="838080" y="2362320"/>
            <a:ext cx="746784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 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тстве я очень, очень старалась полюбить театр, как мне велели: ведь это Большое Искусство, Х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  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кино я именно и жду полного преображения, окончательного обмана  — «чтоб не думать зачем, чтоб не помнить когд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я, как положено, должна испытывать священный трепет, но помнить при этом, что в театре есть театральные услов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2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4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82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9"/>
          <p:cNvSpPr/>
          <p:nvPr/>
        </p:nvSpPr>
        <p:spPr>
          <a:xfrm>
            <a:off x="247680" y="539640"/>
            <a:ext cx="8478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3.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кажите вариант ответа, в котором средством выразительности речи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990720" y="1447920"/>
            <a:ext cx="7315200" cy="8380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рад, что мать не видит его сле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3"/>
          <p:cNvSpPr/>
          <p:nvPr/>
        </p:nvSpPr>
        <p:spPr>
          <a:xfrm>
            <a:off x="38088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4"/>
          <p:cNvSpPr/>
          <p:nvPr/>
        </p:nvSpPr>
        <p:spPr>
          <a:xfrm>
            <a:off x="457200" y="556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8"/>
          <p:cNvSpPr/>
          <p:nvPr/>
        </p:nvSpPr>
        <p:spPr>
          <a:xfrm>
            <a:off x="990720" y="40384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оего отца убили...  — закричал Авалбёк, желая, чтобы люди гордились его отцом так же, как 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9"/>
          <p:cNvSpPr/>
          <p:nvPr/>
        </p:nvSpPr>
        <p:spPr>
          <a:xfrm>
            <a:off x="914400" y="53341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  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действительно, солдат на экране был очень похож на отца на той старой военной фотографии, которая висела у них д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3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4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7"/>
          <p:cNvSpPr/>
          <p:nvPr/>
        </p:nvSpPr>
        <p:spPr>
          <a:xfrm>
            <a:off x="914400" y="2590920"/>
            <a:ext cx="7348680" cy="124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дце мальчика было наполнено гор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02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9"/>
          <p:cNvSpPr/>
          <p:nvPr/>
        </p:nvSpPr>
        <p:spPr>
          <a:xfrm>
            <a:off x="311040" y="582480"/>
            <a:ext cx="847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4.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Укажи вариант ответа, в котором средством выразительности речи явля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лицетво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992160" y="1676520"/>
            <a:ext cx="727236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а по себе природа вечна и почти неизмен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1"/>
          <p:cNvSpPr/>
          <p:nvPr/>
        </p:nvSpPr>
        <p:spPr>
          <a:xfrm flipV="1">
            <a:off x="533520" y="1904400"/>
            <a:ext cx="304560" cy="3682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7"/>
          <p:cNvSpPr/>
          <p:nvPr/>
        </p:nvSpPr>
        <p:spPr>
          <a:xfrm>
            <a:off x="914400" y="2590920"/>
            <a:ext cx="7350120" cy="911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ыли мы как-то вниз по Ветлуге на старой деревянной бар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8"/>
          <p:cNvSpPr/>
          <p:nvPr/>
        </p:nvSpPr>
        <p:spPr>
          <a:xfrm>
            <a:off x="838080" y="3733920"/>
            <a:ext cx="7426440" cy="992160"/>
          </a:xfrm>
          <a:prstGeom prst="roundRect">
            <a:avLst>
              <a:gd name="adj" fmla="val 49208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целый час все вместе пели они эту песню, по нескольку раз повторяя одни и те же строчки, а баржа катила себе вниз по Ветлуге, по лесной дикой ре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убокая и тихая вода лакированно блестела, словно в реку вылили масло, и в это чёрное зеркало смотрелись с обрыва задумчивые ели, тонкие берёзки, тронутые желтиз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21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>
            <a:off x="990720" y="1295280"/>
            <a:ext cx="723888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рый приостановился возле ступенек в подвал, огляде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504720" y="1447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457200" y="2590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1"/>
          <p:cNvSpPr/>
          <p:nvPr/>
        </p:nvSpPr>
        <p:spPr>
          <a:xfrm>
            <a:off x="542880" y="3770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2"/>
          <p:cNvSpPr/>
          <p:nvPr/>
        </p:nvSpPr>
        <p:spPr>
          <a:xfrm>
            <a:off x="450720" y="5334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3"/>
          <p:cNvSpPr/>
          <p:nvPr/>
        </p:nvSpPr>
        <p:spPr>
          <a:xfrm>
            <a:off x="990720" y="2438280"/>
            <a:ext cx="72388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алья, лебеди у меня там,  — признался Сергей,  — на озере лёд, погибнуть они мог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4"/>
          <p:cNvSpPr/>
          <p:nvPr/>
        </p:nvSpPr>
        <p:spPr>
          <a:xfrm>
            <a:off x="1027080" y="3635280"/>
            <a:ext cx="719604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ию эту Сергей полностью не отрицал, она всё-таки утешала его, но цену себе он знал точну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5"/>
          <p:cNvSpPr/>
          <p:nvPr/>
        </p:nvSpPr>
        <p:spPr>
          <a:xfrm>
            <a:off x="985680" y="4933800"/>
            <a:ext cx="7315200" cy="116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ерый достал из карманов хлеб, растёр в ладонях, кинул лебед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6"/>
          <p:cNvSpPr/>
          <p:nvPr/>
        </p:nvSpPr>
        <p:spPr>
          <a:xfrm>
            <a:off x="8391600" y="1407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7"/>
          <p:cNvSpPr/>
          <p:nvPr/>
        </p:nvSpPr>
        <p:spPr>
          <a:xfrm>
            <a:off x="8458200" y="2629080"/>
            <a:ext cx="419040" cy="457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8"/>
          <p:cNvSpPr/>
          <p:nvPr/>
        </p:nvSpPr>
        <p:spPr>
          <a:xfrm>
            <a:off x="8458200" y="3809880"/>
            <a:ext cx="360360" cy="3812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9"/>
          <p:cNvSpPr/>
          <p:nvPr/>
        </p:nvSpPr>
        <p:spPr>
          <a:xfrm>
            <a:off x="8458200" y="5181480"/>
            <a:ext cx="419040" cy="5511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25"/>
          <p:cNvSpPr/>
          <p:nvPr/>
        </p:nvSpPr>
        <p:spPr>
          <a:xfrm>
            <a:off x="457200" y="4208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5.Укажи вариант ответов, в котором средством вырази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ечи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разеологизм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4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Rectangle 7"/>
          <p:cNvSpPr/>
          <p:nvPr/>
        </p:nvSpPr>
        <p:spPr>
          <a:xfrm>
            <a:off x="380880" y="338040"/>
            <a:ext cx="840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6.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кажи вариант ответа в котором средством выразительности речи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1066680" y="1219320"/>
            <a:ext cx="719784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 совсем не стемнело, Сергей видел знакомые очертания гор и не боялся сбиться с пу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3"/>
          <p:cNvSpPr/>
          <p:nvPr/>
        </p:nvSpPr>
        <p:spPr>
          <a:xfrm>
            <a:off x="1066680" y="2590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шёл и думал, что заблудиться ночью в степи в сто раз хуже, чем в ле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4"/>
          <p:cNvSpPr/>
          <p:nvPr/>
        </p:nvSpPr>
        <p:spPr>
          <a:xfrm>
            <a:off x="106668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тер, который летел с северо-запада, не смог победить эту плотную темноту, ослабел и лег спать в сухой тра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5"/>
          <p:cNvSpPr/>
          <p:nvPr/>
        </p:nvSpPr>
        <p:spPr>
          <a:xfrm>
            <a:off x="1066680" y="4937040"/>
            <a:ext cx="7274160" cy="108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  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лышно лишь, как головки каких-то цветов щёлкают по голенищам сапо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3"/>
          <p:cNvSpPr/>
          <p:nvPr/>
        </p:nvSpPr>
        <p:spPr>
          <a:xfrm>
            <a:off x="87120" y="0"/>
            <a:ext cx="20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6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AutoShape 8"/>
          <p:cNvSpPr/>
          <p:nvPr/>
        </p:nvSpPr>
        <p:spPr>
          <a:xfrm>
            <a:off x="97308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ежде чем увидеть Наилю, я услышал её голо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3"/>
          <p:cNvSpPr/>
          <p:nvPr/>
        </p:nvSpPr>
        <p:spPr>
          <a:xfrm>
            <a:off x="973080" y="24969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от голос полностью захватил власть надо мной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4"/>
          <p:cNvSpPr/>
          <p:nvPr/>
        </p:nvSpPr>
        <p:spPr>
          <a:xfrm>
            <a:off x="914400" y="3581280"/>
            <a:ext cx="739152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её блестели, как от слёз, хотя она не плак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5"/>
          <p:cNvSpPr/>
          <p:nvPr/>
        </p:nvSpPr>
        <p:spPr>
          <a:xfrm>
            <a:off x="957240" y="5106960"/>
            <a:ext cx="7315200" cy="116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хотел закричать от радости, совершить что-то немысл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22"/>
          <p:cNvSpPr/>
          <p:nvPr/>
        </p:nvSpPr>
        <p:spPr>
          <a:xfrm>
            <a:off x="668160" y="380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7.Укажи вариант ответа, в котором средством выразительности речи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Toshiba</dc:creator>
  <dc:description/>
  <dc:language>en-US</dc:language>
  <cp:lastModifiedBy>777</cp:lastModifiedBy>
  <dcterms:modified xsi:type="dcterms:W3CDTF">2024-01-30T15:16:3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