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7023-7650-42D7-B15A-696D736CA1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012B-E8E0-4489-9735-4F1FBD226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5075-5A70-41BF-BFEB-82CD8DE889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EDCA-8189-4194-8251-F5CE7E34F2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FA60-60F6-45AB-81B8-93D8C4D8D1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AB73-43EA-4A1B-AF8F-3ACF23596B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5969-D0D1-47F1-87E6-DFD8C8423D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576C-D974-4C50-83C3-904466AF45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F6CA-5D56-461A-B5C6-5A9B28F6D0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8107-5713-4B16-A189-3EB3349140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3F18-2078-4B39-A4F1-E796298C6F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6B1E-FFBC-459F-B7C7-6165B11DAB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A13B-6EA3-4F2D-B03D-B80C7F24C8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A497-8800-44B3-A55E-DFC1528D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C16-D4A2-46EA-B38D-4D64C91A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FE1F-81E8-4145-9D62-1ED0A710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5D7-3934-4DA3-AEEB-AB8C3A714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6A54-74DB-4273-9AE4-1157A892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8B0F4-4508-4DDD-B857-88C3E09D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02FF-5019-4A0E-8F68-9BC7E536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3257-15FD-4292-8848-4F8C0855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27C4-CB75-4015-8764-865BA458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34DD-5C44-4906-8E40-A485E8C7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1C16-24E8-4286-963E-459B5468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B11-BB35-44D6-AE06-0B58E531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7E94-4326-4B62-A7F8-9E25CB0A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4920-B8E7-43E3-A048-2F3175CB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200E4-F199-4EC2-B393-15025C73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875B2-935A-4391-8802-7F70466D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6F93-32A1-4377-8AC5-AC5A242FE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D969A-3E50-4C53-A873-C7E7FC5A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EE4E1-79DB-4880-8A45-40B3729B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AEFDA-4636-4A28-9914-8AC3F345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D4FCE-0C5D-41BD-A9D4-FD28BEF4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00BCE-EB02-4388-880C-A6E6C2C5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3E1C-D075-4CBB-BC08-B43655C5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5E0F9-ADF1-48C3-8203-D8D3DE2F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C58A3-869E-46EF-9256-A26C222C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70A5-1476-4E37-9125-7D1B80F1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80EE-DE0C-42A7-A035-EE435C86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3DEE4-C6F5-4034-9EF0-ADD32F39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4E25-4D69-41F4-B4BA-F289F8FA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9ED9D-B20D-4243-8F46-BCB8C6FE1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3B5D1-F328-4FED-ABD3-101B4D990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A2259-2D9E-4C4D-9D94-C7DF520B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1B3CE-13E6-4AB6-961C-1873D324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BB1-1863-4444-89A7-305E035B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E31B3-37CF-4F4B-876E-F01801B9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5B1E2-4317-436F-A63D-A501F08A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8E3A5-B68E-444A-8935-0AB17599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CC92C-A8DA-4A0A-990B-FD56DF45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4DE3-DB12-4873-8E8D-E6EEDFFE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FDDEE-9178-4C18-B129-0CCCD52B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B729C-57C3-4E7D-9E76-5AC5AFFB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755B9-A15D-451C-BD47-90167D4E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09596-1DFC-4C27-8948-2EBBEF82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F73EB-DD6D-4B8D-B47E-42FBA791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573-4011-40EA-8389-7DD8921A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A4ED4-EA80-4B22-AAEB-C97ECF7F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1CD58-9F0F-4D38-95D6-2ADC5650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E2159-52D6-4970-859D-EDB2FE8A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00394-274C-499A-A891-5343F6D0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DEB73-9279-4E90-BEAF-7061E171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B6765-DD9F-49DB-BB39-12219D58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9289C-F8EB-467C-BD34-BA900BDB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43878-C408-4FAD-AAC0-53606F3C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6B1AB-6C83-4391-9BB7-87E19C3C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C58E4-579A-4358-83D0-45D45494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6FBA-1983-4EB1-A27C-A2963A33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B856E-B132-4AE8-A1D3-8A1F1B09E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5B4-D445-47F9-A0AB-EE233FBA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3E6F-A016-4EC4-8DDB-A01F177B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88A-117E-4331-8360-6AF58BAB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52520" y="468360"/>
            <a:ext cx="8238960" cy="5418000"/>
            <a:chOff x="452520" y="468360"/>
            <a:chExt cx="8238960" cy="5418000"/>
          </a:xfrm>
        </p:grpSpPr>
        <p:sp>
          <p:nvSpPr>
            <p:cNvPr id="2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BC45-6632-4212-8838-427AB734416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Скругленный прямоугольник 10"/>
          <p:cNvGrpSpPr/>
          <p:nvPr/>
        </p:nvGrpSpPr>
        <p:grpSpPr>
          <a:xfrm>
            <a:off x="460440" y="476280"/>
            <a:ext cx="8223120" cy="3025800"/>
            <a:chOff x="460440" y="476280"/>
            <a:chExt cx="8223120" cy="3025800"/>
          </a:xfrm>
        </p:grpSpPr>
        <p:sp>
          <p:nvSpPr>
            <p:cNvPr id="46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82E6-214B-4F40-B0AB-3F04B42A15D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Скругленный прямоугольник 10"/>
          <p:cNvGrpSpPr/>
          <p:nvPr/>
        </p:nvGrpSpPr>
        <p:grpSpPr>
          <a:xfrm>
            <a:off x="446040" y="461880"/>
            <a:ext cx="8251920" cy="4286160"/>
            <a:chOff x="446040" y="461880"/>
            <a:chExt cx="8251920" cy="4286160"/>
          </a:xfrm>
        </p:grpSpPr>
        <p:sp>
          <p:nvSpPr>
            <p:cNvPr id="90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30AA-7EBA-4DE0-BABB-8BB0BFE8C2E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2126-1C4B-41D1-85F2-1AFBC774F01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FE6B-A9EB-4A7A-B64B-40CB387706F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250920" y="1890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Готовимся к ОГЭ по русскому язы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304920" y="1371600"/>
            <a:ext cx="847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Stencil"/>
              </a:rPr>
              <a:t>Учебный тренажёр по т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tencil"/>
              </a:rPr>
              <a:t>Задание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tencil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Stencil"/>
              </a:rPr>
              <a:t>Средства художественной вырази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tencil"/>
              </a:rPr>
              <a:t>Фразеологиз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7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27" name="Line 8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0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1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AutoShape 12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383760" y="5413320"/>
            <a:ext cx="32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Барлук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вчёнок Н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80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8"/>
          <p:cNvSpPr/>
          <p:nvPr/>
        </p:nvSpPr>
        <p:spPr>
          <a:xfrm>
            <a:off x="990720" y="1523880"/>
            <a:ext cx="7272360" cy="101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  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ы были на тонком коричневом ремешке, формой напоминали кирпичик, у циферблата было торжественное выражение 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9"/>
          <p:cNvSpPr/>
          <p:nvPr/>
        </p:nvSpPr>
        <p:spPr>
          <a:xfrm>
            <a:off x="468360" y="1738440"/>
            <a:ext cx="360360" cy="358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10"/>
          <p:cNvSpPr/>
          <p:nvPr/>
        </p:nvSpPr>
        <p:spPr>
          <a:xfrm>
            <a:off x="469800" y="3033720"/>
            <a:ext cx="360360" cy="3589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3"/>
          <p:cNvSpPr/>
          <p:nvPr/>
        </p:nvSpPr>
        <p:spPr>
          <a:xfrm>
            <a:off x="1066680" y="2895480"/>
            <a:ext cx="71964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да, ты починил?  — не веря своим глазам, спросила Д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4"/>
          <p:cNvSpPr/>
          <p:nvPr/>
        </p:nvSpPr>
        <p:spPr>
          <a:xfrm>
            <a:off x="1046160" y="3979800"/>
            <a:ext cx="7238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а не плакала, но было так тяжело, как будто она несла на спине мешок карто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5"/>
          <p:cNvSpPr/>
          <p:nvPr/>
        </p:nvSpPr>
        <p:spPr>
          <a:xfrm>
            <a:off x="990720" y="5105520"/>
            <a:ext cx="727236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азалось, что деревья остолбенели перед случившимся несчасть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8439120" y="18493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7"/>
          <p:cNvSpPr/>
          <p:nvPr/>
        </p:nvSpPr>
        <p:spPr>
          <a:xfrm>
            <a:off x="8415360" y="3097080"/>
            <a:ext cx="360360" cy="3589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8"/>
          <p:cNvSpPr/>
          <p:nvPr/>
        </p:nvSpPr>
        <p:spPr>
          <a:xfrm>
            <a:off x="8418600" y="4255920"/>
            <a:ext cx="360360" cy="3621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22"/>
          <p:cNvSpPr/>
          <p:nvPr/>
        </p:nvSpPr>
        <p:spPr>
          <a:xfrm>
            <a:off x="893880" y="48744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8.Укажи вариант ответа, в котором средством выразительности речи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1"/>
          <p:cNvSpPr/>
          <p:nvPr/>
        </p:nvSpPr>
        <p:spPr>
          <a:xfrm>
            <a:off x="1143000" y="17560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0" dur="indefinite" restart="never" nodeType="tmRoot">
          <p:childTnLst>
            <p:seq>
              <p:cTn id="681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682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8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9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706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1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9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730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3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754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6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0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3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189000"/>
            <a:ext cx="8937360" cy="6668640"/>
            <a:chOff x="0" y="189000"/>
            <a:chExt cx="8937360" cy="6668640"/>
          </a:xfrm>
        </p:grpSpPr>
        <p:sp>
          <p:nvSpPr>
            <p:cNvPr id="401" name="Line 3"/>
            <p:cNvSpPr/>
            <p:nvPr/>
          </p:nvSpPr>
          <p:spPr>
            <a:xfrm>
              <a:off x="0" y="18900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4"/>
            <p:cNvSpPr/>
            <p:nvPr/>
          </p:nvSpPr>
          <p:spPr>
            <a:xfrm>
              <a:off x="0" y="18900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5"/>
            <p:cNvSpPr/>
            <p:nvPr/>
          </p:nvSpPr>
          <p:spPr>
            <a:xfrm>
              <a:off x="0" y="685764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6"/>
            <p:cNvSpPr/>
            <p:nvPr/>
          </p:nvSpPr>
          <p:spPr>
            <a:xfrm>
              <a:off x="8937360" y="18900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7"/>
          <p:cNvSpPr/>
          <p:nvPr/>
        </p:nvSpPr>
        <p:spPr>
          <a:xfrm>
            <a:off x="284040" y="533520"/>
            <a:ext cx="847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9</a:t>
            </a: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.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Укажи варианты ответов, в которых средством выразительности речи явля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разеолог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8"/>
          <p:cNvSpPr/>
          <p:nvPr/>
        </p:nvSpPr>
        <p:spPr>
          <a:xfrm>
            <a:off x="903240" y="1576440"/>
            <a:ext cx="7238880" cy="103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и пуговицы бросились мне в глаза прежде всего: у всех были железные пуговицы со звёздочкой, а у Витьки Борецкого  — с якор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9"/>
          <p:cNvSpPr/>
          <p:nvPr/>
        </p:nvSpPr>
        <p:spPr>
          <a:xfrm>
            <a:off x="396720" y="19558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457200" y="3059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11"/>
          <p:cNvSpPr/>
          <p:nvPr/>
        </p:nvSpPr>
        <p:spPr>
          <a:xfrm>
            <a:off x="409680" y="4118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2"/>
          <p:cNvSpPr/>
          <p:nvPr/>
        </p:nvSpPr>
        <p:spPr>
          <a:xfrm>
            <a:off x="457200" y="5442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927000" y="2819520"/>
            <a:ext cx="727416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л он развязный, невоспитанный, и у него даже, казалось, глазки хищно щурились, когда он смотрел на Вить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4"/>
          <p:cNvSpPr/>
          <p:nvPr/>
        </p:nvSpPr>
        <p:spPr>
          <a:xfrm>
            <a:off x="976320" y="3879720"/>
            <a:ext cx="7162920" cy="107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т однажды Анна Николаевна сказала, что школе дали много денег для оборудования, и мы отправились в магазин наглядных пособи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5"/>
          <p:cNvSpPr/>
          <p:nvPr/>
        </p:nvSpPr>
        <p:spPr>
          <a:xfrm>
            <a:off x="927000" y="5127480"/>
            <a:ext cx="73152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шительным шагом я подошёл к Борецкому, придвинул его к скелету, взял костлявую кисть и положил Витьке на плеч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6"/>
          <p:cNvSpPr/>
          <p:nvPr/>
        </p:nvSpPr>
        <p:spPr>
          <a:xfrm>
            <a:off x="8431200" y="4183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7"/>
          <p:cNvSpPr/>
          <p:nvPr/>
        </p:nvSpPr>
        <p:spPr>
          <a:xfrm>
            <a:off x="8431200" y="30225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8"/>
          <p:cNvSpPr/>
          <p:nvPr/>
        </p:nvSpPr>
        <p:spPr>
          <a:xfrm>
            <a:off x="8418600" y="1925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Oval 19"/>
          <p:cNvSpPr/>
          <p:nvPr/>
        </p:nvSpPr>
        <p:spPr>
          <a:xfrm>
            <a:off x="8431200" y="54957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777" dur="indefinite" restart="never" nodeType="tmRoot">
          <p:childTnLst>
            <p:seq>
              <p:cTn id="778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0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803" nodeType="clickEffect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2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6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827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3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4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6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0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851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5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6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420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7"/>
          <p:cNvSpPr/>
          <p:nvPr/>
        </p:nvSpPr>
        <p:spPr>
          <a:xfrm>
            <a:off x="228600" y="228600"/>
            <a:ext cx="8478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кажи варианты ответов, в которых средством выразительности речи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разеолог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8"/>
          <p:cNvSpPr/>
          <p:nvPr/>
        </p:nvSpPr>
        <p:spPr>
          <a:xfrm>
            <a:off x="990720" y="1447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ё дальше уходили они по высокой некошеной траве, по весёлым цве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2"/>
          <p:cNvSpPr/>
          <p:nvPr/>
        </p:nvSpPr>
        <p:spPr>
          <a:xfrm>
            <a:off x="565200" y="5160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13"/>
          <p:cNvSpPr/>
          <p:nvPr/>
        </p:nvSpPr>
        <p:spPr>
          <a:xfrm>
            <a:off x="1033560" y="2563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 шёл, у него распухла губа, и веко распухло, и глаз закры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4"/>
          <p:cNvSpPr/>
          <p:nvPr/>
        </p:nvSpPr>
        <p:spPr>
          <a:xfrm>
            <a:off x="973080" y="37497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я с Гринькой от пчёл убежали,— сказала бабушка,— а наш простофиля полез Васятку спас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15"/>
          <p:cNvSpPr/>
          <p:nvPr/>
        </p:nvSpPr>
        <p:spPr>
          <a:xfrm>
            <a:off x="1104840" y="4932360"/>
            <a:ext cx="6858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 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-то здесь пчёл видимо-невидим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7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8"/>
          <p:cNvSpPr/>
          <p:nvPr/>
        </p:nvSpPr>
        <p:spPr>
          <a:xfrm>
            <a:off x="8286840" y="5170320"/>
            <a:ext cx="360360" cy="3621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9"/>
          <p:cNvSpPr/>
          <p:nvPr/>
        </p:nvSpPr>
        <p:spPr>
          <a:xfrm>
            <a:off x="8418600" y="4006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4"/>
          <p:cNvSpPr/>
          <p:nvPr/>
        </p:nvSpPr>
        <p:spPr>
          <a:xfrm>
            <a:off x="762120" y="173916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5"/>
          <p:cNvSpPr/>
          <p:nvPr/>
        </p:nvSpPr>
        <p:spPr>
          <a:xfrm>
            <a:off x="762120" y="26676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26"/>
          <p:cNvSpPr/>
          <p:nvPr/>
        </p:nvSpPr>
        <p:spPr>
          <a:xfrm>
            <a:off x="201600" y="39751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874" dur="indefinite" restart="never" nodeType="tmRoot">
          <p:childTnLst>
            <p:seq>
              <p:cTn id="875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876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8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2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9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900" nodeType="clickEffect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0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9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2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7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92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3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3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7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948" nodeType="clickEffect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95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6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7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34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9"/>
          <p:cNvSpPr/>
          <p:nvPr/>
        </p:nvSpPr>
        <p:spPr>
          <a:xfrm>
            <a:off x="284040" y="449280"/>
            <a:ext cx="84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Инструкция по работе с учебным тренажё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228600" y="1219320"/>
            <a:ext cx="8458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ое задание имеет 4 варианта ответа. Ты должен выбрать один прави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Если ты выбрал правильный ответ, появится     «плю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ты выбрал неверный ответ, появится «мину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Переход к следующему заданию осуществляется по кнопке вниз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5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7"/>
          <p:cNvSpPr/>
          <p:nvPr/>
        </p:nvSpPr>
        <p:spPr>
          <a:xfrm>
            <a:off x="304920" y="52578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Желаю удач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"/>
          <p:cNvGrpSpPr/>
          <p:nvPr/>
        </p:nvGrpSpPr>
        <p:grpSpPr>
          <a:xfrm>
            <a:off x="206280" y="0"/>
            <a:ext cx="8937360" cy="6668640"/>
            <a:chOff x="206280" y="0"/>
            <a:chExt cx="8937360" cy="6668640"/>
          </a:xfrm>
        </p:grpSpPr>
        <p:sp>
          <p:nvSpPr>
            <p:cNvPr id="243" name="Line 5"/>
            <p:cNvSpPr/>
            <p:nvPr/>
          </p:nvSpPr>
          <p:spPr>
            <a:xfrm>
              <a:off x="206280" y="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>
              <a:off x="206280" y="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>
              <a:off x="206280" y="666864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"/>
            <p:cNvSpPr/>
            <p:nvPr/>
          </p:nvSpPr>
          <p:spPr>
            <a:xfrm>
              <a:off x="9143640" y="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9"/>
          <p:cNvSpPr/>
          <p:nvPr/>
        </p:nvSpPr>
        <p:spPr>
          <a:xfrm>
            <a:off x="228600" y="228600"/>
            <a:ext cx="84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0"/>
          <p:cNvSpPr/>
          <p:nvPr/>
        </p:nvSpPr>
        <p:spPr>
          <a:xfrm>
            <a:off x="1066680" y="1295280"/>
            <a:ext cx="7348680" cy="1067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видел его подпухший нос, тонкое лицо, шелковистые брови, непрочное, нежное, будто фарфоровое, лицо, и горло забило картофели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11"/>
          <p:cNvSpPr/>
          <p:nvPr/>
        </p:nvSpPr>
        <p:spPr>
          <a:xfrm>
            <a:off x="457200" y="16765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7"/>
          <p:cNvSpPr/>
          <p:nvPr/>
        </p:nvSpPr>
        <p:spPr>
          <a:xfrm>
            <a:off x="99072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 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ражение моё против гостя рос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8"/>
          <p:cNvSpPr/>
          <p:nvPr/>
        </p:nvSpPr>
        <p:spPr>
          <a:xfrm>
            <a:off x="990720" y="3789360"/>
            <a:ext cx="7315200" cy="108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  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никогда больше пальцем не тронул Оську, как бы он ни задирался, а это случалось порой в первые годы нашей так сложно начавшейся друж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9"/>
          <p:cNvSpPr/>
          <p:nvPr/>
        </p:nvSpPr>
        <p:spPr>
          <a:xfrm>
            <a:off x="990720" y="525780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выметнулся из кресла, подошёл ко мне и протянул ру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3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28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29"/>
          <p:cNvSpPr/>
          <p:nvPr/>
        </p:nvSpPr>
        <p:spPr>
          <a:xfrm>
            <a:off x="847872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30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1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498600" y="5526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1.Укажи  вариант ответа, в котором средством выразительности речи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разеолог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63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9"/>
          <p:cNvSpPr/>
          <p:nvPr/>
        </p:nvSpPr>
        <p:spPr>
          <a:xfrm>
            <a:off x="311040" y="457200"/>
            <a:ext cx="8479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2.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кажи вариант ответа, в котором средством выразительности речи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0"/>
          <p:cNvSpPr/>
          <p:nvPr/>
        </p:nvSpPr>
        <p:spPr>
          <a:xfrm>
            <a:off x="914400" y="12952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ежду тем в театре было тепло, в зале приятно и сложно пахло, в фойе гуляли нарядные люди, окна были укутаны шторами из парашютного шёлка, будто кучевыми обла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7"/>
          <p:cNvSpPr/>
          <p:nvPr/>
        </p:nvSpPr>
        <p:spPr>
          <a:xfrm>
            <a:off x="838080" y="2362320"/>
            <a:ext cx="74678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 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тве я очень, очень старалась полюбить театр, как мне велели: ведь это Большое Искусство, Х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18"/>
          <p:cNvSpPr/>
          <p:nvPr/>
        </p:nvSpPr>
        <p:spPr>
          <a:xfrm>
            <a:off x="992160" y="3789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  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кино я именно и жду полного преображения, окончательного обмана  — «чтоб не думать зачем, чтоб не помнить когд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я, как положено, должна испытывать священный трепет, но помнить при этом, что в театре есть театральные услов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2"/>
          <p:cNvSpPr/>
          <p:nvPr/>
        </p:nvSpPr>
        <p:spPr>
          <a:xfrm>
            <a:off x="845820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4"/>
          <p:cNvSpPr/>
          <p:nvPr/>
        </p:nvSpPr>
        <p:spPr>
          <a:xfrm>
            <a:off x="8458200" y="16002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1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282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9"/>
          <p:cNvSpPr/>
          <p:nvPr/>
        </p:nvSpPr>
        <p:spPr>
          <a:xfrm>
            <a:off x="247680" y="539640"/>
            <a:ext cx="8478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3.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кажите вариант ответа, в котором средством выразительности речи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990720" y="1447920"/>
            <a:ext cx="7315200" cy="8380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был рад, что мать не видит его сле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1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3"/>
          <p:cNvSpPr/>
          <p:nvPr/>
        </p:nvSpPr>
        <p:spPr>
          <a:xfrm>
            <a:off x="380880" y="4114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4"/>
          <p:cNvSpPr/>
          <p:nvPr/>
        </p:nvSpPr>
        <p:spPr>
          <a:xfrm>
            <a:off x="457200" y="5562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992160" y="2565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ый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8"/>
          <p:cNvSpPr/>
          <p:nvPr/>
        </p:nvSpPr>
        <p:spPr>
          <a:xfrm>
            <a:off x="990720" y="40384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моего отца убили...  — закричал Авалбёк, желая, чтобы люди гордились его отцом так же, как 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9"/>
          <p:cNvSpPr/>
          <p:nvPr/>
        </p:nvSpPr>
        <p:spPr>
          <a:xfrm>
            <a:off x="914400" y="53341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  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действительно, солдат на экране был очень похож на отца на той старой военной фотографии, которая висела у них д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23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24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25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7"/>
          <p:cNvSpPr/>
          <p:nvPr/>
        </p:nvSpPr>
        <p:spPr>
          <a:xfrm>
            <a:off x="914400" y="2590920"/>
            <a:ext cx="7348680" cy="124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рдце мальчика было наполнено гор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21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4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69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4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02" name="Line 5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6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7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8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9"/>
          <p:cNvSpPr/>
          <p:nvPr/>
        </p:nvSpPr>
        <p:spPr>
          <a:xfrm>
            <a:off x="311040" y="582480"/>
            <a:ext cx="847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4.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Укажи вариант ответа, в котором средством выразительности речи является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лицетвор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992160" y="1676520"/>
            <a:ext cx="7272360" cy="60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а по себе природа вечна и почти неизмен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1"/>
          <p:cNvSpPr/>
          <p:nvPr/>
        </p:nvSpPr>
        <p:spPr>
          <a:xfrm flipV="1">
            <a:off x="533520" y="1904400"/>
            <a:ext cx="304560" cy="3682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7"/>
          <p:cNvSpPr/>
          <p:nvPr/>
        </p:nvSpPr>
        <p:spPr>
          <a:xfrm>
            <a:off x="914400" y="2590920"/>
            <a:ext cx="7350120" cy="911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ыли мы как-то вниз по Ветлуге на старой деревянной бар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8"/>
          <p:cNvSpPr/>
          <p:nvPr/>
        </p:nvSpPr>
        <p:spPr>
          <a:xfrm>
            <a:off x="838080" y="3733920"/>
            <a:ext cx="7426440" cy="992160"/>
          </a:xfrm>
          <a:prstGeom prst="roundRect">
            <a:avLst>
              <a:gd name="adj" fmla="val 49208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целый час все вместе пели они эту песню, по нескольку раз повторяя одни и те же строчки, а баржа катила себе вниз по Ветлуге, по лесной дикой ре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9"/>
          <p:cNvSpPr/>
          <p:nvPr/>
        </p:nvSpPr>
        <p:spPr>
          <a:xfrm>
            <a:off x="992160" y="5013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лубокая и тихая вода лакированно блестела, словно в реку вылили масло, и в это чёрное зеркало смотрелись с обрыва задумчивые ели, тонкие берёзки, тронутые желти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2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3"/>
          <p:cNvSpPr/>
          <p:nvPr/>
        </p:nvSpPr>
        <p:spPr>
          <a:xfrm>
            <a:off x="845820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4"/>
          <p:cNvSpPr/>
          <p:nvPr/>
        </p:nvSpPr>
        <p:spPr>
          <a:xfrm>
            <a:off x="8478720" y="525780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5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6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92" dur="indefinite" restart="never" nodeType="tmRoot">
          <p:childTnLst>
            <p:seq>
              <p:cTn id="293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294" nodeType="clickEffect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0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3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342" nodeType="clickEffect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37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Group 2"/>
          <p:cNvGrpSpPr/>
          <p:nvPr/>
        </p:nvGrpSpPr>
        <p:grpSpPr>
          <a:xfrm>
            <a:off x="130320" y="112680"/>
            <a:ext cx="8937000" cy="6668640"/>
            <a:chOff x="130320" y="112680"/>
            <a:chExt cx="8937000" cy="6668640"/>
          </a:xfrm>
        </p:grpSpPr>
        <p:sp>
          <p:nvSpPr>
            <p:cNvPr id="321" name="Line 3"/>
            <p:cNvSpPr/>
            <p:nvPr/>
          </p:nvSpPr>
          <p:spPr>
            <a:xfrm>
              <a:off x="130320" y="112680"/>
              <a:ext cx="893700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"/>
            <p:cNvSpPr/>
            <p:nvPr/>
          </p:nvSpPr>
          <p:spPr>
            <a:xfrm>
              <a:off x="130320" y="1126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5"/>
            <p:cNvSpPr/>
            <p:nvPr/>
          </p:nvSpPr>
          <p:spPr>
            <a:xfrm>
              <a:off x="130320" y="6781320"/>
              <a:ext cx="893700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6"/>
            <p:cNvSpPr/>
            <p:nvPr/>
          </p:nvSpPr>
          <p:spPr>
            <a:xfrm>
              <a:off x="9067320" y="1126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Rectangle 7"/>
          <p:cNvSpPr/>
          <p:nvPr/>
        </p:nvSpPr>
        <p:spPr>
          <a:xfrm>
            <a:off x="228600" y="228600"/>
            <a:ext cx="84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505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/>
          <p:cNvSpPr/>
          <p:nvPr/>
        </p:nvSpPr>
        <p:spPr>
          <a:xfrm>
            <a:off x="990720" y="1295280"/>
            <a:ext cx="723888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рый приостановился возле ступенек в подвал, огляде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9"/>
          <p:cNvSpPr/>
          <p:nvPr/>
        </p:nvSpPr>
        <p:spPr>
          <a:xfrm>
            <a:off x="504720" y="1447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457200" y="25909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1"/>
          <p:cNvSpPr/>
          <p:nvPr/>
        </p:nvSpPr>
        <p:spPr>
          <a:xfrm>
            <a:off x="542880" y="3770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2"/>
          <p:cNvSpPr/>
          <p:nvPr/>
        </p:nvSpPr>
        <p:spPr>
          <a:xfrm>
            <a:off x="450720" y="53341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3"/>
          <p:cNvSpPr/>
          <p:nvPr/>
        </p:nvSpPr>
        <p:spPr>
          <a:xfrm>
            <a:off x="990720" y="2438280"/>
            <a:ext cx="72388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алья, лебеди у меня там,  — признался Сергей,  — на озере лёд, погибнуть они мог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4"/>
          <p:cNvSpPr/>
          <p:nvPr/>
        </p:nvSpPr>
        <p:spPr>
          <a:xfrm>
            <a:off x="1027080" y="3635280"/>
            <a:ext cx="719604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сию эту Сергей полностью не отрицал, она всё-таки утешала его, но цену себе он знал точну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15"/>
          <p:cNvSpPr/>
          <p:nvPr/>
        </p:nvSpPr>
        <p:spPr>
          <a:xfrm>
            <a:off x="985680" y="4933800"/>
            <a:ext cx="7315200" cy="1160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ерый достал из карманов хлеб, растёр в ладонях, кинул лебед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Oval 16"/>
          <p:cNvSpPr/>
          <p:nvPr/>
        </p:nvSpPr>
        <p:spPr>
          <a:xfrm>
            <a:off x="8391600" y="14079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7"/>
          <p:cNvSpPr/>
          <p:nvPr/>
        </p:nvSpPr>
        <p:spPr>
          <a:xfrm>
            <a:off x="8458200" y="2629080"/>
            <a:ext cx="419040" cy="457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18"/>
          <p:cNvSpPr/>
          <p:nvPr/>
        </p:nvSpPr>
        <p:spPr>
          <a:xfrm>
            <a:off x="8458200" y="3809880"/>
            <a:ext cx="360360" cy="38124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19"/>
          <p:cNvSpPr/>
          <p:nvPr/>
        </p:nvSpPr>
        <p:spPr>
          <a:xfrm>
            <a:off x="8458200" y="5181480"/>
            <a:ext cx="419040" cy="5511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25"/>
          <p:cNvSpPr/>
          <p:nvPr/>
        </p:nvSpPr>
        <p:spPr>
          <a:xfrm>
            <a:off x="457200" y="4208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5.Укажи вариант ответов, в котором средством вырази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речи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разеологизм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89" dur="indefinite" restart="never" nodeType="tmRoot">
          <p:childTnLst>
            <p:seq>
              <p:cTn id="39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391" nodeType="clickEffect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439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4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463" nodeType="clickEffect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4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Rectangle 7"/>
          <p:cNvSpPr/>
          <p:nvPr/>
        </p:nvSpPr>
        <p:spPr>
          <a:xfrm>
            <a:off x="380880" y="338040"/>
            <a:ext cx="840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</a:rPr>
              <a:t>6.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кажи вариант ответа в котором средством выразительности речи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1066680" y="1219320"/>
            <a:ext cx="719784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 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 совсем не стемнело, Сергей видел знакомые очертания гор и не боялся сбиться с пу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3"/>
          <p:cNvSpPr/>
          <p:nvPr/>
        </p:nvSpPr>
        <p:spPr>
          <a:xfrm>
            <a:off x="1066680" y="2590920"/>
            <a:ext cx="727236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шёл и думал, что заблудиться ночью в степи в сто раз хуже, чем в лес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4"/>
          <p:cNvSpPr/>
          <p:nvPr/>
        </p:nvSpPr>
        <p:spPr>
          <a:xfrm>
            <a:off x="1066680" y="380988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тер, который летел с северо-запада, не смог победить эту плотную темноту, ослабел и лег спать в сухой тр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5"/>
          <p:cNvSpPr/>
          <p:nvPr/>
        </p:nvSpPr>
        <p:spPr>
          <a:xfrm>
            <a:off x="1066680" y="4937040"/>
            <a:ext cx="7274160" cy="108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  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лышно лишь, как головки каких-то цветов щёлкают по голенищам сапо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3"/>
          <p:cNvSpPr/>
          <p:nvPr/>
        </p:nvSpPr>
        <p:spPr>
          <a:xfrm>
            <a:off x="87120" y="0"/>
            <a:ext cx="20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86" dur="indefinite" restart="never" nodeType="tmRoot">
          <p:childTnLst>
            <p:seq>
              <p:cTn id="487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488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4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512" nodeType="clickEffect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5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1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536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4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4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6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2"/>
          <p:cNvGrpSpPr/>
          <p:nvPr/>
        </p:nvGrpSpPr>
        <p:grpSpPr>
          <a:xfrm>
            <a:off x="106200" y="100080"/>
            <a:ext cx="8937360" cy="6668640"/>
            <a:chOff x="106200" y="100080"/>
            <a:chExt cx="8937360" cy="6668640"/>
          </a:xfrm>
        </p:grpSpPr>
        <p:sp>
          <p:nvSpPr>
            <p:cNvPr id="361" name="Line 3"/>
            <p:cNvSpPr/>
            <p:nvPr/>
          </p:nvSpPr>
          <p:spPr>
            <a:xfrm>
              <a:off x="106200" y="10008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4"/>
            <p:cNvSpPr/>
            <p:nvPr/>
          </p:nvSpPr>
          <p:spPr>
            <a:xfrm>
              <a:off x="10620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5"/>
            <p:cNvSpPr/>
            <p:nvPr/>
          </p:nvSpPr>
          <p:spPr>
            <a:xfrm>
              <a:off x="106200" y="6768720"/>
              <a:ext cx="8937360" cy="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6"/>
            <p:cNvSpPr/>
            <p:nvPr/>
          </p:nvSpPr>
          <p:spPr>
            <a:xfrm>
              <a:off x="9043560" y="100080"/>
              <a:ext cx="0" cy="6668640"/>
            </a:xfrm>
            <a:prstGeom prst="line">
              <a:avLst/>
            </a:prstGeom>
            <a:ln w="76320">
              <a:solidFill>
                <a:srgbClr val="e3de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AutoShape 8"/>
          <p:cNvSpPr/>
          <p:nvPr/>
        </p:nvSpPr>
        <p:spPr>
          <a:xfrm>
            <a:off x="973080" y="13413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ежде чем увидеть Наилю, я услышал её голо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46836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468360" y="2852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11"/>
          <p:cNvSpPr/>
          <p:nvPr/>
        </p:nvSpPr>
        <p:spPr>
          <a:xfrm>
            <a:off x="468360" y="40766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2"/>
          <p:cNvSpPr/>
          <p:nvPr/>
        </p:nvSpPr>
        <p:spPr>
          <a:xfrm>
            <a:off x="468360" y="537372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13"/>
          <p:cNvSpPr/>
          <p:nvPr/>
        </p:nvSpPr>
        <p:spPr>
          <a:xfrm>
            <a:off x="973080" y="2496960"/>
            <a:ext cx="727236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тот голос полностью захватил власть надо мной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14"/>
          <p:cNvSpPr/>
          <p:nvPr/>
        </p:nvSpPr>
        <p:spPr>
          <a:xfrm>
            <a:off x="914400" y="3581280"/>
            <a:ext cx="739152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за её блестели, как от слёз, хотя она не плак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15"/>
          <p:cNvSpPr/>
          <p:nvPr/>
        </p:nvSpPr>
        <p:spPr>
          <a:xfrm>
            <a:off x="957240" y="5106960"/>
            <a:ext cx="7315200" cy="116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хотел закричать от радости, совершить что-то немысли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6"/>
          <p:cNvSpPr/>
          <p:nvPr/>
        </p:nvSpPr>
        <p:spPr>
          <a:xfrm>
            <a:off x="8458200" y="155736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7"/>
          <p:cNvSpPr/>
          <p:nvPr/>
        </p:nvSpPr>
        <p:spPr>
          <a:xfrm>
            <a:off x="8458200" y="40384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8478720" y="284004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8458200" y="5372280"/>
            <a:ext cx="360360" cy="360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20">
            <a:hlinkClick r:id="" action="ppaction://hlinkshowjump?jump=nextslide"/>
          </p:cNvPr>
          <p:cNvSpPr/>
          <p:nvPr/>
        </p:nvSpPr>
        <p:spPr>
          <a:xfrm>
            <a:off x="8229600" y="6172200"/>
            <a:ext cx="738360" cy="509760"/>
          </a:xfrm>
          <a:custGeom>
            <a:avLst/>
            <a:gdLst>
              <a:gd name="textAreaLeft" fmla="*/ 32760 w 738360"/>
              <a:gd name="textAreaRight" fmla="*/ 705600 w 73836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1280" h="21600">
                <a:moveTo>
                  <a:pt x="0" y="0"/>
                </a:moveTo>
                <a:lnTo>
                  <a:pt x="31280" y="0"/>
                </a:lnTo>
                <a:lnTo>
                  <a:pt x="31280" y="21600"/>
                </a:lnTo>
                <a:lnTo>
                  <a:pt x="0" y="21600"/>
                </a:lnTo>
                <a:close/>
              </a:path>
              <a:path fill="lightenLess" w="31280" h="21600">
                <a:moveTo>
                  <a:pt x="0" y="0"/>
                </a:moveTo>
                <a:lnTo>
                  <a:pt x="31280" y="0"/>
                </a:lnTo>
                <a:lnTo>
                  <a:pt x="29880" y="1400"/>
                </a:lnTo>
                <a:lnTo>
                  <a:pt x="1400" y="1400"/>
                </a:lnTo>
                <a:close/>
              </a:path>
              <a:path fill="darken" w="31280" h="21600">
                <a:moveTo>
                  <a:pt x="31280" y="0"/>
                </a:moveTo>
                <a:lnTo>
                  <a:pt x="31280" y="21600"/>
                </a:lnTo>
                <a:lnTo>
                  <a:pt x="29880" y="20200"/>
                </a:lnTo>
                <a:lnTo>
                  <a:pt x="29880" y="1400"/>
                </a:lnTo>
                <a:close/>
              </a:path>
              <a:path fill="darkenLess" w="31280" h="21600">
                <a:moveTo>
                  <a:pt x="31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80" y="20200"/>
                </a:lnTo>
                <a:close/>
              </a:path>
              <a:path fill="lighten" w="31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80" h="21600">
                <a:moveTo>
                  <a:pt x="8633" y="3794"/>
                </a:moveTo>
                <a:lnTo>
                  <a:pt x="22646" y="10800"/>
                </a:lnTo>
                <a:lnTo>
                  <a:pt x="8633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22"/>
          <p:cNvSpPr/>
          <p:nvPr/>
        </p:nvSpPr>
        <p:spPr>
          <a:xfrm>
            <a:off x="668160" y="38088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7.Укажи вариант ответа, в котором средством выразительности речи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таф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583" dur="indefinite" restart="never" nodeType="tmRoot">
          <p:childTnLst>
            <p:seq>
              <p:cTn id="584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585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5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609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  <p:set>
                                      <p:cBhvr>
                                        <p:cTn id="61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3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657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6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5" nodeType="after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3T14:17:51Z</dcterms:created>
  <dc:creator>Toshiba</dc:creator>
  <dc:description/>
  <dc:language>en-US</dc:language>
  <cp:lastModifiedBy>777</cp:lastModifiedBy>
  <dcterms:modified xsi:type="dcterms:W3CDTF">2024-01-30T15:16:3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