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54C-E4B7-4F52-88AC-69D566F1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92CF-6500-4A53-B3D6-97E0DAB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759E-8D14-42CC-A41E-CA0DBD14C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E2D-D154-47E1-A9D9-54C74927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6C3F-F0CC-4BFA-9EDA-68F40E55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56B7-57E1-4EDC-8179-E0207882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D538-B392-4389-BA77-9AACA5E5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AA4-3613-4A44-BEE5-21CA9B2F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7920-F7C0-4BFD-94A1-2C6EDEC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47F-F8A2-4FDC-B5F7-2FDEAB0D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D731-3699-48BF-9C83-AA506240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39D-90C0-4864-AB3F-48DED98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2D5-A5DF-4B23-A9A5-C8544DDC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2148-C4AA-4D12-BDB4-092B7A1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FA47-07E4-4CD8-A5B1-A8BE4805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6433-FD2D-403A-AE30-628A01AB5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5F0DB-900A-45C7-B4B7-C069E575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255-6F85-43F6-B286-68F220BB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14D-4FAF-4E10-A571-36BC47AE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002-E104-40A6-91EB-9DCE5CCF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EAC-9C52-42E1-AB67-FA80F0B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90F-EBF4-4C95-BB8D-2805E903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65BC-79E8-40DB-8309-3C2E164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1ED-38CE-4FA9-BBE7-61C9A1CA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EE07-5143-4D00-B915-8A46A47EF6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1BEE-6474-40F7-BC8F-E42AC189C24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" Target="slide2.xml"/><Relationship Id="rId5" Type="http://schemas.openxmlformats.org/officeDocument/2006/relationships/image" Target="../media/image2.png"/><Relationship Id="rId6" Type="http://schemas.openxmlformats.org/officeDocument/2006/relationships/slide" Target="slide8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" Target="slide11.xml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6.xml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8.xml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Алкадиены  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дрогалогенирова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3" descr="2.jpg"/>
          <p:cNvPicPr/>
          <p:nvPr/>
        </p:nvPicPr>
        <p:blipFill>
          <a:blip r:embed="rId1"/>
          <a:stretch/>
        </p:blipFill>
        <p:spPr>
          <a:xfrm>
            <a:off x="642960" y="2500200"/>
            <a:ext cx="77724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имеризация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важнейш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войство алкадиенов с точки зрения промышлен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=CH-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-)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g008"/>
          <p:cNvPicPr/>
          <p:nvPr/>
        </p:nvPicPr>
        <p:blipFill>
          <a:blip r:embed="rId1"/>
          <a:stretch/>
        </p:blipFill>
        <p:spPr>
          <a:xfrm>
            <a:off x="1835280" y="3860640"/>
            <a:ext cx="1655640" cy="898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img009"/>
          <p:cNvPicPr/>
          <p:nvPr/>
        </p:nvPicPr>
        <p:blipFill>
          <a:blip r:embed="rId2"/>
          <a:stretch/>
        </p:blipFill>
        <p:spPr>
          <a:xfrm>
            <a:off x="4932360" y="3860640"/>
            <a:ext cx="1871640" cy="10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BTAR_RGT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BTAR_UP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BTAR_LFT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205" name="Прямая со стрелкой 8"/>
          <p:cNvCxnSpPr/>
          <p:nvPr/>
        </p:nvCxnSpPr>
        <p:spPr>
          <a:xfrm>
            <a:off x="3708000" y="4365360"/>
            <a:ext cx="93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6" name="TextBox 9"/>
          <p:cNvSpPr/>
          <p:nvPr/>
        </p:nvSpPr>
        <p:spPr>
          <a:xfrm>
            <a:off x="4168440" y="2268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Прямая со стрелкой 12"/>
          <p:cNvCxnSpPr/>
          <p:nvPr/>
        </p:nvCxnSpPr>
        <p:spPr>
          <a:xfrm>
            <a:off x="3995640" y="292392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8" name="TextBox 13"/>
          <p:cNvSpPr/>
          <p:nvPr/>
        </p:nvSpPr>
        <p:spPr>
          <a:xfrm>
            <a:off x="3891240" y="3789360"/>
            <a:ext cx="65160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Times New Roman"/>
              </a:rPr>
              <a:t>Натуральный каучук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туральный каучук получают и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лечного сока (</a:t>
            </a:r>
            <a:r>
              <a:rPr b="1" i="1" lang="ru-RU" sz="2600" spc="-1" strike="noStrike">
                <a:solidFill>
                  <a:srgbClr val="330066"/>
                </a:solidFill>
                <a:latin typeface="Times New Roman"/>
              </a:rPr>
              <a:t>латекс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каучуконосного дерева гевеи, растущего в тропических лесах Бразил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нагревании без доступа воздуха каучук распадается с образованием диенового углеводорода –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- метилбутадиена-1,3 или изопрена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аучук – это полимер, в котором молекулы изопрена соединены друг с другом по схеме 1,4- присоединения с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ци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онфигурацией полимерной цеп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img014"/>
          <p:cNvPicPr/>
          <p:nvPr/>
        </p:nvPicPr>
        <p:blipFill>
          <a:blip r:embed="rId1"/>
          <a:stretch/>
        </p:blipFill>
        <p:spPr>
          <a:xfrm>
            <a:off x="1979640" y="5300640"/>
            <a:ext cx="4824360" cy="10810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TAR_UP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BTAR_LFT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тран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лимер изопрена также встречается в природе в виде </a:t>
            </a:r>
            <a:r>
              <a:rPr b="1" i="1" lang="ru-RU" sz="2800" spc="-1" strike="noStrike">
                <a:solidFill>
                  <a:srgbClr val="330066"/>
                </a:solidFill>
                <a:latin typeface="Times New Roman"/>
              </a:rPr>
              <a:t>гуттаперч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туральный каучук обладает уникальным комплексом свойств: эластичностью, износоустойчивостью, клейкостью, водо- и газонепроницаемостью, хороший изолятор, растворимостью в органических растворител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: при высо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мягчается, при низко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хруп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015"/>
          <p:cNvPicPr/>
          <p:nvPr/>
        </p:nvPicPr>
        <p:blipFill>
          <a:blip r:embed="rId1"/>
          <a:stretch/>
        </p:blipFill>
        <p:spPr>
          <a:xfrm>
            <a:off x="1763640" y="1844640"/>
            <a:ext cx="4753080" cy="1368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BTAR_RGT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BTAR_UP"/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BTAR_LFT"/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 резин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дания каучуку необход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зико-механических свойств: прочности, эластичности, стойкости к действию растворителей и агрессивных химических сред – каучук подвергают вулканизации нагреванием до 130-14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с серой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Вулканизация – процесс получения рез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Times New Roman"/>
              </a:rPr>
              <a:t>из кауч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томы серы присоединяются по месту разрыва некоторых двойных связей и линейные молекулы каучука "сшиваются" в более крупные трехмерные молекулы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учается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з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ая по прочности значительно превосходит невулканизированный каучу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BTAR_UP"/>
          <p:cNvPicPr/>
          <p:nvPr/>
        </p:nvPicPr>
        <p:blipFill>
          <a:blip r:embed="rId2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47280" y="1773360"/>
            <a:ext cx="6419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601906"/>
                </a:solidFill>
                <a:latin typeface="Times New Roman"/>
              </a:rPr>
              <a:t>Резина обладает большой эластичностью, прочностью, устойчива к действию растворителей. Ее получают путем вулканизации кауч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BTAR_UP"/>
          <p:cNvPicPr/>
          <p:nvPr/>
        </p:nvPicPr>
        <p:blipFill>
          <a:blip r:embed="rId1"/>
          <a:stretch/>
        </p:blipFill>
        <p:spPr>
          <a:xfrm>
            <a:off x="7956720" y="6165720"/>
            <a:ext cx="36504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роко применяются сополимерные     каучуки – продукты совместной полимеризации (сополимеризации) бутадиена с другими непредельными соединениями.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Каучук полученный из бутадиена-1,3 (80%    по массе) и  стирол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H–C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20% по массе) 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, широко используют при производстве автомобильных шин и резиновы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BTAR_UP"/>
          <p:cNvPicPr/>
          <p:nvPr/>
        </p:nvPicPr>
        <p:blipFill>
          <a:blip r:embed="rId2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BTAR_LFT"/>
          <p:cNvPicPr/>
          <p:nvPr/>
        </p:nvPicPr>
        <p:blipFill>
          <a:blip r:embed="rId3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Диеновые углеводороды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Диеновые углеводороды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ли алкадиены – это непредельные углеводороды, содержащие две двойные углерод - углеродные связ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C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26004d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2</a:t>
            </a:r>
            <a:r>
              <a:rPr b="1" lang="en-US" sz="2800" spc="-1" strike="noStrike" baseline="-12000">
                <a:solidFill>
                  <a:srgbClr val="26004d"/>
                </a:solidFill>
                <a:latin typeface="Times New Roman"/>
              </a:rPr>
              <a:t>n</a:t>
            </a:r>
            <a:r>
              <a:rPr b="1" lang="ru-RU" sz="2800" spc="-1" strike="noStrike" baseline="-12000">
                <a:solidFill>
                  <a:srgbClr val="26004d"/>
                </a:solidFill>
                <a:latin typeface="Times New Roman"/>
              </a:rPr>
              <a:t> -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международной номенклатуре алкадиены называют  так же , как и алкены, но только вместо окончания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ен</a:t>
            </a:r>
            <a:r>
              <a:rPr b="0" lang="ru-RU" sz="2800" spc="-1" strike="noStrike">
                <a:solidFill>
                  <a:srgbClr val="26004d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употребляетс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6004d"/>
                </a:solidFill>
                <a:latin typeface="Times New Roman"/>
              </a:rPr>
              <a:t>–дие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543800" cy="101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Изомерия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69999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алкадиенов характерны те же виды изомерии, что и для алкен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Углеродного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Положения двойных свя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 Цис- транс – изоме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) Межклассовая (с алкина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Классификация по положению двойных связей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Куму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примыкающими к одному атому углер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падиен (алл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Изолированны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несколькими прост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нтадиен -1,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84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i="1" lang="ru-RU" sz="2800" spc="-1" strike="noStrike">
                <a:solidFill>
                  <a:srgbClr val="26004d"/>
                </a:solidFill>
                <a:latin typeface="Times New Roman"/>
              </a:rPr>
              <a:t>Сопряженны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.е. с двумя двойными связями, разделенными одной простой связ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тадиен -1,3 (дивини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С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-метилбутадиен -1,3 (изопрен)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ибольший интерес представляют углеводороды с сопряженными двойными связ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BTAR_LFT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Получение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 Дегидрирование алка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C(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72" name="Прямая со стрелкой 7"/>
          <p:cNvCxnSpPr/>
          <p:nvPr/>
        </p:nvCxnSpPr>
        <p:spPr>
          <a:xfrm>
            <a:off x="3348000" y="2565000"/>
            <a:ext cx="12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3" name="TextBox 8"/>
          <p:cNvSpPr/>
          <p:nvPr/>
        </p:nvSpPr>
        <p:spPr>
          <a:xfrm>
            <a:off x="3132000" y="213372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Прямая со стрелкой 9"/>
          <p:cNvCxnSpPr/>
          <p:nvPr/>
        </p:nvCxnSpPr>
        <p:spPr>
          <a:xfrm>
            <a:off x="3850920" y="3644640"/>
            <a:ext cx="865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5" name="TextBox 11"/>
          <p:cNvSpPr/>
          <p:nvPr/>
        </p:nvSpPr>
        <p:spPr>
          <a:xfrm>
            <a:off x="3492360" y="3213000"/>
            <a:ext cx="158436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Cr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 baseline="12000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 baseline="12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000" spc="-1" strike="noStrike" baseline="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600</a:t>
            </a: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28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507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я Лебед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  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cxnSp>
        <p:nvCxnSpPr>
          <p:cNvPr id="180" name="Прямая со стрелкой 6"/>
          <p:cNvCxnSpPr/>
          <p:nvPr/>
        </p:nvCxnSpPr>
        <p:spPr>
          <a:xfrm>
            <a:off x="2555640" y="5229000"/>
            <a:ext cx="144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1" name="TextBox 7"/>
          <p:cNvSpPr/>
          <p:nvPr/>
        </p:nvSpPr>
        <p:spPr>
          <a:xfrm>
            <a:off x="2642040" y="4748040"/>
            <a:ext cx="1310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ZnO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3200" spc="-1" strike="noStrike" baseline="-12000">
                <a:solidFill>
                  <a:srgbClr val="000000"/>
                </a:solidFill>
                <a:latin typeface="Times New Roman"/>
                <a:ea typeface="Arial"/>
              </a:rPr>
              <a:t>º</a:t>
            </a:r>
            <a:r>
              <a:rPr b="0" lang="ru-RU" sz="3200" spc="-1" strike="noStrike" baseline="-12000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Рисунок 9" descr="Sergey_Lebedev.jpg"/>
          <p:cNvPicPr/>
          <p:nvPr/>
        </p:nvPicPr>
        <p:blipFill>
          <a:blip r:embed="rId6"/>
          <a:stretch/>
        </p:blipFill>
        <p:spPr>
          <a:xfrm>
            <a:off x="468360" y="260280"/>
            <a:ext cx="2684520" cy="3576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10"/>
          <p:cNvSpPr/>
          <p:nvPr/>
        </p:nvSpPr>
        <p:spPr>
          <a:xfrm>
            <a:off x="3348000" y="333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ргей Василь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-советский учёный-химик, основоположник промышленного способа получения синтетического каучука. В 1932 году разработал способ синтез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тетического каучу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основе бутадиена, получаемого из спир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60190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опряженных диенах присоединение преимущественно идет в положения 1 и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66"/>
                </a:solidFill>
                <a:latin typeface="Times New Roman"/>
              </a:rPr>
              <a:t>Химические свойств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еакции присоединения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идр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-CH=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+ 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→ CH</a:t>
            </a:r>
            <a:r>
              <a:rPr b="1" lang="en-US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=CH-CH</a:t>
            </a:r>
            <a:r>
              <a:rPr b="1" lang="ru-RU" sz="2800" spc="-1" strike="noStrike" baseline="-12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алоге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BTAR_RG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317080" y="6237360"/>
            <a:ext cx="434880" cy="365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BTAR_UP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6172200"/>
            <a:ext cx="365400" cy="434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BTAR_LF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51640" y="6237360"/>
            <a:ext cx="435240" cy="365040"/>
          </a:xfrm>
          <a:prstGeom prst="rect">
            <a:avLst/>
          </a:prstGeom>
          <a:ln w="0">
            <a:noFill/>
          </a:ln>
        </p:spPr>
      </p:pic>
      <p:sp>
        <p:nvSpPr>
          <p:cNvPr id="194" name="TextBox 6"/>
          <p:cNvSpPr/>
          <p:nvPr/>
        </p:nvSpPr>
        <p:spPr>
          <a:xfrm>
            <a:off x="4188240" y="2041560"/>
            <a:ext cx="433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12000">
                <a:solidFill>
                  <a:srgbClr val="000000"/>
                </a:solidFill>
                <a:latin typeface="Times New Roman"/>
              </a:rPr>
              <a:t>k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Рисунок 7" descr="1.gif"/>
          <p:cNvPicPr/>
          <p:nvPr/>
        </p:nvPicPr>
        <p:blipFill>
          <a:blip r:embed="rId6"/>
          <a:stretch/>
        </p:blipFill>
        <p:spPr>
          <a:xfrm>
            <a:off x="714240" y="3929040"/>
            <a:ext cx="7486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17:10:11Z</dcterms:created>
  <dc:creator>WASP</dc:creator>
  <dc:description/>
  <dc:language>en-US</dc:language>
  <cp:lastModifiedBy>Пользователь Windows</cp:lastModifiedBy>
  <dcterms:modified xsi:type="dcterms:W3CDTF">2024-01-30T15:21:46Z</dcterms:modified>
  <cp:revision>26</cp:revision>
  <dc:subject/>
  <dc:title>Алкадиены</dc:title>
</cp:coreProperties>
</file>