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9C8-EA72-4240-8E14-6128F975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357-8B29-4AE2-BDD2-FAED37FB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870-4F63-4ADC-8E41-4330512C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F79-B878-4746-B56A-056F8CDB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6279-E238-4D18-AC2A-D03D2A56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3C1F-9E9E-43AF-B2C7-A94D50E8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4B53-9933-455C-9F91-3265666F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57C7-0CD5-40C5-90EF-4E2F979A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F0CE-3E7F-4BC3-90E3-7F3F56B0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2C4A-E774-4704-9964-19D47B2E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AA67-7B9C-4E2C-A77A-2B0A099B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AF0-7ABE-4137-B30E-AD52B61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20E1-E988-4FFD-BFA7-1F936877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104B-2145-4037-976A-D8F2791D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5CB3-7969-4FAA-BF04-9203C332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85ED-64FC-4C1E-8CFF-3C85DB5A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BF72-02F0-42A8-AA6F-DA2CCE5B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229-B7EC-4F30-9480-225BAEB0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674-95CA-4313-AC6B-9AFA48EA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6A8-E6ED-4F2E-B976-3AE757AE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04F-0896-4918-AC19-F807C03F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3B9-7094-4349-BA82-841DF443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3A0-47CA-43D6-9CC5-BE16F31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948-2525-4759-A191-0CECB76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F8E2-ED8B-4C4D-B52F-EB4B5FA725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E023-8DE3-47C1-821F-435A2E7469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image" Target="../media/image2.png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" Target="slide11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лкадиены  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дрогалогенирован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3" descr="2.jpg"/>
          <p:cNvPicPr/>
          <p:nvPr/>
        </p:nvPicPr>
        <p:blipFill>
          <a:blip r:embed="rId1"/>
          <a:stretch/>
        </p:blipFill>
        <p:spPr>
          <a:xfrm>
            <a:off x="642960" y="2500200"/>
            <a:ext cx="7772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имеризация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важнейш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йство алкадиенов с точки зрения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H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=CH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)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g008"/>
          <p:cNvPicPr/>
          <p:nvPr/>
        </p:nvPicPr>
        <p:blipFill>
          <a:blip r:embed="rId1"/>
          <a:stretch/>
        </p:blipFill>
        <p:spPr>
          <a:xfrm>
            <a:off x="1835280" y="3860640"/>
            <a:ext cx="1655640" cy="898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img009"/>
          <p:cNvPicPr/>
          <p:nvPr/>
        </p:nvPicPr>
        <p:blipFill>
          <a:blip r:embed="rId2"/>
          <a:stretch/>
        </p:blipFill>
        <p:spPr>
          <a:xfrm>
            <a:off x="4932360" y="3860640"/>
            <a:ext cx="1871640" cy="1060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BTAR_RG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BTAR_UP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BTAR_LF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205" name="Прямая со стрелкой 8"/>
          <p:cNvCxnSpPr/>
          <p:nvPr/>
        </p:nvCxnSpPr>
        <p:spPr>
          <a:xfrm>
            <a:off x="3708000" y="436536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6" name="TextBox 9"/>
          <p:cNvSpPr/>
          <p:nvPr/>
        </p:nvSpPr>
        <p:spPr>
          <a:xfrm>
            <a:off x="4168440" y="2268360"/>
            <a:ext cx="651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Прямая со стрелкой 12"/>
          <p:cNvCxnSpPr/>
          <p:nvPr/>
        </p:nvCxnSpPr>
        <p:spPr>
          <a:xfrm>
            <a:off x="3995640" y="292392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TextBox 13"/>
          <p:cNvSpPr/>
          <p:nvPr/>
        </p:nvSpPr>
        <p:spPr>
          <a:xfrm>
            <a:off x="3891240" y="3789360"/>
            <a:ext cx="651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Times New Roman"/>
              </a:rPr>
              <a:t>Натуральный каучук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туральный каучук получают и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лечного сока (</a:t>
            </a:r>
            <a:r>
              <a:rPr b="1" i="1" lang="ru-RU" sz="2600" spc="-1" strike="noStrike">
                <a:solidFill>
                  <a:srgbClr val="330066"/>
                </a:solidFill>
                <a:latin typeface="Times New Roman"/>
              </a:rPr>
              <a:t>латекс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каучуконосного дерева гевеи, растущего в тропических лесах Бразил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нагревании без доступа воздуха каучук распадается с образованием диенового углеводорода –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- метилбутадиена-1,3 или изопрен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учук – это полимер, в котором молекулы изопрена соединены друг с другом по схеме 1,4- присоединения с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ци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онфигурацией полимерной цеп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img014"/>
          <p:cNvPicPr/>
          <p:nvPr/>
        </p:nvPicPr>
        <p:blipFill>
          <a:blip r:embed="rId1"/>
          <a:stretch/>
        </p:blipFill>
        <p:spPr>
          <a:xfrm>
            <a:off x="1979640" y="5300640"/>
            <a:ext cx="4824360" cy="1081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BTAR_RG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BTAR_U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BTAR_LF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ан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лимер изопрена также встречается в природе в виде </a:t>
            </a:r>
            <a:r>
              <a:rPr b="1" i="1" lang="ru-RU" sz="2800" spc="-1" strike="noStrike">
                <a:solidFill>
                  <a:srgbClr val="330066"/>
                </a:solidFill>
                <a:latin typeface="Times New Roman"/>
              </a:rPr>
              <a:t>гуттапер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туральный каучук обладает уникальным комплексом свойств: эластичностью, износоустойчивостью, клейкостью, водо- и газонепроницаемостью, хороший изолятор, растворимостью в органических растворител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: при высок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мягчается, при низк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хруп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015"/>
          <p:cNvPicPr/>
          <p:nvPr/>
        </p:nvPicPr>
        <p:blipFill>
          <a:blip r:embed="rId1"/>
          <a:stretch/>
        </p:blipFill>
        <p:spPr>
          <a:xfrm>
            <a:off x="1763640" y="1844640"/>
            <a:ext cx="4753080" cy="1368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BTAR_RG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BTAR_UP"/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BTAR_LFT"/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Получение резин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дания каучуку необход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ко-механических свойств: прочности, эластичности, стойкости к действию растворителей и агрессивных химических сред – каучук подвергают вулканизации нагреванием до 130-1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с серой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Вулканизация – процесс получения рез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из кауч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омы серы присоединяются по месту разрыва некоторых двойных связей и линейные молекулы каучука "сшиваются" в более крупные трехмерные молекулы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уча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з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ая по прочности значительно превосходит невулканизированный каучу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BTAR_UP"/>
          <p:cNvPicPr/>
          <p:nvPr/>
        </p:nvPicPr>
        <p:blipFill>
          <a:blip r:embed="rId2"/>
          <a:stretch/>
        </p:blipFill>
        <p:spPr>
          <a:xfrm>
            <a:off x="7956720" y="616572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BTAR_LFT"/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47280" y="1773360"/>
            <a:ext cx="6419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601906"/>
                </a:solidFill>
                <a:latin typeface="Times New Roman"/>
              </a:rPr>
              <a:t>Резина обладает большой эластичностью, прочностью, устойчива к действию растворителей. Ее получают путем вулканизации кауч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BTAR_UP"/>
          <p:cNvPicPr/>
          <p:nvPr/>
        </p:nvPicPr>
        <p:blipFill>
          <a:blip r:embed="rId1"/>
          <a:stretch/>
        </p:blipFill>
        <p:spPr>
          <a:xfrm>
            <a:off x="7956720" y="6165720"/>
            <a:ext cx="3650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роко применяются сополимерные     каучуки – продукты совместной полимеризации (сополимеризации) бутадиена с другими непредельными соединениями.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Каучук полученный из бутадиена-1,3 (80%    по массе) и  стирол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H–C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0% по массе)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широко используют при производстве автомобильных шин и резиновы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BTAR_UP"/>
          <p:cNvPicPr/>
          <p:nvPr/>
        </p:nvPicPr>
        <p:blipFill>
          <a:blip r:embed="rId2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BTAR_LFT"/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Диеновые углеводород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Диеновые углеводороды</a:t>
            </a:r>
            <a:r>
              <a:rPr b="0" lang="ru-RU" sz="2800" spc="-1" strike="noStrike">
                <a:solidFill>
                  <a:srgbClr val="26004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алкадиены – это непредельные углеводороды, содержащие две двойные углерод - углеродны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Times New Roman"/>
              </a:rPr>
              <a:t>C</a:t>
            </a:r>
            <a:r>
              <a:rPr b="1" lang="en-US" sz="2800" spc="-1" strike="noStrike" baseline="-12000">
                <a:solidFill>
                  <a:srgbClr val="26004d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26004d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26004d"/>
                </a:solidFill>
                <a:latin typeface="Times New Roman"/>
              </a:rPr>
              <a:t>2</a:t>
            </a:r>
            <a:r>
              <a:rPr b="1" lang="en-US" sz="2800" spc="-1" strike="noStrike" baseline="-12000">
                <a:solidFill>
                  <a:srgbClr val="26004d"/>
                </a:solidFill>
                <a:latin typeface="Times New Roman"/>
              </a:rPr>
              <a:t>n</a:t>
            </a:r>
            <a:r>
              <a:rPr b="1" lang="ru-RU" sz="2800" spc="-1" strike="noStrike" baseline="-12000">
                <a:solidFill>
                  <a:srgbClr val="26004d"/>
                </a:solidFill>
                <a:latin typeface="Times New Roman"/>
              </a:rPr>
              <a:t> 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международной номенклатуре алкадиены называют  так же , как и алкены, но только вместо окончания 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–ен</a:t>
            </a:r>
            <a:r>
              <a:rPr b="0" lang="ru-RU" sz="2800" spc="-1" strike="noStrike">
                <a:solidFill>
                  <a:srgbClr val="26004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употребляет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–ди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Изомер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алкадиенов характерны те же виды изомерии, что и для алкен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Углеродного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Положения двойны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Цис- транс – изом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) Межклассовая (с алкин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Классификация по положению двойных связей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 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Кумулирова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примыкающими к одному атому угле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диен (аллен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Изолирова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разделенными несколькими простыми связ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нтадиен -1,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218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 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Сопряжен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разделенными одной простой связ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тадиен -1,3 (дивини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С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-метилбутадиен -1,3 (изопрен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ьший интерес представляют углеводороды с сопряженными двойными связ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BTAR_LFT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Получение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 Дегидрирование алк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CH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7"/>
          <p:cNvCxnSpPr/>
          <p:nvPr/>
        </p:nvCxnSpPr>
        <p:spPr>
          <a:xfrm>
            <a:off x="3348000" y="256500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extBox 8"/>
          <p:cNvSpPr/>
          <p:nvPr/>
        </p:nvSpPr>
        <p:spPr>
          <a:xfrm>
            <a:off x="3132000" y="2133720"/>
            <a:ext cx="1584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 baseline="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Прямая со стрелкой 9"/>
          <p:cNvCxnSpPr/>
          <p:nvPr/>
        </p:nvCxnSpPr>
        <p:spPr>
          <a:xfrm>
            <a:off x="3850920" y="3644640"/>
            <a:ext cx="8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TextBox 11"/>
          <p:cNvSpPr/>
          <p:nvPr/>
        </p:nvSpPr>
        <p:spPr>
          <a:xfrm>
            <a:off x="3492360" y="3213000"/>
            <a:ext cx="1584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 baseline="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507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я Лебед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180" name="Прямая со стрелкой 6"/>
          <p:cNvCxnSpPr/>
          <p:nvPr/>
        </p:nvCxnSpPr>
        <p:spPr>
          <a:xfrm>
            <a:off x="2555640" y="52290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7"/>
          <p:cNvSpPr/>
          <p:nvPr/>
        </p:nvSpPr>
        <p:spPr>
          <a:xfrm>
            <a:off x="2642040" y="4748040"/>
            <a:ext cx="1310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ZnO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Рисунок 9" descr="Sergey_Lebedev.jpg"/>
          <p:cNvPicPr/>
          <p:nvPr/>
        </p:nvPicPr>
        <p:blipFill>
          <a:blip r:embed="rId6"/>
          <a:stretch/>
        </p:blipFill>
        <p:spPr>
          <a:xfrm>
            <a:off x="468360" y="260280"/>
            <a:ext cx="2684520" cy="357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3348000" y="333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гей Васильевич Лебеде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советский учёный-химик, основоположник промышленного способа получения синтетического каучука. В 1932 году разработал способ синтез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тетического каучу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основе бутадиена, получаемого из спир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Химические свойств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0190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опряженных диенах присоединение преимущественно идет в положения 1 и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Химические свойств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акции присоединения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д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=CH-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алоге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4188240" y="2041560"/>
            <a:ext cx="433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Рисунок 7" descr="1.gif"/>
          <p:cNvPicPr/>
          <p:nvPr/>
        </p:nvPicPr>
        <p:blipFill>
          <a:blip r:embed="rId6"/>
          <a:stretch/>
        </p:blipFill>
        <p:spPr>
          <a:xfrm>
            <a:off x="714240" y="3929040"/>
            <a:ext cx="74869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7:10:11Z</dcterms:created>
  <dc:creator>WASP</dc:creator>
  <dc:description/>
  <dc:language>en-US</dc:language>
  <cp:lastModifiedBy>Пользователь Windows</cp:lastModifiedBy>
  <dcterms:modified xsi:type="dcterms:W3CDTF">2024-01-30T15:21:46Z</dcterms:modified>
  <cp:revision>26</cp:revision>
  <dc:subject/>
  <dc:title>Алкадиены</dc:title>
</cp:coreProperties>
</file>