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2ED-C109-4447-8586-60F04536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410-1EC1-4944-A399-D2DACCAB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09BA-A3BD-4276-93F8-D84EEDD8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0B05-96E3-4B51-B425-B9B22CFA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6EA8-947C-4090-BED8-2A37DBAC1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2E7F-6451-4E85-B44C-AB7E2AFA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9AF2-BBB1-4E1C-A340-B434B794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3D3C-0740-4B92-88F5-5EC1B90D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7B58-A259-46A1-A6F3-6CE1D579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C32B-BB3A-4E61-B81C-54BFBB3B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0813-205C-482A-812B-50D7DA1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C652-6531-4F85-91BB-D46C3F44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D93D-8DB7-4EA8-BC67-681D42DF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30C7-BD84-4F01-B2FE-4E66F2D8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AA46-33A6-4F6F-811C-8865B314E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8BA1-9DB2-403B-98DE-25D82CDC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3BAF-8AB1-4BC0-BB03-9AF2FFEF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FA92-6F32-464A-9BF7-050FCB43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36E59-8C6F-4297-BD4B-B365CAA8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ABBCA-D6F7-43EF-BB53-A5CEA4A6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D7736-92C6-48D2-976D-8705FD1C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9C32-F8BE-44B8-9FE9-D0EE06CB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4E8-EC06-481A-BF8B-050DFE298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9862D-BA3F-4E05-895E-D6342AA5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B3A38-4478-40A9-8075-51140F31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A9B6-5785-4428-B7C4-DCE3A366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2A10-9089-4A84-834C-EC0E5D36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D336-13D7-4C5E-A2DC-87A88E67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8775F-BFA2-4820-A3C7-4FA21FF0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7CAB-6197-4C05-B45E-73AA5D95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C9CC7-F479-4B9C-A260-BC737DEE4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180BE-2C99-4E68-A332-4C593DE2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EC17-4C1D-42AD-AB93-D9D5F1F0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8439-739E-4E64-81BA-3940F575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A8D74-A661-40B9-AB67-824F179C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44369-22BE-49AD-9090-56325828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06ED0-D46F-4740-95B2-0C5B821E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CCA3-BB14-4AF0-8EF5-28720B55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454BD-EAE9-4DD2-B361-648680F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A5C58-28DD-4C02-B1F0-AAB9EF95D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7EBEA-CD96-456F-B104-F67AE20D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9948A-EE12-4894-9640-8D0ACFE7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7D479-FE29-422A-BB9F-7BC14805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1BF2-033D-4A8F-BDAA-51B758B1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7FE-CCAA-4A2D-A240-A0A1D3CA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989-BBCA-4B60-82BA-5C1A5269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D7E-E9E3-47CA-9901-2179CCBD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CD5-01E9-48A5-B702-3A830C75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A160-1954-42A4-9DE6-2DF8B808B83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4BB6-45CA-47F1-8CAA-B0CB4722398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D534-CDFB-4DF9-AF1B-CEEF32234FA4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7D8C-4777-4913-9310-D9596C2D01C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368784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3"/>
          <p:cNvSpPr/>
          <p:nvPr/>
        </p:nvSpPr>
        <p:spPr>
          <a:xfrm>
            <a:off x="611280" y="189000"/>
            <a:ext cx="820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УНИЦИПАЛЬНОЕ БЮДЖЕТНОЕ ОБЩЕОБРАЗОВАТЕЛЬНОЕ УЧРЕЖДЕНИ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«СРЕДНЯЯ ОБЩЕОБРАЗОВАТЕЛЬНАЯ ШКОЛА №3»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4"/>
          <p:cNvSpPr/>
          <p:nvPr/>
        </p:nvSpPr>
        <p:spPr>
          <a:xfrm>
            <a:off x="4140360" y="5516640"/>
            <a:ext cx="47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омаренко Татьяна Анатольевн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истории и общество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5"/>
          <p:cNvSpPr/>
          <p:nvPr/>
        </p:nvSpPr>
        <p:spPr>
          <a:xfrm>
            <a:off x="3203640" y="59500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rcRect l="25001" t="36175" r="21212" b="37124"/>
          <a:stretch/>
        </p:blipFill>
        <p:spPr>
          <a:xfrm>
            <a:off x="709560" y="189000"/>
            <a:ext cx="7670880" cy="2663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"/>
          <p:cNvSpPr/>
          <p:nvPr/>
        </p:nvSpPr>
        <p:spPr>
          <a:xfrm>
            <a:off x="3635280" y="2969280"/>
            <a:ext cx="26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Georgia"/>
                <a:ea typeface="SimSun"/>
              </a:rPr>
              <a:t>Расходы государственного бюджета равны доход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Georgia"/>
                <a:ea typeface="SimSun"/>
              </a:rPr>
              <a:t>Самое оптимальное состояние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4"/>
          <p:cNvSpPr/>
          <p:nvPr/>
        </p:nvSpPr>
        <p:spPr>
          <a:xfrm>
            <a:off x="6156360" y="2690640"/>
            <a:ext cx="2663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SimSun"/>
              </a:rPr>
              <a:t>от лат. </a:t>
            </a:r>
            <a:r>
              <a:rPr b="1" lang="en-US" sz="1800" spc="-1" strike="noStrike">
                <a:solidFill>
                  <a:srgbClr val="333333"/>
                </a:solidFill>
                <a:latin typeface="Times New Roman"/>
                <a:ea typeface="SimSun"/>
              </a:rPr>
              <a:t>deficit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  <a:ea typeface="SimSun"/>
              </a:rPr>
              <a:t> — недостаёт      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SimSun"/>
              </a:rPr>
              <a:t>Финансовая ситуация, возникающая, когда государство намечает осуществить расходы на сумму большую, чем может реально получить доходов за счет всех видов налогов и платеж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5"/>
          <p:cNvSpPr/>
          <p:nvPr/>
        </p:nvSpPr>
        <p:spPr>
          <a:xfrm>
            <a:off x="611280" y="269064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фр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— прибы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Финансовая ситуация, когда государство намечает осуществить расходы на сумму меньшую, чем можно реально получить доходов за счет всех видов налогов и платеж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755640" y="18900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Государственная политика по развитию конкуре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2" descr="https://fu.ngcdn.ru/uploads/tinymce_image/image/58109/1ecdc49931927f17.png"/>
          <p:cNvPicPr/>
          <p:nvPr/>
        </p:nvPicPr>
        <p:blipFill>
          <a:blip r:embed="rId1"/>
          <a:stretch/>
        </p:blipFill>
        <p:spPr>
          <a:xfrm>
            <a:off x="1547640" y="2205000"/>
            <a:ext cx="5977080" cy="44420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539640" y="1225800"/>
            <a:ext cx="80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Georgia"/>
                <a:ea typeface="SimSun"/>
              </a:rPr>
              <a:t>Конкуренция</a:t>
            </a:r>
            <a:r>
              <a:rPr b="0" lang="ru-RU" sz="1800" spc="-1" strike="noStrike">
                <a:solidFill>
                  <a:srgbClr val="333333"/>
                </a:solidFill>
                <a:latin typeface="Georgia"/>
                <a:ea typeface="SimSun"/>
              </a:rPr>
              <a:t> (от лат. </a:t>
            </a:r>
            <a:r>
              <a:rPr b="0" lang="en-US" sz="1800" spc="-1" strike="noStrike">
                <a:solidFill>
                  <a:srgbClr val="333333"/>
                </a:solidFill>
                <a:latin typeface="Georgia"/>
                <a:ea typeface="SimSun"/>
              </a:rPr>
              <a:t>Concurrere </a:t>
            </a:r>
            <a:r>
              <a:rPr b="0" lang="ru-RU" sz="1800" spc="-1" strike="noStrike">
                <a:solidFill>
                  <a:srgbClr val="333333"/>
                </a:solidFill>
                <a:latin typeface="Georgia"/>
                <a:ea typeface="SimSun"/>
              </a:rPr>
              <a:t>— сталкиваться, состязаться) — соперничество между участниками рыночного хозяйства за лучшие условия производства и купли-продажи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324000" y="404640"/>
          <a:ext cx="8208720" cy="6309000"/>
        </p:xfrm>
        <a:graphic>
          <a:graphicData uri="http://schemas.openxmlformats.org/drawingml/2006/table">
            <a:tbl>
              <a:tblPr/>
              <a:tblGrid>
                <a:gridCol w="4103640"/>
                <a:gridCol w="4105080"/>
              </a:tblGrid>
              <a:tr h="54900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озитивные черты конкур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гативные черты конкурен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603540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) Снижение затрат  потребител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) Возможность выбора ассортимента товаров/усл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) Ограничивает возможность монополизации, препятствуя возникновению монополий, которые могут поднимать цены, снижать качество и т. д., пользуясь единоличным положением на данном рынк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) Заставляет экономику гибко реагировать на изменение обстановк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5) Внедрение технических достижений в производство, улучшению качества продукции. Конкуренты стремятся привлечь покупателей/пользователей именно к себ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1) Постоянное разорение многих товаропроизводителей.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2) Возможно использование нечестных методов борьбы (продажи по демпинговым ценам, подкуп работников, шантаж, промышленный шпионаж и др.) Честные методы предусматривают расширение ассортимента, повышение качества, постпродажное обслуживание и 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3) Высокие затраты на рекламу, которые в конечном счёте ложатся на потребителей. Если есть конкуренты, нужно выделять товар/услугу из множества альтернати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4) Чрезмерная эксплуатация ресурсов. Возможные экологические наруш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1" descr=""/>
          <p:cNvPicPr/>
          <p:nvPr/>
        </p:nvPicPr>
        <p:blipFill>
          <a:blip r:embed="rId1"/>
          <a:srcRect l="24531" t="31381" r="7143" b="46857"/>
          <a:stretch/>
        </p:blipFill>
        <p:spPr>
          <a:xfrm>
            <a:off x="755640" y="549360"/>
            <a:ext cx="7616880" cy="2448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2" descr=""/>
          <p:cNvPicPr/>
          <p:nvPr/>
        </p:nvPicPr>
        <p:blipFill>
          <a:blip r:embed="rId2"/>
          <a:srcRect l="24192" t="31381" r="13677" b="49341"/>
          <a:stretch/>
        </p:blipFill>
        <p:spPr>
          <a:xfrm>
            <a:off x="900000" y="3357720"/>
            <a:ext cx="7272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Рисунок 1" descr=""/>
          <p:cNvPicPr/>
          <p:nvPr/>
        </p:nvPicPr>
        <p:blipFill>
          <a:blip r:embed="rId1"/>
          <a:srcRect l="23737" t="31569" r="16010" b="47747"/>
          <a:stretch/>
        </p:blipFill>
        <p:spPr>
          <a:xfrm>
            <a:off x="826920" y="549360"/>
            <a:ext cx="7608960" cy="2085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rcRect l="23917" t="31466" r="8755" b="43436"/>
          <a:stretch/>
        </p:blipFill>
        <p:spPr>
          <a:xfrm>
            <a:off x="755640" y="2924280"/>
            <a:ext cx="82090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68200" y="701640"/>
            <a:ext cx="850428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380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4617b"/>
                </a:solidFill>
                <a:latin typeface="Calibri"/>
              </a:rPr>
              <a:t>                         </a:t>
            </a:r>
            <a:r>
              <a:rPr b="0" i="1" lang="ru-RU" sz="3100" spc="-1" strike="noStrike">
                <a:solidFill>
                  <a:srgbClr val="000000"/>
                </a:solidFill>
                <a:latin typeface="Georgia"/>
              </a:rPr>
              <a:t>План урока</a:t>
            </a:r>
            <a:br>
              <a:rPr sz="31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. Налог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. Государственный бюдж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. Государственная политика по развитию конкуренции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8000" y="549360"/>
            <a:ext cx="821844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логи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это обязательные безвозмездные платежи, взимаемые государством с физических и юридических лиц в бюджет соответствующего уровня в размерах, порядке и на условиях, определенных действующим законодательство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Налоги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— это обязательные платежи, взимаемые государством с граждан (физических лиц) и предприятий (юридических лиц) на основе специального законодатель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Рисунок 4" descr=""/>
          <p:cNvPicPr/>
          <p:nvPr/>
        </p:nvPicPr>
        <p:blipFill>
          <a:blip r:embed="rId1"/>
          <a:srcRect l="27345" t="26712" r="7834" b="65582"/>
          <a:stretch/>
        </p:blipFill>
        <p:spPr>
          <a:xfrm>
            <a:off x="684360" y="4941720"/>
            <a:ext cx="82087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50920" y="839880"/>
            <a:ext cx="87850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  <a:ea typeface="SimSun"/>
              </a:rPr>
              <a:t>Структура нало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Субъект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 - лицо, облагаемое налог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Объект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- доход/имущество налогоплательщ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Налоговая база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- характеристика объекта налогооб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•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Ставка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  <a:ea typeface="SimSun"/>
              </a:rPr>
              <a:t> - величина начислений на единицу объема нал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2" descr="Как уменьшить налоги по УСН и ПСН на фиксированные страховые взносы за 2022  и 2023 год? - Плюс Гарантия Тамбов"/>
          <p:cNvPicPr/>
          <p:nvPr/>
        </p:nvPicPr>
        <p:blipFill>
          <a:blip r:embed="rId1"/>
          <a:stretch/>
        </p:blipFill>
        <p:spPr>
          <a:xfrm>
            <a:off x="5580000" y="4797360"/>
            <a:ext cx="2847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1" descr=""/>
          <p:cNvPicPr/>
          <p:nvPr/>
        </p:nvPicPr>
        <p:blipFill>
          <a:blip r:embed="rId1"/>
          <a:srcRect l="24490" t="19858" r="20176" b="31001"/>
          <a:stretch/>
        </p:blipFill>
        <p:spPr>
          <a:xfrm>
            <a:off x="684360" y="1197000"/>
            <a:ext cx="7991280" cy="4896000"/>
          </a:xfrm>
          <a:prstGeom prst="rect">
            <a:avLst/>
          </a:prstGeom>
          <a:ln w="0">
            <a:noFill/>
          </a:ln>
        </p:spPr>
      </p:pic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450720" y="219240"/>
            <a:ext cx="832176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95280" y="86580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Налогообложени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 – определенный законодательством страны механизм изъятия части доходов граждан и организаций в пользу государства для оплаты расходов органов власти и местного само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📌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Принципы налогооб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Всеобщ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Легитим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Эконом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Справедлив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eorgia"/>
                <a:ea typeface="SimSun"/>
              </a:rPr>
              <a:t>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Обяз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Рисунок 1" descr=""/>
          <p:cNvPicPr/>
          <p:nvPr/>
        </p:nvPicPr>
        <p:blipFill>
          <a:blip r:embed="rId1"/>
          <a:srcRect l="26761" t="44045" r="7113" b="25143"/>
          <a:stretch/>
        </p:blipFill>
        <p:spPr>
          <a:xfrm>
            <a:off x="468360" y="0"/>
            <a:ext cx="8064360" cy="45813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3"/>
          <p:cNvSpPr/>
          <p:nvPr/>
        </p:nvSpPr>
        <p:spPr>
          <a:xfrm>
            <a:off x="468360" y="4314600"/>
            <a:ext cx="83516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SimSun"/>
              </a:rPr>
              <a:t>АКЦ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SimSun"/>
              </a:rPr>
              <a:t>Акциз - косвенный налог, заключающийся в надбавке к цене товара. Часто товар относится к предметам роскоши или к тем товарам, потребление которых общество не считает полезным - табачные изделия, алкоголь, автомоби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  <a:ea typeface="SimSun"/>
              </a:rPr>
              <a:t>НАЛОГ НА ДОБАВЛЕННУЮ СТОИМ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SimSun"/>
              </a:rPr>
              <a:t>НДС - налог на прирост стоимости товара, которая создается на всех стадиях его производства по мере продвижения товара к конечному потребителю 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SimSun"/>
              </a:rPr>
              <a:t>(от сырья до предмета потребл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" descr=""/>
          <p:cNvPicPr/>
          <p:nvPr/>
        </p:nvPicPr>
        <p:blipFill>
          <a:blip r:embed="rId1"/>
          <a:srcRect l="25851" t="31381" r="7264" b="26590"/>
          <a:stretch/>
        </p:blipFill>
        <p:spPr>
          <a:xfrm>
            <a:off x="468360" y="476280"/>
            <a:ext cx="8064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33360"/>
            <a:ext cx="830592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2800" spc="-1" strike="noStrike">
                <a:solidFill>
                  <a:srgbClr val="04617b"/>
                </a:solidFill>
                <a:latin typeface="Georgia"/>
              </a:rPr>
              <a:t>Государственный бюджет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это финансовый план государства с указанием источников доходов и расходов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1" descr=""/>
          <p:cNvPicPr/>
          <p:nvPr/>
        </p:nvPicPr>
        <p:blipFill>
          <a:blip r:embed="rId1"/>
          <a:srcRect l="25455" t="34658" r="21667" b="33902"/>
          <a:stretch/>
        </p:blipFill>
        <p:spPr>
          <a:xfrm>
            <a:off x="662040" y="1700280"/>
            <a:ext cx="78739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27T17:16:34Z</dcterms:created>
  <dc:creator>Пользователь</dc:creator>
  <dc:description/>
  <dc:language>en-US</dc:language>
  <cp:lastModifiedBy>Пользователь</cp:lastModifiedBy>
  <dcterms:modified xsi:type="dcterms:W3CDTF">2024-01-29T16:27:38Z</dcterms:modified>
  <cp:revision>12</cp:revision>
  <dc:subject/>
  <dc:title>Налоги.  Государственный бюджет. Государственная политика по развитию конкуренции</dc:title>
</cp:coreProperties>
</file>