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E6C-6BED-4389-980D-DEA19A3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DB6-2027-4D36-9396-1449637F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3C6-A887-4B94-946B-BA4A0333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75A-6540-49AF-A232-D5AD574D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7993-DBEB-42E1-A81E-DA9D85FB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A61A-9A52-4C3D-8C16-0BF968D5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3453-ECD6-44D8-AB8F-7CE3979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3D80-96FC-412C-807C-3A126EB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193-6EB5-42E7-BC04-EBE936B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3010-5A38-4110-BD4B-7F7D855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16DA-BF0B-4FD9-8CDE-77B1159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507-63BF-43F6-AB98-1152617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A43-5897-47DD-93A4-2141E4E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60B-359E-4FA0-8B63-1CC63FC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94A0-624A-40AC-A760-F31FC57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DAF8-FF49-4699-B523-7B79135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4720-995B-4B5C-BF8C-113ADF69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9907-AFEA-4111-8951-FA12B3E0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1769-2539-4A6E-ABF9-FB2A317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72BC-FC0E-4BE3-B433-6CA3AD1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DB55-D1A0-455C-BAF5-F4A1A92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3D9C-6063-4755-A8C8-7368CA7D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4E0-C275-4136-BA29-CE9FD298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A687-A503-4AC4-B042-34B144F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C06F-E857-438D-996F-59F290F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D575-DB3D-48FD-A12C-ADD8C0F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B09E-D9D9-4F92-89F2-CD59DCA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7AA8-C3AE-4720-8E85-6A347F0C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EEEA-4859-42B6-8138-6459F72D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ECD2-D963-4372-A55D-2B2DE071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32AD-88BE-413D-87A6-F4C942A7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5FAA-67E6-40E3-BB91-13E9A526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1A18-4EC5-4183-B1E5-BD91609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CD2-FECD-4A59-BD80-B1FD93F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DCEB-368D-4EF0-A74C-0AED466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0538-1D3A-4AF9-AF69-6C5E31B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5E12-F858-48B6-8248-0A1C7CE2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82B6-E1F7-4E95-9DB9-BB0C031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5C4E-B64D-413C-929C-5BF9764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D276-9E6E-4848-979D-8A5C194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EB6C-1CB7-4605-8226-79193CC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0B80-4BC6-4E07-8755-B62C3D06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619E-E5F2-467D-93E1-1A2DC3E1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662-050D-4729-A11D-1B231E8A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95D-FA27-4A0B-A447-97390BD8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C44-D5A6-4A4C-ABB9-A01A711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B3C-7093-4B07-9579-AB52E54C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F5F-82A4-4C94-9B23-100448F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97D-DD7D-44E2-9798-C00AD3A96C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3F9-D341-4CB7-8B7E-995A8052C7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EB9-EEBA-40D5-8080-A9B5575B8D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63D7-5753-40EA-84EB-B3D8D8FA9AA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36878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3"/>
          <p:cNvSpPr/>
          <p:nvPr/>
        </p:nvSpPr>
        <p:spPr>
          <a:xfrm>
            <a:off x="611280" y="189000"/>
            <a:ext cx="82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«СРЕДНЯЯ ОБЩЕОБРАЗОВАТЕЛЬНАЯ ШКОЛА №3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4140360" y="5516640"/>
            <a:ext cx="47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омаренко Татьяна Анатоль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 и общество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203640" y="59500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25001" t="36175" r="21212" b="37124"/>
          <a:stretch/>
        </p:blipFill>
        <p:spPr>
          <a:xfrm>
            <a:off x="709560" y="189000"/>
            <a:ext cx="7670880" cy="2663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635280" y="296928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Georgia"/>
                <a:ea typeface="SimSun"/>
              </a:rPr>
              <a:t>Расходы государственного бюджета равны доход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Georgia"/>
                <a:ea typeface="SimSun"/>
              </a:rPr>
              <a:t>Самое оптимальное состоя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6156360" y="2690640"/>
            <a:ext cx="266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от лат.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deficit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 — недостаёт 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SimSun"/>
              </a:rPr>
              <a:t>Финансовая ситуация, возникающая, когда государство намечает осуществить расходы на сумму большую, чем может реально получить доходов за счет всех видов налогов и плат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611280" y="269064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фр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прибы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нансовая ситуация, когда государство намечает осуществить расходы на сумму меньшую, чем можно реально получить доходов за счет всех видов налогов и плат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755640" y="1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осударственная политика по развитию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https://fu.ngcdn.ru/uploads/tinymce_image/image/58109/1ecdc49931927f17.png"/>
          <p:cNvPicPr/>
          <p:nvPr/>
        </p:nvPicPr>
        <p:blipFill>
          <a:blip r:embed="rId1"/>
          <a:stretch/>
        </p:blipFill>
        <p:spPr>
          <a:xfrm>
            <a:off x="1547640" y="2205000"/>
            <a:ext cx="5977080" cy="44420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539640" y="12258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Конкуренция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 (от лат. </a:t>
            </a:r>
            <a:r>
              <a:rPr b="0" lang="en-US" sz="1800" spc="-1" strike="noStrike">
                <a:solidFill>
                  <a:srgbClr val="333333"/>
                </a:solidFill>
                <a:latin typeface="Georgia"/>
                <a:ea typeface="SimSun"/>
              </a:rPr>
              <a:t>Concurrere 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— сталкиваться, состязаться) — соперничество между участниками рыночного хозяйства за лучшие условия производства и купли-продажи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404640"/>
          <a:ext cx="8208720" cy="6309000"/>
        </p:xfrm>
        <a:graphic>
          <a:graphicData uri="http://schemas.openxmlformats.org/drawingml/2006/table">
            <a:tbl>
              <a:tblPr/>
              <a:tblGrid>
                <a:gridCol w="4103640"/>
                <a:gridCol w="4105080"/>
              </a:tblGrid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зитивные черты конку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гативные черты конку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035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) Снижение затрат  потреб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) Возможность выбора ассортимента товаров/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) Ограничивает возможность монополизации, препятствуя возникновению монополий, которые могут поднимать цены, снижать качество и т. д., пользуясь единоличным положением на данном рын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) Заставляет экономику гибко реагировать на изменение обстанов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) Внедрение технических достижений в производство, улучшению качества продукции. Конкуренты стремятся привлечь покупателей/пользователей именно к се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) Постоянное разорение многих товаропроизводителей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) Возможно использование нечестных методов борьбы (продажи по демпинговым ценам, подкуп работников, шантаж, промышленный шпионаж и др.) Честные методы предусматривают расширение ассортимента, повышение качества, постпродажное обслуживание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) Высокие затраты на рекламу, которые в конечном счёте ложатся на потребителей. Если есть конкуренты, нужно выделять товар/услугу из множества альтернати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) Чрезмерная эксплуатация ресурсов. Возможные экологические нару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rcRect l="24531" t="31381" r="7143" b="46857"/>
          <a:stretch/>
        </p:blipFill>
        <p:spPr>
          <a:xfrm>
            <a:off x="755640" y="549360"/>
            <a:ext cx="761688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"/>
          <p:cNvPicPr/>
          <p:nvPr/>
        </p:nvPicPr>
        <p:blipFill>
          <a:blip r:embed="rId2"/>
          <a:srcRect l="24192" t="31381" r="13677" b="49341"/>
          <a:stretch/>
        </p:blipFill>
        <p:spPr>
          <a:xfrm>
            <a:off x="900000" y="3357720"/>
            <a:ext cx="7272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rcRect l="23737" t="31569" r="16010" b="47747"/>
          <a:stretch/>
        </p:blipFill>
        <p:spPr>
          <a:xfrm>
            <a:off x="826920" y="549360"/>
            <a:ext cx="7608960" cy="208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rcRect l="23917" t="31466" r="8755" b="43436"/>
          <a:stretch/>
        </p:blipFill>
        <p:spPr>
          <a:xfrm>
            <a:off x="755640" y="2924280"/>
            <a:ext cx="82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5042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                         </a:t>
            </a: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План урока</a:t>
            </a:r>
            <a:br>
              <a:rPr sz="31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Налог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Государственный бюдж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Государственная политика по развитию конкуренции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000" y="549360"/>
            <a:ext cx="821844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лог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это обязательные безвозмездные платежи, взимаемые государством с физических и юридических лиц в бюджет соответствующего уровня в размерах, порядке и на условиях, определенных действующим законодательст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лог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это обязательные платежи, взимаемые государством с граждан (физических лиц) и предприятий (юридических лиц) на основе специального законодатель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rcRect l="27345" t="26712" r="7834" b="65582"/>
          <a:stretch/>
        </p:blipFill>
        <p:spPr>
          <a:xfrm>
            <a:off x="684360" y="4941720"/>
            <a:ext cx="82087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50920" y="839880"/>
            <a:ext cx="87850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  <a:ea typeface="SimSun"/>
              </a:rPr>
              <a:t>Структура н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Субъект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 - лицо, облагаемое нал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Объект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- доход/имущество налогоплате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Налоговая база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- характеристика объекта налогооб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Ставка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 - величина начислений на единицу объема на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Как уменьшить налоги по УСН и ПСН на фиксированные страховые взносы за 2022  и 2023 год? - Плюс Гарантия Тамбов"/>
          <p:cNvPicPr/>
          <p:nvPr/>
        </p:nvPicPr>
        <p:blipFill>
          <a:blip r:embed="rId1"/>
          <a:stretch/>
        </p:blipFill>
        <p:spPr>
          <a:xfrm>
            <a:off x="5580000" y="4797360"/>
            <a:ext cx="2847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"/>
          <p:cNvPicPr/>
          <p:nvPr/>
        </p:nvPicPr>
        <p:blipFill>
          <a:blip r:embed="rId1"/>
          <a:srcRect l="24490" t="19858" r="20176" b="31001"/>
          <a:stretch/>
        </p:blipFill>
        <p:spPr>
          <a:xfrm>
            <a:off x="684360" y="1197000"/>
            <a:ext cx="7991280" cy="4896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321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95280" y="8658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Налогообложен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 – определенный законодательством страны механизм изъятия части доходов граждан и организаций в пользу государства для оплаты расходов органов власти и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📌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Принципы налогооб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Всеоб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Легити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Эконом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"/>
          <p:cNvPicPr/>
          <p:nvPr/>
        </p:nvPicPr>
        <p:blipFill>
          <a:blip r:embed="rId1"/>
          <a:srcRect l="26761" t="44045" r="7113" b="25143"/>
          <a:stretch/>
        </p:blipFill>
        <p:spPr>
          <a:xfrm>
            <a:off x="468360" y="0"/>
            <a:ext cx="8064360" cy="4581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468360" y="4314600"/>
            <a:ext cx="8351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АКЦ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Акциз - косвенный налог, заключающийся в надбавке к цене товара. Часто товар относится к предметам роскоши или к тем товарам, потребление которых общество не считает полезным - табачные изделия, алкоголь, автомоб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НАЛОГ НА ДОБАВЛЕННУЮ 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НДС - налог на прирост стоимости товара, которая создается на всех стадиях его производства по мере продвижения товара к конечному потребителю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SimSun"/>
              </a:rPr>
              <a:t>(от сырья до предмета потреб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rcRect l="25851" t="31381" r="7264" b="26590"/>
          <a:stretch/>
        </p:blipFill>
        <p:spPr>
          <a:xfrm>
            <a:off x="468360" y="476280"/>
            <a:ext cx="806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33360"/>
            <a:ext cx="83059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04617b"/>
                </a:solidFill>
                <a:latin typeface="Georgia"/>
              </a:rPr>
              <a:t>Государственный бюджет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о финансовый план государства с указанием источников доходов и расходов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rcRect l="25455" t="34658" r="21667" b="33902"/>
          <a:stretch/>
        </p:blipFill>
        <p:spPr>
          <a:xfrm>
            <a:off x="662040" y="1700280"/>
            <a:ext cx="787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7T17:16:34Z</dcterms:created>
  <dc:creator>Пользователь</dc:creator>
  <dc:description/>
  <dc:language>en-US</dc:language>
  <cp:lastModifiedBy>Пользователь</cp:lastModifiedBy>
  <dcterms:modified xsi:type="dcterms:W3CDTF">2024-01-29T16:27:38Z</dcterms:modified>
  <cp:revision>12</cp:revision>
  <dc:subject/>
  <dc:title>Налоги.  Государственный бюджет. Государственная политика по развитию конкуренции</dc:title>
</cp:coreProperties>
</file>