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DC84-1F7E-47C1-80AE-E47F80F4D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3520" y="731520"/>
            <a:ext cx="85345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523520" y="2546640"/>
            <a:ext cx="85345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37F0-865A-4009-B9E8-6D56E0AD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23520" y="73152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897160" y="73152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523520" y="254664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897160" y="254664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DDB1-11C9-4877-8B50-E2572FAF8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3520" y="731520"/>
            <a:ext cx="274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409280" y="731520"/>
            <a:ext cx="274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294680" y="731520"/>
            <a:ext cx="274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523520" y="2546640"/>
            <a:ext cx="274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409280" y="2546640"/>
            <a:ext cx="274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294680" y="2546640"/>
            <a:ext cx="274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15DA-E437-45C5-B8A0-6FDB5FD52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3587-4698-46AC-BCD1-8C1567B7D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523520" y="731520"/>
            <a:ext cx="853452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A167-C9CF-44B1-A648-CEC7656F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3520" y="731520"/>
            <a:ext cx="853452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5036-5926-4FD0-9986-49F5DB0F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731520"/>
            <a:ext cx="41648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897160" y="731520"/>
            <a:ext cx="41648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D3A6-9A53-462F-B127-8FBE89EC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AAB5-E6B1-44CD-B14F-0D56D3F2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2390400" y="4371480"/>
            <a:ext cx="8683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4178-CB64-4F66-91D8-E32CDFF6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73152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897160" y="731520"/>
            <a:ext cx="41648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23520" y="254664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A799-CC18-4EF8-AA7B-EE097EF6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523520" y="731520"/>
            <a:ext cx="853452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94CF-50B9-4183-B5E0-4B695947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520" y="731520"/>
            <a:ext cx="41648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897160" y="73152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97160" y="254664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E3AD-962E-4C35-8AE4-F9BF546F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520" y="73152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897160" y="73152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523520" y="2546640"/>
            <a:ext cx="85345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047C8-606C-433B-97C1-80AB3B37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3520" y="731520"/>
            <a:ext cx="85345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523520" y="2546640"/>
            <a:ext cx="85345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F258A-09D7-41F0-B617-A5245A40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520" y="73152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897160" y="73152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523520" y="254664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897160" y="254664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6538-E296-4B86-B29E-4BDE5644E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3520" y="731520"/>
            <a:ext cx="274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409280" y="731520"/>
            <a:ext cx="274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294680" y="731520"/>
            <a:ext cx="274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523520" y="2546640"/>
            <a:ext cx="274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4409280" y="2546640"/>
            <a:ext cx="274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7294680" y="2546640"/>
            <a:ext cx="274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2289-90F9-4F81-9D1C-2C51DC1F6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EF3BE-DB89-40B4-844F-79DC61E57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523520" y="731520"/>
            <a:ext cx="853452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DD31F-2FB2-4D3F-A197-AA41E356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3520" y="731520"/>
            <a:ext cx="853452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9B3D3-CC3E-4111-98F0-FD33DDAC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520" y="731520"/>
            <a:ext cx="41648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897160" y="731520"/>
            <a:ext cx="41648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BC906-AF3B-44B3-ADE2-CD8839B3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6EE97-4881-445D-9591-2BB855E6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3520" y="731520"/>
            <a:ext cx="853452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6B77-78D4-4483-95F4-901AD6B1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90400" y="4371480"/>
            <a:ext cx="8683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288F5-C63A-4345-99D7-C80840F0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3520" y="73152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897160" y="731520"/>
            <a:ext cx="41648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523520" y="254664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FC446-CD8E-4048-9074-20164FF5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3520" y="731520"/>
            <a:ext cx="41648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897160" y="73152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897160" y="254664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0C203-A410-4A28-AA17-BB4D4C45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520" y="73152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897160" y="73152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523520" y="2546640"/>
            <a:ext cx="85345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85D46-4961-4D65-B730-B18EB4A2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3520" y="731520"/>
            <a:ext cx="85345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523520" y="2546640"/>
            <a:ext cx="85345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339D0-5236-4341-8C3F-A20C6686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520" y="73152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897160" y="73152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523520" y="254664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897160" y="254664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758A2-D303-4756-B367-0E07BAA22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23520" y="731520"/>
            <a:ext cx="274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409280" y="731520"/>
            <a:ext cx="274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294680" y="731520"/>
            <a:ext cx="274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523520" y="2546640"/>
            <a:ext cx="274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409280" y="2546640"/>
            <a:ext cx="274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294680" y="2546640"/>
            <a:ext cx="274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8118B-A8E1-4DB0-BBFA-E82ED6943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6A83F-2E8F-45AC-97BF-18F43BCD4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523520" y="731520"/>
            <a:ext cx="853452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FB96D-CA5C-45E1-9836-CA97F49B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23520" y="731520"/>
            <a:ext cx="853452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22F58-C97B-4C3D-AA87-C1EBB5FD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731520"/>
            <a:ext cx="41648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897160" y="731520"/>
            <a:ext cx="41648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9A77-24B3-434F-8A7D-F80CA90C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23520" y="731520"/>
            <a:ext cx="41648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897160" y="731520"/>
            <a:ext cx="41648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FC62C-F0AB-4A04-90DF-5621AEA9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73791-3B95-4631-A81D-E0028DD7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2390400" y="4371480"/>
            <a:ext cx="8683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FFF38-D84C-4E5F-8884-8AB9E171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3520" y="73152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897160" y="731520"/>
            <a:ext cx="41648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523520" y="254664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156C0-85E4-466E-9325-A3C7DD6E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23520" y="731520"/>
            <a:ext cx="41648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897160" y="73152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897160" y="254664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A939D-1555-46A8-8040-044D18F7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23520" y="73152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897160" y="73152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523520" y="2546640"/>
            <a:ext cx="85345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7D2C8-4ED9-46F2-9303-91C2C6D6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23520" y="731520"/>
            <a:ext cx="85345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523520" y="2546640"/>
            <a:ext cx="85345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E0E13-99A9-42C5-9BED-5DFE2F2E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23520" y="73152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897160" y="73152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523520" y="254664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5897160" y="254664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86B9A-4576-4ECF-A1E1-19292CC4D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23520" y="731520"/>
            <a:ext cx="274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09280" y="731520"/>
            <a:ext cx="274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294680" y="731520"/>
            <a:ext cx="274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523520" y="2546640"/>
            <a:ext cx="274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409280" y="2546640"/>
            <a:ext cx="274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294680" y="2546640"/>
            <a:ext cx="274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A5E79-D1BE-4F35-B915-75E15A2F8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DC62-F400-4A9E-80FB-BC11741D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390400" y="4371480"/>
            <a:ext cx="8683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32C7-F264-46CF-A494-6C7DE0D6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3520" y="73152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897160" y="731520"/>
            <a:ext cx="41648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3520" y="254664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8877-699C-4FBF-8C3D-AD18B258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3520" y="731520"/>
            <a:ext cx="41648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897160" y="73152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897160" y="254664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199E-C9EE-467E-9BA4-76850FF0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3520" y="73152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897160" y="73152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23520" y="2546640"/>
            <a:ext cx="85345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8A4A-E1DE-4C4C-91F1-2F3E1EF4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12192120" cy="1749600"/>
            <a:chOff x="0" y="5108400"/>
            <a:chExt cx="1219212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1219212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1219212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12192120" cy="5108400"/>
            <a:chOff x="0" y="0"/>
            <a:chExt cx="1219212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219212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1219212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1219212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12192120" cy="5102280"/>
            <a:chOff x="0" y="1603440"/>
            <a:chExt cx="1219212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1219212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785960" y="2347920"/>
              <a:ext cx="862020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523520" y="731520"/>
            <a:ext cx="853452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82292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609480" y="6172200"/>
            <a:ext cx="4470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5079600" y="6172200"/>
            <a:ext cx="2438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BB89-8E6E-48E8-8895-AB6E2AE55FE2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12192120" cy="2992320"/>
            <a:chOff x="0" y="3865680"/>
            <a:chExt cx="1219212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1219212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1219212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12192120" cy="3865680"/>
            <a:chOff x="0" y="0"/>
            <a:chExt cx="1219212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219212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1219212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1219212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12192120" cy="5102280"/>
            <a:chOff x="0" y="1603440"/>
            <a:chExt cx="1219212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1219212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785960" y="2347920"/>
              <a:ext cx="862020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523520" y="731520"/>
            <a:ext cx="853452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82292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609480" y="6172200"/>
            <a:ext cx="4470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5079600" y="6172200"/>
            <a:ext cx="2438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397E-0C6E-4A7B-9C20-C3E6345407A2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12192120" cy="1749600"/>
            <a:chOff x="0" y="5108400"/>
            <a:chExt cx="1219212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1219212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1219212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12192120" cy="5108400"/>
            <a:chOff x="0" y="0"/>
            <a:chExt cx="1219212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219212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1219212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1219212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12192120" cy="5102280"/>
            <a:chOff x="0" y="1603440"/>
            <a:chExt cx="1219212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1219212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785960" y="2347920"/>
              <a:ext cx="862020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12192120" cy="2992320"/>
            <a:chOff x="0" y="3865680"/>
            <a:chExt cx="1219212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1219212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1219212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12192120" cy="3865680"/>
            <a:chOff x="0" y="0"/>
            <a:chExt cx="1219212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1219212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1219212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1219212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12192120" cy="5102280"/>
            <a:chOff x="0" y="1603440"/>
            <a:chExt cx="1219212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1219212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785960" y="2347920"/>
              <a:ext cx="862020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523520" y="731520"/>
            <a:ext cx="853452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82292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609480" y="6172200"/>
            <a:ext cx="4470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5079600" y="6172200"/>
            <a:ext cx="2438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2E65-7DCC-4F52-93DF-32913F93D7CC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12192120" cy="2992320"/>
            <a:chOff x="0" y="3865680"/>
            <a:chExt cx="1219212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1219212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1219212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12192120" cy="3865680"/>
            <a:chOff x="0" y="0"/>
            <a:chExt cx="1219212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219212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1219212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1219212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12192120" cy="5102280"/>
            <a:chOff x="0" y="1603440"/>
            <a:chExt cx="1219212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1219212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785960" y="2347920"/>
              <a:ext cx="862020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523520" y="731520"/>
            <a:ext cx="853452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82292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609480" y="6172200"/>
            <a:ext cx="4470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5079600" y="6172200"/>
            <a:ext cx="2438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15CE-13D7-45E5-A822-450D687A2001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Title 1" descr=""/>
          <p:cNvPicPr/>
          <p:nvPr/>
        </p:nvPicPr>
        <p:blipFill>
          <a:blip r:embed="rId1"/>
          <a:stretch/>
        </p:blipFill>
        <p:spPr>
          <a:xfrm>
            <a:off x="987480" y="2432160"/>
            <a:ext cx="9588600" cy="2139840"/>
          </a:xfrm>
          <a:prstGeom prst="rect">
            <a:avLst/>
          </a:prstGeom>
          <a:ln w="0">
            <a:noFill/>
          </a:ln>
        </p:spPr>
      </p:pic>
      <p:sp>
        <p:nvSpPr>
          <p:cNvPr id="215" name="Title 1"/>
          <p:cNvSpPr/>
          <p:nvPr/>
        </p:nvSpPr>
        <p:spPr>
          <a:xfrm>
            <a:off x="601560" y="4944960"/>
            <a:ext cx="11377800" cy="18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Enio_Morikone_-_The_Wind_The_Shout_(xMusic.me).mp3" descr=""/>
          <p:cNvPicPr/>
          <p:nvPr/>
        </p:nvPicPr>
        <p:blipFill>
          <a:blip r:embed="rId2"/>
          <a:stretch/>
        </p:blipFill>
        <p:spPr>
          <a:xfrm>
            <a:off x="100080" y="1332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17" name="Title 1" descr=""/>
          <p:cNvPicPr/>
          <p:nvPr/>
        </p:nvPicPr>
        <p:blipFill>
          <a:blip r:embed="rId3"/>
          <a:stretch/>
        </p:blipFill>
        <p:spPr>
          <a:xfrm>
            <a:off x="457200" y="212760"/>
            <a:ext cx="1097280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itle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rebuchet MS"/>
              </a:rPr>
              <a:t>1) </a:t>
            </a:r>
            <a:r>
              <a:rPr b="0" lang="ru-RU" sz="2400" spc="-1" strike="noStrike">
                <a:solidFill>
                  <a:srgbClr val="262626"/>
                </a:solidFill>
                <a:latin typeface="Trebuchet MS"/>
              </a:rPr>
              <a:t>Устройство пор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buClr>
                <a:srgbClr val="262626"/>
              </a:buClr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buClr>
                <a:srgbClr val="262626"/>
              </a:buClr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150840" y="709560"/>
            <a:ext cx="11941200" cy="6064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tle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rebuchet MS"/>
              </a:rPr>
              <a:t>2</a:t>
            </a:r>
            <a:r>
              <a:rPr b="0" lang="en-US" sz="2400" spc="-1" strike="noStrike">
                <a:solidFill>
                  <a:srgbClr val="262626"/>
                </a:solidFill>
                <a:latin typeface="Trebuchet MS"/>
              </a:rPr>
              <a:t>) Take a look at the words. Which one do you know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buClr>
                <a:srgbClr val="262626"/>
              </a:buClr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buClr>
                <a:srgbClr val="26262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345960" y="619200"/>
            <a:ext cx="11846160" cy="6195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0" y="0"/>
            <a:ext cx="61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) Match the words with correct defini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49400" y="528480"/>
          <a:ext cx="11820240" cy="5994720"/>
        </p:xfrm>
        <a:graphic>
          <a:graphicData uri="http://schemas.openxmlformats.org/drawingml/2006/table">
            <a:tbl>
              <a:tblPr/>
              <a:tblGrid>
                <a:gridCol w="3209760"/>
                <a:gridCol w="86104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W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Defin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er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he crane on a ship to lift car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ra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 quay where oil tankers tie up and unlo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reho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 boat that can tow other vess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iquid car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 place to keep go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ipe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 machine used to pick up and move goods loaded on pall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err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 certain place by the quay where the ship can tie 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 tie up a vess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 quay structure built out from the shoreline towards the s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oose cargo, for example s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iquids like o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lk car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 tube for conveying w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 mo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 machine for lifting heavy th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8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orkli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art of a harbour where ships may moor through which water may be let in or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et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 wooden b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 large bundle of goods packed and fastened 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1"/>
          <p:cNvSpPr/>
          <p:nvPr/>
        </p:nvSpPr>
        <p:spPr>
          <a:xfrm>
            <a:off x="0" y="0"/>
            <a:ext cx="61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) Fill in the missing lett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357720" y="582480"/>
          <a:ext cx="4817880" cy="6048360"/>
        </p:xfrm>
        <a:graphic>
          <a:graphicData uri="http://schemas.openxmlformats.org/drawingml/2006/table">
            <a:tbl>
              <a:tblPr/>
              <a:tblGrid>
                <a:gridCol w="481788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W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__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__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_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_qu_d car_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e__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e__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__ ___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____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i____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___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___lif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__e_ou_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 m__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487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l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1"/>
          <p:cNvSpPr/>
          <p:nvPr/>
        </p:nvSpPr>
        <p:spPr>
          <a:xfrm>
            <a:off x="0" y="0"/>
            <a:ext cx="61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) Look at the pictures! What are they do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252360" y="441360"/>
            <a:ext cx="3264120" cy="2574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"/>
          <p:cNvPicPr/>
          <p:nvPr/>
        </p:nvPicPr>
        <p:blipFill>
          <a:blip r:embed="rId2"/>
          <a:stretch/>
        </p:blipFill>
        <p:spPr>
          <a:xfrm>
            <a:off x="4302000" y="441360"/>
            <a:ext cx="3305160" cy="2577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"/>
          <p:cNvPicPr/>
          <p:nvPr/>
        </p:nvPicPr>
        <p:blipFill>
          <a:blip r:embed="rId3"/>
          <a:stretch/>
        </p:blipFill>
        <p:spPr>
          <a:xfrm>
            <a:off x="8323200" y="441360"/>
            <a:ext cx="3317760" cy="2592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"/>
          <p:cNvPicPr/>
          <p:nvPr/>
        </p:nvPicPr>
        <p:blipFill>
          <a:blip r:embed="rId4"/>
          <a:stretch/>
        </p:blipFill>
        <p:spPr>
          <a:xfrm>
            <a:off x="252360" y="3551400"/>
            <a:ext cx="3264120" cy="26031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5"/>
          <a:stretch/>
        </p:blipFill>
        <p:spPr>
          <a:xfrm>
            <a:off x="4302000" y="3551400"/>
            <a:ext cx="3305160" cy="26031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"/>
          <p:cNvPicPr/>
          <p:nvPr/>
        </p:nvPicPr>
        <p:blipFill>
          <a:blip r:embed="rId6"/>
          <a:stretch/>
        </p:blipFill>
        <p:spPr>
          <a:xfrm>
            <a:off x="8323200" y="3541680"/>
            <a:ext cx="3317760" cy="2612880"/>
          </a:xfrm>
          <a:prstGeom prst="rect">
            <a:avLst/>
          </a:prstGeom>
          <a:ln w="0">
            <a:noFill/>
          </a:ln>
        </p:spPr>
      </p:pic>
      <p:sp>
        <p:nvSpPr>
          <p:cNvPr id="233" name="TextBox 1"/>
          <p:cNvSpPr/>
          <p:nvPr/>
        </p:nvSpPr>
        <p:spPr>
          <a:xfrm>
            <a:off x="252360" y="298296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ptain James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is working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 the bridg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10"/>
          <p:cNvSpPr/>
          <p:nvPr/>
        </p:nvSpPr>
        <p:spPr>
          <a:xfrm>
            <a:off x="4302000" y="29862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crane drive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is operating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cran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11"/>
          <p:cNvSpPr/>
          <p:nvPr/>
        </p:nvSpPr>
        <p:spPr>
          <a:xfrm>
            <a:off x="8323200" y="29862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trucks and forklifts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re moving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cargo out of the warehous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12"/>
          <p:cNvSpPr/>
          <p:nvPr/>
        </p:nvSpPr>
        <p:spPr>
          <a:xfrm>
            <a:off x="252360" y="615456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cranes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re lifting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heavy cargo on boar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13"/>
          <p:cNvSpPr/>
          <p:nvPr/>
        </p:nvSpPr>
        <p:spPr>
          <a:xfrm>
            <a:off x="4302000" y="615456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First Mate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is speaking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 the radi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14"/>
          <p:cNvSpPr/>
          <p:nvPr/>
        </p:nvSpPr>
        <p:spPr>
          <a:xfrm>
            <a:off x="8321760" y="615456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econd Mate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is supervising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k on dec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121921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ank you for your attention!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езентация на тему Порт /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he Port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Содержание презентации на 5-7 минут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ние для аудитории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Подготовить вопросы к выступающему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4T15:01:36Z</dcterms:created>
  <dc:creator>Oleg</dc:creator>
  <dc:description/>
  <dc:language>en-US</dc:language>
  <cp:lastModifiedBy>Irina</cp:lastModifiedBy>
  <dcterms:modified xsi:type="dcterms:W3CDTF">2023-02-09T07:58:32Z</dcterms:modified>
  <cp:revision>110</cp:revision>
  <dc:subject/>
  <dc:title>Куратор – от латинского curator, cura – попечение)</dc:title>
</cp:coreProperties>
</file>