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716-BB4C-4889-8AED-BD8932B7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1ED-64AB-48F3-8E53-4FCC9FDC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A99A-900E-46EE-AB4A-5837B04B0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F737-47E4-487C-9F24-B44CFED2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1392-E977-4F8A-AE2A-5B3A7687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8838-1C11-4EF7-8ACE-CB9E8850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062C-0E2A-441D-AB94-A608FF18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ECD7-2B3D-4DA5-B5DB-A3221B57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2985-A4FC-4EE1-8760-320A6060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3FF8-26AC-4D01-919D-628AD75C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6552-6493-40B8-81F8-29BB985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903-596B-4289-A134-0FDF1A40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217D-51F7-4B5F-9A20-77953A18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E69F-76F5-4D11-A916-083EF94F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5F21-13BD-4C03-8AF3-EEE3BB39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B7B2-642E-4005-8E1B-7C47DAAA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E2F9-4C70-4015-96AC-3FF45955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8852A-0D11-4D15-B7A0-7A519DA69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81B2-CEED-40DB-9AB7-5BC5242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6BA3D-0D5B-42D8-B180-57B560A9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E04F-25FC-4B7A-9D9A-F2E9E1C2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BBD86-2E73-4484-9016-D97EBC5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582-894A-42B3-8089-9EE76DE8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7552-49B8-401B-B779-C8091D1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6817B-55F9-4B43-976F-BF347C9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B6B77-3101-4E81-86E5-C559080A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745E-2231-4181-A49D-DF526AF4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6732C-2951-4ED5-9C5F-47C0486CD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91BBF-D77D-402F-9A69-CC80757A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521FF-EE9D-475F-86BD-B19C9EF8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A6255-89A4-47F7-B1B7-111C63F0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7914D-D2FD-48FF-AE7C-C563C174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01671-28E1-463B-B632-A026CC1A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878-E422-4969-AE04-C1DD71E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C389E-803B-4D65-9726-83188308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4C11C-4BAA-4596-9788-3C799AC4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95E6A-A049-4D73-8D92-5A274E59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C644-5388-46BD-99C5-1562F146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4DE32-D8F5-4353-9F06-F9E3A060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3C37C-293E-4FE5-A8C0-47B82ECA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5A82-7D6F-4F66-BB46-B130A4D8C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5E7DC-3C3F-4C09-969D-907D17BA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092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294680" y="73152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52352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092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294680" y="2546640"/>
            <a:ext cx="27478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30D7B-E376-4478-8466-E7339EAC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CAD-5623-47FD-8CB4-703EC840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390400" y="4371480"/>
            <a:ext cx="8683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F200-9EC5-4BB8-B73C-A299DA3E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ACE2-07A1-4E5C-97A1-E5B02D69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897160" y="254664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B524-65B2-4DB4-80F0-F963F089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52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97160" y="731520"/>
            <a:ext cx="41648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520" y="2546640"/>
            <a:ext cx="85345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2DC-166F-41CF-8A18-DBE18369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12192120" cy="1749600"/>
            <a:chOff x="0" y="5108400"/>
            <a:chExt cx="1219212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1219212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1219212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12192120" cy="5108400"/>
            <a:chOff x="0" y="0"/>
            <a:chExt cx="1219212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12192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D4DC-5A6B-4D19-8267-0211A8269B9A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12192120" cy="2992320"/>
            <a:chOff x="0" y="3865680"/>
            <a:chExt cx="1219212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12192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12192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12192120" cy="3865680"/>
            <a:chOff x="0" y="0"/>
            <a:chExt cx="1219212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12192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999-F168-471B-AF21-546DC8EA45FB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12192120" cy="1749600"/>
            <a:chOff x="0" y="5108400"/>
            <a:chExt cx="1219212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1219212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1219212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12192120" cy="5108400"/>
            <a:chOff x="0" y="0"/>
            <a:chExt cx="1219212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1219212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12192120" cy="2992320"/>
            <a:chOff x="0" y="3865680"/>
            <a:chExt cx="1219212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12192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12192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12192120" cy="3865680"/>
            <a:chOff x="0" y="0"/>
            <a:chExt cx="1219212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12192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12192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624C-9620-426B-B1DA-2A8F3F683461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12192120" cy="2992320"/>
            <a:chOff x="0" y="3865680"/>
            <a:chExt cx="1219212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1219212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1219212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12192120" cy="3865680"/>
            <a:chOff x="0" y="0"/>
            <a:chExt cx="1219212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219212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1219212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1219212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12192120" cy="5102280"/>
            <a:chOff x="0" y="1603440"/>
            <a:chExt cx="1219212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1219212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85960" y="2347920"/>
              <a:ext cx="862020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90400" y="4371480"/>
            <a:ext cx="868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523520" y="731520"/>
            <a:ext cx="853452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2292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Calibri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609480" y="6172200"/>
            <a:ext cx="4470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5079600" y="6172200"/>
            <a:ext cx="2438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4F80-AD9C-4024-9569-142FA91F5F9C}" type="slidenum">
              <a:rPr b="1" lang="ru-RU" sz="12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le 1" descr=""/>
          <p:cNvPicPr/>
          <p:nvPr/>
        </p:nvPicPr>
        <p:blipFill>
          <a:blip r:embed="rId1"/>
          <a:stretch/>
        </p:blipFill>
        <p:spPr>
          <a:xfrm>
            <a:off x="987480" y="2432160"/>
            <a:ext cx="9588600" cy="2139840"/>
          </a:xfrm>
          <a:prstGeom prst="rect">
            <a:avLst/>
          </a:prstGeom>
          <a:ln w="0">
            <a:noFill/>
          </a:ln>
        </p:spPr>
      </p:pic>
      <p:sp>
        <p:nvSpPr>
          <p:cNvPr id="215" name="Title 1"/>
          <p:cNvSpPr/>
          <p:nvPr/>
        </p:nvSpPr>
        <p:spPr>
          <a:xfrm>
            <a:off x="601560" y="4944960"/>
            <a:ext cx="1137780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Enio_Morikone_-_The_Wind_The_Shout_(xMusic.me).mp3" descr=""/>
          <p:cNvPicPr/>
          <p:nvPr/>
        </p:nvPicPr>
        <p:blipFill>
          <a:blip r:embed="rId2"/>
          <a:stretch/>
        </p:blipFill>
        <p:spPr>
          <a:xfrm>
            <a:off x="100080" y="13320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17" name="Title 1" descr=""/>
          <p:cNvPicPr/>
          <p:nvPr/>
        </p:nvPicPr>
        <p:blipFill>
          <a:blip r:embed="rId3"/>
          <a:stretch/>
        </p:blipFill>
        <p:spPr>
          <a:xfrm>
            <a:off x="457200" y="212760"/>
            <a:ext cx="1097280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rebuchet MS"/>
              </a:rPr>
              <a:t>1) </a:t>
            </a:r>
            <a:r>
              <a:rPr b="0" lang="ru-RU" sz="2400" spc="-1" strike="noStrike">
                <a:solidFill>
                  <a:srgbClr val="262626"/>
                </a:solidFill>
                <a:latin typeface="Trebuchet MS"/>
              </a:rPr>
              <a:t>Устройство пор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"/>
          <p:cNvPicPr/>
          <p:nvPr/>
        </p:nvPicPr>
        <p:blipFill>
          <a:blip r:embed="rId1"/>
          <a:stretch/>
        </p:blipFill>
        <p:spPr>
          <a:xfrm>
            <a:off x="150840" y="709560"/>
            <a:ext cx="11941200" cy="6064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le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262626"/>
                </a:solidFill>
                <a:latin typeface="Trebuchet MS"/>
              </a:rPr>
              <a:t>) Take a look at the words. Which one do you kno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buClr>
                <a:srgbClr val="26262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345960" y="619200"/>
            <a:ext cx="11846160" cy="6195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Match the words with correct defini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49400" y="528480"/>
          <a:ext cx="11820240" cy="5994720"/>
        </p:xfrm>
        <a:graphic>
          <a:graphicData uri="http://schemas.openxmlformats.org/drawingml/2006/table">
            <a:tbl>
              <a:tblPr/>
              <a:tblGrid>
                <a:gridCol w="3209760"/>
                <a:gridCol w="8610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r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he crane on a ship to lift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quay where oil tankers tie up and un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arehou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boat that can tow other vess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quid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place to keep go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pe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machine used to pick up and move goods loaded on pall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err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certain place by the quay where the ship can tie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tie up a vess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quay structure built out from the shoreline towards the s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oose cargo, for example s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iquids like o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lk car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tube for conveying wa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m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machine for lifting heavy th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orkli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art of a harbour where ships may moor through which water may be let in or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et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wooden 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 large bundle of goods packed and fastened 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Fill in the missing lett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357720" y="582480"/>
          <a:ext cx="4817880" cy="6048360"/>
        </p:xfrm>
        <a:graphic>
          <a:graphicData uri="http://schemas.openxmlformats.org/drawingml/2006/table">
            <a:tbl>
              <a:tblPr/>
              <a:tblGrid>
                <a:gridCol w="48178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W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e67c8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__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__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_qu_d car_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Je__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o_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__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u__ ___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____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i____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6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___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___lif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W__e_ou_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  <a:tr h="37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o m__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8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al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3eb"/>
                    </a:solidFill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0" y="0"/>
            <a:ext cx="61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Look at the pictures! What are they do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252360" y="441360"/>
            <a:ext cx="3264120" cy="2574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4302000" y="441360"/>
            <a:ext cx="3305160" cy="2577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"/>
          <p:cNvPicPr/>
          <p:nvPr/>
        </p:nvPicPr>
        <p:blipFill>
          <a:blip r:embed="rId3"/>
          <a:stretch/>
        </p:blipFill>
        <p:spPr>
          <a:xfrm>
            <a:off x="8323200" y="441360"/>
            <a:ext cx="3317760" cy="2592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4"/>
          <a:stretch/>
        </p:blipFill>
        <p:spPr>
          <a:xfrm>
            <a:off x="252360" y="3551400"/>
            <a:ext cx="3264120" cy="2603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5"/>
          <a:stretch/>
        </p:blipFill>
        <p:spPr>
          <a:xfrm>
            <a:off x="4302000" y="3551400"/>
            <a:ext cx="3305160" cy="2603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6"/>
          <a:stretch/>
        </p:blipFill>
        <p:spPr>
          <a:xfrm>
            <a:off x="8323200" y="3541680"/>
            <a:ext cx="3317760" cy="2612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252360" y="29829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tain Jame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work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brid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4302000" y="2986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ane driv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opera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a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8323200" y="298620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trucks and forklift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re mov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argo out of the warehous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252360" y="6154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ranes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are lift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heavy cargo on 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4302000" y="61545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First Mat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speak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rad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8321760" y="615456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econd Mate 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is supervising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 on de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12192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 for your attention!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зентация на тему Порт /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he Port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Содержание презентации на 5-7 минут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для аудитории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Подготовить вопросы к выступающему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 spd="slow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4T15:01:36Z</dcterms:created>
  <dc:creator>Oleg</dc:creator>
  <dc:description/>
  <dc:language>en-US</dc:language>
  <cp:lastModifiedBy>Irina</cp:lastModifiedBy>
  <dcterms:modified xsi:type="dcterms:W3CDTF">2023-02-09T07:58:32Z</dcterms:modified>
  <cp:revision>110</cp:revision>
  <dc:subject/>
  <dc:title>Куратор – от латинского curator, cura – попечение)</dc:title>
</cp:coreProperties>
</file>