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D15-D6D7-4E84-B100-E1725488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381-E84F-4CC6-8C8F-102AC1E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B5970-46CB-4431-8952-3A0C6D64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C7A78-D58C-441C-BC10-87F42E6A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FBD10-5768-4333-BF8A-EFF02A0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EC362-50E5-42CD-B543-F93362B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5EF57-A5D7-4F31-8C25-C96ABD9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29176-67CA-4AE6-BAF9-42391AE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D69C3-ABD7-4699-A9F0-1AC4DDA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1EFA9-C45C-4389-A659-37379F7A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ABE6A-086F-4658-8B83-45F22AF1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302E5-3414-47F0-A84A-F15C5C37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70D-6963-40CE-B520-3B531AB0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1CD55-17A2-425B-9A60-B811DAE5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DFF66-A4E1-402E-B6B7-97C96AE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465A4-9A20-417A-A750-E26B99C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FEAE2-92C2-44AD-AB19-5B28EDB9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6FB73-2156-4CF2-987A-9A1639F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A1022-02A4-404F-BBCB-3D84FA5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C132B-6AC6-493B-A64F-6AAC7EF9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F9A53-ABC3-4948-8E71-61D23DD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DFF6F-ED96-41CD-8566-0B9E663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77621-639C-413C-9132-D6A89FC5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F75-10CE-4866-B91A-7CA6485A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77DC4-2BEA-43E1-8BA5-DD524F39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92B19-BFEB-4544-97B4-04EA53B0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3FE6-D79A-46AC-8435-1037507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0D03-0454-42C9-A35E-79620292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1FE7-2840-48F3-8AD9-2A55A77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5654C-19DF-46F7-BF39-BD4942DB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A186D-35E1-4EF0-A3C4-996DA1D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6E4D-8053-4D8F-9C17-ABFD579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CE808-D016-4C68-B6B1-8EA8522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A33FA-EFB3-4E17-8710-4DEA107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97D-21CF-462D-B115-A3AC68F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A6135-4355-4F00-A088-EBF00658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7171-2B08-43D3-BF4A-48B9A974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64402-8258-4AB0-9CC2-481F089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3B573-8E4F-4131-848B-9B9E69B6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C9BB8-9A5C-4ED7-BFF1-EAA703CA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194BE-478B-42B9-88FF-811597ED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E5298-485D-4C5A-A8CC-1CF12E94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67E4C-F352-4A12-85D3-187BB897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1A274-487C-449A-AA9C-8906760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F76E3-1B98-405A-AAD8-24FF5FB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38D2-572A-4D7D-8E22-ED3F835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5BC02-48AA-4412-B91E-F03CCDB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CDEF8-34D3-4A9F-9B55-0FF35FA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20038-9704-45B3-838B-7E3D21B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32AEC-DB56-457A-80BC-583F795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4C8AA-EE88-4742-BFCE-97253A87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A30-9C4C-4E81-BDA7-9DF92587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DEBF-28FC-4EB6-A68C-2704A87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BC3-9C0C-4964-9391-554BCDD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3A8-38F1-4DC6-9C08-2B18EA57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AB7F-67BF-4BD5-9BF2-F3B8F4C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111-0E9E-47BC-AA68-21CCDB0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6994-8B9A-4768-A15D-BC4E26BB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2315-B2EC-4681-985C-86CA2ED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707-38EB-4E8B-8769-593423D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468-3A09-4609-B113-0D4B5C2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330-E5D7-4C1A-929D-4097FF56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1DF2-7C4D-4FFC-8EDE-386AF6C5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711C-2E4F-4A59-9E5E-FFD09485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1B7D-3741-467A-9B88-3A8AA9FE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F5A6-883A-4C29-BCF3-70FEA09F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357B-5F99-4565-B51E-58EF636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9E2-8EFF-4FDD-A59A-48A1AD3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77B3-3E11-479D-93C4-B47A0A8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F2CA-10A0-4B43-BFAC-74FEDED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4810-D57F-42CB-AA58-87F41D4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6803-FC86-46BF-85E2-804A4A4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69F8-3441-4A1A-BB9E-28C5629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8A1B-0D07-4413-B8FD-DDB1C393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5170-5219-4180-A548-01EB5F04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231C-4829-4005-B389-4E8C1CF0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6C39-13E2-49E8-A03B-A8CDC2E6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C249-C713-4586-9E90-F963FD4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038-3A11-4FD3-9881-3DD9FDE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EA40-5E39-4D35-A7B9-E4A745C0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8094-3CB9-4B7A-A0EC-35117AA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1E81-1FA8-4E67-9E9E-22A7118E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497F-C928-4D14-9795-B64F11C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DB71-36E0-4269-B164-390506E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C3D5-EB7C-49B1-B7A1-D3CBF4F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CFEB-967E-4EBF-AC3C-626E9E84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958C-CB62-495A-9B5D-6F7E5C36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6392-6288-40AB-B1B0-7A75448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0300-EFC0-4C6F-86B3-FF9114B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E20-52BF-4BBA-8D8B-E7D6CFF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1389-8350-4822-A739-4E33BBA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947C-6697-420F-9ABD-7E35764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A16A-8542-4626-AECE-AE6357C2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4B12-1B79-41D2-9C96-A162285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7938-1E29-4B38-9C8B-D4AF228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E5FA-ADA5-4505-8CA2-A2E23AE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E599-0C8F-40B3-B7E9-A029204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E43AC-B308-4879-898F-1E694CE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BA5E-4A04-4563-99AC-BDA34307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33D0C-85C5-4E0C-AEB6-1BA2D6EF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D31-40F3-4E96-92B5-2FB66ACB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0A12-B465-4AA9-95D8-61CF6D23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9A7D-47A4-4C43-8A3D-E91A74AF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E8AB8-CC75-4319-81B0-688F007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D324-6759-489A-9E92-CADB7A6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6A37-47C6-41D5-A130-503DC4F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1853-34C7-4D67-AFD9-612BAAF3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06397-2EA8-4079-A043-3C9D355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46C1C-8152-4647-8424-B9D1541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540E-760C-48A5-9122-B7BAF9B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5B49-E48D-4232-ACC4-674C73A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69D-5A4A-4BFC-8C15-701E9EF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31294-004D-4BE7-8D98-04431E41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C4170-4994-4623-94A0-3FA03D87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0FCE-1B20-4AB2-9E42-2607310F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6EF47-513C-43C2-B724-7903336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C8AE-E38A-471F-9837-FAEBBB2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1BE9-744C-46F3-B87C-6331475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B19A-E0F9-42EC-B222-57225B3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D7EE-FB8F-4B49-BBCA-DBD4BD9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5903-96E5-49E9-853B-6C508D96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700D-8FC8-4189-A05F-E2D104F6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CD4-C459-45B0-879A-DC3C6F3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42ED6-96E1-4080-AF28-3A097AD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55AE3-1010-468A-9B7E-B4244E0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0BC7-9D3C-4F7F-83C5-FC748A3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124D-FBD5-4429-BFCD-0F965A30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39691-7991-468F-B06B-BA7CA457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3FF6-A54F-4385-AD34-A0B3E1BC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2A21A-25BB-4951-A7B7-F9E95762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0CB2-44C3-445B-BF6F-CE025EC3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ED4E-02BA-4A14-A7BB-A788227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8D9A-83B8-4652-99AD-F6F5056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A3F-F51B-4164-BC3B-9462F17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B9A4-974C-4477-A645-D439448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62C7E-3598-467F-A353-7FE1CB0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0DA0-8A13-4E88-919F-3CE0FF0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582D-D58B-460F-83AA-7D0F766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1B02-60AE-49F2-866F-F2DD7102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C856-FC02-46B5-A03F-B69DB2DD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73280-6C63-41BE-BE7C-1280F979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D748-FC6C-4682-8EDB-DFB7B46B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11295-78D6-4EAB-AE3D-CF8941C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FDC6A-80C6-4D87-B94F-619E1B8D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76E-E588-4F23-8AB1-DCFB522704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6879-0BD4-46CD-A7E1-0918C61B62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62B-F4BF-4CC5-A72B-BC0100F256D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7E30-FC0F-4ABA-BEE9-582C2A10FB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E9F-1B6A-485A-8A1C-A9C4E1FBB4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53D-5979-4222-8EB4-E726CFCC61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04F3-3D3A-41FA-924E-1774AE8D128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BAB-790C-46A5-B487-E81ADFA0FF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17A-B087-462C-80F8-63AFDAE83A3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F37-6C32-474B-B962-6E42D620A48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390-0B71-44F7-B969-504A51482A4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B38-714A-4C81-BBDB-9C09B3F27A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0.wm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4.jpeg"/><Relationship Id="rId5" Type="http://schemas.openxmlformats.org/officeDocument/2006/relationships/image" Target="../media/image20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8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2700360" y="47628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rankfurt am Mai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9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104292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Findet Unterschriften zu den Bilder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189240" cy="424800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430200" y="5013360"/>
            <a:ext cx="80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nennt man „das deutsche Chicago“ wegen sein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480000" cy="465948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468360" y="5157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Wir haben einen Bummel durch die Stadt gema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699" name="WordArt 7"/>
          <p:cNvSpPr txBox="1"/>
          <p:nvPr/>
        </p:nvSpPr>
        <p:spPr>
          <a:xfrm>
            <a:off x="468360" y="5013360"/>
            <a:ext cx="597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ir waren im Binnenhaf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0" name="WordArt 8"/>
          <p:cNvSpPr txBox="1"/>
          <p:nvPr/>
        </p:nvSpPr>
        <p:spPr>
          <a:xfrm>
            <a:off x="900000" y="5734080"/>
            <a:ext cx="784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as ist einer der größten Häfen der Welt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1" name="Picture 9" descr="J0145466"/>
          <p:cNvPicPr/>
          <p:nvPr/>
        </p:nvPicPr>
        <p:blipFill>
          <a:blip r:embed="rId2"/>
          <a:stretch/>
        </p:blipFill>
        <p:spPr>
          <a:xfrm>
            <a:off x="250920" y="0"/>
            <a:ext cx="5148000" cy="3398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4" descr="img451"/>
          <p:cNvPicPr/>
          <p:nvPr/>
        </p:nvPicPr>
        <p:blipFill>
          <a:blip r:embed="rId1"/>
          <a:stretch/>
        </p:blipFill>
        <p:spPr>
          <a:xfrm>
            <a:off x="1908000" y="0"/>
            <a:ext cx="5832720" cy="4946760"/>
          </a:xfrm>
          <a:prstGeom prst="rect">
            <a:avLst/>
          </a:prstGeom>
          <a:ln w="0">
            <a:noFill/>
          </a:ln>
        </p:spPr>
      </p:pic>
      <p:sp>
        <p:nvSpPr>
          <p:cNvPr id="703" name="WordArt 5"/>
          <p:cNvSpPr txBox="1"/>
          <p:nvPr/>
        </p:nvSpPr>
        <p:spPr>
          <a:xfrm>
            <a:off x="2268360" y="5229360"/>
            <a:ext cx="518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eute waren wir im Zoo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BD07371_"/>
          <p:cNvPicPr/>
          <p:nvPr/>
        </p:nvPicPr>
        <p:blipFill>
          <a:blip r:embed="rId1"/>
          <a:stretch/>
        </p:blipFill>
        <p:spPr>
          <a:xfrm>
            <a:off x="539640" y="1773360"/>
            <a:ext cx="2448000" cy="18079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BD07333_"/>
          <p:cNvPicPr/>
          <p:nvPr/>
        </p:nvPicPr>
        <p:blipFill>
          <a:blip r:embed="rId2"/>
          <a:stretch/>
        </p:blipFill>
        <p:spPr>
          <a:xfrm>
            <a:off x="6443640" y="1700280"/>
            <a:ext cx="2268720" cy="23050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BD07347_"/>
          <p:cNvPicPr/>
          <p:nvPr/>
        </p:nvPicPr>
        <p:blipFill>
          <a:blip r:embed="rId3"/>
          <a:stretch/>
        </p:blipFill>
        <p:spPr>
          <a:xfrm>
            <a:off x="3348000" y="76500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707" name="WordArt 7"/>
          <p:cNvSpPr txBox="1"/>
          <p:nvPr/>
        </p:nvSpPr>
        <p:spPr>
          <a:xfrm>
            <a:off x="971640" y="5084640"/>
            <a:ext cx="7345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ir haben viele exotische Tiere geseh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900000" y="40464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antwortet die Fra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24000" y="1197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Wo waren die Kinder im April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19640" cy="29876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9"/>
          <p:cNvSpPr/>
          <p:nvPr/>
        </p:nvSpPr>
        <p:spPr>
          <a:xfrm>
            <a:off x="826920" y="5229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waren 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C:\Users\Таня\Pictures\brd_new.png"/>
          <p:cNvPicPr/>
          <p:nvPr/>
        </p:nvPicPr>
        <p:blipFill>
          <a:blip r:embed="rId1"/>
          <a:stretch/>
        </p:blipFill>
        <p:spPr>
          <a:xfrm>
            <a:off x="250920" y="609480"/>
            <a:ext cx="5165640" cy="5499360"/>
          </a:xfrm>
          <a:prstGeom prst="rect">
            <a:avLst/>
          </a:prstGeom>
          <a:ln w="0">
            <a:noFill/>
          </a:ln>
        </p:spPr>
      </p:pic>
      <p:sp>
        <p:nvSpPr>
          <p:cNvPr id="713" name="5-конечная звезда 1"/>
          <p:cNvSpPr/>
          <p:nvPr/>
        </p:nvSpPr>
        <p:spPr>
          <a:xfrm>
            <a:off x="1954080" y="3902040"/>
            <a:ext cx="228600" cy="241200"/>
          </a:xfrm>
          <a:custGeom>
            <a:avLst/>
            <a:gdLst/>
            <a:ahLst/>
            <a:rect l="l" t="t" r="r" b="b"/>
            <a:pathLst>
              <a:path w="228600" h="241176">
                <a:moveTo>
                  <a:pt x="0" y="92121"/>
                </a:moveTo>
                <a:lnTo>
                  <a:pt x="87318" y="92121"/>
                </a:lnTo>
                <a:lnTo>
                  <a:pt x="114300" y="0"/>
                </a:lnTo>
                <a:lnTo>
                  <a:pt x="141282" y="92121"/>
                </a:lnTo>
                <a:lnTo>
                  <a:pt x="228600" y="92121"/>
                </a:lnTo>
                <a:lnTo>
                  <a:pt x="157958" y="149054"/>
                </a:lnTo>
                <a:lnTo>
                  <a:pt x="184941" y="241175"/>
                </a:lnTo>
                <a:lnTo>
                  <a:pt x="114300" y="184241"/>
                </a:lnTo>
                <a:lnTo>
                  <a:pt x="43659" y="241175"/>
                </a:lnTo>
                <a:lnTo>
                  <a:pt x="70642" y="149054"/>
                </a:lnTo>
                <a:lnTo>
                  <a:pt x="0" y="92121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033880" y="5429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Frankfurt liegt in der Mitte der Bundesrepublik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411280" y="1159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Arial"/>
              </a:rPr>
              <a:t>2. Wo liegt Frankfur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111600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Wo liegt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3492360" y="573408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liegt 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7" descr="0_1d227_bb07864_XL"/>
          <p:cNvPicPr/>
          <p:nvPr/>
        </p:nvPicPr>
        <p:blipFill>
          <a:blip r:embed="rId1"/>
          <a:stretch/>
        </p:blipFill>
        <p:spPr>
          <a:xfrm>
            <a:off x="1042920" y="98100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324000" y="33336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Warum nennt man Frankfurt „das deutsche Chicago“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430200" y="5013360"/>
            <a:ext cx="80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nennt man „das deutsche Chicago“ wegen sein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703600" cy="3600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1881d4e749"/>
          <p:cNvPicPr/>
          <p:nvPr/>
        </p:nvPicPr>
        <p:blipFill>
          <a:blip r:embed="rId2"/>
          <a:stretch/>
        </p:blipFill>
        <p:spPr>
          <a:xfrm>
            <a:off x="3564000" y="1413000"/>
            <a:ext cx="5435640" cy="36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as haben die Kinder am Montag gemach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468360" y="5157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haben einen Bummel durch die Stadt gema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7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5256000" cy="37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4"/>
          <p:cNvSpPr/>
          <p:nvPr/>
        </p:nvSpPr>
        <p:spPr>
          <a:xfrm>
            <a:off x="39528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lassenfah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324000" y="1125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en Bummel ma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468360" y="1844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53964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68360" y="3141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le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539640" y="378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539640" y="443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539640" y="508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2"/>
          <p:cNvSpPr/>
          <p:nvPr/>
        </p:nvSpPr>
        <p:spPr>
          <a:xfrm>
            <a:off x="468360" y="5805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3"/>
          <p:cNvSpPr/>
          <p:nvPr/>
        </p:nvSpPr>
        <p:spPr>
          <a:xfrm>
            <a:off x="4140360" y="333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лассная поездк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4"/>
          <p:cNvSpPr/>
          <p:nvPr/>
        </p:nvSpPr>
        <p:spPr>
          <a:xfrm>
            <a:off x="5076720" y="112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броди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4284720" y="184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ебоскрёб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2843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виде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556000" y="3141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ережи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2916360" y="3716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сещ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2771640" y="443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узна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2843280" y="5084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р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4427640" y="5734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ечной пор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5"/>
          <p:cNvSpPr/>
          <p:nvPr/>
        </p:nvSpPr>
        <p:spPr>
          <a:xfrm>
            <a:off x="32400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o waren die Kinder in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79280" y="1125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826920" y="3645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916360" y="35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9640" y="609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665964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076720" y="5877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12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3132000" cy="1924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img451"/>
          <p:cNvPicPr/>
          <p:nvPr/>
        </p:nvPicPr>
        <p:blipFill>
          <a:blip r:embed="rId2"/>
          <a:stretch/>
        </p:blipFill>
        <p:spPr>
          <a:xfrm>
            <a:off x="468360" y="184464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4" descr="J0145466"/>
          <p:cNvPicPr/>
          <p:nvPr/>
        </p:nvPicPr>
        <p:blipFill>
          <a:blip r:embed="rId3"/>
          <a:stretch/>
        </p:blipFill>
        <p:spPr>
          <a:xfrm>
            <a:off x="755640" y="4149720"/>
            <a:ext cx="2951280" cy="1947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BS01628_"/>
          <p:cNvPicPr/>
          <p:nvPr/>
        </p:nvPicPr>
        <p:blipFill>
          <a:blip r:embed="rId4"/>
          <a:stretch/>
        </p:blipFill>
        <p:spPr>
          <a:xfrm>
            <a:off x="6443640" y="3860640"/>
            <a:ext cx="2232000" cy="2051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9457"/>
          <p:cNvPicPr/>
          <p:nvPr/>
        </p:nvPicPr>
        <p:blipFill>
          <a:blip r:embed="rId5"/>
          <a:stretch/>
        </p:blipFill>
        <p:spPr>
          <a:xfrm>
            <a:off x="3780000" y="1125360"/>
            <a:ext cx="1968480" cy="244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2400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Was haben die Kinder besuch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95280" y="112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6516720" y="537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2771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img451"/>
          <p:cNvPicPr/>
          <p:nvPr/>
        </p:nvPicPr>
        <p:blipFill>
          <a:blip r:embed="rId1"/>
          <a:stretch/>
        </p:blipFill>
        <p:spPr>
          <a:xfrm>
            <a:off x="395280" y="1700280"/>
            <a:ext cx="1800360" cy="15271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0"/>
          <p:cNvSpPr/>
          <p:nvPr/>
        </p:nvSpPr>
        <p:spPr>
          <a:xfrm>
            <a:off x="442764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1" descr="J0145466"/>
          <p:cNvPicPr/>
          <p:nvPr/>
        </p:nvPicPr>
        <p:blipFill>
          <a:blip r:embed="rId2"/>
          <a:stretch/>
        </p:blipFill>
        <p:spPr>
          <a:xfrm>
            <a:off x="3995640" y="3933720"/>
            <a:ext cx="1944720" cy="128448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2"/>
          <p:cNvSpPr/>
          <p:nvPr/>
        </p:nvSpPr>
        <p:spPr>
          <a:xfrm>
            <a:off x="5076720" y="3357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3" descr="BS01628_"/>
          <p:cNvPicPr/>
          <p:nvPr/>
        </p:nvPicPr>
        <p:blipFill>
          <a:blip r:embed="rId3"/>
          <a:stretch/>
        </p:blipFill>
        <p:spPr>
          <a:xfrm>
            <a:off x="395280" y="4437000"/>
            <a:ext cx="1873080" cy="172080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14"/>
          <p:cNvSpPr/>
          <p:nvPr/>
        </p:nvSpPr>
        <p:spPr>
          <a:xfrm>
            <a:off x="2195640" y="5373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5" descr="9457"/>
          <p:cNvPicPr/>
          <p:nvPr/>
        </p:nvPicPr>
        <p:blipFill>
          <a:blip r:embed="rId4"/>
          <a:stretch/>
        </p:blipFill>
        <p:spPr>
          <a:xfrm>
            <a:off x="2195640" y="2492280"/>
            <a:ext cx="179388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4"/>
          <p:cNvSpPr/>
          <p:nvPr/>
        </p:nvSpPr>
        <p:spPr>
          <a:xfrm>
            <a:off x="61128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Was für ein Hafen ist in Hamburg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"/>
          <p:cNvSpPr txBox="1"/>
          <p:nvPr/>
        </p:nvSpPr>
        <p:spPr>
          <a:xfrm>
            <a:off x="684360" y="1413000"/>
            <a:ext cx="78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as ist einer der größten Häfen der Welt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1" name="Picture 7" descr="J0145466"/>
          <p:cNvPicPr/>
          <p:nvPr/>
        </p:nvPicPr>
        <p:blipFill>
          <a:blip r:embed="rId1"/>
          <a:stretch/>
        </p:blipFill>
        <p:spPr>
          <a:xfrm>
            <a:off x="1619280" y="1989000"/>
            <a:ext cx="6048360" cy="399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4"/>
          <p:cNvSpPr/>
          <p:nvPr/>
        </p:nvSpPr>
        <p:spPr>
          <a:xfrm>
            <a:off x="468360" y="40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8. Wann finden die Buchmessen in Frankfurt stat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5" descr="кн ярмарка"/>
          <p:cNvPicPr/>
          <p:nvPr/>
        </p:nvPicPr>
        <p:blipFill>
          <a:blip r:embed="rId1"/>
          <a:stretch/>
        </p:blipFill>
        <p:spPr>
          <a:xfrm>
            <a:off x="3635280" y="1197000"/>
            <a:ext cx="4032360" cy="368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4" name="Text Box 6"/>
          <p:cNvSpPr/>
          <p:nvPr/>
        </p:nvSpPr>
        <p:spPr>
          <a:xfrm>
            <a:off x="539640" y="508464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Buchmessen finden jedes Jahr im September und Oktober  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4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9. Welche Bücher zeigen die Verlage aus vielen Ländern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BOOKS1"/>
          <p:cNvPicPr/>
          <p:nvPr/>
        </p:nvPicPr>
        <p:blipFill>
          <a:blip r:embed="rId1"/>
          <a:stretch/>
        </p:blipFill>
        <p:spPr>
          <a:xfrm>
            <a:off x="5364000" y="1341360"/>
            <a:ext cx="2041560" cy="2087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84360" y="19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Roman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84360" y="2708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Kinder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611280" y="35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Jugend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611280" y="4437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technische Literatu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539640" y="3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ie ist richtig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24000" y="1125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Die Kinder waren im Apri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601200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Berl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5280" y="1773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Frankfurt 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4067280" y="177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Sü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500720" y="2349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Bundesrepubli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4000" y="3284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Frankfurt nennt man „das deutsche Chicago“ wegen sein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5148360" y="378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kleinen Häus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95280" y="4724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Der Binnenhafen in Frankfurt ist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5076720" y="53737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Häfen der Wel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5940360" y="112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4067280" y="177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r Mitt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5148360" y="3789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ochhäus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826920" y="537372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iner der größ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611280" y="5445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er der schöns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4"/>
          <p:cNvSpPr/>
          <p:nvPr/>
        </p:nvSpPr>
        <p:spPr>
          <a:xfrm>
            <a:off x="324000" y="4046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ir besuchten Buchläden und kauf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2340000" y="112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pielzeug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395280" y="206064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Die Buchmessen 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6372360" y="2637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1476360" y="2637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Januar oder Febru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395280" y="371628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Die Verlage zei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493236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hre Film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2484360" y="1125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539640" y="2637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September und Oktob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4788000" y="3645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hr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4"/>
          <p:cNvSpPr/>
          <p:nvPr/>
        </p:nvSpPr>
        <p:spPr>
          <a:xfrm>
            <a:off x="611640" y="11253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chön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7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260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gänzt die Sätz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2400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Frankfurt 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3924360" y="112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r Mitte der BR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324000" y="184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Man nennt es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3708360" y="1844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 deutsche Chicago“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826920" y="24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egen d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395280" y="328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Im Zoo haben wi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"/>
          <p:cNvSpPr/>
          <p:nvPr/>
        </p:nvSpPr>
        <p:spPr>
          <a:xfrm>
            <a:off x="4427640" y="3284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viele exotisch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900000" y="400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468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ir 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3132000" y="501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680400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4"/>
          <p:cNvSpPr/>
          <p:nvPr/>
        </p:nvSpPr>
        <p:spPr>
          <a:xfrm>
            <a:off x="324000" y="40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ir sind 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4427640" y="404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spazieren gegan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324000" y="1197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Wir besuchten Buchläden und kauf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684360" y="1916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schön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395280" y="2708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Die Buchmessen 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7524720" y="32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5724360" y="2708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jedes Jah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7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395280" y="476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Buchla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39640" y="1197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kau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539640" y="19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9640" y="26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392436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нижный магазин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556000" y="1197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куп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3203640" y="1844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остоятьс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2484360" y="256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казы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4"/>
          <p:cNvSpPr/>
          <p:nvPr/>
        </p:nvSpPr>
        <p:spPr>
          <a:xfrm>
            <a:off x="539640" y="40464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über Frankfurt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fahren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468360" y="1268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53964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7380360" y="35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2195640" y="2492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Mitte der Bundesrepubli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7" descr="ф1"/>
          <p:cNvPicPr/>
          <p:nvPr/>
        </p:nvPicPr>
        <p:blipFill>
          <a:blip r:embed="rId1"/>
          <a:stretch/>
        </p:blipFill>
        <p:spPr>
          <a:xfrm>
            <a:off x="2843280" y="3141720"/>
            <a:ext cx="2973240" cy="33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395280" y="134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ma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6877080" y="2852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nen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1763640" y="170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s oft „das deutsche Chicago“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9" descr="1881d4e749"/>
          <p:cNvPicPr/>
          <p:nvPr/>
        </p:nvPicPr>
        <p:blipFill>
          <a:blip r:embed="rId1"/>
          <a:stretch/>
        </p:blipFill>
        <p:spPr>
          <a:xfrm>
            <a:off x="395280" y="2349360"/>
            <a:ext cx="6192720" cy="410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539640" y="134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7380360" y="220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3995640" y="148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265800" cy="384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539640" y="1341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738036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492360" y="17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8" descr="J0145466"/>
          <p:cNvPicPr/>
          <p:nvPr/>
        </p:nvPicPr>
        <p:blipFill>
          <a:blip r:embed="rId1"/>
          <a:stretch/>
        </p:blipFill>
        <p:spPr>
          <a:xfrm>
            <a:off x="1619280" y="2565360"/>
            <a:ext cx="5148360" cy="3398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539640" y="1341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738036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"/>
          <p:cNvSpPr/>
          <p:nvPr/>
        </p:nvSpPr>
        <p:spPr>
          <a:xfrm>
            <a:off x="3492360" y="1628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2355840" cy="287964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1" descr="9457"/>
          <p:cNvPicPr/>
          <p:nvPr/>
        </p:nvPicPr>
        <p:blipFill>
          <a:blip r:embed="rId2"/>
          <a:stretch/>
        </p:blipFill>
        <p:spPr>
          <a:xfrm>
            <a:off x="900000" y="2133720"/>
            <a:ext cx="3470400" cy="431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5" descr="кн ярмарка"/>
          <p:cNvPicPr/>
          <p:nvPr/>
        </p:nvPicPr>
        <p:blipFill>
          <a:blip r:embed="rId1"/>
          <a:stretch/>
        </p:blipFill>
        <p:spPr>
          <a:xfrm>
            <a:off x="539640" y="2781360"/>
            <a:ext cx="424836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5" name="Text Box 5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50920" y="1125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372360" y="24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statt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2195640" y="177336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internationalen Buchmess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4" descr="1881d4e749"/>
          <p:cNvPicPr/>
          <p:nvPr/>
        </p:nvPicPr>
        <p:blipFill>
          <a:blip r:embed="rId1"/>
          <a:stretch/>
        </p:blipFill>
        <p:spPr>
          <a:xfrm>
            <a:off x="0" y="0"/>
            <a:ext cx="9145440" cy="60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4"/>
          <p:cNvSpPr/>
          <p:nvPr/>
        </p:nvSpPr>
        <p:spPr>
          <a:xfrm>
            <a:off x="395280" y="5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o waren die Kinder in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2556000" y="1413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s haben sie dort gesehen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7" descr=""/>
          <p:cNvPicPr/>
          <p:nvPr/>
        </p:nvPicPr>
        <p:blipFill>
          <a:blip r:embed="rId1"/>
          <a:stretch/>
        </p:blipFill>
        <p:spPr>
          <a:xfrm>
            <a:off x="0" y="2421000"/>
            <a:ext cx="5940360" cy="25290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4103640" cy="2519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img451"/>
          <p:cNvPicPr/>
          <p:nvPr/>
        </p:nvPicPr>
        <p:blipFill>
          <a:blip r:embed="rId1"/>
          <a:stretch/>
        </p:blipFill>
        <p:spPr>
          <a:xfrm>
            <a:off x="1547640" y="1052640"/>
            <a:ext cx="4753080" cy="403524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4"/>
          <p:cNvSpPr/>
          <p:nvPr/>
        </p:nvSpPr>
        <p:spPr>
          <a:xfrm>
            <a:off x="6012000" y="5373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6659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6" descr="BD07371_"/>
          <p:cNvPicPr/>
          <p:nvPr/>
        </p:nvPicPr>
        <p:blipFill>
          <a:blip r:embed="rId1"/>
          <a:stretch/>
        </p:blipFill>
        <p:spPr>
          <a:xfrm>
            <a:off x="539640" y="2276640"/>
            <a:ext cx="2448000" cy="18079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BD07347_"/>
          <p:cNvPicPr/>
          <p:nvPr/>
        </p:nvPicPr>
        <p:blipFill>
          <a:blip r:embed="rId2"/>
          <a:stretch/>
        </p:blipFill>
        <p:spPr>
          <a:xfrm>
            <a:off x="3132000" y="1413000"/>
            <a:ext cx="2664000" cy="17604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BD07333_"/>
          <p:cNvPicPr/>
          <p:nvPr/>
        </p:nvPicPr>
        <p:blipFill>
          <a:blip r:embed="rId3"/>
          <a:stretch/>
        </p:blipFill>
        <p:spPr>
          <a:xfrm>
            <a:off x="6443640" y="1700280"/>
            <a:ext cx="2268720" cy="230508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9"/>
          <p:cNvSpPr/>
          <p:nvPr/>
        </p:nvSpPr>
        <p:spPr>
          <a:xfrm>
            <a:off x="2916360" y="40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e exotisch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4"/>
          <p:cNvSpPr/>
          <p:nvPr/>
        </p:nvSpPr>
        <p:spPr>
          <a:xfrm>
            <a:off x="611280" y="765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ch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11280" y="162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684360" y="2492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611280" y="3500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611280" y="443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h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611280" y="537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5148360" y="620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5651640" y="1484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644364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6443640" y="429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La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6227640" y="5373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Stad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6012000" y="2492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6" descr="img399"/>
          <p:cNvPicPr/>
          <p:nvPr/>
        </p:nvPicPr>
        <p:blipFill>
          <a:blip r:embed="rId1"/>
          <a:stretch/>
        </p:blipFill>
        <p:spPr>
          <a:xfrm>
            <a:off x="4356000" y="4797360"/>
            <a:ext cx="1714680" cy="1728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img451"/>
          <p:cNvPicPr/>
          <p:nvPr/>
        </p:nvPicPr>
        <p:blipFill>
          <a:blip r:embed="rId2"/>
          <a:stretch/>
        </p:blipFill>
        <p:spPr>
          <a:xfrm>
            <a:off x="2556000" y="0"/>
            <a:ext cx="1942920" cy="1647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J0145466"/>
          <p:cNvPicPr/>
          <p:nvPr/>
        </p:nvPicPr>
        <p:blipFill>
          <a:blip r:embed="rId3"/>
          <a:stretch/>
        </p:blipFill>
        <p:spPr>
          <a:xfrm>
            <a:off x="3780000" y="2924280"/>
            <a:ext cx="2087280" cy="1376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img514"/>
          <p:cNvPicPr/>
          <p:nvPr/>
        </p:nvPicPr>
        <p:blipFill>
          <a:blip r:embed="rId4"/>
          <a:stretch/>
        </p:blipFill>
        <p:spPr>
          <a:xfrm>
            <a:off x="2916360" y="4221000"/>
            <a:ext cx="1536480" cy="2016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img264"/>
          <p:cNvPicPr/>
          <p:nvPr/>
        </p:nvPicPr>
        <p:blipFill>
          <a:blip r:embed="rId5"/>
          <a:stretch/>
        </p:blipFill>
        <p:spPr>
          <a:xfrm>
            <a:off x="3851280" y="1268280"/>
            <a:ext cx="1368360" cy="1184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1" descr="img401"/>
          <p:cNvPicPr/>
          <p:nvPr/>
        </p:nvPicPr>
        <p:blipFill>
          <a:blip r:embed="rId6"/>
          <a:stretch/>
        </p:blipFill>
        <p:spPr>
          <a:xfrm>
            <a:off x="4643280" y="1989000"/>
            <a:ext cx="1414800" cy="113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2771640" y="551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2355840" cy="2879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9457"/>
          <p:cNvPicPr/>
          <p:nvPr/>
        </p:nvPicPr>
        <p:blipFill>
          <a:blip r:embed="rId2"/>
          <a:stretch/>
        </p:blipFill>
        <p:spPr>
          <a:xfrm>
            <a:off x="1979640" y="907920"/>
            <a:ext cx="3589200" cy="446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6659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6" descr="ED00315_"/>
          <p:cNvPicPr/>
          <p:nvPr/>
        </p:nvPicPr>
        <p:blipFill>
          <a:blip r:embed="rId1"/>
          <a:stretch/>
        </p:blipFill>
        <p:spPr>
          <a:xfrm>
            <a:off x="611280" y="981000"/>
            <a:ext cx="1655640" cy="1944720"/>
          </a:xfrm>
          <a:prstGeom prst="rect">
            <a:avLst/>
          </a:prstGeom>
          <a:ln w="0">
            <a:noFill/>
          </a:ln>
        </p:spPr>
      </p:pic>
      <p:sp>
        <p:nvSpPr>
          <p:cNvPr id="860" name="WordArt 7"/>
          <p:cNvSpPr txBox="1"/>
          <p:nvPr/>
        </p:nvSpPr>
        <p:spPr>
          <a:xfrm>
            <a:off x="2916360" y="1557360"/>
            <a:ext cx="36525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ine Manuskripte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1" name="Picture 8" descr="country"/>
          <p:cNvPicPr/>
          <p:nvPr/>
        </p:nvPicPr>
        <p:blipFill>
          <a:blip r:embed="rId2"/>
          <a:stretch/>
        </p:blipFill>
        <p:spPr>
          <a:xfrm>
            <a:off x="2411280" y="2133720"/>
            <a:ext cx="2376720" cy="1782720"/>
          </a:xfrm>
          <a:prstGeom prst="rect">
            <a:avLst/>
          </a:prstGeom>
          <a:ln w="0">
            <a:noFill/>
          </a:ln>
        </p:spPr>
      </p:pic>
      <p:sp>
        <p:nvSpPr>
          <p:cNvPr id="862" name="WordArt 9"/>
          <p:cNvSpPr txBox="1"/>
          <p:nvPr/>
        </p:nvSpPr>
        <p:spPr>
          <a:xfrm>
            <a:off x="5364000" y="2924280"/>
            <a:ext cx="23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ine Bilder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3" name="WordArt 10"/>
          <p:cNvSpPr txBox="1"/>
          <p:nvPr/>
        </p:nvSpPr>
        <p:spPr>
          <a:xfrm>
            <a:off x="2484360" y="443700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ammlung der Minerali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264360" cy="384804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"/>
          <p:cNvSpPr/>
          <p:nvPr/>
        </p:nvSpPr>
        <p:spPr>
          <a:xfrm>
            <a:off x="6012000" y="51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6516720" y="5373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6" descr="J0145466"/>
          <p:cNvPicPr/>
          <p:nvPr/>
        </p:nvPicPr>
        <p:blipFill>
          <a:blip r:embed="rId1"/>
          <a:stretch/>
        </p:blipFill>
        <p:spPr>
          <a:xfrm>
            <a:off x="2195640" y="1125360"/>
            <a:ext cx="4824360" cy="318456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7"/>
          <p:cNvSpPr/>
          <p:nvPr/>
        </p:nvSpPr>
        <p:spPr>
          <a:xfrm>
            <a:off x="4284720" y="4365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5" descr="BS01628_"/>
          <p:cNvPicPr/>
          <p:nvPr/>
        </p:nvPicPr>
        <p:blipFill>
          <a:blip r:embed="rId1"/>
          <a:stretch/>
        </p:blipFill>
        <p:spPr>
          <a:xfrm>
            <a:off x="1979640" y="1052640"/>
            <a:ext cx="4392720" cy="403704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6"/>
          <p:cNvSpPr/>
          <p:nvPr/>
        </p:nvSpPr>
        <p:spPr>
          <a:xfrm>
            <a:off x="5003640" y="530064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630072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6" descr="BOOKS1"/>
          <p:cNvPicPr/>
          <p:nvPr/>
        </p:nvPicPr>
        <p:blipFill>
          <a:blip r:embed="rId1"/>
          <a:stretch/>
        </p:blipFill>
        <p:spPr>
          <a:xfrm>
            <a:off x="3708360" y="907920"/>
            <a:ext cx="2041560" cy="208764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2484360" y="328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chön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8" descr="ED00317_"/>
          <p:cNvPicPr/>
          <p:nvPr/>
        </p:nvPicPr>
        <p:blipFill>
          <a:blip r:embed="rId2"/>
          <a:stretch/>
        </p:blipFill>
        <p:spPr>
          <a:xfrm>
            <a:off x="6372360" y="1197000"/>
            <a:ext cx="2089080" cy="146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4" descr="0_1d227_bb0786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img451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7715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кн ярмарка"/>
          <p:cNvPicPr/>
          <p:nvPr/>
        </p:nvPicPr>
        <p:blipFill>
          <a:blip r:embed="rId2"/>
          <a:stretch/>
        </p:blipFill>
        <p:spPr>
          <a:xfrm>
            <a:off x="3492360" y="476280"/>
            <a:ext cx="1871640" cy="171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82" name="Picture 6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2880000" cy="1770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J0145466"/>
          <p:cNvPicPr/>
          <p:nvPr/>
        </p:nvPicPr>
        <p:blipFill>
          <a:blip r:embed="rId4"/>
          <a:stretch/>
        </p:blipFill>
        <p:spPr>
          <a:xfrm>
            <a:off x="3924360" y="2637000"/>
            <a:ext cx="2592360" cy="17110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9" descr="BS01628_"/>
          <p:cNvPicPr/>
          <p:nvPr/>
        </p:nvPicPr>
        <p:blipFill>
          <a:blip r:embed="rId5"/>
          <a:stretch/>
        </p:blipFill>
        <p:spPr>
          <a:xfrm>
            <a:off x="6948360" y="2637000"/>
            <a:ext cx="1800360" cy="16538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0" descr="img264"/>
          <p:cNvPicPr/>
          <p:nvPr/>
        </p:nvPicPr>
        <p:blipFill>
          <a:blip r:embed="rId6"/>
          <a:stretch/>
        </p:blipFill>
        <p:spPr>
          <a:xfrm>
            <a:off x="755640" y="4581360"/>
            <a:ext cx="2305080" cy="19940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1" descr="img401"/>
          <p:cNvPicPr/>
          <p:nvPr/>
        </p:nvPicPr>
        <p:blipFill>
          <a:blip r:embed="rId7"/>
          <a:stretch/>
        </p:blipFill>
        <p:spPr>
          <a:xfrm>
            <a:off x="3419640" y="4581360"/>
            <a:ext cx="2376360" cy="190044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2521080" cy="1811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9457"/>
          <p:cNvPicPr/>
          <p:nvPr/>
        </p:nvPicPr>
        <p:blipFill>
          <a:blip r:embed="rId9"/>
          <a:stretch/>
        </p:blipFill>
        <p:spPr>
          <a:xfrm>
            <a:off x="1403280" y="2276640"/>
            <a:ext cx="17938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4"/>
          <p:cNvSpPr/>
          <p:nvPr/>
        </p:nvSpPr>
        <p:spPr>
          <a:xfrm>
            <a:off x="395280" y="404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2627280" y="40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Buchmess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"/>
          <p:cNvSpPr/>
          <p:nvPr/>
        </p:nvSpPr>
        <p:spPr>
          <a:xfrm>
            <a:off x="680400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250920" y="1844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4211640" y="177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32400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4500720" y="2637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53964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/>
          <p:cNvSpPr/>
          <p:nvPr/>
        </p:nvSpPr>
        <p:spPr>
          <a:xfrm>
            <a:off x="4140360" y="35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uf den Strass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395280" y="465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Wolkenkratzer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4859280" y="43657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Caf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611280" y="5445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Waren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4211640" y="5373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Restaurant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4"/>
          <p:cNvSpPr/>
          <p:nvPr/>
        </p:nvSpPr>
        <p:spPr>
          <a:xfrm>
            <a:off x="4497480" y="3138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539640" y="33336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Wir haben …                          durch die Stadt gemacht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6"/>
          <p:cNvSpPr/>
          <p:nvPr/>
        </p:nvSpPr>
        <p:spPr>
          <a:xfrm>
            <a:off x="539640" y="1557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Man nennt Frankfurt oft …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7"/>
          <p:cNvSpPr/>
          <p:nvPr/>
        </p:nvSpPr>
        <p:spPr>
          <a:xfrm>
            <a:off x="539640" y="227664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Wir haben im Zoo …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gesehe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539640" y="335772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ir sind  …          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pazieren gegange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611280" y="47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Die großen Buchmessen finden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1547640" y="33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24000" y="1268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6516720" y="501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7201080" y="4149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250920" y="422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3635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851280" y="1268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Stad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img399"/>
          <p:cNvPicPr/>
          <p:nvPr/>
        </p:nvPicPr>
        <p:blipFill>
          <a:blip r:embed="rId1"/>
          <a:stretch/>
        </p:blipFill>
        <p:spPr>
          <a:xfrm>
            <a:off x="5796000" y="0"/>
            <a:ext cx="2043000" cy="2060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img451"/>
          <p:cNvPicPr/>
          <p:nvPr/>
        </p:nvPicPr>
        <p:blipFill>
          <a:blip r:embed="rId2"/>
          <a:stretch/>
        </p:blipFill>
        <p:spPr>
          <a:xfrm>
            <a:off x="6804000" y="2133720"/>
            <a:ext cx="2340000" cy="19857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J0145466"/>
          <p:cNvPicPr/>
          <p:nvPr/>
        </p:nvPicPr>
        <p:blipFill>
          <a:blip r:embed="rId3"/>
          <a:stretch/>
        </p:blipFill>
        <p:spPr>
          <a:xfrm>
            <a:off x="0" y="1844640"/>
            <a:ext cx="3492360" cy="2303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img264"/>
          <p:cNvPicPr/>
          <p:nvPr/>
        </p:nvPicPr>
        <p:blipFill>
          <a:blip r:embed="rId4"/>
          <a:stretch/>
        </p:blipFill>
        <p:spPr>
          <a:xfrm>
            <a:off x="4211640" y="3716280"/>
            <a:ext cx="2232000" cy="1932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img401"/>
          <p:cNvPicPr/>
          <p:nvPr/>
        </p:nvPicPr>
        <p:blipFill>
          <a:blip r:embed="rId5"/>
          <a:stretch/>
        </p:blipFill>
        <p:spPr>
          <a:xfrm>
            <a:off x="2700360" y="4508640"/>
            <a:ext cx="1944720" cy="15541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6"/>
          <p:cNvSpPr/>
          <p:nvPr/>
        </p:nvSpPr>
        <p:spPr>
          <a:xfrm>
            <a:off x="468360" y="5805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"/>
          <p:cNvSpPr/>
          <p:nvPr/>
        </p:nvSpPr>
        <p:spPr>
          <a:xfrm>
            <a:off x="3059280" y="2708280"/>
            <a:ext cx="2808000" cy="71928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5"/>
          <p:cNvSpPr/>
          <p:nvPr/>
        </p:nvSpPr>
        <p:spPr>
          <a:xfrm flipH="1" flipV="1">
            <a:off x="2916000" y="981000"/>
            <a:ext cx="7189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6"/>
          <p:cNvSpPr/>
          <p:nvPr/>
        </p:nvSpPr>
        <p:spPr>
          <a:xfrm flipV="1">
            <a:off x="5219640" y="1557000"/>
            <a:ext cx="792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7"/>
          <p:cNvSpPr/>
          <p:nvPr/>
        </p:nvSpPr>
        <p:spPr>
          <a:xfrm flipH="1" flipV="1">
            <a:off x="1619280" y="3068280"/>
            <a:ext cx="151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8"/>
          <p:cNvSpPr/>
          <p:nvPr/>
        </p:nvSpPr>
        <p:spPr>
          <a:xfrm>
            <a:off x="5867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9"/>
          <p:cNvSpPr/>
          <p:nvPr/>
        </p:nvSpPr>
        <p:spPr>
          <a:xfrm flipH="1">
            <a:off x="3276720" y="3429000"/>
            <a:ext cx="574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0"/>
          <p:cNvSpPr/>
          <p:nvPr/>
        </p:nvSpPr>
        <p:spPr>
          <a:xfrm>
            <a:off x="5003640" y="342900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1187280" y="189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46836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7093440" y="5589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108000" y="357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Sehenswürdigkei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298764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5796000" y="29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1403280" y="53737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ild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3708360" y="59500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3" descr="img399"/>
          <p:cNvPicPr/>
          <p:nvPr/>
        </p:nvPicPr>
        <p:blipFill>
          <a:blip r:embed="rId1"/>
          <a:stretch/>
        </p:blipFill>
        <p:spPr>
          <a:xfrm>
            <a:off x="395280" y="1413000"/>
            <a:ext cx="2043000" cy="2060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4" descr="img451"/>
          <p:cNvPicPr/>
          <p:nvPr/>
        </p:nvPicPr>
        <p:blipFill>
          <a:blip r:embed="rId2"/>
          <a:stretch/>
        </p:blipFill>
        <p:spPr>
          <a:xfrm>
            <a:off x="2987640" y="907920"/>
            <a:ext cx="1979640" cy="1679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5" descr="J0145466"/>
          <p:cNvPicPr/>
          <p:nvPr/>
        </p:nvPicPr>
        <p:blipFill>
          <a:blip r:embed="rId3"/>
          <a:stretch/>
        </p:blipFill>
        <p:spPr>
          <a:xfrm>
            <a:off x="5435640" y="836640"/>
            <a:ext cx="2879640" cy="1898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6" descr="PAINTEAS"/>
          <p:cNvPicPr/>
          <p:nvPr/>
        </p:nvPicPr>
        <p:blipFill>
          <a:blip r:embed="rId4"/>
          <a:stretch/>
        </p:blipFill>
        <p:spPr>
          <a:xfrm>
            <a:off x="395280" y="4149720"/>
            <a:ext cx="919080" cy="25192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7" descr="ED00317_"/>
          <p:cNvPicPr/>
          <p:nvPr/>
        </p:nvPicPr>
        <p:blipFill>
          <a:blip r:embed="rId5"/>
          <a:stretch/>
        </p:blipFill>
        <p:spPr>
          <a:xfrm>
            <a:off x="3635280" y="4292640"/>
            <a:ext cx="2089080" cy="146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/>
          <p:cNvSpPr/>
          <p:nvPr/>
        </p:nvSpPr>
        <p:spPr>
          <a:xfrm>
            <a:off x="1476360" y="33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le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24000" y="1125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300720" y="4724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leb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205092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Schön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492360" y="3141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Interessant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4"/>
          <p:cNvSpPr/>
          <p:nvPr/>
        </p:nvSpPr>
        <p:spPr>
          <a:xfrm>
            <a:off x="1763640" y="26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395280" y="1268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5651640" y="486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05092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Schön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3492360" y="2924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Interessant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5148360" y="3933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Neu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92320"/>
          </a:xfrm>
          <a:prstGeom prst="rect">
            <a:avLst/>
          </a:prstGeom>
          <a:ln w="0">
            <a:noFill/>
          </a:ln>
        </p:spPr>
      </p:pic>
      <p:sp>
        <p:nvSpPr>
          <p:cNvPr id="690" name="WordArt 5"/>
          <p:cNvSpPr txBox="1"/>
          <p:nvPr/>
        </p:nvSpPr>
        <p:spPr>
          <a:xfrm>
            <a:off x="2484360" y="47628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rankfurt am Mai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692360" y="54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70836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.212 - 21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6:58:34Z</dcterms:created>
  <dc:creator>Admin</dc:creator>
  <dc:description/>
  <dc:language>en-US</dc:language>
  <cp:lastModifiedBy>Таня</cp:lastModifiedBy>
  <dcterms:modified xsi:type="dcterms:W3CDTF">2013-10-08T10:02:16Z</dcterms:modified>
  <cp:revision>16</cp:revision>
  <dc:subject/>
  <dc:title>Слайд 1</dc:title>
</cp:coreProperties>
</file>