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B54-13F4-4097-BEF7-EA871BE798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3CB-A241-459F-99A9-802DD43E6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58C-D8BC-4D9E-A15D-CAA95373C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3039-6FA6-42AE-A764-B97478BB0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184-A9BA-4ED9-9138-C2413F217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7D3-9C44-4D52-9250-D4F18C1A4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B7B-B1E6-4032-B33F-373ED0101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9E1-1238-48FF-AC7D-8B9E7FD39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408-7F8E-425F-99F3-A6DBC89E7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C858-0666-4CDA-A415-93EF209D5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9BB-CA6C-4F95-8514-6E1C289BD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740F-59C8-4094-8227-BB1B50F80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E361-B4CD-403F-A52B-DEE7D2B0D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80A-850A-47A4-94A6-525B5719D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926-1E52-43F0-A660-DAA11D37C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ED9-06BF-46F6-9F48-885B11C60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D45-29B9-4560-9E4D-80116302E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5DA-C744-4F40-8A5A-479004ED6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738B-0C69-4B3B-9F89-07073EE87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C31-F033-4A52-B693-99CC5A7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9A9-B46D-41FE-BA40-64D8100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155-61D5-4301-A6A3-96766A9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0F8-9D42-4B8E-BD4A-6915AA9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B97-EC15-47A9-BFE2-55AF8B01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2108-A6B2-4E57-A98D-1D6FC3B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7637-A920-4372-A413-068CA61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AED-D3CB-4544-9115-5CF921A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9A7-B093-46BA-A1AD-6691534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586-B092-4F53-8816-0DC0591B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74B6-F1A0-4B45-A262-76F96E5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997-CB7D-4AC2-8B88-75A53B1F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494-EE3C-4ED1-8DE5-AFAFBD0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13B3-0379-4DC9-91F7-2ABC0A3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469-D441-4560-9C59-3C56BC04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A72-1CF8-4DBE-9D61-240FCE08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BD1F-53F4-4421-A8F7-6909B2A0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BC2-DDA9-471B-ACC7-8E6A003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AAD-6595-486D-9EF9-C0C3829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661-0205-4825-A9F9-6B00252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3A3-85A4-46F0-A343-1606C75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97F-7B5E-4ABD-BE44-C2255D6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FCF-F701-4967-8E42-27E0F1A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89B-BBD5-45D9-8A68-A3DFC34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83E-260F-48B0-8CDD-1F8F3F69F1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121F-49D6-4107-A3B7-902B139B7B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«Фартук»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путешествие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Цветик -          семицветик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овременной одежде применяется бесконечное разнообразие цветов, оттенков, тонов. Существует целое учение о цветах-цвето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c0039"/>
                </a:solidFill>
                <a:latin typeface="Arial"/>
              </a:rPr>
              <a:t>Основные цвет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37920" y="1599840"/>
            <a:ext cx="3124440" cy="2171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15000" y="1599840"/>
            <a:ext cx="3124080" cy="2171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7920" y="3924360"/>
            <a:ext cx="3124440" cy="2171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5000" y="3924360"/>
            <a:ext cx="3124080" cy="2171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Измерений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 помощью чего снимают мер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Какие мерки необходимо снять для построения чертежа фарту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 какой стороне фигуры снимают мер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Какие мерки снимают в первую очередь: мерки обхватов или мерки дл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Какие мерки записывают полн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Какие мерки записывают в половинном разме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39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 Как обозначаются мерки: полуобхват талии, полуобхват бедер, длина изде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Из каких частей состоит фарт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«Детали фарту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пишите названия деталей фарт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c0039"/>
                </a:solidFill>
                <a:latin typeface="Arial"/>
              </a:rPr>
              <a:t>Детали фартук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3314880" y="1484280"/>
            <a:ext cx="5829120" cy="7315200"/>
            <a:chOff x="3314880" y="1484280"/>
            <a:chExt cx="5829120" cy="7315200"/>
          </a:xfrm>
        </p:grpSpPr>
        <p:sp>
          <p:nvSpPr>
            <p:cNvPr id="127" name="AutoShape 26"/>
            <p:cNvSpPr/>
            <p:nvPr/>
          </p:nvSpPr>
          <p:spPr>
            <a:xfrm>
              <a:off x="3314880" y="1484280"/>
              <a:ext cx="5829120" cy="73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7"/>
            <p:cNvSpPr/>
            <p:nvPr/>
          </p:nvSpPr>
          <p:spPr>
            <a:xfrm>
              <a:off x="5029560" y="2970360"/>
              <a:ext cx="913680" cy="91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8"/>
            <p:cNvSpPr/>
            <p:nvPr/>
          </p:nvSpPr>
          <p:spPr>
            <a:xfrm>
              <a:off x="3542760" y="3884760"/>
              <a:ext cx="3886200" cy="227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4457880" y="4113000"/>
              <a:ext cx="2057040" cy="159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0"/>
            <p:cNvSpPr/>
            <p:nvPr/>
          </p:nvSpPr>
          <p:spPr>
            <a:xfrm>
              <a:off x="5257800" y="4341600"/>
              <a:ext cx="571320" cy="572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5027760" y="2046600"/>
              <a:ext cx="229680" cy="923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5715360" y="2055600"/>
              <a:ext cx="227880" cy="912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 flipV="1">
              <a:off x="5943600" y="2055600"/>
              <a:ext cx="102888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943600" y="33130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7429320" y="399888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6514920" y="4798440"/>
              <a:ext cx="9140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 flipH="1">
              <a:off x="4000320" y="4798440"/>
              <a:ext cx="1257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c0039"/>
                </a:solidFill>
                <a:latin typeface="Arial"/>
              </a:rPr>
              <a:t>Вычислительная: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яем сколько необходимо материи для раскроя фарт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57607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0039"/>
                </a:solidFill>
                <a:latin typeface="Arial"/>
              </a:rPr>
              <a:t>Станция    «Моделирование»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29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987640" y="1700280"/>
            <a:ext cx="5184720" cy="6408720"/>
            <a:chOff x="2987640" y="1700280"/>
            <a:chExt cx="5184720" cy="6408720"/>
          </a:xfrm>
        </p:grpSpPr>
        <p:sp>
          <p:nvSpPr>
            <p:cNvPr id="146" name="AutoShape 6"/>
            <p:cNvSpPr/>
            <p:nvPr/>
          </p:nvSpPr>
          <p:spPr>
            <a:xfrm>
              <a:off x="2987640" y="1700280"/>
              <a:ext cx="5184720" cy="64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512600" y="3002040"/>
              <a:ext cx="812880" cy="80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3190320" y="3803400"/>
              <a:ext cx="3456360" cy="19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004280" y="4003200"/>
              <a:ext cx="1829520" cy="1401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122800" y="4203360"/>
              <a:ext cx="508320" cy="501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4511160" y="2193120"/>
              <a:ext cx="204120" cy="80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5122800" y="2200680"/>
              <a:ext cx="202680" cy="799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 flipH="1">
              <a:off x="3800520" y="4003200"/>
              <a:ext cx="203760" cy="140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5834160" y="4003200"/>
              <a:ext cx="203040" cy="140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5"/>
            <p:cNvSpPr/>
            <p:nvPr/>
          </p:nvSpPr>
          <p:spPr>
            <a:xfrm>
              <a:off x="3800520" y="5405040"/>
              <a:ext cx="2236680" cy="200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4207320" y="4203360"/>
              <a:ext cx="508320" cy="50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207320" y="4303440"/>
              <a:ext cx="508320" cy="40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5122800" y="4303440"/>
              <a:ext cx="508320" cy="40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4512600" y="3201840"/>
              <a:ext cx="812880" cy="601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анция профес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люблю прямот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ама пря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ть ровную че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м я помог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-нибудь без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ертить сумей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дайте-ка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же я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39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 понятия о процессе изготовления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нать , что такое моде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об основных и составных цветах в одеж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определять технологическую последовательность изготовления издел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эстетический в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аккуратность и внимательность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нка, длин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ноуха и ост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ему свету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Я пушистый, мягкий, круг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и хвост, но я не к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о прыгаю упру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чусь под ком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Одноглазая стар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оры выш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ь мир оде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сошьешь – не над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В полотня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ке Прост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ывет 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назад, то впе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за ним такая глад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морщинки не ви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дведение итогов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кой станции вы бы хотели еще поб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задание вам показалось трудным, а какое – лег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вольны ли вы своей практической рабо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Кроссвордная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ение чертежа выкройки издел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 из самых выразительных средств в швейном изде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ец изделия, создаваемый художниками, модельерами, конструкторам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ные размеры фигуры человека, полученные путем измерен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изменения чертежа выкройки в соответствии с выбранной мод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Позновательная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фар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, означающее предмет одежды, предохраняющий от загрязнений при работе на кухне, имеет «заграничное» происхождение. В русской речи оно появилось в 60-х годах XVII века, а пришло из поль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Picture 2" descr="C:\Users\User\Downloads\ptaYfp38CRaW4kTIT5m0YNTlik2bxflWkGuk24GDev6AMfEDX9DNbicyVa7m2AtbyxJFNCVK4CSefhdnvHYieR69LZQ4gutjHTShTNJL64Q.jpg"/>
          <p:cNvPicPr/>
          <p:nvPr/>
        </p:nvPicPr>
        <p:blipFill>
          <a:blip r:embed="rId1"/>
          <a:stretch/>
        </p:blipFill>
        <p:spPr>
          <a:xfrm>
            <a:off x="2556000" y="260280"/>
            <a:ext cx="62640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4" name="Picture 2" descr="C:\Users\User\Downloads\ptaYfp38CRaW4kTIT5m0YLdnz5R5vtcwQv9UkL5Uzk0EnH4sU4wg8Arprn9_Rv2o6TOvMNtnW6c1zUQH_LSiScl_XlcAA_k5MTbCh0QrK8w.jpg"/>
          <p:cNvPicPr/>
          <p:nvPr/>
        </p:nvPicPr>
        <p:blipFill>
          <a:blip r:embed="rId1"/>
          <a:stretch/>
        </p:blipFill>
        <p:spPr>
          <a:xfrm>
            <a:off x="2700360" y="189000"/>
            <a:ext cx="5472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2" descr="C:\Users\User\Downloads\ptaYfp38CRaW4kTIT5m0YB4q__qOwTEp1OcbsVaypRDUTLYQDzB_G0pCukaeoIzJNA7LDue9gbAcaq3rRECW0ObRE4A8nVQ5rrxjRvyGHrc.jpg"/>
          <p:cNvPicPr/>
          <p:nvPr/>
        </p:nvPicPr>
        <p:blipFill>
          <a:blip r:embed="rId1"/>
          <a:stretch/>
        </p:blipFill>
        <p:spPr>
          <a:xfrm>
            <a:off x="3492360" y="476280"/>
            <a:ext cx="41752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Picture 2" descr="C:\Users\User\Downloads\MkW0ygWhbjsOjEr9KX6wVcMN41_aflGy6wmdEkSw5fslb4SljX8JcETAkjbz9mb-vi6xZSnLnsyatXsuy38JiI6voFRtZonT4Y66Z_AAW2g.jpg"/>
          <p:cNvPicPr/>
          <p:nvPr/>
        </p:nvPicPr>
        <p:blipFill>
          <a:blip r:embed="rId1"/>
          <a:stretch/>
        </p:blipFill>
        <p:spPr>
          <a:xfrm>
            <a:off x="3059280" y="333360"/>
            <a:ext cx="5400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анция сходства и отлич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639880" y="1557360"/>
            <a:ext cx="59976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0:12:23Z</dcterms:created>
  <dc:creator>1</dc:creator>
  <dc:description/>
  <dc:language>en-US</dc:language>
  <cp:lastModifiedBy>User</cp:lastModifiedBy>
  <dcterms:modified xsi:type="dcterms:W3CDTF">2024-01-30T15:36:53Z</dcterms:modified>
  <cp:revision>42</cp:revision>
  <dc:subject/>
  <dc:title>Тема: «Технология изготовления швейного изделия» (фартука)</dc:title>
</cp:coreProperties>
</file>