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D6A0-E314-4F2C-919E-466725D042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5B2-0ACF-4E0C-A658-07F1B97F25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26C5-D828-4865-A9AA-02FB5083F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88F4-C0CE-4E2F-A02D-881BC83ED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D488-2A2A-47CC-A0DC-8367E0A484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AF6-BE68-4173-9F76-166105B3F9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80B-31A4-4658-AE52-BD29CD5CF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F0D-63AC-4234-989E-2B33FADAC8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0A4F-630E-4990-8ACA-C9AE00D4D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600A-9BBC-41BE-8DD3-60BEA5A55D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BD2F-3EEB-4224-80D9-4FADD64226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7B5E-364B-4375-B329-98DBCCDA45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BD6-C2B5-4489-A226-A95109885F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BDEF-CE16-44E4-A5CE-B9A118ABA5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47AE-588C-4533-90AE-139E6A020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D83D-A5CD-41D3-9E39-FC744A191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E242-5FB1-4FDA-B2E5-0F31CA5A0F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1268-BF67-4895-BDB4-7DCC69B6E1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E428-325D-4E85-8A57-1B30190C36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B53-1AA8-4AEE-92FE-83609000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EB6-F972-4FCA-92B9-857D9983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75C-863D-4AF7-A2E8-170EB34F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1C6C-DFEE-448A-BF62-51BBA96B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00C-1DFA-41ED-9AB4-7C9477E7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9D08-A1C3-484C-A122-F7DACA13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7043-19BA-4990-A100-6FA4ADB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0F4-7F96-4018-9938-532BADB9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D066-D1AF-4C54-A653-3CAC855B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BCF-7DEA-4F14-A2CD-4A8CC06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D808-D613-45EE-8F1D-69FFA6CB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5F7-8E9B-44F5-BDC8-1284895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0AA0-1594-47BD-B50D-B8256DD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ACF2-2E4C-48FE-A5BD-A6A2221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DC37-8938-4CC8-BB01-A87BDBA2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6017-EE9B-4C78-A98F-47DE9CE7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13A1-8EA3-448A-AE39-D5EE96FB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4C4-83D2-4037-86F4-7AB34E2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A8E-98C9-4320-BAE8-4934EEBE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4CE8-190F-4D61-A1EC-20623C12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606-48ED-4D7A-9D93-01A4BCF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23D-EC91-4E3F-B058-6431EE03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BB28-B602-4369-AB72-49A00EB3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CF1C-B8DF-44C8-96C7-557EC862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7BE5-CEFC-4FB8-9C98-5615AF478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F76B-F09A-40C4-A5C0-31CB95A88E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Тема: «Фартук»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– путешествие в 5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Цветик -          семицветик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современной одежде применяется бесконечное разнообразие цветов, оттенков, тонов. Существует целое учение о цветах-цветовед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c0039"/>
                </a:solidFill>
                <a:latin typeface="Arial"/>
              </a:rPr>
              <a:t>Основные цвет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437920" y="1599840"/>
            <a:ext cx="3124440" cy="2171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15000" y="1599840"/>
            <a:ext cx="3124080" cy="2171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437920" y="3924360"/>
            <a:ext cx="3124440" cy="2171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15000" y="3924360"/>
            <a:ext cx="3124080" cy="2171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Измерений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С помощью чего снимают мер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Какие мерки необходимо снять для построения чертежа фарту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 какой стороне фигуры снимают мер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Какие мерки снимают в первую очередь: мерки обхватов или мерки дл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Какие мерки записывают полност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Какие мерки записывают в половинном разме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39"/>
                </a:solidFill>
                <a:latin typeface="Arial"/>
              </a:rPr>
              <a:t>Вопросы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) Как обозначаются мерки: полуобхват талии, полуобхват бедер, длина изде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)Из каких частей состоит фарт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40000" y="18900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</a:t>
            </a:r>
            <a:br>
              <a:rPr sz="3600"/>
            </a:b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«Детали фартука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1280" y="162828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пишите названия деталей фарту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8c0039"/>
                </a:solidFill>
                <a:latin typeface="Arial"/>
              </a:rPr>
              <a:t>Детали фартук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5"/>
          <p:cNvGrpSpPr/>
          <p:nvPr/>
        </p:nvGrpSpPr>
        <p:grpSpPr>
          <a:xfrm>
            <a:off x="3314880" y="1484280"/>
            <a:ext cx="5829120" cy="7315200"/>
            <a:chOff x="3314880" y="1484280"/>
            <a:chExt cx="5829120" cy="7315200"/>
          </a:xfrm>
        </p:grpSpPr>
        <p:sp>
          <p:nvSpPr>
            <p:cNvPr id="127" name="AutoShape 26"/>
            <p:cNvSpPr/>
            <p:nvPr/>
          </p:nvSpPr>
          <p:spPr>
            <a:xfrm>
              <a:off x="3314880" y="1484280"/>
              <a:ext cx="5829120" cy="73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7"/>
            <p:cNvSpPr/>
            <p:nvPr/>
          </p:nvSpPr>
          <p:spPr>
            <a:xfrm>
              <a:off x="5029560" y="2970360"/>
              <a:ext cx="913680" cy="913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8"/>
            <p:cNvSpPr/>
            <p:nvPr/>
          </p:nvSpPr>
          <p:spPr>
            <a:xfrm>
              <a:off x="3542760" y="3884760"/>
              <a:ext cx="3886200" cy="2278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4457880" y="4113000"/>
              <a:ext cx="2057040" cy="1599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30"/>
            <p:cNvSpPr/>
            <p:nvPr/>
          </p:nvSpPr>
          <p:spPr>
            <a:xfrm>
              <a:off x="5257800" y="4341600"/>
              <a:ext cx="571320" cy="572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1"/>
            <p:cNvSpPr/>
            <p:nvPr/>
          </p:nvSpPr>
          <p:spPr>
            <a:xfrm>
              <a:off x="5027760" y="2046600"/>
              <a:ext cx="229680" cy="9234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2"/>
            <p:cNvSpPr/>
            <p:nvPr/>
          </p:nvSpPr>
          <p:spPr>
            <a:xfrm>
              <a:off x="5715360" y="2055600"/>
              <a:ext cx="227880" cy="912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3"/>
            <p:cNvSpPr/>
            <p:nvPr/>
          </p:nvSpPr>
          <p:spPr>
            <a:xfrm flipV="1">
              <a:off x="5943600" y="2055600"/>
              <a:ext cx="1028880" cy="45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34"/>
            <p:cNvSpPr/>
            <p:nvPr/>
          </p:nvSpPr>
          <p:spPr>
            <a:xfrm>
              <a:off x="5943600" y="33130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35"/>
            <p:cNvSpPr/>
            <p:nvPr/>
          </p:nvSpPr>
          <p:spPr>
            <a:xfrm>
              <a:off x="7429320" y="3998880"/>
              <a:ext cx="5713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36"/>
            <p:cNvSpPr/>
            <p:nvPr/>
          </p:nvSpPr>
          <p:spPr>
            <a:xfrm>
              <a:off x="6514920" y="4798440"/>
              <a:ext cx="9140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37"/>
            <p:cNvSpPr/>
            <p:nvPr/>
          </p:nvSpPr>
          <p:spPr>
            <a:xfrm flipH="1">
              <a:off x="4000320" y="4798440"/>
              <a:ext cx="12571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c0039"/>
                </a:solidFill>
                <a:latin typeface="Arial"/>
              </a:rPr>
              <a:t>Вычислительная: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числяем сколько необходимо материи для раскроя фарт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3059280" y="2997360"/>
            <a:ext cx="57607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c0039"/>
                </a:solidFill>
                <a:latin typeface="Arial"/>
              </a:rPr>
              <a:t>Станция    «Моделирование»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290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5"/>
          <p:cNvGrpSpPr/>
          <p:nvPr/>
        </p:nvGrpSpPr>
        <p:grpSpPr>
          <a:xfrm>
            <a:off x="2987640" y="1700280"/>
            <a:ext cx="5184720" cy="6408720"/>
            <a:chOff x="2987640" y="1700280"/>
            <a:chExt cx="5184720" cy="6408720"/>
          </a:xfrm>
        </p:grpSpPr>
        <p:sp>
          <p:nvSpPr>
            <p:cNvPr id="146" name="AutoShape 6"/>
            <p:cNvSpPr/>
            <p:nvPr/>
          </p:nvSpPr>
          <p:spPr>
            <a:xfrm>
              <a:off x="2987640" y="1700280"/>
              <a:ext cx="5184720" cy="64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7"/>
            <p:cNvSpPr/>
            <p:nvPr/>
          </p:nvSpPr>
          <p:spPr>
            <a:xfrm>
              <a:off x="4512600" y="3002040"/>
              <a:ext cx="812880" cy="800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3190320" y="3803400"/>
              <a:ext cx="3456360" cy="19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4004280" y="4003200"/>
              <a:ext cx="1829520" cy="1401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5122800" y="4203360"/>
              <a:ext cx="508320" cy="501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4511160" y="2193120"/>
              <a:ext cx="204120" cy="808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5122800" y="2200680"/>
              <a:ext cx="202680" cy="799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 flipH="1">
              <a:off x="3800520" y="4003200"/>
              <a:ext cx="203760" cy="140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5834160" y="4003200"/>
              <a:ext cx="203040" cy="140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5"/>
            <p:cNvSpPr/>
            <p:nvPr/>
          </p:nvSpPr>
          <p:spPr>
            <a:xfrm>
              <a:off x="3800520" y="5405040"/>
              <a:ext cx="2236680" cy="2001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4207320" y="4203360"/>
              <a:ext cx="508320" cy="50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4207320" y="4303440"/>
              <a:ext cx="508320" cy="40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5122800" y="4303440"/>
              <a:ext cx="508320" cy="400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4512600" y="3201840"/>
              <a:ext cx="812880" cy="601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анция профес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5616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люблю прямот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 сама пряма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делать ровную чер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м я помогаю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-нибудь без ме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ертить сумей-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адайте-ка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же я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c0039"/>
                </a:solidFill>
                <a:latin typeface="Arial"/>
              </a:rPr>
              <a:t>Цели: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 понятия о процессе изготовления одеж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нать , что такое моделир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об основных и составных цветах в одеж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помнить проф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 определять технологическую последовательность изготовления издел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вать эстетический вку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ывать аккуратность и внимательность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11280" y="170028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онка, длинн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дноуха и ост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сему свету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 Я пушистый, мягкий, круглы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ть и хвост, но я не ко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то прыгаю упру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ячусь под ком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 Одноглазая стар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зоры выши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ь мир одев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сошьешь – не наде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Отгадайте загадки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В полотнян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реке Прост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ывет парох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 назад, то впер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за ним такая гладь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 морщинки не вид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одведение итогов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какой станции вы бы хотели еще побы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ое задание вам показалось трудным, а какое – лег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вольны ли вы своей практической работ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4000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Кроссвордная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горизонта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строение чертежа выкройки издел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дно из самых выразительных средств в швейном издел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разец изделия, создаваемый художниками, модельерами, конструкторам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новные размеры фигуры человека, полученные путем измерения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цесс изменения чертежа выкройки в соответствии с выбранной модел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Станция «Позновательная»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фар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, означающее предмет одежды, предохраняющий от загрязнений при работе на кухне, имеет «заграничное» происхождение. В русской речи оно появилось в 60-х годах XVII века, а пришло из польск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2" name="Picture 2" descr="C:\Users\User\Downloads\ptaYfp38CRaW4kTIT5m0YNTlik2bxflWkGuk24GDev6AMfEDX9DNbicyVa7m2AtbyxJFNCVK4CSefhdnvHYieR69LZQ4gutjHTShTNJL64Q.jpg"/>
          <p:cNvPicPr/>
          <p:nvPr/>
        </p:nvPicPr>
        <p:blipFill>
          <a:blip r:embed="rId1"/>
          <a:stretch/>
        </p:blipFill>
        <p:spPr>
          <a:xfrm>
            <a:off x="2556000" y="260280"/>
            <a:ext cx="62640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4" name="Picture 2" descr="C:\Users\User\Downloads\ptaYfp38CRaW4kTIT5m0YLdnz5R5vtcwQv9UkL5Uzk0EnH4sU4wg8Arprn9_Rv2o6TOvMNtnW6c1zUQH_LSiScl_XlcAA_k5MTbCh0QrK8w.jpg"/>
          <p:cNvPicPr/>
          <p:nvPr/>
        </p:nvPicPr>
        <p:blipFill>
          <a:blip r:embed="rId1"/>
          <a:stretch/>
        </p:blipFill>
        <p:spPr>
          <a:xfrm>
            <a:off x="2700360" y="189000"/>
            <a:ext cx="5472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2" descr="C:\Users\User\Downloads\ptaYfp38CRaW4kTIT5m0YB4q__qOwTEp1OcbsVaypRDUTLYQDzB_G0pCukaeoIzJNA7LDue9gbAcaq3rRECW0ObRE4A8nVQ5rrxjRvyGHrc.jpg"/>
          <p:cNvPicPr/>
          <p:nvPr/>
        </p:nvPicPr>
        <p:blipFill>
          <a:blip r:embed="rId1"/>
          <a:stretch/>
        </p:blipFill>
        <p:spPr>
          <a:xfrm>
            <a:off x="3492360" y="476280"/>
            <a:ext cx="41752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8" name="Picture 2" descr="C:\Users\User\Downloads\MkW0ygWhbjsOjEr9KX6wVcMN41_aflGy6wmdEkSw5fslb4SljX8JcETAkjbz9mb-vi6xZSnLnsyatXsuy38JiI6voFRtZonT4Y66Z_AAW2g.jpg"/>
          <p:cNvPicPr/>
          <p:nvPr/>
        </p:nvPicPr>
        <p:blipFill>
          <a:blip r:embed="rId1"/>
          <a:stretch/>
        </p:blipFill>
        <p:spPr>
          <a:xfrm>
            <a:off x="3059280" y="333360"/>
            <a:ext cx="5400360" cy="59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танция сходства и отлич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639880" y="1557360"/>
            <a:ext cx="5997600" cy="4537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20:12:23Z</dcterms:created>
  <dc:creator>1</dc:creator>
  <dc:description/>
  <dc:language>en-US</dc:language>
  <cp:lastModifiedBy>User</cp:lastModifiedBy>
  <dcterms:modified xsi:type="dcterms:W3CDTF">2024-01-30T15:36:53Z</dcterms:modified>
  <cp:revision>42</cp:revision>
  <dc:subject/>
  <dc:title>Тема: «Технология изготовления швейного изделия» (фартука)</dc:title>
</cp:coreProperties>
</file>