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15.jpeg" ContentType="image/jpeg"/>
  <Override PartName="/ppt/media/image9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F7492-0D6B-4771-B6C7-537DA0A51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4B1A7-799D-4640-9282-7074A0643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047EB-738B-4D87-BC3F-18D27A19A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33D4E-E314-4826-BE59-AC7425167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A034D-0B57-4C79-80B7-C6B5E6157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EEA95-9737-4D97-BF05-A82763C35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FBE89-6609-4CFB-964B-893C3EFBE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3DE9B-1DEE-4CD9-B4EE-249796734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0F704-3C8B-4152-A0AA-AD551C5CD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936E0-D923-4141-B9C4-A50014E36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563DA-7E2A-421A-9003-8B725E987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FDB2D-839F-4466-AEF1-9A36EDE15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9DEC1-8E22-4571-B21F-DD371308D8BC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collection.edu.yar.ru/dlrstore/11ea82bb-e33e-47ed-966d-de02b146e5d8/history/source/pic/persiya_6-4_do_n_e.gif" TargetMode="Externa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ispu.ru/files/u2/book2/history/10tema10/karti10/perva_mirov_voina_2var_files/image001.jpg" TargetMode="External"/><Relationship Id="rId2" Type="http://schemas.openxmlformats.org/officeDocument/2006/relationships/image" Target="../media/image8.jpeg"/><Relationship Id="rId3" Type="http://schemas.openxmlformats.org/officeDocument/2006/relationships/hyperlink" Target="http://www.emc.komi.com/07/13/img/008.jpg" TargetMode="External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42560" y="1844640"/>
            <a:ext cx="764388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Политическое устройство мира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лан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сторические этапы формирования политической карты мир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уверенные и несамоуправляющиеся государств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Группировки стран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Типология стран мир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Современный этап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68000" y="1773000"/>
            <a:ext cx="4027320" cy="432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ahoma"/>
              </a:rPr>
              <a:t>Появились новые социалистические государств в Восточной Европе, в Азии и Латинской Америке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ahoma"/>
              </a:rPr>
              <a:t>Возникновение социалистической системы</a:t>
            </a:r>
            <a:r>
              <a:rPr b="0" lang="en-US" sz="2000" spc="-1" strike="noStrike">
                <a:solidFill>
                  <a:srgbClr val="003366"/>
                </a:solidFill>
                <a:latin typeface="Tahoma"/>
              </a:rPr>
              <a:t>,</a:t>
            </a:r>
            <a:r>
              <a:rPr b="0" lang="ru-RU" sz="2000" spc="-1" strike="noStrike">
                <a:solidFill>
                  <a:srgbClr val="003366"/>
                </a:solidFill>
                <a:latin typeface="Tahoma"/>
              </a:rPr>
              <a:t> образование независимых государств в Азии</a:t>
            </a:r>
            <a:r>
              <a:rPr b="0" lang="en-US" sz="2000" spc="-1" strike="noStrike">
                <a:solidFill>
                  <a:srgbClr val="003366"/>
                </a:solidFill>
                <a:latin typeface="Tahoma"/>
              </a:rPr>
              <a:t>,</a:t>
            </a:r>
            <a:r>
              <a:rPr b="0" lang="ru-RU" sz="2000" spc="-1" strike="noStrike">
                <a:solidFill>
                  <a:srgbClr val="003366"/>
                </a:solidFill>
                <a:latin typeface="Tahoma"/>
              </a:rPr>
              <a:t> Африке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ahoma"/>
              </a:rPr>
              <a:t>В </a:t>
            </a:r>
            <a:r>
              <a:rPr b="0" lang="en-US" sz="2000" spc="-1" strike="noStrike">
                <a:solidFill>
                  <a:srgbClr val="003366"/>
                </a:solidFill>
                <a:latin typeface="Tahoma"/>
              </a:rPr>
              <a:t>XX</a:t>
            </a:r>
            <a:r>
              <a:rPr b="0" lang="ru-RU" sz="2000" spc="-1" strike="noStrike">
                <a:solidFill>
                  <a:srgbClr val="003366"/>
                </a:solidFill>
                <a:latin typeface="Tahoma"/>
              </a:rPr>
              <a:t> веке увеличилось число стран в результате распада колониальной системы независимости добились 102 страны. После распада СССР произошли качественные изменения на политической карте мир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6" name="Picture 2" descr="C:\Users\User\Desktop\Общая хар мира\Политическая карта мира  +\7180_html_m680c2698.png"/>
          <p:cNvPicPr/>
          <p:nvPr/>
        </p:nvPicPr>
        <p:blipFill>
          <a:blip r:embed="rId1"/>
          <a:stretch/>
        </p:blipFill>
        <p:spPr>
          <a:xfrm>
            <a:off x="-264960" y="-100080"/>
            <a:ext cx="9229680" cy="764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0" name="Picture 2" descr="C:\Users\User\Desktop\пп\ПКМ\л.jpg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5ffff"/>
                </a:solidFill>
                <a:latin typeface="Tahoma"/>
              </a:rPr>
              <a:t>Суверенные и не самоуправляющиеся государства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ahoma"/>
              </a:rPr>
              <a:t>Суверенные государства обладают всей полнотой законодательной, исполнительной, судебной власти на своей территории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284720" y="1981080"/>
            <a:ext cx="4402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ahoma"/>
              </a:rPr>
              <a:t>Ряд государственных образований являются несамоуправляющимися. Зависимыми территориями обладают 7 государств: Великобритания, Франция, Дания, США, Австралия, Новая Зеландия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Задание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6635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а основе политической карты мира в атласе и «визитной карточки стран» на форзаце учебника выпишите  в тетрадь: А) семь самых больших по площади стран мира, Б) 11 стран мира с численностью населения свыше 100 млн.человек, В) примеры полуостровных и островных стран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7236000" y="1981080"/>
            <a:ext cx="1450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8" name="Picture 2" descr="C:\Users\User\Desktop\ПКМ\по площади.jpg"/>
          <p:cNvPicPr/>
          <p:nvPr/>
        </p:nvPicPr>
        <p:blipFill>
          <a:blip r:embed="rId1"/>
          <a:stretch/>
        </p:blipFill>
        <p:spPr>
          <a:xfrm>
            <a:off x="826920" y="692280"/>
            <a:ext cx="7215480" cy="54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-289080" y="0"/>
            <a:ext cx="9433080" cy="695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Picture 3" descr="C:\Users\User\Desktop\пп\ПКМ\на душу населения.jpg"/>
          <p:cNvPicPr/>
          <p:nvPr/>
        </p:nvPicPr>
        <p:blipFill>
          <a:blip r:embed="rId1"/>
          <a:stretch/>
        </p:blipFill>
        <p:spPr>
          <a:xfrm>
            <a:off x="-131760" y="-100080"/>
            <a:ext cx="9275760" cy="695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5ffff"/>
                </a:solidFill>
                <a:latin typeface="Times New Roman"/>
                <a:ea typeface="Times New Roman"/>
              </a:rPr>
              <a:t>Практическая работа</a:t>
            </a:r>
            <a:r>
              <a:rPr b="0" lang="ru-RU" sz="2000" spc="-1" strike="noStrike">
                <a:solidFill>
                  <a:srgbClr val="e5ffff"/>
                </a:solidFill>
                <a:latin typeface="Times New Roman"/>
                <a:ea typeface="Times New Roman"/>
              </a:rPr>
              <a:t>: Ознакомление с политической картой мира. Составление тематических таблиц, характеризующих различные типы стран по уровню социально-экономического развития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Экономическ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азвитые стран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колько их. Где они находятся? На какие группы делятся? Названия групп и стран, входящих в эти групп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азвивающиеся стран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колько их. Где они находятся? На какие группы делятся? Названия групп и стран, входящих в эти группы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Picture 2" descr="C:\Users\User\Desktop\пп\ПКМ\типология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Формирование политической карты мира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36320" y="1828440"/>
            <a:ext cx="82501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ahoma"/>
              </a:rPr>
              <a:t>Политическая карта мира изменяется в результате территориальных приобретений или потерь, смены экономических формации, введения нового государственного устройств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6" name="Picture 2" descr="C:\Users\User\Desktop\Общая хар мира\Политическая карта мира  +\опорный конспект.jpg"/>
          <p:cNvPicPr/>
          <p:nvPr/>
        </p:nvPicPr>
        <p:blipFill>
          <a:blip r:embed="rId1"/>
          <a:stretch/>
        </p:blipFill>
        <p:spPr>
          <a:xfrm>
            <a:off x="468360" y="293760"/>
            <a:ext cx="8280360" cy="655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Домашнее задание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94920" y="1628640"/>
            <a:ext cx="8435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ahoma"/>
              </a:rPr>
              <a:t>Самостоятельная работа</a:t>
            </a: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 (</a:t>
            </a:r>
            <a:r>
              <a:rPr b="0" lang="ru-RU" sz="3200" spc="-1" strike="noStrike">
                <a:solidFill>
                  <a:srgbClr val="003366"/>
                </a:solidFill>
                <a:latin typeface="Tahoma"/>
              </a:rPr>
              <a:t>доклад/реферат/сообщение): Новейшие изменения на политической карте мир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Политическая карта мира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68000" y="1773000"/>
            <a:ext cx="8218440" cy="432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ahoma"/>
              </a:rPr>
              <a:t>Страна в ее государственных границах является объектом изучения политической географи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ahoma"/>
              </a:rPr>
              <a:t>Основными этапами формирования политической карты является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6426360" y="4365720"/>
            <a:ext cx="245736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Задание 1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Заполните таблицу: Исторические этапы формирования политической карты мир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476360" y="3645000"/>
          <a:ext cx="5904000" cy="2193840"/>
        </p:xfrm>
        <a:graphic>
          <a:graphicData uri="http://schemas.openxmlformats.org/drawingml/2006/table">
            <a:tbl>
              <a:tblPr/>
              <a:tblGrid>
                <a:gridCol w="2952720"/>
                <a:gridCol w="29512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этап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государств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Древний этап</a:t>
            </a:r>
            <a:br>
              <a:rPr sz="4000"/>
            </a:b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 (до 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V </a:t>
            </a: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века нашей эры)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ahoma"/>
              </a:rPr>
              <a:t>Возникновение  и крушение первых государств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ahoma"/>
              </a:rPr>
              <a:t>Наиболее известные из них: Карфаген</a:t>
            </a:r>
            <a:r>
              <a:rPr b="0" lang="en-US" sz="2000" spc="-1" strike="noStrike">
                <a:solidFill>
                  <a:srgbClr val="003366"/>
                </a:solidFill>
                <a:latin typeface="Tahoma"/>
              </a:rPr>
              <a:t>, </a:t>
            </a:r>
            <a:r>
              <a:rPr b="0" lang="ru-RU" sz="2000" spc="-1" strike="noStrike">
                <a:solidFill>
                  <a:srgbClr val="003366"/>
                </a:solidFill>
                <a:latin typeface="Tahoma"/>
              </a:rPr>
              <a:t>Древняя Греция</a:t>
            </a:r>
            <a:r>
              <a:rPr b="0" lang="en-US" sz="2000" spc="-1" strike="noStrike">
                <a:solidFill>
                  <a:srgbClr val="003366"/>
                </a:solidFill>
                <a:latin typeface="Tahoma"/>
              </a:rPr>
              <a:t>, </a:t>
            </a:r>
            <a:r>
              <a:rPr b="0" lang="ru-RU" sz="2000" spc="-1" strike="noStrike">
                <a:solidFill>
                  <a:srgbClr val="003366"/>
                </a:solidFill>
                <a:latin typeface="Tahoma"/>
              </a:rPr>
              <a:t>Древний Рим</a:t>
            </a:r>
            <a:r>
              <a:rPr b="0" lang="en-US" sz="2000" spc="-1" strike="noStrike">
                <a:solidFill>
                  <a:srgbClr val="003366"/>
                </a:solidFill>
                <a:latin typeface="Tahoma"/>
              </a:rPr>
              <a:t>, </a:t>
            </a:r>
            <a:r>
              <a:rPr b="0" lang="ru-RU" sz="2000" spc="-1" strike="noStrike">
                <a:solidFill>
                  <a:srgbClr val="003366"/>
                </a:solidFill>
                <a:latin typeface="Tahoma"/>
              </a:rPr>
              <a:t>Древний Египет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ahoma"/>
              </a:rPr>
              <a:t>Главным средством изменений на политической карте мира являлись войны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3" name="Picture 9" descr="colosseum[1]"/>
          <p:cNvPicPr/>
          <p:nvPr/>
        </p:nvPicPr>
        <p:blipFill>
          <a:blip r:embed="rId1"/>
          <a:stretch/>
        </p:blipFill>
        <p:spPr>
          <a:xfrm>
            <a:off x="4427640" y="2060640"/>
            <a:ext cx="2087640" cy="16574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0" descr="iCALS42YL"/>
          <p:cNvPicPr/>
          <p:nvPr/>
        </p:nvPicPr>
        <p:blipFill>
          <a:blip r:embed="rId2"/>
          <a:stretch/>
        </p:blipFill>
        <p:spPr>
          <a:xfrm>
            <a:off x="5796000" y="4076640"/>
            <a:ext cx="2232000" cy="17287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2" descr="iCA6886N9"/>
          <p:cNvPicPr/>
          <p:nvPr/>
        </p:nvPicPr>
        <p:blipFill>
          <a:blip r:embed="rId3"/>
          <a:stretch/>
        </p:blipFill>
        <p:spPr>
          <a:xfrm>
            <a:off x="6877080" y="2133720"/>
            <a:ext cx="2089080" cy="158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Средневековый этап  </a:t>
            </a:r>
            <a:br>
              <a:rPr sz="4000"/>
            </a:b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(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V-XV</a:t>
            </a: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 века)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ahoma"/>
              </a:rPr>
              <a:t>Возникновение крупных феодальных государств в Европе и Азии. Складывался внутренний и внешний рынок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ahoma"/>
              </a:rPr>
              <a:t>В этот период существовали такие государства как Римская империя</a:t>
            </a:r>
            <a:r>
              <a:rPr b="0" lang="en-US" sz="2000" spc="-1" strike="noStrike">
                <a:solidFill>
                  <a:srgbClr val="003366"/>
                </a:solidFill>
                <a:latin typeface="Tahoma"/>
              </a:rPr>
              <a:t>,</a:t>
            </a:r>
            <a:r>
              <a:rPr b="0" lang="ru-RU" sz="2000" spc="-1" strike="noStrike">
                <a:solidFill>
                  <a:srgbClr val="003366"/>
                </a:solidFill>
                <a:latin typeface="Tahoma"/>
              </a:rPr>
              <a:t> Киевская Русь</a:t>
            </a:r>
            <a:r>
              <a:rPr b="0" lang="en-US" sz="2000" spc="-1" strike="noStrike">
                <a:solidFill>
                  <a:srgbClr val="003366"/>
                </a:solidFill>
                <a:latin typeface="Tahoma"/>
              </a:rPr>
              <a:t>, </a:t>
            </a:r>
            <a:r>
              <a:rPr b="0" lang="ru-RU" sz="2000" spc="-1" strike="noStrike">
                <a:solidFill>
                  <a:srgbClr val="003366"/>
                </a:solidFill>
                <a:latin typeface="Tahoma"/>
              </a:rPr>
              <a:t>Персия</a:t>
            </a:r>
            <a:r>
              <a:rPr b="0" lang="en-US" sz="2000" spc="-1" strike="noStrike">
                <a:solidFill>
                  <a:srgbClr val="003366"/>
                </a:solidFill>
                <a:latin typeface="Tahoma"/>
              </a:rPr>
              <a:t>,</a:t>
            </a:r>
            <a:r>
              <a:rPr b="0" lang="ru-RU" sz="2000" spc="-1" strike="noStrike">
                <a:solidFill>
                  <a:srgbClr val="003366"/>
                </a:solidFill>
                <a:latin typeface="Tahoma"/>
              </a:rPr>
              <a:t> Китай</a:t>
            </a:r>
            <a:r>
              <a:rPr b="0" lang="en-US" sz="2000" spc="-1" strike="noStrike">
                <a:solidFill>
                  <a:srgbClr val="003366"/>
                </a:solidFill>
                <a:latin typeface="Tahoma"/>
              </a:rPr>
              <a:t>,</a:t>
            </a:r>
            <a:r>
              <a:rPr b="0" lang="ru-RU" sz="2000" spc="-1" strike="noStrike">
                <a:solidFill>
                  <a:srgbClr val="003366"/>
                </a:solidFill>
                <a:latin typeface="Tahoma"/>
              </a:rPr>
              <a:t> Англия</a:t>
            </a:r>
            <a:r>
              <a:rPr b="0" lang="en-US" sz="2000" spc="-1" strike="noStrike">
                <a:solidFill>
                  <a:srgbClr val="003366"/>
                </a:solidFill>
                <a:latin typeface="Tahoma"/>
              </a:rPr>
              <a:t>,</a:t>
            </a:r>
            <a:r>
              <a:rPr b="0" lang="ru-RU" sz="2000" spc="-1" strike="noStrike">
                <a:solidFill>
                  <a:srgbClr val="003366"/>
                </a:solidFill>
                <a:latin typeface="Tahoma"/>
              </a:rPr>
              <a:t> Испания</a:t>
            </a:r>
            <a:r>
              <a:rPr b="0" lang="en-US" sz="2000" spc="-1" strike="noStrike">
                <a:solidFill>
                  <a:srgbClr val="003366"/>
                </a:solidFill>
                <a:latin typeface="Tahoma"/>
              </a:rPr>
              <a:t>, </a:t>
            </a:r>
            <a:r>
              <a:rPr b="0" lang="ru-RU" sz="2000" spc="-1" strike="noStrike">
                <a:solidFill>
                  <a:srgbClr val="003366"/>
                </a:solidFill>
                <a:latin typeface="Tahoma"/>
              </a:rPr>
              <a:t>Византия и другие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8" name="Picture 5" descr=""/>
          <p:cNvPicPr/>
          <p:nvPr/>
        </p:nvPicPr>
        <p:blipFill>
          <a:blip r:embed="rId1"/>
          <a:stretch/>
        </p:blipFill>
        <p:spPr>
          <a:xfrm>
            <a:off x="4648320" y="252396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Новый этап</a:t>
            </a:r>
            <a:br>
              <a:rPr sz="4000"/>
            </a:b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 (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XVI-</a:t>
            </a: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 1914-1918 века)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ahoma"/>
              </a:rPr>
              <a:t>Это время крупных колониальных захватов европейцами территорий в Америки</a:t>
            </a:r>
            <a:r>
              <a:rPr b="0" lang="en-US" sz="2000" spc="-1" strike="noStrike">
                <a:solidFill>
                  <a:srgbClr val="003366"/>
                </a:solidFill>
                <a:latin typeface="Tahoma"/>
              </a:rPr>
              <a:t>,</a:t>
            </a:r>
            <a:r>
              <a:rPr b="0" lang="ru-RU" sz="2000" spc="-1" strike="noStrike">
                <a:solidFill>
                  <a:srgbClr val="003366"/>
                </a:solidFill>
                <a:latin typeface="Tahoma"/>
              </a:rPr>
              <a:t> Азии и Африк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ahoma"/>
              </a:rPr>
              <a:t>На том этапе возникли империи- Португальская, Испанская, Голландская, Французская, Английская и др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2" name="Picture 8" descr="Картинка 210 из 68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788000" y="1989000"/>
            <a:ext cx="3997080" cy="39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Новейший </a:t>
            </a:r>
            <a:br>
              <a:rPr sz="4000"/>
            </a:b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(первая половина 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XX </a:t>
            </a: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века)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Tahoma"/>
              </a:rPr>
              <a:t>В этот период распадается  Австро- Венгрия</a:t>
            </a:r>
            <a:r>
              <a:rPr b="0" lang="en-US" sz="1800" spc="-1" strike="noStrike">
                <a:solidFill>
                  <a:srgbClr val="003366"/>
                </a:solidFill>
                <a:latin typeface="Tahoma"/>
              </a:rPr>
              <a:t>,</a:t>
            </a:r>
            <a:r>
              <a:rPr b="0" lang="ru-RU" sz="1800" spc="-1" strike="noStrike">
                <a:solidFill>
                  <a:srgbClr val="003366"/>
                </a:solidFill>
                <a:latin typeface="Tahoma"/>
              </a:rPr>
              <a:t>  Российская, Османская империя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6" name="Picture 8" descr="Картинка 3 из 3401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29280" y="2205000"/>
            <a:ext cx="2646360" cy="15843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0" descr="Картинка 6 из 34017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95280" y="3146400"/>
            <a:ext cx="5349960" cy="303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69" name="Picture 2" descr="C:\Users\User\Desktop\ПКМ\пп.jpg"/>
          <p:cNvPicPr/>
          <p:nvPr/>
        </p:nvPicPr>
        <p:blipFill>
          <a:blip r:embed="rId1"/>
          <a:stretch/>
        </p:blipFill>
        <p:spPr>
          <a:xfrm>
            <a:off x="1671480" y="1825560"/>
            <a:ext cx="580104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7T17:01:37Z</dcterms:created>
  <dc:creator>Белочка</dc:creator>
  <dc:description/>
  <dc:language>en-US</dc:language>
  <cp:lastModifiedBy>home</cp:lastModifiedBy>
  <dcterms:modified xsi:type="dcterms:W3CDTF">2024-01-26T12:13:51Z</dcterms:modified>
  <cp:revision>31</cp:revision>
  <dc:subject/>
  <dc:title>Политическая карта мира</dc:title>
</cp:coreProperties>
</file>