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8302-C361-45D1-9A72-E1DFB7A3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D9D9-0BDF-47EC-96A5-B1CE7DC2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2A8-F2E6-47F3-8D30-9ED27028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097F-6A76-471E-AEE1-ED49CD35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0E9-B4E5-4391-B52A-9A12AD06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5678-AE33-4C5E-AAD2-1CE087B6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5B6-B7F6-4AB5-9201-E48AD712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30C0-EC4D-426F-ADCE-C8FE44F9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0E2-B477-4265-A395-0B49CD0B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3E67-6D9D-45C2-B775-719685C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03A-650E-4922-977B-63363449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031-BD33-4A69-835A-AF893393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33C3-5C0E-433B-8383-95E87ECEF0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llection.edu.yar.ru/dlrstore/11ea82bb-e33e-47ed-966d-de02b146e5d8/history/source/pic/persiya_6-4_do_n_e.gif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pu.ru/files/u2/book2/history/10tema10/karti10/perva_mirov_voina_2var_files/image001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mc.komi.com/07/13/img/008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1844640"/>
            <a:ext cx="76438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литическое устройство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торические этапы формирования политической карты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веренные и несамоуправляющиеся государ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руппировки стр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ипология стран ми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овременный эта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402732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оявились новые социалистические государств в Восточной Европе, в Азии и Латинской Амери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озникновение социалистической системы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образование независимых государств в Азии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Африк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XX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веке увеличилось число стран в результате распада колониальной системы независимости добились 102 страны. После распада СССР произошли качественные изменения на политической карте мир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" name="Picture 2" descr="C:\Users\User\Desktop\Общая хар мира\Политическая карта мира  +\7180_html_m680c2698.png"/>
          <p:cNvPicPr/>
          <p:nvPr/>
        </p:nvPicPr>
        <p:blipFill>
          <a:blip r:embed="rId1"/>
          <a:stretch/>
        </p:blipFill>
        <p:spPr>
          <a:xfrm>
            <a:off x="-264960" y="-100080"/>
            <a:ext cx="9229680" cy="76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2" descr="C:\Users\User\Desktop\пп\ПКМ\л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уверенные и не самоуправляющиеся государств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уверенные государства обладают всей полнотой законодательной, исполнительной, судебной власти на своей территори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720" y="1981080"/>
            <a:ext cx="440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Ряд государственных образований являются несамоуправляющимися. Зависимыми территориями обладают 7 государств: Великобритания, Франция, Дания, США, Австралия, Новая Зеланд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6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основе политической карты мира в атласе и «визитной карточки стран» на форзаце учебника выпишите  в тетрадь: А) семь самых больших по площади стран мира, Б) 11 стран мира с численностью населения свыше 100 млн.человек, В) примеры полуостровных и островных стр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236000" y="1981080"/>
            <a:ext cx="145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2" descr="C:\Users\User\Desktop\ПКМ\по площади.jpg"/>
          <p:cNvPicPr/>
          <p:nvPr/>
        </p:nvPicPr>
        <p:blipFill>
          <a:blip r:embed="rId1"/>
          <a:stretch/>
        </p:blipFill>
        <p:spPr>
          <a:xfrm>
            <a:off x="826920" y="692280"/>
            <a:ext cx="721548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289080" y="0"/>
            <a:ext cx="94330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3" descr="C:\Users\User\Desktop\пп\ПКМ\на душу населения.jpg"/>
          <p:cNvPicPr/>
          <p:nvPr/>
        </p:nvPicPr>
        <p:blipFill>
          <a:blip r:embed="rId1"/>
          <a:stretch/>
        </p:blipFill>
        <p:spPr>
          <a:xfrm>
            <a:off x="-131760" y="-100080"/>
            <a:ext cx="927576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Практическая работа</a:t>
            </a:r>
            <a:r>
              <a:rPr b="0" lang="ru-RU" sz="2000" spc="-1" strike="noStrike">
                <a:solidFill>
                  <a:srgbClr val="e5ffff"/>
                </a:solidFill>
                <a:latin typeface="Times New Roman"/>
                <a:ea typeface="Times New Roman"/>
              </a:rPr>
              <a:t>: Ознакомление с политической картой мира. Составление тематических таблиц, характеризующих различные типы стран по уровню социально-экономического развит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кономиче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тые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их. Где они находятся? На какие группы делятся? Названия групп и стран, входящих в эти групп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вивающиеся стра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олько их. Где они находятся? На какие группы делятся? Названия групп и стран, входящих в эти групп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2" descr="C:\Users\User\Desktop\пп\ПКМ\типология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ормирование политической карты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6320" y="1828440"/>
            <a:ext cx="8250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Политическая карта мира изменяется в результате территориальных приобретений или потерь, смены экономических формации, введения нового государственного устрой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C:\Users\User\Desktop\Общая хар мира\Политическая карта мира  +\опорный конспект.jpg"/>
          <p:cNvPicPr/>
          <p:nvPr/>
        </p:nvPicPr>
        <p:blipFill>
          <a:blip r:embed="rId1"/>
          <a:stretch/>
        </p:blipFill>
        <p:spPr>
          <a:xfrm>
            <a:off x="468360" y="293760"/>
            <a:ext cx="828036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амостоятельная работа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 (</a:t>
            </a: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доклад/реферат/сообщение): Новейшие изменения на политической карте ми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литическая карта ми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000" y="1773000"/>
            <a:ext cx="8218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Страна в ее государственных границах является объектом изучения политической географ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ahoma"/>
              </a:rPr>
              <a:t>Основными этапами формирования политической карты являе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6360" y="4365720"/>
            <a:ext cx="2457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ние 1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полните таблицу: Исторические этапы формирования политической карты ми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76360" y="3645000"/>
          <a:ext cx="5904000" cy="2193840"/>
        </p:xfrm>
        <a:graphic>
          <a:graphicData uri="http://schemas.openxmlformats.org/drawingml/2006/table">
            <a:tbl>
              <a:tblPr/>
              <a:tblGrid>
                <a:gridCol w="2952720"/>
                <a:gridCol w="2951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осудар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ревний этап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(до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ка нашей эры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озникновение  и крушение первых государст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аиболее известные из них: Карфаген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ревняя Грец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ревний Рим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Древний Егип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Главным средством изменений на политической карте мира являлись войн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colosseum[1]"/>
          <p:cNvPicPr/>
          <p:nvPr/>
        </p:nvPicPr>
        <p:blipFill>
          <a:blip r:embed="rId1"/>
          <a:stretch/>
        </p:blipFill>
        <p:spPr>
          <a:xfrm>
            <a:off x="4427640" y="2060640"/>
            <a:ext cx="2087640" cy="1657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iCALS42YL"/>
          <p:cNvPicPr/>
          <p:nvPr/>
        </p:nvPicPr>
        <p:blipFill>
          <a:blip r:embed="rId2"/>
          <a:stretch/>
        </p:blipFill>
        <p:spPr>
          <a:xfrm>
            <a:off x="5796000" y="4076640"/>
            <a:ext cx="2232000" cy="172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iCA6886N9"/>
          <p:cNvPicPr/>
          <p:nvPr/>
        </p:nvPicPr>
        <p:blipFill>
          <a:blip r:embed="rId3"/>
          <a:stretch/>
        </p:blipFill>
        <p:spPr>
          <a:xfrm>
            <a:off x="6877080" y="2133720"/>
            <a:ext cx="208908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редневековый этап 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-XV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век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озникновение крупных феодальных государств в Европе и Азии. Складывался внутренний и внешний рыно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 этот период существовали такие государства как Римская импер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Киевская Русь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Перс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Китай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Англ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Испания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Византия и друг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овый этап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(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VI-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1914-1918 век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Это время крупных колониальных захватов европейцами территорий в Америки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 Азии и Афр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ahoma"/>
              </a:rPr>
              <a:t>На том этапе возникли империи- Португальская, Испанская, Голландская, Французская, Английская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8" descr="Картинка 210 из 68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989000"/>
            <a:ext cx="3997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Новейший 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(первая половина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XX 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века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В этот период распадается  Австро- Венгрия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003366"/>
                </a:solidFill>
                <a:latin typeface="Tahoma"/>
              </a:rPr>
              <a:t>  Российская, Османская импер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8" descr="Картинка 3 из 340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9280" y="2205000"/>
            <a:ext cx="2646360" cy="1584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Картинка 6 из 340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3146400"/>
            <a:ext cx="534996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2" descr="C:\Users\User\Desktop\ПКМ\пп.jpg"/>
          <p:cNvPicPr/>
          <p:nvPr/>
        </p:nvPicPr>
        <p:blipFill>
          <a:blip r:embed="rId1"/>
          <a:stretch/>
        </p:blipFill>
        <p:spPr>
          <a:xfrm>
            <a:off x="1671480" y="1825560"/>
            <a:ext cx="580104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7:01:37Z</dcterms:created>
  <dc:creator>Белочка</dc:creator>
  <dc:description/>
  <dc:language>en-US</dc:language>
  <cp:lastModifiedBy>home</cp:lastModifiedBy>
  <dcterms:modified xsi:type="dcterms:W3CDTF">2024-01-26T12:13:51Z</dcterms:modified>
  <cp:revision>31</cp:revision>
  <dc:subject/>
  <dc:title>Политическая карта мира</dc:title>
</cp:coreProperties>
</file>