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7C44-C09C-408F-9090-78F78684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768-9912-4AD8-A00E-BF5CB5C6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D39-052C-4261-8110-0D0BBFDD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1B12-CF72-4D2A-BB12-36FD82E1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C7E9-29B3-48F6-8FB5-456EB506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10EA-F0CD-4653-AF5C-F1253210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093F-6752-4BDE-A96A-E6253BD9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BA1B-C194-4076-8450-6BF29E56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6C48-76E0-48C5-8AF5-37BD4A27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92D1-2C99-47F1-959C-BFB4EAB7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1F2D-A915-4D67-B421-8D049AA2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9C99-840D-4C7E-89FE-240EB12D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3D37-5C52-41C2-BE56-131B40E8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7D70-F617-4701-AAE9-BBF9A613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D769-D531-4E07-91CD-BD75A1B7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1769-8957-4314-B09A-AAD1D608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70DF-63C3-453F-935E-9C4A5ECD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03B-8824-47A5-8FD0-A60E8B84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3DA-CC15-4D61-8C47-56E52977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D9F4-5006-465C-991B-CE7DB707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8EC1-21D3-43C0-825A-C8210558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FF82-CC51-42E5-A052-969B51BD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2D39-1E8C-41A9-AE96-A4E759E5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1BDB-B1D3-42C2-A0F3-8B03C2C6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A8AE-B031-435B-8178-F06EAE67686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118B-2AD9-4518-A662-3131AE884B9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река времени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523880" y="0"/>
            <a:ext cx="63439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0" y="6323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каком участке мы находимся? Покажи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4405320" cy="5334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723920" y="9144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ван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V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асильевич Грозный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ервый русский цар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нем русские войска присоединили к русскому царству многие зем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раньше называли правителей Московского государств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стали называть теперь? Почему же его прозвали Грозным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бор Василия Блаженного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Покровский собор)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красивый храм России. Стоит рядом с Кремлем на Красной площади. Построен 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V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ке в честь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беды над Казанским ханством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Зодчие Барма и Постник получили жестокое вознагражд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10" descr="Копия сканирование0004"/>
          <p:cNvPicPr/>
          <p:nvPr/>
        </p:nvPicPr>
        <p:blipFill>
          <a:blip r:embed="rId1"/>
          <a:stretch/>
        </p:blipFill>
        <p:spPr>
          <a:xfrm>
            <a:off x="304920" y="1752480"/>
            <a:ext cx="42894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лаговещенский собор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юда часто приходил Иван Грозный и, стоя на коленях, вспоминал имена невинно убитых им людей и пытался вымолить у Бога прощ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11" descr="сканирование000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28600" y="1447920"/>
            <a:ext cx="3922560" cy="47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9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рхангельский собор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 построен при Иване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Храм долгое время служил усыпальницей Московских правителей. Здесь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хороне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ван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IV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роз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8" descr="сканирование0002"/>
          <p:cNvPicPr/>
          <p:nvPr/>
        </p:nvPicPr>
        <p:blipFill>
          <a:blip r:embed="rId1"/>
          <a:stretch/>
        </p:blipFill>
        <p:spPr>
          <a:xfrm>
            <a:off x="0" y="17524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229320" y="624780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м известен этот собор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т тебе на свете равных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ародавняя Москва!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леском дней, вовеки славных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удешь ты всегда жива!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рад, что строил Долгорукий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среди глухих лесов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знесли любовно внуки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ше прочих город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Олег Газманов - Москва.mp3" descr=""/>
          <p:cNvPicPr/>
          <p:nvPr/>
        </p:nvPicPr>
        <p:blipFill>
          <a:blip r:embed="rId1"/>
          <a:stretch/>
        </p:blipFill>
        <p:spPr>
          <a:xfrm>
            <a:off x="80010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осква не сразу строилас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Кремль-сердце Москв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то в Москве не бывал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расоты не видал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На Москву идти- голову нест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осква- мать всем русским города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0" y="6216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ьте из слов, написанных на карточках, пословицы и объясните их смысл. Что общего в этих пословицах? О чём они? Какова же тема нашего уро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6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7"/>
          <p:cNvSpPr txBox="1"/>
          <p:nvPr/>
        </p:nvSpPr>
        <p:spPr>
          <a:xfrm>
            <a:off x="762120" y="990720"/>
            <a:ext cx="723888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СКВА</a:t>
            </a:r>
            <a:endParaRPr b="1" lang="en-US" sz="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WordArt 8"/>
          <p:cNvSpPr txBox="1"/>
          <p:nvPr/>
        </p:nvSpPr>
        <p:spPr>
          <a:xfrm>
            <a:off x="533520" y="4267080"/>
            <a:ext cx="7772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латоглавая</a:t>
            </a:r>
            <a:endParaRPr b="0" lang="en-US" sz="6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160" y="6490440"/>
            <a:ext cx="450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чему Москву называют златоглавой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i"/>
          <p:cNvPicPr/>
          <p:nvPr/>
        </p:nvPicPr>
        <p:blipFill>
          <a:blip r:embed="rId1"/>
          <a:stretch/>
        </p:blipFill>
        <p:spPr>
          <a:xfrm>
            <a:off x="762120" y="3429000"/>
            <a:ext cx="3429000" cy="2568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remlinW"/>
          <p:cNvPicPr/>
          <p:nvPr/>
        </p:nvPicPr>
        <p:blipFill>
          <a:blip r:embed="rId2"/>
          <a:stretch/>
        </p:blipFill>
        <p:spPr>
          <a:xfrm>
            <a:off x="914400" y="228600"/>
            <a:ext cx="2257560" cy="3048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i7"/>
          <p:cNvPicPr/>
          <p:nvPr/>
        </p:nvPicPr>
        <p:blipFill>
          <a:blip r:embed="rId3"/>
          <a:stretch/>
        </p:blipFill>
        <p:spPr>
          <a:xfrm>
            <a:off x="4876920" y="3429000"/>
            <a:ext cx="3352680" cy="253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Безымянный"/>
          <p:cNvPicPr/>
          <p:nvPr/>
        </p:nvPicPr>
        <p:blipFill>
          <a:blip r:embed="rId4"/>
          <a:stretch/>
        </p:blipFill>
        <p:spPr>
          <a:xfrm>
            <a:off x="4419720" y="0"/>
            <a:ext cx="4038480" cy="32511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0" y="5941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е самое красивое сооружение было построено уже через 9 лет после основания Москвы?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чему его называют «сердцем Москвы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X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. Кремль был сложен из </a:t>
            </a:r>
            <a:r>
              <a:rPr b="1" lang="ru-RU" sz="2800" spc="-1" strike="noStrike">
                <a:solidFill>
                  <a:srgbClr val="c1ff83"/>
                </a:solidFill>
                <a:latin typeface="Arial"/>
              </a:rPr>
              <a:t>сосновых</a:t>
            </a:r>
            <a:r>
              <a:rPr b="0" lang="ru-RU" sz="2800" spc="-1" strike="noStrike">
                <a:solidFill>
                  <a:srgbClr val="c1ff8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рев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чале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IV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. стены построили из </a:t>
            </a:r>
            <a:r>
              <a:rPr b="1" lang="ru-RU" sz="2800" spc="-1" strike="noStrike">
                <a:solidFill>
                  <a:srgbClr val="c1ff83"/>
                </a:solidFill>
                <a:latin typeface="Arial"/>
              </a:rPr>
              <a:t>дуба.</a:t>
            </a:r>
            <a:r>
              <a:rPr b="0" lang="ru-RU" sz="2800" spc="-1" strike="noStrike">
                <a:solidFill>
                  <a:srgbClr val="c1ff8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онце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XIV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. деревянные стены заменили </a:t>
            </a:r>
            <a:r>
              <a:rPr b="1" lang="ru-RU" sz="2800" spc="-1" strike="noStrike">
                <a:solidFill>
                  <a:srgbClr val="c1ff83"/>
                </a:solidFill>
                <a:latin typeface="Arial"/>
              </a:rPr>
              <a:t>белокаменным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троительство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осковского Кремля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12" name="Picture 11" descr="p5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968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231120" y="5790960"/>
            <a:ext cx="571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м был Кремль в XII век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изменился Кремль вначале XIV века? Почему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изменился Кремль в конце XIV ве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724280" y="9144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ены из красного кирпича возведены в конце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V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. по велению Ивана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емль со времен Московского государ- ства является центром столицы Росс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9" descr="KremlinW"/>
          <p:cNvPicPr/>
          <p:nvPr/>
        </p:nvPicPr>
        <p:blipFill>
          <a:blip r:embed="rId1"/>
          <a:stretch/>
        </p:blipFill>
        <p:spPr>
          <a:xfrm>
            <a:off x="457200" y="762120"/>
            <a:ext cx="3697200" cy="4991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0" y="6323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вы думаете, почему Кремль столько раз перестраивали и украшал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сканирование000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28600" y="914400"/>
            <a:ext cx="4095720" cy="5638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Копия сканирование0002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572000" y="990720"/>
            <a:ext cx="4199040" cy="55623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борная площад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613080" y="649044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чему она так называется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звон колоколов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42208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локольня Иван Великий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е времена- самое высокое здание Москвы. Колокола звонили по самым главным праздник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2" descr="Копия сканирование0001"/>
          <p:cNvPicPr/>
          <p:nvPr/>
        </p:nvPicPr>
        <p:blipFill>
          <a:blip r:embed="rId1"/>
          <a:stretch/>
        </p:blipFill>
        <p:spPr>
          <a:xfrm>
            <a:off x="762120" y="1295280"/>
            <a:ext cx="354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спенский</a:t>
            </a:r>
            <a:r>
              <a:rPr b="0" lang="ru-RU" sz="4000" spc="-1" strike="noStrike">
                <a:solidFill>
                  <a:srgbClr val="c1ff8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бор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26" name="Picture 21" descr="Копия сканирование0003"/>
          <p:cNvPicPr/>
          <p:nvPr/>
        </p:nvPicPr>
        <p:blipFill>
          <a:blip r:embed="rId1"/>
          <a:stretch/>
        </p:blipFill>
        <p:spPr>
          <a:xfrm>
            <a:off x="228600" y="1143000"/>
            <a:ext cx="2584440" cy="3581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14240" y="838080"/>
            <a:ext cx="6629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ff83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пенский собор был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авным собором Москв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ем венчался на царство внук Ивана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ван Васильевич Грозны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5" descr="_5001-n"/>
          <p:cNvPicPr/>
          <p:nvPr/>
        </p:nvPicPr>
        <p:blipFill>
          <a:blip r:embed="rId2"/>
          <a:stretch/>
        </p:blipFill>
        <p:spPr>
          <a:xfrm>
            <a:off x="3276720" y="3809880"/>
            <a:ext cx="190476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_5002-n"/>
          <p:cNvPicPr/>
          <p:nvPr/>
        </p:nvPicPr>
        <p:blipFill>
          <a:blip r:embed="rId3"/>
          <a:stretch/>
        </p:blipFill>
        <p:spPr>
          <a:xfrm>
            <a:off x="6095880" y="3809880"/>
            <a:ext cx="1919520" cy="20574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3240" y="5941800"/>
            <a:ext cx="532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е событие произошло в Успенском собор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вы понимаете слово “венчался”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е ещё у царя символы власт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entina</dc:creator>
  <dc:description/>
  <dc:language>en-US</dc:language>
  <cp:lastModifiedBy>Valentina</cp:lastModifiedBy>
  <dcterms:modified xsi:type="dcterms:W3CDTF">2013-04-18T09:31:14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