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DE46-34A6-4EFE-A818-6E6ABA13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967-5FE6-4CED-873E-A0C7E189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422-3CF8-4179-9617-EACF3047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ED1A-18F1-433F-8BC0-BCE1998E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C6D8-CB73-4E90-AE30-8EB3DD5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F413-BDD4-4FE0-979B-438D6F21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0D3C-BC27-4E40-92A2-3C5A4B44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0694-AA07-4847-9FA1-93FBEC66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D43D-A6F6-4CB0-8C16-64391A59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9F90-3522-4670-AC71-19C4C5EC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8BF-EA2F-4DC7-947D-7A2C2F0B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4AA-170B-4564-9152-2F5B2F8B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26A5-D256-40D4-8727-F8F6F487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3DFA-CA2B-43C5-9CB5-24F937FF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556D-7EFF-467B-B048-285D1CD1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B669-6110-45A5-9360-44BD8392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07FE-7FEF-406A-8FA4-05813B29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FC0-A98C-4554-ABD8-76FC25D3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448-7602-4A69-A023-7D949452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3FF-8F27-4DE2-8363-82D6D042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2ED-E1B3-4EE5-AF0C-457ACAA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D2B-9D1B-490F-9F96-67CA8EAA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A7E7-92D3-4E53-8B7B-9CD3367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8DDE-D07B-40C8-B5AF-DC79038C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DC1D-BECD-4952-9921-471AA15F1C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3300"/>
                </a:gs>
                <a:gs pos="100000">
                  <a:srgbClr val="008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5000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3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c0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1ff83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EE7F-E72E-409B-B4F5-0362C7DE955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река времени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0" y="63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каком участке мы находимся? Покажи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4405320" cy="5334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723920" y="914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ван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асильевич Грозный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вый русский царь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нем русские войска присоединили к русскому царству многие зем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раньше называли правителей Московского государств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стали называть теперь? Почему же его прозвали Грозным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ор Василия Блаженного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Покровский собор)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ый красивый храм России. Стоит рядом с Кремлем на Красной площади. Построен 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е в чест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беды над Казанским ханств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Зодчие Барма и Постник получили жестокое вознагражд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0" descr="Копия сканирование0004"/>
          <p:cNvPicPr/>
          <p:nvPr/>
        </p:nvPicPr>
        <p:blipFill>
          <a:blip r:embed="rId1"/>
          <a:stretch/>
        </p:blipFill>
        <p:spPr>
          <a:xfrm>
            <a:off x="304920" y="1752480"/>
            <a:ext cx="4289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лаговещенский соб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юда часто приходил Иван Грозный и, стоя на коленях, вспоминал имена невинно убитых им людей и пытался вымолить у Бога прощ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1" descr="сканирование00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1447920"/>
            <a:ext cx="392256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9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хангельский собор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ыл построен при Иван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Храм долгое время служил усыпальницей Московских правителей. Здес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хоронен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V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Гроз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8" descr="сканирование0002"/>
          <p:cNvPicPr/>
          <p:nvPr/>
        </p:nvPicPr>
        <p:blipFill>
          <a:blip r:embed="rId1"/>
          <a:stretch/>
        </p:blipFill>
        <p:spPr>
          <a:xfrm>
            <a:off x="0" y="175248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229320" y="624780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м известен этот собор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ет тебе на свете равных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одавняя Москва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леском дней, вовеки славных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дешь ты всегда жива!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ад, что строил Долгорукий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среди глухих лесов,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знесли любовно внуки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ше прочих город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Олег Газманов - Москва.mp3" descr=""/>
          <p:cNvPicPr/>
          <p:nvPr/>
        </p:nvPicPr>
        <p:blipFill>
          <a:blip r:embed="rId1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сква не сразу строилась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Кремль-сердце Москвы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в Москве не бывал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расоты не видал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На Москву идти- голову нест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Москва- мать всем русским городам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6216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ьте из слов, написанных на карточках, пословицы и объясните их смысл. Что общего в этих пословицах? О чём они? Какова же тема нашего уро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6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7"/>
          <p:cNvSpPr txBox="1"/>
          <p:nvPr/>
        </p:nvSpPr>
        <p:spPr>
          <a:xfrm>
            <a:off x="762120" y="990720"/>
            <a:ext cx="723888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СКВА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533520" y="4267080"/>
            <a:ext cx="7772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латоглавая</a:t>
            </a:r>
            <a:endParaRPr b="0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60" y="6490440"/>
            <a:ext cx="450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Москву называют златоглавой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i"/>
          <p:cNvPicPr/>
          <p:nvPr/>
        </p:nvPicPr>
        <p:blipFill>
          <a:blip r:embed="rId1"/>
          <a:stretch/>
        </p:blipFill>
        <p:spPr>
          <a:xfrm>
            <a:off x="762120" y="3429000"/>
            <a:ext cx="3429000" cy="2568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remlinW"/>
          <p:cNvPicPr/>
          <p:nvPr/>
        </p:nvPicPr>
        <p:blipFill>
          <a:blip r:embed="rId2"/>
          <a:stretch/>
        </p:blipFill>
        <p:spPr>
          <a:xfrm>
            <a:off x="914400" y="228600"/>
            <a:ext cx="225756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i7"/>
          <p:cNvPicPr/>
          <p:nvPr/>
        </p:nvPicPr>
        <p:blipFill>
          <a:blip r:embed="rId3"/>
          <a:stretch/>
        </p:blipFill>
        <p:spPr>
          <a:xfrm>
            <a:off x="4876920" y="3429000"/>
            <a:ext cx="3352680" cy="253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Безымянный"/>
          <p:cNvPicPr/>
          <p:nvPr/>
        </p:nvPicPr>
        <p:blipFill>
          <a:blip r:embed="rId4"/>
          <a:stretch/>
        </p:blipFill>
        <p:spPr>
          <a:xfrm>
            <a:off x="4419720" y="0"/>
            <a:ext cx="4038480" cy="32511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6"/>
          <p:cNvSpPr/>
          <p:nvPr/>
        </p:nvSpPr>
        <p:spPr>
          <a:xfrm>
            <a:off x="0" y="5941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самое красивое сооружение было построено уже через 9 лет после основания Москвы?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его называют «сердцем Москвы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X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Кремль был сложен из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сосновых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бреве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стены построили из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дуба.</a:t>
            </a: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нце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XI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деревянные стены заменили </a:t>
            </a:r>
            <a:r>
              <a:rPr b="1" lang="ru-RU" sz="2800" spc="-1" strike="noStrike">
                <a:solidFill>
                  <a:srgbClr val="c1ff83"/>
                </a:solidFill>
                <a:latin typeface="Arial"/>
              </a:rPr>
              <a:t>белокаменны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троительство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осковского Кремля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12" name="Picture 11" descr="p5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968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231120" y="5790960"/>
            <a:ext cx="571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м был Кремль в XII веке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менился Кремль вначале XIV века? Почему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изменился Кремль в конце XIV век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724280" y="914400"/>
            <a:ext cx="426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ены из красного кирпича возведены в конце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. по велению Иван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емль со времен Московского государ- ства является центром столицы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KremlinW"/>
          <p:cNvPicPr/>
          <p:nvPr/>
        </p:nvPicPr>
        <p:blipFill>
          <a:blip r:embed="rId1"/>
          <a:stretch/>
        </p:blipFill>
        <p:spPr>
          <a:xfrm>
            <a:off x="457200" y="762120"/>
            <a:ext cx="3697200" cy="4991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0" y="6323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 думаете, почему Кремль столько раз перестраивали и украшали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канирование000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28600" y="914400"/>
            <a:ext cx="4095720" cy="563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Копия сканирование0002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572000" y="990720"/>
            <a:ext cx="4199040" cy="5562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борная площадь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13080" y="649044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она так называетс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звон колоколов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142208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локольня Иван Великий</a:t>
            </a:r>
            <a:endParaRPr b="0" lang="en-US" sz="4400" spc="-1" strike="noStrike">
              <a:solidFill>
                <a:srgbClr val="c0c0c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е времена- самое высокое здание Москвы. Колокола звонили по самым главным празд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2" descr="Копия сканирование0001"/>
          <p:cNvPicPr/>
          <p:nvPr/>
        </p:nvPicPr>
        <p:blipFill>
          <a:blip r:embed="rId1"/>
          <a:stretch/>
        </p:blipFill>
        <p:spPr>
          <a:xfrm>
            <a:off x="762120" y="1295280"/>
            <a:ext cx="354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спенский</a:t>
            </a:r>
            <a:r>
              <a:rPr b="0" lang="ru-RU" sz="4000" spc="-1" strike="noStrike">
                <a:solidFill>
                  <a:srgbClr val="c1ff8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бор</a:t>
            </a:r>
            <a:endParaRPr b="0" lang="en-US" sz="4000" spc="-1" strike="noStrike">
              <a:solidFill>
                <a:srgbClr val="c0c0c0"/>
              </a:solidFill>
              <a:latin typeface="Arial"/>
            </a:endParaRPr>
          </a:p>
        </p:txBody>
      </p:sp>
      <p:pic>
        <p:nvPicPr>
          <p:cNvPr id="126" name="Picture 21" descr="Копия сканирование0003"/>
          <p:cNvPicPr/>
          <p:nvPr/>
        </p:nvPicPr>
        <p:blipFill>
          <a:blip r:embed="rId1"/>
          <a:stretch/>
        </p:blipFill>
        <p:spPr>
          <a:xfrm>
            <a:off x="228600" y="1143000"/>
            <a:ext cx="2584440" cy="3581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14240" y="838080"/>
            <a:ext cx="6629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ff83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спенский собор был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лавным собором Москв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нем венчался на царство внук Ивана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ван Васильевич Грозны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5" descr="_5001-n"/>
          <p:cNvPicPr/>
          <p:nvPr/>
        </p:nvPicPr>
        <p:blipFill>
          <a:blip r:embed="rId2"/>
          <a:stretch/>
        </p:blipFill>
        <p:spPr>
          <a:xfrm>
            <a:off x="3276720" y="3809880"/>
            <a:ext cx="1904760" cy="2057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6" descr="_5002-n"/>
          <p:cNvPicPr/>
          <p:nvPr/>
        </p:nvPicPr>
        <p:blipFill>
          <a:blip r:embed="rId3"/>
          <a:stretch/>
        </p:blipFill>
        <p:spPr>
          <a:xfrm>
            <a:off x="6095880" y="3809880"/>
            <a:ext cx="1919520" cy="20574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3240" y="5941800"/>
            <a:ext cx="532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ое событие произошло в Успенском собор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 вы понимаете слово “венчался”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кие ещё у царя символы вла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ntina</dc:creator>
  <dc:description/>
  <dc:language>en-US</dc:language>
  <cp:lastModifiedBy>Valentina</cp:lastModifiedBy>
  <dcterms:modified xsi:type="dcterms:W3CDTF">2013-04-18T09:31:14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