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png" ContentType="image/png"/>
  <Override PartName="/ppt/media/image66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5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42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69.png" ContentType="image/png"/>
  <Override PartName="/ppt/media/image32.png" ContentType="image/png"/>
  <Override PartName="/ppt/media/image54.png" ContentType="image/png"/>
  <Override PartName="/ppt/media/image14.jpeg" ContentType="image/jpeg"/>
  <Override PartName="/ppt/media/image18.jpeg" ContentType="image/jpeg"/>
  <Override PartName="/ppt/media/image70.png" ContentType="image/png"/>
  <Override PartName="/ppt/media/image38.jpeg" ContentType="image/jpeg"/>
  <Override PartName="/ppt/media/image21.jpeg" ContentType="image/jpeg"/>
  <Override PartName="/ppt/media/image29.png" ContentType="image/png"/>
  <Override PartName="/ppt/media/image24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20.jpeg" ContentType="image/jpeg"/>
  <Override PartName="/ppt/media/image67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16.jpeg" ContentType="image/jpeg"/>
  <Override PartName="/ppt/media/image31.png" ContentType="image/png"/>
  <Override PartName="/ppt/media/image65.jpeg" ContentType="image/jpeg"/>
  <Override PartName="/ppt/media/image23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71.png" ContentType="image/png"/>
  <Override PartName="/ppt/media/image6.jpeg" ContentType="image/jpeg"/>
  <Override PartName="/ppt/media/image8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jpeg" ContentType="image/jpeg"/>
  <Override PartName="/ppt/media/image36.jpeg" ContentType="image/jpeg"/>
  <Override PartName="/ppt/media/image40.png" ContentType="image/png"/>
  <Override PartName="/ppt/media/image41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68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62C-D18A-4E5B-B7E0-6726B2DA8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0D57-3A70-48DC-9A02-32938A48CA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1B4-9499-474F-B6E3-0CB314A0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5B0-36D4-4DB9-BCF8-C204B48E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136-354A-485F-88B0-AFF2B5C1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2AD-7EA3-4838-AFAC-511BAA28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8BF9F-CBF2-4355-AF7E-35C70748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C63D7-BDE9-42E5-B429-9B65303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872F-8AB1-4CC0-87FF-01D07B09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4314A-B8A8-4695-AE3F-72747E2F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D22A3-2F57-4862-9F7F-08352F4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98315-4429-42FF-A7FD-BB3427A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73C9E-FC3F-4BFF-A852-466F3CF3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14C-4EE8-45FE-893D-B1DAAA1E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0C95-CD22-46EC-A7CA-B563776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85F32-1B97-4051-8AC3-94A6202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85C2-8651-4AA1-9C3F-22A83C2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D0BE6-932C-45F6-963D-8E38F453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1444E-0390-4889-9258-DD4CF0E7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4970-3053-429E-AFEA-BACF24EB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A32F-3EEE-4B49-9297-28A96B3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2882-C810-48AD-8D16-14EFC18D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96C1-4D87-4CCB-B46A-2EDE834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52D4-B988-4E33-A4CB-1E60BD26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CB6-DF5D-4CAD-9191-93F2A26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31F2-A24C-4C39-BF8D-FB093DE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7B60-FC25-4B4A-8600-A64C3B2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DBDD-3897-416A-A583-289A8F9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9403-5C1D-4691-B40E-63E7336C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5247-D64D-4B71-B4CB-70DBF0F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9F8A-C73D-4CA4-B88B-4BE319AB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D47C-DADE-4C02-B4EA-AFF1D198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70AF3-C2CF-4AF3-A0C0-E1223793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0F931-8C24-498E-B726-CDBEF168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B1E07-FBDF-4AF5-A85D-86F9762A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D4D-826C-4AA9-A1F5-9AAA726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EAB46-AFDC-47AB-A286-B6DA3253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626EC-1609-41CB-A3B1-5283525A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C526D-5E55-447E-8B2B-02055B88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8D561-6341-4F04-8520-63B61B0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3A19E-BFBF-482A-A660-156B606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AD2C8-AE62-44AF-B175-003FA82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46744-7958-46C6-B723-438F323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EC8C8-08C6-4F46-90EF-D505E20E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E4E3B-B86A-434D-AE79-38FB82AA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7D4-FAE6-4903-9B73-A4328FC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6ED-41A1-4F65-A949-A3BD11B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0DF-BC44-4DA3-9392-2ACC10B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FAF-9541-4F00-A4B3-2423C7E7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D58-B80A-4F50-BE7B-78812E0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03A-6234-4C3C-AAEB-2F8C3197364C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a2b1e"/>
          </a:solidFill>
          <a:ln w="38160">
            <a:solidFill>
              <a:srgbClr val="aa2b1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87F-5978-4446-963A-ACA508C22899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D25-9CD3-4F60-A9C8-1D5C6F95FE32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7EAB-B77D-41EA-BA2E-24C028698AF6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33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25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Химические волокн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Учитель технолог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Григорьева Т.Д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Блок-схема: процесс 2"/>
          <p:cNvSpPr/>
          <p:nvPr/>
        </p:nvSpPr>
        <p:spPr>
          <a:xfrm>
            <a:off x="2143080" y="1571760"/>
            <a:ext cx="4857840" cy="57132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евесина – еловая щ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Блок-схема: процесс 3"/>
          <p:cNvSpPr/>
          <p:nvPr/>
        </p:nvSpPr>
        <p:spPr>
          <a:xfrm>
            <a:off x="2143080" y="2571840"/>
            <a:ext cx="4857840" cy="571320"/>
          </a:xfrm>
          <a:prstGeom prst="flowChart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люлоза (листы карто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Блок-схема: процесс 4"/>
          <p:cNvSpPr/>
          <p:nvPr/>
        </p:nvSpPr>
        <p:spPr>
          <a:xfrm>
            <a:off x="2000160" y="3643200"/>
            <a:ext cx="5143680" cy="714600"/>
          </a:xfrm>
          <a:prstGeom prst="flowChartProcess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готовление вискозы (жидк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Блок-схема: процесс 5"/>
          <p:cNvSpPr/>
          <p:nvPr/>
        </p:nvSpPr>
        <p:spPr>
          <a:xfrm>
            <a:off x="571680" y="5786280"/>
            <a:ext cx="8001000" cy="571680"/>
          </a:xfrm>
          <a:prstGeom prst="flowChartProcess">
            <a:avLst/>
          </a:prstGeom>
          <a:solidFill>
            <a:srgbClr val="66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Текстильная обработка волокон (вытягивание, кручение, перемотк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Блок-схема: процесс 6"/>
          <p:cNvSpPr/>
          <p:nvPr/>
        </p:nvSpPr>
        <p:spPr>
          <a:xfrm>
            <a:off x="500040" y="4714920"/>
            <a:ext cx="8143920" cy="571320"/>
          </a:xfrm>
          <a:prstGeom prst="flowChartProcess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волокон из раствора (продавливание через филье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Прямая со стрелкой 10" descr=""/>
          <p:cNvPicPr/>
          <p:nvPr/>
        </p:nvPicPr>
        <p:blipFill>
          <a:blip r:embed="rId1"/>
          <a:stretch/>
        </p:blipFill>
        <p:spPr>
          <a:xfrm>
            <a:off x="4194000" y="2041560"/>
            <a:ext cx="756000" cy="90972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ая со стрелкой 13" descr=""/>
          <p:cNvPicPr/>
          <p:nvPr/>
        </p:nvPicPr>
        <p:blipFill>
          <a:blip r:embed="rId2"/>
          <a:stretch/>
        </p:blipFill>
        <p:spPr>
          <a:xfrm>
            <a:off x="4194000" y="3041640"/>
            <a:ext cx="756000" cy="98100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ая со стрелкой 18" descr=""/>
          <p:cNvPicPr/>
          <p:nvPr/>
        </p:nvPicPr>
        <p:blipFill>
          <a:blip r:embed="rId3"/>
          <a:stretch/>
        </p:blipFill>
        <p:spPr>
          <a:xfrm>
            <a:off x="4194000" y="4254480"/>
            <a:ext cx="756000" cy="83520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ая со стрелкой 21" descr=""/>
          <p:cNvPicPr/>
          <p:nvPr/>
        </p:nvPicPr>
        <p:blipFill>
          <a:blip r:embed="rId4"/>
          <a:stretch/>
        </p:blipFill>
        <p:spPr>
          <a:xfrm>
            <a:off x="4194000" y="5181480"/>
            <a:ext cx="756000" cy="9813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3"/>
          <p:cNvSpPr/>
          <p:nvPr/>
        </p:nvSpPr>
        <p:spPr>
          <a:xfrm>
            <a:off x="114300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хема получения ткани из искусственных волок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ырье -   древесная целлюлоза (еловая щепа , опилки) и химические веществ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кань похожа на шелк, хлопок, поверхность блестящая и матовая. По прочности  уступает шелку.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мокром состоянии прочность уменьшается. Хорошо впитывает влагу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рят волокна быстро, ярким пламенем  с запахом жженой бумаг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20840" y="401760"/>
            <a:ext cx="824220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00040" y="1857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стоит из ацетилцеллюлозы, полученной из отходов древесины и хлопка. Ткани внешне похожи на натуральный шелк. Прочность в мокром состоянии  уменьшается. Плохо впитывает влагу, имеет большую упругость, горит быстро, сворачиваясь в шарик, пахнущих уксусо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566640" y="438120"/>
            <a:ext cx="8242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244" name="Блок-схема: процесс 4"/>
          <p:cNvSpPr/>
          <p:nvPr/>
        </p:nvSpPr>
        <p:spPr>
          <a:xfrm>
            <a:off x="2643120" y="1714680"/>
            <a:ext cx="378612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менный уголь, нефть, г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Блок-схема: процесс 5"/>
          <p:cNvSpPr/>
          <p:nvPr/>
        </p:nvSpPr>
        <p:spPr>
          <a:xfrm>
            <a:off x="2071800" y="2428920"/>
            <a:ext cx="492912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варительная обработка сы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Блок-схема: процесс 6"/>
          <p:cNvSpPr/>
          <p:nvPr/>
        </p:nvSpPr>
        <p:spPr>
          <a:xfrm>
            <a:off x="1285920" y="3143160"/>
            <a:ext cx="650088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готовление прядильного раствора или расп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Блок-схема: процесс 7"/>
          <p:cNvSpPr/>
          <p:nvPr/>
        </p:nvSpPr>
        <p:spPr>
          <a:xfrm>
            <a:off x="1214280" y="3786120"/>
            <a:ext cx="6643800" cy="57168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ирование нитей, жгута или волокон (продавливание через фильеры, вытягивание, термофиксация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Блок-схема: процесс 8"/>
          <p:cNvSpPr/>
          <p:nvPr/>
        </p:nvSpPr>
        <p:spPr>
          <a:xfrm>
            <a:off x="928800" y="4643280"/>
            <a:ext cx="7215120" cy="35748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Текстильная переработка, кручение, вытягивание, перемот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Блок-схема: процесс 9"/>
          <p:cNvSpPr/>
          <p:nvPr/>
        </p:nvSpPr>
        <p:spPr>
          <a:xfrm>
            <a:off x="857160" y="5357880"/>
            <a:ext cx="735804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кацкое производство, получение тк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Блок-схема: процесс 10"/>
          <p:cNvSpPr/>
          <p:nvPr/>
        </p:nvSpPr>
        <p:spPr>
          <a:xfrm>
            <a:off x="928800" y="6072120"/>
            <a:ext cx="721512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делочный проце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4157640" y="1968480"/>
            <a:ext cx="755640" cy="83520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ая со стрелкой 15" descr=""/>
          <p:cNvPicPr/>
          <p:nvPr/>
        </p:nvPicPr>
        <p:blipFill>
          <a:blip r:embed="rId3"/>
          <a:stretch/>
        </p:blipFill>
        <p:spPr>
          <a:xfrm>
            <a:off x="4157640" y="2682720"/>
            <a:ext cx="755640" cy="83520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ая со стрелкой 18" descr=""/>
          <p:cNvPicPr/>
          <p:nvPr/>
        </p:nvPicPr>
        <p:blipFill>
          <a:blip r:embed="rId4"/>
          <a:stretch/>
        </p:blipFill>
        <p:spPr>
          <a:xfrm>
            <a:off x="4157640" y="3395520"/>
            <a:ext cx="755640" cy="76212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ая со стрелкой 21" descr=""/>
          <p:cNvPicPr/>
          <p:nvPr/>
        </p:nvPicPr>
        <p:blipFill>
          <a:blip r:embed="rId5"/>
          <a:stretch/>
        </p:blipFill>
        <p:spPr>
          <a:xfrm>
            <a:off x="4157640" y="4254480"/>
            <a:ext cx="75564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ая со стрелкой 24" descr=""/>
          <p:cNvPicPr/>
          <p:nvPr/>
        </p:nvPicPr>
        <p:blipFill>
          <a:blip r:embed="rId6"/>
          <a:stretch/>
        </p:blipFill>
        <p:spPr>
          <a:xfrm>
            <a:off x="4157640" y="4896000"/>
            <a:ext cx="755640" cy="83484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ая со стрелкой 27" descr=""/>
          <p:cNvPicPr/>
          <p:nvPr/>
        </p:nvPicPr>
        <p:blipFill>
          <a:blip r:embed="rId7"/>
          <a:stretch/>
        </p:blipFill>
        <p:spPr>
          <a:xfrm>
            <a:off x="4157640" y="5614920"/>
            <a:ext cx="7556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57120" y="150012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Полиэстер, лавсан, кримплен, элан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ткани мягкие, гибкие, прочные, не мнутся, хорошо закрепляют форму, устойчивы к действию света, но плохо  впитывают влаг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имплен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ан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иэстер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1268280" y="382284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091040" y="3809880"/>
            <a:ext cx="74916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ая со стрелкой 13" descr=""/>
          <p:cNvPicPr/>
          <p:nvPr/>
        </p:nvPicPr>
        <p:blipFill>
          <a:blip r:embed="rId4"/>
          <a:stretch/>
        </p:blipFill>
        <p:spPr>
          <a:xfrm>
            <a:off x="6729480" y="3809880"/>
            <a:ext cx="757080" cy="8542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" descr=""/>
          <p:cNvPicPr/>
          <p:nvPr/>
        </p:nvPicPr>
        <p:blipFill>
          <a:blip r:embed="rId5"/>
          <a:stretch/>
        </p:blipFill>
        <p:spPr>
          <a:xfrm>
            <a:off x="465120" y="4508640"/>
            <a:ext cx="2498760" cy="188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Рисунок 2" descr=""/>
          <p:cNvPicPr/>
          <p:nvPr/>
        </p:nvPicPr>
        <p:blipFill>
          <a:blip r:embed="rId6"/>
          <a:stretch/>
        </p:blipFill>
        <p:spPr>
          <a:xfrm>
            <a:off x="3178080" y="4508640"/>
            <a:ext cx="257652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Рисунок 3" descr=""/>
          <p:cNvPicPr/>
          <p:nvPr/>
        </p:nvPicPr>
        <p:blipFill>
          <a:blip r:embed="rId7"/>
          <a:stretch/>
        </p:blipFill>
        <p:spPr>
          <a:xfrm>
            <a:off x="6027840" y="4413240"/>
            <a:ext cx="2160360" cy="207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0472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Нейлон, капрон, дедерон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самые прочные синтетические волокна.  Ткани жесткие, имеют гладкую поверхность, прочные, мало мнутся, плохо впитывают влагу и чувствительны к высоким температура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прон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деро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974880" y="-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2157480" y="3809880"/>
            <a:ext cx="757080" cy="8542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6456240" y="3803760"/>
            <a:ext cx="878040" cy="7873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" descr=""/>
          <p:cNvPicPr/>
          <p:nvPr/>
        </p:nvPicPr>
        <p:blipFill>
          <a:blip r:embed="rId4"/>
          <a:stretch/>
        </p:blipFill>
        <p:spPr>
          <a:xfrm>
            <a:off x="1117440" y="4437000"/>
            <a:ext cx="2586240" cy="1835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"/>
          <p:cNvPicPr/>
          <p:nvPr/>
        </p:nvPicPr>
        <p:blipFill>
          <a:blip r:embed="rId5"/>
          <a:stretch/>
        </p:blipFill>
        <p:spPr>
          <a:xfrm>
            <a:off x="5435640" y="4414680"/>
            <a:ext cx="2801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79280" y="119664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Акрил, нитрон, бамбуковый кашмилон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внешнему виду похожи на шерсть, Свойства, как у полиэфирных волокон, но чувствительны к высоким температурам: быстро плавится, приобретая коричневый цвет, затем горят коптящим пламенем, образуя твердый шарик.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Нитрон                     Кашмилон                     Акрил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38120" y="-219240"/>
            <a:ext cx="8437680" cy="123048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1560600" y="4389480"/>
            <a:ext cx="755640" cy="8413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194000" y="4462560"/>
            <a:ext cx="756000" cy="9144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7070760" y="4376880"/>
            <a:ext cx="750960" cy="853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" descr=""/>
          <p:cNvPicPr/>
          <p:nvPr/>
        </p:nvPicPr>
        <p:blipFill>
          <a:blip r:embed="rId5"/>
          <a:stretch/>
        </p:blipFill>
        <p:spPr>
          <a:xfrm>
            <a:off x="1028880" y="4968720"/>
            <a:ext cx="1942920" cy="145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7" name="Рисунок 2" descr=""/>
          <p:cNvPicPr/>
          <p:nvPr/>
        </p:nvPicPr>
        <p:blipFill>
          <a:blip r:embed="rId6"/>
          <a:stretch/>
        </p:blipFill>
        <p:spPr>
          <a:xfrm>
            <a:off x="3659040" y="5000760"/>
            <a:ext cx="1968480" cy="149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8" name="Рисунок 3" descr=""/>
          <p:cNvPicPr/>
          <p:nvPr/>
        </p:nvPicPr>
        <p:blipFill>
          <a:blip r:embed="rId7"/>
          <a:stretch/>
        </p:blipFill>
        <p:spPr>
          <a:xfrm>
            <a:off x="6210360" y="5010120"/>
            <a:ext cx="2241360" cy="147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Лайкра, дорластан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чрезвычайно эластичны, увеличивают свою длину в 7 раз, возвращаясь в первоначальное состояние, поэтому ткани носят названия «стрейч». Используются  для пошива одежды обтягивающего силуэ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Лайкра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Дорласта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1908000" y="4322880"/>
            <a:ext cx="749520" cy="9144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6692760" y="4327560"/>
            <a:ext cx="755640" cy="9097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" descr=""/>
          <p:cNvPicPr/>
          <p:nvPr/>
        </p:nvPicPr>
        <p:blipFill>
          <a:blip r:embed="rId4"/>
          <a:stretch/>
        </p:blipFill>
        <p:spPr>
          <a:xfrm>
            <a:off x="1033560" y="4948200"/>
            <a:ext cx="2504880" cy="15271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"/>
          <p:cNvPicPr/>
          <p:nvPr/>
        </p:nvPicPr>
        <p:blipFill>
          <a:blip r:embed="rId5"/>
          <a:stretch/>
        </p:blipFill>
        <p:spPr>
          <a:xfrm>
            <a:off x="5435640" y="4857840"/>
            <a:ext cx="28814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964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нт № 1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677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нт №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1087560" y="2421000"/>
            <a:ext cx="7003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28760" y="1857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овторить классификацию текстильных волокон и дополнить знания учащихся  по теме « Классификация волокон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знакомить учащихся с  процессом получения химических волокон и их свойствами.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учить использовать свойства волокон при изготовлении издел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азвивать логическое мышление, умение сравнивать, обобщать, делать  вывод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ывать практич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нт № 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7093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560520" y="36360"/>
            <a:ext cx="8285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539640" y="1628640"/>
          <a:ext cx="3672000" cy="4824720"/>
        </p:xfrm>
        <a:graphic>
          <a:graphicData uri="http://schemas.openxmlformats.org/drawingml/2006/table">
            <a:tbl>
              <a:tblPr/>
              <a:tblGrid>
                <a:gridCol w="1835280"/>
                <a:gridCol w="1836720"/>
              </a:tblGrid>
              <a:tr h="90504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скусственные ткани: вискоза, ацетатный шелк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ожительные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рицательные 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03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ют красивый  внешний в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вержены электр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орошо драпиру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пропускают возду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ло смина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 влажном состоянии теряют про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356000" y="1627200"/>
          <a:ext cx="4392720" cy="4848120"/>
        </p:xfrm>
        <a:graphic>
          <a:graphicData uri="http://schemas.openxmlformats.org/drawingml/2006/table">
            <a:tbl>
              <a:tblPr/>
              <a:tblGrid>
                <a:gridCol w="2087640"/>
                <a:gridCol w="2305080"/>
              </a:tblGrid>
              <a:tr h="560520">
                <a:tc gridSpan="2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нтетические ткани:  кримплен, капрон, акрил, эласта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ожительные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рицательные 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01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ые проч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ниженная гигроскоп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4132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сокая упруг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здухопроницае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952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орошие теплозащитные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сокая электризуе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4640">
                <a:tc>
                  <a:txBody>
                    <a:bodyPr lIns="26640" rIns="26640" tIns="26640" bIns="26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ойкость к действию химических веществ и микроорганизм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26640" rIns="26640" tIns="26640" bIns="26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C:\Users\Проспект\Pictures\0026-026-Fizkultminutka.jpg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Users\Проспект\Pictures\img13.jpg"/>
          <p:cNvPicPr/>
          <p:nvPr/>
        </p:nvPicPr>
        <p:blipFill>
          <a:blip r:embed="rId2"/>
          <a:stretch/>
        </p:blipFill>
        <p:spPr>
          <a:xfrm>
            <a:off x="522360" y="1523880"/>
            <a:ext cx="809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8" descr=""/>
          <p:cNvPicPr/>
          <p:nvPr/>
        </p:nvPicPr>
        <p:blipFill>
          <a:blip r:embed="rId2"/>
          <a:stretch/>
        </p:blipFill>
        <p:spPr>
          <a:xfrm>
            <a:off x="5651640" y="4438800"/>
            <a:ext cx="2795400" cy="16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2" name="Рисунок 5" descr=""/>
          <p:cNvPicPr/>
          <p:nvPr/>
        </p:nvPicPr>
        <p:blipFill>
          <a:blip r:embed="rId3"/>
          <a:stretch/>
        </p:blipFill>
        <p:spPr>
          <a:xfrm>
            <a:off x="3419640" y="1542960"/>
            <a:ext cx="2516040" cy="2637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3" name="Рисунок 3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2465280" cy="246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71680" y="1857240"/>
            <a:ext cx="8229600" cy="4572000"/>
          </a:xfrm>
          <a:prstGeom prst="rect">
            <a:avLst/>
          </a:prstGeom>
          <a:noFill/>
          <a:ln w="9360">
            <a:solidFill>
              <a:srgbClr val="fda023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 каких новых волокнах вы узнали на уроке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то является сырьем для производства искусственн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то является сырьем для производства  синтетических 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зовите основные этапы процесса производства 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чем людям потребовались новые виды 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749160" y="689040"/>
            <a:ext cx="82425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ри выборе ткани  важно  не только  обратить внимание на эстетический вид  но и на свойства ткани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нашей жизни необходимы не только натуральные ткани, но и ткани из химических волокон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Как вы уже знаете, определить вид ткани можно по ее внешнему виду, на ощупь, по  характеру горения нитей. При покупке тканей старайтесь прочитать все показания на прикрепленном к образцу ярлыке. Зная вид ткани, при шитье следует учитывать ее технологические свойства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, каким требованиям должно отвечать каждое из следующих изделий, и подберите для него ткань, оптимальную по сырьевому составу: летнее платье; шторы для окон; обивка мебели; ночное бель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4000" y="1915920"/>
            <a:ext cx="85723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исовать смайлику улыбк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отличный, интересный, заставляющий работать – улыб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нормальный, обычный – полос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скучный, бесполезный, не интересный – нарисовать опущенные уголки губ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Заголовок 2" descr=""/>
          <p:cNvPicPr/>
          <p:nvPr/>
        </p:nvPicPr>
        <p:blipFill>
          <a:blip r:embed="rId1"/>
          <a:stretch/>
        </p:blipFill>
        <p:spPr>
          <a:xfrm>
            <a:off x="281160" y="73080"/>
            <a:ext cx="82404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00040" y="121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В.Чернякова  «Технология обработки ткани» учеб. для 7-9 кл. изд. Просвещение»1999г.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.В. Павлова « Технология» 7 класс (девочки):поурочные планы по учебнику под ред. В. Д. Симоненко-Волгоград:Учитель,2009.-191с. (http://www.tek-style.ru/poliester.html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В. Червякова « Технология» 7 класс(вариант для девочек). Поурочные планы по учебнику В.Д. Симоненко в 2ч. Часть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Волгоград:Учитель-АСТ,2003.-96с.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Е .Маркуцкая. Технология в схемах, таблицах, рисунках. 5-9классы. Обслуживающий труд/С.Э. Маркуцкая.-2-е изд., стереотип. - М.: Издательство «Экзамен»,2009.-94,(2)с. (Серия «Учебно-методический комплект»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Н. Федорова, Л.Ф. Голик Занятия по обслуживающему труду в 4-8 классах:  Работа с тканью. Метод. Разработки уроков /Под ред. И.Н. Федоровой.-2-е изд., перераб. И доп. – М.: Просвящение,1981.-223с.,ил.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 Технология. Учебник для 7 класса общеобразовательной школы. Москва, Вентана Граф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ты Интернет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ek-style.ru/poliester.html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multiurok.ru/tex/files/otkrytyi-urok-khimichieskiie-volokna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20840" y="4535640"/>
            <a:ext cx="8242200" cy="1474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"/>
          <p:cNvSpPr/>
          <p:nvPr/>
        </p:nvSpPr>
        <p:spPr>
          <a:xfrm>
            <a:off x="611280" y="54608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Объект 2" descr=""/>
          <p:cNvPicPr/>
          <p:nvPr/>
        </p:nvPicPr>
        <p:blipFill>
          <a:blip r:embed="rId2"/>
          <a:stretch/>
        </p:blipFill>
        <p:spPr>
          <a:xfrm>
            <a:off x="2048040" y="689040"/>
            <a:ext cx="4687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пасибо   за   внимание!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Picture 3" descr="C:\Users\Проспект\Pictures\1.jpg"/>
          <p:cNvPicPr/>
          <p:nvPr/>
        </p:nvPicPr>
        <p:blipFill>
          <a:blip r:embed="rId1"/>
          <a:stretch/>
        </p:blipFill>
        <p:spPr>
          <a:xfrm>
            <a:off x="2411280" y="3483000"/>
            <a:ext cx="3745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225360" y="182520"/>
            <a:ext cx="841860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" descr=""/>
          <p:cNvPicPr/>
          <p:nvPr/>
        </p:nvPicPr>
        <p:blipFill>
          <a:blip r:embed="rId2"/>
          <a:stretch/>
        </p:blipFill>
        <p:spPr>
          <a:xfrm>
            <a:off x="539640" y="1522440"/>
            <a:ext cx="3238560" cy="250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Рисунок 3" descr=""/>
          <p:cNvPicPr/>
          <p:nvPr/>
        </p:nvPicPr>
        <p:blipFill>
          <a:blip r:embed="rId3"/>
          <a:stretch/>
        </p:blipFill>
        <p:spPr>
          <a:xfrm>
            <a:off x="698400" y="4357800"/>
            <a:ext cx="3144960" cy="188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7" name="Рисунок 6" descr=""/>
          <p:cNvPicPr/>
          <p:nvPr/>
        </p:nvPicPr>
        <p:blipFill>
          <a:blip r:embed="rId4"/>
          <a:stretch/>
        </p:blipFill>
        <p:spPr>
          <a:xfrm>
            <a:off x="5719680" y="4210200"/>
            <a:ext cx="3002040" cy="218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8" name="Рисунок 4" descr=""/>
          <p:cNvPicPr/>
          <p:nvPr/>
        </p:nvPicPr>
        <p:blipFill>
          <a:blip r:embed="rId5"/>
          <a:stretch/>
        </p:blipFill>
        <p:spPr>
          <a:xfrm>
            <a:off x="3276720" y="2852640"/>
            <a:ext cx="2598480" cy="208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9" name="Рисунок 5" descr=""/>
          <p:cNvPicPr/>
          <p:nvPr/>
        </p:nvPicPr>
        <p:blipFill>
          <a:blip r:embed="rId6"/>
          <a:stretch/>
        </p:blipFill>
        <p:spPr>
          <a:xfrm>
            <a:off x="5003640" y="1413000"/>
            <a:ext cx="3687840" cy="204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5"/>
          <p:cNvSpPr/>
          <p:nvPr/>
        </p:nvSpPr>
        <p:spPr>
          <a:xfrm>
            <a:off x="2714760" y="1571760"/>
            <a:ext cx="6286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временном мире все больше тканей производят из искусственного волокна. В XVII в. англичанин физик Роберт Гук высказал мысль о возможности получения искусственного волокна, и впервые  эти волокна были получены в кон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ка, но попытки их получения были намного раньше, стеклянные нити вырабатывали еще в Древнем Египте, их использовали для украшений .  В России первый завод по производству искусственного шелка был построен в 1913 году в Подмосковье (г. Мытищ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2"/>
          <a:stretch/>
        </p:blipFill>
        <p:spPr>
          <a:xfrm>
            <a:off x="777960" y="2814480"/>
            <a:ext cx="1936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194" name="Блок-схема: процесс 3"/>
          <p:cNvSpPr/>
          <p:nvPr/>
        </p:nvSpPr>
        <p:spPr>
          <a:xfrm>
            <a:off x="2857680" y="1571760"/>
            <a:ext cx="307152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имические волок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Блок-схема: процесс 6"/>
          <p:cNvSpPr/>
          <p:nvPr/>
        </p:nvSpPr>
        <p:spPr>
          <a:xfrm>
            <a:off x="357120" y="2357280"/>
            <a:ext cx="3071880" cy="50040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усств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Блок-схема: процесс 7"/>
          <p:cNvSpPr/>
          <p:nvPr/>
        </p:nvSpPr>
        <p:spPr>
          <a:xfrm>
            <a:off x="5715000" y="2357280"/>
            <a:ext cx="3071880" cy="50040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нте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Блок-схема: процесс 14"/>
          <p:cNvSpPr/>
          <p:nvPr/>
        </p:nvSpPr>
        <p:spPr>
          <a:xfrm>
            <a:off x="5357880" y="335772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эфи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Блок-схема: процесс 15"/>
          <p:cNvSpPr/>
          <p:nvPr/>
        </p:nvSpPr>
        <p:spPr>
          <a:xfrm>
            <a:off x="642960" y="571500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цета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Блок-схема: процесс 16"/>
          <p:cNvSpPr/>
          <p:nvPr/>
        </p:nvSpPr>
        <p:spPr>
          <a:xfrm>
            <a:off x="5357880" y="421488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ами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Блок-схема: процесс 17"/>
          <p:cNvSpPr/>
          <p:nvPr/>
        </p:nvSpPr>
        <p:spPr>
          <a:xfrm>
            <a:off x="5357880" y="507204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акрилонитри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Блок-схема: процесс 18"/>
          <p:cNvSpPr/>
          <p:nvPr/>
        </p:nvSpPr>
        <p:spPr>
          <a:xfrm>
            <a:off x="642960" y="357192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ско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Блок-схема: процесс 19"/>
          <p:cNvSpPr/>
          <p:nvPr/>
        </p:nvSpPr>
        <p:spPr>
          <a:xfrm>
            <a:off x="5357880" y="592920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ласта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Блок-схема: процесс 20"/>
          <p:cNvSpPr/>
          <p:nvPr/>
        </p:nvSpPr>
        <p:spPr>
          <a:xfrm>
            <a:off x="642960" y="4643280"/>
            <a:ext cx="3071880" cy="50040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дноамиа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4" name="Прямая со стрелкой 22"/>
          <p:cNvCxnSpPr>
            <a:stCxn id="194" idx="2"/>
            <a:endCxn id="195" idx="0"/>
          </p:cNvCxnSpPr>
          <p:nvPr/>
        </p:nvCxnSpPr>
        <p:spPr>
          <a:xfrm flipH="1">
            <a:off x="1891800" y="2071440"/>
            <a:ext cx="2501280" cy="28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Прямая со стрелкой 25"/>
          <p:cNvCxnSpPr>
            <a:stCxn id="194" idx="2"/>
            <a:endCxn id="196" idx="0"/>
          </p:cNvCxnSpPr>
          <p:nvPr/>
        </p:nvCxnSpPr>
        <p:spPr>
          <a:xfrm>
            <a:off x="4392720" y="2071440"/>
            <a:ext cx="2859840" cy="28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Соединительная линия уступом 31"/>
          <p:cNvCxnSpPr>
            <a:endCxn id="198" idx="1"/>
          </p:cNvCxnSpPr>
          <p:nvPr/>
        </p:nvCxnSpPr>
        <p:spPr>
          <a:xfrm flipH="1" rot="16200000">
            <a:off x="-983520" y="4340160"/>
            <a:ext cx="3108960" cy="143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Соединительная линия уступом 37"/>
          <p:cNvCxnSpPr>
            <a:endCxn id="202" idx="3"/>
          </p:cNvCxnSpPr>
          <p:nvPr/>
        </p:nvCxnSpPr>
        <p:spPr>
          <a:xfrm rot="5400000">
            <a:off x="6875640" y="4410720"/>
            <a:ext cx="3323160" cy="216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Прямая со стрелкой 40"/>
          <p:cNvCxnSpPr>
            <a:endCxn id="201" idx="1"/>
          </p:cNvCxnSpPr>
          <p:nvPr/>
        </p:nvCxnSpPr>
        <p:spPr>
          <a:xfrm flipV="1">
            <a:off x="499680" y="3822120"/>
            <a:ext cx="143640" cy="3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45"/>
          <p:cNvCxnSpPr>
            <a:endCxn id="203" idx="1"/>
          </p:cNvCxnSpPr>
          <p:nvPr/>
        </p:nvCxnSpPr>
        <p:spPr>
          <a:xfrm flipV="1">
            <a:off x="499680" y="4893480"/>
            <a:ext cx="143640" cy="3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48"/>
          <p:cNvCxnSpPr>
            <a:endCxn id="197" idx="3"/>
          </p:cNvCxnSpPr>
          <p:nvPr/>
        </p:nvCxnSpPr>
        <p:spPr>
          <a:xfrm flipH="1">
            <a:off x="8429040" y="3570840"/>
            <a:ext cx="21492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51"/>
          <p:cNvCxnSpPr>
            <a:endCxn id="199" idx="3"/>
          </p:cNvCxnSpPr>
          <p:nvPr/>
        </p:nvCxnSpPr>
        <p:spPr>
          <a:xfrm flipH="1">
            <a:off x="8429040" y="4429080"/>
            <a:ext cx="214920" cy="3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54"/>
          <p:cNvCxnSpPr>
            <a:endCxn id="200" idx="3"/>
          </p:cNvCxnSpPr>
          <p:nvPr/>
        </p:nvCxnSpPr>
        <p:spPr>
          <a:xfrm flipH="1">
            <a:off x="8429040" y="5286240"/>
            <a:ext cx="214920" cy="3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4140360" y="4616280"/>
            <a:ext cx="2365200" cy="170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"/>
          <p:cNvSpPr txBox="1"/>
          <p:nvPr/>
        </p:nvSpPr>
        <p:spPr>
          <a:xfrm>
            <a:off x="428760" y="1285920"/>
            <a:ext cx="4000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Для искусственных волокон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сырьем служит целлюлоза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торую получают из древесины ели ил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ходов хлоп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506520" y="-219240"/>
            <a:ext cx="8369280" cy="12304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4857840" y="1500120"/>
            <a:ext cx="378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Для синтетических волокон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 сырьем являются газы – продукты переработки каменного угля и неф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595600" cy="194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Рисунок 4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73528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Рисунок 3" descr=""/>
          <p:cNvPicPr/>
          <p:nvPr/>
        </p:nvPicPr>
        <p:blipFill>
          <a:blip r:embed="rId5"/>
          <a:stretch/>
        </p:blipFill>
        <p:spPr>
          <a:xfrm>
            <a:off x="2538360" y="4265640"/>
            <a:ext cx="2135160" cy="16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2080" y="-219240"/>
            <a:ext cx="8474040" cy="12304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5197320" y="292572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прядильный раство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филье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волок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5451480" y="1125360"/>
            <a:ext cx="257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филь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611280" y="4008600"/>
            <a:ext cx="3736800" cy="233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Рисунок 3" descr=""/>
          <p:cNvPicPr/>
          <p:nvPr/>
        </p:nvPicPr>
        <p:blipFill>
          <a:blip r:embed="rId3"/>
          <a:stretch/>
        </p:blipFill>
        <p:spPr>
          <a:xfrm>
            <a:off x="611280" y="1295280"/>
            <a:ext cx="4430520" cy="25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5" name="Рисунок 4" descr=""/>
          <p:cNvPicPr/>
          <p:nvPr/>
        </p:nvPicPr>
        <p:blipFill>
          <a:blip r:embed="rId4"/>
          <a:stretch/>
        </p:blipFill>
        <p:spPr>
          <a:xfrm>
            <a:off x="4734000" y="4187880"/>
            <a:ext cx="387828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6" name="Рисунок 5" descr=""/>
          <p:cNvPicPr/>
          <p:nvPr/>
        </p:nvPicPr>
        <p:blipFill>
          <a:blip r:embed="rId5"/>
          <a:stretch/>
        </p:blipFill>
        <p:spPr>
          <a:xfrm>
            <a:off x="5292720" y="1646280"/>
            <a:ext cx="30924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004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цесс производства химических волокон включает три этапа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I этап: Получение  прядильного раствора.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ля искусственного волокна: целлюлозную массу растворяют 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щелоч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ля синтетического волокна: массу получают путем химическ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акций различных вещест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II этап: Формирование волокна.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язкий раствор  продавливают через фильеры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личество отверстий в фильере – 24-36 тысяч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створ затвердевает, образуя твердые тонкие нити, эти нити соединяют в одну, вытягивают , наматывают на бобин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III этап: Отделка волокна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ити промывают, сушат, крутят, обрабатывают высокой температурой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тбеливают, крася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766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7:20:42Z</dcterms:created>
  <dc:creator>Миша</dc:creator>
  <dc:description/>
  <dc:language>en-US</dc:language>
  <cp:lastModifiedBy>Пользователь Windows</cp:lastModifiedBy>
  <dcterms:modified xsi:type="dcterms:W3CDTF">2024-01-30T11:03:44Z</dcterms:modified>
  <cp:revision>468</cp:revision>
  <dc:subject/>
  <dc:title>Искуство кондитерских изделий. Марципа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370000000000010271100207f1000400038000</vt:lpwstr>
  </property>
</Properties>
</file>