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E02-48F5-45DA-BF3A-EEF7EC85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13C-EECD-4B41-889A-68B5BAED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24B-561B-424B-92A9-31064C6E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F4B-423E-4A02-9AFA-0C032A2B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392-1C2E-4AC8-AFED-4BBA3C53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58E-6C9B-4181-ADBB-0D7D0565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2B0-E536-43D1-87CA-22E655AE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101-7888-4746-95D5-E9EF529D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0D1-0C5A-4CB4-9613-D967E19C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ACE-6487-465C-BD07-2C18151C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94A-4121-447B-88E5-657D247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ADA-9810-4637-8CCA-252C89FF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CA8D-F1F0-4B98-A47B-AD60C9E66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tra.ru/biography/get/wrid/00069601184773068665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3516" t="22657" r="29063" b="26565"/>
          <a:stretch/>
        </p:blipFill>
        <p:spPr>
          <a:xfrm>
            <a:off x="-4140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529200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ма взяла в руки то яблоко, которое я откусил, и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ёля и Минька, подойдите сюда. Кто из вас двоих откусил это яблок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ёля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Минькина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дёрнул Лёлю за косичку и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меня Лёлька науч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543420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огда я, сидя на маминых руках, закрич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обще можете все уходить, и тогда все игрушки нам остану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огда все гости стали уход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а мама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так и сделаю. С вами водиться, что в крапиву сади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150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0" y="5220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вдруг в комнату вошёл па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е воспитание губит моих детей. Я не хочу, чтобы они дрались, ссорились и выгоняли гостей. Им будет трудно жить на свете, и они умрут в одиноче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апа подошёл к ёлке и потушил все свечи. И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ментально ложитесь спать. А завтра все игрушки я отдам го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63640" y="610920"/>
            <a:ext cx="305460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т, мне, быть может, не удалось стать очень хорошим. Это очень трудно. Но к этому, дети, я всегда стре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710240" cy="6170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5268.jpg"/>
          <p:cNvPicPr/>
          <p:nvPr/>
        </p:nvPicPr>
        <p:blipFill>
          <a:blip r:embed="rId1"/>
          <a:stretch/>
        </p:blipFill>
        <p:spPr>
          <a:xfrm>
            <a:off x="2457360" y="-42840"/>
            <a:ext cx="3353040" cy="41878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0" y="3933720"/>
            <a:ext cx="852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Book Antiqua"/>
              </a:rPr>
              <a:t>Михаил Михайлович Зощенк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Book Antiqua"/>
              </a:rPr>
              <a:t>(1895 – 195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214280" y="285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ставка книг М.М.Зощ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1905120" cy="3029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2214720" y="1000080"/>
            <a:ext cx="1904760" cy="2924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3"/>
          <a:stretch/>
        </p:blipFill>
        <p:spPr>
          <a:xfrm>
            <a:off x="2143080" y="4000680"/>
            <a:ext cx="1905120" cy="2419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"/>
          <p:cNvPicPr/>
          <p:nvPr/>
        </p:nvPicPr>
        <p:blipFill>
          <a:blip r:embed="rId4"/>
          <a:stretch/>
        </p:blipFill>
        <p:spPr>
          <a:xfrm>
            <a:off x="6786720" y="1000080"/>
            <a:ext cx="1904760" cy="2581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"/>
          <p:cNvPicPr/>
          <p:nvPr/>
        </p:nvPicPr>
        <p:blipFill>
          <a:blip r:embed="rId5"/>
          <a:stretch/>
        </p:blipFill>
        <p:spPr>
          <a:xfrm>
            <a:off x="4357800" y="100008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6"/>
          <a:stretch/>
        </p:blipFill>
        <p:spPr>
          <a:xfrm>
            <a:off x="285840" y="428616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7"/>
          <a:stretch/>
        </p:blipFill>
        <p:spPr>
          <a:xfrm>
            <a:off x="4286160" y="432432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8"/>
          <a:stretch/>
        </p:blipFill>
        <p:spPr>
          <a:xfrm>
            <a:off x="6929280" y="3929040"/>
            <a:ext cx="187668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tra.ru/biography/get/wrid/0006960118477306866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формоза\Pictures\елка5 - копия.jpg"/>
          <p:cNvPicPr/>
          <p:nvPr/>
        </p:nvPicPr>
        <p:blipFill>
          <a:blip r:embed="rId1"/>
          <a:stretch/>
        </p:blipFill>
        <p:spPr>
          <a:xfrm>
            <a:off x="1763640" y="189000"/>
            <a:ext cx="1944720" cy="2579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формоза\Pictures\елка5.jpg"/>
          <p:cNvPicPr/>
          <p:nvPr/>
        </p:nvPicPr>
        <p:blipFill>
          <a:blip r:embed="rId2"/>
          <a:stretch/>
        </p:blipFill>
        <p:spPr>
          <a:xfrm>
            <a:off x="5796000" y="189000"/>
            <a:ext cx="194004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900000" y="2852640"/>
          <a:ext cx="7632720" cy="2859120"/>
        </p:xfrm>
        <a:graphic>
          <a:graphicData uri="http://schemas.openxmlformats.org/drawingml/2006/table">
            <a:tbl>
              <a:tblPr/>
              <a:tblGrid>
                <a:gridCol w="4017960"/>
                <a:gridCol w="3614760"/>
              </a:tblGrid>
              <a:tr h="714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ёля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инь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церемони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кс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Прямоугольник 6"/>
          <p:cNvSpPr/>
          <p:nvPr/>
        </p:nvSpPr>
        <p:spPr>
          <a:xfrm>
            <a:off x="2057040" y="36450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650560" y="36450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ило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625040" y="4149720"/>
            <a:ext cx="277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, длинновяз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5010120" y="4076640"/>
            <a:ext cx="25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1042920" y="472428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о бойкая, смел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6232680" y="47242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fsd.multiurok.ru/html/2017/01/11/s_58768bf89aa54/img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s00.yaplakal.com/pics/pics_original/1/6/5/5821561.jpg"/>
          <p:cNvPicPr/>
          <p:nvPr/>
        </p:nvPicPr>
        <p:blipFill>
          <a:blip r:embed="rId2"/>
          <a:stretch/>
        </p:blipFill>
        <p:spPr>
          <a:xfrm>
            <a:off x="179280" y="285840"/>
            <a:ext cx="857268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 flipV="1" rot="10800000">
            <a:off x="0" y="5707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сестрёнкой Лёлей вошли в комнату. И видим: очень красивая ёлка. А под ёлкой лежат подарки. А на ёлке разноцветные бусы, флаги, фонарики, золотые орехи, пастилки и крымские яб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rjgbz_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800" y="320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859760" y="32040"/>
            <a:ext cx="29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4349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я сестрёнка Лёля говор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будем глядеть подарки. А вместо того давай лучше съедим по одной пастил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вот она подходит к ёлке и моментально съедает одну пастилку, висящую на нит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говор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ёля, если ты съела пастилку, то я тоже сейчас что-нибудь съ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я подхожу к ёлке и откусываю маленький кусочек ябл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01:17Z</dcterms:created>
  <dc:creator>Luser</dc:creator>
  <dc:description/>
  <dc:language>en-US</dc:language>
  <cp:lastModifiedBy>User</cp:lastModifiedBy>
  <dcterms:modified xsi:type="dcterms:W3CDTF">2024-01-09T09:47:03Z</dcterms:modified>
  <cp:revision>103</cp:revision>
  <dc:subject/>
  <dc:title>Слайд 1</dc:title>
</cp:coreProperties>
</file>