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7AB-9161-4F8F-A5B9-BEE490B3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4F0-0BEC-4A3B-943A-BC6FE4CF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B48-89C8-4297-9A45-6F214584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484-4BF3-4C10-92FF-CA9CE102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73AC-F695-4FB5-858C-A5825739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92B-42B0-47C5-80FB-E41CF44F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F09F-9632-4DE5-B857-17DD6409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1949-470F-49F0-A124-AF4BE4E1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9E4-5860-4BF4-B2C1-3F5D44A7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850-60F4-4B11-A4DF-0BC0B80F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338A-F26E-4C62-B05A-E9F0F883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66E8-BEB3-476B-A2BC-2F695C5B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3D5A-764A-4B13-A375-647BFA656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tra.ru/biography/get/wrid/00069601184773068665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rcRect l="13516" t="22657" r="29063" b="26565"/>
          <a:stretch/>
        </p:blipFill>
        <p:spPr>
          <a:xfrm>
            <a:off x="-4140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0" y="529200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ама взяла в руки то яблоко, которое я откусил, и сказ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ёля и Минька, подойдите сюда. Кто из вас двоих откусил это яблок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ёля сказ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Минькина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дёрнул Лёлю за косичку и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меня Лёлька науч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0" y="5434200"/>
            <a:ext cx="914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тогда я, сидя на маминых руках, закрич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ообще можете все уходить, и тогда все игрушки нам остану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тогда все гости стали уход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та мама сказа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так и сделаю. С вами водиться, что в крапиву садить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-785880"/>
            <a:ext cx="9144000" cy="7150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0" y="52207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о вдруг в комнату вошёл пап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ое воспитание губит моих детей. Я не хочу, чтобы они дрались, ссорились и выгоняли гостей. Им будет трудно жить на свете, и они умрут в одиночеств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папа подошёл к ёлке и потушил все свечи. И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ментально ложитесь спать. А завтра все игрушки я отдам гостя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63640" y="610920"/>
            <a:ext cx="305460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ет, мне, быть может, не удалось стать очень хорошим. Это очень трудно. Но к этому, дети, я всегда стрем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4710240" cy="6170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5268.jpg"/>
          <p:cNvPicPr/>
          <p:nvPr/>
        </p:nvPicPr>
        <p:blipFill>
          <a:blip r:embed="rId1"/>
          <a:stretch/>
        </p:blipFill>
        <p:spPr>
          <a:xfrm>
            <a:off x="2457360" y="-42840"/>
            <a:ext cx="3353040" cy="418788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2"/>
          <p:cNvSpPr/>
          <p:nvPr/>
        </p:nvSpPr>
        <p:spPr>
          <a:xfrm>
            <a:off x="0" y="3933720"/>
            <a:ext cx="8526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Book Antiqua"/>
              </a:rPr>
              <a:t>Михаил Михайлович Зощенк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Book Antiqua"/>
              </a:rPr>
              <a:t>(1895 – 195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214280" y="285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ставка книг М.М.Зощен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42920" y="1000080"/>
            <a:ext cx="1905120" cy="30290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2"/>
          <a:stretch/>
        </p:blipFill>
        <p:spPr>
          <a:xfrm>
            <a:off x="2214720" y="1000080"/>
            <a:ext cx="1904760" cy="29242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"/>
          <p:cNvPicPr/>
          <p:nvPr/>
        </p:nvPicPr>
        <p:blipFill>
          <a:blip r:embed="rId3"/>
          <a:stretch/>
        </p:blipFill>
        <p:spPr>
          <a:xfrm>
            <a:off x="2143080" y="4000680"/>
            <a:ext cx="1905120" cy="24192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"/>
          <p:cNvPicPr/>
          <p:nvPr/>
        </p:nvPicPr>
        <p:blipFill>
          <a:blip r:embed="rId4"/>
          <a:stretch/>
        </p:blipFill>
        <p:spPr>
          <a:xfrm>
            <a:off x="6786720" y="1000080"/>
            <a:ext cx="1904760" cy="25812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" descr=""/>
          <p:cNvPicPr/>
          <p:nvPr/>
        </p:nvPicPr>
        <p:blipFill>
          <a:blip r:embed="rId5"/>
          <a:stretch/>
        </p:blipFill>
        <p:spPr>
          <a:xfrm>
            <a:off x="4357800" y="1000080"/>
            <a:ext cx="209556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10" descr=""/>
          <p:cNvPicPr/>
          <p:nvPr/>
        </p:nvPicPr>
        <p:blipFill>
          <a:blip r:embed="rId6"/>
          <a:stretch/>
        </p:blipFill>
        <p:spPr>
          <a:xfrm>
            <a:off x="285840" y="4286160"/>
            <a:ext cx="1500120" cy="2143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7"/>
          <a:stretch/>
        </p:blipFill>
        <p:spPr>
          <a:xfrm>
            <a:off x="4286160" y="432432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8"/>
          <a:stretch/>
        </p:blipFill>
        <p:spPr>
          <a:xfrm>
            <a:off x="6929280" y="3929040"/>
            <a:ext cx="1876680" cy="2695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286000" y="3105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tra.ru/biography/get/wrid/00069601184773068665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формоза\Pictures\елка5 - копия.jpg"/>
          <p:cNvPicPr/>
          <p:nvPr/>
        </p:nvPicPr>
        <p:blipFill>
          <a:blip r:embed="rId1"/>
          <a:stretch/>
        </p:blipFill>
        <p:spPr>
          <a:xfrm>
            <a:off x="1763640" y="189000"/>
            <a:ext cx="1944720" cy="2579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формоза\Pictures\елка5.jpg"/>
          <p:cNvPicPr/>
          <p:nvPr/>
        </p:nvPicPr>
        <p:blipFill>
          <a:blip r:embed="rId2"/>
          <a:stretch/>
        </p:blipFill>
        <p:spPr>
          <a:xfrm>
            <a:off x="5796000" y="189000"/>
            <a:ext cx="1940040" cy="25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900000" y="2852640"/>
          <a:ext cx="7632720" cy="2859120"/>
        </p:xfrm>
        <a:graphic>
          <a:graphicData uri="http://schemas.openxmlformats.org/drawingml/2006/table">
            <a:tbl>
              <a:tblPr/>
              <a:tblGrid>
                <a:gridCol w="4017960"/>
                <a:gridCol w="3614760"/>
              </a:tblGrid>
              <a:tr h="7146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Лёля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Минь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церемони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ксив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Прямоугольник 6"/>
          <p:cNvSpPr/>
          <p:nvPr/>
        </p:nvSpPr>
        <p:spPr>
          <a:xfrm>
            <a:off x="2057040" y="3645000"/>
            <a:ext cx="14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7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7"/>
          <p:cNvSpPr/>
          <p:nvPr/>
        </p:nvSpPr>
        <p:spPr>
          <a:xfrm>
            <a:off x="5650560" y="3645000"/>
            <a:ext cx="176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арило 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8"/>
          <p:cNvSpPr/>
          <p:nvPr/>
        </p:nvSpPr>
        <p:spPr>
          <a:xfrm>
            <a:off x="1625040" y="4149720"/>
            <a:ext cx="277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, длинновяз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9"/>
          <p:cNvSpPr/>
          <p:nvPr/>
        </p:nvSpPr>
        <p:spPr>
          <a:xfrm>
            <a:off x="5010120" y="4076640"/>
            <a:ext cx="258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0"/>
          <p:cNvSpPr/>
          <p:nvPr/>
        </p:nvSpPr>
        <p:spPr>
          <a:xfrm>
            <a:off x="1042920" y="4724280"/>
            <a:ext cx="426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тельно бойкая, смел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1"/>
          <p:cNvSpPr/>
          <p:nvPr/>
        </p:nvSpPr>
        <p:spPr>
          <a:xfrm>
            <a:off x="6232680" y="47242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https://fsd.multiurok.ru/html/2017/01/11/s_58768bf89aa54/img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s://s00.yaplakal.com/pics/pics_original/1/6/5/5821561.jpg"/>
          <p:cNvPicPr/>
          <p:nvPr/>
        </p:nvPicPr>
        <p:blipFill>
          <a:blip r:embed="rId2"/>
          <a:stretch/>
        </p:blipFill>
        <p:spPr>
          <a:xfrm>
            <a:off x="179280" y="285840"/>
            <a:ext cx="857268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 flipV="1" rot="10800000">
            <a:off x="0" y="5707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 сестрёнкой Лёлей вошли в комнату. И видим: очень красивая ёлка. А под ёлкой лежат подарки. А на ёлке разноцветные бусы, флаги, фонарики, золотые орехи, пастилки и крымские ябл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rjgbz_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800" y="320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1859760" y="32040"/>
            <a:ext cx="29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434920"/>
            <a:ext cx="914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Моя сестрёнка Лёля говори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будем глядеть подарки. А вместо того давай лучше съедим по одной пастил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вот она подходит к ёлке и моментально съедает одну пастилку, висящую на нит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Я говор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Лёля, если ты съела пастилку, то я тоже сейчас что-нибудь съ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И я подхожу к ёлке и откусываю маленький кусочек ябл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7:01:17Z</dcterms:created>
  <dc:creator>Luser</dc:creator>
  <dc:description/>
  <dc:language>en-US</dc:language>
  <cp:lastModifiedBy>User</cp:lastModifiedBy>
  <dcterms:modified xsi:type="dcterms:W3CDTF">2024-01-09T09:47:03Z</dcterms:modified>
  <cp:revision>103</cp:revision>
  <dc:subject/>
  <dc:title>Слайд 1</dc:title>
</cp:coreProperties>
</file>