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26.jpeg" ContentType="image/jpeg"/>
  <Override PartName="/ppt/media/image37.jpeg" ContentType="image/jpeg"/>
  <Override PartName="/ppt/media/image3.jpeg" ContentType="image/jpeg"/>
  <Override PartName="/ppt/media/image5.jpeg" ContentType="image/jpeg"/>
  <Override PartName="/ppt/media/image61.png" ContentType="image/png"/>
  <Override PartName="/ppt/media/image59.png" ContentType="image/png"/>
  <Override PartName="/ppt/media/image24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42.jpeg" ContentType="image/jpeg"/>
  <Override PartName="/ppt/media/image19.jpeg" ContentType="image/jpeg"/>
  <Override PartName="/ppt/media/image4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63.png" ContentType="image/png"/>
  <Override PartName="/ppt/media/image17.jpeg" ContentType="image/jpeg"/>
  <Override PartName="/ppt/media/image21.jpeg" ContentType="image/jpeg"/>
  <Override PartName="/ppt/media/image65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3F3-026A-4644-9765-5CF83100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1FE-B1CC-4C77-A8BB-20F4D061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B35-FC34-4FBA-82EA-F181192F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7BC-7C14-4FB8-85D5-AE7B4BE7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CDB-4B13-4588-AA7E-F479B7C6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1FE-B49F-4318-BC1E-ED32C6C2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B1D-099D-4B11-BB9C-6D25D8EB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502-34B8-4B70-92AD-68EE2887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5FF-DF9D-4A06-A868-82ACD17E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A252-F4C1-42B2-B2FA-4B5E366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C45-135E-4EEF-A393-FC64FDE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3F63-229F-41EE-A044-CFE519BF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EE16-A45C-4710-865B-2AC962B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84C3-1F5C-48AC-A7B7-ACD7552A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8C8-2DA9-4EFB-A65F-CF9D3FF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2386-B792-4FFC-843E-4D2CDCD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350C-7020-446C-8DCE-DA123D8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5C6D-000D-47B1-957D-EA12D35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D9B-D4A8-4549-A58B-B6FB89E4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5ED8-3B73-4781-8319-60F2F753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0FE-19F5-4CE5-93E7-A8582A4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B96-38FE-4393-9472-E37435FC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6B-427D-4186-A364-82ED883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BCE-B7D2-4F4C-ACFA-FD480377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227-7204-4156-B986-819AAD1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877-5AA9-4D3F-8E77-0B28552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7BE-418B-4891-AB6C-0233627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98D6-6DB8-4E2C-AF67-05C1F6CA2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C3A-275C-47FA-BECC-02E0A0315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34520" y="290520"/>
            <a:ext cx="8116920" cy="38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Современные подходы к развитию логико-математических представлений у детей дошкольного возраста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257040" y="4511520"/>
            <a:ext cx="3143520" cy="10731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"/>
          <p:cNvSpPr/>
          <p:nvPr/>
        </p:nvSpPr>
        <p:spPr>
          <a:xfrm>
            <a:off x="4249800" y="64515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010280" y="4713120"/>
            <a:ext cx="2308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Arial"/>
                <a:ea typeface="Arial"/>
              </a:rPr>
              <a:t>Подготовил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ru-RU" sz="11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рылова Т.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7"/>
          <p:cNvGrpSpPr/>
          <p:nvPr/>
        </p:nvGrpSpPr>
        <p:grpSpPr>
          <a:xfrm>
            <a:off x="4030560" y="5470560"/>
            <a:ext cx="1036800" cy="423720"/>
            <a:chOff x="4030560" y="5470560"/>
            <a:chExt cx="1036800" cy="423720"/>
          </a:xfrm>
        </p:grpSpPr>
        <p:pic>
          <p:nvPicPr>
            <p:cNvPr id="152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4711680" y="548028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0" descr=""/>
            <p:cNvPicPr/>
            <p:nvPr/>
          </p:nvPicPr>
          <p:blipFill>
            <a:blip r:embed="rId3"/>
            <a:stretch/>
          </p:blipFill>
          <p:spPr>
            <a:xfrm>
              <a:off x="4380840" y="548244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3" descr=""/>
            <p:cNvPicPr/>
            <p:nvPr/>
          </p:nvPicPr>
          <p:blipFill>
            <a:blip r:embed="rId4"/>
            <a:stretch/>
          </p:blipFill>
          <p:spPr>
            <a:xfrm>
              <a:off x="4030560" y="547056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4" descr=""/>
            <p:cNvPicPr/>
            <p:nvPr/>
          </p:nvPicPr>
          <p:blipFill>
            <a:blip r:embed="rId5"/>
            <a:stretch/>
          </p:blipFill>
          <p:spPr>
            <a:xfrm>
              <a:off x="4527720" y="564372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5" descr=""/>
            <p:cNvPicPr/>
            <p:nvPr/>
          </p:nvPicPr>
          <p:blipFill>
            <a:blip r:embed="rId6"/>
            <a:stretch/>
          </p:blipFill>
          <p:spPr>
            <a:xfrm>
              <a:off x="4140720" y="5647680"/>
              <a:ext cx="3556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Прямоугольник 1"/>
          <p:cNvSpPr/>
          <p:nvPr/>
        </p:nvSpPr>
        <p:spPr>
          <a:xfrm>
            <a:off x="257040" y="4511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«Ум человеческий отмечается такой ненасытной восприимчивостью к познанию, что представляет собой как бы бездну…»</a:t>
            </a:r>
            <a:br>
              <a:rPr sz="1800"/>
            </a:br>
            <a:r>
              <a:rPr b="1" i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Я.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ы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эвристической технологи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уют 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когнитивные и креативные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творческие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)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ы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когнитивным методам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сят: метод вживания, метод эвристических вопросов, метод ошибок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ы вживан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«вчувствование», «вселение» ребенка в состояние изучаемого объекта, «очеловечивание» предмета посредством чувственно-образных и мысленных представлений и познание его изну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едставь себе, что ты число 5 (условная мерка, треугольник, цилиндр). Какой ты? Для чего ты существуешь? С кем дружишь? Из чего состоишь? Что тебе нравится делать?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Эвристические вопросы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позволяют ребенку получить сведения об изучаемом объе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 Кто? Что? Зачем? Где? Чем? Как? Когда?), которые дают возможность для необычного видения объ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ошибок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использование ошибок для углубления образовательного процесса. Метод помогает преодолеть негативное отношение педагога к ошибкам детей и боязнь детей совершить ошибку. (Например, когда ребенок ошибочно утверждает, что 4 меньше 3, задайте вопрос: может ли быть  на самом деле, что 4 меньше 3. Да, может, если речь идет о 4 днях и 3 неделя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151-AD7D-40AA-B4B8-ADFD5BFE71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креативным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относятся мет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думывания, гиперболизации, мозгового штурма, метод синект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придумыван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лючается в создании неизвестного ранее продукта в результате использования приемов умственного моделирования: замещение одного качества другим, отыскание свойств объекта в другой среде. Например, нарисовать город с жителями - сказочными чис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гиперболизаци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увеличение или уменьшение изучаемого объекта и его отдельных частей или качеств с целью выявления его сущности. Например, придумайте многоугольник  с самым большим количеством уг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Агглютинац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это соединение качеств, частей объектов, несоединимых в реальной жизни. Например, вершина пропасти, пустое множе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мозгового штурма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уется большой популярностью на современн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я введения мозгового штурма может возникнуть стихийно при решении какой-либо познавательной задачи, во время игры-заня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 может предложить детям выдвигать любые решения создавшейся проблемы удачные и неудачные. Идеи можно записать. (Например, как выручить бусинку из «ледяного плена» (бусинка в кубике льда)? Идеи: прорубить лед! Подержать в руках и кубик льда растае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Педагог принимает любые идеи без эмоциональной и рациональной оценки.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 выводам дети приходят</a:t>
            </a:r>
            <a:r>
              <a:rPr b="0" lang="ru-RU" sz="16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сами</a:t>
            </a:r>
            <a:r>
              <a:rPr b="0" i="1" lang="ru-RU" sz="16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анали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осле того, как будут высказаны все иде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0AC-D5B3-484C-8942-8961E95DE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Метод синектики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поиске аналогий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в работе с детьми предлагают использов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ую анало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один объект сравнивается с другим из другой области. Видом прямой аналогии является функциональная аналогия - найти в окружающем мире объект, который выполняет аналогичные функции, например, солнце и плита для приготовления пищи. При этом важно ответить на вопросы: какие функции выполняют эти объекты, что общего и что отличного  в этих функция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Аналогия по цвет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лнце - одуванчик, лампа, лимон, лиса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Личная аналогия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мение поставить себя на место другого объекта. (Например, какое отношение к себе со стороны других детей вы предпочитаете? Что бы вас беспокоило, если бы вы были дверью, числом пять, треугольником?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AAC-3F1E-42B0-9D12-F0E925960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ИНФОРМАЦИОННЫЕ ТЕХНОЛОГИИ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В настоящее время в НИИ дошкольного воспитания, в РФ, разрабатываются теоретические основы применения научных информационных технологий в воспитательно – образовательной системе ДОУ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же созданы </a:t>
            </a: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несколько серий программ для до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условно, в зависимости от педагогической направленности, делятся на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Обучающие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меют предметный характер) –математика, родной язык, музыка, содержание и ход представленных в них игр четко очер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Развивающие  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буждают детей к творческим самостоятельным играм и общению со сверстниками(дети сами ищут способы решения игровых задач, свободны в выборе сюжетов и средств для их 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Диагност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зволяют выявить уровень тех или иных умений, способностей, интерес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пределенном смысле любую  компьютерную программу можно считать развивающей. Если она способствует совершенствованию восприятия, памяти, воображения,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9D5-1884-4CE8-8E3F-A10DB2F72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ТЕХНОЛОГИЯ   ДЕЯТЕЛЬНОСТНОГО   МЕТОДА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5244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юдмила Георгиевна Петерсон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b00000"/>
                </a:solidFill>
                <a:uFillTx/>
                <a:latin typeface="Times New Roman"/>
              </a:rPr>
              <a:t>Деятельностный подход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акая организация образовательного процесса, при котором ребенок осваивает культуру не путем простой передачи информации, а в  </a:t>
            </a:r>
            <a:r>
              <a:rPr b="1" lang="ru-RU" sz="1600" spc="-1" strike="noStrike">
                <a:solidFill>
                  <a:srgbClr val="ff5050"/>
                </a:solidFill>
                <a:latin typeface="Times New Roman"/>
              </a:rPr>
              <a:t>ПРОЦЕССЕ   СОБСТВЕННОЙ 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ой основой организации работы с детьми является следующая систем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их принципов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психологической комфорт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здается образовательная среда, обеспечивающая снятие всех стрессообразующих факторов учебного процес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новое знание вводится не в готовом виде, а через самостоятельное открытие его деть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минимакса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ивается возможность продвижения каждого ребенка своим темп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целостного представления о мир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и введении нового знания раскрывается его взаимосвязь с предметами и явлениями окружающего ми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вариатив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детей формируется умение осуществлять собственный выбор, и им систематически предоставляется возможность выбо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творчеств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цесс обучения сориентирован на приобретение детьми собствен­ного опыта твор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непрерывност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иваются преемственные связи между всеми ступенями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ложенные выше принципы интегрируют современные научные взгляды об основах организации развивающего обучения и обеспечивают решение задач интеллектуального и личностного развит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F306-7AAF-4D15-A833-8892C6B25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 современных образовательных технологиях</a:t>
            </a:r>
            <a:br>
              <a:rPr sz="2000"/>
            </a:b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уществуют два способа математического развития дошкольников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080" y="1252440"/>
            <a:ext cx="855036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1 способ</a:t>
            </a:r>
            <a:r>
              <a:rPr b="0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Индуктивный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нкретных представлений к обобщениям и закономерностям. Накапливаются конкретные представления, затем они обобщаются и систематизиру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ачала дети знакомятся с геометрическими фигурами (различают, называют, сравнивают), а затем, на этой основе формируется понятие «многоугольни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 Этот способ соответствует характеру мышления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 )Дети не выходят за пределы единичных фактов и случа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граничивает их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2 способ </a:t>
            </a:r>
            <a:r>
              <a:rPr b="0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Дедуктивн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атериала идет от общих закономерностей, понятий и правил к частным, конкретным проявл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тодика формирования геометр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 А.Н. Довидч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ачале у детей формируется обобщенное пред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ногоугольниках на основе понятия «много», как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ах у которых много углов. Затем,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счета рассматриваются разн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ногоугольников (треугольники, четырехугольн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угольники и т.д.). Несмотря на сложность да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а для дошкольников, он выводит ребен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йный уровень восприятия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0E9-FCC7-494E-8732-39F2743E8A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0760" y="313920"/>
            <a:ext cx="8229600" cy="18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очетание двух способов –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аиболее оптимальный вариант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организации математического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вития дошкольников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3120" y="2443320"/>
            <a:ext cx="811368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вариантов дедуктивного способа - 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формирование у дошкольников обобщенных способов решения арифметических задач.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знакомить детей с моделью, помогающей усвоить обобщенное понятие арифметического   действия   (сложения   и   вычитания)   как   отношения части   и  целого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конструирования схемы-формулы дети делят полоску бумаги на части, отображая свои действия в схеме-формуле (модели) при помощи воспитател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е и часть сравниваются и их отношение записывается формулой с помощью знаков :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F71-9A8C-478F-9040-776ACE819A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573120" y="5416560"/>
            <a:ext cx="6059520" cy="709560"/>
            <a:chOff x="573120" y="5416560"/>
            <a:chExt cx="6059520" cy="709560"/>
          </a:xfrm>
        </p:grpSpPr>
        <p:sp>
          <p:nvSpPr>
            <p:cNvPr id="220" name="AutoShape 5"/>
            <p:cNvSpPr/>
            <p:nvPr/>
          </p:nvSpPr>
          <p:spPr>
            <a:xfrm>
              <a:off x="573120" y="5416560"/>
              <a:ext cx="6059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1199880" y="5573880"/>
              <a:ext cx="24015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3601800" y="5573880"/>
              <a:ext cx="24015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1199880" y="5810400"/>
              <a:ext cx="2401560" cy="15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3915360" y="5810400"/>
              <a:ext cx="2401560" cy="15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61680" y="895320"/>
            <a:ext cx="802476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Методы и приемы математического развития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ческом развитии у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использует разнообразные мет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–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практический метод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й как специфике математики, так и возрастным возможностям, уровню развития мышления до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DA14-1C0D-4F88-B02C-2F4B7FA14A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9840" y="1104840"/>
            <a:ext cx="83948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Особенности практического метода в развитии математических представ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разнообразных  практических действий, служащих основой для умствен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использование специального дидактическ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математических представлений как результата  практических действий с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навыков счета, измерения, вычисления и рассуждения в элементарной фор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использование математических представлений в предметной деятельности, игре, труде, т. е. в други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1F4F-CED0-433D-A503-38F6A245E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098360"/>
            <a:ext cx="853128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2 вариан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совместной математической деятельности в ДО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Первый вариант: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гр для актуализации (закреплении и применении) полученных на занятиях представлений. Она подчиняется системе занятий и связана с ней в задачах и содерж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Второй вариант 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игровая деятельность организуется как самостоятельная система, исключающая математические занятия. Система игр берет на себя всю нагрузку по формировании системы предст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3E3-9A48-4629-ADAC-5AE2670583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47760" y="116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представляет собой сложную науку, которая может вызвать определенные трудности во время школьного обучения. Поэтому при подготовке к школе важно познакомить детей   с основами логического мышления, которые используются во всех видах деятельности и являются основой математических 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 логическими операциями,  ребенок  станет  более внимательным, научится ясно и четко  мыслить, сумеет в нужный момент сконцентрироваться на сути проблемы, убедить других в своей пра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витое логическое мышление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 не природный дар. Существует большое количество исследований, подтверждающих, что развитием логического мышления можно и нужно заним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2D64-3805-4C7B-B3D6-2C3740B74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Логические блоки Дьенеша</a:t>
            </a: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975120" y="1039680"/>
            <a:ext cx="46080" cy="581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1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Line 24"/>
          <p:cNvSpPr/>
          <p:nvPr/>
        </p:nvSpPr>
        <p:spPr>
          <a:xfrm flipV="1">
            <a:off x="47520" y="1010880"/>
            <a:ext cx="909648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5"/>
          <p:cNvSpPr/>
          <p:nvPr/>
        </p:nvSpPr>
        <p:spPr>
          <a:xfrm>
            <a:off x="4156200" y="3597120"/>
            <a:ext cx="48718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С детьми старшего дошкольного возраста игры  проводятся на основе «карточек-загадок», где изображены свойства бл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Сначала дети играют с карточками, состоящими лишь из двух признаков: цвета и формы, величи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и формы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Постепенно игра усложняется - карточка увеличивается до четырех признаков, при этом один признак – отрицающ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Наибольший интерес у детей вызывает игра, когда ведущий раздает карточки рубашкой вниз, наподобие игральных ка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3979080" y="3343320"/>
            <a:ext cx="516420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607-1DAA-47BE-AD8A-8EE0023D7796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213080" y="1214280"/>
            <a:ext cx="3740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6"/>
          <p:cNvSpPr/>
          <p:nvPr/>
        </p:nvSpPr>
        <p:spPr>
          <a:xfrm>
            <a:off x="4065480" y="16351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7"/>
          <p:cNvSpPr/>
          <p:nvPr/>
        </p:nvSpPr>
        <p:spPr>
          <a:xfrm>
            <a:off x="4105440" y="287496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8"/>
          <p:cNvSpPr/>
          <p:nvPr/>
        </p:nvSpPr>
        <p:spPr>
          <a:xfrm>
            <a:off x="4067280" y="22906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303800" y="1579680"/>
            <a:ext cx="465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одолжать формировать основные приемы логического мышления: сравнени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, анализ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4321080" y="2795760"/>
            <a:ext cx="45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ммуникативных 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322880" y="2220840"/>
            <a:ext cx="46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познавательных интересов, умения рассуждать, доказыв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41"/>
          <p:cNvGrpSpPr/>
          <p:nvPr/>
        </p:nvGrpSpPr>
        <p:grpSpPr>
          <a:xfrm>
            <a:off x="420840" y="5775480"/>
            <a:ext cx="3481200" cy="866520"/>
            <a:chOff x="420840" y="5775480"/>
            <a:chExt cx="3481200" cy="866520"/>
          </a:xfrm>
        </p:grpSpPr>
        <p:pic>
          <p:nvPicPr>
            <p:cNvPr id="246" name="Рисунок 0" descr=""/>
            <p:cNvPicPr/>
            <p:nvPr/>
          </p:nvPicPr>
          <p:blipFill>
            <a:blip r:embed="rId1"/>
            <a:stretch/>
          </p:blipFill>
          <p:spPr>
            <a:xfrm>
              <a:off x="3022560" y="5775480"/>
              <a:ext cx="87948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Рисунок 79" descr=""/>
            <p:cNvPicPr/>
            <p:nvPr/>
          </p:nvPicPr>
          <p:blipFill>
            <a:blip r:embed="rId2"/>
            <a:stretch/>
          </p:blipFill>
          <p:spPr>
            <a:xfrm>
              <a:off x="420840" y="5793480"/>
              <a:ext cx="88632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5" descr=""/>
            <p:cNvPicPr/>
            <p:nvPr/>
          </p:nvPicPr>
          <p:blipFill>
            <a:blip r:embed="rId3"/>
            <a:stretch/>
          </p:blipFill>
          <p:spPr>
            <a:xfrm>
              <a:off x="2144160" y="5786280"/>
              <a:ext cx="88956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Рисунок 81" descr=""/>
            <p:cNvPicPr/>
            <p:nvPr/>
          </p:nvPicPr>
          <p:blipFill>
            <a:blip r:embed="rId4"/>
            <a:stretch/>
          </p:blipFill>
          <p:spPr>
            <a:xfrm>
              <a:off x="1303920" y="5790600"/>
              <a:ext cx="847440" cy="84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Группа 42"/>
          <p:cNvGrpSpPr/>
          <p:nvPr/>
        </p:nvGrpSpPr>
        <p:grpSpPr>
          <a:xfrm>
            <a:off x="2325600" y="3932280"/>
            <a:ext cx="1582920" cy="799920"/>
            <a:chOff x="2325600" y="3932280"/>
            <a:chExt cx="1582920" cy="799920"/>
          </a:xfrm>
        </p:grpSpPr>
        <p:pic>
          <p:nvPicPr>
            <p:cNvPr id="251" name="Picture 13" descr=""/>
            <p:cNvPicPr/>
            <p:nvPr/>
          </p:nvPicPr>
          <p:blipFill>
            <a:blip r:embed="rId5"/>
            <a:stretch/>
          </p:blipFill>
          <p:spPr>
            <a:xfrm>
              <a:off x="2325600" y="3932280"/>
              <a:ext cx="7930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Рисунок 3" descr=""/>
            <p:cNvPicPr/>
            <p:nvPr/>
          </p:nvPicPr>
          <p:blipFill>
            <a:blip r:embed="rId6"/>
            <a:stretch/>
          </p:blipFill>
          <p:spPr>
            <a:xfrm>
              <a:off x="3115440" y="3940200"/>
              <a:ext cx="79308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Группа 37"/>
          <p:cNvGrpSpPr/>
          <p:nvPr/>
        </p:nvGrpSpPr>
        <p:grpSpPr>
          <a:xfrm>
            <a:off x="1522440" y="4802040"/>
            <a:ext cx="2382840" cy="822600"/>
            <a:chOff x="1522440" y="4802040"/>
            <a:chExt cx="2382840" cy="822600"/>
          </a:xfrm>
        </p:grpSpPr>
        <p:pic>
          <p:nvPicPr>
            <p:cNvPr id="254" name="Рисунок 71" descr=""/>
            <p:cNvPicPr/>
            <p:nvPr/>
          </p:nvPicPr>
          <p:blipFill>
            <a:blip r:embed="rId7"/>
            <a:stretch/>
          </p:blipFill>
          <p:spPr>
            <a:xfrm>
              <a:off x="1522440" y="4821480"/>
              <a:ext cx="791640" cy="7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Рисунок 73" descr=""/>
            <p:cNvPicPr/>
            <p:nvPr/>
          </p:nvPicPr>
          <p:blipFill>
            <a:blip r:embed="rId8"/>
            <a:stretch/>
          </p:blipFill>
          <p:spPr>
            <a:xfrm>
              <a:off x="2310480" y="4811400"/>
              <a:ext cx="7923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Рисунок 87" descr=""/>
            <p:cNvPicPr/>
            <p:nvPr/>
          </p:nvPicPr>
          <p:blipFill>
            <a:blip r:embed="rId9"/>
            <a:stretch/>
          </p:blipFill>
          <p:spPr>
            <a:xfrm>
              <a:off x="3081600" y="4802040"/>
              <a:ext cx="823680" cy="82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Рисунок 36" descr=""/>
          <p:cNvPicPr/>
          <p:nvPr/>
        </p:nvPicPr>
        <p:blipFill>
          <a:blip r:embed="rId10"/>
          <a:stretch/>
        </p:blipFill>
        <p:spPr>
          <a:xfrm>
            <a:off x="162000" y="1149480"/>
            <a:ext cx="1743120" cy="1077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58" name="Рисунок 38" descr=""/>
          <p:cNvPicPr/>
          <p:nvPr/>
        </p:nvPicPr>
        <p:blipFill>
          <a:blip r:embed="rId11"/>
          <a:stretch/>
        </p:blipFill>
        <p:spPr>
          <a:xfrm>
            <a:off x="2320920" y="1309680"/>
            <a:ext cx="1471680" cy="2082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59" name="Line 24"/>
          <p:cNvSpPr/>
          <p:nvPr/>
        </p:nvSpPr>
        <p:spPr>
          <a:xfrm>
            <a:off x="0" y="3817800"/>
            <a:ext cx="40291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"/>
          <p:cNvPicPr/>
          <p:nvPr/>
        </p:nvPicPr>
        <p:blipFill>
          <a:blip r:embed="rId12"/>
          <a:stretch/>
        </p:blipFill>
        <p:spPr>
          <a:xfrm>
            <a:off x="343080" y="2338560"/>
            <a:ext cx="1761840" cy="1320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13"/>
          <a:stretch/>
        </p:blipFill>
        <p:spPr>
          <a:xfrm>
            <a:off x="109440" y="3881520"/>
            <a:ext cx="128592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алочки Кюизенера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975120" y="1039680"/>
            <a:ext cx="46080" cy="581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1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5" name="Line 24"/>
          <p:cNvSpPr/>
          <p:nvPr/>
        </p:nvSpPr>
        <p:spPr>
          <a:xfrm flipV="1">
            <a:off x="47520" y="1010880"/>
            <a:ext cx="909648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5"/>
          <p:cNvSpPr/>
          <p:nvPr/>
        </p:nvSpPr>
        <p:spPr>
          <a:xfrm>
            <a:off x="4105440" y="3529080"/>
            <a:ext cx="4740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Calibri"/>
              </a:rPr>
              <a:t>На начальном этапе занятий палочки   используются  как игровой  материал. Дети играют с ними, как с обычными кубиками, палочками, констру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Calibri"/>
              </a:rPr>
              <a:t>На втором этапе дети учатся выполнять задания по схемам, как индивидуально, так и 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3979080" y="3343320"/>
            <a:ext cx="516420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2267-5C29-4C7B-BDFF-DBD6C00A611E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4352760" y="1265400"/>
            <a:ext cx="3740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Arial"/>
                <a:ea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4065480" y="16351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4105440" y="287496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4076640" y="2212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321080" y="2795760"/>
            <a:ext cx="45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составом числа, прямого и обратного сч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4361040" y="2114640"/>
            <a:ext cx="46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ть знакомить с понятиями величины, ширины и высоты (упражнять в сравнении предмет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349880" y="1593720"/>
            <a:ext cx="46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ть развитие логического мышления, внимания, мелкой мотор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21" descr=""/>
          <p:cNvPicPr/>
          <p:nvPr/>
        </p:nvPicPr>
        <p:blipFill>
          <a:blip r:embed="rId1"/>
          <a:stretch/>
        </p:blipFill>
        <p:spPr>
          <a:xfrm>
            <a:off x="3009960" y="5429160"/>
            <a:ext cx="687240" cy="11336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7" name="Рисунок 22" descr=""/>
          <p:cNvPicPr/>
          <p:nvPr/>
        </p:nvPicPr>
        <p:blipFill>
          <a:blip r:embed="rId2"/>
          <a:stretch/>
        </p:blipFill>
        <p:spPr>
          <a:xfrm>
            <a:off x="1073160" y="5349960"/>
            <a:ext cx="1654200" cy="1112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8" name="Рисунок 25" descr=""/>
          <p:cNvPicPr/>
          <p:nvPr/>
        </p:nvPicPr>
        <p:blipFill>
          <a:blip r:embed="rId3"/>
          <a:stretch/>
        </p:blipFill>
        <p:spPr>
          <a:xfrm>
            <a:off x="2414520" y="1224000"/>
            <a:ext cx="1411200" cy="9540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9" name="Рисунок 30" descr=""/>
          <p:cNvPicPr/>
          <p:nvPr/>
        </p:nvPicPr>
        <p:blipFill>
          <a:blip r:embed="rId4"/>
          <a:stretch/>
        </p:blipFill>
        <p:spPr>
          <a:xfrm>
            <a:off x="297000" y="1297080"/>
            <a:ext cx="1687320" cy="1701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0" name="Рисунок 34" descr=""/>
          <p:cNvPicPr/>
          <p:nvPr/>
        </p:nvPicPr>
        <p:blipFill>
          <a:blip r:embed="rId5"/>
          <a:stretch/>
        </p:blipFill>
        <p:spPr>
          <a:xfrm>
            <a:off x="209520" y="3338640"/>
            <a:ext cx="1306440" cy="1757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1" name="Рисунок 38" descr=""/>
          <p:cNvPicPr/>
          <p:nvPr/>
        </p:nvPicPr>
        <p:blipFill>
          <a:blip r:embed="rId6"/>
          <a:stretch/>
        </p:blipFill>
        <p:spPr>
          <a:xfrm>
            <a:off x="2200320" y="2376360"/>
            <a:ext cx="1217520" cy="11494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2" name="Рисунок 40" descr=""/>
          <p:cNvPicPr/>
          <p:nvPr/>
        </p:nvPicPr>
        <p:blipFill>
          <a:blip r:embed="rId7"/>
          <a:stretch/>
        </p:blipFill>
        <p:spPr>
          <a:xfrm>
            <a:off x="1744560" y="3759120"/>
            <a:ext cx="2044800" cy="1455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20"/>
          <p:cNvSpPr/>
          <p:nvPr/>
        </p:nvSpPr>
        <p:spPr>
          <a:xfrm>
            <a:off x="6593040" y="6348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95CE-9D32-4872-991A-F9A67EF92F65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773280" y="5692680"/>
            <a:ext cx="301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лесенку в двух направлениях (подъем и спус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4332240" y="3251160"/>
            <a:ext cx="214200" cy="247680"/>
          </a:xfrm>
          <a:custGeom>
            <a:avLst/>
            <a:gdLst>
              <a:gd name="textAreaLeft" fmla="*/ 31320 w 214200"/>
              <a:gd name="textAreaRight" fmla="*/ 182880 w 21420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4300560" y="17049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428760" y="57373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4559400" y="2647800"/>
            <a:ext cx="40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овер так, чтобы все полосы в нем были разного ц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4102200" y="596880"/>
            <a:ext cx="49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Суть игр и упражнений состоит в группировке палочек  по цвету и размеру, сооружению различных постро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39" descr=""/>
          <p:cNvPicPr/>
          <p:nvPr/>
        </p:nvPicPr>
        <p:blipFill>
          <a:blip r:embed="rId1"/>
          <a:stretch/>
        </p:blipFill>
        <p:spPr>
          <a:xfrm>
            <a:off x="4622760" y="3186000"/>
            <a:ext cx="4102200" cy="2633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91" name="Рисунок 40" descr=""/>
          <p:cNvPicPr/>
          <p:nvPr/>
        </p:nvPicPr>
        <p:blipFill>
          <a:blip r:embed="rId2"/>
          <a:stretch/>
        </p:blipFill>
        <p:spPr>
          <a:xfrm>
            <a:off x="4657680" y="1701720"/>
            <a:ext cx="3971880" cy="855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92" name="Рисунок 41" descr=""/>
          <p:cNvPicPr/>
          <p:nvPr/>
        </p:nvPicPr>
        <p:blipFill>
          <a:blip r:embed="rId3"/>
          <a:stretch/>
        </p:blipFill>
        <p:spPr>
          <a:xfrm>
            <a:off x="428760" y="3186000"/>
            <a:ext cx="3530520" cy="2351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293" name="Прямоугольник 43"/>
          <p:cNvSpPr/>
          <p:nvPr/>
        </p:nvSpPr>
        <p:spPr>
          <a:xfrm>
            <a:off x="4572000" y="586116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разноцветный ковер, длина которого равна 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20" descr=""/>
          <p:cNvPicPr/>
          <p:nvPr/>
        </p:nvPicPr>
        <p:blipFill>
          <a:blip r:embed="rId4"/>
          <a:stretch/>
        </p:blipFill>
        <p:spPr>
          <a:xfrm>
            <a:off x="428760" y="584280"/>
            <a:ext cx="3530520" cy="24811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80960" y="222120"/>
            <a:ext cx="8205840" cy="100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гра по методике Воскобович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400" y="163080"/>
            <a:ext cx="82296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атематический планше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49B9-8B84-424E-B8EC-94D484B31D4A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"/>
          <p:cNvSpPr/>
          <p:nvPr/>
        </p:nvSpPr>
        <p:spPr>
          <a:xfrm flipH="1">
            <a:off x="4632480" y="1351080"/>
            <a:ext cx="63360" cy="550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-165960" y="1486080"/>
            <a:ext cx="9309240" cy="6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/>
          <p:cNvSpPr/>
          <p:nvPr/>
        </p:nvSpPr>
        <p:spPr>
          <a:xfrm>
            <a:off x="4732200" y="3281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4727520" y="2136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28" descr=""/>
          <p:cNvPicPr/>
          <p:nvPr/>
        </p:nvPicPr>
        <p:blipFill>
          <a:blip r:embed="rId1"/>
          <a:stretch/>
        </p:blipFill>
        <p:spPr>
          <a:xfrm>
            <a:off x="2392200" y="4119480"/>
            <a:ext cx="2000520" cy="2073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04" name="Прямоугольник 29"/>
          <p:cNvSpPr/>
          <p:nvPr/>
        </p:nvSpPr>
        <p:spPr>
          <a:xfrm>
            <a:off x="4952880" y="2039760"/>
            <a:ext cx="4124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материал позволяет ребенку сконструировать на плоскости множество различных 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4952880" y="3276720"/>
            <a:ext cx="40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ориентироваться на плоскости, работать по схеме, развивает логику, воображение, усидчивость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32" descr=""/>
          <p:cNvPicPr/>
          <p:nvPr/>
        </p:nvPicPr>
        <p:blipFill>
          <a:blip r:embed="rId2"/>
          <a:stretch/>
        </p:blipFill>
        <p:spPr>
          <a:xfrm>
            <a:off x="853920" y="1652760"/>
            <a:ext cx="2818080" cy="22525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07" name="Рисунок 33" descr=""/>
          <p:cNvPicPr/>
          <p:nvPr/>
        </p:nvPicPr>
        <p:blipFill>
          <a:blip r:embed="rId3"/>
          <a:stretch/>
        </p:blipFill>
        <p:spPr>
          <a:xfrm>
            <a:off x="588960" y="412740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35" descr=""/>
          <p:cNvPicPr/>
          <p:nvPr/>
        </p:nvPicPr>
        <p:blipFill>
          <a:blip r:embed="rId4"/>
          <a:stretch/>
        </p:blipFill>
        <p:spPr>
          <a:xfrm>
            <a:off x="5468760" y="4676760"/>
            <a:ext cx="633600" cy="6192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6" descr=""/>
          <p:cNvPicPr/>
          <p:nvPr/>
        </p:nvPicPr>
        <p:blipFill>
          <a:blip r:embed="rId5"/>
          <a:stretch/>
        </p:blipFill>
        <p:spPr>
          <a:xfrm>
            <a:off x="6462720" y="5442120"/>
            <a:ext cx="55260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7" descr=""/>
          <p:cNvPicPr/>
          <p:nvPr/>
        </p:nvPicPr>
        <p:blipFill>
          <a:blip r:embed="rId6"/>
          <a:stretch/>
        </p:blipFill>
        <p:spPr>
          <a:xfrm>
            <a:off x="7386480" y="4754520"/>
            <a:ext cx="6098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47840" y="314280"/>
            <a:ext cx="8262720" cy="10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гры по методике Никитина Б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7840" y="286920"/>
            <a:ext cx="82296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«Сложи узор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CE70-C2ED-45D3-98F7-F922B032EEE4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00160" y="2025720"/>
            <a:ext cx="2198520" cy="3029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2857680" y="1620720"/>
            <a:ext cx="1458720" cy="2019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16" name="Line 24"/>
          <p:cNvSpPr/>
          <p:nvPr/>
        </p:nvSpPr>
        <p:spPr>
          <a:xfrm>
            <a:off x="-63360" y="1359000"/>
            <a:ext cx="920736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5189400" y="1397160"/>
            <a:ext cx="46080" cy="546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6"/>
          <p:cNvSpPr/>
          <p:nvPr/>
        </p:nvSpPr>
        <p:spPr>
          <a:xfrm>
            <a:off x="5491080" y="2944800"/>
            <a:ext cx="36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 кубикам прилагаются набором схем, таким образом знакомя ребенка с таким способом передачи информации, как черте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7"/>
          <p:cNvSpPr/>
          <p:nvPr/>
        </p:nvSpPr>
        <p:spPr>
          <a:xfrm>
            <a:off x="5432400" y="2052720"/>
            <a:ext cx="366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а состоит из набор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6 кубиков, грани которых раскрашены в разные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8"/>
          <p:cNvSpPr/>
          <p:nvPr/>
        </p:nvSpPr>
        <p:spPr>
          <a:xfrm>
            <a:off x="5451480" y="4056120"/>
            <a:ext cx="3692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ая, ребенок учится не только понимать схемы, но и распознавать реальные предметы в абстрактных рисун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же следует самостоятельное придумывание узоров и со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ых комбинаций из имеющихс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5224320" y="2116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5254560" y="41133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/>
          <p:cNvSpPr/>
          <p:nvPr/>
        </p:nvSpPr>
        <p:spPr>
          <a:xfrm>
            <a:off x="5286240" y="29876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5172840" y="1854360"/>
            <a:ext cx="397044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49960" y="1521000"/>
            <a:ext cx="3738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уть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24" descr=""/>
          <p:cNvPicPr/>
          <p:nvPr/>
        </p:nvPicPr>
        <p:blipFill>
          <a:blip r:embed="rId3"/>
          <a:stretch/>
        </p:blipFill>
        <p:spPr>
          <a:xfrm>
            <a:off x="2655720" y="3824280"/>
            <a:ext cx="1924200" cy="24606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960" y="46188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4360"/>
            <a:ext cx="842976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Сложи из  счетных палочек  цифру,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гуры, предметы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748-C877-4162-B540-97306166A5E7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574960" y="1345680"/>
            <a:ext cx="3311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  дается 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числа с помощью счетных палочек разного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-26280" y="1079640"/>
            <a:ext cx="920772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189400" y="1117440"/>
            <a:ext cx="49320" cy="574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6"/>
          <p:cNvSpPr/>
          <p:nvPr/>
        </p:nvSpPr>
        <p:spPr>
          <a:xfrm>
            <a:off x="5361120" y="30592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7"/>
          <p:cNvSpPr/>
          <p:nvPr/>
        </p:nvSpPr>
        <p:spPr>
          <a:xfrm>
            <a:off x="5381640" y="40132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5303880" y="1411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1"/>
          <p:cNvSpPr/>
          <p:nvPr/>
        </p:nvSpPr>
        <p:spPr>
          <a:xfrm>
            <a:off x="5796000" y="3894120"/>
            <a:ext cx="35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два квад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 сем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2"/>
          <p:cNvSpPr/>
          <p:nvPr/>
        </p:nvSpPr>
        <p:spPr>
          <a:xfrm>
            <a:off x="5629320" y="28306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два треугольника из пят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9" descr=""/>
          <p:cNvPicPr/>
          <p:nvPr/>
        </p:nvPicPr>
        <p:blipFill>
          <a:blip r:embed="rId1"/>
          <a:stretch/>
        </p:blipFill>
        <p:spPr>
          <a:xfrm>
            <a:off x="1274760" y="5153040"/>
            <a:ext cx="1266840" cy="1185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39" name="Рисунок 24" descr=""/>
          <p:cNvPicPr/>
          <p:nvPr/>
        </p:nvPicPr>
        <p:blipFill>
          <a:blip r:embed="rId2"/>
          <a:stretch/>
        </p:blipFill>
        <p:spPr>
          <a:xfrm>
            <a:off x="318960" y="3619440"/>
            <a:ext cx="947880" cy="12495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40" name="Рисунок 25" descr=""/>
          <p:cNvPicPr/>
          <p:nvPr/>
        </p:nvPicPr>
        <p:blipFill>
          <a:blip r:embed="rId3"/>
          <a:stretch/>
        </p:blipFill>
        <p:spPr>
          <a:xfrm>
            <a:off x="2987640" y="3630600"/>
            <a:ext cx="2006640" cy="26226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41" name="Рисунок 26" descr=""/>
          <p:cNvPicPr/>
          <p:nvPr/>
        </p:nvPicPr>
        <p:blipFill>
          <a:blip r:embed="rId4"/>
          <a:stretch/>
        </p:blipFill>
        <p:spPr>
          <a:xfrm>
            <a:off x="1785960" y="3595680"/>
            <a:ext cx="923760" cy="12175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42" name="Прямоугольник 29"/>
          <p:cNvSpPr/>
          <p:nvPr/>
        </p:nvSpPr>
        <p:spPr>
          <a:xfrm>
            <a:off x="5730840" y="4851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схемы палочками выложить узор или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5381640" y="51530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1" descr=""/>
          <p:cNvPicPr/>
          <p:nvPr/>
        </p:nvPicPr>
        <p:blipFill>
          <a:blip r:embed="rId5"/>
          <a:stretch/>
        </p:blipFill>
        <p:spPr>
          <a:xfrm>
            <a:off x="2567160" y="1535040"/>
            <a:ext cx="2417760" cy="18097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6"/>
          <a:stretch/>
        </p:blipFill>
        <p:spPr>
          <a:xfrm>
            <a:off x="106200" y="1135080"/>
            <a:ext cx="2265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2" descr=""/>
          <p:cNvPicPr/>
          <p:nvPr/>
        </p:nvPicPr>
        <p:blipFill>
          <a:blip r:embed="rId1"/>
          <a:stretch/>
        </p:blipFill>
        <p:spPr>
          <a:xfrm>
            <a:off x="1239840" y="4659480"/>
            <a:ext cx="2314440" cy="1971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8280" y="174600"/>
            <a:ext cx="822960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Танграм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Прямоугольник 6"/>
          <p:cNvSpPr/>
          <p:nvPr/>
        </p:nvSpPr>
        <p:spPr>
          <a:xfrm>
            <a:off x="4260960" y="3643200"/>
            <a:ext cx="46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ям предлагаются разные задания: составлять фигуры по образцу, устному заданию, замы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4025880" y="12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Ц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-26280" y="952560"/>
            <a:ext cx="92077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"/>
          <p:cNvSpPr/>
          <p:nvPr/>
        </p:nvSpPr>
        <p:spPr>
          <a:xfrm>
            <a:off x="3906720" y="901800"/>
            <a:ext cx="46080" cy="595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3952800" y="1571760"/>
            <a:ext cx="519120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4254480" y="168912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, как можно больше изображений, используя все 7 частей Танграм. При этом в изображении все части должны быть плотно прижатыми друг к другу. Изображения можно создавать, руководствуясь собственным замыслом или по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7"/>
          <p:cNvSpPr/>
          <p:nvPr/>
        </p:nvSpPr>
        <p:spPr>
          <a:xfrm>
            <a:off x="3962520" y="17780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9"/>
          <p:cNvSpPr/>
          <p:nvPr/>
        </p:nvSpPr>
        <p:spPr>
          <a:xfrm>
            <a:off x="3976560" y="37004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19" descr=""/>
          <p:cNvPicPr/>
          <p:nvPr/>
        </p:nvPicPr>
        <p:blipFill>
          <a:blip r:embed="rId2"/>
          <a:stretch/>
        </p:blipFill>
        <p:spPr>
          <a:xfrm>
            <a:off x="4089240" y="4621320"/>
            <a:ext cx="2502000" cy="22366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0" descr=""/>
          <p:cNvPicPr/>
          <p:nvPr/>
        </p:nvPicPr>
        <p:blipFill>
          <a:blip r:embed="rId3"/>
          <a:stretch/>
        </p:blipFill>
        <p:spPr>
          <a:xfrm>
            <a:off x="6535800" y="4691160"/>
            <a:ext cx="1969920" cy="20066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21" descr=""/>
          <p:cNvPicPr/>
          <p:nvPr/>
        </p:nvPicPr>
        <p:blipFill>
          <a:blip r:embed="rId4"/>
          <a:stretch/>
        </p:blipFill>
        <p:spPr>
          <a:xfrm>
            <a:off x="2924280" y="4448160"/>
            <a:ext cx="755640" cy="8272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6" descr=""/>
          <p:cNvPicPr/>
          <p:nvPr/>
        </p:nvPicPr>
        <p:blipFill>
          <a:blip r:embed="rId5"/>
          <a:stretch/>
        </p:blipFill>
        <p:spPr>
          <a:xfrm>
            <a:off x="162000" y="1057320"/>
            <a:ext cx="3663720" cy="31068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60" name="Рисунок 18" descr=""/>
          <p:cNvPicPr/>
          <p:nvPr/>
        </p:nvPicPr>
        <p:blipFill>
          <a:blip r:embed="rId6"/>
          <a:stretch/>
        </p:blipFill>
        <p:spPr>
          <a:xfrm>
            <a:off x="368280" y="4448160"/>
            <a:ext cx="81108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6709-F99E-4749-AEEA-8FFB5ED0CA88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3040" y="545760"/>
            <a:ext cx="89409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Рассели фигуры», «Четвертый – лишний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41280" y="42372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DAF7-E0EB-4637-856B-B97D8BBFF179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5319720" y="1570680"/>
            <a:ext cx="363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предстоит понять логическую цепочку, в которой распределены предметы и фигуры в таблице, и дорисовать или зачеркнуть недоста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-26280" y="1359000"/>
            <a:ext cx="92077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4809960" y="1424160"/>
            <a:ext cx="46080" cy="546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7"/>
          <p:cNvSpPr/>
          <p:nvPr/>
        </p:nvSpPr>
        <p:spPr>
          <a:xfrm>
            <a:off x="5035680" y="1679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1"/>
          <p:cNvSpPr/>
          <p:nvPr/>
        </p:nvSpPr>
        <p:spPr>
          <a:xfrm>
            <a:off x="5367240" y="3174840"/>
            <a:ext cx="35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какой признак объединяет  предм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5010120" y="3214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5244480" y="4200480"/>
            <a:ext cx="397188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6" descr=""/>
          <p:cNvPicPr/>
          <p:nvPr/>
        </p:nvPicPr>
        <p:blipFill>
          <a:blip r:embed="rId1"/>
          <a:stretch/>
        </p:blipFill>
        <p:spPr>
          <a:xfrm>
            <a:off x="2819520" y="2151000"/>
            <a:ext cx="1861920" cy="2376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2" descr=""/>
          <p:cNvPicPr/>
          <p:nvPr/>
        </p:nvPicPr>
        <p:blipFill>
          <a:blip r:embed="rId2"/>
          <a:stretch/>
        </p:blipFill>
        <p:spPr>
          <a:xfrm>
            <a:off x="101520" y="3171960"/>
            <a:ext cx="2557440" cy="3273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74" name="Rectangle 1"/>
          <p:cNvSpPr/>
          <p:nvPr/>
        </p:nvSpPr>
        <p:spPr>
          <a:xfrm>
            <a:off x="4986360" y="4209480"/>
            <a:ext cx="3965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 вами картинка с необычным домом. В нем живут геометрические фигу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ервом этаже живут прямоугольники, на втором – треугольники, на третьем-  круги, а четвертом - квадраты. В первом подъезде живут фигуры красного цвета, во втором – желтые, в третьем – синие. Некоторые жители уже находятся в своих квартир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елите геометрические фигуры, которые лежат перед вами в правиль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28" descr=""/>
          <p:cNvPicPr/>
          <p:nvPr/>
        </p:nvPicPr>
        <p:blipFill>
          <a:blip r:embed="rId3"/>
          <a:stretch/>
        </p:blipFill>
        <p:spPr>
          <a:xfrm>
            <a:off x="382680" y="1595520"/>
            <a:ext cx="1550880" cy="1373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76" name="Прямоугольник 20"/>
          <p:cNvSpPr/>
          <p:nvPr/>
        </p:nvSpPr>
        <p:spPr>
          <a:xfrm>
            <a:off x="646200" y="4146480"/>
            <a:ext cx="380880" cy="38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27"/>
          <p:cNvSpPr/>
          <p:nvPr/>
        </p:nvSpPr>
        <p:spPr>
          <a:xfrm>
            <a:off x="1149480" y="4659480"/>
            <a:ext cx="45720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Равнобедренный треугольник 29"/>
          <p:cNvSpPr/>
          <p:nvPr/>
        </p:nvSpPr>
        <p:spPr>
          <a:xfrm>
            <a:off x="1658880" y="5213520"/>
            <a:ext cx="54936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34800" y="106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ствуют развитию внимания, памяти, речи, воображения и мышления ребенка, создают положительную эмоциональную атмосферу, побуждают детей к обучению, коллективному поиску, активности в преобразовании игров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8E3-2600-4FFE-9B2B-E485D0151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Объект 4" descr=""/>
          <p:cNvPicPr/>
          <p:nvPr/>
        </p:nvPicPr>
        <p:blipFill>
          <a:blip r:embed="rId1"/>
          <a:stretch/>
        </p:blipFill>
        <p:spPr>
          <a:xfrm>
            <a:off x="3794040" y="3341520"/>
            <a:ext cx="155592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F11-B026-41FC-B9C0-57E3A631B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асто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еча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7" descr=""/>
          <p:cNvPicPr/>
          <p:nvPr/>
        </p:nvPicPr>
        <p:blipFill>
          <a:blip r:embed="rId2"/>
          <a:stretch/>
        </p:blipFill>
        <p:spPr>
          <a:xfrm>
            <a:off x="3794040" y="2908440"/>
            <a:ext cx="1555920" cy="10411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"/>
          <p:cNvPicPr/>
          <p:nvPr/>
        </p:nvPicPr>
        <p:blipFill>
          <a:blip r:embed="rId3"/>
          <a:stretch/>
        </p:blipFill>
        <p:spPr>
          <a:xfrm>
            <a:off x="1650960" y="2163600"/>
            <a:ext cx="1555920" cy="104328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4" descr=""/>
          <p:cNvPicPr/>
          <p:nvPr/>
        </p:nvPicPr>
        <p:blipFill>
          <a:blip r:embed="rId4"/>
          <a:stretch/>
        </p:blipFill>
        <p:spPr>
          <a:xfrm>
            <a:off x="3794040" y="3352680"/>
            <a:ext cx="1555920" cy="10432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8" descr=""/>
          <p:cNvPicPr/>
          <p:nvPr/>
        </p:nvPicPr>
        <p:blipFill>
          <a:blip r:embed="rId5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428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ели и 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692440" y="355140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4611600" y="348624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 flipH="1">
            <a:off x="5010840" y="355140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423720" y="2021040"/>
            <a:ext cx="2691000" cy="1624680"/>
            <a:chOff x="423720" y="2021040"/>
            <a:chExt cx="2691000" cy="1624680"/>
          </a:xfrm>
        </p:grpSpPr>
        <p:sp>
          <p:nvSpPr>
            <p:cNvPr id="165" name="AutoShape 7"/>
            <p:cNvSpPr/>
            <p:nvPr/>
          </p:nvSpPr>
          <p:spPr>
            <a:xfrm>
              <a:off x="423720" y="2021040"/>
              <a:ext cx="2691000" cy="1624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592920" y="2126160"/>
              <a:ext cx="1338120" cy="8118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2b2"/>
                </a:gs>
                <a:gs pos="50000">
                  <a:srgbClr val="ff6161">
                    <a:alpha val="0"/>
                  </a:srgbClr>
                </a:gs>
                <a:gs pos="100000">
                  <a:srgbClr val="ff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9"/>
          <p:cNvSpPr/>
          <p:nvPr/>
        </p:nvSpPr>
        <p:spPr>
          <a:xfrm>
            <a:off x="471600" y="2079720"/>
            <a:ext cx="26668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развивающей среды для развития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0"/>
          <p:cNvGrpSpPr/>
          <p:nvPr/>
        </p:nvGrpSpPr>
        <p:grpSpPr>
          <a:xfrm>
            <a:off x="3533760" y="2079720"/>
            <a:ext cx="2548440" cy="1566000"/>
            <a:chOff x="3533760" y="2079720"/>
            <a:chExt cx="2548440" cy="1566000"/>
          </a:xfrm>
        </p:grpSpPr>
        <p:sp>
          <p:nvSpPr>
            <p:cNvPr id="169" name="AutoShape 11"/>
            <p:cNvSpPr/>
            <p:nvPr/>
          </p:nvSpPr>
          <p:spPr>
            <a:xfrm>
              <a:off x="3533760" y="2079720"/>
              <a:ext cx="2548440" cy="156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693960" y="2181240"/>
              <a:ext cx="1267200" cy="782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28f"/>
                </a:gs>
                <a:gs pos="50000">
                  <a:srgbClr val="ffc319">
                    <a:alpha val="0"/>
                  </a:srgbClr>
                </a:gs>
                <a:gs pos="100000">
                  <a:srgbClr val="ffe2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6418440" y="2084400"/>
            <a:ext cx="2252880" cy="1608840"/>
            <a:chOff x="6418440" y="2084400"/>
            <a:chExt cx="2252880" cy="1608840"/>
          </a:xfrm>
        </p:grpSpPr>
        <p:sp>
          <p:nvSpPr>
            <p:cNvPr id="172" name="AutoShape 14"/>
            <p:cNvSpPr/>
            <p:nvPr/>
          </p:nvSpPr>
          <p:spPr>
            <a:xfrm>
              <a:off x="6418440" y="2084400"/>
              <a:ext cx="2252880" cy="16088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6560280" y="2188440"/>
              <a:ext cx="1120320" cy="8038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5e897"/>
                </a:gs>
                <a:gs pos="50000">
                  <a:srgbClr val="a8d02a">
                    <a:alpha val="0"/>
                  </a:srgbClr>
                </a:gs>
                <a:gs pos="100000">
                  <a:srgbClr val="d5e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3460680" y="2263680"/>
            <a:ext cx="2743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и совершенствование мыслитель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362640" y="2222640"/>
            <a:ext cx="2395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я интеллектуальных спосо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730520" y="5129280"/>
            <a:ext cx="6441840" cy="13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1994040" y="5151600"/>
            <a:ext cx="58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логическими формами мыш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дошкольном возрасте, формирование развития умственных способностей, необходимых для успешного перехода детей к школьному обу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 flipV="1">
            <a:off x="0" y="1508040"/>
            <a:ext cx="9144000" cy="5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639-05D1-42B1-9B76-238614EE0F80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C0B5-4191-48CE-A00F-537554AB38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9E6-1BFD-4779-8A2D-EB62686289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DFB-8F60-490B-9279-FFD9D234D0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030-AB1E-42BC-AC11-C93E841906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0DF5-08EE-41B4-84CA-5527B45E96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19"/>
          <p:cNvSpPr/>
          <p:nvPr/>
        </p:nvSpPr>
        <p:spPr>
          <a:xfrm>
            <a:off x="1685880" y="6037200"/>
            <a:ext cx="6442200" cy="69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езультативность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400" name="AutoShape 3"/>
          <p:cNvGrpSpPr/>
          <p:nvPr/>
        </p:nvGrpSpPr>
        <p:grpSpPr>
          <a:xfrm>
            <a:off x="1090440" y="1981080"/>
            <a:ext cx="4724640" cy="3382920"/>
            <a:chOff x="1090440" y="1981080"/>
            <a:chExt cx="4724640" cy="3382920"/>
          </a:xfrm>
        </p:grpSpPr>
        <p:pic>
          <p:nvPicPr>
            <p:cNvPr id="401" name="AutoShape 3" descr=""/>
            <p:cNvPicPr/>
            <p:nvPr/>
          </p:nvPicPr>
          <p:blipFill>
            <a:blip r:embed="rId1"/>
            <a:stretch/>
          </p:blipFill>
          <p:spPr>
            <a:xfrm>
              <a:off x="1090440" y="1981080"/>
              <a:ext cx="47246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5400000">
              <a:off x="538560" y="2802600"/>
              <a:ext cx="3114720" cy="17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4"/>
          <p:cNvSpPr/>
          <p:nvPr/>
        </p:nvSpPr>
        <p:spPr>
          <a:xfrm>
            <a:off x="1071720" y="3398760"/>
            <a:ext cx="210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ется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нимани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стойкая способность рассужда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AutoShape 5"/>
          <p:cNvGrpSpPr/>
          <p:nvPr/>
        </p:nvGrpSpPr>
        <p:grpSpPr>
          <a:xfrm>
            <a:off x="3419640" y="2011320"/>
            <a:ext cx="4717800" cy="3378240"/>
            <a:chOff x="3419640" y="2011320"/>
            <a:chExt cx="4717800" cy="3378240"/>
          </a:xfrm>
        </p:grpSpPr>
        <p:pic>
          <p:nvPicPr>
            <p:cNvPr id="405" name="AutoShape 5" descr=""/>
            <p:cNvPicPr/>
            <p:nvPr/>
          </p:nvPicPr>
          <p:blipFill>
            <a:blip r:embed="rId2"/>
            <a:stretch/>
          </p:blipFill>
          <p:spPr>
            <a:xfrm>
              <a:off x="3419640" y="2011320"/>
              <a:ext cx="471780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 rot="5400000">
              <a:off x="2865600" y="2829600"/>
              <a:ext cx="31147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6"/>
          <p:cNvSpPr/>
          <p:nvPr/>
        </p:nvSpPr>
        <p:spPr>
          <a:xfrm>
            <a:off x="3456000" y="3632040"/>
            <a:ext cx="1954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навык планировать свои действия и переносить усвоенный опыт в новые ситуации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5784840" y="2011320"/>
            <a:ext cx="4621320" cy="3378240"/>
            <a:chOff x="5784840" y="2011320"/>
            <a:chExt cx="4621320" cy="3378240"/>
          </a:xfrm>
        </p:grpSpPr>
        <p:pic>
          <p:nvPicPr>
            <p:cNvPr id="409" name="AutoShape 7" descr=""/>
            <p:cNvPicPr/>
            <p:nvPr/>
          </p:nvPicPr>
          <p:blipFill>
            <a:blip r:embed="rId3"/>
            <a:stretch/>
          </p:blipFill>
          <p:spPr>
            <a:xfrm>
              <a:off x="5784840" y="2011320"/>
              <a:ext cx="462132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5400000">
              <a:off x="5227920" y="2829600"/>
              <a:ext cx="31147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8"/>
          <p:cNvSpPr/>
          <p:nvPr/>
        </p:nvSpPr>
        <p:spPr>
          <a:xfrm>
            <a:off x="5826240" y="3632040"/>
            <a:ext cx="1955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в команде и устанавливать правильные отношения со сверстниками и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9" descr="RY_circle001"/>
          <p:cNvPicPr/>
          <p:nvPr/>
        </p:nvPicPr>
        <p:blipFill>
          <a:blip r:embed="rId4"/>
          <a:stretch/>
        </p:blipFill>
        <p:spPr>
          <a:xfrm>
            <a:off x="6202440" y="20559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LB_circle001"/>
          <p:cNvPicPr/>
          <p:nvPr/>
        </p:nvPicPr>
        <p:blipFill>
          <a:blip r:embed="rId5"/>
          <a:stretch/>
        </p:blipFill>
        <p:spPr>
          <a:xfrm>
            <a:off x="1477800" y="20559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YG_circle001"/>
          <p:cNvPicPr/>
          <p:nvPr/>
        </p:nvPicPr>
        <p:blipFill>
          <a:blip r:embed="rId6"/>
          <a:stretch/>
        </p:blipFill>
        <p:spPr>
          <a:xfrm>
            <a:off x="3803760" y="206676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2"/>
          <p:cNvSpPr/>
          <p:nvPr/>
        </p:nvSpPr>
        <p:spPr>
          <a:xfrm>
            <a:off x="1608120" y="250200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1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6286680" y="248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3933720" y="2498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5" descr="O_chevron001"/>
          <p:cNvPicPr/>
          <p:nvPr/>
        </p:nvPicPr>
        <p:blipFill>
          <a:blip r:embed="rId7"/>
          <a:stretch/>
        </p:blipFill>
        <p:spPr>
          <a:xfrm>
            <a:off x="4216320" y="331164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6" descr="O_chevron001"/>
          <p:cNvPicPr/>
          <p:nvPr/>
        </p:nvPicPr>
        <p:blipFill>
          <a:blip r:embed="rId8"/>
          <a:stretch/>
        </p:blipFill>
        <p:spPr>
          <a:xfrm>
            <a:off x="1857240" y="329256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" descr="O_chevron001"/>
          <p:cNvPicPr/>
          <p:nvPr/>
        </p:nvPicPr>
        <p:blipFill>
          <a:blip r:embed="rId9"/>
          <a:stretch/>
        </p:blipFill>
        <p:spPr>
          <a:xfrm>
            <a:off x="6564240" y="31860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231840" y="1187280"/>
            <a:ext cx="86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системную работу по развитию логико-математических представлений, что к концу каждого учебного года наблюдается положительная динам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 flipV="1">
            <a:off x="0" y="1104840"/>
            <a:ext cx="9144000" cy="5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1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31A-85D0-40FF-9A1F-EB1D50B77EFB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1414440" y="5335560"/>
            <a:ext cx="1900440" cy="74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"/>
          <p:cNvSpPr/>
          <p:nvPr/>
        </p:nvSpPr>
        <p:spPr>
          <a:xfrm>
            <a:off x="4275000" y="5256360"/>
            <a:ext cx="366840" cy="863280"/>
          </a:xfrm>
          <a:custGeom>
            <a:avLst/>
            <a:gdLst>
              <a:gd name="textAreaLeft" fmla="*/ 0 w 366840"/>
              <a:gd name="textAreaRight" fmla="*/ 367200 w 3668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"/>
          <p:cNvSpPr/>
          <p:nvPr/>
        </p:nvSpPr>
        <p:spPr>
          <a:xfrm flipH="1">
            <a:off x="5748480" y="5370480"/>
            <a:ext cx="1900080" cy="68256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797120" y="6107040"/>
            <a:ext cx="61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является залогом успешного об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ьной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3" descr=""/>
          <p:cNvPicPr/>
          <p:nvPr/>
        </p:nvPicPr>
        <p:blipFill>
          <a:blip r:embed="rId1"/>
          <a:stretch/>
        </p:blipFill>
        <p:spPr>
          <a:xfrm>
            <a:off x="231840" y="4500720"/>
            <a:ext cx="3216240" cy="1098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209520" y="1978200"/>
            <a:ext cx="592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…Весь процесс воспитания  ребенка  мы рассматривае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ак обучение тому, в какие игры следует играть и как в них игра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Эрик Бер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79280" y="34905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nnabelle"/>
              </a:rPr>
              <a:t>Спасибо!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17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технологии математического развития</a:t>
            </a: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 направлены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ю познавательной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ребенк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ей и зависимостей предметов и явлений окружающего ми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E00-EC6A-4C3A-9702-428957CA57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ОБЛЕМНО - ИГРОВАЯ ТЕХНОЛОГИЯ.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6836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дна из наиболее эффективных технологий, близких ребенку по своей сут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тие познавательно-творческих способностей детей в логико-математи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позволя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бен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редств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енсорные эталоны, речь, схемы и мод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особами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равнением, обследованием, классификацией, сериацией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ь логико-математический опы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 Михайловой З. А. , представлена в системе следующих сред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ко-матема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ко-математические сюжетные игры (зан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ые ситуации и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е задачи, вопросы и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ирование и исследовательская 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E89-B5F2-4731-BF3A-5382322433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РОБЛЕМНО - ИГРОВ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Достоинст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й технологии состоит 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воении различных по степени сложности игров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ключают: группировку, раскладывание, соотнесение, счет, изме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, следуя игре собственного воображения, ребенок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формирует свой опы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игровые ситу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осит новые познавательные задач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B4D7-F5A9-4592-9CAF-4E21B896A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ТЕХНОЛОГИЯ ТРИЗ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ё основе леж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просто обучение детей математике, сколько</a:t>
            </a:r>
            <a:r>
              <a:rPr b="0" i="1" lang="ru-RU" sz="24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открытие способов получения верного результата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блемны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вляются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частью технологии ТР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предлагают выделять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проблемные ситуации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хорошо знакомых ребенк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ультфильмов, художественных фильмов, учебного интернета, сказок, рассказов, сюжетных иг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противоречие в произведении К. Чуковского «Федорино горе»: оставить Федоре посуду, чтобы она могла готовить и принимать пищу или лишить ее посуды за плохое обращение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еории ТРИЗ нужно 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«обратить вред в польз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1F7-3E96-4D15-B68D-4265FC465E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ТЕХНОЛОГИЯ ТРИЗ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математического развития детей рекомендуют применять следующие 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типы ТРИЗ - упражнений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Поиск общих признак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айти у двух разных объектов  как можно больше общих призна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Третий лишний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зять три объекта, разные по смысловой оси, найти в двух из них такие сходные признаки, которых нет в треть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Поиск противоположных объект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звать объект и как можно больше объектов, противоположных 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5E7-8F70-41D5-9F4D-63FA475EB2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ЭВРИСТИЧЕСКАЯ ТЕХНОЛОГИЯ 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эвристической технологии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.А. Репина) состоит в </a:t>
            </a: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погружении ребенка в ситуацию первооткрывателя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ку </a:t>
            </a: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предлагается открыть  неизвестное для него знание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хнологии -  оказание помощи ребенку в открытии каналов общения с миром математики и осознание ее особен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471-57ED-4CEB-A948-764B746B6E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Ольга Тимина</cp:lastModifiedBy>
  <dcterms:modified xsi:type="dcterms:W3CDTF">2024-01-30T11:12:45Z</dcterms:modified>
  <cp:revision>41</cp:revision>
  <dc:subject/>
  <dc:title>Презентация на тему  :  «Введение детей старшего дошкольного возраста в мир логико-математических представлений с помощью специальной серии обучающих игр» (из опыта работы)</dc:title>
</cp:coreProperties>
</file>