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57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26.jpeg" ContentType="image/jpeg"/>
  <Override PartName="/ppt/media/image37.jpeg" ContentType="image/jpeg"/>
  <Override PartName="/ppt/media/image3.jpeg" ContentType="image/jpeg"/>
  <Override PartName="/ppt/media/image5.jpeg" ContentType="image/jpeg"/>
  <Override PartName="/ppt/media/image61.png" ContentType="image/png"/>
  <Override PartName="/ppt/media/image59.png" ContentType="image/png"/>
  <Override PartName="/ppt/media/image24.jpeg" ContentType="image/jpeg"/>
  <Override PartName="/ppt/media/image54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42.jpeg" ContentType="image/jpeg"/>
  <Override PartName="/ppt/media/image19.jpeg" ContentType="image/jpeg"/>
  <Override PartName="/ppt/media/image49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63.png" ContentType="image/png"/>
  <Override PartName="/ppt/media/image17.jpeg" ContentType="image/jpeg"/>
  <Override PartName="/ppt/media/image21.jpeg" ContentType="image/jpeg"/>
  <Override PartName="/ppt/media/image65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8.jpeg" ContentType="image/jpeg"/>
  <Override PartName="/ppt/media/image39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4.png" ContentType="image/pn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png" ContentType="image/png"/>
  <Override PartName="/ppt/media/image43.jpeg" ContentType="image/jpeg"/>
  <Override PartName="/ppt/media/image9.jpeg" ContentType="image/jpeg"/>
  <Override PartName="/ppt/media/image36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png" ContentType="image/pn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3320-52F3-4BE8-AAF5-AB9E4EF28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AEE-ED4C-46D2-AA81-1926EF4F0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Верхний колонтитул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CB7-CE5C-45B4-9FDF-96EEC1AC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ED9-F2A3-4958-9DA7-E09C5BEC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2769-3906-4461-8D76-FA5F97E2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DD1D-E3F7-4123-A6B2-31EAFB48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A65-8BAE-4B16-A15C-C439CCAE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E71D-CBF7-412D-B705-43B52DF7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CDF3-976E-456F-82AD-2D72C6EF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F752-EBE1-41E4-AA05-D857A7D1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784F-C202-420F-BF1F-E1955825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9C43-3A21-4A63-932E-766328AE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53FFA-8BE7-44BF-A381-D50E4165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ADCB-7BDD-4EEB-BD03-B7A7E0A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46E0-F816-4DC3-9DFA-7F6229A3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A704-44FF-4153-B5DD-393CC5D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3991-DA6A-430B-945D-12D20AB4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EDF5-D337-45CE-A4E9-04A4B4D4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72FE-6E07-4DB1-8163-91F87EFD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996E0-11EA-404F-ABCD-F77E1515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25CD-4430-42E6-90BE-0270358D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82D0-133E-4E15-964B-19698064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D18-68BD-44F6-9B4B-D2AEF638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BB2-B8D5-469E-AA17-0E11ECAD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4430-C466-4652-8A4F-C1960A2C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C2C-4810-4415-8B82-CE58A41C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5CC-3976-4EC4-B7AF-8D52BCE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9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3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4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5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6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7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8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9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20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2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2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2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2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2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3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3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3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3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3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5B13-6704-4651-9E76-406EE701E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36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7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8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40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41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2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43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79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45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7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1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64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1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1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66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67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80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1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2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3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8126-67DA-4968-B458-5AF94DE3A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image" Target="../media/image15.jpeg"/><Relationship Id="rId12" Type="http://schemas.openxmlformats.org/officeDocument/2006/relationships/image" Target="../media/image16.jpe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jpeg"/><Relationship Id="rId6" Type="http://schemas.openxmlformats.org/officeDocument/2006/relationships/image" Target="../media/image49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ww.themegallery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34520" y="290520"/>
            <a:ext cx="8116920" cy="386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Современные подходы к развитию логико-математических представлений у детей дошкольного возраста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257040" y="4511520"/>
            <a:ext cx="3143520" cy="10731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11"/>
          <p:cNvSpPr/>
          <p:nvPr/>
        </p:nvSpPr>
        <p:spPr>
          <a:xfrm>
            <a:off x="4249800" y="645156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7010280" y="4713120"/>
            <a:ext cx="2308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Arial"/>
                <a:ea typeface="Arial"/>
              </a:rPr>
              <a:t>Подготовил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</a:t>
            </a:r>
            <a:r>
              <a:rPr b="1" lang="ru-RU" sz="11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Крылова Т.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Группа 7"/>
          <p:cNvGrpSpPr/>
          <p:nvPr/>
        </p:nvGrpSpPr>
        <p:grpSpPr>
          <a:xfrm>
            <a:off x="4030560" y="5470560"/>
            <a:ext cx="1036800" cy="423720"/>
            <a:chOff x="4030560" y="5470560"/>
            <a:chExt cx="1036800" cy="423720"/>
          </a:xfrm>
        </p:grpSpPr>
        <p:pic>
          <p:nvPicPr>
            <p:cNvPr id="152" name="Рисунок 9" descr=""/>
            <p:cNvPicPr/>
            <p:nvPr/>
          </p:nvPicPr>
          <p:blipFill>
            <a:blip r:embed="rId2"/>
            <a:stretch/>
          </p:blipFill>
          <p:spPr>
            <a:xfrm>
              <a:off x="4711680" y="548028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Рисунок 10" descr=""/>
            <p:cNvPicPr/>
            <p:nvPr/>
          </p:nvPicPr>
          <p:blipFill>
            <a:blip r:embed="rId3"/>
            <a:stretch/>
          </p:blipFill>
          <p:spPr>
            <a:xfrm>
              <a:off x="4380840" y="548244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Рисунок 13" descr=""/>
            <p:cNvPicPr/>
            <p:nvPr/>
          </p:nvPicPr>
          <p:blipFill>
            <a:blip r:embed="rId4"/>
            <a:stretch/>
          </p:blipFill>
          <p:spPr>
            <a:xfrm>
              <a:off x="4030560" y="547056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Рисунок 14" descr=""/>
            <p:cNvPicPr/>
            <p:nvPr/>
          </p:nvPicPr>
          <p:blipFill>
            <a:blip r:embed="rId5"/>
            <a:stretch/>
          </p:blipFill>
          <p:spPr>
            <a:xfrm>
              <a:off x="4527720" y="5643720"/>
              <a:ext cx="355680" cy="24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Рисунок 15" descr=""/>
            <p:cNvPicPr/>
            <p:nvPr/>
          </p:nvPicPr>
          <p:blipFill>
            <a:blip r:embed="rId6"/>
            <a:stretch/>
          </p:blipFill>
          <p:spPr>
            <a:xfrm>
              <a:off x="4140720" y="5647680"/>
              <a:ext cx="355680" cy="246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Прямоугольник 1"/>
          <p:cNvSpPr/>
          <p:nvPr/>
        </p:nvSpPr>
        <p:spPr>
          <a:xfrm>
            <a:off x="257040" y="4511520"/>
            <a:ext cx="436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«Ум человеческий отмечается такой ненасытной восприимчивостью к познанию, что представляет собой как бы бездну…»</a:t>
            </a:r>
            <a:br>
              <a:rPr sz="1800"/>
            </a:br>
            <a:r>
              <a:rPr b="1" i="1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Я.А. Комен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ЭВРИСТИЧЕСКАЯ ТЕХНОЛОГИЯ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вторы </a:t>
            </a: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эвристической технологии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омендуют использов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когнитивные и креативные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(творческие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)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ы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когнитивным методам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носят: метод вживания, метод эвристических вопросов, метод ошибок и д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ы вживания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«вчувствование», «вселение» ребенка в состояние изучаемого объекта, «очеловечивание» предмета посредством чувственно-образных и мысленных представлений и познание его изнутр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представь себе, что ты число 5 (условная мерка, треугольник, цилиндр). Какой ты? Для чего ты существуешь? С кем дружишь? Из чего состоишь? Что тебе нравится делать?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Эвристические вопросы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– позволяют ребенку получить сведения об изучаемом объек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 Кто? Что? Зачем? Где? Чем? Как? Когда?), которые дают возможность для необычного видения объек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ошибок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использование ошибок для углубления образовательного процесса. Метод помогает преодолеть негативное отношение педагога к ошибкам детей и боязнь детей совершить ошибку. (Например, когда ребенок ошибочно утверждает, что 4 меньше 3, задайте вопрос: может ли быть  на самом деле, что 4 меньше 3. Да, может, если речь идет о 4 днях и 3 неделях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FA3F-A3C1-4363-B160-397B7F7F596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ЭВРИСТИЧЕСКАЯ ТЕХНОЛОГИЯ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креативным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относятся мет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думывания, гиперболизации, мозгового штурма, метод синект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придумывания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лючается в создании неизвестного ранее продукта в результате использования приемов умственного моделирования: замещение одного качества другим, отыскание свойств объекта в другой среде. Например, нарисовать город с жителями - сказочными числ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гиперболизации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полагает увеличение или уменьшение изучаемого объекта и его отдельных частей или качеств с целью выявления его сущности. Например, придумайте многоугольник  с самым большим количеством уг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Агглютинация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это соединение качеств, частей объектов, несоединимых в реальной жизни. Например, вершина пропасти, пустое множеств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Метод мозгового штурма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ьзуется большой популярностью на современном эта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я введения мозгового штурма может возникнуть стихийно при решении какой-либо познавательной задачи, во время игры-занят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атель может предложить детям выдвигать любые решения создавшейся проблемы удачные и неудачные. Идеи можно записать. (Например, как выручить бусинку из «ледяного плена» (бусинка в кубике льда)? Идеи: прорубить лед! Подержать в руках и кубик льда растает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Times New Roman"/>
              </a:rPr>
              <a:t>Педагог принимает любые идеи без эмоциональной и рациональной оценки.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  выводам дети приходят</a:t>
            </a:r>
            <a:r>
              <a:rPr b="0" lang="ru-RU" sz="16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b00000"/>
                </a:solidFill>
                <a:latin typeface="Times New Roman"/>
              </a:rPr>
              <a:t>сами</a:t>
            </a:r>
            <a:r>
              <a:rPr b="0" i="1" lang="ru-RU" sz="16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основе 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анализ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осле того, как будут высказаны все иде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772B-C327-4573-9F4D-6F27327F080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ЭВРИСТИЧЕСКАЯ ТЕХНОЛОГИЯ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Метод синектики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</a:t>
            </a:r>
            <a:r>
              <a:rPr b="0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поиске аналогий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в работе с детьми предлагают использова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ую аналогию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есть один объект сравнивается с другим из другой области. Видом прямой аналогии является функциональная аналогия - найти в окружающем мире объект, который выполняет аналогичные функции, например, солнце и плита для приготовления пищи. При этом важно ответить на вопросы: какие функции выполняют эти объекты, что общего и что отличного  в этих функциях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Аналогия по цвет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олнце - одуванчик, лампа, лимон, лиса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Личная аналогия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мение поставить себя на место другого объекта. (Например, какое отношение к себе со стороны других детей вы предпочитаете? Что бы вас беспокоило, если бы вы были дверью, числом пять, треугольником?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EB6A-B64C-46C4-AFF2-42D17743F9A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ИНФОРМАЦИОННЫЕ ТЕХНОЛОГИИ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00000"/>
                </a:solidFill>
                <a:latin typeface="Times New Roman"/>
              </a:rPr>
              <a:t>В настоящее время в НИИ дошкольного воспитания, в РФ, разрабатываются теоретические основы применения научных информационных технологий в воспитательно – образовательной системе ДОУ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же созданы </a:t>
            </a:r>
            <a:r>
              <a:rPr b="1" i="1" lang="ru-RU" sz="2000" spc="-1" strike="noStrike">
                <a:solidFill>
                  <a:srgbClr val="b00000"/>
                </a:solidFill>
                <a:latin typeface="Times New Roman"/>
              </a:rPr>
              <a:t>несколько серий программ для дошкольни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ые условно, в зависимости от педагогической направленности, делятся на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b00000"/>
                </a:solidFill>
                <a:uFillTx/>
                <a:latin typeface="Times New Roman"/>
              </a:rPr>
              <a:t>Обучающие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имеют предметный характер) –математика, родной язык, музыка, содержание и ход представленных в них игр четко очер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b00000"/>
                </a:solidFill>
                <a:uFillTx/>
                <a:latin typeface="Times New Roman"/>
              </a:rPr>
              <a:t>Развивающие  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побуждают детей к творческим самостоятельным играм и общению со сверстниками(дети сами ищут способы решения игровых задач, свободны в выборе сюжетов и средств для их переда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 u="sng">
                <a:solidFill>
                  <a:srgbClr val="b00000"/>
                </a:solidFill>
                <a:uFillTx/>
                <a:latin typeface="Times New Roman"/>
              </a:rPr>
              <a:t>Диагност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зволяют выявить уровень тех или иных умений, способностей, интересов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определенном смысле любую  компьютерную программу можно считать развивающей. Если она способствует совершенствованию восприятия, памяти, воображения, мыш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2F0-F6F4-475E-B067-DB941FA358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ТЕХНОЛОГИЯ   ДЕЯТЕЛЬНОСТНОГО   МЕТОДА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252440"/>
            <a:ext cx="822960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Людмила Георгиевна Петерсон)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b00000"/>
                </a:solidFill>
                <a:uFillTx/>
                <a:latin typeface="Times New Roman"/>
              </a:rPr>
              <a:t>Деятельностный подход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акая организация образовательного процесса, при котором ребенок осваивает культуру не путем простой передачи информации, а в  </a:t>
            </a:r>
            <a:r>
              <a:rPr b="1" lang="ru-RU" sz="1600" spc="-1" strike="noStrike">
                <a:solidFill>
                  <a:srgbClr val="ff5050"/>
                </a:solidFill>
                <a:latin typeface="Times New Roman"/>
              </a:rPr>
              <a:t>ПРОЦЕССЕ   СОБСТВЕННОЙ  ДЕЯТЕЛЬ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ой основой организации работы с детьми является следующая систем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дактических принципов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психологической комфорт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здается образовательная среда, обеспечивающая снятие всех стрессообразующих факторов учебного процес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деятель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новое знание вводится не в готовом виде, а через самостоятельное открытие его детьм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минимакса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ивается возможность продвижения каждого ребенка своим темпо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целостного представления о мире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и введении нового знания раскрывается его взаимосвязь с предметами и явлениями окружающего ми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вариативност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детей формируется умение осуществлять собственный выбор, и им систематически предоставляется возможность выбор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творчеств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роцесс обучения сориентирован на приобретение детьми собствен­ного опыта творческой деятель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b00000"/>
                </a:solidFill>
                <a:latin typeface="Times New Roman"/>
              </a:rPr>
              <a:t>Принцип непрерывности</a:t>
            </a:r>
            <a:r>
              <a:rPr b="0" lang="ru-RU" sz="16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иваются преемственные связи между всеми ступенями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ложенные выше принципы интегрируют современные научные взгляды об основах организации развивающего обучения и обеспечивают решение задач интеллектуального и личностного развития де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8A39-FD4E-4F94-82AF-FAE7658E2E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В современных образовательных технологиях</a:t>
            </a:r>
            <a:br>
              <a:rPr sz="2000"/>
            </a:b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существуют два способа математического развития дошкольников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080" y="1252440"/>
            <a:ext cx="8550360" cy="536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1 способ</a:t>
            </a:r>
            <a:r>
              <a:rPr b="0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Индуктивный</a:t>
            </a: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конкретных представлений к обобщениям и закономерностям. Накапливаются конкретные представления, затем они обобщаются и систематизиру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ачала дети знакомятся с геометрическими фигурами (различают, называют, сравнивают), а затем, на этой основе формируется понятие «многоугольни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+) Этот способ соответствует характеру мышления дошкольник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 )Дети не выходят за пределы единичных фактов и случа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граничивает их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  </a:t>
            </a:r>
            <a:r>
              <a:rPr b="1" i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2 способ </a:t>
            </a:r>
            <a:r>
              <a:rPr b="0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Дедуктивны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е материала идет от общих закономерностей, понятий и правил к частным, конкретным проявлени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методика формирования геометр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й А.Н. Довидч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ачале у детей формируется обобщенное представ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ногоугольниках на основе понятия «много», как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гурах у которых много углов. Затем, в процес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я  счета рассматриваются разнообраз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многоугольников (треугольники, четырехугольник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иугольники и т.д.). Несмотря на сложность да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а для дошкольников, он выводит ребенка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йный уровень восприятия матери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721-686A-4A39-B391-A57175BC4C0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0760" y="313920"/>
            <a:ext cx="8229600" cy="18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Сочетание двух способов – </a:t>
            </a:r>
            <a:br>
              <a:rPr sz="2800"/>
            </a:b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наиболее оптимальный вариант </a:t>
            </a:r>
            <a:br>
              <a:rPr sz="2800"/>
            </a:b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организации математического </a:t>
            </a:r>
            <a:br>
              <a:rPr sz="2800"/>
            </a:b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развития дошкольников.</a:t>
            </a:r>
            <a:br>
              <a:rPr sz="2800"/>
            </a:b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73120" y="2443320"/>
            <a:ext cx="8113680" cy="36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вариантов дедуктивного способа - 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формирование у дошкольников обобщенных способов решения арифметических задач.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ся знакомить детей с моделью, помогающей усвоить обобщенное понятие арифметического   действия   (сложения   и   вычитания)   как   отношения части   и  целого: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конструирования схемы-формулы дети делят полоску бумаги на части, отображая свои действия в схеме-формуле (модели) при помощи воспитателя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ое и часть сравниваются и их отношение записывается формулой с помощью знаков :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ru-RU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4ED-81B6-49F6-8BEF-64DEB435B9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573120" y="5416560"/>
            <a:ext cx="6059520" cy="709560"/>
            <a:chOff x="573120" y="5416560"/>
            <a:chExt cx="6059520" cy="709560"/>
          </a:xfrm>
        </p:grpSpPr>
        <p:sp>
          <p:nvSpPr>
            <p:cNvPr id="220" name="AutoShape 5"/>
            <p:cNvSpPr/>
            <p:nvPr/>
          </p:nvSpPr>
          <p:spPr>
            <a:xfrm>
              <a:off x="573120" y="5416560"/>
              <a:ext cx="6059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1199880" y="5573880"/>
              <a:ext cx="24015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3601800" y="5573880"/>
              <a:ext cx="2401560" cy="158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1199880" y="5810400"/>
              <a:ext cx="2401560" cy="158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3915360" y="5810400"/>
              <a:ext cx="2401560" cy="158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61680" y="895320"/>
            <a:ext cx="802476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Методы и приемы математического развития детей до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тематическом развитии у де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 использует разнообразные мет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ий–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практический метод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ющий как специфике математики, так и возрастным возможностям, уровню развития мышления дошк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4C16-0929-45E3-A344-1F1E6586E9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9840" y="1104840"/>
            <a:ext cx="83948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Особенности практического метода в развитии математических представ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разнообразных  практических действий, служащих основой для умственных действ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использование специального дидактического материа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математических представлений как результата  практических действий с матери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навыков счета, измерения, вычисления и рассуждения в элементарной фор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е использование математических представлений в предметной деятельности, игре, труде, т. е. в других видах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1D5-2F4A-42B4-9971-B214316A02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69720" y="1098360"/>
            <a:ext cx="853128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ют </a:t>
            </a:r>
            <a:r>
              <a:rPr b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2 вариант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и совместной математической деятельности в ДО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Первый вариант:</a:t>
            </a:r>
            <a:r>
              <a:rPr b="1" i="1" lang="ru-RU" sz="2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игр для актуализации (закреплении и применении) полученных на занятиях представлений. Она подчиняется системе занятий и связана с ней в задачах и содерж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b00000"/>
                </a:solidFill>
                <a:uFillTx/>
                <a:latin typeface="Times New Roman"/>
                <a:ea typeface="Times New Roman"/>
              </a:rPr>
              <a:t>Второй вариант 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ая игровая деятельность организуется как самостоятельная система, исключающая математические занятия. Система игр берет на себя всю нагрузку по формировании системы предста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3B5C-36D9-4582-AC11-469013D102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47760" y="116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представляет собой сложную науку, которая может вызвать определенные трудности во время школьного обучения. Поэтому при подготовке к школе важно познакомить детей   с основами логического мышления, которые используются во всех видах деятельности и являются основой математических  представ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в логическими операциями,  ребенок  станет  более внимательным, научится ясно и четко  мыслить, сумеет в нужный момент сконцентрироваться на сути проблемы, убедить других в своей прав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Развитое логическое мышление</a:t>
            </a:r>
            <a:r>
              <a:rPr b="0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 не природный дар. Существует большое количество исследований, подтверждающих, что развитием логического мышления можно и нужно занима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EA30-C9E0-402B-A4AA-4BC751609D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Логические блоки Дьенеша</a:t>
            </a:r>
            <a:br>
              <a:rPr sz="4000"/>
            </a:b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975120" y="1039680"/>
            <a:ext cx="46080" cy="581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11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4" name="Line 24"/>
          <p:cNvSpPr/>
          <p:nvPr/>
        </p:nvSpPr>
        <p:spPr>
          <a:xfrm flipV="1">
            <a:off x="47520" y="1010880"/>
            <a:ext cx="909648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5"/>
          <p:cNvSpPr/>
          <p:nvPr/>
        </p:nvSpPr>
        <p:spPr>
          <a:xfrm>
            <a:off x="4156200" y="3597120"/>
            <a:ext cx="487188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С детьми старшего дошкольного возраста игры  проводятся на основе «карточек-загадок», где изображены свойства бл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Сначала дети играют с карточками, состоящими лишь из двух признаков: цвета и формы, величин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и формы и п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Постепенно игра усложняется - карточка увеличивается до четырех признаков, при этом один признак – отрицающ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00000"/>
                </a:solidFill>
                <a:latin typeface="Arial"/>
                <a:ea typeface="Arial"/>
              </a:rPr>
              <a:t>Наибольший интерес у детей вызывает игра, когда ведущий раздает карточки рубашкой вниз, наподобие игральных кар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4"/>
          <p:cNvSpPr/>
          <p:nvPr/>
        </p:nvSpPr>
        <p:spPr>
          <a:xfrm>
            <a:off x="3979080" y="3343320"/>
            <a:ext cx="516420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1E57-679A-4699-97B1-F86E44560E9C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4213080" y="1214280"/>
            <a:ext cx="3740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6"/>
          <p:cNvSpPr/>
          <p:nvPr/>
        </p:nvSpPr>
        <p:spPr>
          <a:xfrm>
            <a:off x="4065480" y="16351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7"/>
          <p:cNvSpPr/>
          <p:nvPr/>
        </p:nvSpPr>
        <p:spPr>
          <a:xfrm>
            <a:off x="4105440" y="287496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8"/>
          <p:cNvSpPr/>
          <p:nvPr/>
        </p:nvSpPr>
        <p:spPr>
          <a:xfrm>
            <a:off x="4067280" y="22906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0"/>
          <p:cNvSpPr/>
          <p:nvPr/>
        </p:nvSpPr>
        <p:spPr>
          <a:xfrm>
            <a:off x="4303800" y="1579680"/>
            <a:ext cx="465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Продолжать формировать основные приемы логического мышления: сравнение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, анализ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1"/>
          <p:cNvSpPr/>
          <p:nvPr/>
        </p:nvSpPr>
        <p:spPr>
          <a:xfrm>
            <a:off x="4321080" y="2795760"/>
            <a:ext cx="45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ать формировать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коммуникативных  навы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322880" y="2220840"/>
            <a:ext cx="46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 детей познавательных интересов, умения рассуждать, доказыва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41"/>
          <p:cNvGrpSpPr/>
          <p:nvPr/>
        </p:nvGrpSpPr>
        <p:grpSpPr>
          <a:xfrm>
            <a:off x="420840" y="5775480"/>
            <a:ext cx="3481200" cy="866520"/>
            <a:chOff x="420840" y="5775480"/>
            <a:chExt cx="3481200" cy="866520"/>
          </a:xfrm>
        </p:grpSpPr>
        <p:pic>
          <p:nvPicPr>
            <p:cNvPr id="246" name="Рисунок 0" descr=""/>
            <p:cNvPicPr/>
            <p:nvPr/>
          </p:nvPicPr>
          <p:blipFill>
            <a:blip r:embed="rId1"/>
            <a:stretch/>
          </p:blipFill>
          <p:spPr>
            <a:xfrm>
              <a:off x="3022560" y="5775480"/>
              <a:ext cx="879480" cy="8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Рисунок 79" descr=""/>
            <p:cNvPicPr/>
            <p:nvPr/>
          </p:nvPicPr>
          <p:blipFill>
            <a:blip r:embed="rId2"/>
            <a:stretch/>
          </p:blipFill>
          <p:spPr>
            <a:xfrm>
              <a:off x="420840" y="5793480"/>
              <a:ext cx="88632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5" descr=""/>
            <p:cNvPicPr/>
            <p:nvPr/>
          </p:nvPicPr>
          <p:blipFill>
            <a:blip r:embed="rId3"/>
            <a:stretch/>
          </p:blipFill>
          <p:spPr>
            <a:xfrm>
              <a:off x="2144160" y="5786280"/>
              <a:ext cx="889560" cy="8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Рисунок 81" descr=""/>
            <p:cNvPicPr/>
            <p:nvPr/>
          </p:nvPicPr>
          <p:blipFill>
            <a:blip r:embed="rId4"/>
            <a:stretch/>
          </p:blipFill>
          <p:spPr>
            <a:xfrm>
              <a:off x="1303920" y="5790600"/>
              <a:ext cx="847440" cy="847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Группа 42"/>
          <p:cNvGrpSpPr/>
          <p:nvPr/>
        </p:nvGrpSpPr>
        <p:grpSpPr>
          <a:xfrm>
            <a:off x="2325600" y="3932280"/>
            <a:ext cx="1582920" cy="799920"/>
            <a:chOff x="2325600" y="3932280"/>
            <a:chExt cx="1582920" cy="799920"/>
          </a:xfrm>
        </p:grpSpPr>
        <p:pic>
          <p:nvPicPr>
            <p:cNvPr id="251" name="Picture 13" descr=""/>
            <p:cNvPicPr/>
            <p:nvPr/>
          </p:nvPicPr>
          <p:blipFill>
            <a:blip r:embed="rId5"/>
            <a:stretch/>
          </p:blipFill>
          <p:spPr>
            <a:xfrm>
              <a:off x="2325600" y="3932280"/>
              <a:ext cx="79308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Рисунок 3" descr=""/>
            <p:cNvPicPr/>
            <p:nvPr/>
          </p:nvPicPr>
          <p:blipFill>
            <a:blip r:embed="rId6"/>
            <a:stretch/>
          </p:blipFill>
          <p:spPr>
            <a:xfrm>
              <a:off x="3115440" y="3940200"/>
              <a:ext cx="793080" cy="79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3" name="Группа 37"/>
          <p:cNvGrpSpPr/>
          <p:nvPr/>
        </p:nvGrpSpPr>
        <p:grpSpPr>
          <a:xfrm>
            <a:off x="1522440" y="4802040"/>
            <a:ext cx="2382840" cy="822600"/>
            <a:chOff x="1522440" y="4802040"/>
            <a:chExt cx="2382840" cy="822600"/>
          </a:xfrm>
        </p:grpSpPr>
        <p:pic>
          <p:nvPicPr>
            <p:cNvPr id="254" name="Рисунок 71" descr=""/>
            <p:cNvPicPr/>
            <p:nvPr/>
          </p:nvPicPr>
          <p:blipFill>
            <a:blip r:embed="rId7"/>
            <a:stretch/>
          </p:blipFill>
          <p:spPr>
            <a:xfrm>
              <a:off x="1522440" y="4821480"/>
              <a:ext cx="791640" cy="7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Рисунок 73" descr=""/>
            <p:cNvPicPr/>
            <p:nvPr/>
          </p:nvPicPr>
          <p:blipFill>
            <a:blip r:embed="rId8"/>
            <a:stretch/>
          </p:blipFill>
          <p:spPr>
            <a:xfrm>
              <a:off x="2310480" y="4811400"/>
              <a:ext cx="79236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Рисунок 87" descr=""/>
            <p:cNvPicPr/>
            <p:nvPr/>
          </p:nvPicPr>
          <p:blipFill>
            <a:blip r:embed="rId9"/>
            <a:stretch/>
          </p:blipFill>
          <p:spPr>
            <a:xfrm>
              <a:off x="3081600" y="4802040"/>
              <a:ext cx="823680" cy="82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Рисунок 36" descr=""/>
          <p:cNvPicPr/>
          <p:nvPr/>
        </p:nvPicPr>
        <p:blipFill>
          <a:blip r:embed="rId10"/>
          <a:stretch/>
        </p:blipFill>
        <p:spPr>
          <a:xfrm>
            <a:off x="162000" y="1149480"/>
            <a:ext cx="1743120" cy="10778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258" name="Рисунок 38" descr=""/>
          <p:cNvPicPr/>
          <p:nvPr/>
        </p:nvPicPr>
        <p:blipFill>
          <a:blip r:embed="rId11"/>
          <a:stretch/>
        </p:blipFill>
        <p:spPr>
          <a:xfrm>
            <a:off x="2320920" y="1309680"/>
            <a:ext cx="1471680" cy="208296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259" name="Line 24"/>
          <p:cNvSpPr/>
          <p:nvPr/>
        </p:nvSpPr>
        <p:spPr>
          <a:xfrm>
            <a:off x="0" y="3817800"/>
            <a:ext cx="402912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Рисунок 4" descr=""/>
          <p:cNvPicPr/>
          <p:nvPr/>
        </p:nvPicPr>
        <p:blipFill>
          <a:blip r:embed="rId12"/>
          <a:stretch/>
        </p:blipFill>
        <p:spPr>
          <a:xfrm>
            <a:off x="343080" y="2338560"/>
            <a:ext cx="1761840" cy="13204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"/>
          <p:cNvPicPr/>
          <p:nvPr/>
        </p:nvPicPr>
        <p:blipFill>
          <a:blip r:embed="rId13"/>
          <a:stretch/>
        </p:blipFill>
        <p:spPr>
          <a:xfrm>
            <a:off x="109440" y="3881520"/>
            <a:ext cx="128592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2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алочки Кюизенера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3975120" y="1039680"/>
            <a:ext cx="46080" cy="5818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1"/>
          <p:cNvSpPr txBox="1"/>
          <p:nvPr/>
        </p:nvSpPr>
        <p:spPr>
          <a:xfrm rot="2855400">
            <a:off x="910800" y="389736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5" name="Line 24"/>
          <p:cNvSpPr/>
          <p:nvPr/>
        </p:nvSpPr>
        <p:spPr>
          <a:xfrm flipV="1">
            <a:off x="47520" y="1010880"/>
            <a:ext cx="909648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5"/>
          <p:cNvSpPr/>
          <p:nvPr/>
        </p:nvSpPr>
        <p:spPr>
          <a:xfrm>
            <a:off x="4105440" y="3529080"/>
            <a:ext cx="47401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472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Calibri"/>
              </a:rPr>
              <a:t>На начальном этапе занятий палочки   используются  как игровой  материал. Дети играют с ними, как с обычными кубиками, палочками, конструктор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00000"/>
                </a:solidFill>
                <a:latin typeface="Times New Roman"/>
                <a:ea typeface="Calibri"/>
              </a:rPr>
              <a:t>На втором этапе дети учатся выполнять задания по схемам, как индивидуально, так и в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47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3979080" y="3343320"/>
            <a:ext cx="5164200" cy="44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0C13-2A2B-45FC-AA8C-EB0F2F73865C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4352760" y="1265400"/>
            <a:ext cx="37404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00000"/>
                </a:solidFill>
                <a:latin typeface="Arial"/>
                <a:ea typeface="Arial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4065480" y="16351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4105440" y="2874960"/>
            <a:ext cx="247320" cy="247680"/>
          </a:xfrm>
          <a:custGeom>
            <a:avLst/>
            <a:gdLst>
              <a:gd name="textAreaLeft" fmla="*/ 36000 w 247320"/>
              <a:gd name="textAreaRight" fmla="*/ 211320 w 24732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4076640" y="2212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4321080" y="2795760"/>
            <a:ext cx="45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знакомить с составом числа, прямого и обратного сче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4361040" y="2114640"/>
            <a:ext cx="463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должать знакомить с понятиями величины, ширины и высоты (упражнять в сравнении предмето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349880" y="1593720"/>
            <a:ext cx="4638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одолжать развитие логического мышления, внимания, мелкой мотор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21" descr=""/>
          <p:cNvPicPr/>
          <p:nvPr/>
        </p:nvPicPr>
        <p:blipFill>
          <a:blip r:embed="rId1"/>
          <a:stretch/>
        </p:blipFill>
        <p:spPr>
          <a:xfrm>
            <a:off x="3009960" y="5429160"/>
            <a:ext cx="687240" cy="11336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77" name="Рисунок 22" descr=""/>
          <p:cNvPicPr/>
          <p:nvPr/>
        </p:nvPicPr>
        <p:blipFill>
          <a:blip r:embed="rId2"/>
          <a:stretch/>
        </p:blipFill>
        <p:spPr>
          <a:xfrm>
            <a:off x="1073160" y="5349960"/>
            <a:ext cx="1654200" cy="1112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78" name="Рисунок 25" descr=""/>
          <p:cNvPicPr/>
          <p:nvPr/>
        </p:nvPicPr>
        <p:blipFill>
          <a:blip r:embed="rId3"/>
          <a:stretch/>
        </p:blipFill>
        <p:spPr>
          <a:xfrm>
            <a:off x="2414520" y="1224000"/>
            <a:ext cx="1411200" cy="9540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79" name="Рисунок 30" descr=""/>
          <p:cNvPicPr/>
          <p:nvPr/>
        </p:nvPicPr>
        <p:blipFill>
          <a:blip r:embed="rId4"/>
          <a:stretch/>
        </p:blipFill>
        <p:spPr>
          <a:xfrm>
            <a:off x="297000" y="1297080"/>
            <a:ext cx="1687320" cy="17017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80" name="Рисунок 34" descr=""/>
          <p:cNvPicPr/>
          <p:nvPr/>
        </p:nvPicPr>
        <p:blipFill>
          <a:blip r:embed="rId5"/>
          <a:stretch/>
        </p:blipFill>
        <p:spPr>
          <a:xfrm>
            <a:off x="209520" y="3338640"/>
            <a:ext cx="1306440" cy="17571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81" name="Рисунок 38" descr=""/>
          <p:cNvPicPr/>
          <p:nvPr/>
        </p:nvPicPr>
        <p:blipFill>
          <a:blip r:embed="rId6"/>
          <a:stretch/>
        </p:blipFill>
        <p:spPr>
          <a:xfrm>
            <a:off x="2200320" y="2376360"/>
            <a:ext cx="1217520" cy="11494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82" name="Рисунок 40" descr=""/>
          <p:cNvPicPr/>
          <p:nvPr/>
        </p:nvPicPr>
        <p:blipFill>
          <a:blip r:embed="rId7"/>
          <a:stretch/>
        </p:blipFill>
        <p:spPr>
          <a:xfrm>
            <a:off x="1744560" y="3759120"/>
            <a:ext cx="2044800" cy="1455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Номер слайда 20"/>
          <p:cNvSpPr/>
          <p:nvPr/>
        </p:nvSpPr>
        <p:spPr>
          <a:xfrm>
            <a:off x="6593040" y="63482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F1E8-2FCB-44A2-9C50-BCAA04B6C924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2"/>
          <p:cNvSpPr/>
          <p:nvPr/>
        </p:nvSpPr>
        <p:spPr>
          <a:xfrm>
            <a:off x="773280" y="5692680"/>
            <a:ext cx="301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лесенку в двух направлениях (подъем и спуск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4332240" y="3251160"/>
            <a:ext cx="214200" cy="247680"/>
          </a:xfrm>
          <a:custGeom>
            <a:avLst/>
            <a:gdLst>
              <a:gd name="textAreaLeft" fmla="*/ 31320 w 214200"/>
              <a:gd name="textAreaRight" fmla="*/ 182880 w 21420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4300560" y="17049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428760" y="57373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7"/>
          <p:cNvSpPr/>
          <p:nvPr/>
        </p:nvSpPr>
        <p:spPr>
          <a:xfrm>
            <a:off x="4559400" y="2647800"/>
            <a:ext cx="400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овер так, чтобы все полосы в нем были разного ц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38"/>
          <p:cNvSpPr/>
          <p:nvPr/>
        </p:nvSpPr>
        <p:spPr>
          <a:xfrm>
            <a:off x="4102200" y="596880"/>
            <a:ext cx="49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Суть игр и упражнений состоит в группировке палочек  по цвету и размеру, сооружению различных постро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39" descr=""/>
          <p:cNvPicPr/>
          <p:nvPr/>
        </p:nvPicPr>
        <p:blipFill>
          <a:blip r:embed="rId1"/>
          <a:stretch/>
        </p:blipFill>
        <p:spPr>
          <a:xfrm>
            <a:off x="4622760" y="3186000"/>
            <a:ext cx="4102200" cy="26337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91" name="Рисунок 40" descr=""/>
          <p:cNvPicPr/>
          <p:nvPr/>
        </p:nvPicPr>
        <p:blipFill>
          <a:blip r:embed="rId2"/>
          <a:stretch/>
        </p:blipFill>
        <p:spPr>
          <a:xfrm>
            <a:off x="4657680" y="1701720"/>
            <a:ext cx="3971880" cy="8557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292" name="Рисунок 41" descr=""/>
          <p:cNvPicPr/>
          <p:nvPr/>
        </p:nvPicPr>
        <p:blipFill>
          <a:blip r:embed="rId3"/>
          <a:stretch/>
        </p:blipFill>
        <p:spPr>
          <a:xfrm>
            <a:off x="428760" y="3186000"/>
            <a:ext cx="3530520" cy="23511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293" name="Прямоугольник 43"/>
          <p:cNvSpPr/>
          <p:nvPr/>
        </p:nvSpPr>
        <p:spPr>
          <a:xfrm>
            <a:off x="4572000" y="586116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разноцветный ковер, длина которого равна 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Рисунок 20" descr=""/>
          <p:cNvPicPr/>
          <p:nvPr/>
        </p:nvPicPr>
        <p:blipFill>
          <a:blip r:embed="rId4"/>
          <a:stretch/>
        </p:blipFill>
        <p:spPr>
          <a:xfrm>
            <a:off x="428760" y="584280"/>
            <a:ext cx="3530520" cy="24811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80960" y="222120"/>
            <a:ext cx="8205840" cy="1001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гра по методике Воскобович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400" y="163080"/>
            <a:ext cx="8229600" cy="8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Математический планшет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7977240" y="6583320"/>
            <a:ext cx="14000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6e6e6"/>
                </a:solidFill>
                <a:latin typeface="Arial"/>
              </a:rPr>
              <a:t>© Евлахова Е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EA13-1B70-47B5-9279-7BECC92B25B7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4"/>
          <p:cNvSpPr/>
          <p:nvPr/>
        </p:nvSpPr>
        <p:spPr>
          <a:xfrm flipH="1">
            <a:off x="4632480" y="1351080"/>
            <a:ext cx="63360" cy="550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4"/>
          <p:cNvSpPr/>
          <p:nvPr/>
        </p:nvSpPr>
        <p:spPr>
          <a:xfrm>
            <a:off x="-165960" y="1486080"/>
            <a:ext cx="9309240" cy="6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6"/>
          <p:cNvSpPr/>
          <p:nvPr/>
        </p:nvSpPr>
        <p:spPr>
          <a:xfrm>
            <a:off x="4732200" y="32814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4727520" y="21366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Рисунок 28" descr=""/>
          <p:cNvPicPr/>
          <p:nvPr/>
        </p:nvPicPr>
        <p:blipFill>
          <a:blip r:embed="rId1"/>
          <a:stretch/>
        </p:blipFill>
        <p:spPr>
          <a:xfrm>
            <a:off x="2392200" y="4119480"/>
            <a:ext cx="2000520" cy="2073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304" name="Прямоугольник 29"/>
          <p:cNvSpPr/>
          <p:nvPr/>
        </p:nvSpPr>
        <p:spPr>
          <a:xfrm>
            <a:off x="4952880" y="2039760"/>
            <a:ext cx="412452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й материал позволяет ребенку сконструировать на плоскости множество различных 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4952880" y="3276720"/>
            <a:ext cx="40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учатся ориентироваться на плоскости, работать по схеме, развивает логику, воображение, усидчивость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Рисунок 32" descr=""/>
          <p:cNvPicPr/>
          <p:nvPr/>
        </p:nvPicPr>
        <p:blipFill>
          <a:blip r:embed="rId2"/>
          <a:stretch/>
        </p:blipFill>
        <p:spPr>
          <a:xfrm>
            <a:off x="853920" y="1652760"/>
            <a:ext cx="2818080" cy="22525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07" name="Рисунок 33" descr=""/>
          <p:cNvPicPr/>
          <p:nvPr/>
        </p:nvPicPr>
        <p:blipFill>
          <a:blip r:embed="rId3"/>
          <a:stretch/>
        </p:blipFill>
        <p:spPr>
          <a:xfrm>
            <a:off x="588960" y="4127400"/>
            <a:ext cx="1279440" cy="1857600"/>
          </a:xfrm>
          <a:prstGeom prst="rect">
            <a:avLst/>
          </a:prstGeom>
          <a:ln w="0">
            <a:noFill/>
          </a:ln>
        </p:spPr>
      </p:pic>
      <p:pic>
        <p:nvPicPr>
          <p:cNvPr id="308" name="Рисунок 35" descr=""/>
          <p:cNvPicPr/>
          <p:nvPr/>
        </p:nvPicPr>
        <p:blipFill>
          <a:blip r:embed="rId4"/>
          <a:stretch/>
        </p:blipFill>
        <p:spPr>
          <a:xfrm>
            <a:off x="5468760" y="4676760"/>
            <a:ext cx="633600" cy="61920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36" descr=""/>
          <p:cNvPicPr/>
          <p:nvPr/>
        </p:nvPicPr>
        <p:blipFill>
          <a:blip r:embed="rId5"/>
          <a:stretch/>
        </p:blipFill>
        <p:spPr>
          <a:xfrm>
            <a:off x="6462720" y="5442120"/>
            <a:ext cx="552600" cy="542880"/>
          </a:xfrm>
          <a:prstGeom prst="rect">
            <a:avLst/>
          </a:prstGeom>
          <a:ln w="0">
            <a:noFill/>
          </a:ln>
        </p:spPr>
      </p:pic>
      <p:pic>
        <p:nvPicPr>
          <p:cNvPr id="310" name="Рисунок 37" descr=""/>
          <p:cNvPicPr/>
          <p:nvPr/>
        </p:nvPicPr>
        <p:blipFill>
          <a:blip r:embed="rId6"/>
          <a:stretch/>
        </p:blipFill>
        <p:spPr>
          <a:xfrm>
            <a:off x="7386480" y="4754520"/>
            <a:ext cx="6098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447840" y="314280"/>
            <a:ext cx="8262720" cy="108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Игры по методике Никитина Б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47840" y="286920"/>
            <a:ext cx="8229600" cy="84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«Сложи узор»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3165-99E8-4D34-B9B1-52AE88FE6458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200160" y="2025720"/>
            <a:ext cx="2198520" cy="3029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15" name="Picture 5" descr=""/>
          <p:cNvPicPr/>
          <p:nvPr/>
        </p:nvPicPr>
        <p:blipFill>
          <a:blip r:embed="rId2"/>
          <a:stretch/>
        </p:blipFill>
        <p:spPr>
          <a:xfrm>
            <a:off x="2857680" y="1620720"/>
            <a:ext cx="1458720" cy="20192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316" name="Line 24"/>
          <p:cNvSpPr/>
          <p:nvPr/>
        </p:nvSpPr>
        <p:spPr>
          <a:xfrm>
            <a:off x="-63360" y="1359000"/>
            <a:ext cx="920736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4"/>
          <p:cNvSpPr/>
          <p:nvPr/>
        </p:nvSpPr>
        <p:spPr>
          <a:xfrm>
            <a:off x="5189400" y="1397160"/>
            <a:ext cx="46080" cy="546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6"/>
          <p:cNvSpPr/>
          <p:nvPr/>
        </p:nvSpPr>
        <p:spPr>
          <a:xfrm>
            <a:off x="5491080" y="2944800"/>
            <a:ext cx="3652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 кубикам прилагаются набором схем, таким образом знакомя ребенка с таким способом передачи информации, как чертеж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7"/>
          <p:cNvSpPr/>
          <p:nvPr/>
        </p:nvSpPr>
        <p:spPr>
          <a:xfrm>
            <a:off x="5432400" y="2052720"/>
            <a:ext cx="366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а состоит из набора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16 кубиков, грани которых раскрашены в разные ц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8"/>
          <p:cNvSpPr/>
          <p:nvPr/>
        </p:nvSpPr>
        <p:spPr>
          <a:xfrm>
            <a:off x="5451480" y="4056120"/>
            <a:ext cx="36925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грая, ребенок учится не только понимать схемы, но и распознавать реальные предметы в абстрактных рисун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зже следует самостоятельное придумывание узоров и созд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овых комбинаций из имеющихся элемен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16"/>
          <p:cNvSpPr/>
          <p:nvPr/>
        </p:nvSpPr>
        <p:spPr>
          <a:xfrm>
            <a:off x="5224320" y="21160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7"/>
          <p:cNvSpPr/>
          <p:nvPr/>
        </p:nvSpPr>
        <p:spPr>
          <a:xfrm>
            <a:off x="5254560" y="41133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8"/>
          <p:cNvSpPr/>
          <p:nvPr/>
        </p:nvSpPr>
        <p:spPr>
          <a:xfrm>
            <a:off x="5286240" y="29876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4"/>
          <p:cNvSpPr/>
          <p:nvPr/>
        </p:nvSpPr>
        <p:spPr>
          <a:xfrm>
            <a:off x="5172840" y="1854360"/>
            <a:ext cx="3970440" cy="4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49960" y="1521000"/>
            <a:ext cx="373860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уть игр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Рисунок 24" descr=""/>
          <p:cNvPicPr/>
          <p:nvPr/>
        </p:nvPicPr>
        <p:blipFill>
          <a:blip r:embed="rId3"/>
          <a:stretch/>
        </p:blipFill>
        <p:spPr>
          <a:xfrm>
            <a:off x="2655720" y="3824280"/>
            <a:ext cx="1924200" cy="24606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480960" y="46188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44360"/>
            <a:ext cx="842976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Сложи из  счетных палочек  цифру,</a:t>
            </a:r>
            <a:br>
              <a:rPr sz="3200"/>
            </a:b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фигуры, предметы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11FA-C53B-4F19-A075-6119E800B1F9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574960" y="1345680"/>
            <a:ext cx="33116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ям  дается зад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числа с помощью счетных палочек разного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4"/>
          <p:cNvSpPr/>
          <p:nvPr/>
        </p:nvSpPr>
        <p:spPr>
          <a:xfrm>
            <a:off x="-26280" y="1079640"/>
            <a:ext cx="9207720" cy="4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5189400" y="1117440"/>
            <a:ext cx="49320" cy="574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6"/>
          <p:cNvSpPr/>
          <p:nvPr/>
        </p:nvSpPr>
        <p:spPr>
          <a:xfrm>
            <a:off x="5361120" y="30592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7"/>
          <p:cNvSpPr/>
          <p:nvPr/>
        </p:nvSpPr>
        <p:spPr>
          <a:xfrm>
            <a:off x="5381640" y="40132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9"/>
          <p:cNvSpPr/>
          <p:nvPr/>
        </p:nvSpPr>
        <p:spPr>
          <a:xfrm>
            <a:off x="5303880" y="1411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21"/>
          <p:cNvSpPr/>
          <p:nvPr/>
        </p:nvSpPr>
        <p:spPr>
          <a:xfrm>
            <a:off x="5796000" y="3894120"/>
            <a:ext cx="359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два квадр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 семи па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2"/>
          <p:cNvSpPr/>
          <p:nvPr/>
        </p:nvSpPr>
        <p:spPr>
          <a:xfrm>
            <a:off x="5629320" y="283068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строить два треугольника из пяти па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Рисунок 19" descr=""/>
          <p:cNvPicPr/>
          <p:nvPr/>
        </p:nvPicPr>
        <p:blipFill>
          <a:blip r:embed="rId1"/>
          <a:stretch/>
        </p:blipFill>
        <p:spPr>
          <a:xfrm>
            <a:off x="1274760" y="5153040"/>
            <a:ext cx="1266840" cy="11858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39" name="Рисунок 24" descr=""/>
          <p:cNvPicPr/>
          <p:nvPr/>
        </p:nvPicPr>
        <p:blipFill>
          <a:blip r:embed="rId2"/>
          <a:stretch/>
        </p:blipFill>
        <p:spPr>
          <a:xfrm>
            <a:off x="318960" y="3619440"/>
            <a:ext cx="947880" cy="124956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40" name="Рисунок 25" descr=""/>
          <p:cNvPicPr/>
          <p:nvPr/>
        </p:nvPicPr>
        <p:blipFill>
          <a:blip r:embed="rId3"/>
          <a:stretch/>
        </p:blipFill>
        <p:spPr>
          <a:xfrm>
            <a:off x="2987640" y="3630600"/>
            <a:ext cx="2006640" cy="26226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41" name="Рисунок 26" descr=""/>
          <p:cNvPicPr/>
          <p:nvPr/>
        </p:nvPicPr>
        <p:blipFill>
          <a:blip r:embed="rId4"/>
          <a:stretch/>
        </p:blipFill>
        <p:spPr>
          <a:xfrm>
            <a:off x="1785960" y="3595680"/>
            <a:ext cx="923760" cy="121752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sp>
        <p:nvSpPr>
          <p:cNvPr id="342" name="Прямоугольник 29"/>
          <p:cNvSpPr/>
          <p:nvPr/>
        </p:nvSpPr>
        <p:spPr>
          <a:xfrm>
            <a:off x="5730840" y="4851360"/>
            <a:ext cx="351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помощью схемы палочками выложить узор или предм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18"/>
          <p:cNvSpPr/>
          <p:nvPr/>
        </p:nvSpPr>
        <p:spPr>
          <a:xfrm>
            <a:off x="5381640" y="51530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Рисунок 1" descr=""/>
          <p:cNvPicPr/>
          <p:nvPr/>
        </p:nvPicPr>
        <p:blipFill>
          <a:blip r:embed="rId5"/>
          <a:stretch/>
        </p:blipFill>
        <p:spPr>
          <a:xfrm>
            <a:off x="2567160" y="1535040"/>
            <a:ext cx="2417760" cy="180972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2" descr=""/>
          <p:cNvPicPr/>
          <p:nvPr/>
        </p:nvPicPr>
        <p:blipFill>
          <a:blip r:embed="rId6"/>
          <a:stretch/>
        </p:blipFill>
        <p:spPr>
          <a:xfrm>
            <a:off x="106200" y="1135080"/>
            <a:ext cx="226548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Рисунок 22" descr=""/>
          <p:cNvPicPr/>
          <p:nvPr/>
        </p:nvPicPr>
        <p:blipFill>
          <a:blip r:embed="rId1"/>
          <a:stretch/>
        </p:blipFill>
        <p:spPr>
          <a:xfrm>
            <a:off x="1239840" y="4659480"/>
            <a:ext cx="2314440" cy="19713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8280" y="174600"/>
            <a:ext cx="8229600" cy="7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«Танграм»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8" name="Прямоугольник 6"/>
          <p:cNvSpPr/>
          <p:nvPr/>
        </p:nvSpPr>
        <p:spPr>
          <a:xfrm>
            <a:off x="4260960" y="3643200"/>
            <a:ext cx="466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тям предлагаются разные задания: составлять фигуры по образцу, устному заданию, замыс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7"/>
          <p:cNvSpPr/>
          <p:nvPr/>
        </p:nvSpPr>
        <p:spPr>
          <a:xfrm>
            <a:off x="4025880" y="1233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Цель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4"/>
          <p:cNvSpPr/>
          <p:nvPr/>
        </p:nvSpPr>
        <p:spPr>
          <a:xfrm>
            <a:off x="-26280" y="952560"/>
            <a:ext cx="920772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"/>
          <p:cNvSpPr/>
          <p:nvPr/>
        </p:nvSpPr>
        <p:spPr>
          <a:xfrm>
            <a:off x="3906720" y="901800"/>
            <a:ext cx="46080" cy="595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4"/>
          <p:cNvSpPr/>
          <p:nvPr/>
        </p:nvSpPr>
        <p:spPr>
          <a:xfrm>
            <a:off x="3952800" y="1571760"/>
            <a:ext cx="519120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1"/>
          <p:cNvSpPr/>
          <p:nvPr/>
        </p:nvSpPr>
        <p:spPr>
          <a:xfrm>
            <a:off x="4254480" y="1689120"/>
            <a:ext cx="4724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, как можно больше изображений, используя все 7 частей Танграм. При этом в изображении все части должны быть плотно прижатыми друг к другу. Изображения можно создавать, руководствуясь собственным замыслом или по образ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7"/>
          <p:cNvSpPr/>
          <p:nvPr/>
        </p:nvSpPr>
        <p:spPr>
          <a:xfrm>
            <a:off x="3962520" y="17780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19"/>
          <p:cNvSpPr/>
          <p:nvPr/>
        </p:nvSpPr>
        <p:spPr>
          <a:xfrm>
            <a:off x="3976560" y="370044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Рисунок 19" descr=""/>
          <p:cNvPicPr/>
          <p:nvPr/>
        </p:nvPicPr>
        <p:blipFill>
          <a:blip r:embed="rId2"/>
          <a:stretch/>
        </p:blipFill>
        <p:spPr>
          <a:xfrm>
            <a:off x="4089240" y="4621320"/>
            <a:ext cx="2502000" cy="22366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20" descr=""/>
          <p:cNvPicPr/>
          <p:nvPr/>
        </p:nvPicPr>
        <p:blipFill>
          <a:blip r:embed="rId3"/>
          <a:stretch/>
        </p:blipFill>
        <p:spPr>
          <a:xfrm>
            <a:off x="6535800" y="4691160"/>
            <a:ext cx="1969920" cy="200664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21" descr=""/>
          <p:cNvPicPr/>
          <p:nvPr/>
        </p:nvPicPr>
        <p:blipFill>
          <a:blip r:embed="rId4"/>
          <a:stretch/>
        </p:blipFill>
        <p:spPr>
          <a:xfrm>
            <a:off x="2924280" y="4448160"/>
            <a:ext cx="755640" cy="8272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26" descr=""/>
          <p:cNvPicPr/>
          <p:nvPr/>
        </p:nvPicPr>
        <p:blipFill>
          <a:blip r:embed="rId5"/>
          <a:stretch/>
        </p:blipFill>
        <p:spPr>
          <a:xfrm>
            <a:off x="162000" y="1057320"/>
            <a:ext cx="3663720" cy="310680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360" name="Рисунок 18" descr=""/>
          <p:cNvPicPr/>
          <p:nvPr/>
        </p:nvPicPr>
        <p:blipFill>
          <a:blip r:embed="rId6"/>
          <a:stretch/>
        </p:blipFill>
        <p:spPr>
          <a:xfrm>
            <a:off x="368280" y="4448160"/>
            <a:ext cx="811080" cy="1407960"/>
          </a:xfrm>
          <a:prstGeom prst="rect">
            <a:avLst/>
          </a:prstGeom>
          <a:ln w="0">
            <a:noFill/>
          </a:ln>
        </p:spPr>
      </p:pic>
      <p:sp>
        <p:nvSpPr>
          <p:cNvPr id="361" name="Номер слайда 2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48FE0-81A2-4AA6-AEAC-F223E5BA2D6D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03040" y="545760"/>
            <a:ext cx="89409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Рассели фигуры», «Четвертый – лишний»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41280" y="423720"/>
            <a:ext cx="8229600" cy="8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16E-2129-4EBF-B3C7-1BA13C6BE2BD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"/>
          <p:cNvSpPr/>
          <p:nvPr/>
        </p:nvSpPr>
        <p:spPr>
          <a:xfrm>
            <a:off x="5319720" y="1570680"/>
            <a:ext cx="3632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ку предстоит понять логическую цепочку, в которой распределены предметы и фигуры в таблице, и дорисовать или зачеркнуть недостающ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4"/>
          <p:cNvSpPr/>
          <p:nvPr/>
        </p:nvSpPr>
        <p:spPr>
          <a:xfrm>
            <a:off x="-26280" y="1359000"/>
            <a:ext cx="920772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4"/>
          <p:cNvSpPr/>
          <p:nvPr/>
        </p:nvSpPr>
        <p:spPr>
          <a:xfrm>
            <a:off x="4809960" y="1424160"/>
            <a:ext cx="46080" cy="5460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17"/>
          <p:cNvSpPr/>
          <p:nvPr/>
        </p:nvSpPr>
        <p:spPr>
          <a:xfrm>
            <a:off x="5035680" y="16794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1"/>
          <p:cNvSpPr/>
          <p:nvPr/>
        </p:nvSpPr>
        <p:spPr>
          <a:xfrm>
            <a:off x="5367240" y="3174840"/>
            <a:ext cx="359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ь, какой признак объединяет  предм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9"/>
          <p:cNvSpPr/>
          <p:nvPr/>
        </p:nvSpPr>
        <p:spPr>
          <a:xfrm>
            <a:off x="5010120" y="3214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4"/>
          <p:cNvSpPr/>
          <p:nvPr/>
        </p:nvSpPr>
        <p:spPr>
          <a:xfrm>
            <a:off x="5244480" y="4200480"/>
            <a:ext cx="3971880" cy="46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Рисунок 16" descr=""/>
          <p:cNvPicPr/>
          <p:nvPr/>
        </p:nvPicPr>
        <p:blipFill>
          <a:blip r:embed="rId1"/>
          <a:stretch/>
        </p:blipFill>
        <p:spPr>
          <a:xfrm>
            <a:off x="2819520" y="2151000"/>
            <a:ext cx="1861920" cy="237672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22" descr=""/>
          <p:cNvPicPr/>
          <p:nvPr/>
        </p:nvPicPr>
        <p:blipFill>
          <a:blip r:embed="rId2"/>
          <a:stretch/>
        </p:blipFill>
        <p:spPr>
          <a:xfrm>
            <a:off x="101520" y="3171960"/>
            <a:ext cx="2557440" cy="327312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374" name="Rectangle 1"/>
          <p:cNvSpPr/>
          <p:nvPr/>
        </p:nvSpPr>
        <p:spPr>
          <a:xfrm>
            <a:off x="4986360" y="4209480"/>
            <a:ext cx="39654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д вами картинка с необычным домом. В нем живут геометрические фигур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ервом этаже живут прямоугольники, на втором – треугольники, на третьем-  круги, а четвертом - квадраты. В первом подъезде живут фигуры красного цвета, во втором – желтые, в третьем – синие. Некоторые жители уже находятся в своих квартир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елите геометрические фигуры, которые лежат перед вами в правильном поряд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Рисунок 28" descr=""/>
          <p:cNvPicPr/>
          <p:nvPr/>
        </p:nvPicPr>
        <p:blipFill>
          <a:blip r:embed="rId3"/>
          <a:stretch/>
        </p:blipFill>
        <p:spPr>
          <a:xfrm>
            <a:off x="382680" y="1595520"/>
            <a:ext cx="1550880" cy="137304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sp>
        <p:nvSpPr>
          <p:cNvPr id="376" name="Прямоугольник 20"/>
          <p:cNvSpPr/>
          <p:nvPr/>
        </p:nvSpPr>
        <p:spPr>
          <a:xfrm>
            <a:off x="646200" y="4146480"/>
            <a:ext cx="380880" cy="38124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27"/>
          <p:cNvSpPr/>
          <p:nvPr/>
        </p:nvSpPr>
        <p:spPr>
          <a:xfrm>
            <a:off x="1149480" y="4659480"/>
            <a:ext cx="457200" cy="457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Равнобедренный треугольник 29"/>
          <p:cNvSpPr/>
          <p:nvPr/>
        </p:nvSpPr>
        <p:spPr>
          <a:xfrm>
            <a:off x="1658880" y="5213520"/>
            <a:ext cx="549360" cy="457200"/>
          </a:xfrm>
          <a:prstGeom prst="triangle">
            <a:avLst>
              <a:gd name="adj" fmla="val 50000"/>
            </a:avLst>
          </a:prstGeom>
          <a:solidFill>
            <a:srgbClr val="00206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34800" y="1068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Иг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ствуют развитию внимания, памяти, речи, воображения и мышления ребенка, создают положительную эмоциональную атмосферу, побуждают детей к обучению, коллективному поиску, активности в преобразовании игровой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1D8B-2ED6-441E-840A-32291D3182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Объект 4" descr=""/>
          <p:cNvPicPr/>
          <p:nvPr/>
        </p:nvPicPr>
        <p:blipFill>
          <a:blip r:embed="rId1"/>
          <a:stretch/>
        </p:blipFill>
        <p:spPr>
          <a:xfrm>
            <a:off x="3794040" y="3341520"/>
            <a:ext cx="1555920" cy="1043280"/>
          </a:xfrm>
          <a:prstGeom prst="rect">
            <a:avLst/>
          </a:prstGeom>
          <a:ln w="0">
            <a:noFill/>
          </a:ln>
        </p:spPr>
      </p:pic>
      <p:sp>
        <p:nvSpPr>
          <p:cNvPr id="3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D80B-F3FF-438E-808A-06626B82A9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6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астоль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еча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Рисунок 7" descr=""/>
          <p:cNvPicPr/>
          <p:nvPr/>
        </p:nvPicPr>
        <p:blipFill>
          <a:blip r:embed="rId2"/>
          <a:stretch/>
        </p:blipFill>
        <p:spPr>
          <a:xfrm>
            <a:off x="3794040" y="2908440"/>
            <a:ext cx="1555920" cy="10411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"/>
          <p:cNvPicPr/>
          <p:nvPr/>
        </p:nvPicPr>
        <p:blipFill>
          <a:blip r:embed="rId3"/>
          <a:stretch/>
        </p:blipFill>
        <p:spPr>
          <a:xfrm>
            <a:off x="1650960" y="2163600"/>
            <a:ext cx="1555920" cy="1043280"/>
          </a:xfrm>
          <a:prstGeom prst="rect">
            <a:avLst/>
          </a:prstGeom>
          <a:ln w="0">
            <a:noFill/>
          </a:ln>
        </p:spPr>
      </p:pic>
      <p:pic>
        <p:nvPicPr>
          <p:cNvPr id="386" name="Объект 4" descr=""/>
          <p:cNvPicPr/>
          <p:nvPr/>
        </p:nvPicPr>
        <p:blipFill>
          <a:blip r:embed="rId4"/>
          <a:stretch/>
        </p:blipFill>
        <p:spPr>
          <a:xfrm>
            <a:off x="3794040" y="3352680"/>
            <a:ext cx="1555920" cy="104328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18" descr=""/>
          <p:cNvPicPr/>
          <p:nvPr/>
        </p:nvPicPr>
        <p:blipFill>
          <a:blip r:embed="rId5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4280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ели и задачи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2692440" y="3551400"/>
            <a:ext cx="1900080" cy="1376280"/>
          </a:xfrm>
          <a:custGeom>
            <a:avLst/>
            <a:gdLst>
              <a:gd name="textAreaLeft" fmla="*/ 0 w 1900080"/>
              <a:gd name="textAreaRight" fmla="*/ 1900440 w 190008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4"/>
          <p:cNvSpPr/>
          <p:nvPr/>
        </p:nvSpPr>
        <p:spPr>
          <a:xfrm>
            <a:off x="4611600" y="3486240"/>
            <a:ext cx="366840" cy="1562040"/>
          </a:xfrm>
          <a:custGeom>
            <a:avLst/>
            <a:gdLst>
              <a:gd name="textAreaLeft" fmla="*/ 0 w 366840"/>
              <a:gd name="textAreaRight" fmla="*/ 367200 w 36684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5"/>
          <p:cNvSpPr/>
          <p:nvPr/>
        </p:nvSpPr>
        <p:spPr>
          <a:xfrm flipH="1">
            <a:off x="5010840" y="3551400"/>
            <a:ext cx="1900440" cy="1376280"/>
          </a:xfrm>
          <a:custGeom>
            <a:avLst/>
            <a:gdLst>
              <a:gd name="textAreaLeft" fmla="*/ -360 w 1900440"/>
              <a:gd name="textAreaRight" fmla="*/ 1900440 w 190044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6"/>
          <p:cNvGrpSpPr/>
          <p:nvPr/>
        </p:nvGrpSpPr>
        <p:grpSpPr>
          <a:xfrm>
            <a:off x="423720" y="2021040"/>
            <a:ext cx="2691000" cy="1624680"/>
            <a:chOff x="423720" y="2021040"/>
            <a:chExt cx="2691000" cy="1624680"/>
          </a:xfrm>
        </p:grpSpPr>
        <p:sp>
          <p:nvSpPr>
            <p:cNvPr id="165" name="AutoShape 7"/>
            <p:cNvSpPr/>
            <p:nvPr/>
          </p:nvSpPr>
          <p:spPr>
            <a:xfrm>
              <a:off x="423720" y="2021040"/>
              <a:ext cx="2691000" cy="1624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6161"/>
                </a:gs>
                <a:gs pos="100000">
                  <a:srgbClr val="b24444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592920" y="2126160"/>
              <a:ext cx="1338120" cy="8118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2b2"/>
                </a:gs>
                <a:gs pos="50000">
                  <a:srgbClr val="ff6161">
                    <a:alpha val="0"/>
                  </a:srgbClr>
                </a:gs>
                <a:gs pos="100000">
                  <a:srgbClr val="ff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9"/>
          <p:cNvSpPr/>
          <p:nvPr/>
        </p:nvSpPr>
        <p:spPr>
          <a:xfrm>
            <a:off x="471600" y="2079720"/>
            <a:ext cx="2666880" cy="146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развивающей среды для развития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10"/>
          <p:cNvGrpSpPr/>
          <p:nvPr/>
        </p:nvGrpSpPr>
        <p:grpSpPr>
          <a:xfrm>
            <a:off x="3533760" y="2079720"/>
            <a:ext cx="2548440" cy="1566000"/>
            <a:chOff x="3533760" y="2079720"/>
            <a:chExt cx="2548440" cy="1566000"/>
          </a:xfrm>
        </p:grpSpPr>
        <p:sp>
          <p:nvSpPr>
            <p:cNvPr id="169" name="AutoShape 11"/>
            <p:cNvSpPr/>
            <p:nvPr/>
          </p:nvSpPr>
          <p:spPr>
            <a:xfrm>
              <a:off x="3533760" y="2079720"/>
              <a:ext cx="2548440" cy="1566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c319"/>
                </a:gs>
                <a:gs pos="100000">
                  <a:srgbClr val="b2881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3693960" y="2181240"/>
              <a:ext cx="1267200" cy="782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28f"/>
                </a:gs>
                <a:gs pos="50000">
                  <a:srgbClr val="ffc319">
                    <a:alpha val="0"/>
                  </a:srgbClr>
                </a:gs>
                <a:gs pos="100000">
                  <a:srgbClr val="ffe2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3"/>
          <p:cNvGrpSpPr/>
          <p:nvPr/>
        </p:nvGrpSpPr>
        <p:grpSpPr>
          <a:xfrm>
            <a:off x="6418440" y="2084400"/>
            <a:ext cx="2252880" cy="1608840"/>
            <a:chOff x="6418440" y="2084400"/>
            <a:chExt cx="2252880" cy="1608840"/>
          </a:xfrm>
        </p:grpSpPr>
        <p:sp>
          <p:nvSpPr>
            <p:cNvPr id="172" name="AutoShape 14"/>
            <p:cNvSpPr/>
            <p:nvPr/>
          </p:nvSpPr>
          <p:spPr>
            <a:xfrm>
              <a:off x="6418440" y="2084400"/>
              <a:ext cx="2252880" cy="16088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d02a"/>
                </a:gs>
                <a:gs pos="100000">
                  <a:srgbClr val="75911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6560280" y="2188440"/>
              <a:ext cx="1120320" cy="8038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5e897"/>
                </a:gs>
                <a:gs pos="50000">
                  <a:srgbClr val="a8d02a">
                    <a:alpha val="0"/>
                  </a:srgbClr>
                </a:gs>
                <a:gs pos="100000">
                  <a:srgbClr val="d5e89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16"/>
          <p:cNvSpPr/>
          <p:nvPr/>
        </p:nvSpPr>
        <p:spPr>
          <a:xfrm>
            <a:off x="3460680" y="2263680"/>
            <a:ext cx="2743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и совершенствование мыслительных опер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362640" y="2222640"/>
            <a:ext cx="23954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нал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я интеллектуальных способ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9"/>
          <p:cNvSpPr/>
          <p:nvPr/>
        </p:nvSpPr>
        <p:spPr>
          <a:xfrm>
            <a:off x="1730520" y="5129280"/>
            <a:ext cx="6441840" cy="1359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1994040" y="5151600"/>
            <a:ext cx="580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владение логическими формами мыш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дошкольном возрасте, формирование развития умственных способностей, необходимых для успешного перехода детей к школьному обучени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 flipV="1">
            <a:off x="0" y="1508040"/>
            <a:ext cx="9144000" cy="5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7977240" y="6583320"/>
            <a:ext cx="14000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6e6e6"/>
                </a:solidFill>
                <a:latin typeface="Arial"/>
              </a:rPr>
              <a:t>© Евлахова Е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2BE6-B058-4FD8-A443-F09F621B8CEB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Объект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7F9E-00EC-4D4C-BCE3-CC28F6AFF6C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B70-F72E-419E-A2F3-B965B597F4D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8283-F5A6-418B-85D7-F0F293F4E8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F271-843E-4A53-8D61-6D92E58720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DDC5-E6A5-49BC-BA9C-AB54B86A54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AutoShape 19"/>
          <p:cNvSpPr/>
          <p:nvPr/>
        </p:nvSpPr>
        <p:spPr>
          <a:xfrm>
            <a:off x="1685880" y="6037200"/>
            <a:ext cx="6442200" cy="69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7240">
            <a:solidFill>
              <a:srgbClr val="ff6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72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езультативность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grpSp>
        <p:nvGrpSpPr>
          <p:cNvPr id="400" name="AutoShape 3"/>
          <p:cNvGrpSpPr/>
          <p:nvPr/>
        </p:nvGrpSpPr>
        <p:grpSpPr>
          <a:xfrm>
            <a:off x="1090440" y="1981080"/>
            <a:ext cx="4724640" cy="3382920"/>
            <a:chOff x="1090440" y="1981080"/>
            <a:chExt cx="4724640" cy="3382920"/>
          </a:xfrm>
        </p:grpSpPr>
        <p:pic>
          <p:nvPicPr>
            <p:cNvPr id="401" name="AutoShape 3" descr=""/>
            <p:cNvPicPr/>
            <p:nvPr/>
          </p:nvPicPr>
          <p:blipFill>
            <a:blip r:embed="rId1"/>
            <a:stretch/>
          </p:blipFill>
          <p:spPr>
            <a:xfrm>
              <a:off x="1090440" y="1981080"/>
              <a:ext cx="472464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 rot="5400000">
              <a:off x="538560" y="2802600"/>
              <a:ext cx="3114720" cy="17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4"/>
          <p:cNvSpPr/>
          <p:nvPr/>
        </p:nvSpPr>
        <p:spPr>
          <a:xfrm>
            <a:off x="1071720" y="3398760"/>
            <a:ext cx="210492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ается</a:t>
            </a:r>
            <a:r>
              <a:rPr b="1" lang="ru-RU" sz="1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ь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нимание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ает стойкая способность рассуждат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AutoShape 5"/>
          <p:cNvGrpSpPr/>
          <p:nvPr/>
        </p:nvGrpSpPr>
        <p:grpSpPr>
          <a:xfrm>
            <a:off x="3419640" y="2011320"/>
            <a:ext cx="4717800" cy="3378240"/>
            <a:chOff x="3419640" y="2011320"/>
            <a:chExt cx="4717800" cy="3378240"/>
          </a:xfrm>
        </p:grpSpPr>
        <p:pic>
          <p:nvPicPr>
            <p:cNvPr id="405" name="AutoShape 5" descr=""/>
            <p:cNvPicPr/>
            <p:nvPr/>
          </p:nvPicPr>
          <p:blipFill>
            <a:blip r:embed="rId2"/>
            <a:stretch/>
          </p:blipFill>
          <p:spPr>
            <a:xfrm>
              <a:off x="3419640" y="2011320"/>
              <a:ext cx="471780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 rot="5400000">
              <a:off x="2865600" y="2829600"/>
              <a:ext cx="31147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6"/>
          <p:cNvSpPr/>
          <p:nvPr/>
        </p:nvSpPr>
        <p:spPr>
          <a:xfrm>
            <a:off x="3456000" y="3632040"/>
            <a:ext cx="195408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уется  навык планировать свои действия и переносить усвоенный опыт в новые ситуации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AutoShape 7"/>
          <p:cNvGrpSpPr/>
          <p:nvPr/>
        </p:nvGrpSpPr>
        <p:grpSpPr>
          <a:xfrm>
            <a:off x="5784840" y="2011320"/>
            <a:ext cx="4621320" cy="3378240"/>
            <a:chOff x="5784840" y="2011320"/>
            <a:chExt cx="4621320" cy="3378240"/>
          </a:xfrm>
        </p:grpSpPr>
        <p:pic>
          <p:nvPicPr>
            <p:cNvPr id="409" name="AutoShape 7" descr=""/>
            <p:cNvPicPr/>
            <p:nvPr/>
          </p:nvPicPr>
          <p:blipFill>
            <a:blip r:embed="rId3"/>
            <a:stretch/>
          </p:blipFill>
          <p:spPr>
            <a:xfrm>
              <a:off x="5784840" y="2011320"/>
              <a:ext cx="4621320" cy="33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5400000">
              <a:off x="5227920" y="2829600"/>
              <a:ext cx="3114720" cy="17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8"/>
          <p:cNvSpPr/>
          <p:nvPr/>
        </p:nvSpPr>
        <p:spPr>
          <a:xfrm>
            <a:off x="5826240" y="3632040"/>
            <a:ext cx="19555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ботать в команде и устанавливать правильные отношения со сверстниками и взрослы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9" descr="RY_circle001"/>
          <p:cNvPicPr/>
          <p:nvPr/>
        </p:nvPicPr>
        <p:blipFill>
          <a:blip r:embed="rId4"/>
          <a:stretch/>
        </p:blipFill>
        <p:spPr>
          <a:xfrm>
            <a:off x="6202440" y="205596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LB_circle001"/>
          <p:cNvPicPr/>
          <p:nvPr/>
        </p:nvPicPr>
        <p:blipFill>
          <a:blip r:embed="rId5"/>
          <a:stretch/>
        </p:blipFill>
        <p:spPr>
          <a:xfrm>
            <a:off x="1477800" y="2055960"/>
            <a:ext cx="1176480" cy="11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YG_circle001"/>
          <p:cNvPicPr/>
          <p:nvPr/>
        </p:nvPicPr>
        <p:blipFill>
          <a:blip r:embed="rId6"/>
          <a:stretch/>
        </p:blipFill>
        <p:spPr>
          <a:xfrm>
            <a:off x="3803760" y="2066760"/>
            <a:ext cx="1191960" cy="119232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2"/>
          <p:cNvSpPr/>
          <p:nvPr/>
        </p:nvSpPr>
        <p:spPr>
          <a:xfrm>
            <a:off x="1608120" y="2502000"/>
            <a:ext cx="9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3f11"/>
                </a:solidFill>
                <a:latin typeface="Arial"/>
                <a:ea typeface="Arial"/>
              </a:rPr>
              <a:t>1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6286680" y="248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3f11"/>
                </a:solidFill>
                <a:latin typeface="Arial"/>
                <a:ea typeface="Arial"/>
              </a:rPr>
              <a:t>3</a:t>
            </a: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3933720" y="2498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13f11"/>
                </a:solidFill>
                <a:latin typeface="Arial"/>
                <a:ea typeface="Arial"/>
              </a:rPr>
              <a:t>2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5" descr="O_chevron001"/>
          <p:cNvPicPr/>
          <p:nvPr/>
        </p:nvPicPr>
        <p:blipFill>
          <a:blip r:embed="rId7"/>
          <a:stretch/>
        </p:blipFill>
        <p:spPr>
          <a:xfrm>
            <a:off x="4216320" y="331164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6" descr="O_chevron001"/>
          <p:cNvPicPr/>
          <p:nvPr/>
        </p:nvPicPr>
        <p:blipFill>
          <a:blip r:embed="rId8"/>
          <a:stretch/>
        </p:blipFill>
        <p:spPr>
          <a:xfrm>
            <a:off x="1857240" y="3292560"/>
            <a:ext cx="412920" cy="3636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7" descr="O_chevron001"/>
          <p:cNvPicPr/>
          <p:nvPr/>
        </p:nvPicPr>
        <p:blipFill>
          <a:blip r:embed="rId9"/>
          <a:stretch/>
        </p:blipFill>
        <p:spPr>
          <a:xfrm>
            <a:off x="6564240" y="3186000"/>
            <a:ext cx="412920" cy="3636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18"/>
          <p:cNvSpPr/>
          <p:nvPr/>
        </p:nvSpPr>
        <p:spPr>
          <a:xfrm>
            <a:off x="231840" y="1187280"/>
            <a:ext cx="868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я системную работу по развитию логико-математических представлений, что к концу каждого учебного года наблюдается положительная динами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"/>
          <p:cNvSpPr/>
          <p:nvPr/>
        </p:nvSpPr>
        <p:spPr>
          <a:xfrm flipV="1">
            <a:off x="0" y="1104840"/>
            <a:ext cx="9144000" cy="5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1"/>
          <p:cNvSpPr/>
          <p:nvPr/>
        </p:nvSpPr>
        <p:spPr>
          <a:xfrm>
            <a:off x="7977240" y="6583320"/>
            <a:ext cx="1400040" cy="2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6e6e6"/>
                </a:solidFill>
                <a:latin typeface="Arial"/>
              </a:rPr>
              <a:t>© Евлахова Е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омер слайда 20"/>
          <p:cNvSpPr/>
          <p:nvPr/>
        </p:nvSpPr>
        <p:spPr>
          <a:xfrm>
            <a:off x="6593040" y="6284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EF5C-E382-4CA9-88C9-ED1E1B0BD62A}" type="slidenum">
              <a:rPr b="0" lang="en-US" sz="1000" spc="-1" strike="noStrike">
                <a:solidFill>
                  <a:srgbClr val="b3b3b3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1414440" y="5335560"/>
            <a:ext cx="1900440" cy="74628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4"/>
          <p:cNvSpPr/>
          <p:nvPr/>
        </p:nvSpPr>
        <p:spPr>
          <a:xfrm>
            <a:off x="4275000" y="5256360"/>
            <a:ext cx="366840" cy="863280"/>
          </a:xfrm>
          <a:custGeom>
            <a:avLst/>
            <a:gdLst>
              <a:gd name="textAreaLeft" fmla="*/ 0 w 366840"/>
              <a:gd name="textAreaRight" fmla="*/ 367200 w 36684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5"/>
          <p:cNvSpPr/>
          <p:nvPr/>
        </p:nvSpPr>
        <p:spPr>
          <a:xfrm flipH="1">
            <a:off x="5748480" y="5370480"/>
            <a:ext cx="1900080" cy="68256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df58d">
                  <a:alpha val="0"/>
                </a:srgbClr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797120" y="6107040"/>
            <a:ext cx="6148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это является залогом успешного обуч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ьной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33360" y="508464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Рисунок 3" descr=""/>
          <p:cNvPicPr/>
          <p:nvPr/>
        </p:nvPicPr>
        <p:blipFill>
          <a:blip r:embed="rId1"/>
          <a:stretch/>
        </p:blipFill>
        <p:spPr>
          <a:xfrm>
            <a:off x="231840" y="4500720"/>
            <a:ext cx="3216240" cy="1098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5"/>
          <p:cNvSpPr/>
          <p:nvPr/>
        </p:nvSpPr>
        <p:spPr>
          <a:xfrm>
            <a:off x="209520" y="1978200"/>
            <a:ext cx="592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«…Весь процесс воспитания  ребенка  мы рассматривае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как обучение тому, в какие игры следует играть и как в них игра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Эрик Бер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79280" y="3490560"/>
            <a:ext cx="822960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Annabelle"/>
              </a:rPr>
              <a:t>Спасибо!</a:t>
            </a:r>
            <a:endParaRPr b="1" lang="en-US" sz="6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217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</a:t>
            </a:r>
            <a:r>
              <a:rPr b="1" i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технологии математического развития</a:t>
            </a:r>
            <a:r>
              <a:rPr b="1" lang="ru-RU" sz="32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школьников направлены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ю познавательной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бен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оение ребенко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ей и зависимостей предметов и явлений окружающего ми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2C02-B8D6-4484-B4C7-418600BE1E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ОБЛЕМНО - ИГРОВАЯ ТЕХНОЛОГИЯ.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368360"/>
            <a:ext cx="82296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Одна из наиболее эффективных технологий, близких ребенку по своей сут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</a:rPr>
              <a:t>Цель</a:t>
            </a:r>
            <a:r>
              <a:rPr b="1" lang="ru-RU" sz="20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звитие познавательно-творческих способностей детей в логико-математиче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b00000"/>
                </a:solidFill>
                <a:latin typeface="Times New Roman"/>
              </a:rPr>
              <a:t>позволя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бенк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владе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редства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сенсорные эталоны, речь, схемы и модел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пособами позна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сравнением, обследованием, классификацией, сериацией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копить логико-математический опы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бота  Михайловой З. А. , представлена в системе следующих сред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ико-математические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огико-математические сюжетные игры (занят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блемные ситуации и вопро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ворческие задачи, вопросы и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кспериментирование и исследовательская деятельнос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4F42-7D48-49B3-A39E-B329952555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РОБЛЕМНО - ИГРОВАЯ ТЕХНОЛОГИЯ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00000"/>
                </a:solidFill>
                <a:latin typeface="Times New Roman"/>
              </a:rPr>
              <a:t>Достоинств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этой технологии состоит в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своении различных по степени сложности игровых действ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ключают: группировку, раскладывание, соотнесение, счет, измер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этом, следуя игре собственного воображения, ребенок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формирует свой опы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ет игровые ситуац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осит новые познавательные задач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7086-E8D6-4E3D-8B53-1D83013BEE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ТЕХНОЛОГИЯ ТРИЗ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её основе леж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е просто обучение детей математике, сколько</a:t>
            </a:r>
            <a:r>
              <a:rPr b="0" i="1" lang="ru-RU" sz="2400" spc="-1" strike="noStrike">
                <a:solidFill>
                  <a:srgbClr val="c71dc7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открытие способов получения верного результата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роблемные ситу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вляются 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частью технологии ТРИЗ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вторы предлагают выделять </a:t>
            </a:r>
            <a:r>
              <a:rPr b="1" lang="ru-RU" sz="2400" spc="-1" strike="noStrike">
                <a:solidFill>
                  <a:srgbClr val="b00000"/>
                </a:solidFill>
                <a:latin typeface="Times New Roman"/>
              </a:rPr>
              <a:t>проблемные ситуации</a:t>
            </a:r>
            <a:r>
              <a:rPr b="0" lang="ru-RU" sz="24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хорошо знакомых ребенку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мультфильмов, художественных фильмов, учебного интернета, сказок, рассказов, сюжетных иг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 противоречие в произведении К. Чуковского «Федорино горе»: оставить Федоре посуду, чтобы она могла готовить и принимать пищу или лишить ее посуды за плохое обращение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теории ТРИЗ нужно </a:t>
            </a:r>
            <a:r>
              <a:rPr b="0" i="1" lang="ru-RU" sz="2400" spc="-1" strike="noStrike">
                <a:solidFill>
                  <a:srgbClr val="b00000"/>
                </a:solidFill>
                <a:latin typeface="Times New Roman"/>
              </a:rPr>
              <a:t>«обратить вред в пользу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365C-1EA2-4368-8D52-16E5211BA4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ТЕХНОЛОГИЯ ТРИЗ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математического развития детей рекомендуют применять следующие </a:t>
            </a: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типы ТРИЗ - упражнений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«Поиск общих признаков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найти у двух разных объектов  как можно больше общих признак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«Третий лишний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зять три объекта, разные по смысловой оси, найти в двух из них такие сходные признаки, которых нет в треть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«Поиск противоположных объектов»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азвать объект и как можно больше объектов, противоположных 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1DF4-13D8-401C-8248-F36D4042394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ЭВРИСТИЧЕСКАЯ ТЕХНОЛОГИЯ </a:t>
            </a:r>
            <a:endParaRPr b="1" lang="en-US" sz="36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у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эвристической технологии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Г.А. Репина) состоит в </a:t>
            </a: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погружении ребенка в ситуацию первооткрывателя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бенку </a:t>
            </a:r>
            <a:r>
              <a:rPr b="0" i="1" lang="ru-RU" sz="2800" spc="-1" strike="noStrike">
                <a:solidFill>
                  <a:srgbClr val="b00000"/>
                </a:solidFill>
                <a:latin typeface="Times New Roman"/>
              </a:rPr>
              <a:t>предлагается открыть  неизвестное для него знание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00000"/>
                </a:solidFill>
                <a:latin typeface="Times New Roman"/>
              </a:rPr>
              <a:t>Ц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ехнологии -  оказание помощи ребенку в открытии каналов общения с миром математики и осознание ее особен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4054-C046-4A89-A083-FB78AA2E74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к</dc:creator>
  <dc:description/>
  <dc:language>en-US</dc:language>
  <cp:lastModifiedBy>Ольга Тимина</cp:lastModifiedBy>
  <dcterms:modified xsi:type="dcterms:W3CDTF">2024-01-30T11:12:45Z</dcterms:modified>
  <cp:revision>41</cp:revision>
  <dc:subject/>
  <dc:title>Презентация на тему  :  «Введение детей старшего дошкольного возраста в мир логико-математических представлений с помощью специальной серии обучающих игр» (из опыта работы)</dc:title>
</cp:coreProperties>
</file>