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A05-32C2-4077-B1D7-02E704FBF6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3CAE-A308-45AA-8DB7-383060575F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8417-83DC-41F6-83A5-9BAC25417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E74-257F-4D4C-BC78-4EB50775A1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1AC-FA6B-4129-9565-F929FEB1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E18-1857-4D9C-A030-E8CF85EE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7156D-8A17-4FE2-B933-CEB5AC1A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3D969-67F9-440B-B259-4E0C0087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2F48C-44F5-48ED-9FEF-9B63106D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D8ADB-55D5-45FA-9AFC-4E9E815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AC584-D169-4F8B-A642-1B02F458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F5F80-D118-4E58-9578-238BA54F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215EC-DB11-45DD-A1B6-9CD03146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16423-1E4B-4F91-9E68-FEEBE82B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51686-7F48-49A2-AB03-8676F8F4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59587-EC72-4D55-B974-CC7C90C6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892-559F-4209-AEB2-09F322F6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E0623-EFFA-4299-9E04-A242AEF5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787C6A-5640-42C8-9B40-F1650CDF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9D04E-38E2-4932-9AD8-E7EE2970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F0EB1-C1C7-4D2E-B8AF-BF585151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4A5E0A-C6B0-4BF3-B07F-88D5FBD8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098F5-3C78-4503-BD7F-E807421A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284FC-4EC8-41A8-8BD4-703B1D6C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C7DDC-E253-469F-9C2F-3879243E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3D54C-02F2-4586-BDBD-FB73A7D1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3415B-FB82-450A-B40E-8699AB26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27C0-4F1C-4763-9D0A-2E730E89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1F45F-09C9-4718-A20D-9F4D087B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BB2AB-DAC1-4DA3-8C1B-9E70FA48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18392-F320-483B-8082-6B69699F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AD83C-E117-47DE-8C43-AFFD877C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5772-46BB-4404-B6A8-AFCBD461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49B7A-2720-42C1-A595-800FE645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397FC-1AD4-4F03-AF86-160F2445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ADF38-A7B1-4FE5-8FF8-39D4659F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183EF-E0C0-4F13-A35E-ECC8F2B1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49CD3-D922-4439-B583-EB327790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53E3-E119-4B15-B7C7-2FE68ACC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CEB82-8131-48C1-8340-799C71A7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82060-018B-426D-9376-46B3DD8C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BFE91D-0F5A-48C5-95D2-67755960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8A46A-F736-4B98-BA2E-9B5D26DC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75CAF3-571B-46A7-8E1E-C868CE9A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9F3F1C-C54B-4F6C-A39E-E4FC9A00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708F4D-8135-491D-A36F-DAC8963E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A959A-D97C-48CC-8531-5524CE4D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F92D8-BB6C-4F52-89B6-ED939C6B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DE669-C3D9-4638-AEAD-8C7C3815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0EF0-7746-4F4C-B612-E745AF09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022DE-46E4-4547-A48D-1BF98FA4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994B9-60D7-46EA-AADC-B0FE6270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C81EB-D094-473B-BD44-C3FC7341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B4225-BD58-4084-8B41-5477A969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ED204-4D18-43F7-B2EF-DD506676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D9EA-3203-47EE-8850-070275C9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EC60-B2B1-4C9C-B45C-8948DC78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C371-7CAF-47A2-9DD9-85C0D80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D5F2-85C5-40FB-B98F-386B9A3F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2F9E-F74B-4331-9C5E-C1D31D18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F2B-0C3D-4AF0-8219-CC3A0092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531A-E061-4FFA-9ECE-682C03B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544F-3B0E-451D-8ADF-E5C4FA73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E50B-C25D-492E-A5B8-51CC2DB9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DB56-B299-4252-85C4-E0F1B2FF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5832-5464-4FED-805C-93E65B15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BA12C-8D1E-48F1-812C-3C6D84C4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98901-5666-4F27-A116-FB7267FB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596CC-EA74-4A1B-B882-8B780ED4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8A51F-76EF-4542-8A21-BA20DFE5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30DB7-84B1-48FB-9406-D3E1A0C4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7ED2-1DE7-4E78-94E2-62430CB8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405C-015B-40CF-B99D-C2B3AFD4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4C817-6EE7-42A4-A09F-738BABAC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3822-D1B7-4279-97ED-BAD2859A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1DA31-EEA4-4090-B7FA-7332474C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D2E9-3B40-42D7-B1DD-6F3E8283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B5718-0564-4BF2-85AB-44FB4BC6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33D57-B6F1-49F1-A217-31F978A5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4BF34-461B-4366-A7DE-CC4DB6C3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C29AB-33C9-47DA-8F0C-3285B341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78F41-A8ED-46FA-9CBD-C1559602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178-0F9C-4FDB-9126-38C1907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91E99-C113-41A7-9EF9-7B8E13E5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FE542-4187-4C02-A3F2-59DC6E8E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E8899-73FA-40E7-B3B5-EE2382DB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8430D-A77E-453B-8B41-4AFF45D1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B7E07-7AD8-43E0-A29A-82FC0DA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80AD-09AC-452D-B37C-BA1A943E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5167-DD70-43CF-B53E-2AA637F9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564C-CD44-4BFC-9EFA-00B0D569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49903-BD1B-4D24-9A63-0FBFB5A9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B36EC-2E3A-44F9-86B9-90A6AEF9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139D-B9D1-4E30-9131-231C11AD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5591E-B651-48B0-ACD6-1CA98657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807A-6ACB-4726-A663-54DF5E9A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9D8E2-00A9-4F68-BF7B-7E59B09D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CBAE8-0A9D-485C-8B8A-23BF6D77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352AA-4D88-4788-9ABB-D45E7B95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D121-B231-4690-8793-756AA337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BE81C-ADA5-4AC9-8B46-D3C4D147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86833-A201-431B-BB5B-9A1A5F02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56312-FEA8-4E6E-B05A-0B006023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4F7D5-B1C0-4501-A668-AC010879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3E1C-BE6E-4E22-BE24-B62D4310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18E62-8F9D-4120-9D13-CF7CCE54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15A11-30F5-4E7D-A0E6-88A6B423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64F7-46A9-4589-B55D-337A126BD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CA08D-C427-487C-836A-B3BB1C05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67FFC-706A-4C7A-A4D4-284BC014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49071-2AEB-4C60-AF48-20BDC085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1A284-D213-499C-ADC7-F0C4524C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00BAC-CD0C-4913-8E5D-6544AA5E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5F56D9-FFEC-4363-97FF-B7B9032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E45D-021C-4E02-92F4-768ABE8A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A8E-AAEF-48A8-9B86-1E5E40A1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D468-5E5E-441E-B7FC-348464C5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E705B-3A0E-466D-A55E-7D6F4C50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7EF71-6317-4632-8A43-277F8FAE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167F36-A308-4291-AB9F-01BDDA1A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F74FB-7035-448B-9B3F-C14B535C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F30DE-3A62-4CD2-9015-34FF0875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A683D-1177-4345-8003-DD3E3ABA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1548F-34AF-4447-9C1B-485D69DC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553F8-09B9-4EB2-9AAB-9F8123DD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A390E-8E32-49A7-9C64-BBD1BCA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B06-A39B-456E-8E19-8D576724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52571-F818-41AB-B0CC-334DCE4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B241-20A7-43F2-A67C-95CDD88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ED20C-54C1-49F6-B045-BC07D0FB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E3A85-FB6D-43FF-B091-630E952B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B9C1E-EB30-4EE8-8066-9BBEF785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02AA2-82A4-4EF6-8BB5-62B12838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08AFF-D79C-4416-8C41-7472BAF9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762BB-46B8-4327-80FC-18348E50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D253C-6E2F-4013-803E-2508ED8C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53DA8-4FFD-4961-8ADF-89A38671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DC9-6705-478A-92F3-42D52B7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50727-908D-48FA-93CD-685092D4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87499-4BDD-484C-A27B-30F72FA9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B98CE-BB61-4144-8874-8B44E45F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2E981-9F72-4339-AD65-2F164759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C4EFD-8C7D-4E52-B1DD-1C26130D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42D69-97B2-496A-B05B-BF5C050A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3A43F-42A9-4A30-87C0-3C8F5AC5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65549-EAB8-4039-87DC-CA2D5887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97109-6364-427E-934A-5B06FEA3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29B09-9A85-4CB9-B72C-4DD63ACA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C47C-4D2B-4074-9CAE-D84D5F0EA2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AE74-F4B8-4028-8189-2D82386199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58CD-1682-4C62-91F6-B666320612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101D-E29E-4BDB-A493-9FDB8885F5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6CAE-30B1-4E2B-8C13-84F29EA25D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7781-F834-44F0-8D53-700CABDD65F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7928-F37F-4D46-BA83-91EDCCC365E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20F4-684E-43A6-A14F-D6BC713053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419B-5D9E-4BAD-8721-532E5F8431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70F2-3E9E-49A5-A2CF-F1F4191363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A6F3-324D-4FDE-8A61-47BF098E00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F9DC-8A65-4D98-8E20-C82639F972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85.xml"/><Relationship Id="rId2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7"/>
          <p:cNvSpPr/>
          <p:nvPr/>
        </p:nvSpPr>
        <p:spPr>
          <a:xfrm>
            <a:off x="0" y="2629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ДЕЛИТЕЛИ И КРАТН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Скругленный прямоугольник 68"/>
          <p:cNvSpPr/>
          <p:nvPr/>
        </p:nvSpPr>
        <p:spPr>
          <a:xfrm>
            <a:off x="5148360" y="2060640"/>
            <a:ext cx="3240000" cy="18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69"/>
          <p:cNvSpPr/>
          <p:nvPr/>
        </p:nvSpPr>
        <p:spPr>
          <a:xfrm>
            <a:off x="5148360" y="4653000"/>
            <a:ext cx="3240000" cy="18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Скругленный прямоугольник 67"/>
          <p:cNvSpPr/>
          <p:nvPr/>
        </p:nvSpPr>
        <p:spPr>
          <a:xfrm>
            <a:off x="611280" y="2060640"/>
            <a:ext cx="3240000" cy="18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Скругленный прямоугольник 66"/>
          <p:cNvSpPr/>
          <p:nvPr/>
        </p:nvSpPr>
        <p:spPr>
          <a:xfrm>
            <a:off x="611280" y="4653000"/>
            <a:ext cx="3240000" cy="183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Рисунок 31" descr="a1005zxr.jpg"/>
          <p:cNvPicPr/>
          <p:nvPr/>
        </p:nvPicPr>
        <p:blipFill>
          <a:blip r:embed="rId1"/>
          <a:stretch/>
        </p:blipFill>
        <p:spPr>
          <a:xfrm>
            <a:off x="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32" descr="a1005zxr.jpg"/>
          <p:cNvPicPr/>
          <p:nvPr/>
        </p:nvPicPr>
        <p:blipFill>
          <a:blip r:embed="rId2"/>
          <a:stretch/>
        </p:blipFill>
        <p:spPr>
          <a:xfrm>
            <a:off x="900000" y="164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73" name="Рисунок 33" descr="a1005zxr.jpg"/>
          <p:cNvPicPr/>
          <p:nvPr/>
        </p:nvPicPr>
        <p:blipFill>
          <a:blip r:embed="rId3"/>
          <a:stretch/>
        </p:blipFill>
        <p:spPr>
          <a:xfrm>
            <a:off x="180036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4" name="Рисунок 34" descr="a1005zxr.jpg"/>
          <p:cNvPicPr/>
          <p:nvPr/>
        </p:nvPicPr>
        <p:blipFill>
          <a:blip r:embed="rId4"/>
          <a:stretch/>
        </p:blipFill>
        <p:spPr>
          <a:xfrm>
            <a:off x="270036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35" descr="a1005zxr.jpg"/>
          <p:cNvPicPr/>
          <p:nvPr/>
        </p:nvPicPr>
        <p:blipFill>
          <a:blip r:embed="rId5"/>
          <a:stretch/>
        </p:blipFill>
        <p:spPr>
          <a:xfrm>
            <a:off x="3600360" y="164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76" name="Рисунок 46" descr="a1005zxr.jpg"/>
          <p:cNvPicPr/>
          <p:nvPr/>
        </p:nvPicPr>
        <p:blipFill>
          <a:blip r:embed="rId6"/>
          <a:stretch/>
        </p:blipFill>
        <p:spPr>
          <a:xfrm>
            <a:off x="450072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7" name="Рисунок 47" descr="a1005zxr.jpg"/>
          <p:cNvPicPr/>
          <p:nvPr/>
        </p:nvPicPr>
        <p:blipFill>
          <a:blip r:embed="rId7"/>
          <a:stretch/>
        </p:blipFill>
        <p:spPr>
          <a:xfrm>
            <a:off x="540072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48" descr="a1005zxr.jpg"/>
          <p:cNvPicPr/>
          <p:nvPr/>
        </p:nvPicPr>
        <p:blipFill>
          <a:blip r:embed="rId8"/>
          <a:stretch/>
        </p:blipFill>
        <p:spPr>
          <a:xfrm>
            <a:off x="6300720" y="1646280"/>
            <a:ext cx="898560" cy="75564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49" descr="a1005zxr.jpg"/>
          <p:cNvPicPr/>
          <p:nvPr/>
        </p:nvPicPr>
        <p:blipFill>
          <a:blip r:embed="rId9"/>
          <a:stretch/>
        </p:blipFill>
        <p:spPr>
          <a:xfrm>
            <a:off x="719928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80" name="Рисунок 50" descr="a1005zxr.jpg"/>
          <p:cNvPicPr/>
          <p:nvPr/>
        </p:nvPicPr>
        <p:blipFill>
          <a:blip r:embed="rId10"/>
          <a:stretch/>
        </p:blipFill>
        <p:spPr>
          <a:xfrm>
            <a:off x="8099280" y="164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81" name="Рисунок 51" descr="a1005zxr.jpg"/>
          <p:cNvPicPr/>
          <p:nvPr/>
        </p:nvPicPr>
        <p:blipFill>
          <a:blip r:embed="rId11"/>
          <a:stretch/>
        </p:blipFill>
        <p:spPr>
          <a:xfrm>
            <a:off x="0" y="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82" name="Рисунок 52" descr="a1005zxr.jpg"/>
          <p:cNvPicPr/>
          <p:nvPr/>
        </p:nvPicPr>
        <p:blipFill>
          <a:blip r:embed="rId12"/>
          <a:stretch/>
        </p:blipFill>
        <p:spPr>
          <a:xfrm>
            <a:off x="900000" y="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53" descr="a1005zxr.jpg"/>
          <p:cNvPicPr/>
          <p:nvPr/>
        </p:nvPicPr>
        <p:blipFill>
          <a:blip r:embed="rId13"/>
          <a:stretch/>
        </p:blipFill>
        <p:spPr>
          <a:xfrm>
            <a:off x="1800360" y="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84" name="Рисунок 54" descr="a1005zxr.jpg"/>
          <p:cNvPicPr/>
          <p:nvPr/>
        </p:nvPicPr>
        <p:blipFill>
          <a:blip r:embed="rId14"/>
          <a:stretch/>
        </p:blipFill>
        <p:spPr>
          <a:xfrm>
            <a:off x="2700360" y="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Рисунок 55" descr="a1005zxr.jpg"/>
          <p:cNvPicPr/>
          <p:nvPr/>
        </p:nvPicPr>
        <p:blipFill>
          <a:blip r:embed="rId15"/>
          <a:stretch/>
        </p:blipFill>
        <p:spPr>
          <a:xfrm>
            <a:off x="3600360" y="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586" name="Рисунок 61" descr="a1005zxr.jpg"/>
          <p:cNvPicPr/>
          <p:nvPr/>
        </p:nvPicPr>
        <p:blipFill>
          <a:blip r:embed="rId16"/>
          <a:stretch/>
        </p:blipFill>
        <p:spPr>
          <a:xfrm>
            <a:off x="4500720" y="7920"/>
            <a:ext cx="900000" cy="75708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62" descr="a1005zxr.jpg"/>
          <p:cNvPicPr/>
          <p:nvPr/>
        </p:nvPicPr>
        <p:blipFill>
          <a:blip r:embed="rId17"/>
          <a:stretch/>
        </p:blipFill>
        <p:spPr>
          <a:xfrm>
            <a:off x="5400720" y="7920"/>
            <a:ext cx="898560" cy="757080"/>
          </a:xfrm>
          <a:prstGeom prst="rect">
            <a:avLst/>
          </a:prstGeom>
          <a:ln w="0">
            <a:noFill/>
          </a:ln>
        </p:spPr>
      </p:pic>
      <p:pic>
        <p:nvPicPr>
          <p:cNvPr id="588" name="Рисунок 63" descr="a1005zxr.jpg"/>
          <p:cNvPicPr/>
          <p:nvPr/>
        </p:nvPicPr>
        <p:blipFill>
          <a:blip r:embed="rId18"/>
          <a:stretch/>
        </p:blipFill>
        <p:spPr>
          <a:xfrm>
            <a:off x="6299280" y="7920"/>
            <a:ext cx="900000" cy="757080"/>
          </a:xfrm>
          <a:prstGeom prst="rect">
            <a:avLst/>
          </a:prstGeom>
          <a:ln w="0">
            <a:noFill/>
          </a:ln>
        </p:spPr>
      </p:pic>
      <p:pic>
        <p:nvPicPr>
          <p:cNvPr id="589" name="Рисунок 64" descr="a1005zxr.jpg"/>
          <p:cNvPicPr/>
          <p:nvPr/>
        </p:nvPicPr>
        <p:blipFill>
          <a:blip r:embed="rId19"/>
          <a:stretch/>
        </p:blipFill>
        <p:spPr>
          <a:xfrm>
            <a:off x="7199280" y="7920"/>
            <a:ext cx="900000" cy="75708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65" descr="a1005zxr.jpg"/>
          <p:cNvPicPr/>
          <p:nvPr/>
        </p:nvPicPr>
        <p:blipFill>
          <a:blip r:embed="rId20"/>
          <a:stretch/>
        </p:blipFill>
        <p:spPr>
          <a:xfrm>
            <a:off x="8099280" y="7920"/>
            <a:ext cx="900360" cy="757080"/>
          </a:xfrm>
          <a:prstGeom prst="rect">
            <a:avLst/>
          </a:prstGeom>
          <a:ln w="0">
            <a:noFill/>
          </a:ln>
        </p:spPr>
      </p:pic>
      <p:sp>
        <p:nvSpPr>
          <p:cNvPr id="591" name="TextBox 70"/>
          <p:cNvSpPr/>
          <p:nvPr/>
        </p:nvSpPr>
        <p:spPr>
          <a:xfrm>
            <a:off x="3419640" y="27288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1"/>
          <p:cNvSpPr/>
          <p:nvPr/>
        </p:nvSpPr>
        <p:spPr>
          <a:xfrm>
            <a:off x="4211640" y="26028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72"/>
          <p:cNvSpPr/>
          <p:nvPr/>
        </p:nvSpPr>
        <p:spPr>
          <a:xfrm>
            <a:off x="4427640" y="260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73"/>
          <p:cNvSpPr/>
          <p:nvPr/>
        </p:nvSpPr>
        <p:spPr>
          <a:xfrm>
            <a:off x="4788000" y="26028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74"/>
          <p:cNvSpPr/>
          <p:nvPr/>
        </p:nvSpPr>
        <p:spPr>
          <a:xfrm>
            <a:off x="5148360" y="26028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75"/>
          <p:cNvSpPr/>
          <p:nvPr/>
        </p:nvSpPr>
        <p:spPr>
          <a:xfrm>
            <a:off x="0" y="1065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4 – 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ДЕЛИТЕЛЬ</a:t>
            </a: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 ЧИСЛА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6 L 3.05556E-006 0.53287 E">
                                      <p:cBhvr>
                                        <p:cTn id="6" dur="20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5.55556E-007 0.58541 E">
                                      <p:cBhvr>
                                        <p:cTn id="8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4.44444E-006 0.58541 E">
                                      <p:cBhvr>
                                        <p:cTn id="10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3.7037E-006 L 0.09844 0.44884 E">
                                      <p:cBhvr>
                                        <p:cTn id="12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3.7037E-006 L -0.09844 0.44884 E">
                                      <p:cBhvr>
                                        <p:cTn id="14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05556E-006 3.7037E-006 L 3.05556E-006 0.53287 E">
                                      <p:cBhvr>
                                        <p:cTn id="1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7037E-006 L 5.55556E-007 0.58541 E">
                                      <p:cBhvr>
                                        <p:cTn id="18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-4.44444E-006 0.58541 E">
                                      <p:cBhvr>
                                        <p:cTn id="20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3.7037E-006 L 0.09844 0.44884 E">
                                      <p:cBhvr>
                                        <p:cTn id="22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3.7037E-006 L -0.09844 0.44884 E">
                                      <p:cBhvr>
                                        <p:cTn id="24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-2.59259E-006 L 3.05556E-006 0.39236 E">
                                      <p:cBhvr>
                                        <p:cTn id="26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5.55556E-007 0.44885 E">
                                      <p:cBhvr>
                                        <p:cTn id="28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4.44444E-006 0.44885 E">
                                      <p:cBhvr>
                                        <p:cTn id="30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2.90143E-006 L 0.09844 0.31883 E">
                                      <p:cBhvr>
                                        <p:cTn id="32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2.90143E-006 L -0.09844 0.31883 E">
                                      <p:cBhvr>
                                        <p:cTn id="34" dur="20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-2.59259E-006 L 3.05556E-006 0.39236 E">
                                      <p:cBhvr>
                                        <p:cTn id="36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5.55556E-007 0.44885 E">
                                      <p:cBhvr>
                                        <p:cTn id="38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4.44444E-006 0.44885 E">
                                      <p:cBhvr>
                                        <p:cTn id="40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2.90143E-006 L 0.09844 0.31883 E">
                                      <p:cBhvr>
                                        <p:cTn id="42" dur="20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1.94444E-006 2.90143E-006 L -0.09844 0.31883 E">
                                      <p:cBhvr>
                                        <p:cTn id="44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Скругленный прямоугольник 66"/>
          <p:cNvSpPr/>
          <p:nvPr/>
        </p:nvSpPr>
        <p:spPr>
          <a:xfrm>
            <a:off x="2736720" y="119700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67"/>
          <p:cNvSpPr/>
          <p:nvPr/>
        </p:nvSpPr>
        <p:spPr>
          <a:xfrm>
            <a:off x="2736720" y="3645000"/>
            <a:ext cx="284328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Скругленный прямоугольник 60"/>
          <p:cNvSpPr/>
          <p:nvPr/>
        </p:nvSpPr>
        <p:spPr>
          <a:xfrm>
            <a:off x="5435640" y="4797360"/>
            <a:ext cx="2844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Скругленный прямоугольник 59"/>
          <p:cNvSpPr/>
          <p:nvPr/>
        </p:nvSpPr>
        <p:spPr>
          <a:xfrm>
            <a:off x="5435640" y="2492280"/>
            <a:ext cx="284472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Скругленный прямоугольник 58"/>
          <p:cNvSpPr/>
          <p:nvPr/>
        </p:nvSpPr>
        <p:spPr>
          <a:xfrm>
            <a:off x="71280" y="2492280"/>
            <a:ext cx="284508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Скругленный прямоугольник 57"/>
          <p:cNvSpPr/>
          <p:nvPr/>
        </p:nvSpPr>
        <p:spPr>
          <a:xfrm>
            <a:off x="71280" y="4797360"/>
            <a:ext cx="284508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5c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Рисунок 31" descr="a1005zxr.jpg"/>
          <p:cNvPicPr/>
          <p:nvPr/>
        </p:nvPicPr>
        <p:blipFill>
          <a:blip r:embed="rId1"/>
          <a:stretch/>
        </p:blipFill>
        <p:spPr>
          <a:xfrm>
            <a:off x="10800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04" name="Рисунок 32" descr="a1005zxr.jpg"/>
          <p:cNvPicPr/>
          <p:nvPr/>
        </p:nvPicPr>
        <p:blipFill>
          <a:blip r:embed="rId2"/>
          <a:stretch/>
        </p:blipFill>
        <p:spPr>
          <a:xfrm>
            <a:off x="1008000" y="164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05" name="Рисунок 33" descr="a1005zxr.jpg"/>
          <p:cNvPicPr/>
          <p:nvPr/>
        </p:nvPicPr>
        <p:blipFill>
          <a:blip r:embed="rId3"/>
          <a:stretch/>
        </p:blipFill>
        <p:spPr>
          <a:xfrm>
            <a:off x="1908000" y="164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06" name="Рисунок 22" descr="a1005zxr.jpg"/>
          <p:cNvPicPr/>
          <p:nvPr/>
        </p:nvPicPr>
        <p:blipFill>
          <a:blip r:embed="rId4"/>
          <a:stretch/>
        </p:blipFill>
        <p:spPr>
          <a:xfrm>
            <a:off x="2808360" y="162864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07" name="Рисунок 23" descr="a1005zxr.jpg"/>
          <p:cNvPicPr/>
          <p:nvPr/>
        </p:nvPicPr>
        <p:blipFill>
          <a:blip r:embed="rId5"/>
          <a:stretch/>
        </p:blipFill>
        <p:spPr>
          <a:xfrm>
            <a:off x="3708360" y="162864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24" descr="a1005zxr.jpg"/>
          <p:cNvPicPr/>
          <p:nvPr/>
        </p:nvPicPr>
        <p:blipFill>
          <a:blip r:embed="rId6"/>
          <a:stretch/>
        </p:blipFill>
        <p:spPr>
          <a:xfrm>
            <a:off x="4608360" y="162864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09" name="Рисунок 25" descr="a1005zxr.jpg"/>
          <p:cNvPicPr/>
          <p:nvPr/>
        </p:nvPicPr>
        <p:blipFill>
          <a:blip r:embed="rId7"/>
          <a:stretch/>
        </p:blipFill>
        <p:spPr>
          <a:xfrm>
            <a:off x="5472000" y="162864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10" name="Рисунок 26" descr="a1005zxr.jpg"/>
          <p:cNvPicPr/>
          <p:nvPr/>
        </p:nvPicPr>
        <p:blipFill>
          <a:blip r:embed="rId8"/>
          <a:stretch/>
        </p:blipFill>
        <p:spPr>
          <a:xfrm>
            <a:off x="6372360" y="162864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1" name="Рисунок 27" descr="a1005zxr.jpg"/>
          <p:cNvPicPr/>
          <p:nvPr/>
        </p:nvPicPr>
        <p:blipFill>
          <a:blip r:embed="rId9"/>
          <a:stretch/>
        </p:blipFill>
        <p:spPr>
          <a:xfrm>
            <a:off x="7272360" y="162864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2" name="Рисунок 28" descr="a1005zxr.jpg"/>
          <p:cNvPicPr/>
          <p:nvPr/>
        </p:nvPicPr>
        <p:blipFill>
          <a:blip r:embed="rId10"/>
          <a:stretch/>
        </p:blipFill>
        <p:spPr>
          <a:xfrm>
            <a:off x="142920" y="20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3" name="Рисунок 29" descr="a1005zxr.jpg"/>
          <p:cNvPicPr/>
          <p:nvPr/>
        </p:nvPicPr>
        <p:blipFill>
          <a:blip r:embed="rId11"/>
          <a:stretch/>
        </p:blipFill>
        <p:spPr>
          <a:xfrm>
            <a:off x="1042920" y="20628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14" name="Рисунок 30" descr="a1005zxr.jpg"/>
          <p:cNvPicPr/>
          <p:nvPr/>
        </p:nvPicPr>
        <p:blipFill>
          <a:blip r:embed="rId12"/>
          <a:stretch/>
        </p:blipFill>
        <p:spPr>
          <a:xfrm>
            <a:off x="1943280" y="20628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5" name="Рисунок 36" descr="a1005zxr.jpg"/>
          <p:cNvPicPr/>
          <p:nvPr/>
        </p:nvPicPr>
        <p:blipFill>
          <a:blip r:embed="rId13"/>
          <a:stretch/>
        </p:blipFill>
        <p:spPr>
          <a:xfrm>
            <a:off x="2843280" y="18900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6" name="Рисунок 37" descr="a1005zxr.jpg"/>
          <p:cNvPicPr/>
          <p:nvPr/>
        </p:nvPicPr>
        <p:blipFill>
          <a:blip r:embed="rId14"/>
          <a:stretch/>
        </p:blipFill>
        <p:spPr>
          <a:xfrm>
            <a:off x="3743280" y="18900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38" descr="a1005zxr.jpg"/>
          <p:cNvPicPr/>
          <p:nvPr/>
        </p:nvPicPr>
        <p:blipFill>
          <a:blip r:embed="rId15"/>
          <a:stretch/>
        </p:blipFill>
        <p:spPr>
          <a:xfrm>
            <a:off x="4643280" y="18900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42" descr="a1005zxr.jpg"/>
          <p:cNvPicPr/>
          <p:nvPr/>
        </p:nvPicPr>
        <p:blipFill>
          <a:blip r:embed="rId16"/>
          <a:stretch/>
        </p:blipFill>
        <p:spPr>
          <a:xfrm>
            <a:off x="5543640" y="22536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43" descr="a1005zxr.jpg"/>
          <p:cNvPicPr/>
          <p:nvPr/>
        </p:nvPicPr>
        <p:blipFill>
          <a:blip r:embed="rId17"/>
          <a:stretch/>
        </p:blipFill>
        <p:spPr>
          <a:xfrm>
            <a:off x="6443640" y="225360"/>
            <a:ext cx="900000" cy="75564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44" descr="a1005zxr.jpg"/>
          <p:cNvPicPr/>
          <p:nvPr/>
        </p:nvPicPr>
        <p:blipFill>
          <a:blip r:embed="rId18"/>
          <a:stretch/>
        </p:blipFill>
        <p:spPr>
          <a:xfrm>
            <a:off x="7343640" y="225360"/>
            <a:ext cx="900360" cy="75564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45" descr="a1005zxr.jpg"/>
          <p:cNvPicPr/>
          <p:nvPr/>
        </p:nvPicPr>
        <p:blipFill>
          <a:blip r:embed="rId19"/>
          <a:stretch/>
        </p:blipFill>
        <p:spPr>
          <a:xfrm>
            <a:off x="8136000" y="1592280"/>
            <a:ext cx="900000" cy="75708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56" descr="a1005zxr.jpg"/>
          <p:cNvPicPr/>
          <p:nvPr/>
        </p:nvPicPr>
        <p:blipFill>
          <a:blip r:embed="rId20"/>
          <a:stretch/>
        </p:blipFill>
        <p:spPr>
          <a:xfrm>
            <a:off x="8209080" y="189000"/>
            <a:ext cx="900000" cy="755640"/>
          </a:xfrm>
          <a:prstGeom prst="rect">
            <a:avLst/>
          </a:prstGeom>
          <a:ln w="0">
            <a:noFill/>
          </a:ln>
        </p:spPr>
      </p:pic>
      <p:sp>
        <p:nvSpPr>
          <p:cNvPr id="623" name="TextBox 71"/>
          <p:cNvSpPr/>
          <p:nvPr/>
        </p:nvSpPr>
        <p:spPr>
          <a:xfrm>
            <a:off x="2916360" y="260280"/>
            <a:ext cx="21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Bookman Old Style"/>
              </a:rPr>
              <a:t>20:6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72"/>
          <p:cNvSpPr/>
          <p:nvPr/>
        </p:nvSpPr>
        <p:spPr>
          <a:xfrm>
            <a:off x="4643280" y="272880"/>
            <a:ext cx="5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111E-006 L -1.94444E-006 0.48842 E">
                                      <p:cBhvr>
                                        <p:cTn id="87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5.55556E-007 0.48842 E">
                                      <p:cBhvr>
                                        <p:cTn id="89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3.05556E-006 0.48842 E">
                                      <p:cBhvr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4.44444E-006 0.32292 E">
                                      <p:cBhvr>
                                        <p:cTn id="93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1.94444E-006 0.32292 E">
                                      <p:cBhvr>
                                        <p:cTn id="95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5.55556E-007 0.32292 E">
                                      <p:cBhvr>
                                        <p:cTn id="97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111E-006 L -1.94444E-006 0.48842 E">
                                      <p:cBhvr>
                                        <p:cTn id="99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111E-006 L 5.55556E-007 0.48842 E">
                                      <p:cBhvr>
                                        <p:cTn id="101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11111E-006 L 3.05556E-006 0.48842 E">
                                      <p:cBhvr>
                                        <p:cTn id="10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1.11111E-006 0.36226 E">
                                      <p:cBhvr>
                                        <p:cTn id="105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3.61111E-006 0.36226 E">
                                      <p:cBhvr>
                                        <p:cTn id="107" dur="2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-3.88889E-006 0.36226 E">
                                      <p:cBhvr>
                                        <p:cTn id="109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47848E-007 L 5.55556E-007 0.1652 E">
                                      <p:cBhvr>
                                        <p:cTn id="111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11111E-006 L 1.11111E-006 0.16528 E">
                                      <p:cBhvr>
                                        <p:cTn id="113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11111E-006 L 3.61111E-006 0.16528 E">
                                      <p:cBhvr>
                                        <p:cTn id="115" dur="20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1.11111E-006 0.36226 E">
                                      <p:cBhvr>
                                        <p:cTn id="117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81481E-006 L 3.61111E-006 0.36226 E">
                                      <p:cBhvr>
                                        <p:cTn id="119" dur="2000" fill="hold"/>
                                        <p:tgtEl>
                                          <p:spTgt spid="6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81481E-006 L -3.88889E-006 0.36226 E">
                                      <p:cBhvr>
                                        <p:cTn id="121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4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" dur="2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Box 2"/>
          <p:cNvSpPr/>
          <p:nvPr/>
        </p:nvSpPr>
        <p:spPr>
          <a:xfrm>
            <a:off x="0" y="189000"/>
            <a:ext cx="91440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ff0000"/>
                </a:solidFill>
                <a:uFillTx/>
                <a:latin typeface="Bookman Old Style"/>
              </a:rPr>
              <a:t>ДЕЛИТЕЛЕМ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 НАТУРАЛЬНОГО ЧИСЛА </a:t>
            </a:r>
            <a:r>
              <a:rPr b="0" lang="en-US" sz="4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 НАЗЫВАЮТ НАТУРАЛЬНОЕ ЧИСЛО, НА КОТОРОЕ </a:t>
            </a:r>
            <a:r>
              <a:rPr b="0" lang="en-US" sz="4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 ДЕЛИТСЯ БЕЗ ОСТАТКА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"/>
          <p:cNvSpPr/>
          <p:nvPr/>
        </p:nvSpPr>
        <p:spPr>
          <a:xfrm>
            <a:off x="34920" y="308124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о 12 имеет 6 делителей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"/>
          <p:cNvSpPr/>
          <p:nvPr/>
        </p:nvSpPr>
        <p:spPr>
          <a:xfrm>
            <a:off x="34920" y="365760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1, 2, 3, 4, 6 и 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5"/>
          <p:cNvSpPr/>
          <p:nvPr/>
        </p:nvSpPr>
        <p:spPr>
          <a:xfrm>
            <a:off x="34920" y="4737240"/>
            <a:ext cx="91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о 1 является делителем любого натурального чис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3" descr=""/>
          <p:cNvPicPr/>
          <p:nvPr/>
        </p:nvPicPr>
        <p:blipFill>
          <a:blip r:embed="rId1"/>
          <a:stretch/>
        </p:blipFill>
        <p:spPr>
          <a:xfrm>
            <a:off x="2411280" y="341280"/>
            <a:ext cx="2100240" cy="15750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250920" y="341280"/>
            <a:ext cx="2101680" cy="1575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" descr=""/>
          <p:cNvPicPr/>
          <p:nvPr/>
        </p:nvPicPr>
        <p:blipFill>
          <a:blip r:embed="rId3"/>
          <a:stretch/>
        </p:blipFill>
        <p:spPr>
          <a:xfrm>
            <a:off x="4572000" y="341280"/>
            <a:ext cx="2100240" cy="157500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"/>
          <p:cNvPicPr/>
          <p:nvPr/>
        </p:nvPicPr>
        <p:blipFill>
          <a:blip r:embed="rId4"/>
          <a:stretch/>
        </p:blipFill>
        <p:spPr>
          <a:xfrm>
            <a:off x="6732720" y="341280"/>
            <a:ext cx="2100240" cy="1575000"/>
          </a:xfrm>
          <a:prstGeom prst="rect">
            <a:avLst/>
          </a:prstGeom>
          <a:ln w="0">
            <a:noFill/>
          </a:ln>
        </p:spPr>
      </p:pic>
      <p:sp>
        <p:nvSpPr>
          <p:cNvPr id="633" name="TextBox 7"/>
          <p:cNvSpPr/>
          <p:nvPr/>
        </p:nvSpPr>
        <p:spPr>
          <a:xfrm>
            <a:off x="468360" y="1159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2843280" y="1159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0"/>
          <p:cNvSpPr/>
          <p:nvPr/>
        </p:nvSpPr>
        <p:spPr>
          <a:xfrm>
            <a:off x="4788000" y="11592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1"/>
          <p:cNvSpPr/>
          <p:nvPr/>
        </p:nvSpPr>
        <p:spPr>
          <a:xfrm>
            <a:off x="7164360" y="1159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2"/>
          <p:cNvSpPr/>
          <p:nvPr/>
        </p:nvSpPr>
        <p:spPr>
          <a:xfrm>
            <a:off x="1692360" y="227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3"/>
          <p:cNvSpPr/>
          <p:nvPr/>
        </p:nvSpPr>
        <p:spPr>
          <a:xfrm>
            <a:off x="3851280" y="2276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Bookman Old Style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21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23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30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32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36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38" dur="2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Box 14"/>
          <p:cNvSpPr/>
          <p:nvPr/>
        </p:nvSpPr>
        <p:spPr>
          <a:xfrm>
            <a:off x="0" y="206064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а 8, 16, 24 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кратны</a:t>
            </a: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 числу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15"/>
          <p:cNvSpPr/>
          <p:nvPr/>
        </p:nvSpPr>
        <p:spPr>
          <a:xfrm>
            <a:off x="0" y="314172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о 18 </a:t>
            </a:r>
            <a:r>
              <a:rPr b="0" lang="ru-RU" sz="4000" spc="-1" strike="noStrike">
                <a:solidFill>
                  <a:srgbClr val="ff0000"/>
                </a:solidFill>
                <a:latin typeface="Bookman Old Style"/>
              </a:rPr>
              <a:t>не кратно</a:t>
            </a: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 числу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6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Box 2"/>
          <p:cNvSpPr/>
          <p:nvPr/>
        </p:nvSpPr>
        <p:spPr>
          <a:xfrm>
            <a:off x="0" y="549360"/>
            <a:ext cx="914400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0000"/>
                </a:solidFill>
                <a:uFillTx/>
                <a:latin typeface="Bookman Old Style"/>
              </a:rPr>
              <a:t>КРАТНЫМ</a:t>
            </a:r>
            <a:r>
              <a:rPr b="0" lang="ru-RU" sz="3300" spc="-1" strike="noStrike">
                <a:solidFill>
                  <a:srgbClr val="008000"/>
                </a:solidFill>
                <a:latin typeface="Bookman Old Style"/>
              </a:rPr>
              <a:t> НАТУРАЛЬНОГО ЧИСЛА </a:t>
            </a:r>
            <a:r>
              <a:rPr b="0" lang="en-US" sz="4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 </a:t>
            </a:r>
            <a:r>
              <a:rPr b="0" lang="ru-RU" sz="3300" spc="-1" strike="noStrike">
                <a:solidFill>
                  <a:srgbClr val="008000"/>
                </a:solidFill>
                <a:latin typeface="Bookman Old Style"/>
              </a:rPr>
              <a:t>НАЗЫВАЮТ НАТУРАЛЬНОЕ ЧИСЛО, КОТОРОЕ ДЕЛИТСЯ БЕЗ ОСТАТКА НА </a:t>
            </a:r>
            <a:r>
              <a:rPr b="0" lang="en-US" sz="4500" spc="-1" strike="noStrike">
                <a:solidFill>
                  <a:srgbClr val="ff0000"/>
                </a:solidFill>
                <a:latin typeface="Bookman Old Style"/>
              </a:rPr>
              <a:t>a</a:t>
            </a:r>
            <a:r>
              <a:rPr b="0" lang="ru-RU" sz="3500" spc="-1" strike="noStrike">
                <a:solidFill>
                  <a:srgbClr val="008000"/>
                </a:solidFill>
                <a:latin typeface="Bookman Old Style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3"/>
          <p:cNvSpPr/>
          <p:nvPr/>
        </p:nvSpPr>
        <p:spPr>
          <a:xfrm>
            <a:off x="34920" y="407664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Числа кратные 8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4"/>
          <p:cNvSpPr/>
          <p:nvPr/>
        </p:nvSpPr>
        <p:spPr>
          <a:xfrm>
            <a:off x="34920" y="4653000"/>
            <a:ext cx="91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8, 16, 24, 32, 40 и т.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34920" y="2637000"/>
            <a:ext cx="91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50aff"/>
                </a:solidFill>
                <a:latin typeface="Bookman Old Style"/>
              </a:rPr>
              <a:t>Любое натуральное число имеет бесконечно много кра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1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1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00"/>
                                        <p:tgtEl>
                                          <p:spTgt spid="6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6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24,-100,12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50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2"/>
          <p:cNvSpPr/>
          <p:nvPr/>
        </p:nvSpPr>
        <p:spPr>
          <a:xfrm>
            <a:off x="34920" y="549360"/>
            <a:ext cx="9144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 u="sng">
                <a:solidFill>
                  <a:srgbClr val="ff0000"/>
                </a:solidFill>
                <a:uFillTx/>
                <a:latin typeface="Bookman Old Style"/>
              </a:rPr>
              <a:t>ВОПРОСЫ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34920" y="1430280"/>
            <a:ext cx="9109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Какое число называют делителем данного натурального чис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Какое число называют кратным натуральному числу </a:t>
            </a:r>
            <a:r>
              <a:rPr b="0" i="1" lang="ru-RU" sz="3000" spc="-1" strike="noStrike">
                <a:solidFill>
                  <a:srgbClr val="850aff"/>
                </a:solidFill>
                <a:latin typeface="Bookman Old Style"/>
              </a:rPr>
              <a:t>а </a:t>
            </a: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Какое число является делителем любого натурального числ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850aff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Какое число и кратно </a:t>
            </a:r>
            <a:r>
              <a:rPr b="0" i="1" lang="en-US" sz="3000" spc="-1" strike="noStrike">
                <a:solidFill>
                  <a:srgbClr val="850aff"/>
                </a:solidFill>
                <a:latin typeface="Bookman Old Style"/>
              </a:rPr>
              <a:t>n</a:t>
            </a: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, и является делителем </a:t>
            </a:r>
            <a:r>
              <a:rPr b="0" i="1" lang="en-US" sz="3000" spc="-1" strike="noStrike">
                <a:solidFill>
                  <a:srgbClr val="850aff"/>
                </a:solidFill>
                <a:latin typeface="Bookman Old Style"/>
              </a:rPr>
              <a:t>n</a:t>
            </a:r>
            <a:r>
              <a:rPr b="0" lang="ru-RU" sz="3000" spc="-1" strike="noStrike">
                <a:solidFill>
                  <a:srgbClr val="850aff"/>
                </a:solidFill>
                <a:latin typeface="Bookman Old Style"/>
              </a:rPr>
              <a:t>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4:16:17Z</dcterms:created>
  <dc:creator>User</dc:creator>
  <dc:description/>
  <dc:language>en-US</dc:language>
  <cp:lastModifiedBy>Учитель</cp:lastModifiedBy>
  <dcterms:modified xsi:type="dcterms:W3CDTF">2024-01-30T09:19:54Z</dcterms:modified>
  <cp:revision>124</cp:revision>
  <dc:subject/>
  <dc:title>Слайд 1</dc:title>
</cp:coreProperties>
</file>