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FA65-9073-40B8-BF4D-A7048AF757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A8FD-4AAD-48B7-89F9-A059B6C90F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0BC4-C6CF-45AB-BB16-E4C7532E4B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61E9-5A22-48A8-B168-D9082D46EE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DED9-736A-4EBC-A2D3-5E4DA24E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38B-88EB-4C72-8618-7F6DC6D9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77C27-1C21-482E-B83C-DB5B5E1C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F52B5-4B8C-4A0C-A40F-5877C246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C75A6-048D-4FDE-87D6-AA6862E9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63504-389D-45F2-BEAC-D225CB7D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617D7-A10F-4AFA-BAAC-E53AAC1D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D73F7-A0E1-4B55-B5AA-761E669C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B8C99-EB15-4E17-A79D-767AAFAC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00B88-996C-4246-A65D-EFEFF35F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79B42-52B2-4D25-9BA0-35C34A0D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4DD18-600B-4A18-9D1E-0E8D9425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6ACC-8B82-47BF-B8A4-C29FD037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91C98-6CBF-4E70-BBEE-37195119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CF5DD-CBA4-4A29-8CB7-F46AFAC9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6E6E5-943E-4FDB-A9D7-B20679EB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D631D-170C-4DBC-B155-365F9443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55AFC-50FC-4F52-9169-1147D964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2D431-63FB-49BD-A2AB-02B5EEA9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2E15C-E5DA-41DD-A50F-38515940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B286F-A1C8-47C9-8835-F3434C0E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84101-90A1-4307-A4C1-39BE4F3A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AC3F0-7EA3-4847-A70F-69E70875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684-B8C7-4C43-AD01-6EA6068E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133E5-063F-4070-A4EE-E1A2E869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05340-0E46-4EF4-A5F1-E46C4152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01362-7E4E-45FB-A5CD-1069FC55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3C8E8-CA16-41DC-8BC0-D34A3A49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79F52-7F41-415A-909A-3ACE46C3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0C891-6205-41A2-8BF1-F9F55B16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EBC70-0592-4E4B-9092-F8C22B87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D4C91-86AF-4971-B002-684F706C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99AD0-5BE3-4CDB-972D-6519A577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38680-5B08-4C81-95D2-13DF747A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A59D-28EC-4062-A470-A87C7DC7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5DAB4-EFBD-4F10-B1D6-F7750026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02816-A6C6-49B8-B67B-A426CB13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14245-913F-43D7-8289-445C63CC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38475-8E4D-4283-A17C-6D80BC97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43F92-1405-4480-9D28-3F976F38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9F901-1163-4D32-939D-0A539E1A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D82A4-2DCF-49C8-866D-326F376D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0B019-7A6D-47DD-923C-CC89F127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3D1FD-251D-468B-BE09-0C6A0A00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7B58F-D9E6-4C2A-B523-32403214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2772-2830-4410-9E6E-84561508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7CEA5-E109-4E34-B666-12301A56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B1EAA-CB12-40D0-BA82-BE635AF7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94068-A290-459B-9D4B-357695E0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2D9E2-9969-45A7-A9CB-D9DD7E71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F93CC-4463-410F-A333-8628DBBC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A2BB-1055-4C31-B836-6A05BE70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AABE-6F9D-4B81-A6D4-D7926523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75F8-6DA0-4EF8-B36C-63613833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5CA6-6849-46C2-B326-8E69E4FC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AC6E-2924-4852-9C8B-4F88DAA0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924-75B3-4D9B-8753-6FB5AD20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0354-EEE5-4781-9C55-A227A871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5445-B0B3-4A35-A1A1-88628380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79A7-B84E-4C99-99D3-5B8C8C13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9044-87C8-4B6C-B73B-82373F61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54DE-D387-41BA-B931-827A0587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79778-F898-401C-9926-297465F8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8262D-0067-44CA-A8CB-A2760469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B3C03-ED51-4C69-9970-6C57C3AB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3BFF0-8E45-4964-952D-2FF725DD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9A8F5-E1DD-4442-9F55-C967FF9A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E7C2-50AB-4D3E-AA83-6B3AC921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9DB32-61B1-43DC-BFF8-04C752DF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4783C-E3A8-48A7-8315-C9625497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C032F-C617-42CE-8CB1-904B66D5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38216-F1C8-46EF-BDEE-AC8EDAAC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AEC2E-E92D-4BE5-B33B-5BCD7667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08308-7A92-4CD4-BD4F-1A0289FE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1F8C9-5956-4D7B-B175-968F223A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85615-919D-4E30-9541-7423CED9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C5FDF-3E66-4E47-B820-E6B56FD6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B19A4-B168-49ED-AA77-B4EC868B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50AA-C42F-4DF2-AE3B-25D86243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A9873-2E93-4D69-8C9A-76D8673A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C52F1-B2E0-4BCF-B07D-2781A189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D1F80-F1EA-40C3-A9BD-FBEC0C66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11DCC-04D8-4014-9D09-214EE8E6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0E5E9-2320-44C3-82C6-71CFB07C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E27E4-56C2-4F76-A904-7BFE4108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1B954-26E1-4631-9203-30C501CD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D6800-094F-4313-BFDC-3F5CA6BA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8C612-51BA-4EB6-8DB3-B8EFBCFA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842C8-C9F5-4AEA-8331-44C469BA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2036-2130-45F0-809E-787B45AC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F8FB9-73ED-405C-93B4-18AB5560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EFA6D-B82E-4560-A55E-BD761E13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C3618-1275-4868-B8A9-EBAB4F2F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AC209-DD84-4D21-BB6D-16D26595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F9E8E-C81D-47CF-81FD-CA9A5212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EB183-DDCB-4BEF-87AA-BF2690BA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5F714-6A3B-4EA5-B15F-6B840C07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79A4B-30F5-4846-8A52-A75CB72C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634D4-4E69-4F50-BC9C-72AB25BB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FC0F1-DA5E-45EB-8223-1193F18B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B20-295E-46FF-887A-72A36EAA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BBB47-93FA-481D-81BE-4741FF33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F2B9B-B353-410C-ABDD-C9303B91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A257A-310C-4397-8455-3B1C94F2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E8CAD-68F8-4FA8-AB19-3AD290B0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655B0-F3A6-4DC8-9BDA-96785D61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1F9A9-1993-4665-AEBB-54E3585B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21CF3-9BA2-40CB-9319-FCF5850A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54FFE-9646-45FF-BF7E-E5AF36D8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07B9B-7827-42E8-8A8B-5926CFEE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2134D-7E4C-4E45-A38E-BFDB8EB0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29D2-984D-44B2-A8F6-58B53379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6DEF5-27EC-41B6-835B-467F9604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659E2-00F5-4E4F-B019-31F87E61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CA368-BE3F-4876-91A4-1E8E9DDA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09225-BCA4-43B4-ADA9-5D7B3CAF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DA137-39CD-43B3-813D-B82B04DA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244AF-63B3-44B4-9BDE-67DA62F4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73619-0BB1-42AE-BE5D-B6D8821B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0F2D8-6AEC-4710-873C-A43244E7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74EB8-7FAB-43CB-9019-55E77D7F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1525F-B018-4CE3-ADD1-015F8EDB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7BA-3EA2-4490-A105-4FC26815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5157F-AF4D-467F-B0E2-D7DDC441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D737E-59AA-45CC-A8AE-722E8661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93787-58AA-413F-9E2C-CC779CEB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A5A69-82D5-471E-93E7-92462BD7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41EE4-764A-48CE-9FE9-E8C7C357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D81AF-790C-4805-B108-F1A29BC6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51617-9678-4B83-98CE-C0D61375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9F2A3-CF96-43A8-B55E-9A184EF4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7DB86-FC99-4682-95A9-D36E26FF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869C6-BEDF-4AD6-A789-03A0D958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18F4-ADB9-42F2-B0D9-B33A4F56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1367A-C1A1-448F-85FF-AEB82650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5B5F8-137D-4343-8ABC-97496C73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B5421-C642-4424-84E6-669DD4BA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9D14F-C363-4AB3-A3B3-CE4630FA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499A7-281E-44DF-86EF-49D2BBB6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5A835-1917-4A6A-BA61-13601559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5E64D-5751-4D0F-9078-421BAE4B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00B8E-F9EF-4D4A-A497-6ED1C851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08162-6AD4-4F7A-890B-F77FC0C9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1135F-715A-4C7C-B804-0857CA65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F848-DE33-4864-AFDD-64F31855AF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8685-879C-4F3B-B731-472C1989D4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DE35-FDDF-4BE3-BA62-D2BC332FFB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3AE6-F82E-4B06-8756-FF87DA55BF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A37F-1848-4407-A898-5CD2842644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5CA0-0E56-4323-A23D-2ADDDCFE26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359E-CFDF-4FD6-874F-38A712876E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E74E-4705-4BDE-8B50-1A51F2C992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B722-E7F2-4E80-99F1-674F97D42D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82F5-33F9-4B8C-9399-748E27BFC6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1F61-5931-44EA-8F24-AC2FFB9BBC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AAD9-5E53-4B25-9602-F628B8694F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slideLayout" Target="../slideLayouts/slideLayout85.xml"/><Relationship Id="rId2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slideLayout" Target="../slideLayouts/slideLayout85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7"/>
          <p:cNvSpPr/>
          <p:nvPr/>
        </p:nvSpPr>
        <p:spPr>
          <a:xfrm>
            <a:off x="0" y="2629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ДЕЛИТЕЛИ И КРАТ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Скругленный прямоугольник 68"/>
          <p:cNvSpPr/>
          <p:nvPr/>
        </p:nvSpPr>
        <p:spPr>
          <a:xfrm>
            <a:off x="5148360" y="2060640"/>
            <a:ext cx="3240000" cy="183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Скругленный прямоугольник 69"/>
          <p:cNvSpPr/>
          <p:nvPr/>
        </p:nvSpPr>
        <p:spPr>
          <a:xfrm>
            <a:off x="5148360" y="4653000"/>
            <a:ext cx="3240000" cy="183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Скругленный прямоугольник 67"/>
          <p:cNvSpPr/>
          <p:nvPr/>
        </p:nvSpPr>
        <p:spPr>
          <a:xfrm>
            <a:off x="611280" y="2060640"/>
            <a:ext cx="3240000" cy="183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Скругленный прямоугольник 66"/>
          <p:cNvSpPr/>
          <p:nvPr/>
        </p:nvSpPr>
        <p:spPr>
          <a:xfrm>
            <a:off x="611280" y="4653000"/>
            <a:ext cx="3240000" cy="183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Рисунок 31" descr="a1005zxr.jpg"/>
          <p:cNvPicPr/>
          <p:nvPr/>
        </p:nvPicPr>
        <p:blipFill>
          <a:blip r:embed="rId1"/>
          <a:stretch/>
        </p:blipFill>
        <p:spPr>
          <a:xfrm>
            <a:off x="0" y="164628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32" descr="a1005zxr.jpg"/>
          <p:cNvPicPr/>
          <p:nvPr/>
        </p:nvPicPr>
        <p:blipFill>
          <a:blip r:embed="rId2"/>
          <a:stretch/>
        </p:blipFill>
        <p:spPr>
          <a:xfrm>
            <a:off x="900000" y="164628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573" name="Рисунок 33" descr="a1005zxr.jpg"/>
          <p:cNvPicPr/>
          <p:nvPr/>
        </p:nvPicPr>
        <p:blipFill>
          <a:blip r:embed="rId3"/>
          <a:stretch/>
        </p:blipFill>
        <p:spPr>
          <a:xfrm>
            <a:off x="1800360" y="164628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574" name="Рисунок 34" descr="a1005zxr.jpg"/>
          <p:cNvPicPr/>
          <p:nvPr/>
        </p:nvPicPr>
        <p:blipFill>
          <a:blip r:embed="rId4"/>
          <a:stretch/>
        </p:blipFill>
        <p:spPr>
          <a:xfrm>
            <a:off x="2700360" y="164628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575" name="Рисунок 35" descr="a1005zxr.jpg"/>
          <p:cNvPicPr/>
          <p:nvPr/>
        </p:nvPicPr>
        <p:blipFill>
          <a:blip r:embed="rId5"/>
          <a:stretch/>
        </p:blipFill>
        <p:spPr>
          <a:xfrm>
            <a:off x="3600360" y="164628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576" name="Рисунок 46" descr="a1005zxr.jpg"/>
          <p:cNvPicPr/>
          <p:nvPr/>
        </p:nvPicPr>
        <p:blipFill>
          <a:blip r:embed="rId6"/>
          <a:stretch/>
        </p:blipFill>
        <p:spPr>
          <a:xfrm>
            <a:off x="4500720" y="164628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577" name="Рисунок 47" descr="a1005zxr.jpg"/>
          <p:cNvPicPr/>
          <p:nvPr/>
        </p:nvPicPr>
        <p:blipFill>
          <a:blip r:embed="rId7"/>
          <a:stretch/>
        </p:blipFill>
        <p:spPr>
          <a:xfrm>
            <a:off x="5400720" y="164628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48" descr="a1005zxr.jpg"/>
          <p:cNvPicPr/>
          <p:nvPr/>
        </p:nvPicPr>
        <p:blipFill>
          <a:blip r:embed="rId8"/>
          <a:stretch/>
        </p:blipFill>
        <p:spPr>
          <a:xfrm>
            <a:off x="6300720" y="1646280"/>
            <a:ext cx="898560" cy="755640"/>
          </a:xfrm>
          <a:prstGeom prst="rect">
            <a:avLst/>
          </a:prstGeom>
          <a:ln w="0">
            <a:noFill/>
          </a:ln>
        </p:spPr>
      </p:pic>
      <p:pic>
        <p:nvPicPr>
          <p:cNvPr id="579" name="Рисунок 49" descr="a1005zxr.jpg"/>
          <p:cNvPicPr/>
          <p:nvPr/>
        </p:nvPicPr>
        <p:blipFill>
          <a:blip r:embed="rId9"/>
          <a:stretch/>
        </p:blipFill>
        <p:spPr>
          <a:xfrm>
            <a:off x="7199280" y="164628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580" name="Рисунок 50" descr="a1005zxr.jpg"/>
          <p:cNvPicPr/>
          <p:nvPr/>
        </p:nvPicPr>
        <p:blipFill>
          <a:blip r:embed="rId10"/>
          <a:stretch/>
        </p:blipFill>
        <p:spPr>
          <a:xfrm>
            <a:off x="8099280" y="164628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581" name="Рисунок 51" descr="a1005zxr.jpg"/>
          <p:cNvPicPr/>
          <p:nvPr/>
        </p:nvPicPr>
        <p:blipFill>
          <a:blip r:embed="rId11"/>
          <a:stretch/>
        </p:blipFill>
        <p:spPr>
          <a:xfrm>
            <a:off x="0" y="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582" name="Рисунок 52" descr="a1005zxr.jpg"/>
          <p:cNvPicPr/>
          <p:nvPr/>
        </p:nvPicPr>
        <p:blipFill>
          <a:blip r:embed="rId12"/>
          <a:stretch/>
        </p:blipFill>
        <p:spPr>
          <a:xfrm>
            <a:off x="900000" y="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583" name="Рисунок 53" descr="a1005zxr.jpg"/>
          <p:cNvPicPr/>
          <p:nvPr/>
        </p:nvPicPr>
        <p:blipFill>
          <a:blip r:embed="rId13"/>
          <a:stretch/>
        </p:blipFill>
        <p:spPr>
          <a:xfrm>
            <a:off x="1800360" y="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584" name="Рисунок 54" descr="a1005zxr.jpg"/>
          <p:cNvPicPr/>
          <p:nvPr/>
        </p:nvPicPr>
        <p:blipFill>
          <a:blip r:embed="rId14"/>
          <a:stretch/>
        </p:blipFill>
        <p:spPr>
          <a:xfrm>
            <a:off x="2700360" y="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585" name="Рисунок 55" descr="a1005zxr.jpg"/>
          <p:cNvPicPr/>
          <p:nvPr/>
        </p:nvPicPr>
        <p:blipFill>
          <a:blip r:embed="rId15"/>
          <a:stretch/>
        </p:blipFill>
        <p:spPr>
          <a:xfrm>
            <a:off x="3600360" y="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586" name="Рисунок 61" descr="a1005zxr.jpg"/>
          <p:cNvPicPr/>
          <p:nvPr/>
        </p:nvPicPr>
        <p:blipFill>
          <a:blip r:embed="rId16"/>
          <a:stretch/>
        </p:blipFill>
        <p:spPr>
          <a:xfrm>
            <a:off x="4500720" y="7920"/>
            <a:ext cx="900000" cy="75708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62" descr="a1005zxr.jpg"/>
          <p:cNvPicPr/>
          <p:nvPr/>
        </p:nvPicPr>
        <p:blipFill>
          <a:blip r:embed="rId17"/>
          <a:stretch/>
        </p:blipFill>
        <p:spPr>
          <a:xfrm>
            <a:off x="5400720" y="7920"/>
            <a:ext cx="898560" cy="757080"/>
          </a:xfrm>
          <a:prstGeom prst="rect">
            <a:avLst/>
          </a:prstGeom>
          <a:ln w="0">
            <a:noFill/>
          </a:ln>
        </p:spPr>
      </p:pic>
      <p:pic>
        <p:nvPicPr>
          <p:cNvPr id="588" name="Рисунок 63" descr="a1005zxr.jpg"/>
          <p:cNvPicPr/>
          <p:nvPr/>
        </p:nvPicPr>
        <p:blipFill>
          <a:blip r:embed="rId18"/>
          <a:stretch/>
        </p:blipFill>
        <p:spPr>
          <a:xfrm>
            <a:off x="6299280" y="7920"/>
            <a:ext cx="900000" cy="757080"/>
          </a:xfrm>
          <a:prstGeom prst="rect">
            <a:avLst/>
          </a:prstGeom>
          <a:ln w="0">
            <a:noFill/>
          </a:ln>
        </p:spPr>
      </p:pic>
      <p:pic>
        <p:nvPicPr>
          <p:cNvPr id="589" name="Рисунок 64" descr="a1005zxr.jpg"/>
          <p:cNvPicPr/>
          <p:nvPr/>
        </p:nvPicPr>
        <p:blipFill>
          <a:blip r:embed="rId19"/>
          <a:stretch/>
        </p:blipFill>
        <p:spPr>
          <a:xfrm>
            <a:off x="7199280" y="7920"/>
            <a:ext cx="900000" cy="757080"/>
          </a:xfrm>
          <a:prstGeom prst="rect">
            <a:avLst/>
          </a:prstGeom>
          <a:ln w="0">
            <a:noFill/>
          </a:ln>
        </p:spPr>
      </p:pic>
      <p:pic>
        <p:nvPicPr>
          <p:cNvPr id="590" name="Рисунок 65" descr="a1005zxr.jpg"/>
          <p:cNvPicPr/>
          <p:nvPr/>
        </p:nvPicPr>
        <p:blipFill>
          <a:blip r:embed="rId20"/>
          <a:stretch/>
        </p:blipFill>
        <p:spPr>
          <a:xfrm>
            <a:off x="8099280" y="7920"/>
            <a:ext cx="900360" cy="757080"/>
          </a:xfrm>
          <a:prstGeom prst="rect">
            <a:avLst/>
          </a:prstGeom>
          <a:ln w="0">
            <a:noFill/>
          </a:ln>
        </p:spPr>
      </p:pic>
      <p:sp>
        <p:nvSpPr>
          <p:cNvPr id="591" name="TextBox 70"/>
          <p:cNvSpPr/>
          <p:nvPr/>
        </p:nvSpPr>
        <p:spPr>
          <a:xfrm>
            <a:off x="3419640" y="272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Bookman Old Style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71"/>
          <p:cNvSpPr/>
          <p:nvPr/>
        </p:nvSpPr>
        <p:spPr>
          <a:xfrm>
            <a:off x="4211640" y="26028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Bookman Old Style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72"/>
          <p:cNvSpPr/>
          <p:nvPr/>
        </p:nvSpPr>
        <p:spPr>
          <a:xfrm>
            <a:off x="4427640" y="260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73"/>
          <p:cNvSpPr/>
          <p:nvPr/>
        </p:nvSpPr>
        <p:spPr>
          <a:xfrm>
            <a:off x="4788000" y="260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Bookman Old Style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74"/>
          <p:cNvSpPr/>
          <p:nvPr/>
        </p:nvSpPr>
        <p:spPr>
          <a:xfrm>
            <a:off x="5148360" y="260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Bookman Old Style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75"/>
          <p:cNvSpPr/>
          <p:nvPr/>
        </p:nvSpPr>
        <p:spPr>
          <a:xfrm>
            <a:off x="0" y="10652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Bookman Old Style"/>
              </a:rPr>
              <a:t>4 – </a:t>
            </a:r>
            <a:r>
              <a:rPr b="0" lang="ru-RU" sz="4000" spc="-1" strike="noStrike">
                <a:solidFill>
                  <a:srgbClr val="ff0000"/>
                </a:solidFill>
                <a:latin typeface="Bookman Old Style"/>
              </a:rPr>
              <a:t>ДЕЛИТЕЛЬ</a:t>
            </a:r>
            <a:r>
              <a:rPr b="0" lang="ru-RU" sz="4000" spc="-1" strike="noStrike">
                <a:solidFill>
                  <a:srgbClr val="008000"/>
                </a:solidFill>
                <a:latin typeface="Bookman Old Style"/>
              </a:rPr>
              <a:t> ЧИСЛА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7037E-006 L 3.05556E-006 0.53287 E">
                                      <p:cBhvr>
                                        <p:cTn id="6" dur="2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6 L 5.55556E-007 0.58541 E">
                                      <p:cBhvr>
                                        <p:cTn id="8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6 L -4.44444E-006 0.58541 E">
                                      <p:cBhvr>
                                        <p:cTn id="10" dur="2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94444E-006 3.7037E-006 L 0.09844 0.44884 E">
                                      <p:cBhvr>
                                        <p:cTn id="12" dur="2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94444E-006 3.7037E-006 L -0.09844 0.44884 E">
                                      <p:cBhvr>
                                        <p:cTn id="14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05556E-006 3.7037E-006 L 3.05556E-006 0.53287 E">
                                      <p:cBhvr>
                                        <p:cTn id="16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6 L 5.55556E-007 0.58541 E">
                                      <p:cBhvr>
                                        <p:cTn id="18" dur="2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6 L -4.44444E-006 0.58541 E">
                                      <p:cBhvr>
                                        <p:cTn id="20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94444E-006 3.7037E-006 L 0.09844 0.44884 E">
                                      <p:cBhvr>
                                        <p:cTn id="22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94444E-006 3.7037E-006 L -0.09844 0.44884 E">
                                      <p:cBhvr>
                                        <p:cTn id="24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05556E-006 -2.59259E-006 L 3.05556E-006 0.39236 E">
                                      <p:cBhvr>
                                        <p:cTn id="26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5.55556E-007 0.44885 E">
                                      <p:cBhvr>
                                        <p:cTn id="28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-4.44444E-006 0.44885 E">
                                      <p:cBhvr>
                                        <p:cTn id="30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94444E-006 2.90143E-006 L 0.09844 0.31883 E">
                                      <p:cBhvr>
                                        <p:cTn id="32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94444E-006 2.90143E-006 L -0.09844 0.31883 E">
                                      <p:cBhvr>
                                        <p:cTn id="34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05556E-006 -2.59259E-006 L 3.05556E-006 0.39236 E">
                                      <p:cBhvr>
                                        <p:cTn id="36" dur="2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5.55556E-007 0.44885 E">
                                      <p:cBhvr>
                                        <p:cTn id="38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-4.44444E-006 0.44885 E">
                                      <p:cBhvr>
                                        <p:cTn id="40" dur="2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94444E-006 2.90143E-006 L 0.09844 0.31883 E">
                                      <p:cBhvr>
                                        <p:cTn id="42" dur="2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94444E-006 2.90143E-006 L -0.09844 0.31883 E">
                                      <p:cBhvr>
                                        <p:cTn id="44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Скругленный прямоугольник 66"/>
          <p:cNvSpPr/>
          <p:nvPr/>
        </p:nvSpPr>
        <p:spPr>
          <a:xfrm>
            <a:off x="2736720" y="119700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Скругленный прямоугольник 67"/>
          <p:cNvSpPr/>
          <p:nvPr/>
        </p:nvSpPr>
        <p:spPr>
          <a:xfrm>
            <a:off x="2736720" y="364500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Скругленный прямоугольник 60"/>
          <p:cNvSpPr/>
          <p:nvPr/>
        </p:nvSpPr>
        <p:spPr>
          <a:xfrm>
            <a:off x="5435640" y="4797360"/>
            <a:ext cx="284472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Скругленный прямоугольник 59"/>
          <p:cNvSpPr/>
          <p:nvPr/>
        </p:nvSpPr>
        <p:spPr>
          <a:xfrm>
            <a:off x="5435640" y="2492280"/>
            <a:ext cx="284472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Скругленный прямоугольник 58"/>
          <p:cNvSpPr/>
          <p:nvPr/>
        </p:nvSpPr>
        <p:spPr>
          <a:xfrm>
            <a:off x="71280" y="2492280"/>
            <a:ext cx="284508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Скругленный прямоугольник 57"/>
          <p:cNvSpPr/>
          <p:nvPr/>
        </p:nvSpPr>
        <p:spPr>
          <a:xfrm>
            <a:off x="71280" y="4797360"/>
            <a:ext cx="284508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Рисунок 31" descr="a1005zxr.jpg"/>
          <p:cNvPicPr/>
          <p:nvPr/>
        </p:nvPicPr>
        <p:blipFill>
          <a:blip r:embed="rId1"/>
          <a:stretch/>
        </p:blipFill>
        <p:spPr>
          <a:xfrm>
            <a:off x="108000" y="164628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04" name="Рисунок 32" descr="a1005zxr.jpg"/>
          <p:cNvPicPr/>
          <p:nvPr/>
        </p:nvPicPr>
        <p:blipFill>
          <a:blip r:embed="rId2"/>
          <a:stretch/>
        </p:blipFill>
        <p:spPr>
          <a:xfrm>
            <a:off x="1008000" y="164628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05" name="Рисунок 33" descr="a1005zxr.jpg"/>
          <p:cNvPicPr/>
          <p:nvPr/>
        </p:nvPicPr>
        <p:blipFill>
          <a:blip r:embed="rId3"/>
          <a:stretch/>
        </p:blipFill>
        <p:spPr>
          <a:xfrm>
            <a:off x="1908000" y="164628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606" name="Рисунок 22" descr="a1005zxr.jpg"/>
          <p:cNvPicPr/>
          <p:nvPr/>
        </p:nvPicPr>
        <p:blipFill>
          <a:blip r:embed="rId4"/>
          <a:stretch/>
        </p:blipFill>
        <p:spPr>
          <a:xfrm>
            <a:off x="2808360" y="162864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07" name="Рисунок 23" descr="a1005zxr.jpg"/>
          <p:cNvPicPr/>
          <p:nvPr/>
        </p:nvPicPr>
        <p:blipFill>
          <a:blip r:embed="rId5"/>
          <a:stretch/>
        </p:blipFill>
        <p:spPr>
          <a:xfrm>
            <a:off x="3708360" y="162864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08" name="Рисунок 24" descr="a1005zxr.jpg"/>
          <p:cNvPicPr/>
          <p:nvPr/>
        </p:nvPicPr>
        <p:blipFill>
          <a:blip r:embed="rId6"/>
          <a:stretch/>
        </p:blipFill>
        <p:spPr>
          <a:xfrm>
            <a:off x="4608360" y="162864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609" name="Рисунок 25" descr="a1005zxr.jpg"/>
          <p:cNvPicPr/>
          <p:nvPr/>
        </p:nvPicPr>
        <p:blipFill>
          <a:blip r:embed="rId7"/>
          <a:stretch/>
        </p:blipFill>
        <p:spPr>
          <a:xfrm>
            <a:off x="5472000" y="162864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610" name="Рисунок 26" descr="a1005zxr.jpg"/>
          <p:cNvPicPr/>
          <p:nvPr/>
        </p:nvPicPr>
        <p:blipFill>
          <a:blip r:embed="rId8"/>
          <a:stretch/>
        </p:blipFill>
        <p:spPr>
          <a:xfrm>
            <a:off x="6372360" y="162864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11" name="Рисунок 27" descr="a1005zxr.jpg"/>
          <p:cNvPicPr/>
          <p:nvPr/>
        </p:nvPicPr>
        <p:blipFill>
          <a:blip r:embed="rId9"/>
          <a:stretch/>
        </p:blipFill>
        <p:spPr>
          <a:xfrm>
            <a:off x="7272360" y="162864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12" name="Рисунок 28" descr="a1005zxr.jpg"/>
          <p:cNvPicPr/>
          <p:nvPr/>
        </p:nvPicPr>
        <p:blipFill>
          <a:blip r:embed="rId10"/>
          <a:stretch/>
        </p:blipFill>
        <p:spPr>
          <a:xfrm>
            <a:off x="142920" y="20628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13" name="Рисунок 29" descr="a1005zxr.jpg"/>
          <p:cNvPicPr/>
          <p:nvPr/>
        </p:nvPicPr>
        <p:blipFill>
          <a:blip r:embed="rId11"/>
          <a:stretch/>
        </p:blipFill>
        <p:spPr>
          <a:xfrm>
            <a:off x="1042920" y="20628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614" name="Рисунок 30" descr="a1005zxr.jpg"/>
          <p:cNvPicPr/>
          <p:nvPr/>
        </p:nvPicPr>
        <p:blipFill>
          <a:blip r:embed="rId12"/>
          <a:stretch/>
        </p:blipFill>
        <p:spPr>
          <a:xfrm>
            <a:off x="1943280" y="20628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15" name="Рисунок 36" descr="a1005zxr.jpg"/>
          <p:cNvPicPr/>
          <p:nvPr/>
        </p:nvPicPr>
        <p:blipFill>
          <a:blip r:embed="rId13"/>
          <a:stretch/>
        </p:blipFill>
        <p:spPr>
          <a:xfrm>
            <a:off x="2843280" y="18900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37" descr="a1005zxr.jpg"/>
          <p:cNvPicPr/>
          <p:nvPr/>
        </p:nvPicPr>
        <p:blipFill>
          <a:blip r:embed="rId14"/>
          <a:stretch/>
        </p:blipFill>
        <p:spPr>
          <a:xfrm>
            <a:off x="3743280" y="18900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38" descr="a1005zxr.jpg"/>
          <p:cNvPicPr/>
          <p:nvPr/>
        </p:nvPicPr>
        <p:blipFill>
          <a:blip r:embed="rId15"/>
          <a:stretch/>
        </p:blipFill>
        <p:spPr>
          <a:xfrm>
            <a:off x="4643280" y="18900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42" descr="a1005zxr.jpg"/>
          <p:cNvPicPr/>
          <p:nvPr/>
        </p:nvPicPr>
        <p:blipFill>
          <a:blip r:embed="rId16"/>
          <a:stretch/>
        </p:blipFill>
        <p:spPr>
          <a:xfrm>
            <a:off x="5543640" y="22536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43" descr="a1005zxr.jpg"/>
          <p:cNvPicPr/>
          <p:nvPr/>
        </p:nvPicPr>
        <p:blipFill>
          <a:blip r:embed="rId17"/>
          <a:stretch/>
        </p:blipFill>
        <p:spPr>
          <a:xfrm>
            <a:off x="6443640" y="22536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44" descr="a1005zxr.jpg"/>
          <p:cNvPicPr/>
          <p:nvPr/>
        </p:nvPicPr>
        <p:blipFill>
          <a:blip r:embed="rId18"/>
          <a:stretch/>
        </p:blipFill>
        <p:spPr>
          <a:xfrm>
            <a:off x="7343640" y="22536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621" name="Рисунок 45" descr="a1005zxr.jpg"/>
          <p:cNvPicPr/>
          <p:nvPr/>
        </p:nvPicPr>
        <p:blipFill>
          <a:blip r:embed="rId19"/>
          <a:stretch/>
        </p:blipFill>
        <p:spPr>
          <a:xfrm>
            <a:off x="8136000" y="1592280"/>
            <a:ext cx="900000" cy="75708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56" descr="a1005zxr.jpg"/>
          <p:cNvPicPr/>
          <p:nvPr/>
        </p:nvPicPr>
        <p:blipFill>
          <a:blip r:embed="rId20"/>
          <a:stretch/>
        </p:blipFill>
        <p:spPr>
          <a:xfrm>
            <a:off x="8209080" y="189000"/>
            <a:ext cx="900000" cy="755640"/>
          </a:xfrm>
          <a:prstGeom prst="rect">
            <a:avLst/>
          </a:prstGeom>
          <a:ln w="0">
            <a:noFill/>
          </a:ln>
        </p:spPr>
      </p:pic>
      <p:sp>
        <p:nvSpPr>
          <p:cNvPr id="623" name="TextBox 71"/>
          <p:cNvSpPr/>
          <p:nvPr/>
        </p:nvSpPr>
        <p:spPr>
          <a:xfrm>
            <a:off x="2916360" y="26028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Bookman Old Style"/>
              </a:rPr>
              <a:t>20:6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72"/>
          <p:cNvSpPr/>
          <p:nvPr/>
        </p:nvSpPr>
        <p:spPr>
          <a:xfrm>
            <a:off x="4643280" y="2728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ookman Old Styl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11111E-006 L -1.94444E-006 0.48842 E">
                                      <p:cBhvr>
                                        <p:cTn id="87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1111E-006 L 5.55556E-007 0.48842 E">
                                      <p:cBhvr>
                                        <p:cTn id="89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11111E-006 L 3.05556E-006 0.48842 E">
                                      <p:cBhvr>
                                        <p:cTn id="91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-4.44444E-006 0.32292 E">
                                      <p:cBhvr>
                                        <p:cTn id="93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-1.94444E-006 0.32292 E">
                                      <p:cBhvr>
                                        <p:cTn id="95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5.55556E-007 0.32292 E">
                                      <p:cBhvr>
                                        <p:cTn id="97" dur="20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11111E-006 L -1.94444E-006 0.48842 E">
                                      <p:cBhvr>
                                        <p:cTn id="99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1111E-006 L 5.55556E-007 0.48842 E">
                                      <p:cBhvr>
                                        <p:cTn id="101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11111E-006 L 3.05556E-006 0.48842 E">
                                      <p:cBhvr>
                                        <p:cTn id="103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1.11111E-006 0.36226 E">
                                      <p:cBhvr>
                                        <p:cTn id="105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81481E-006 L 3.61111E-006 0.36226 E">
                                      <p:cBhvr>
                                        <p:cTn id="107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81481E-006 L -3.88889E-006 0.36226 E">
                                      <p:cBhvr>
                                        <p:cTn id="109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47848E-007 L 5.55556E-007 0.1652 E">
                                      <p:cBhvr>
                                        <p:cTn id="111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1111E-006 L 1.11111E-006 0.16528 E">
                                      <p:cBhvr>
                                        <p:cTn id="113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3.61111E-006 0.16528 E">
                                      <p:cBhvr>
                                        <p:cTn id="115" dur="2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1.11111E-006 0.36226 E">
                                      <p:cBhvr>
                                        <p:cTn id="117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81481E-006 L 3.61111E-006 0.36226 E">
                                      <p:cBhvr>
                                        <p:cTn id="119" dur="2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81481E-006 L -3.88889E-006 0.36226 E">
                                      <p:cBhvr>
                                        <p:cTn id="121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Box 2"/>
          <p:cNvSpPr/>
          <p:nvPr/>
        </p:nvSpPr>
        <p:spPr>
          <a:xfrm>
            <a:off x="0" y="189000"/>
            <a:ext cx="914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ff0000"/>
                </a:solidFill>
                <a:uFillTx/>
                <a:latin typeface="Bookman Old Style"/>
              </a:rPr>
              <a:t>ДЕЛИТЕЛЕМ</a:t>
            </a:r>
            <a:r>
              <a:rPr b="0" lang="ru-RU" sz="3500" spc="-1" strike="noStrike">
                <a:solidFill>
                  <a:srgbClr val="008000"/>
                </a:solidFill>
                <a:latin typeface="Bookman Old Style"/>
              </a:rPr>
              <a:t> НАТУРАЛЬНОГО ЧИСЛА </a:t>
            </a:r>
            <a:r>
              <a:rPr b="0" lang="en-US" sz="45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0" lang="ru-RU" sz="3500" spc="-1" strike="noStrike">
                <a:solidFill>
                  <a:srgbClr val="008000"/>
                </a:solidFill>
                <a:latin typeface="Bookman Old Style"/>
              </a:rPr>
              <a:t> НАЗЫВАЮТ НАТУРАЛЬНОЕ ЧИСЛО, НА КОТОРОЕ </a:t>
            </a:r>
            <a:r>
              <a:rPr b="0" lang="en-US" sz="45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0" lang="ru-RU" sz="3500" spc="-1" strike="noStrike">
                <a:solidFill>
                  <a:srgbClr val="008000"/>
                </a:solidFill>
                <a:latin typeface="Bookman Old Style"/>
              </a:rPr>
              <a:t> ДЕЛИТСЯ БЕЗ ОСТАТКА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3"/>
          <p:cNvSpPr/>
          <p:nvPr/>
        </p:nvSpPr>
        <p:spPr>
          <a:xfrm>
            <a:off x="34920" y="3081240"/>
            <a:ext cx="91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0aff"/>
                </a:solidFill>
                <a:latin typeface="Bookman Old Style"/>
              </a:rPr>
              <a:t>Число 12 имеет 6 делителей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4"/>
          <p:cNvSpPr/>
          <p:nvPr/>
        </p:nvSpPr>
        <p:spPr>
          <a:xfrm>
            <a:off x="34920" y="3657600"/>
            <a:ext cx="91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0aff"/>
                </a:solidFill>
                <a:latin typeface="Bookman Old Style"/>
              </a:rPr>
              <a:t>1, 2, 3, 4, 6 и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5"/>
          <p:cNvSpPr/>
          <p:nvPr/>
        </p:nvSpPr>
        <p:spPr>
          <a:xfrm>
            <a:off x="34920" y="4737240"/>
            <a:ext cx="91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0aff"/>
                </a:solidFill>
                <a:latin typeface="Bookman Old Style"/>
              </a:rPr>
              <a:t>Число 1 является делителем любого натурального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1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1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3" descr=""/>
          <p:cNvPicPr/>
          <p:nvPr/>
        </p:nvPicPr>
        <p:blipFill>
          <a:blip r:embed="rId1"/>
          <a:stretch/>
        </p:blipFill>
        <p:spPr>
          <a:xfrm>
            <a:off x="2411280" y="341280"/>
            <a:ext cx="2100240" cy="15750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250920" y="341280"/>
            <a:ext cx="2101680" cy="1575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" descr=""/>
          <p:cNvPicPr/>
          <p:nvPr/>
        </p:nvPicPr>
        <p:blipFill>
          <a:blip r:embed="rId3"/>
          <a:stretch/>
        </p:blipFill>
        <p:spPr>
          <a:xfrm>
            <a:off x="4572000" y="341280"/>
            <a:ext cx="2100240" cy="1575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" descr=""/>
          <p:cNvPicPr/>
          <p:nvPr/>
        </p:nvPicPr>
        <p:blipFill>
          <a:blip r:embed="rId4"/>
          <a:stretch/>
        </p:blipFill>
        <p:spPr>
          <a:xfrm>
            <a:off x="6732720" y="341280"/>
            <a:ext cx="2100240" cy="1575000"/>
          </a:xfrm>
          <a:prstGeom prst="rect">
            <a:avLst/>
          </a:prstGeom>
          <a:ln w="0">
            <a:noFill/>
          </a:ln>
        </p:spPr>
      </p:pic>
      <p:sp>
        <p:nvSpPr>
          <p:cNvPr id="633" name="TextBox 7"/>
          <p:cNvSpPr/>
          <p:nvPr/>
        </p:nvSpPr>
        <p:spPr>
          <a:xfrm>
            <a:off x="468360" y="11592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Bookman Old Style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9"/>
          <p:cNvSpPr/>
          <p:nvPr/>
        </p:nvSpPr>
        <p:spPr>
          <a:xfrm>
            <a:off x="2843280" y="11592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Bookman Old Style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0"/>
          <p:cNvSpPr/>
          <p:nvPr/>
        </p:nvSpPr>
        <p:spPr>
          <a:xfrm>
            <a:off x="4788000" y="11592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Bookman Old Style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1"/>
          <p:cNvSpPr/>
          <p:nvPr/>
        </p:nvSpPr>
        <p:spPr>
          <a:xfrm>
            <a:off x="7164360" y="11592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Bookman Old Style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2"/>
          <p:cNvSpPr/>
          <p:nvPr/>
        </p:nvSpPr>
        <p:spPr>
          <a:xfrm>
            <a:off x="1692360" y="2276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Bookman Old Style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3"/>
          <p:cNvSpPr/>
          <p:nvPr/>
        </p:nvSpPr>
        <p:spPr>
          <a:xfrm>
            <a:off x="3851280" y="2276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Bookman Old Style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21" dur="2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23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30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32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36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38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Box 14"/>
          <p:cNvSpPr/>
          <p:nvPr/>
        </p:nvSpPr>
        <p:spPr>
          <a:xfrm>
            <a:off x="0" y="2060640"/>
            <a:ext cx="91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0aff"/>
                </a:solidFill>
                <a:latin typeface="Bookman Old Style"/>
              </a:rPr>
              <a:t>Числа 8, 16, 24 </a:t>
            </a:r>
            <a:r>
              <a:rPr b="0" lang="ru-RU" sz="4000" spc="-1" strike="noStrike">
                <a:solidFill>
                  <a:srgbClr val="ff0000"/>
                </a:solidFill>
                <a:latin typeface="Bookman Old Style"/>
              </a:rPr>
              <a:t>кратны</a:t>
            </a:r>
            <a:r>
              <a:rPr b="0" lang="ru-RU" sz="4000" spc="-1" strike="noStrike">
                <a:solidFill>
                  <a:srgbClr val="850aff"/>
                </a:solidFill>
                <a:latin typeface="Bookman Old Style"/>
              </a:rPr>
              <a:t> числу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15"/>
          <p:cNvSpPr/>
          <p:nvPr/>
        </p:nvSpPr>
        <p:spPr>
          <a:xfrm>
            <a:off x="0" y="3141720"/>
            <a:ext cx="91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0aff"/>
                </a:solidFill>
                <a:latin typeface="Bookman Old Style"/>
              </a:rPr>
              <a:t>Число 18 </a:t>
            </a:r>
            <a:r>
              <a:rPr b="0" lang="ru-RU" sz="4000" spc="-1" strike="noStrike">
                <a:solidFill>
                  <a:srgbClr val="ff0000"/>
                </a:solidFill>
                <a:latin typeface="Bookman Old Style"/>
              </a:rPr>
              <a:t>не кратно</a:t>
            </a:r>
            <a:r>
              <a:rPr b="0" lang="ru-RU" sz="4000" spc="-1" strike="noStrike">
                <a:solidFill>
                  <a:srgbClr val="850aff"/>
                </a:solidFill>
                <a:latin typeface="Bookman Old Style"/>
              </a:rPr>
              <a:t> числу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Box 2"/>
          <p:cNvSpPr/>
          <p:nvPr/>
        </p:nvSpPr>
        <p:spPr>
          <a:xfrm>
            <a:off x="0" y="549360"/>
            <a:ext cx="914400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ff0000"/>
                </a:solidFill>
                <a:uFillTx/>
                <a:latin typeface="Bookman Old Style"/>
              </a:rPr>
              <a:t>КРАТНЫМ</a:t>
            </a:r>
            <a:r>
              <a:rPr b="0" lang="ru-RU" sz="3300" spc="-1" strike="noStrike">
                <a:solidFill>
                  <a:srgbClr val="008000"/>
                </a:solidFill>
                <a:latin typeface="Bookman Old Style"/>
              </a:rPr>
              <a:t> НАТУРАЛЬНОГО ЧИСЛА </a:t>
            </a:r>
            <a:r>
              <a:rPr b="0" lang="en-US" sz="45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0" lang="ru-RU" sz="3500" spc="-1" strike="noStrike">
                <a:solidFill>
                  <a:srgbClr val="008000"/>
                </a:solidFill>
                <a:latin typeface="Bookman Old Style"/>
              </a:rPr>
              <a:t> </a:t>
            </a:r>
            <a:r>
              <a:rPr b="0" lang="ru-RU" sz="3300" spc="-1" strike="noStrike">
                <a:solidFill>
                  <a:srgbClr val="008000"/>
                </a:solidFill>
                <a:latin typeface="Bookman Old Style"/>
              </a:rPr>
              <a:t>НАЗЫВАЮТ НАТУРАЛЬНОЕ ЧИСЛО, КОТОРОЕ ДЕЛИТСЯ БЕЗ ОСТАТКА НА </a:t>
            </a:r>
            <a:r>
              <a:rPr b="0" lang="en-US" sz="45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0" lang="ru-RU" sz="3500" spc="-1" strike="noStrike">
                <a:solidFill>
                  <a:srgbClr val="008000"/>
                </a:solidFill>
                <a:latin typeface="Bookman Old Style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3"/>
          <p:cNvSpPr/>
          <p:nvPr/>
        </p:nvSpPr>
        <p:spPr>
          <a:xfrm>
            <a:off x="34920" y="4076640"/>
            <a:ext cx="91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0aff"/>
                </a:solidFill>
                <a:latin typeface="Bookman Old Style"/>
              </a:rPr>
              <a:t>Числа кратные 8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4"/>
          <p:cNvSpPr/>
          <p:nvPr/>
        </p:nvSpPr>
        <p:spPr>
          <a:xfrm>
            <a:off x="34920" y="4653000"/>
            <a:ext cx="91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0aff"/>
                </a:solidFill>
                <a:latin typeface="Bookman Old Style"/>
              </a:rPr>
              <a:t>8, 16, 24, 32, 40 и т.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34920" y="2637000"/>
            <a:ext cx="91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0aff"/>
                </a:solidFill>
                <a:latin typeface="Bookman Old Style"/>
              </a:rPr>
              <a:t>Любое натуральное число имеет бесконечно много крат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1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1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Box 2"/>
          <p:cNvSpPr/>
          <p:nvPr/>
        </p:nvSpPr>
        <p:spPr>
          <a:xfrm>
            <a:off x="34920" y="549360"/>
            <a:ext cx="9144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ff0000"/>
                </a:solidFill>
                <a:uFillTx/>
                <a:latin typeface="Bookman Old Style"/>
              </a:rPr>
              <a:t>ВОПРОСЫ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5"/>
          <p:cNvSpPr/>
          <p:nvPr/>
        </p:nvSpPr>
        <p:spPr>
          <a:xfrm>
            <a:off x="34920" y="1430280"/>
            <a:ext cx="91090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850a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50aff"/>
                </a:solidFill>
                <a:latin typeface="Bookman Old Style"/>
              </a:rPr>
              <a:t>Какое число называют делителем данного натурального чис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850a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50aff"/>
                </a:solidFill>
                <a:latin typeface="Bookman Old Style"/>
              </a:rPr>
              <a:t>Какое число называют кратным натуральному числу </a:t>
            </a:r>
            <a:r>
              <a:rPr b="0" i="1" lang="ru-RU" sz="3000" spc="-1" strike="noStrike">
                <a:solidFill>
                  <a:srgbClr val="850aff"/>
                </a:solidFill>
                <a:latin typeface="Bookman Old Style"/>
              </a:rPr>
              <a:t>а </a:t>
            </a:r>
            <a:r>
              <a:rPr b="0" lang="ru-RU" sz="3000" spc="-1" strike="noStrike">
                <a:solidFill>
                  <a:srgbClr val="850aff"/>
                </a:solidFill>
                <a:latin typeface="Bookman Old Styl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850a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50aff"/>
                </a:solidFill>
                <a:latin typeface="Bookman Old Style"/>
              </a:rPr>
              <a:t>Какое число является делителем любого натурального чис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850a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50aff"/>
                </a:solidFill>
                <a:latin typeface="Bookman Old Style"/>
              </a:rPr>
              <a:t>Какое число и кратно </a:t>
            </a:r>
            <a:r>
              <a:rPr b="0" i="1" lang="en-US" sz="3000" spc="-1" strike="noStrike">
                <a:solidFill>
                  <a:srgbClr val="850aff"/>
                </a:solidFill>
                <a:latin typeface="Bookman Old Style"/>
              </a:rPr>
              <a:t>n</a:t>
            </a:r>
            <a:r>
              <a:rPr b="0" lang="ru-RU" sz="3000" spc="-1" strike="noStrike">
                <a:solidFill>
                  <a:srgbClr val="850aff"/>
                </a:solidFill>
                <a:latin typeface="Bookman Old Style"/>
              </a:rPr>
              <a:t>, и является делителем </a:t>
            </a:r>
            <a:r>
              <a:rPr b="0" i="1" lang="en-US" sz="3000" spc="-1" strike="noStrike">
                <a:solidFill>
                  <a:srgbClr val="850aff"/>
                </a:solidFill>
                <a:latin typeface="Bookman Old Style"/>
              </a:rPr>
              <a:t>n</a:t>
            </a:r>
            <a:r>
              <a:rPr b="0" lang="ru-RU" sz="3000" spc="-1" strike="noStrike">
                <a:solidFill>
                  <a:srgbClr val="850aff"/>
                </a:solidFill>
                <a:latin typeface="Bookman Old Style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4:16:17Z</dcterms:created>
  <dc:creator>User</dc:creator>
  <dc:description/>
  <dc:language>en-US</dc:language>
  <cp:lastModifiedBy>Учитель</cp:lastModifiedBy>
  <dcterms:modified xsi:type="dcterms:W3CDTF">2024-01-30T09:19:54Z</dcterms:modified>
  <cp:revision>124</cp:revision>
  <dc:subject/>
  <dc:title>Слайд 1</dc:title>
</cp:coreProperties>
</file>