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6261-1453-4ED4-BAC9-44BCD94959C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E607-20CF-4A64-85E1-6F454ECA34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3848-4EF9-4C85-BCFB-C68C0C3010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подростков не хотят умирать. Таким способом они пытаются решить проблему или унять физическую или психическую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уицид — следствие не одной неприятности, </a:t>
            </a:r>
            <a:r>
              <a:rPr b="1" i="1" lang="ru-RU" sz="1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 </a:t>
            </a:r>
            <a:r>
              <a:rPr b="1" lang="ru-RU" sz="1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ног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й-то момент чаша терпения  переполняется.      Большей частью пытаются уйти из жизни не из-за одной неудачи, а из-за серии неудач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3A06-76C8-4807-A878-C1AEBBA4007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A706-59C0-437E-A27D-656A578AA3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FA7-E495-4DB0-A606-12268B21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61D-FEBE-4F52-8FCD-044DE472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E0B-82D8-46A4-8A44-9529A35FB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894-9523-4C83-8D26-CE67F5881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EE93-65EF-4250-AF7F-582F6CE8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4712-80BE-454A-9C45-3CC79C4D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5496-74B8-4F87-BF6A-C4930B12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CAE6-BDC3-4A25-A953-9631F57F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1721-92CF-463F-8DC5-C9008903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F75D-9A07-4027-BC6E-BA396675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ECD4-6651-4AA9-9457-C9F80D63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80D-21BA-437A-95E6-571F2E01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C27F-6A44-460A-9492-CB2F6601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FDEC-E6C7-4772-93FB-354EFC06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4B24-C0A8-4368-84D0-C2AE7CC2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C076E-ACBC-4A26-93E9-33571E20E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43BC-6FE3-48EE-AB60-C4B9AE825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AC2B-12AE-43C6-8451-5F76D93EB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1A8F-E7C5-48B8-BC11-F9D4F242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14076-6ED1-41CA-A811-8DB22182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CFCB8-BA4A-48E7-B522-E78EFC5E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5A94-AAB2-4264-8B40-CC95669A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6B7-B5B3-4A9C-B6A6-55867B13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69F84-CDC4-4789-B641-6339B3D3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90A68-7409-49ED-B033-6D450E98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8491-2B66-4756-9BD4-942B8998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7FDA8-2489-489B-89AF-278CA83E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2E38B-4797-4C9D-A3F7-4FB91803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168C9-CAB9-4610-89B4-F897BAE96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44997-42F8-436E-9A36-B4702537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A3D4C-1CB7-4E26-9732-9E966ADF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C73AA-8EC1-40AD-A259-FD615875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72B05-8E30-4043-AF58-5934CC29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2104-BDB4-4DAE-A666-CE08EF8E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963A9-358B-4F5C-888E-81E09190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03F9-EBDE-43EF-8737-89DFEBC5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E618E-62CD-4610-AB33-90BDC74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EA669-790C-4C4C-8F83-4CD53E55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7BEFE-0AE8-4933-BBB9-FC93B3A7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EDEB7-3240-4082-A452-15652666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4B6CD-A019-4295-90F5-0F75596A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8F7EB-B0CC-44C3-9039-0DBE54FC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8C3B0-66A1-4EC2-9ADA-24186663C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97AAD-158F-4188-A69C-924344AB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B65-52A3-4A8E-9CD6-0F062291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C746A-D1A2-4B2E-AA1C-C7C17426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A9742-F12F-4FE0-888D-80B2D4CC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5B11F-E437-413F-8556-26A1DFCB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12AD0-83C7-4590-9250-6231F96A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DEE14-0297-4770-9FFD-0FF22EE3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DC9D6-1833-4B81-B2B8-A3685F30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E7B8F-BC3E-4512-ACC1-1565AE27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F9C0-94BC-43FF-8489-827E71C5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BD6B8-6ED2-4FCE-823C-CE47ABD4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DDF89-B883-433F-859A-2E5401E6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D85-AFEE-44A4-8531-9A700B40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A7492-81E2-46A0-BAD4-4DC4A940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7F805-E72C-4B46-8251-A163CE80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5DF1-6817-47A8-A6DE-967D0E45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47424-9D73-4ED1-B2E4-9A4AE2D8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DF90D-4E8F-425E-9CD1-5329E29A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A530A-CC9E-494E-A457-402800E9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EE987-6C1A-43B1-9D4E-5748582C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68947-81AE-4068-AD5A-900F5ED0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D07AA-129A-475E-B879-9DEB19F8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F7A6D-637E-49E6-8688-80559308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E12C-6618-4725-9639-0D4BB27F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195A9-CACE-4223-84D4-15E01DD1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6F6E4-2CE1-4613-95C4-091E43AF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C9B40-CE24-4FF7-8987-BC71FF5A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B3C-9C5F-4B1B-B300-ABB2E148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8AE1-A75B-407C-A775-DB183092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2FB0-2418-439E-AF95-4DBB76B0A194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231"/>
            </a:gs>
            <a:gs pos="100000">
              <a:srgbClr val="71748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F21C-C7E9-4498-A92E-C4AD82CC8C55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c1231"/>
            </a:gs>
            <a:gs pos="100000">
              <a:srgbClr val="717486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61A8-8B1B-41C7-BA79-33012D4881C6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8D23-6639-43E4-B391-FA2606323A5B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2176-0AD1-49C8-806E-6DF0516D0C26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7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e67c8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5eccf3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7ea5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5dc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3a1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1637-7CEB-4EDC-81CA-D6884C58F0C1}" type="slidenum">
              <a:rPr b="0" lang="ru-RU" sz="1000" spc="-1" strike="noStrike">
                <a:solidFill>
                  <a:srgbClr val="83a1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50920" y="907560"/>
            <a:ext cx="8353440" cy="20718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Times New Roman"/>
              </a:rPr>
              <a:t>Родительское собрание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ffff00"/>
                </a:solidFill>
                <a:latin typeface="Times New Roman"/>
              </a:rPr>
              <a:t>«Мне плохо, я не хочу жить…» Способы борьбы с суицидальным поведением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одзаголовок 2"/>
          <p:cNvSpPr/>
          <p:nvPr/>
        </p:nvSpPr>
        <p:spPr>
          <a:xfrm>
            <a:off x="5508720" y="5973840"/>
            <a:ext cx="3635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1"/>
          <p:cNvSpPr/>
          <p:nvPr/>
        </p:nvSpPr>
        <p:spPr>
          <a:xfrm>
            <a:off x="4211640" y="3068640"/>
            <a:ext cx="4753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af297"/>
                </a:solidFill>
                <a:latin typeface="Times New Roman"/>
              </a:rPr>
              <a:t>Невмержицкая Анна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297"/>
                </a:solidFill>
                <a:latin typeface="Times New Roman"/>
              </a:rPr>
              <a:t>Учитель английского язы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af297"/>
                </a:solidFill>
                <a:latin typeface="Times New Roman"/>
              </a:rPr>
              <a:t>МБОУ Голицынская СОШ №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4141440" y="609300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af297"/>
                </a:solidFill>
                <a:latin typeface="Times New Roman"/>
              </a:rPr>
              <a:t>2024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Рисунок 1" descr=""/>
          <p:cNvPicPr/>
          <p:nvPr/>
        </p:nvPicPr>
        <p:blipFill>
          <a:blip r:embed="rId1"/>
          <a:stretch/>
        </p:blipFill>
        <p:spPr>
          <a:xfrm>
            <a:off x="0" y="3357720"/>
            <a:ext cx="421164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400" spc="-1" strike="noStrike">
                <a:solidFill>
                  <a:srgbClr val="81d31a"/>
                </a:solidFill>
                <a:latin typeface="Franklin Gothic Book"/>
              </a:rPr>
              <a:t>Уважаемые родители! Обращайте внимание на эмоциональное состояние вашего ребенка. Общайтесь, обсуждайте проблемы, учите их разрешать, внушайте оптимизм. Если вы не справляетесь сами, чувствуете неблагополучие в социальной, эмоциональной сфере вашего ребенка, не стесняйтесь обращаться за помощью. Не надейтесь, что все само собой пройдет и наладится. Проявите бдительность. Специалисты помогут облегчить страдания вашего ребенка, найдут выход из трудной ситуации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5" name="Рисунок 1" descr=""/>
          <p:cNvPicPr/>
          <p:nvPr/>
        </p:nvPicPr>
        <p:blipFill>
          <a:blip r:embed="rId1"/>
          <a:stretch/>
        </p:blipFill>
        <p:spPr>
          <a:xfrm>
            <a:off x="5651640" y="4381560"/>
            <a:ext cx="324144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формы работы с несовершеннолетними по профилактике суицидального риска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еспечение адаптации к школе, выявление группы детей, испытывающих различные трудности в обучении, поведении и самочувств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ры по предупреждению конфликтных ситуаций среди обучаю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ниторин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вающие занят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дивидуальные и групповые коррекционные занятия, консульт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сультации ребенка и родител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7800" indent="-36324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орячая ли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7467480" cy="135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adf3"/>
                </a:solidFill>
                <a:latin typeface="Times New Roman"/>
                <a:ea typeface="Calibri"/>
              </a:rPr>
              <a:t>Ответьте на некоторые вопросы, которые помогут увидеть картину ваших взаимоотношений с ребенко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. Вы каждый день целуете ребенка, говорите ласковые слова или шутите с ним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Вы с ним каждый вечер разговариваете по душам и обсуждаете прожитый им ден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3. Раз в неделю проводите с ним досуг (походы в кино, концерт, театр, посещение родственников, катание на лыжах и т. д.)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4. Вы обсуждаете с ним создавшиеся семейные проблемы, ситуации, план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5. Вы обсуждаете с ним его имидж, моду, манеру одеватьс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6. Вы знаете его друзей (чем они занимаются, где живут)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7. Вы знаете о его времяпровождении, хобби, занятия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8. Вы в курсе его влюбленности, симпати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9. Вы знаете о его недругах, недоброжелателях, врагах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0. Вы знаете, какой его любимый предмет в школе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1. Вы знаете, кто его любимый учител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3. Вы знаете, кто его нелюбимый учитель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4. Вы первым идете на примирение, разговор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lnSpc>
                <a:spcPct val="107000"/>
              </a:lnSpc>
              <a:spcBef>
                <a:spcPts val="349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15. Вы не оскорбляете и не унижаете своего ребенк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107000"/>
              </a:lnSpc>
              <a:spcBef>
                <a:spcPts val="3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4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Рисунок 1" descr=""/>
          <p:cNvPicPr/>
          <p:nvPr/>
        </p:nvPicPr>
        <p:blipFill>
          <a:blip r:embed="rId1"/>
          <a:stretch/>
        </p:blipFill>
        <p:spPr>
          <a:xfrm>
            <a:off x="5219640" y="3429000"/>
            <a:ext cx="386388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0" lang="ru-RU" sz="4600" spc="-1" strike="noStrike">
                <a:solidFill>
                  <a:srgbClr val="0d79ca"/>
                </a:solidFill>
                <a:latin typeface="Franklin Gothic Book"/>
              </a:rPr>
              <a:t>Подсчет результатов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107000"/>
              </a:lnSpc>
              <a:spcBef>
                <a:spcPts val="4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на все вопросы вы ответили "да", значит, вы находитесь на верном родительском пути, держите ситуацию под контролем и сможете в трудную минуту прийти на помощь своему ребенку. Если же большинство ответов "нет", необходимо немедленно изменить поведение, услышать и понять подростка, пока не случилась бед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Рисунок 3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468000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одзаголовок 2"/>
          <p:cNvSpPr/>
          <p:nvPr/>
        </p:nvSpPr>
        <p:spPr>
          <a:xfrm>
            <a:off x="5508720" y="5973840"/>
            <a:ext cx="3635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5"/>
          <p:cNvSpPr/>
          <p:nvPr/>
        </p:nvSpPr>
        <p:spPr>
          <a:xfrm>
            <a:off x="4370040" y="609300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1844640" y="77760"/>
            <a:ext cx="504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d79ca"/>
                </a:solidFill>
                <a:latin typeface="Times New Roman"/>
                <a:ea typeface="Times New Roman"/>
              </a:rPr>
              <a:t>Телефоны доверия и горячих ли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11"/>
          <p:cNvSpPr/>
          <p:nvPr/>
        </p:nvSpPr>
        <p:spPr>
          <a:xfrm>
            <a:off x="468360" y="620640"/>
            <a:ext cx="8351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сероссийский детский телефон доверия 8 (800) 200-01-22 (звонок из любого региона РФ бесплатный, абонент попадает в службу своего региона, круглосуточно, анонимно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Телефон неотложной психологической помощи Московской службы психологической помощи населению 051 - звонок возможен только со стационарных городских телефонов, не мобильных, (круглосуточно, анонимно, бесплатно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тский телефон доверия Центра экстренной психологической помощи ГБОУ ВПО «Московский городской психолого-педагогический университет» 8 (495) 624-60-01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учно-практический центр психического здоровья детей и подростк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дрес: 119334, г. Москва, 5-й Донской пр-д., д. 21А, тел. справочной службы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 (495) 952-49-2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изисный центр при больнице № 20 (с 15 лет), тел: 8 (495) 471-11-38 (с 9.00 до 14.00 кроме сб., вс.), госпитализация - тел.: 8 (495) 471-21-63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деление суицидологии ФГБУ «Московский НИИ психиатрии» Минздравсоцразвития РФ, тел.: 8 (495) 963-75-72 (консультации с возможной госпитализацией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ородская клиническая психиатрическая больница № 15, Медико-педагогический лечебно-реабилитационный центр по подростковой психиатрии для детей 15-18 ле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сихоневрологическая, консультативная, лечебно-реабилитационная и медико-педагогическая помощь, тел.: 8 (495) 324-54-89 - справочная; 8 (495) 324-54-59 - приемное отделение; 8 (495) 324-41-05 - клинико-диагностическое лечебно-реабилитационное отделе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сковская служба психологической помощи населению (отделения по всем округам г. Москвы), тел.: 8 (499) 173-09-09 - запись на прие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2"/>
          <p:cNvSpPr/>
          <p:nvPr/>
        </p:nvSpPr>
        <p:spPr>
          <a:xfrm>
            <a:off x="1619280" y="476280"/>
            <a:ext cx="5400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 </a:t>
            </a:r>
            <a:r>
              <a:rPr b="0" i="1" lang="ru-RU" sz="5400" spc="-1" strike="noStrike">
                <a:solidFill>
                  <a:srgbClr val="9ee2cf"/>
                </a:solidFill>
                <a:latin typeface="Franklin Gothic Book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1" name="Рисунок 6" descr=""/>
          <p:cNvPicPr/>
          <p:nvPr/>
        </p:nvPicPr>
        <p:blipFill>
          <a:blip r:embed="rId1"/>
          <a:stretch/>
        </p:blipFill>
        <p:spPr>
          <a:xfrm>
            <a:off x="1392120" y="1717560"/>
            <a:ext cx="6139080" cy="4600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dceaf"/>
                </a:solidFill>
                <a:latin typeface="Times New Roman"/>
                <a:ea typeface="Times New Roman"/>
              </a:rPr>
              <a:t>Цель: рассмотреть проблему суицида и его социальное значение, для выявления возможных путей её решения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9280" y="1628280"/>
            <a:ext cx="8715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основе цели были поставлены следующие задач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1. Изучить и проанализировать юридическую, психологическую и научную литературу, по теме исследова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2. Выявить причины и установить побуждающие факторы подросткового суицида. Дать обоснование проблемы подросткового суици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3. Провести анализ статистических данных Росстата, Всемирной Организации здравоохранения, МВД РФ и Министерства здравоохранения РФ. Провести анкетирование среди несовершеннолетних в возрасте от 14 до 18 лет и проанализирова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4. Сделать выводы, разработать предложения по законодательному урегулированию данной проблемы, и определить методы профилактической и коррекционной работы по устранению суицида среди несовершеннолетн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2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80000"/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123560"/>
            <a:ext cx="3672000" cy="14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Классификации суицидального поведения: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79358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4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a4de"/>
                </a:solidFill>
                <a:latin typeface="Arial"/>
              </a:rPr>
              <a:t>Истинные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ействия тщательно продуманы, просчитаны, являются четкой реализацией плана. Им предшествуют изменения мышления, высказываний, поведения. Решение принимается на основе долгих раздумий о смысле жизни, своем предназначении, бессмысленности существова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a4de"/>
                </a:solidFill>
                <a:latin typeface="Arial"/>
              </a:rPr>
              <a:t>Демонстративные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пытки самоубийства схожи с театральными действиями, организуются с расчетом на присутствие «зрителей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00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5a4de"/>
                </a:solidFill>
                <a:latin typeface="Arial"/>
              </a:rPr>
              <a:t>Маскированные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рытые суицидальные действия совершают подростки, осознающие, что самоубийство не является правильным способом решения проблем. Самоубийство реализуется косвенными способами – занятиями экстремальными видами спорта, участием в драках, скоростной ездой на автомобиле, мотоцикле, опасными путешествиями, употреблением наркотик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Рисунок 2" descr=""/>
          <p:cNvPicPr/>
          <p:nvPr/>
        </p:nvPicPr>
        <p:blipFill>
          <a:blip r:embed="rId1"/>
          <a:stretch/>
        </p:blipFill>
        <p:spPr>
          <a:xfrm>
            <a:off x="4932360" y="243000"/>
            <a:ext cx="3887640" cy="291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Законодательное и нормативное правовое регулирование профилактики суицидального поведения обучающихся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Конституция Российской Фед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Национальная стратегия действий в интересах детей на 2012-2017 годы, утвержденная Указом Президента Российской Федерации от 01.06.2012 г. № 76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Федеральный Закон Российской Федерации от 24 июня 1999 г. № 120-ФЗ "Об основах системы профилактики безнадзорности и правонарушений несовершеннолетних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Федеральный Закон Российской Федерации от 29.12.2010 г. № 436-ФЗ "О защите детей от информации, причиняющей вред их здоровью и развитию"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Федеральный закон "Об образовании в Российской Федерации" от 29.12.2012 г. № 273-Ф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Письмо Министерства здравоохранения РФ от 6 марта 2020 г. N 15-2/И/2-2645 О методических рекомендациях "Суицидальное поведение несовершеннолетних (профилактические аспекты)"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20 июля 202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Times New Roman"/>
              </a:rPr>
              <a:t>Министерство здравоохранения Российской Федерации в соответствии с пунктом 3 комплекса мер до 2020 года по совершенствованию системы профилактики суицида среди несовершеннолетних, утвержденного распоряжением Правительства Российской Федерации от 18.09.2019 N 2098-р "Об утверждении комплекса мер до 2020 года по совершенствованию системы профилактики суицида среди несовершеннолетних" направляет методические рекомендации "Суицидальное поведение несовершеннолетних (профилактические аспекты)" для использования в работе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86800" cy="1209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5dceaf"/>
                </a:solidFill>
                <a:latin typeface="Franklin Gothic Book"/>
              </a:rPr>
              <a:t>Признаки суицидального поведения:</a:t>
            </a:r>
            <a:br>
              <a:rPr sz="32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97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постоянная сосредоточенность на проблемах, отсутствие способа их решения, новые    потери, видение только негативных сторон жизни, сосредоточенность на смер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изменение эмоционального состояния, слезливость, без явной причины, возрастание раздражительности, нетерпимости, снижение внимания к самому себе, замкнутость, буйное поведение или дра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ербальные выражения, предшествующие суицидальные попыт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раздача личных вещей, упорядочивание жизни, составление завещ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01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 внезапное улучшение, просветление после периода длительной депресс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зисы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ителям и педагогам необходимо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-360" y="1331640"/>
            <a:ext cx="867564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Внимательно слушать собеседника, т.к. подростки часто страдают от одиночества и невозможности излить душу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равильно формулировать вопросы, спокойно и доходчиво расспрашивая о сути тревожащей ситуации и о том, какая помощь необходима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е выражать удивления услышанным и не осуждать ребенка за любые, даже самые шокирующие высказывания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е спорить и не настаивать на том, что его беда ничтожна, что ему живется лучше других; высказывания "у всех есть такие же проблемы" заставляют ребенка ощущать себя еще более ненужным и бесполезным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Постараться развеять романтическо-трагедийный ореол представлений подростка о собственной смерти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Не предлагать неоправданных утешений, но подчеркнуть временный характер проблемы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374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Стремиться вселить в подростка надежду; она должна быть реалистичной и направленной на укрепление его сил и возможност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Рисунок 1" descr=""/>
          <p:cNvPicPr/>
          <p:nvPr/>
        </p:nvPicPr>
        <p:blipFill>
          <a:blip r:embed="rId1"/>
          <a:stretch/>
        </p:blipFill>
        <p:spPr>
          <a:xfrm>
            <a:off x="5292720" y="4264200"/>
            <a:ext cx="3670200" cy="241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748720" cy="1297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ecff"/>
                </a:solidFill>
                <a:latin typeface="Times New Roman"/>
              </a:rPr>
              <a:t>Комплекс психолого-педагогических условий, обеспечивающих профилактику суицидального поведения в образовательной среде:</a:t>
            </a:r>
            <a:r>
              <a:rPr b="0" lang="ru-RU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7524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деление ключевых параметров образовательной сред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 психолого-педагогического сопровождения и превенции как его на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учение педагогического коллектива навыкам раннего распознавания суицидального поведения несовершеннолетни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овневая профилактика суицидов в образовательных организациях на основе внедрения индивидуальных и групповых программ по формированию навыков адаптивного повед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вместная деятельность образовательных организаций и отдельных социальных институтов по предотвращению суицидального поведения молоде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Основные условия успешной реализации модели 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Times New Roman"/>
              </a:rPr>
              <a:t>психолого-педагогического сопровождения профилактики суицидального поведения несовершеннолетних</a:t>
            </a:r>
            <a:r>
              <a:rPr b="0" lang="ru-RU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Микросоциальные (школьные) услов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 Понимание руководителями школы и педагогическим коллективом значимости решения вопросов формирования, сохранения и укрепления здоровья учащихся в процессе получения ими образования, присутствие фактора социального одобрения деятельности, отнесенной к здоровому образу жизн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Формирование у школьников в процессе обучения и воспитания собственных установок, потребностей и значимой мотивации на соблюдение норм и правил ЗОЖ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Конструктивная политика школы в отношении здоровья и личностного развития детей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Специальная профессиональная подготовка учителей, участвующих в реализации данной моде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4960" y="404280"/>
            <a:ext cx="807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5dceaf"/>
                </a:solidFill>
                <a:latin typeface="Franklin Gothic Book"/>
              </a:rPr>
              <a:t>Если замечена склонность школьника к самоубийству, следующие советы помогут изменить ситуацию: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4120" y="1547280"/>
            <a:ext cx="80755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adf3"/>
                </a:solidFill>
                <a:latin typeface="Times New Roman"/>
                <a:ea typeface="Calibri"/>
              </a:rPr>
              <a:t>1. Внимательно выслушайте подростка, решившегося на самоубийство. Приложите все усилия, чтобы понять проблему, скрытую за слов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adf3"/>
                </a:solidFill>
                <a:latin typeface="Times New Roman"/>
                <a:ea typeface="Calibri"/>
              </a:rPr>
              <a:t>2. Оцените серьезность намерений и чувств ребенка. Если он уже имеет конкретный план самоубийства - ему срочно нужна помощ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adf3"/>
                </a:solidFill>
                <a:latin typeface="Times New Roman"/>
                <a:ea typeface="Calibri"/>
              </a:rPr>
              <a:t>3. Оцените глубину эмоционального кризиса. Замечайте детали. Например, если человек, находившийся в состоянии депрессии, вдруг начинает проявлять бурную деятельность - это может служить основанием для тревог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adf3"/>
                </a:solidFill>
                <a:latin typeface="Times New Roman"/>
                <a:ea typeface="Calibri"/>
              </a:rPr>
              <a:t>4. Внимательно отнеситесь ко всем, даже самым незначительным обидам и жалобам. Не пренебрегайте ничем из сказанного. Подросток может не давать волю чувствам, скрывая свои проблемы, но в то же время находиться в состоянии глубокой депресс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4e67c8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adf3"/>
                </a:solidFill>
                <a:latin typeface="Times New Roman"/>
                <a:ea typeface="Calibri"/>
              </a:rPr>
              <a:t>5. Не бойтесь прямо спросить ребенка, не думает ли он (или она) о самоубийстве. Часто подросток бывает рад возможности открыто </a:t>
            </a:r>
            <a:r>
              <a:rPr b="0" lang="ru-RU" sz="1800" spc="-1" strike="noStrike">
                <a:solidFill>
                  <a:srgbClr val="4fadf3"/>
                </a:solidFill>
                <a:latin typeface="Times New Roman"/>
                <a:ea typeface="Calibri"/>
              </a:rPr>
              <a:t>рассказать о своих пробле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3:44:13Z</dcterms:created>
  <dc:creator>Я</dc:creator>
  <dc:description/>
  <dc:language>en-US</dc:language>
  <cp:lastModifiedBy>Анна Николаевна</cp:lastModifiedBy>
  <dcterms:modified xsi:type="dcterms:W3CDTF">2024-01-24T08:09:05Z</dcterms:modified>
  <cp:revision>283</cp:revision>
  <dc:subject/>
  <dc:title>Слайд 1</dc:title>
</cp:coreProperties>
</file>