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4173-D776-4152-B8AA-C9175F5BFB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A418-622E-4F3F-A50F-471C18D7BE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3439-F5BD-4375-A596-ADE9F04C0A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подростков не хотят умирать. Таким способом они пытаются решить проблему или унять физическую или психическую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ицид — следствие не одной неприятности, </a:t>
            </a:r>
            <a:r>
              <a:rPr b="1" i="1" lang="ru-RU" sz="1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 </a:t>
            </a:r>
            <a:r>
              <a:rPr b="1" lang="ru-RU" sz="1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ног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й-то момент чаша терпения  переполняется.      Большей частью пытаются уйти из жизни не из-за одной неудачи, а из-за серии неудач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89AC-4AD8-40C9-AD5A-5DF8A88283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6C6F-61DC-4384-A473-5B1A5CF369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9CE-FB6D-4539-ABAB-080888CA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43D-0498-4A31-9B78-30C7E263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34B-E51C-4DDE-B0C4-ECE5E46C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FDC-BED3-48C4-8CA3-8CB141D3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4050-BDA7-4A1A-A370-C60CB4FB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94FD-57E4-46FF-9DFD-8C3025D6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945F-4821-40DD-B0C6-62F5B260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DC33-C7F8-4F78-8AD8-D4EE67BB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7851-9751-470A-AB6F-1CD7AC31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9CD3-8EE8-45AC-B6F9-36DFF2BA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5F77-00E7-4D41-BFB4-7AEAD72E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9D0-F7AF-4216-BEBD-4C7F243B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7940-2A5E-4B29-8789-5C85C138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AB06-229B-4C4F-8739-561DAE01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9583-F0C0-403A-97D1-4B95EDC7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9749-BBA3-4163-8069-CE9E2979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3657-68E1-4B4A-B1A3-68E1E519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BBA7C-9C26-45A9-814B-D8363045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F55B1-77EF-4E0D-AB96-0E5A9085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9A482-95FA-4552-8FBC-27A123C7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A37FF-2207-4DCA-A2E1-8843DD96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80570-2261-4C86-AF39-E1FD09D6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45C-6118-4EC1-8238-7B5F4398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C4CBB-F6DF-4CF8-A162-9E9CD87A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0A51-DDB3-46E4-95F0-5CFCDB62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708CA-C0F1-4DD8-8249-41CFCE4D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67CD5-22B7-4F17-8A08-67F646EC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A0A2A-BBA5-41E4-9533-6BCFDF35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AD899-46D8-48DA-837B-0855B001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6DAB-2B15-4F47-84CD-DF417074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DEA3C-E89E-40EC-BCF3-B7140138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B7995-AC4E-48C0-9E27-D43ADFEA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DBC6E-CAD6-431B-AAFD-AA41AA56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717-FD25-4F9E-8214-31499E42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F303F-EDE4-4F99-89FF-921645E3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6FAD-D947-4BF0-978D-1A8CC1EC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C1259-69DC-4116-B70D-A3078EC2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7FBC5-75F4-4496-8B21-C8246DD5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4507B-E67C-4FA8-8BA5-CD6B3AC0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20E5D-2BCE-4202-A944-B7E84778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99E97-247C-4220-9853-A9C6C87F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505A0-B214-486A-A66E-379659DB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F1845-52C7-44F7-B311-74A6E110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AC050-523F-4A8A-9967-63FF607F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A85-0377-4D3F-8139-94282B11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831F3-A238-473C-B36E-32CFCAE1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B8A4A-7371-4052-904E-F885D107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15D62-B415-4C24-9F4B-423F49AD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FB931-3D15-4ED6-98F2-23776FAD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EE2E9-4ABE-49FA-A358-6256C021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98439-E8A9-4DEF-A793-8CE726FA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99D52-D825-4329-B4A6-C9FBCABB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349F6-0B11-4214-9E83-0461B86B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1880F-D766-44AA-8EA8-FD130C2F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CCFE7-7987-48CD-94A6-C9643DB9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57D-1574-49CD-AE5C-BA0A5313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7F119-E46A-4848-9CD2-716017E1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8DAEC-46F8-4115-9C15-9907D9B6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17BE7-4F46-43CA-9295-F8CE9B56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18CAE-007E-4B40-8D70-A8079A34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F0EAA-2CAC-45C0-B6AC-E403EC92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27553-1CEE-4EBD-9467-CD315587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83C67-DED7-4526-AD5D-36ACB696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B9CFB-02EB-4D56-83E1-6DFA6556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2A7A5-39AF-431B-BB60-F63A61DC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A3E8D-4B1E-4765-A3A6-BB58048C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8D52-C517-41D3-9302-B6B955B8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6F2C1-5182-4E15-B762-CB8BE8A4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11267-D40C-42F4-A176-67D33421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23F53-2E1C-433A-B2DA-CAEE53E6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965-8415-471E-9CA3-0485FE27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A7E-161A-40A4-B83B-69F7B3C4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7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7ea5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c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EF4B-E765-4AEE-8954-F1AB90B69449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231"/>
            </a:gs>
            <a:gs pos="100000">
              <a:srgbClr val="717486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7ea5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c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B3BB-78F8-44FA-A390-C6D225369468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231"/>
            </a:gs>
            <a:gs pos="100000">
              <a:srgbClr val="717486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7ea5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c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5421-1552-4985-91ED-26395FE10CE9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7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7ea5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c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8A13-CEDF-4127-8721-06457BCBF451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7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7ea5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c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3F16-465C-4D75-94EF-45B18C1AD1C2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7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7ea5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c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A711-EA9B-40EC-8EA0-DF1292688273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50920" y="907560"/>
            <a:ext cx="8353440" cy="20718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Родительское собрание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«Мне плохо, я не хочу жить…» Способы борьбы с суицидальным поведением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одзаголовок 2"/>
          <p:cNvSpPr/>
          <p:nvPr/>
        </p:nvSpPr>
        <p:spPr>
          <a:xfrm>
            <a:off x="5508720" y="5973840"/>
            <a:ext cx="36352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211640" y="3068640"/>
            <a:ext cx="475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af297"/>
                </a:solidFill>
                <a:latin typeface="Times New Roman"/>
              </a:rPr>
              <a:t>Невмержицкая Анна Никола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297"/>
                </a:solidFill>
                <a:latin typeface="Times New Roman"/>
              </a:rPr>
              <a:t>Учитель английского язы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297"/>
                </a:solidFill>
                <a:latin typeface="Times New Roman"/>
              </a:rPr>
              <a:t>МБОУ Голицынская СОШ №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5"/>
          <p:cNvSpPr/>
          <p:nvPr/>
        </p:nvSpPr>
        <p:spPr>
          <a:xfrm>
            <a:off x="4141440" y="60930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af297"/>
                </a:solidFill>
                <a:latin typeface="Times New Roman"/>
              </a:rPr>
              <a:t>2024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Рисунок 1" descr=""/>
          <p:cNvPicPr/>
          <p:nvPr/>
        </p:nvPicPr>
        <p:blipFill>
          <a:blip r:embed="rId1"/>
          <a:stretch/>
        </p:blipFill>
        <p:spPr>
          <a:xfrm>
            <a:off x="0" y="3357720"/>
            <a:ext cx="421164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81d31a"/>
                </a:solidFill>
                <a:latin typeface="Franklin Gothic Book"/>
              </a:rPr>
              <a:t>Уважаемые родители! Обращайте внимание на эмоциональное состояние вашего ребенка. Общайтесь, обсуждайте проблемы, учите их разрешать, внушайте оптимизм. Если вы не справляетесь сами, чувствуете неблагополучие в социальной, эмоциональной сфере вашего ребенка, не стесняйтесь обращаться за помощью. Не надейтесь, что все само собой пройдет и наладится. Проявите бдительность. Специалисты помогут облегчить страдания вашего ребенка, найдут выход из трудной ситуации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Рисунок 1" descr=""/>
          <p:cNvPicPr/>
          <p:nvPr/>
        </p:nvPicPr>
        <p:blipFill>
          <a:blip r:embed="rId1"/>
          <a:stretch/>
        </p:blipFill>
        <p:spPr>
          <a:xfrm>
            <a:off x="5651640" y="4381560"/>
            <a:ext cx="324144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Основные формы работы с несовершеннолетними по профилактике суицидального риска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еспечение адаптации к школе, выявление группы детей, испытывающих различные трудности в обучении, поведении и самочувств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ры по предупреждению конфликтных ситуаций среди обучающих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ниторин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вающие занят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дивидуальные и групповые коррекционные занятия, консульт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сультации ребенка и родите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рячая ли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7467480" cy="135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adf3"/>
                </a:solidFill>
                <a:latin typeface="Times New Roman"/>
                <a:ea typeface="Calibri"/>
              </a:rPr>
              <a:t>Ответьте на некоторые вопросы, которые помогут увидеть картину ваших взаимоотношений с ребенко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1. Вы каждый день целуете ребенка, говорите ласковые слова или шутите с ним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2. Вы с ним каждый вечер разговариваете по душам и обсуждаете прожитый им день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3. Раз в неделю проводите с ним досуг (походы в кино, концерт, театр, посещение родственников, катание на лыжах и т. д.)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4. Вы обсуждаете с ним создавшиеся семейные проблемы, ситуации, план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5. Вы обсуждаете с ним его имидж, моду, манеру одеваться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6. Вы знаете его друзей (чем они занимаются, где живут)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7. Вы знаете о его времяпровождении, хобби, занятиях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8. Вы в курсе его влюбленности, симпатий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9. Вы знаете о его недругах, недоброжелателях, врагах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10. Вы знаете, какой его любимый предмет в школе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11. Вы знаете, кто его любимый учитель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13. Вы знаете, кто его нелюбимый учитель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14. Вы первым идете на примирение, разговор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15. Вы не оскорбляете и не унижаете своего ребенк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107000"/>
              </a:lnSpc>
              <a:spcBef>
                <a:spcPts val="3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Рисунок 1" descr=""/>
          <p:cNvPicPr/>
          <p:nvPr/>
        </p:nvPicPr>
        <p:blipFill>
          <a:blip r:embed="rId1"/>
          <a:stretch/>
        </p:blipFill>
        <p:spPr>
          <a:xfrm>
            <a:off x="5219640" y="3429000"/>
            <a:ext cx="38638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ru-RU" sz="4600" spc="-1" strike="noStrike">
                <a:solidFill>
                  <a:srgbClr val="0d79ca"/>
                </a:solidFill>
                <a:latin typeface="Franklin Gothic Book"/>
              </a:rPr>
              <a:t>Подсчет результатов: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ли на все вопросы вы ответили "да", значит, вы находитесь на верном родительском пути, держите ситуацию под контролем и сможете в трудную минуту прийти на помощь своему ребенку. Если же большинство ответов "нет", необходимо немедленно изменить поведение, услышать и понять подростка, пока не случилась бед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Рисунок 3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468000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одзаголовок 2"/>
          <p:cNvSpPr/>
          <p:nvPr/>
        </p:nvSpPr>
        <p:spPr>
          <a:xfrm>
            <a:off x="5508720" y="5973840"/>
            <a:ext cx="36352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5"/>
          <p:cNvSpPr/>
          <p:nvPr/>
        </p:nvSpPr>
        <p:spPr>
          <a:xfrm>
            <a:off x="4370040" y="60930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1844640" y="77760"/>
            <a:ext cx="50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Телефоны доверия и горячих ли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11"/>
          <p:cNvSpPr/>
          <p:nvPr/>
        </p:nvSpPr>
        <p:spPr>
          <a:xfrm>
            <a:off x="468360" y="620640"/>
            <a:ext cx="8351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сероссийский детский телефон доверия 8 (800) 200-01-22 (звонок из любого региона РФ бесплатный, абонент попадает в службу своего региона, круглосуточно, анонимно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лефон неотложной психологической помощи Московской службы психологической помощи населению 051 - звонок возможен только со стационарных городских телефонов, не мобильных, (круглосуточно, анонимно, бесплатно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тский телефон доверия Центра экстренной психологической помощи ГБОУ ВПО «Московский городской психолого-педагогический университет» 8 (495) 624-60-01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учно-практический центр психического здоровья детей и подростк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дрес: 119334, г. Москва, 5-й Донской пр-д., д. 21А, тел. справочной службы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 (495) 952-49-2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изисный центр при больнице № 20 (с 15 лет), тел: 8 (495) 471-11-38 (с 9.00 до 14.00 кроме сб., вс.), госпитализация - тел.: 8 (495) 471-21-63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деление суицидологии ФГБУ «Московский НИИ психиатрии» Минздравсоцразвития РФ, тел.: 8 (495) 963-75-72 (консультации с возможной госпитализацией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родская клиническая психиатрическая больница № 15, Медико-педагогический лечебно-реабилитационный центр по подростковой психиатрии для детей 15-18 ле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сихоневрологическая, консультативная, лечебно-реабилитационная и медико-педагогическая помощь, тел.: 8 (495) 324-54-89 - справочная; 8 (495) 324-54-59 - приемное отделение; 8 (495) 324-41-05 - клинико-диагностическое лечебно-реабилитационное отделени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сковская служба психологической помощи населению (отделения по всем округам г. Москвы), тел.: 8 (499) 173-09-09 - запись на прие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2"/>
          <p:cNvSpPr/>
          <p:nvPr/>
        </p:nvSpPr>
        <p:spPr>
          <a:xfrm>
            <a:off x="1619280" y="476280"/>
            <a:ext cx="5400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i="1" lang="ru-RU" sz="5400" spc="-1" strike="noStrike">
                <a:solidFill>
                  <a:srgbClr val="9ee2cf"/>
                </a:solidFill>
                <a:latin typeface="Franklin Gothic Book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1" name="Рисунок 6" descr=""/>
          <p:cNvPicPr/>
          <p:nvPr/>
        </p:nvPicPr>
        <p:blipFill>
          <a:blip r:embed="rId1"/>
          <a:stretch/>
        </p:blipFill>
        <p:spPr>
          <a:xfrm>
            <a:off x="1392120" y="1717560"/>
            <a:ext cx="6139080" cy="4600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dceaf"/>
                </a:solidFill>
                <a:latin typeface="Times New Roman"/>
                <a:ea typeface="Times New Roman"/>
              </a:rPr>
              <a:t>Цель: рассмотреть проблему суицида и его социальное значение, для выявления возможных путей её реше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9280" y="1628280"/>
            <a:ext cx="8715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основе цели были поставлены следующие 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1. Изучить и проанализировать юридическую, психологическую и научную литературу, по теме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2. Выявить причины и установить побуждающие факторы подросткового суицида. Дать обоснование проблемы подросткового суици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3. Провести анализ статистических данных Росстата, Всемирной Организации здравоохранения, МВД РФ и Министерства здравоохранения РФ. Провести анкетирование среди несовершеннолетних в возрасте от 14 до 18 лет и проанализирова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4. Сделать выводы, разработать предложения по законодательному урегулированию данной проблемы, и определить методы профилактической и коррекционной работы по устранению суицида среди несовершеннолетн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80000"/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1123560"/>
            <a:ext cx="3672000" cy="14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Классификации суицидального поведения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793584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5a4de"/>
                </a:solidFill>
                <a:latin typeface="Arial"/>
              </a:rPr>
              <a:t>Истинные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йствия тщательно продуманы, просчитаны, являются четкой реализацией плана. Им предшествуют изменения мышления, высказываний, поведения. Решение принимается на основе долгих раздумий о смысле жизни, своем предназначении, бессмысленности существова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5a4de"/>
                </a:solidFill>
                <a:latin typeface="Arial"/>
              </a:rPr>
              <a:t>Демонстративные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пытки самоубийства схожи с театральными действиями, организуются с расчетом на присутствие «зрителей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5a4de"/>
                </a:solidFill>
                <a:latin typeface="Arial"/>
              </a:rPr>
              <a:t>Маскированные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рытые суицидальные действия совершают подростки, осознающие, что самоубийство не является правильным способом решения проблем. Самоубийство реализуется косвенными способами – занятиями экстремальными видами спорта, участием в драках, скоростной ездой на автомобиле, мотоцикле, опасными путешествиями, употреблением наркотик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Рисунок 2" descr=""/>
          <p:cNvPicPr/>
          <p:nvPr/>
        </p:nvPicPr>
        <p:blipFill>
          <a:blip r:embed="rId1"/>
          <a:stretch/>
        </p:blipFill>
        <p:spPr>
          <a:xfrm>
            <a:off x="4932360" y="24300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Законодательное и нормативное правовое регулирование профилактики суицидального поведения обучающихся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Конституция Российской Федер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Национальная стратегия действий в интересах детей на 2012-2017 годы, утвержденная Указом Президента Российской Федерации от 01.06.2012 г. № 76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Федеральный Закон Российской Федерации от 24 июня 1999 г. № 120-ФЗ "Об основах системы профилактики безнадзорности и правонарушений несовершеннолетних"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Федеральный Закон Российской Федерации от 29.12.2010 г. № 436-ФЗ "О защите детей от информации, причиняющей вред их здоровью и развитию"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Федеральный закон "Об образовании в Российской Федерации" от 29.12.2012 г. № 273-Ф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Письмо Министерства здравоохранения РФ от 6 марта 2020 г. N 15-2/И/2-2645 О методических рекомендациях "Суицидальное поведение несовершеннолетних (профилактические аспекты)"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20 июля 20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Министерство здравоохранения Российской Федерации в соответствии с пунктом 3 комплекса мер до 2020 года по совершенствованию системы профилактики суицида среди несовершеннолетних, утвержденного распоряжением Правительства Российской Федерации от 18.09.2019 N 2098-р "Об утверждении комплекса мер до 2020 года по совершенствованию системы профилактики суицида среди несовершеннолетних" направляет методические рекомендации "Суицидальное поведение несовершеннолетних (профилактические аспекты)" для использования в работ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86800" cy="1209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5dceaf"/>
                </a:solidFill>
                <a:latin typeface="Franklin Gothic Book"/>
              </a:rPr>
              <a:t>Признаки суицидального поведения:</a:t>
            </a:r>
            <a:br>
              <a:rPr sz="32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97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остоянная сосредоточенность на проблемах, отсутствие способа их решения, новые    потери, видение только негативных сторон жизни, сосредоточенность на смер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изменение эмоционального состояния, слезливость, без явной причины, возрастание раздражительности, нетерпимости, снижение внимания к самому себе, замкнутость, буйное поведение или дра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ербальные выражения, предшествующие суицидальные попыт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раздача личных вещей, упорядочивание жизни, составление завещ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незапное улучшение, просветление после периода длительной депре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Тезис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дителям и педагогам необходимо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-360" y="1331640"/>
            <a:ext cx="867564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374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Внимательно слушать собеседника, т.к. подростки часто страдают от одиночества и невозможности излить душу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74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равильно формулировать вопросы, спокойно и доходчиво расспрашивая о сути тревожащей ситуации и о том, какая помощь необходима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74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Не выражать удивления услышанным и не осуждать ребенка за любые, даже самые шокирующие высказывания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74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Не спорить и не настаивать на том, что его беда ничтожна, что ему живется лучше других; высказывания "у всех есть такие же проблемы" заставляют ребенка ощущать себя еще более ненужным и бесполезным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74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стараться развеять романтическо-трагедийный ореол представлений подростка о собственной смерти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74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Не предлагать неоправданных утешений, но подчеркнуть временный характер проблемы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74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тремиться вселить в подростка надежду; она должна быть реалистичной и направленной на укрепление его сил и возможност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Рисунок 1" descr=""/>
          <p:cNvPicPr/>
          <p:nvPr/>
        </p:nvPicPr>
        <p:blipFill>
          <a:blip r:embed="rId1"/>
          <a:stretch/>
        </p:blipFill>
        <p:spPr>
          <a:xfrm>
            <a:off x="5292720" y="4264200"/>
            <a:ext cx="3670200" cy="241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Times New Roman"/>
              </a:rPr>
              <a:t>Комплекс психолого-педагогических условий, обеспечивающих профилактику суицидального поведения в образовательной среде:</a:t>
            </a:r>
            <a:r>
              <a:rPr b="0" lang="ru-RU" sz="4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752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деление ключевых параметров образовательной сред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зация психолого-педагогического сопровождения и превенции как его на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учение педагогического коллектива навыкам раннего распознавания суицидального поведения несовершеннолетни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ровневая профилактика суицидов в образовательных организациях на основе внедрения индивидуальных и групповых программ по формированию навыков адаптивного пове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местная деятельность образовательных организаций и отдельных социальных институтов по предотвращению суицидального поведения молодеж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Основные условия успешной реализации модели 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психолого-педагогического сопровождения профилактики суицидального поведения несовершеннолетних</a:t>
            </a:r>
            <a:r>
              <a:rPr b="0" lang="ru-RU" sz="4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Микросоциальные (школьные) услов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 Понимание руководителями школы и педагогическим коллективом значимости решения вопросов формирования, сохранения и укрепления здоровья учащихся в процессе получения ими образования, присутствие фактора социального одобрения деятельности, отнесенной к здоровому образу жизн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Формирование у школьников в процессе обучения и воспитания собственных установок, потребностей и значимой мотивации на соблюдение норм и правил ЗОЖ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Конструктивная политика школы в отношении здоровья и личностного развития детей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Специальная профессиональная подготовка учителей, участвующих в реализации данной мод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4960" y="404280"/>
            <a:ext cx="807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ceaf"/>
                </a:solidFill>
                <a:latin typeface="Franklin Gothic Book"/>
              </a:rPr>
              <a:t>Если замечена склонность школьника к самоубийству, следующие советы помогут изменить ситуацию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4120" y="1547280"/>
            <a:ext cx="80755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adf3"/>
                </a:solidFill>
                <a:latin typeface="Times New Roman"/>
                <a:ea typeface="Calibri"/>
              </a:rPr>
              <a:t>1. Внимательно выслушайте подростка, решившегося на самоубийство. Приложите все усилия, чтобы понять проблему, скрытую за слов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adf3"/>
                </a:solidFill>
                <a:latin typeface="Times New Roman"/>
                <a:ea typeface="Calibri"/>
              </a:rPr>
              <a:t>2. Оцените серьезность намерений и чувств ребенка. Если он уже имеет конкретный план самоубийства - ему срочно нужна помощ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adf3"/>
                </a:solidFill>
                <a:latin typeface="Times New Roman"/>
                <a:ea typeface="Calibri"/>
              </a:rPr>
              <a:t>3. Оцените глубину эмоционального кризиса. Замечайте детали. Например, если человек, находившийся в состоянии депрессии, вдруг начинает проявлять бурную деятельность - это может служить основанием для тревог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adf3"/>
                </a:solidFill>
                <a:latin typeface="Times New Roman"/>
                <a:ea typeface="Calibri"/>
              </a:rPr>
              <a:t>4. Внимательно отнеситесь ко всем, даже самым незначительным обидам и жалобам. Не пренебрегайте ничем из сказанного. Подросток может не давать волю чувствам, скрывая свои проблемы, но в то же время находиться в состоянии глубокой депресс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adf3"/>
                </a:solidFill>
                <a:latin typeface="Times New Roman"/>
                <a:ea typeface="Calibri"/>
              </a:rPr>
              <a:t>5. Не бойтесь прямо спросить ребенка, не думает ли он (или она) о самоубийстве. Часто подросток бывает рад возможности открыто </a:t>
            </a:r>
            <a:r>
              <a:rPr b="0" lang="ru-RU" sz="1800" spc="-1" strike="noStrike">
                <a:solidFill>
                  <a:srgbClr val="4fadf3"/>
                </a:solidFill>
                <a:latin typeface="Times New Roman"/>
                <a:ea typeface="Calibri"/>
              </a:rPr>
              <a:t>рассказать о своих проблем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3:44:13Z</dcterms:created>
  <dc:creator>Я</dc:creator>
  <dc:description/>
  <dc:language>en-US</dc:language>
  <cp:lastModifiedBy>Анна Николаевна</cp:lastModifiedBy>
  <dcterms:modified xsi:type="dcterms:W3CDTF">2024-01-24T08:09:05Z</dcterms:modified>
  <cp:revision>283</cp:revision>
  <dc:subject/>
  <dc:title>Слайд 1</dc:title>
</cp:coreProperties>
</file>