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30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1.png" ContentType="image/png"/>
  <Override PartName="/ppt/media/image32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png" ContentType="image/png"/>
  <Override PartName="/ppt/media/image37.png" ContentType="image/png"/>
  <Override PartName="/ppt/media/image1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D3A-4968-459D-A30E-BD0B0F28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9B0-A24B-4B7B-B377-EBB9220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462-D2B3-4ADF-B79E-6B1D8AEA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A96-BDF3-44B5-A5AB-4AEB07C2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1CE-B6EF-4AFC-A5A5-F528D3F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74C-7C7F-475C-BC32-4BD2EAD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88C-B39F-4C78-9680-A8ECD6BA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EAD-37A8-4DDC-B134-5B9C05BD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B6D-A390-455F-89B3-025713A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FF3-A061-4438-8D8B-2126F5A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955-5D19-4F04-8666-D42EA97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146-45AC-4B9A-857D-723D7CD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C046-DB47-47C1-ACED-C50A25CBB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0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79280" y="17640"/>
            <a:ext cx="849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</a:t>
            </a: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лая     академия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16" descr="Ласточка"/>
          <p:cNvPicPr/>
          <p:nvPr/>
        </p:nvPicPr>
        <p:blipFill>
          <a:blip r:embed="rId2"/>
          <a:stretch/>
        </p:blipFill>
        <p:spPr>
          <a:xfrm>
            <a:off x="3098880" y="1890720"/>
            <a:ext cx="5576760" cy="4772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4792680" y="4276800"/>
            <a:ext cx="3828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«Люди перестают мыслить, когда перестают чит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.Ди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941400" y="3502080"/>
            <a:ext cx="1839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3"/>
          <a:stretch/>
        </p:blipFill>
        <p:spPr>
          <a:xfrm>
            <a:off x="719280" y="2120760"/>
            <a:ext cx="810720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79280" y="496872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очкин Да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 rot="321000">
            <a:off x="971280" y="0"/>
            <a:ext cx="684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22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22000"/>
              </a:gradFill>
              <a:latin typeface="Impact"/>
              <a:ea typeface="Impact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действительно, быстрочитающие дети учатся на 4 и 5. Они быстрее формулируют свои мысли, понимают задание, анализируют, обобщают, следовательно, быстрее и лучше выполняют его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1"/>
          <p:cNvSpPr/>
          <p:nvPr/>
        </p:nvSpPr>
        <p:spPr>
          <a:xfrm rot="11187000">
            <a:off x="105840" y="1625400"/>
            <a:ext cx="4861080" cy="3520800"/>
          </a:xfrm>
          <a:prstGeom prst="cloudCallout">
            <a:avLst>
              <a:gd name="adj1" fmla="val -88337"/>
              <a:gd name="adj2" fmla="val 5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987640" y="260280"/>
            <a:ext cx="424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кетирование учащихс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>
            <a:hlinkClick r:id="" action="ppaction://hlinkshowjump?jump=previousslide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7"/>
          <p:cNvSpPr/>
          <p:nvPr/>
        </p:nvSpPr>
        <p:spPr>
          <a:xfrm rot="12601800">
            <a:off x="360000" y="1499400"/>
            <a:ext cx="5132520" cy="4573800"/>
          </a:xfrm>
          <a:prstGeom prst="cloudCallout">
            <a:avLst>
              <a:gd name="adj1" fmla="val -67500"/>
              <a:gd name="adj2" fmla="val 4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059280" y="26028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ы исследования</a:t>
            </a:r>
            <a:br>
              <a:rPr sz="4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тем проанализировал полученные ответы. Мы опросили две возрастные групп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у из групп я назвал «взрослые» - это наши родители, соседи, знакомые, учителя от 20 лет и старш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рослые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rId2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7493"/>
                </a:moveTo>
                <a:lnTo>
                  <a:pt x="10910" y="7493"/>
                </a:lnTo>
                <a:lnTo>
                  <a:pt x="10910" y="12828"/>
                </a:lnTo>
                <a:cubicBezTo>
                  <a:pt x="10910" y="13751"/>
                  <a:pt x="11711" y="14482"/>
                  <a:pt x="12747" y="14482"/>
                </a:cubicBezTo>
                <a:lnTo>
                  <a:pt x="14409" y="14482"/>
                </a:lnTo>
                <a:cubicBezTo>
                  <a:pt x="15445" y="14482"/>
                  <a:pt x="16245" y="13751"/>
                  <a:pt x="16245" y="12828"/>
                </a:cubicBezTo>
                <a:lnTo>
                  <a:pt x="16245" y="7493"/>
                </a:lnTo>
                <a:lnTo>
                  <a:pt x="14409" y="7493"/>
                </a:lnTo>
                <a:lnTo>
                  <a:pt x="17917" y="3985"/>
                </a:lnTo>
                <a:lnTo>
                  <a:pt x="21590" y="7493"/>
                </a:lnTo>
                <a:lnTo>
                  <a:pt x="19753" y="7493"/>
                </a:lnTo>
                <a:lnTo>
                  <a:pt x="19753" y="12828"/>
                </a:lnTo>
                <a:cubicBezTo>
                  <a:pt x="19753" y="15596"/>
                  <a:pt x="17177" y="18155"/>
                  <a:pt x="14409" y="18155"/>
                </a:cubicBezTo>
                <a:lnTo>
                  <a:pt x="12747" y="18155"/>
                </a:lnTo>
                <a:cubicBezTo>
                  <a:pt x="9979" y="18155"/>
                  <a:pt x="7403" y="15596"/>
                  <a:pt x="74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3"/>
          <a:stretch/>
        </p:blipFill>
        <p:spPr>
          <a:xfrm>
            <a:off x="457200" y="2079720"/>
            <a:ext cx="3648240" cy="2220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"/>
          <p:cNvPicPr/>
          <p:nvPr/>
        </p:nvPicPr>
        <p:blipFill>
          <a:blip r:embed="rId4"/>
          <a:stretch/>
        </p:blipFill>
        <p:spPr>
          <a:xfrm>
            <a:off x="4543560" y="1736640"/>
            <a:ext cx="3801960" cy="23068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195640" y="4637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ую группу назвал «дети». Это учащиеся на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нкетировании приняло участие 3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468360" y="1844640"/>
            <a:ext cx="8207280" cy="432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755640" y="189000"/>
            <a:ext cx="76201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2"/>
          <a:stretch/>
        </p:blipFill>
        <p:spPr>
          <a:xfrm>
            <a:off x="73080" y="139680"/>
            <a:ext cx="4476600" cy="3355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3"/>
          <a:stretch/>
        </p:blipFill>
        <p:spPr>
          <a:xfrm>
            <a:off x="250920" y="3544920"/>
            <a:ext cx="4346640" cy="3259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4"/>
          <a:stretch/>
        </p:blipFill>
        <p:spPr>
          <a:xfrm>
            <a:off x="4597560" y="3544920"/>
            <a:ext cx="4346280" cy="3259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5"/>
          <a:stretch/>
        </p:blipFill>
        <p:spPr>
          <a:xfrm>
            <a:off x="4724280" y="139680"/>
            <a:ext cx="4276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уч нашей школы Капкаева Татьяна Михайлов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е ли Вы проблему потери интереса к чтению актуальной?</a:t>
            </a:r>
            <a:br>
              <a:rPr sz="24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нам посоветуете?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 лично можете нам помочь? Лично я могу провести панорамные уроки с родителями по формированию навыков скорочтения у детей младшего школьного возрас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187280" y="189000"/>
            <a:ext cx="691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5" descr="6"/>
          <p:cNvPicPr/>
          <p:nvPr/>
        </p:nvPicPr>
        <p:blipFill>
          <a:blip r:embed="rId2"/>
          <a:stretch/>
        </p:blipFill>
        <p:spPr>
          <a:xfrm>
            <a:off x="7164360" y="191628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4"/>
          <p:cNvPicPr/>
          <p:nvPr/>
        </p:nvPicPr>
        <p:blipFill>
          <a:blip r:embed="rId3"/>
          <a:stretch/>
        </p:blipFill>
        <p:spPr>
          <a:xfrm>
            <a:off x="179280" y="5516640"/>
            <a:ext cx="11718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-184320" y="141120"/>
            <a:ext cx="4464360" cy="23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WordArt 5"/>
          <p:cNvSpPr txBox="1"/>
          <p:nvPr/>
        </p:nvSpPr>
        <p:spPr>
          <a:xfrm rot="1366800">
            <a:off x="2700360" y="3716280"/>
            <a:ext cx="5940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2652000"/>
                </a:gradFill>
                <a:latin typeface="Impact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2652000"/>
              </a:gradFill>
              <a:latin typeface="Impact"/>
              <a:ea typeface="Impact"/>
            </a:endParaRPr>
          </a:p>
        </p:txBody>
      </p:sp>
      <p:pic>
        <p:nvPicPr>
          <p:cNvPr id="100" name="Picture 8" descr="WB01242_"/>
          <p:cNvPicPr/>
          <p:nvPr/>
        </p:nvPicPr>
        <p:blipFill>
          <a:blip r:embed="rId2"/>
          <a:stretch/>
        </p:blipFill>
        <p:spPr>
          <a:xfrm>
            <a:off x="4643280" y="2781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WB01242_"/>
          <p:cNvPicPr/>
          <p:nvPr/>
        </p:nvPicPr>
        <p:blipFill>
          <a:blip r:embed="rId3"/>
          <a:stretch/>
        </p:blipFill>
        <p:spPr>
          <a:xfrm>
            <a:off x="2268360" y="3357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WB01242_"/>
          <p:cNvPicPr/>
          <p:nvPr/>
        </p:nvPicPr>
        <p:blipFill>
          <a:blip r:embed="rId4"/>
          <a:stretch/>
        </p:blipFill>
        <p:spPr>
          <a:xfrm>
            <a:off x="4788000" y="544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WB01242_"/>
          <p:cNvPicPr/>
          <p:nvPr/>
        </p:nvPicPr>
        <p:blipFill>
          <a:blip r:embed="rId5"/>
          <a:stretch/>
        </p:blipFill>
        <p:spPr>
          <a:xfrm>
            <a:off x="3348000" y="260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WB01242_"/>
          <p:cNvPicPr/>
          <p:nvPr/>
        </p:nvPicPr>
        <p:blipFill>
          <a:blip r:embed="rId6"/>
          <a:stretch/>
        </p:blipFill>
        <p:spPr>
          <a:xfrm>
            <a:off x="7093080" y="6308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WB01242_"/>
          <p:cNvPicPr/>
          <p:nvPr/>
        </p:nvPicPr>
        <p:blipFill>
          <a:blip r:embed="rId7"/>
          <a:stretch/>
        </p:blipFill>
        <p:spPr>
          <a:xfrm>
            <a:off x="1476360" y="76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WB01242_"/>
          <p:cNvPicPr/>
          <p:nvPr/>
        </p:nvPicPr>
        <p:blipFill>
          <a:blip r:embed="rId8"/>
          <a:stretch/>
        </p:blipFill>
        <p:spPr>
          <a:xfrm>
            <a:off x="5364000" y="1773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WB01242_"/>
          <p:cNvPicPr/>
          <p:nvPr/>
        </p:nvPicPr>
        <p:blipFill>
          <a:blip r:embed="rId9"/>
          <a:stretch/>
        </p:blipFill>
        <p:spPr>
          <a:xfrm>
            <a:off x="1258920" y="5229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WB01242_"/>
          <p:cNvPicPr/>
          <p:nvPr/>
        </p:nvPicPr>
        <p:blipFill>
          <a:blip r:embed="rId10"/>
          <a:stretch/>
        </p:blipFill>
        <p:spPr>
          <a:xfrm>
            <a:off x="1908000" y="6237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WB01242_"/>
          <p:cNvPicPr/>
          <p:nvPr/>
        </p:nvPicPr>
        <p:blipFill>
          <a:blip r:embed="rId11"/>
          <a:stretch/>
        </p:blipFill>
        <p:spPr>
          <a:xfrm>
            <a:off x="3132000" y="5661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WB01242_"/>
          <p:cNvPicPr/>
          <p:nvPr/>
        </p:nvPicPr>
        <p:blipFill>
          <a:blip r:embed="rId12"/>
          <a:stretch/>
        </p:blipFill>
        <p:spPr>
          <a:xfrm>
            <a:off x="684360" y="400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WB01242_"/>
          <p:cNvPicPr/>
          <p:nvPr/>
        </p:nvPicPr>
        <p:blipFill>
          <a:blip r:embed="rId13"/>
          <a:stretch/>
        </p:blipFill>
        <p:spPr>
          <a:xfrm>
            <a:off x="395280" y="40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WB01242_"/>
          <p:cNvPicPr/>
          <p:nvPr/>
        </p:nvPicPr>
        <p:blipFill>
          <a:blip r:embed="rId14"/>
          <a:stretch/>
        </p:blipFill>
        <p:spPr>
          <a:xfrm>
            <a:off x="32400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30"/>
          <p:cNvPicPr/>
          <p:nvPr/>
        </p:nvPicPr>
        <p:blipFill>
          <a:blip r:embed="rId15"/>
          <a:stretch/>
        </p:blipFill>
        <p:spPr>
          <a:xfrm>
            <a:off x="5651640" y="981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Oval 23"/>
          <p:cNvSpPr/>
          <p:nvPr/>
        </p:nvSpPr>
        <p:spPr>
          <a:xfrm>
            <a:off x="6732720" y="1989000"/>
            <a:ext cx="360360" cy="360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6"/>
          <p:cNvSpPr/>
          <p:nvPr/>
        </p:nvSpPr>
        <p:spPr>
          <a:xfrm>
            <a:off x="680400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7"/>
          <p:cNvSpPr/>
          <p:nvPr/>
        </p:nvSpPr>
        <p:spPr>
          <a:xfrm>
            <a:off x="7308720" y="1989000"/>
            <a:ext cx="360360" cy="360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8"/>
          <p:cNvSpPr/>
          <p:nvPr/>
        </p:nvSpPr>
        <p:spPr>
          <a:xfrm>
            <a:off x="738036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 rot="10800000">
            <a:off x="6877080" y="2492280"/>
            <a:ext cx="504720" cy="21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85920" y="64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рь Перова Т.Н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574560" y="1973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е ли Вы проблему потери интереса к чтению актуаль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93840" y="3003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ы нам посоветуете, какие можете дать рекомендаци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62080" y="40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ы лично можете нам помоч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4762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ы решения данной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иблиотекарям и учителям на школьных собраниях проводить обзор детск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одителям накапливать домашнюю детскую библиотеку. Книги должны подходить ребенку по возрасту, соответствовать интере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вместное чтение книг в семь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сещение театральных постановок, музеев, выставок, экскурсии, городской детской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47"/>
          <p:cNvPicPr/>
          <p:nvPr/>
        </p:nvPicPr>
        <p:blipFill>
          <a:blip r:embed="rId2"/>
          <a:stretch/>
        </p:blipFill>
        <p:spPr>
          <a:xfrm>
            <a:off x="5580000" y="692280"/>
            <a:ext cx="3095640" cy="253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57"/>
          <p:cNvPicPr/>
          <p:nvPr/>
        </p:nvPicPr>
        <p:blipFill>
          <a:blip r:embed="rId3"/>
          <a:stretch/>
        </p:blipFill>
        <p:spPr>
          <a:xfrm>
            <a:off x="5580000" y="3573360"/>
            <a:ext cx="30956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971640" y="620640"/>
            <a:ext cx="720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 учащихся 4 класса (18 человек) на вопрос, если бы ты оказался на необитаемом острове, какие бы предметы ты заказал волшебнику, чтобы жизнь была интересной? Компьютер – 5 человек (30%),телевизор – 4 человек (23%), сотовый телефон - 5 человек (17%), книгу - 3 человека (10%), другое: 1человек (20%). На вопрос. У Вас много книг? Да ответило 16 человек, что составляет 53%, нет 14 человек, что составляет 47 %. А на вопрос - Какие детские книги есть в вашей домашней библиотеке? Ответило полно – 10 человек, они смогли назвать произведение, автора. Это говорит о том, что учащиеся уделяют мало времени чтению, им больше нравится проводить времени игре на компьютере, просмотру телевизионных телепередач. Дети отдают предпочтение игре на компьютере, развлечениям, чем чтению художественной литературе. Анкетирование учащихся 4 класса) показало, что смотрят телевизор дети ежедневно, время ежедневного просмотра составляет более 2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юда можно сделать следующий выв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ет интерес к чтению, его заполняет телевидение и другие технические средства. Легче придя, домой включить телевизор, компьютер и расслабиться, чем взять в руки умную книгу и задум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042920" y="69228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проведенного исследования, к сожалению, мы вынуждены признать, что, несмотря на положительное отношение к чтению и понимание важности и значимости книг, дети не хотят читать или читают без удовольствия и неохотно, предпочитая получать информацию из других ист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читаем, что нежелание читать и неумение правильно читать, тесно связаны между собой. Потому что когда человек не умеет что-то делать, то он и не выполняет эту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 мире мудрых мыслей .составитель Степанов А.Н.,- М,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.Волков С.В. Я познаю мир. Детская энциклопедия.Литература.,М.,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Волков С.В. Я познаю мир. Детская энциклопедия. Русский язык.,М.,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весть временных лет. Из похвалы князю Ярославу и книгам.- М.,2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урнал «Книжное обозрение»,- М.,2005, №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варин С.И. Как читать книги. – М.: Книга, 19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ирва А. Книга в твоих руках . Книга для учащихся – М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59"/>
          <p:cNvPicPr/>
          <p:nvPr/>
        </p:nvPicPr>
        <p:blipFill>
          <a:blip r:embed="rId2"/>
          <a:stretch/>
        </p:blipFill>
        <p:spPr>
          <a:xfrm>
            <a:off x="4140360" y="1197000"/>
            <a:ext cx="197460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1"/>
          <p:cNvPicPr/>
          <p:nvPr/>
        </p:nvPicPr>
        <p:blipFill>
          <a:blip r:embed="rId3"/>
          <a:stretch/>
        </p:blipFill>
        <p:spPr>
          <a:xfrm>
            <a:off x="4140360" y="4005360"/>
            <a:ext cx="4464000" cy="2678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2"/>
          <p:cNvPicPr/>
          <p:nvPr/>
        </p:nvPicPr>
        <p:blipFill>
          <a:blip r:embed="rId4"/>
          <a:stretch/>
        </p:blipFill>
        <p:spPr>
          <a:xfrm>
            <a:off x="6443640" y="1197000"/>
            <a:ext cx="2089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Объект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детская книга, памятники книг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 исследования: приобщение к чтению.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Arial"/>
              </a:rPr>
              <a:t>Гипотеза</a:t>
            </a: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ли тратить время на чтение книги, если можно посмотреть фильм и получить информацию из Интерн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042920" y="765000"/>
            <a:ext cx="734400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99ff33">
                      <a:alpha val="50000"/>
                    </a:srgbClr>
                  </a:outerShdw>
                </a:effectLst>
                <a:latin typeface="Arial"/>
              </a:rPr>
              <a:t>Спасибо за внимани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99ff33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99ff33">
                      <a:alpha val="50000"/>
                    </a:srgbClr>
                  </a:outerShdw>
                </a:effectLst>
                <a:latin typeface="Arial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99ff33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mph" presetID="27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16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7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8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00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Цели и задачи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аблюдать какую роль играют книги в жизни моих ровес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роль книги для ребят нашего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мнения известных людей о книге, о чт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одноклассникам через памятники архитектуры, что существование большого количества памятников книге говорит о её значим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Метод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Изучение литературы и источников Интернета по данной тем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Проведение анкетирования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Анализ полученных результат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Формулировка вывод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3"/>
          <p:cNvSpPr/>
          <p:nvPr/>
        </p:nvSpPr>
        <p:spPr>
          <a:xfrm rot="18187200">
            <a:off x="1566720" y="3050640"/>
            <a:ext cx="1690920" cy="287640"/>
          </a:xfrm>
          <a:prstGeom prst="leftArrow">
            <a:avLst>
              <a:gd name="adj1" fmla="val 50000"/>
              <a:gd name="adj2" fmla="val 1469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rot="14610000">
            <a:off x="5515560" y="3061080"/>
            <a:ext cx="1569960" cy="288720"/>
          </a:xfrm>
          <a:prstGeom prst="leftArrow">
            <a:avLst>
              <a:gd name="adj1" fmla="val 50000"/>
              <a:gd name="adj2" fmla="val 1359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4360" y="4005360"/>
            <a:ext cx="3168360" cy="143964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Библио» - кн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932360" y="4005360"/>
            <a:ext cx="3456000" cy="143964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Тека» - 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пользу чтения мне бы хотелось привести несколько факт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развивает логическое мышлени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развивает память и внимани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хорошей книги помогает обрести спокойств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книг улучшает работу мозг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научит нас общаться с людьм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делает человека добрее, умнее и воспитанн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заставляет наш мозг работать, в результате наша старость отодвигает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24"/>
          <p:cNvPicPr/>
          <p:nvPr/>
        </p:nvPicPr>
        <p:blipFill>
          <a:blip r:embed="rId2"/>
          <a:stretch/>
        </p:blipFill>
        <p:spPr>
          <a:xfrm>
            <a:off x="5580000" y="3141720"/>
            <a:ext cx="32544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547640" y="549360"/>
            <a:ext cx="29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1520" y="20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неуспешного чт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1042920" y="907920"/>
            <a:ext cx="33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50800" y="1449360"/>
            <a:ext cx="513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4"/>
          <p:cNvSpPr txBox="1"/>
          <p:nvPr/>
        </p:nvSpPr>
        <p:spPr>
          <a:xfrm>
            <a:off x="4572000" y="141300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5" descr="SO00483_"/>
          <p:cNvPicPr/>
          <p:nvPr/>
        </p:nvPicPr>
        <p:blipFill>
          <a:blip r:embed="rId2"/>
          <a:stretch/>
        </p:blipFill>
        <p:spPr>
          <a:xfrm>
            <a:off x="8028000" y="5877000"/>
            <a:ext cx="741240" cy="65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SO00483_"/>
          <p:cNvPicPr/>
          <p:nvPr/>
        </p:nvPicPr>
        <p:blipFill>
          <a:blip r:embed="rId3"/>
          <a:stretch/>
        </p:blipFill>
        <p:spPr>
          <a:xfrm>
            <a:off x="179280" y="26028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SO00483_"/>
          <p:cNvPicPr/>
          <p:nvPr/>
        </p:nvPicPr>
        <p:blipFill>
          <a:blip r:embed="rId4"/>
          <a:stretch/>
        </p:blipFill>
        <p:spPr>
          <a:xfrm>
            <a:off x="250920" y="5877000"/>
            <a:ext cx="741240" cy="65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SO00483_"/>
          <p:cNvPicPr/>
          <p:nvPr/>
        </p:nvPicPr>
        <p:blipFill>
          <a:blip r:embed="rId5"/>
          <a:stretch/>
        </p:blipFill>
        <p:spPr>
          <a:xfrm>
            <a:off x="8172360" y="279360"/>
            <a:ext cx="72072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411280" y="36590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нетерпелив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внима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«пробег» по книг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чтение «из-под палки»,т.е без жел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54 0.06497 L 0.03837 -0.04787 E">
                                      <p:cBhvr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06868 L 0.05209 0.04277 E">
                                      <p:cBhvr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0.07075 L 0.01372 -0.02821 E">
                                      <p:cBhvr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04786 L 0.00573 0.07214 E">
                                      <p:cBhvr>
                                        <p:cTn id="8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e1e20"/>
                </a:solidFill>
                <a:latin typeface="Arial"/>
              </a:rPr>
              <a:t>«Всем хорошим я обязан книге», - так говорил Максим Горьк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WB01292_"/>
          <p:cNvPicPr/>
          <p:nvPr/>
        </p:nvPicPr>
        <p:blipFill>
          <a:blip r:embed="rId2"/>
          <a:stretch/>
        </p:blipFill>
        <p:spPr>
          <a:xfrm>
            <a:off x="4211640" y="3213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2391334_bibl"/>
          <p:cNvPicPr/>
          <p:nvPr/>
        </p:nvPicPr>
        <p:blipFill>
          <a:blip r:embed="rId3"/>
          <a:stretch/>
        </p:blipFill>
        <p:spPr>
          <a:xfrm>
            <a:off x="4859280" y="317808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9989 C -1.94444E-006 -0.16578 0.04757 -0.21919 0.1059 -0.21919 L 0.35139 -0.21919 C 0.40972 -0.21919 0.45764 -0.16578 0.45764 -0.09989 L 0.45764 0.17271 C 0.45764 0.23884 0.40972 0.29479 0.35139 0.29479 L 0.1059 0.29479 C 0.04757 0.29479 -1.94444E-006 0.23884 -1.94444E-006 0.17271 Z">
                                      <p:cBhvr>
                                        <p:cTn id="9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00000" y="439200"/>
            <a:ext cx="74995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еужели чтение влияет на успеваем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1332000" y="620640"/>
            <a:ext cx="60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9" descr="72"/>
          <p:cNvPicPr/>
          <p:nvPr/>
        </p:nvPicPr>
        <p:blipFill>
          <a:blip r:embed="rId2"/>
          <a:stretch/>
        </p:blipFill>
        <p:spPr>
          <a:xfrm>
            <a:off x="7020000" y="4581360"/>
            <a:ext cx="952560" cy="138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73"/>
          <p:cNvPicPr/>
          <p:nvPr/>
        </p:nvPicPr>
        <p:blipFill>
          <a:blip r:embed="rId3"/>
          <a:stretch/>
        </p:blipFill>
        <p:spPr>
          <a:xfrm>
            <a:off x="7667640" y="2637000"/>
            <a:ext cx="952560" cy="138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74"/>
          <p:cNvPicPr/>
          <p:nvPr/>
        </p:nvPicPr>
        <p:blipFill>
          <a:blip r:embed="rId4"/>
          <a:stretch/>
        </p:blipFill>
        <p:spPr>
          <a:xfrm>
            <a:off x="8317080" y="5257800"/>
            <a:ext cx="952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remove" presetClass="emph" presetID="3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0.35839 L 0.00313 -0.54104 E">
                                      <p:cBhvr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094 0.28324 L 0.01094 -0.83468 E">
                                      <p:cBhvr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10405E-006 L -0.01267 -0.97573 E">
                                      <p:cBhvr>
                                        <p:cTn id="124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7:37:29Z</dcterms:created>
  <dc:creator>student</dc:creator>
  <dc:description/>
  <dc:language>en-US</dc:language>
  <cp:lastModifiedBy>Пользователь Windows</cp:lastModifiedBy>
  <dcterms:modified xsi:type="dcterms:W3CDTF">2020-03-12T02:07:45Z</dcterms:modified>
  <cp:revision>92</cp:revision>
  <dc:subject/>
  <dc:title>Слайд 1</dc:title>
</cp:coreProperties>
</file>