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28.png" ContentType="image/png"/>
  <Override PartName="/ppt/media/image30.png" ContentType="image/png"/>
  <Override PartName="/ppt/media/image2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png" ContentType="image/png"/>
  <Override PartName="/ppt/media/image12.jpeg" ContentType="image/jpeg"/>
  <Override PartName="/ppt/media/image34.png" ContentType="image/png"/>
  <Override PartName="/ppt/media/image31.png" ContentType="image/png"/>
  <Override PartName="/ppt/media/image32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7.png" ContentType="image/png"/>
  <Override PartName="/ppt/media/image37.png" ContentType="image/png"/>
  <Override PartName="/ppt/media/image1.jpeg" ContentType="image/jpeg"/>
  <Override PartName="/ppt/media/image10.png" ContentType="image/png"/>
  <Override PartName="/ppt/media/image9.wmf" ContentType="image/x-wmf"/>
  <Override PartName="/ppt/media/image14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A6B-BB4A-429E-92B7-119F759D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1866-AFEF-4B18-A4F0-5D5D872E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4DE-C793-4106-8240-BA866781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F41-6BAF-460D-BD70-F8A100E8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90A3-31C2-4D7A-AA06-300E06AD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74FB-A989-409D-A4B2-961B7055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F83-987F-4CBF-AF55-3D572C42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951-6CBA-4E0A-B433-AB9ECF1A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237-3DA6-46AC-AA4D-B1D21771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1AA-6B18-492C-8CBF-8F01D685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5069-BF03-482F-A504-8358F661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6C18-64DE-4ED4-A545-14D6E9FE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0E05-728F-496B-96E9-225632BC0C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0.xml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4"/>
          <p:cNvSpPr txBox="1"/>
          <p:nvPr/>
        </p:nvSpPr>
        <p:spPr>
          <a:xfrm>
            <a:off x="179280" y="17640"/>
            <a:ext cx="8496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</a:t>
            </a: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лая     академия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16" descr="Ласточка"/>
          <p:cNvPicPr/>
          <p:nvPr/>
        </p:nvPicPr>
        <p:blipFill>
          <a:blip r:embed="rId2"/>
          <a:stretch/>
        </p:blipFill>
        <p:spPr>
          <a:xfrm>
            <a:off x="3098880" y="1890720"/>
            <a:ext cx="5576760" cy="4772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4792680" y="4276800"/>
            <a:ext cx="3828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«Люди перестают мыслить, когда перестают чита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Д.Ди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941400" y="3502080"/>
            <a:ext cx="1839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2" descr=""/>
          <p:cNvPicPr/>
          <p:nvPr/>
        </p:nvPicPr>
        <p:blipFill>
          <a:blip r:embed="rId3"/>
          <a:stretch/>
        </p:blipFill>
        <p:spPr>
          <a:xfrm>
            <a:off x="719280" y="2120760"/>
            <a:ext cx="8107200" cy="93348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179280" y="496872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очкин Дан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 rot="321000">
            <a:off x="971280" y="0"/>
            <a:ext cx="68403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722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722000"/>
              </a:gradFill>
              <a:latin typeface="Impact"/>
              <a:ea typeface="Impact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действительно, быстрочитающие дети учатся на 4 и 5. Они быстрее формулируют свои мысли, понимают задание, анализируют, обобщают, следовательно, быстрее и лучше выполняют его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1"/>
          <p:cNvSpPr/>
          <p:nvPr/>
        </p:nvSpPr>
        <p:spPr>
          <a:xfrm rot="11187000">
            <a:off x="105840" y="1625400"/>
            <a:ext cx="4861080" cy="3520800"/>
          </a:xfrm>
          <a:prstGeom prst="cloudCallout">
            <a:avLst>
              <a:gd name="adj1" fmla="val -88337"/>
              <a:gd name="adj2" fmla="val 5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2987640" y="260280"/>
            <a:ext cx="424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ктическая часть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кетирование учащихс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>
            <a:hlinkClick r:id="" action="ppaction://hlinkshowjump?jump=previousslide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7"/>
          <p:cNvSpPr/>
          <p:nvPr/>
        </p:nvSpPr>
        <p:spPr>
          <a:xfrm rot="12601800">
            <a:off x="360000" y="1499400"/>
            <a:ext cx="5132520" cy="4573800"/>
          </a:xfrm>
          <a:prstGeom prst="cloudCallout">
            <a:avLst>
              <a:gd name="adj1" fmla="val -67500"/>
              <a:gd name="adj2" fmla="val 435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3059280" y="260280"/>
            <a:ext cx="360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зультаты исследования</a:t>
            </a:r>
            <a:br>
              <a:rPr sz="4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тем проанализировал полученные ответы. Мы опросили две возрастные группы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у из групп я назвал «взрослые» - это наши родители, соседи, знакомые, учителя от 20 лет и старше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рослые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>
            <a:hlinkClick r:id="rId2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7493"/>
                </a:moveTo>
                <a:lnTo>
                  <a:pt x="10910" y="7493"/>
                </a:lnTo>
                <a:lnTo>
                  <a:pt x="10910" y="12828"/>
                </a:lnTo>
                <a:cubicBezTo>
                  <a:pt x="10910" y="13751"/>
                  <a:pt x="11711" y="14482"/>
                  <a:pt x="12747" y="14482"/>
                </a:cubicBezTo>
                <a:lnTo>
                  <a:pt x="14409" y="14482"/>
                </a:lnTo>
                <a:cubicBezTo>
                  <a:pt x="15445" y="14482"/>
                  <a:pt x="16245" y="13751"/>
                  <a:pt x="16245" y="12828"/>
                </a:cubicBezTo>
                <a:lnTo>
                  <a:pt x="16245" y="7493"/>
                </a:lnTo>
                <a:lnTo>
                  <a:pt x="14409" y="7493"/>
                </a:lnTo>
                <a:lnTo>
                  <a:pt x="17917" y="3985"/>
                </a:lnTo>
                <a:lnTo>
                  <a:pt x="21590" y="7493"/>
                </a:lnTo>
                <a:lnTo>
                  <a:pt x="19753" y="7493"/>
                </a:lnTo>
                <a:lnTo>
                  <a:pt x="19753" y="12828"/>
                </a:lnTo>
                <a:cubicBezTo>
                  <a:pt x="19753" y="15596"/>
                  <a:pt x="17177" y="18155"/>
                  <a:pt x="14409" y="18155"/>
                </a:cubicBezTo>
                <a:lnTo>
                  <a:pt x="12747" y="18155"/>
                </a:lnTo>
                <a:cubicBezTo>
                  <a:pt x="9979" y="18155"/>
                  <a:pt x="7403" y="15596"/>
                  <a:pt x="7403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3"/>
          <a:stretch/>
        </p:blipFill>
        <p:spPr>
          <a:xfrm>
            <a:off x="457200" y="2079720"/>
            <a:ext cx="3648240" cy="22208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3" descr=""/>
          <p:cNvPicPr/>
          <p:nvPr/>
        </p:nvPicPr>
        <p:blipFill>
          <a:blip r:embed="rId4"/>
          <a:stretch/>
        </p:blipFill>
        <p:spPr>
          <a:xfrm>
            <a:off x="4543560" y="1736640"/>
            <a:ext cx="3801960" cy="230688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4"/>
          <p:cNvSpPr/>
          <p:nvPr/>
        </p:nvSpPr>
        <p:spPr>
          <a:xfrm>
            <a:off x="2195640" y="46371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ую группу назвал «дети». Это учащиеся наш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нкетировании приняло участие 30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468360" y="1844640"/>
            <a:ext cx="8207280" cy="432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755640" y="189000"/>
            <a:ext cx="762012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2"/>
          <a:stretch/>
        </p:blipFill>
        <p:spPr>
          <a:xfrm>
            <a:off x="73080" y="139680"/>
            <a:ext cx="4476600" cy="33559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3"/>
          <a:stretch/>
        </p:blipFill>
        <p:spPr>
          <a:xfrm>
            <a:off x="250920" y="3544920"/>
            <a:ext cx="4346640" cy="32590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"/>
          <p:cNvPicPr/>
          <p:nvPr/>
        </p:nvPicPr>
        <p:blipFill>
          <a:blip r:embed="rId4"/>
          <a:stretch/>
        </p:blipFill>
        <p:spPr>
          <a:xfrm>
            <a:off x="4597560" y="3544920"/>
            <a:ext cx="4346280" cy="32590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"/>
          <p:cNvPicPr/>
          <p:nvPr/>
        </p:nvPicPr>
        <p:blipFill>
          <a:blip r:embed="rId5"/>
          <a:stretch/>
        </p:blipFill>
        <p:spPr>
          <a:xfrm>
            <a:off x="4724280" y="139680"/>
            <a:ext cx="42768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в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уч нашей школы Капкаева Татьяна Михайловн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е ли Вы проблему потери интереса к чтению актуальной?</a:t>
            </a:r>
            <a:br>
              <a:rPr sz="24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ы нам посоветуете?</a:t>
            </a:r>
            <a:br>
              <a:rPr sz="28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м Вы лично можете нам помочь? Лично я могу провести панорамные уроки с родителями по формированию навыков скорочтения у детей младшего школьного возраста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1187280" y="189000"/>
            <a:ext cx="6913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Picture 5" descr="6"/>
          <p:cNvPicPr/>
          <p:nvPr/>
        </p:nvPicPr>
        <p:blipFill>
          <a:blip r:embed="rId2"/>
          <a:stretch/>
        </p:blipFill>
        <p:spPr>
          <a:xfrm>
            <a:off x="7164360" y="1916280"/>
            <a:ext cx="1800360" cy="143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14"/>
          <p:cNvPicPr/>
          <p:nvPr/>
        </p:nvPicPr>
        <p:blipFill>
          <a:blip r:embed="rId3"/>
          <a:stretch/>
        </p:blipFill>
        <p:spPr>
          <a:xfrm>
            <a:off x="179280" y="5516640"/>
            <a:ext cx="11718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-184320" y="141120"/>
            <a:ext cx="4464360" cy="23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9" name="WordArt 5"/>
          <p:cNvSpPr txBox="1"/>
          <p:nvPr/>
        </p:nvSpPr>
        <p:spPr>
          <a:xfrm rot="1366800">
            <a:off x="2700360" y="3716280"/>
            <a:ext cx="594036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2652000"/>
                </a:gradFill>
                <a:latin typeface="Impact"/>
              </a:rPr>
              <a:t>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2652000"/>
              </a:gradFill>
              <a:latin typeface="Impact"/>
              <a:ea typeface="Impact"/>
            </a:endParaRPr>
          </a:p>
        </p:txBody>
      </p:sp>
      <p:pic>
        <p:nvPicPr>
          <p:cNvPr id="100" name="Picture 8" descr="WB01242_"/>
          <p:cNvPicPr/>
          <p:nvPr/>
        </p:nvPicPr>
        <p:blipFill>
          <a:blip r:embed="rId2"/>
          <a:stretch/>
        </p:blipFill>
        <p:spPr>
          <a:xfrm>
            <a:off x="4643280" y="27813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WB01242_"/>
          <p:cNvPicPr/>
          <p:nvPr/>
        </p:nvPicPr>
        <p:blipFill>
          <a:blip r:embed="rId3"/>
          <a:stretch/>
        </p:blipFill>
        <p:spPr>
          <a:xfrm>
            <a:off x="2268360" y="33577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WB01242_"/>
          <p:cNvPicPr/>
          <p:nvPr/>
        </p:nvPicPr>
        <p:blipFill>
          <a:blip r:embed="rId4"/>
          <a:stretch/>
        </p:blipFill>
        <p:spPr>
          <a:xfrm>
            <a:off x="4788000" y="5445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WB01242_"/>
          <p:cNvPicPr/>
          <p:nvPr/>
        </p:nvPicPr>
        <p:blipFill>
          <a:blip r:embed="rId5"/>
          <a:stretch/>
        </p:blipFill>
        <p:spPr>
          <a:xfrm>
            <a:off x="3348000" y="260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WB01242_"/>
          <p:cNvPicPr/>
          <p:nvPr/>
        </p:nvPicPr>
        <p:blipFill>
          <a:blip r:embed="rId6"/>
          <a:stretch/>
        </p:blipFill>
        <p:spPr>
          <a:xfrm>
            <a:off x="7093080" y="6308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WB01242_"/>
          <p:cNvPicPr/>
          <p:nvPr/>
        </p:nvPicPr>
        <p:blipFill>
          <a:blip r:embed="rId7"/>
          <a:stretch/>
        </p:blipFill>
        <p:spPr>
          <a:xfrm>
            <a:off x="1476360" y="76500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WB01242_"/>
          <p:cNvPicPr/>
          <p:nvPr/>
        </p:nvPicPr>
        <p:blipFill>
          <a:blip r:embed="rId8"/>
          <a:stretch/>
        </p:blipFill>
        <p:spPr>
          <a:xfrm>
            <a:off x="5364000" y="17733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WB01242_"/>
          <p:cNvPicPr/>
          <p:nvPr/>
        </p:nvPicPr>
        <p:blipFill>
          <a:blip r:embed="rId9"/>
          <a:stretch/>
        </p:blipFill>
        <p:spPr>
          <a:xfrm>
            <a:off x="1258920" y="5229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WB01242_"/>
          <p:cNvPicPr/>
          <p:nvPr/>
        </p:nvPicPr>
        <p:blipFill>
          <a:blip r:embed="rId10"/>
          <a:stretch/>
        </p:blipFill>
        <p:spPr>
          <a:xfrm>
            <a:off x="1908000" y="623736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WB01242_"/>
          <p:cNvPicPr/>
          <p:nvPr/>
        </p:nvPicPr>
        <p:blipFill>
          <a:blip r:embed="rId11"/>
          <a:stretch/>
        </p:blipFill>
        <p:spPr>
          <a:xfrm>
            <a:off x="3132000" y="5661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WB01242_"/>
          <p:cNvPicPr/>
          <p:nvPr/>
        </p:nvPicPr>
        <p:blipFill>
          <a:blip r:embed="rId12"/>
          <a:stretch/>
        </p:blipFill>
        <p:spPr>
          <a:xfrm>
            <a:off x="684360" y="40053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WB01242_"/>
          <p:cNvPicPr/>
          <p:nvPr/>
        </p:nvPicPr>
        <p:blipFill>
          <a:blip r:embed="rId13"/>
          <a:stretch/>
        </p:blipFill>
        <p:spPr>
          <a:xfrm>
            <a:off x="395280" y="4046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WB01242_"/>
          <p:cNvPicPr/>
          <p:nvPr/>
        </p:nvPicPr>
        <p:blipFill>
          <a:blip r:embed="rId14"/>
          <a:stretch/>
        </p:blipFill>
        <p:spPr>
          <a:xfrm>
            <a:off x="324000" y="6093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" descr="30"/>
          <p:cNvPicPr/>
          <p:nvPr/>
        </p:nvPicPr>
        <p:blipFill>
          <a:blip r:embed="rId15"/>
          <a:stretch/>
        </p:blipFill>
        <p:spPr>
          <a:xfrm>
            <a:off x="5651640" y="98100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14" name="Oval 23"/>
          <p:cNvSpPr/>
          <p:nvPr/>
        </p:nvSpPr>
        <p:spPr>
          <a:xfrm>
            <a:off x="6732720" y="1989000"/>
            <a:ext cx="360360" cy="360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6"/>
          <p:cNvSpPr/>
          <p:nvPr/>
        </p:nvSpPr>
        <p:spPr>
          <a:xfrm>
            <a:off x="680400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7"/>
          <p:cNvSpPr/>
          <p:nvPr/>
        </p:nvSpPr>
        <p:spPr>
          <a:xfrm>
            <a:off x="7308720" y="1989000"/>
            <a:ext cx="360360" cy="360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8"/>
          <p:cNvSpPr/>
          <p:nvPr/>
        </p:nvSpPr>
        <p:spPr>
          <a:xfrm>
            <a:off x="7380360" y="206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9"/>
          <p:cNvSpPr/>
          <p:nvPr/>
        </p:nvSpPr>
        <p:spPr>
          <a:xfrm rot="10800000">
            <a:off x="6877080" y="2492280"/>
            <a:ext cx="504720" cy="216000"/>
          </a:xfrm>
          <a:custGeom>
            <a:avLst/>
            <a:gdLst>
              <a:gd name="textAreaLeft" fmla="*/ 0 w 504720"/>
              <a:gd name="textAreaRight" fmla="*/ 505080 w 50472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85920" y="64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блиотекарь Перова Т.Н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"/>
          <p:cNvSpPr/>
          <p:nvPr/>
        </p:nvSpPr>
        <p:spPr>
          <a:xfrm>
            <a:off x="574560" y="19731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те ли Вы проблему потери интереса к чтению актуальн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393840" y="3003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ы нам посоветуете, какие можете дать рекомендаци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4"/>
          <p:cNvSpPr/>
          <p:nvPr/>
        </p:nvSpPr>
        <p:spPr>
          <a:xfrm>
            <a:off x="262080" y="40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опрос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Вы лично можете нам помоч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4762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ианты решения данной пробл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Библиотекарям и учителям на школьных собраниях проводить обзор детской лит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Родителям накапливать домашнюю детскую библиотеку. Книги должны подходить ребенку по возрасту, соответствовать интере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овместное чтение книг в семь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сещение театральных постановок, музеев, выставок, экскурсии, городской детской библи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47"/>
          <p:cNvPicPr/>
          <p:nvPr/>
        </p:nvPicPr>
        <p:blipFill>
          <a:blip r:embed="rId2"/>
          <a:stretch/>
        </p:blipFill>
        <p:spPr>
          <a:xfrm>
            <a:off x="5580000" y="692280"/>
            <a:ext cx="3095640" cy="2531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57"/>
          <p:cNvPicPr/>
          <p:nvPr/>
        </p:nvPicPr>
        <p:blipFill>
          <a:blip r:embed="rId3"/>
          <a:stretch/>
        </p:blipFill>
        <p:spPr>
          <a:xfrm>
            <a:off x="5580000" y="3573360"/>
            <a:ext cx="309564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3"/>
          <p:cNvSpPr/>
          <p:nvPr/>
        </p:nvSpPr>
        <p:spPr>
          <a:xfrm>
            <a:off x="971640" y="620640"/>
            <a:ext cx="720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кетирование учащихся 4 класса (18 человек) на вопрос, если бы ты оказался на необитаемом острове, какие бы предметы ты заказал волшебнику, чтобы жизнь была интересной? Компьютер – 5 человек (30%),телевизор – 4 человек (23%), сотовый телефон - 5 человек (17%), книгу - 3 человека (10%), другое: 1человек (20%). На вопрос. У Вас много книг? Да ответило 16 человек, что составляет 53%, нет 14 человек, что составляет 47 %. А на вопрос - Какие детские книги есть в вашей домашней библиотеке? Ответило полно – 10 человек, они смогли назвать произведение, автора. Это говорит о том, что учащиеся уделяют мало времени чтению, им больше нравится проводить времени игре на компьютере, просмотру телевизионных телепередач. Дети отдают предпочтение игре на компьютере, развлечениям, чем чтению художественной литературе. Анкетирование учащихся 4 класса) показало, что смотрят телевизор дети ежедневно, время ежедневного просмотра составляет более 2 ча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сюда можно сделать следующий вывод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ает интерес к чтению, его заполняет телевидение и другие технические средства. Легче придя, домой включить телевизор, компьютер и расслабиться, чем взять в руки умную книгу и задум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042920" y="692280"/>
            <a:ext cx="70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лю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проведенного исследования, к сожалению, мы вынуждены признать, что, несмотря на положительное отношение к чтению и понимание важности и значимости книг, дети не хотят читать или читают без удовольствия и неохотно, предпочитая получать информацию из других источ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считаем, что нежелание читать и неумение правильно читать, тесно связаны между собой. Потому что когда человек не умеет что-то делать, то он и не выполняет эту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404280"/>
            <a:ext cx="368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В мире мудрых мыслей .составитель Степанов А.Н.,- М, 201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.Волков С.В. Я познаю мир. Детская энциклопедия.Литература.,М.,2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Волков С.В. Я познаю мир. Детская энциклопедия. Русский язык.,М.,2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весть временных лет. Из похвалы князю Ярославу и книгам.- М.,200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Журнал «Книжное обозрение»,- М.,2005, №3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Поварин С.И. Как читать книги. – М.: Книга, 19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Чирва А. Книга в твоих руках . Книга для учащихся – М.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59"/>
          <p:cNvPicPr/>
          <p:nvPr/>
        </p:nvPicPr>
        <p:blipFill>
          <a:blip r:embed="rId2"/>
          <a:stretch/>
        </p:blipFill>
        <p:spPr>
          <a:xfrm>
            <a:off x="4140360" y="1197000"/>
            <a:ext cx="1974600" cy="244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61"/>
          <p:cNvPicPr/>
          <p:nvPr/>
        </p:nvPicPr>
        <p:blipFill>
          <a:blip r:embed="rId3"/>
          <a:stretch/>
        </p:blipFill>
        <p:spPr>
          <a:xfrm>
            <a:off x="4140360" y="4005360"/>
            <a:ext cx="4464000" cy="2678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62"/>
          <p:cNvPicPr/>
          <p:nvPr/>
        </p:nvPicPr>
        <p:blipFill>
          <a:blip r:embed="rId4"/>
          <a:stretch/>
        </p:blipFill>
        <p:spPr>
          <a:xfrm>
            <a:off x="6443640" y="1197000"/>
            <a:ext cx="2089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6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306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560"/>
                            </p:stCondLst>
                            <p:childTnLst>
                              <p:par>
                                <p:cTn id="39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Объект исследова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детская книга, памятники книге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мет исследования: приобщение к чтению.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Arial"/>
              </a:rPr>
              <a:t>Гипотеза</a:t>
            </a:r>
            <a:r>
              <a:rPr b="0" lang="ru-RU" sz="4000" spc="-1" strike="noStrike">
                <a:solidFill>
                  <a:srgbClr val="19194d"/>
                </a:solidFill>
                <a:latin typeface="Arial"/>
              </a:rPr>
              <a:t>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ужно ли тратить время на чтение книги, если можно посмотреть фильм и получить информацию из Интерне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1042920" y="765000"/>
            <a:ext cx="7344000" cy="518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99ff33">
                      <a:alpha val="50000"/>
                    </a:srgbClr>
                  </a:outerShdw>
                </a:effectLst>
                <a:latin typeface="Arial"/>
              </a:rPr>
              <a:t>Спасибо за внимани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99ff33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07932" dir="18900000" blurRad="0" rotWithShape="0">
                    <a:srgbClr val="99ff33">
                      <a:alpha val="50000"/>
                    </a:srgbClr>
                  </a:outerShdw>
                </a:effectLst>
                <a:latin typeface="Arial"/>
              </a:rPr>
              <a:t>до новых 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07932" dir="18900000" blurRad="0" rotWithShape="0">
                  <a:srgbClr val="99ff33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mph" presetID="27" repeatCount="indefinite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416" dur="10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17" dur="10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8" dur="10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00"/>
            </a:gs>
            <a:gs pos="100000">
              <a:srgbClr val="99cc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Цели и задачи 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наблюдать какую роль играют книги в жизни моих ровесни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роль книги для ребят нашего клас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мнения известных людей о книге, о чтен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азать одноклассникам через памятники архитектуры, что существование большого количества памятников книге говорит о её значим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Метод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• Изучение литературы и источников Интернета по данной теме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• Проведение анкетирования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• Анализ полученных результатов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• Формулировка выводов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3"/>
          <p:cNvSpPr/>
          <p:nvPr/>
        </p:nvSpPr>
        <p:spPr>
          <a:xfrm rot="18187200">
            <a:off x="1566720" y="3050640"/>
            <a:ext cx="1690920" cy="287640"/>
          </a:xfrm>
          <a:prstGeom prst="leftArrow">
            <a:avLst>
              <a:gd name="adj1" fmla="val 50000"/>
              <a:gd name="adj2" fmla="val 1469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"/>
          <p:cNvSpPr/>
          <p:nvPr/>
        </p:nvSpPr>
        <p:spPr>
          <a:xfrm rot="14610000">
            <a:off x="5515560" y="3061080"/>
            <a:ext cx="1569960" cy="288720"/>
          </a:xfrm>
          <a:prstGeom prst="leftArrow">
            <a:avLst>
              <a:gd name="adj1" fmla="val 50000"/>
              <a:gd name="adj2" fmla="val 1359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684360" y="4005360"/>
            <a:ext cx="3168360" cy="143964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Библио» - кни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8"/>
          <p:cNvSpPr/>
          <p:nvPr/>
        </p:nvSpPr>
        <p:spPr>
          <a:xfrm>
            <a:off x="4932360" y="4005360"/>
            <a:ext cx="3456000" cy="143964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Тека» - хран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в пользу чтения мне бы хотелось привести несколько фактов: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развивает логическое мышление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развивает память и внимание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хорошей книги помогает обрести спокойстви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книг улучшает работу мозга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научит нас общаться с людьми;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делает человека добрее, умнее и воспитанн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ение заставляет наш мозг работать, в результате наша старость отодвигаетс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24"/>
          <p:cNvPicPr/>
          <p:nvPr/>
        </p:nvPicPr>
        <p:blipFill>
          <a:blip r:embed="rId2"/>
          <a:stretch/>
        </p:blipFill>
        <p:spPr>
          <a:xfrm>
            <a:off x="5580000" y="3141720"/>
            <a:ext cx="32544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547640" y="549360"/>
            <a:ext cx="29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1520" y="207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ичины неуспешного чт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10"/>
          <p:cNvSpPr txBox="1"/>
          <p:nvPr/>
        </p:nvSpPr>
        <p:spPr>
          <a:xfrm>
            <a:off x="1042920" y="907920"/>
            <a:ext cx="331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50800" y="1449360"/>
            <a:ext cx="513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14"/>
          <p:cNvSpPr txBox="1"/>
          <p:nvPr/>
        </p:nvSpPr>
        <p:spPr>
          <a:xfrm>
            <a:off x="4572000" y="1413000"/>
            <a:ext cx="4248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5" descr="SO00483_"/>
          <p:cNvPicPr/>
          <p:nvPr/>
        </p:nvPicPr>
        <p:blipFill>
          <a:blip r:embed="rId2"/>
          <a:stretch/>
        </p:blipFill>
        <p:spPr>
          <a:xfrm>
            <a:off x="8028000" y="5877000"/>
            <a:ext cx="741240" cy="657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SO00483_"/>
          <p:cNvPicPr/>
          <p:nvPr/>
        </p:nvPicPr>
        <p:blipFill>
          <a:blip r:embed="rId3"/>
          <a:stretch/>
        </p:blipFill>
        <p:spPr>
          <a:xfrm>
            <a:off x="179280" y="260280"/>
            <a:ext cx="741600" cy="65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SO00483_"/>
          <p:cNvPicPr/>
          <p:nvPr/>
        </p:nvPicPr>
        <p:blipFill>
          <a:blip r:embed="rId4"/>
          <a:stretch/>
        </p:blipFill>
        <p:spPr>
          <a:xfrm>
            <a:off x="250920" y="5877000"/>
            <a:ext cx="741240" cy="65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SO00483_"/>
          <p:cNvPicPr/>
          <p:nvPr/>
        </p:nvPicPr>
        <p:blipFill>
          <a:blip r:embed="rId5"/>
          <a:stretch/>
        </p:blipFill>
        <p:spPr>
          <a:xfrm>
            <a:off x="8172360" y="279360"/>
            <a:ext cx="72072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411280" y="36590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нетерпелив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невнима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«пробег» по книг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) чтение «из-под палки»,т.е без жел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54 0.06497 L 0.03837 -0.04787 E">
                                      <p:cBhvr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06868 L 0.05209 0.04277 E">
                                      <p:cBhvr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21 0.07075 L 0.01372 -0.02821 E">
                                      <p:cBhvr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65 -0.04786 L 0.00573 0.07214 E">
                                      <p:cBhvr>
                                        <p:cTn id="83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e1e20"/>
                </a:solidFill>
                <a:latin typeface="Arial"/>
              </a:rPr>
              <a:t>«Всем хорошим я обязан книге», - так говорил Максим Горьки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WB01292_"/>
          <p:cNvPicPr/>
          <p:nvPr/>
        </p:nvPicPr>
        <p:blipFill>
          <a:blip r:embed="rId2"/>
          <a:stretch/>
        </p:blipFill>
        <p:spPr>
          <a:xfrm>
            <a:off x="4211640" y="32130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22391334_bibl"/>
          <p:cNvPicPr/>
          <p:nvPr/>
        </p:nvPicPr>
        <p:blipFill>
          <a:blip r:embed="rId3"/>
          <a:stretch/>
        </p:blipFill>
        <p:spPr>
          <a:xfrm>
            <a:off x="4859280" y="3178080"/>
            <a:ext cx="3529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0.09989 C -1.94444E-006 -0.16578 0.04757 -0.21919 0.1059 -0.21919 L 0.35139 -0.21919 C 0.40972 -0.21919 0.45764 -0.16578 0.45764 -0.09989 L 0.45764 0.17271 C 0.45764 0.23884 0.40972 0.29479 0.35139 0.29479 L 0.1059 0.29479 C 0.04757 0.29479 -1.94444E-006 0.23884 -1.94444E-006 0.17271 Z">
                                      <p:cBhvr>
                                        <p:cTn id="9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00000" y="439200"/>
            <a:ext cx="74995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еужели чтение влияет на успеваемость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1332000" y="620640"/>
            <a:ext cx="604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2" name="Picture 9" descr="72"/>
          <p:cNvPicPr/>
          <p:nvPr/>
        </p:nvPicPr>
        <p:blipFill>
          <a:blip r:embed="rId2"/>
          <a:stretch/>
        </p:blipFill>
        <p:spPr>
          <a:xfrm>
            <a:off x="7020000" y="4581360"/>
            <a:ext cx="952560" cy="1381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73"/>
          <p:cNvPicPr/>
          <p:nvPr/>
        </p:nvPicPr>
        <p:blipFill>
          <a:blip r:embed="rId3"/>
          <a:stretch/>
        </p:blipFill>
        <p:spPr>
          <a:xfrm>
            <a:off x="7667640" y="2637000"/>
            <a:ext cx="952560" cy="138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74"/>
          <p:cNvPicPr/>
          <p:nvPr/>
        </p:nvPicPr>
        <p:blipFill>
          <a:blip r:embed="rId4"/>
          <a:stretch/>
        </p:blipFill>
        <p:spPr>
          <a:xfrm>
            <a:off x="8317080" y="5257800"/>
            <a:ext cx="9522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remove" presetClass="emph" presetID="3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Clr clrSpc="rgb">
                                      <p:cBhvr>
                                        <p:cTn id="1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3 0.35839 L 0.00313 -0.54104 E">
                                      <p:cBhvr>
                                        <p:cTn id="11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path" presetID="64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1094 0.28324 L 0.01094 -0.83468 E">
                                      <p:cBhvr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10405E-006 L -0.01267 -0.97573 E">
                                      <p:cBhvr>
                                        <p:cTn id="124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7:37:29Z</dcterms:created>
  <dc:creator>student</dc:creator>
  <dc:description/>
  <dc:language>en-US</dc:language>
  <cp:lastModifiedBy>Пользователь Windows</cp:lastModifiedBy>
  <dcterms:modified xsi:type="dcterms:W3CDTF">2020-03-12T02:07:45Z</dcterms:modified>
  <cp:revision>92</cp:revision>
  <dc:subject/>
  <dc:title>Слайд 1</dc:title>
</cp:coreProperties>
</file>