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A9B6-2BFE-4807-94ED-45596240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122-E72B-40A9-B237-60B4C2C5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900-80E8-412D-A8BB-1023738C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E7F2-602E-4FAD-B38A-8AC51ABD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F282-E6A1-4EE3-9576-0C58C21C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115-31F5-413A-9E42-F84242BF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F144-DE12-4B1A-804E-489E2FBD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90E-9AB4-4B40-8309-AFA43688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3C9-5A50-4072-8C22-8D6349A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773-E355-47C3-82FC-CFE3255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18D-71AE-4552-8551-B34DC3A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6EF-082B-469F-82B2-9A14204C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ABAD-2A29-47F7-B07D-2A740B664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276280"/>
            <a:ext cx="7777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 u="sng">
                <a:solidFill>
                  <a:srgbClr val="009999"/>
                </a:solidFill>
                <a:uFillTx/>
                <a:latin typeface="Monotype Corsiva"/>
                <a:hlinkClick r:id="rId1" action="ppaction://hlinksldjump"/>
              </a:rPr>
              <a:t>ДИСПЕРСИЯ  СВЕТ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Д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Р</a:t>
            </a: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ff9900"/>
                </a:solidFill>
                <a:latin typeface="Arial"/>
              </a:rPr>
              <a:t>Я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С</a:t>
            </a:r>
            <a:r>
              <a:rPr b="0" lang="en-US" sz="6000" spc="-1" strike="noStrike">
                <a:solidFill>
                  <a:srgbClr val="009999"/>
                </a:solidFill>
                <a:latin typeface="Arial"/>
              </a:rPr>
              <a:t>В</a:t>
            </a:r>
            <a:r>
              <a:rPr b="0" lang="en-US" sz="6000" spc="-1" strike="noStrike">
                <a:solidFill>
                  <a:srgbClr val="3399ff"/>
                </a:solidFill>
                <a:latin typeface="Arial"/>
              </a:rPr>
              <a:t>Е</a:t>
            </a:r>
            <a:r>
              <a:rPr b="0" lang="en-US" sz="6000" spc="-1" strike="noStrike">
                <a:solidFill>
                  <a:srgbClr val="333399"/>
                </a:solidFill>
                <a:latin typeface="Arial"/>
              </a:rPr>
              <a:t>Т</a:t>
            </a:r>
            <a:r>
              <a:rPr b="0" lang="en-US" sz="6000" spc="-1" strike="noStrike">
                <a:solidFill>
                  <a:srgbClr val="d60093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персия света – это зависимость абсолютного показателя преломления от частоты колебаний (длины волны) 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176720" cy="3600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ждой цветности соответствует своя длина и частота волны, такой одноцветный свет называют 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нохром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9280" y="1700280"/>
          <a:ext cx="8425080" cy="4798800"/>
        </p:xfrm>
        <a:graphic>
          <a:graphicData uri="http://schemas.openxmlformats.org/drawingml/2006/table">
            <a:tbl>
              <a:tblPr/>
              <a:tblGrid>
                <a:gridCol w="2708280"/>
                <a:gridCol w="2705040"/>
                <a:gridCol w="3011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лина волны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ирина участка, н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ас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0 -6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нже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0 -5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елт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5 – 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еле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0 -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лубо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0 – 4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и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0 – 4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летов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 - 3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f9425"/>
            </a:gs>
            <a:gs pos="100000">
              <a:srgbClr val="2583e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Синтез белого света с помощью призм осуществленный И.Ньюто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400"/>
                </a:solidFill>
                <a:latin typeface="Arial"/>
              </a:rPr>
              <a:t>ВЫВОДЫ ИЗ ОПЫТОВ НЬЮТ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7138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ый свет не является монохроматичес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ризма только преломляет лучи, но не изменяет их цвет. Эти лучи были названы простыми или монохрома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лый свет состоит из монохроматических – простых цветов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атель преломления среды зависит от цвета света: лучи красного света в любой среде преломляются слабее, чем все остальны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выходе из призмы белый свет разлагается на семь цветов: красный, оранжевый, желтый, зеленый, голубой, синий, фиолетовый. Меньше всех отклоняется красный свет, больше - фиолето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вет с разными длинами волн распространяется в среде с разными скоростями: фиолетовый с наименьшей, красный - наибольшей, так как n = c/v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250920" y="189000"/>
            <a:ext cx="8424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коны сочетания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8920" y="1413000"/>
            <a:ext cx="87850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. Цвета должны быт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родственные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. Один цвет господствующий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 spokes="2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ЦВЕТА НЕПРОЗРАЧНЫХ Т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4249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ногообразие цветов и оттенков в окружающем нас мире объясняет явление диспер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 взаимодействии с различными телами лучи света разного цвета по-разному отражаются и поглощаются этими т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ла, окрашенные в белый цвет, отражают лучи света разных частот одинаково хорош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ела, окрашенные в черный цвет, поглощают лучи света разных частот одинаково хорош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прозрачные тела окрашиваются в тот цвет, лучи света которого они хорошо отраж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80000"/>
              </a:lnSpc>
              <a:spcBef>
                <a:spcPts val="499"/>
              </a:spcBef>
              <a:buClr>
                <a:srgbClr val="7c00f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 помощью дисперсии света можно объяснить такое явление, как рад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836640"/>
            <a:ext cx="4292640" cy="2886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4248360" cy="2781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Ц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В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З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Р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А</a:t>
            </a: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Ч</a:t>
            </a:r>
            <a:r>
              <a:rPr b="0" lang="en-US" sz="4800" spc="-1" strike="noStrike">
                <a:solidFill>
                  <a:srgbClr val="660066"/>
                </a:solidFill>
                <a:latin typeface="Arial"/>
              </a:rPr>
              <a:t>Н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en-US" sz="4800" spc="-1" strike="noStrike">
                <a:solidFill>
                  <a:srgbClr val="ff9900"/>
                </a:solidFill>
                <a:latin typeface="Arial"/>
              </a:rPr>
              <a:t>Х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cc00"/>
                </a:solidFill>
                <a:latin typeface="Arial"/>
              </a:rPr>
              <a:t>Т</a:t>
            </a:r>
            <a:r>
              <a:rPr b="0" lang="en-US" sz="4800" spc="-1" strike="noStrike">
                <a:solidFill>
                  <a:srgbClr val="99cc00"/>
                </a:solidFill>
                <a:latin typeface="Arial"/>
              </a:rPr>
              <a:t>Е</a:t>
            </a: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48956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Цвет прозрачного тела определяется составом того света, который проходит через н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Если прозрачное тело равномерно поглощает лучи всех цветов, то в проходящем белом свете оно бесцветно, а при цветном освещении имеет цвет тех лучей, которыми освещ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 пропускании белого света через окрашенное стекло оно пропускает тот цвет, в который окраше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Это свойство используется в различных светофильтр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435640" y="4653000"/>
            <a:ext cx="3333600" cy="184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435640" y="1052640"/>
            <a:ext cx="331308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2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2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919"/>
                </a:solidFill>
                <a:latin typeface="Arial"/>
              </a:rPr>
              <a:t>ОБОБЩЕНИЕ МАТЕРИА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Дисперсия света – явление разложения белого света в спектр при помощи призмы. Порядок следования цветов в спектре не 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Дисперсия света происходит из-за того, что показатель преломления среды зависит от цвета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Дисперсия света доказывает, что белый свет – сложный ,состоит из простых – монохроматических цв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Дисперсия позволяет объяснить цвета  непрозрачных тел, тем что тела по- разному отражают и поглощают свет различных част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кре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аблюдать образование цветных кругов вокруг лампочки уличного фонаря и объяснить данное явление, отметить последовательность расположения кругов. (Объяснение связать с показателем преломления цветных лучей со скоростью распространения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.&gt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очему видим белое – белым, черное – черным, красное – крас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Пронаблюдать белый лист бумаги через цветное стекло и объяснить почему бумага принимает цвет стек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На тетради написано красным карандашом «отлично» и зеленым «хорошо». Имеются два стекла красное и зеленое, через какое надо смотреть, чтобы увидеть оценку «отлично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На сером фоне сцены находится фигура в красном. Каким светом её надо осветить, чтобы создать видимость исчезнов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Из рассказа Жюля Верна «Зеленый луч»: «Видели ли вы когда-нибудь заходящее солнце на горизонте? – Да, конечно! -…Но заметили ли вы, как появляется и гаснет последний солнечный луч, когда воздух освобождается от тумана и становится прозрачным? – Вероятно, нет! И так, если представится видеть это явление – оно бывает очень редко, - то обратите внимание на то, что этот последний луч будет не красным, а зеленым. Да, да, будет иметь чудесный зеленый цвет, то есть такой зеленый, который не сможет создать ни один художник на своей палитре. Подобный зеленый цвет не удается встретить нигде в природе, ибо его нельзя найти в растительном мире, несмотря на все множество и разнообразие и у самых ярких море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8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849636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Дать понятие о дисперсии света и объяснить ее   с точки зрения электромагнитн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исперс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звучит прекрасно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сно и явление са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о нам с детства близко и знаком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наблюдали сотни раз ег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ом отгремел, стих летний ливень быстры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над умытой свежею зем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остом бесплотным радуга повис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еняя нас своею крас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персия здесь «руку приложи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ычный белый лучик свет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как будто в призме разлож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треченной им капле дожд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05440" cy="4608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51480" y="3029040"/>
            <a:ext cx="3692520" cy="3828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941720"/>
            <a:ext cx="39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саак Ньют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80000" y="1413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укопись Ньют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250d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5280" y="189000"/>
            <a:ext cx="7705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ААК НЬЮТ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( 1643 - 1727 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916280"/>
            <a:ext cx="91440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ающийся английский физик и математик, основатель классической механики. И.Ньютон родился в семье небогатого фермера в местечке Вулсторп, около города Грантема. В 12 лет он начал учиться в Грантемской школе. В 1661 году Ньютон поступил в один из колледжей Кембиджского университета и по окончании его получил ученую степень бакалав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ительную роль в жизни Ньютона сыграли  1665 – 1667гг., которые он провел в родном Вулсторпе,укрываясь от эпидемии чумы. Здесь у него в основном сложились те идеи, которые привели ученого к важным открытиям: созданию математической основы физики – дифференциального и интегрального исчислений, открытию закона всемирного тяготения, к изобретению зеркального телескопа; здесь он провел опыты по разложению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668 г. Ньютону была присвоена степень магистра, и затем он возглавил физико-математическую кафедру в Кембриджском университете. В 1672г. Он был избран членом Лондонского королевского общества, а в 1703г. Стал его презид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0fd15"/>
                </a:solidFill>
                <a:latin typeface="Arial"/>
              </a:rPr>
              <a:t>Опыты Ньюто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215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1628640"/>
            <a:ext cx="30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773360"/>
            <a:ext cx="4608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4608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268280"/>
            <a:ext cx="460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ьютон направил белый луч на стеклянную призму. Как только видимый свет попадает в призму, он преломляется и разлагается в радужную полоску, которая называется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пектр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Белый цвет условно делится на семь цве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05520" y="3645000"/>
            <a:ext cx="4038480" cy="2089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9280" y="2775240"/>
            <a:ext cx="453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показал опыт каждый цвет имеет свой показатель преломления: наибольший - фиолетовый, наименьший - красный. Как мы уже знаем из опытов по дифракции света, цвета имеют различные длины вол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153320"/>
            <a:ext cx="4465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вет, проходя через трехгранную призму, преломляется и при выходе из призмы отклоняется от своего первоначального направления к основанию призмы. Величина отклонения луча зависит от показателя преломления вещества призмы, и, как показывают опыты, показатель преломления зависит от частоты с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89000"/>
            <a:ext cx="9144000" cy="20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ссмотренные опыты впервые произвел в 1666 году английский физик Исаак Ньют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а рисунке изображен один из опытов, поставленных самим Ньютоном. Ньютон в своих опытах пользовался солнечным светом, который он пропускал в комнату через узкое отверстие в оконной ста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Arial"/>
              </a:rPr>
              <a:t>ОБЪЯСНЕНИЕ ЯВЛЕНИЯ ДИСПЕР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вление дисперсии обнаруживается в процессе преломления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ная «степень преломляемости» связана с разной скоростью распространения света разных частот в данной сре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516720" y="1700280"/>
                <a:ext cx="1216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64000" y="3141720"/>
                <a:ext cx="32814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427640" y="4724280"/>
                <a:ext cx="4535280" cy="14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к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υ</m:t>
                            </m:r>
                          </m:e>
                          <m:sub>
                            <m:r>
                              <m:t xml:space="preserve">ф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к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med">
    <p:plus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-531720"/>
            <a:ext cx="7934400" cy="771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исперсией называю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висимость показателя преломлени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а от частоты колеба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(или длины волны)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05:39:42Z</dcterms:created>
  <dc:creator>User</dc:creator>
  <dc:description/>
  <dc:language>en-US</dc:language>
  <cp:lastModifiedBy>Admin</cp:lastModifiedBy>
  <dcterms:modified xsi:type="dcterms:W3CDTF">2009-01-28T13:23:30Z</dcterms:modified>
  <cp:revision>14</cp:revision>
  <dc:subject/>
  <dc:title>ДИСПЕРСИЯ  СВЕТА</dc:title>
</cp:coreProperties>
</file>