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9FD-DC7D-4FB6-88DE-42F1AA8B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CDA-3957-46CF-A439-D781DC2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A22-C1DA-45B3-AAE4-E0441977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B69-150F-42AC-8F89-67C64EFA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105-D3CB-485A-B275-CB264B43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07E-EA7A-4F1F-9D9B-CB9FB86C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F04-C74E-4D7D-B5E6-99EDA499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229-AA5E-4A77-AAFF-C1BDB91D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740-6589-46C4-8F43-C31B5230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904-8BF3-42C1-A4D6-E372739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689-0C34-4C85-81D6-1D3F64EF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055-EBAD-461A-AEFB-F4E6C2EF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DBA-04F9-4916-BD9C-F4BFEC2D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7777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9999"/>
                </a:solidFill>
                <a:uFillTx/>
                <a:latin typeface="Monotype Corsiva"/>
                <a:hlinkClick r:id="rId1" action="ppaction://hlinksldjump"/>
              </a:rPr>
              <a:t>ДИСПЕРСИЯ  СВЕТ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С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Е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С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Я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С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Е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персия света – это зависимость абсолютного показателя преломления от частоты колебаний (длины волны) 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1767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ждой цветности соответствует своя длина и частота волны, такой одноцветный свет называют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нохрома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9280" y="1700280"/>
          <a:ext cx="8425080" cy="4798800"/>
        </p:xfrm>
        <a:graphic>
          <a:graphicData uri="http://schemas.openxmlformats.org/drawingml/2006/table">
            <a:tbl>
              <a:tblPr/>
              <a:tblGrid>
                <a:gridCol w="2708280"/>
                <a:gridCol w="2705040"/>
                <a:gridCol w="3011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волн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рина участка, 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-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нж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0 -5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5 – 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0 -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у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0 – 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 –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лето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 - 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9425"/>
            </a:gs>
            <a:gs pos="100000">
              <a:srgbClr val="2583e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интез белого света с помощью призм осуществленный И.Ньют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400"/>
                </a:solidFill>
                <a:latin typeface="Arial"/>
              </a:rPr>
              <a:t>ВЫВОДЫ ИЗ ОПЫТОВ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лый свет не является монохрома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ризма только преломляет лучи, но не изменяет их цвет. Эти лучи были названы простыми или монохрома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лый свет состоит из монохроматических – простых цветов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ель преломления среды зависит от цвета света: лучи красного света в любой среде преломляются слабее, чем все остальны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ходе из призмы белый свет разлагается на семь цветов: красный, оранжевый, желтый, зеленый, голубой, синий, фиолетовый. Меньше всех отклоняется красный свет, больше - фиолето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 с разными длинами волн распространяется в среде с разными скоростями: фиолетовый с наименьшей, красный - наибольшей, так как n = c/v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0920" y="189000"/>
            <a:ext cx="84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оны сочета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8920" y="1413000"/>
            <a:ext cx="87850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. Цвета должны бы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ственны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. Один цвет господствующ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2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ЦВЕТА НЕПРОЗРАЧНЫХ 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9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ногообразие цветов и оттенков в окружающем нас мире объясняет явление диспер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взаимодействии с различными телами лучи света разного цвета по-разному отражаются и поглощаются этими т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ла, окрашенные в белый цвет, отражают лучи света разных частот одинаково хорош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ла, окрашенные в черный цвет, поглощают лучи света разных частот одинаково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прозрачные тела окрашиваются в тот цвет, лучи света которого они хорошо отраж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помощью дисперсии света можно объяснить такое явление, как ра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4292640" cy="288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424836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В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en-US" sz="4800" spc="-1" strike="noStrike">
                <a:solidFill>
                  <a:srgbClr val="660066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З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Ч</a:t>
            </a:r>
            <a:r>
              <a:rPr b="0" lang="en-US" sz="48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4895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Цвет прозрачного тела определяется составом того света, который проходит через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сли прозрачное тело равномерно поглощает лучи всех цветов, то в проходящем белом свете оно бесцветно, а при цветном освещении имеет цвет тех лучей, которыми освещ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 пропускании белого света через окрашенное стекло оно пропускает тот цвет, в который окраш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Это свойство используется в различных светофильт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333600" cy="184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435640" y="1052640"/>
            <a:ext cx="331308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919"/>
                </a:solidFill>
                <a:latin typeface="Arial"/>
              </a:rPr>
              <a:t>ОБОБЩЕНИЕ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Дисперсия света – явление разложения белого света в спектр при помощи призмы. Порядок следования цветов в спектре не ме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исперсия света происходит из-за того, что показатель преломления среды зависит от цвета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Дисперсия света доказывает, что белый свет – сложный ,состоит из простых – монохроматических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Дисперсия позволяет объяснить цвета  непрозрачных тел, тем что тела по- разному отражают и поглощают свет различных част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наблюдать образование цветных кругов вокруг лампочки уличного фонаря и объяснить данное явление, отметить последовательность расположения кругов. (Объяснение связать с показателем преломления цветных лучей со скоростью распространения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.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Почему видим белое – белым, черное – черным, красное – крас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Пронаблюдать белый лист бумаги через цветное стекло и объяснить почему бумага принимает цвет стек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На тетради написано красным карандашом «отлично» и зеленым «хорошо». Имеются два стекла красное и зеленое, через какое надо смотреть, чтобы увидеть оценку «отлично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На сером фоне сцены находится фигура в красном. Каким светом её надо осветить, чтобы создать видимость исчезнов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з рассказа Жюля Верна «Зеленый луч»: «Видели ли вы когда-нибудь заходящее солнце на горизонте? – Да, конечно! -…Но заметили ли вы, как появляется и гаснет последний солнечный луч, когда воздух освобождается от тумана и становится прозрачным? – Вероятно, нет! И так, если представится видеть это явление – оно бывает очень редко, - то обратите внимание на то, что этот последний луч будет не красным, а зеленым. Да, да, будет иметь чудесный зеленый цвет, то есть такой зеленый, который не сможет создать ни один художник на своей палитре. Подобный зеленый цвет не удается встретить нигде в природе, ибо его нельзя найти в растительном мире, несмотря на все множество и разнообразие и у самых ярких мор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84963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Дать понятие о дисперсии света и объяснить ее   с точки зрения электромагнитн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звучит прекрасно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расно и явление са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о нам с детства близко и знаком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наблюдали сотни раз 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ом отгремел, стих летний ливень быстр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д умытой свежею зем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стом бесплотным радуга повис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еняя нас своею крас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персия здесь «руку приложи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ычный белый лучик свет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как будто в призме разлож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треченной им капле дожд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05440" cy="460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51480" y="3029040"/>
            <a:ext cx="3692520" cy="3828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941720"/>
            <a:ext cx="39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саак Нью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1413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укопись Ньют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250d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189000"/>
            <a:ext cx="7705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ААК НЬЮТ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1643 - 1727 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16280"/>
            <a:ext cx="91440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ающийся английский физик и математик, основатель классической механики. И.Ньютон родился в семье небогатого фермера в местечке Вулсторп, около города Грантема. В 12 лет он начал учиться в Грантемской школе. В 1661 году Ньютон поступил в один из колледжей Кембиджского университета и по окончании его получил ученую степень бакалав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ительную роль в жизни Ньютона сыграли  1665 – 1667гг., которые он провел в родном Вулсторпе,укрываясь от эпидемии чумы. Здесь у него в основном сложились те идеи, которые привели ученого к важным открытиям: созданию математической основы физики – дифференциального и интегрального исчислений, открытию закона всемирного тяготения, к изобретению зеркального телескопа; здесь он провел опыты по разложению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8 г. Ньютону была присвоена степень магистра, и затем он возглавил физико-математическую кафедру в Кембриджском университете. В 1672г. Он был избран членом Лондонского королевского общества, а в 1703г. Стал его презид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0fd15"/>
                </a:solidFill>
                <a:latin typeface="Arial"/>
              </a:rPr>
              <a:t>Опыты Ньюто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4038480" cy="215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628640"/>
            <a:ext cx="30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773360"/>
            <a:ext cx="4608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46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268280"/>
            <a:ext cx="460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ьютон направил белый луч на стеклянную призму. Как только видимый свет попадает в призму, он преломляется и разлагается в радужную полоску, которая называется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пект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Белый цвет условно делится на семь цв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3645000"/>
            <a:ext cx="4038480" cy="208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2775240"/>
            <a:ext cx="453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показал опыт каждый цвет имеет свой показатель преломления: наибольший - фиолетовый, наименьший - красный. Как мы уже знаем из опытов по дифракции света, цвета имеют различные длины вол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153320"/>
            <a:ext cx="446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вет, проходя через трехгранную призму, преломляется и при выходе из призмы отклоняется от своего первоначального направления к основанию призмы. Величина отклонения луча зависит от показателя преломления вещества призмы, и, как показывают опыты, показатель преломления зависит от частоты св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89000"/>
            <a:ext cx="9144000" cy="20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смотренные опыты впервые произвел в 1666 году английский физик Исаак Ньют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 рисунке изображен один из опытов, поставленных самим Ньютоном. Ньютон в своих опытах пользовался солнечным светом, который он пропускал в комнату через узкое отверстие в оконной ста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ОБЪЯСНЕНИЕ ЯВЛЕНИЯ ДИСПЕР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е дисперсии обнаруживается в процессе преломления с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ая «степень преломляемости» связана с разной скоростью распространения света разных частот в данно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516720" y="1700280"/>
                <a:ext cx="12160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64000" y="3141720"/>
                <a:ext cx="32814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27640" y="4724280"/>
                <a:ext cx="45352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lus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-531720"/>
            <a:ext cx="7934400" cy="771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сперсией называю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висимость показателя преломл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та от частоты колеба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или длины волны)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05:39:42Z</dcterms:created>
  <dc:creator>User</dc:creator>
  <dc:description/>
  <dc:language>en-US</dc:language>
  <cp:lastModifiedBy>Admin</cp:lastModifiedBy>
  <dcterms:modified xsi:type="dcterms:W3CDTF">2009-01-28T13:23:30Z</dcterms:modified>
  <cp:revision>14</cp:revision>
  <dc:subject/>
  <dc:title>ДИСПЕРСИЯ  СВЕТА</dc:title>
</cp:coreProperties>
</file>