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11ED-5216-4322-95BB-ED42744F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6C3-A37C-4B5A-9777-A0E89811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1A3D-B060-411C-9F77-5C5FEF25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211D-D4E6-47ED-8248-EC8918AC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600-A15A-4CED-82E6-E7ADB0EB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10A6-735A-473A-A3E1-57F54C8A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0A7E-9390-4CC6-812F-F043C06C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144-4BAB-4FC9-A5BE-DFBBC3A6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D0C2-5A25-49CD-89CC-2AC0A5DC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45F-F067-4646-9A28-05124E3F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0120-56DF-4A86-8050-F5556661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764C-020F-4849-8677-9F731E54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0" descr="https://s.mediasalt.ru/cache/content/data/images/424/424768/tsar2.jpg"/>
          <p:cNvPicPr/>
          <p:nvPr/>
        </p:nvPicPr>
        <p:blipFill>
          <a:blip r:embed="rId1"/>
          <a:stretch/>
        </p:blipFill>
        <p:spPr>
          <a:xfrm>
            <a:off x="416520" y="76320"/>
            <a:ext cx="2985480" cy="3196080"/>
          </a:xfrm>
          <a:prstGeom prst="rect">
            <a:avLst/>
          </a:prstGeom>
          <a:ln w="9525">
            <a:noFill/>
          </a:ln>
        </p:spPr>
      </p:pic>
      <p:sp>
        <p:nvSpPr>
          <p:cNvPr id="42" name="Текстовое поле 4"/>
          <p:cNvSpPr/>
          <p:nvPr/>
        </p:nvSpPr>
        <p:spPr>
          <a:xfrm>
            <a:off x="365040" y="3429000"/>
            <a:ext cx="303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ван Гр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9" descr="C:\Users\Acer\YandexDisk\Скриншоты\2023-11-12_19-53-06.png"/>
          <p:cNvPicPr/>
          <p:nvPr/>
        </p:nvPicPr>
        <p:blipFill>
          <a:blip r:embed="rId2"/>
          <a:stretch/>
        </p:blipFill>
        <p:spPr>
          <a:xfrm>
            <a:off x="3718440" y="76320"/>
            <a:ext cx="2670480" cy="3212640"/>
          </a:xfrm>
          <a:prstGeom prst="rect">
            <a:avLst/>
          </a:prstGeom>
          <a:ln w="9525">
            <a:noFill/>
          </a:ln>
        </p:spPr>
      </p:pic>
      <p:sp>
        <p:nvSpPr>
          <p:cNvPr id="44" name="Текстовое поле 5"/>
          <p:cNvSpPr/>
          <p:nvPr/>
        </p:nvSpPr>
        <p:spPr>
          <a:xfrm>
            <a:off x="3718440" y="3429000"/>
            <a:ext cx="2673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ван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40" descr="C:\Users\Acer\YandexDisk\Скриншоты\2023-11-12_19-55-32.png"/>
          <p:cNvPicPr/>
          <p:nvPr/>
        </p:nvPicPr>
        <p:blipFill>
          <a:blip r:embed="rId3"/>
          <a:stretch/>
        </p:blipFill>
        <p:spPr>
          <a:xfrm>
            <a:off x="6555600" y="76320"/>
            <a:ext cx="2840040" cy="3213360"/>
          </a:xfrm>
          <a:prstGeom prst="rect">
            <a:avLst/>
          </a:prstGeom>
          <a:ln w="9525">
            <a:noFill/>
          </a:ln>
        </p:spPr>
      </p:pic>
      <p:sp>
        <p:nvSpPr>
          <p:cNvPr id="46" name="Текстовое поле 6"/>
          <p:cNvSpPr/>
          <p:nvPr/>
        </p:nvSpPr>
        <p:spPr>
          <a:xfrm>
            <a:off x="6561360" y="3429000"/>
            <a:ext cx="283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силий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9" descr="C:\Users\Acer\YandexDisk\Скриншоты\2023-11-12_19-41-20.png"/>
          <p:cNvPicPr/>
          <p:nvPr/>
        </p:nvPicPr>
        <p:blipFill>
          <a:blip r:embed="rId4"/>
          <a:stretch/>
        </p:blipFill>
        <p:spPr>
          <a:xfrm>
            <a:off x="9562320" y="76320"/>
            <a:ext cx="2726280" cy="3195720"/>
          </a:xfrm>
          <a:prstGeom prst="rect">
            <a:avLst/>
          </a:prstGeom>
          <a:ln w="9525">
            <a:noFill/>
          </a:ln>
        </p:spPr>
      </p:pic>
      <p:sp>
        <p:nvSpPr>
          <p:cNvPr id="48" name="Текстовое поле 7"/>
          <p:cNvSpPr/>
          <p:nvPr/>
        </p:nvSpPr>
        <p:spPr>
          <a:xfrm>
            <a:off x="9485640" y="3429000"/>
            <a:ext cx="269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силий Шуй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0" descr="https://i.pinimg.com/originals/c6/19/cc/c619ccda2202fe7fdf3113712371cc18.png"/>
          <p:cNvPicPr/>
          <p:nvPr/>
        </p:nvPicPr>
        <p:blipFill>
          <a:blip r:embed="rId5"/>
          <a:stretch/>
        </p:blipFill>
        <p:spPr>
          <a:xfrm>
            <a:off x="760680" y="3695760"/>
            <a:ext cx="2245680" cy="2873160"/>
          </a:xfrm>
          <a:prstGeom prst="rect">
            <a:avLst/>
          </a:prstGeom>
          <a:ln w="9525">
            <a:noFill/>
          </a:ln>
        </p:spPr>
      </p:pic>
      <p:sp>
        <p:nvSpPr>
          <p:cNvPr id="50" name="Текстовое поле 8"/>
          <p:cNvSpPr/>
          <p:nvPr/>
        </p:nvSpPr>
        <p:spPr>
          <a:xfrm>
            <a:off x="544680" y="6428160"/>
            <a:ext cx="2577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рис Году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3" descr="https://nastianet.ru/wp-content/uploads/2017/10/482-768x1024.jpg"/>
          <p:cNvPicPr/>
          <p:nvPr/>
        </p:nvPicPr>
        <p:blipFill>
          <a:blip r:embed="rId6"/>
          <a:stretch/>
        </p:blipFill>
        <p:spPr>
          <a:xfrm>
            <a:off x="3402360" y="3797280"/>
            <a:ext cx="1893960" cy="2671560"/>
          </a:xfrm>
          <a:prstGeom prst="rect">
            <a:avLst/>
          </a:prstGeom>
          <a:ln w="9525">
            <a:noFill/>
          </a:ln>
        </p:spPr>
      </p:pic>
      <p:sp>
        <p:nvSpPr>
          <p:cNvPr id="52" name="Текстовое поле 9"/>
          <p:cNvSpPr/>
          <p:nvPr/>
        </p:nvSpPr>
        <p:spPr>
          <a:xfrm>
            <a:off x="3304080" y="6428160"/>
            <a:ext cx="2117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хаил Ром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6" descr="https://enotnavolge.ru/wp-content/uploads/c/7/5/c751b80e38febb0403062417d8294124.jpeg"/>
          <p:cNvPicPr/>
          <p:nvPr/>
        </p:nvPicPr>
        <p:blipFill>
          <a:blip r:embed="rId7"/>
          <a:stretch/>
        </p:blipFill>
        <p:spPr>
          <a:xfrm>
            <a:off x="5692320" y="3797280"/>
            <a:ext cx="2205720" cy="2671560"/>
          </a:xfrm>
          <a:prstGeom prst="rect">
            <a:avLst/>
          </a:prstGeom>
          <a:ln w="9525">
            <a:noFill/>
          </a:ln>
        </p:spPr>
      </p:pic>
      <p:sp>
        <p:nvSpPr>
          <p:cNvPr id="54" name="Текстовое поле 10"/>
          <p:cNvSpPr/>
          <p:nvPr/>
        </p:nvSpPr>
        <p:spPr>
          <a:xfrm>
            <a:off x="5603400" y="6417360"/>
            <a:ext cx="237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екчей Миха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0" descr="https://i.pinimg.com/736x/7b/60/91/7b6091e614440fd2b601d57e046ca514.jpg"/>
          <p:cNvPicPr/>
          <p:nvPr/>
        </p:nvPicPr>
        <p:blipFill>
          <a:blip r:embed="rId8"/>
          <a:stretch/>
        </p:blipFill>
        <p:spPr>
          <a:xfrm>
            <a:off x="8293680" y="3797280"/>
            <a:ext cx="2311200" cy="2760120"/>
          </a:xfrm>
          <a:prstGeom prst="rect">
            <a:avLst/>
          </a:prstGeom>
          <a:ln w="9525">
            <a:noFill/>
          </a:ln>
        </p:spPr>
      </p:pic>
      <p:sp>
        <p:nvSpPr>
          <p:cNvPr id="56" name="Текстовое поле 11"/>
          <p:cNvSpPr/>
          <p:nvPr/>
        </p:nvSpPr>
        <p:spPr>
          <a:xfrm>
            <a:off x="8223120" y="6449760"/>
            <a:ext cx="242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тр Пер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Текстовое поле 99"/>
          <p:cNvSpPr/>
          <p:nvPr/>
        </p:nvSpPr>
        <p:spPr>
          <a:xfrm>
            <a:off x="364320" y="1170360"/>
            <a:ext cx="11386440" cy="537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r>
              <a:rPr b="1" lang="en-US" sz="4000" spc="-1" strike="noStrike">
                <a:solidFill>
                  <a:srgbClr val="ff0000"/>
                </a:solidFill>
                <a:latin typeface="Futurespore Cyrillic"/>
              </a:rPr>
              <a:t>1 группа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изучите пункт 4 учебника и заполните пропуски в таблиц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r>
              <a:rPr b="1" lang="en-US" sz="4000" spc="-1" strike="noStrike">
                <a:solidFill>
                  <a:srgbClr val="ff0000"/>
                </a:solidFill>
                <a:latin typeface="Futurespore Cyrillic"/>
              </a:rPr>
              <a:t>2 группа</a:t>
            </a:r>
            <a:r>
              <a:rPr b="1" lang="ru-RU" sz="4000" spc="-1" strike="noStrike">
                <a:solidFill>
                  <a:srgbClr val="ff0000"/>
                </a:solidFill>
                <a:latin typeface="Futurespore Cyrillic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Изучите пункт 5 учебника и заполните недостающие элементы кластера «Великое посольство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uturespore Cyrillic"/>
              </a:rPr>
              <a:t>3 группа</a:t>
            </a:r>
            <a:r>
              <a:rPr b="1" lang="ru-RU" sz="4000" spc="-1" strike="noStrike">
                <a:solidFill>
                  <a:srgbClr val="ff0000"/>
                </a:solidFill>
                <a:latin typeface="Futurespore Cyrillic"/>
              </a:rPr>
              <a:t>: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ассмотрите репродукцию картины В.И. Сурикова «Утро стрелецкой казни» и выясните, что послужило причиной такой жестокой расправ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Текстовое поле 99"/>
          <p:cNvSpPr/>
          <p:nvPr/>
        </p:nvSpPr>
        <p:spPr>
          <a:xfrm>
            <a:off x="593640" y="444600"/>
            <a:ext cx="5742720" cy="2203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 академик, то ге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 мореплаватель, то плотни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н всеобъемлющей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троне вечный был работни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Текстовое поле 1"/>
          <p:cNvSpPr/>
          <p:nvPr/>
        </p:nvSpPr>
        <p:spPr>
          <a:xfrm>
            <a:off x="4262040" y="5587200"/>
            <a:ext cx="765720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умайте, как бы вы сформулировали тему ур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Текстовое поле 99"/>
          <p:cNvSpPr/>
          <p:nvPr/>
        </p:nvSpPr>
        <p:spPr>
          <a:xfrm>
            <a:off x="593640" y="444600"/>
            <a:ext cx="5742720" cy="2203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 академик, то ге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 мореплаватель, то плотни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н всеобъемлющей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троне вечный был работни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Текстовое поле 1"/>
          <p:cNvSpPr/>
          <p:nvPr/>
        </p:nvSpPr>
        <p:spPr>
          <a:xfrm>
            <a:off x="4262040" y="5587200"/>
            <a:ext cx="765720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умайте, как бы вы сформулировали тему ур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Текстовое поле 2"/>
          <p:cNvSpPr/>
          <p:nvPr/>
        </p:nvSpPr>
        <p:spPr>
          <a:xfrm>
            <a:off x="3048120" y="2742480"/>
            <a:ext cx="60955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0000"/>
                </a:solidFill>
                <a:latin typeface="Futurespore Cyrillic"/>
              </a:rPr>
              <a:t>Начало царствования Петра I, борьба за вл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0" descr="https://i.pinimg.com/736x/7b/60/91/7b6091e614440fd2b601d57e046ca514.jpg"/>
          <p:cNvPicPr/>
          <p:nvPr/>
        </p:nvPicPr>
        <p:blipFill>
          <a:blip r:embed="rId1"/>
          <a:stretch/>
        </p:blipFill>
        <p:spPr>
          <a:xfrm>
            <a:off x="9236880" y="74160"/>
            <a:ext cx="2942280" cy="3515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Текстовое поле 99"/>
          <p:cNvSpPr/>
          <p:nvPr/>
        </p:nvSpPr>
        <p:spPr>
          <a:xfrm>
            <a:off x="593640" y="444600"/>
            <a:ext cx="5742720" cy="2203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 академик, то ге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 мореплаватель, то плотни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н всеобъемлющей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троне вечный был работни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Текстовое поле 1"/>
          <p:cNvSpPr/>
          <p:nvPr/>
        </p:nvSpPr>
        <p:spPr>
          <a:xfrm>
            <a:off x="4262040" y="5587200"/>
            <a:ext cx="765720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умайте, как бы вы сформулировали тему ур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Текстовое поле 2"/>
          <p:cNvSpPr/>
          <p:nvPr/>
        </p:nvSpPr>
        <p:spPr>
          <a:xfrm>
            <a:off x="247680" y="2742480"/>
            <a:ext cx="93405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0000"/>
                </a:solidFill>
                <a:latin typeface="Futurespore Cyrillic"/>
              </a:rPr>
              <a:t>Как события начала царствования Петра </a:t>
            </a:r>
            <a:r>
              <a:rPr b="0" lang="en-US" sz="4400" spc="-1" strike="noStrike">
                <a:solidFill>
                  <a:srgbClr val="ff0000"/>
                </a:solidFill>
                <a:latin typeface="Futurespore Cyrillic"/>
              </a:rPr>
              <a:t>I</a:t>
            </a:r>
            <a:r>
              <a:rPr b="0" lang="ru-RU" sz="4400" spc="-1" strike="noStrike">
                <a:solidFill>
                  <a:srgbClr val="ff0000"/>
                </a:solidFill>
                <a:latin typeface="Futurespore Cyrillic"/>
              </a:rPr>
              <a:t> повлияли на преобразования, которые он осуществлял в дальнейш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0" descr="https://i.pinimg.com/736x/7b/60/91/7b6091e614440fd2b601d57e046ca514.jpg"/>
          <p:cNvPicPr/>
          <p:nvPr/>
        </p:nvPicPr>
        <p:blipFill>
          <a:blip r:embed="rId1"/>
          <a:stretch/>
        </p:blipFill>
        <p:spPr>
          <a:xfrm>
            <a:off x="9236880" y="74160"/>
            <a:ext cx="2942280" cy="3515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Текстовое поле 99"/>
          <p:cNvSpPr/>
          <p:nvPr/>
        </p:nvSpPr>
        <p:spPr>
          <a:xfrm>
            <a:off x="109080" y="241920"/>
            <a:ext cx="11973240" cy="557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.О. Ключевский – ярчайший представитель московской исторической школы – считал, что Петр I не имел ясной программы реформирования страны, поэтому его преобразования были во многом бессистемны, зачастую противоречивы. Сам ход реформ во многом был определен сложным характером Петра – с одной стороны, решимостью, активность, а с другой стороны – жестокостью и равнодушием к человеческим жизням. «Правя государством из походной кибитки и с почтовой станции, он думал только о делах, а не о людях и, уверенный в силе власти, недостаточно взвешивал пассивную мощь массы. Преобразовательная увлекаемость и самоуверенное всевластие — это были две руки Петра, которые не мыли, а сжимали друг друга, парализуя энергию одна другой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.М. Соловьев считал, что реформы Петра были подготовлены предшествующим историческим ходом развития России. «Необходимость движения на новый путь была сознана; обязанности при этом определились: народ поднялся и собрался в дорогу, но кого-то ждали; ждали вождя; вождь явился». С.М. Соловьев считал Петра великим политическим деятелем, который укрепил государственный строй России, усилил её политическ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естный отец русской историографии – Г.Ф. Миллер также приехал в Россию по приглашению Петра I. Будучи европейцем, он положительно оценивал политику Петра, направленную на сближение России с западным миром. Он считал, что благодаря Петру Россия стала великой державой, достигла существенных успехов в экономическом, культурн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Текстовое поле 1"/>
          <p:cNvSpPr/>
          <p:nvPr/>
        </p:nvSpPr>
        <p:spPr>
          <a:xfrm>
            <a:off x="5229360" y="5873040"/>
            <a:ext cx="6373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4400" spc="-1" strike="noStrike">
                <a:solidFill>
                  <a:srgbClr val="ff0000"/>
                </a:solidFill>
                <a:latin typeface="Futurespore Cyrillic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Текстовое поле 99"/>
          <p:cNvSpPr/>
          <p:nvPr/>
        </p:nvSpPr>
        <p:spPr>
          <a:xfrm>
            <a:off x="522720" y="1400760"/>
            <a:ext cx="6533280" cy="252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Детство Пе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Двоецарствие. Царевна Соф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Начало царствования Пе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Азовские по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Великое посо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Текстовое поле 1"/>
          <p:cNvSpPr/>
          <p:nvPr/>
        </p:nvSpPr>
        <p:spPr>
          <a:xfrm>
            <a:off x="522720" y="385920"/>
            <a:ext cx="6598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6000" spc="-1" strike="noStrike">
                <a:solidFill>
                  <a:srgbClr val="ff0000"/>
                </a:solidFill>
                <a:latin typeface="Futurespore Cyrillic"/>
              </a:rPr>
              <a:t>План У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Изображение 2" descr="image-63b34187bc866"/>
          <p:cNvPicPr/>
          <p:nvPr/>
        </p:nvPicPr>
        <p:blipFill>
          <a:blip r:embed="rId1"/>
          <a:stretch/>
        </p:blipFill>
        <p:spPr>
          <a:xfrm>
            <a:off x="7082640" y="0"/>
            <a:ext cx="5108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Текстовое поле 99"/>
          <p:cNvSpPr/>
          <p:nvPr/>
        </p:nvSpPr>
        <p:spPr>
          <a:xfrm>
            <a:off x="336600" y="340920"/>
            <a:ext cx="11538720" cy="621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r>
              <a:rPr b="1" lang="en-US" sz="4800" spc="-1" strike="noStrike">
                <a:solidFill>
                  <a:srgbClr val="ff0000"/>
                </a:solidFill>
                <a:latin typeface="Futurespore Cyrillic"/>
              </a:rPr>
              <a:t>1 группа: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изучить родословное древо Петра l. Подготовить презентацию на доске при помощи раздаточного материа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r>
              <a:rPr b="1" lang="en-US" sz="4800" spc="-1" strike="noStrike">
                <a:solidFill>
                  <a:srgbClr val="ff0000"/>
                </a:solidFill>
                <a:latin typeface="Futurespore Cyrillic"/>
              </a:rPr>
              <a:t>2 группа:</a:t>
            </a:r>
            <a:r>
              <a:rPr b="0" lang="en-US" sz="4800" spc="-1" strike="noStrike">
                <a:solidFill>
                  <a:srgbClr val="ff0000"/>
                </a:solidFill>
                <a:latin typeface="Futurespore Cyrillic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тветить на вопрос «Как изменилась жизнь Петра до и после смерти царя Федора?» (стр.20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uturespore Cyrillic"/>
              </a:rPr>
              <a:t>3 группа: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рассказать о периоде двоецарствия и борьбе за власть. (стр.20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Текстовое поле 99"/>
          <p:cNvSpPr/>
          <p:nvPr/>
        </p:nvSpPr>
        <p:spPr>
          <a:xfrm>
            <a:off x="222840" y="1028880"/>
            <a:ext cx="11745360" cy="5514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Известно тебе, государь, чиню купно же и соизволения твоего прошу о сём, что милостию Божией вручен нам двум особам скипетр правления прародительного нашего Российского царствия … а о третьей особе, что с нами быть в равенственном правлении, отнюдь не вспоминалось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Срамно, государь, при нашем совершенном возрасте тому зазорному лицу государством владеть мимо нас. Тебе же, государю, братцу, объявляю и прошу: позволь, государь, мне отеческим своим позволением для лудшей пользы нашей и для народного успокоения, не обсылаясь к тебе, государю, учинить по приказам правдивых судей, а неприличных переменить, чтоб тем государство успокоить и обрадовать. А я тебя государя братца, яко отца почитать готов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Текстовое поле 1"/>
          <p:cNvSpPr/>
          <p:nvPr/>
        </p:nvSpPr>
        <p:spPr>
          <a:xfrm>
            <a:off x="379080" y="144720"/>
            <a:ext cx="111927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Futurespore Cyrillic"/>
              </a:rPr>
              <a:t>Постарайтесь определить автора письма и адреса пись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Текстовое поле 99"/>
          <p:cNvSpPr/>
          <p:nvPr/>
        </p:nvSpPr>
        <p:spPr>
          <a:xfrm>
            <a:off x="255960" y="351000"/>
            <a:ext cx="11484720" cy="390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Futurespore Cyrillic"/>
              </a:rPr>
              <a:t>лавра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название ряда крупнейших мужских православных монастырей, непосредственно подчиненных патриарх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3775</Words>
  <Paragraphs>7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30T03:09:37Z</dcterms:created>
  <dc:creator/>
  <dc:description/>
  <dc:language>en-US</dc:language>
  <cp:lastModifiedBy>Обществознание</cp:lastModifiedBy>
  <dcterms:modified xsi:type="dcterms:W3CDTF">2024-01-30T08:11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1A596F9D736A4186B25A4798970DC468_12</vt:lpwstr>
  </property>
  <property fmtid="{D5CDD505-2E9C-101B-9397-08002B2CF9AE}" pid="3" name="KSOProductBuildVer">
    <vt:lpwstr>1049-12.2.0.13431</vt:lpwstr>
  </property>
  <property fmtid="{D5CDD505-2E9C-101B-9397-08002B2CF9AE}" pid="4" name="PresentationFormat">
    <vt:lpwstr>宽屏</vt:lpwstr>
  </property>
  <property fmtid="{D5CDD505-2E9C-101B-9397-08002B2CF9AE}" pid="5" name="Slides">
    <vt:r8>10</vt:r8>
  </property>
</Properties>
</file>