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7.gif" ContentType="image/gif"/>
  <Override PartName="/ppt/media/image26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9.png" ContentType="image/png"/>
  <Override PartName="/ppt/media/image28.jpeg" ContentType="image/jpeg"/>
  <Override PartName="/ppt/media/image25.jpeg" ContentType="image/jpeg"/>
  <Override PartName="/ppt/media/image24.jpeg" ContentType="image/jpeg"/>
  <Override PartName="/ppt/media/image2.gif" ContentType="image/gif"/>
  <Override PartName="/ppt/media/image5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2.jpeg" ContentType="image/jpeg"/>
  <Override PartName="/ppt/media/image10.png" ContentType="image/png"/>
  <Override PartName="/ppt/media/image2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8C77-3691-46CD-A75F-E3C88568B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D7AF-D357-45B7-B0FC-5BB073D21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7307-199C-4910-8C26-6050B5436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EDF0-E011-4232-8E07-3ED6BD8D9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7D79-4C3F-4280-8BE1-D1EB940BA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0CC0-26E4-4BFC-8159-DD3460984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0287-764A-47EA-9024-9EC2F1D98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531B-353D-4897-9DF5-460A09A4B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48C1-FAB1-42AA-BD8D-8261196CF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C5E3-030A-4402-BDC1-587F228C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E649-48F2-4EF6-80E0-66A24F4A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CEB2-108B-4741-AC22-762F4E6E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0CB1C-A1A8-4481-8763-7641E1E330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зентация к уроку рисова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вогодний символ- драк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еденко Алла Никола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КОУ «Черкасскопореченская СОШ»Суджан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762120" y="0"/>
            <a:ext cx="10972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b6bcf"/>
                </a:solidFill>
                <a:latin typeface="Arial"/>
              </a:rPr>
              <a:t>Не мешайте рисовать дракона! 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0" y="990360"/>
            <a:ext cx="449568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мешайте! Рисую ДРАК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н стоит на перилах балк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бирается ввысь полете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Не мешайте! Не надо смотреть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н летать ещё не научилс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 боюсь как бы он не разбил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 балконом сейчас нарис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 огромный матрац надув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Кто смеётся опять надо мной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48320" y="914040"/>
            <a:ext cx="403848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глаза у малышки-дракош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удто две разноцветные плош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когтистые лапки вцепили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перекладину. Не оторв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Трудно было мне их рисовать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т он дышит и пламя сверка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все он никого не пуга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-другому не может дыш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чему он стоит на балкон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 мы знаем вообще о дракон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 рисую, как видится м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втра будет гулять по лу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rcRect l="0" t="18644" r="56007" b="0"/>
          <a:stretch/>
        </p:blipFill>
        <p:spPr>
          <a:xfrm>
            <a:off x="380880" y="4495680"/>
            <a:ext cx="3810240" cy="2362320"/>
          </a:xfrm>
          <a:prstGeom prst="rect">
            <a:avLst/>
          </a:prstGeom>
          <a:ln w="0">
            <a:noFill/>
          </a:ln>
        </p:spPr>
      </p:pic>
      <p:sp>
        <p:nvSpPr>
          <p:cNvPr id="76" name="TextBox 8"/>
          <p:cNvSpPr/>
          <p:nvPr/>
        </p:nvSpPr>
        <p:spPr>
          <a:xfrm>
            <a:off x="457200" y="533520"/>
            <a:ext cx="185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Ю. Симбир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b6bcf"/>
                </a:solidFill>
                <a:latin typeface="Arial"/>
              </a:rPr>
              <a:t>НАРИСУЕМ ДРАКО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1" descr="Рисуем дракончика"/>
          <p:cNvPicPr/>
          <p:nvPr/>
        </p:nvPicPr>
        <p:blipFill>
          <a:blip r:embed="rId1"/>
          <a:stretch/>
        </p:blipFill>
        <p:spPr>
          <a:xfrm>
            <a:off x="0" y="914400"/>
            <a:ext cx="4724280" cy="59436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2" descr="Рисуем дракончика"/>
          <p:cNvPicPr/>
          <p:nvPr/>
        </p:nvPicPr>
        <p:blipFill>
          <a:blip r:embed="rId2"/>
          <a:stretch/>
        </p:blipFill>
        <p:spPr>
          <a:xfrm>
            <a:off x="4495680" y="914400"/>
            <a:ext cx="46483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b6bcf"/>
                </a:solidFill>
                <a:latin typeface="Arial"/>
              </a:rPr>
              <a:t>НАРИСУЕМ ДРАКОН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3" descr="Рисуем дракончика"/>
          <p:cNvPicPr/>
          <p:nvPr/>
        </p:nvPicPr>
        <p:blipFill>
          <a:blip r:embed="rId1"/>
          <a:stretch/>
        </p:blipFill>
        <p:spPr>
          <a:xfrm>
            <a:off x="0" y="990720"/>
            <a:ext cx="4581360" cy="586728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5" descr="Рисуем дракончика"/>
          <p:cNvPicPr/>
          <p:nvPr/>
        </p:nvPicPr>
        <p:blipFill>
          <a:blip r:embed="rId2"/>
          <a:stretch/>
        </p:blipFill>
        <p:spPr>
          <a:xfrm>
            <a:off x="4114800" y="1066680"/>
            <a:ext cx="50292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b6bcf"/>
                </a:solidFill>
                <a:latin typeface="Arial"/>
              </a:rPr>
              <a:t>ДРАКОНЧИК  ЙОШ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5" descr="http://hayola.ru/images/image/Risovanie/6/Yoshi/how-to-draw-yoshi-step-1.jpg"/>
          <p:cNvPicPr/>
          <p:nvPr/>
        </p:nvPicPr>
        <p:blipFill>
          <a:blip r:embed="rId1"/>
          <a:stretch/>
        </p:blipFill>
        <p:spPr>
          <a:xfrm>
            <a:off x="0" y="838080"/>
            <a:ext cx="2876400" cy="287676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6" descr="http://hayola.ru/images/image/Risovanie/6/Yoshi/how-to-draw-yoshi-step-2.jpg"/>
          <p:cNvPicPr/>
          <p:nvPr/>
        </p:nvPicPr>
        <p:blipFill>
          <a:blip r:embed="rId2"/>
          <a:stretch/>
        </p:blipFill>
        <p:spPr>
          <a:xfrm>
            <a:off x="2971800" y="838080"/>
            <a:ext cx="3200400" cy="289584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7" descr="http://hayola.ru/images/image/Risovanie/6/Yoshi/how-to-draw-yoshi-step-3.jpg"/>
          <p:cNvPicPr/>
          <p:nvPr/>
        </p:nvPicPr>
        <p:blipFill>
          <a:blip r:embed="rId3"/>
          <a:stretch/>
        </p:blipFill>
        <p:spPr>
          <a:xfrm>
            <a:off x="6267600" y="762120"/>
            <a:ext cx="2876400" cy="287640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8" descr="http://hayola.ru/images/image/Risovanie/6/Yoshi/how-to-draw-yoshi-step-4.jpg"/>
          <p:cNvPicPr/>
          <p:nvPr/>
        </p:nvPicPr>
        <p:blipFill>
          <a:blip r:embed="rId4"/>
          <a:stretch/>
        </p:blipFill>
        <p:spPr>
          <a:xfrm>
            <a:off x="0" y="3581280"/>
            <a:ext cx="2876400" cy="287676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9" descr="http://hayola.ru/images/image/Risovanie/6/Yoshi/how-to-draw-yoshi-step-5.jpg"/>
          <p:cNvPicPr/>
          <p:nvPr/>
        </p:nvPicPr>
        <p:blipFill>
          <a:blip r:embed="rId5"/>
          <a:stretch/>
        </p:blipFill>
        <p:spPr>
          <a:xfrm>
            <a:off x="3124080" y="3657600"/>
            <a:ext cx="2876760" cy="28764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10" descr="http://hayola.ru/images/image/Risovanie/6/Yoshi/how-to-draw-yoshi-step-6.jpg"/>
          <p:cNvPicPr/>
          <p:nvPr/>
        </p:nvPicPr>
        <p:blipFill>
          <a:blip r:embed="rId6"/>
          <a:stretch/>
        </p:blipFill>
        <p:spPr>
          <a:xfrm>
            <a:off x="6267600" y="3657600"/>
            <a:ext cx="287640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b6bcf"/>
                </a:solidFill>
                <a:latin typeface="Arial"/>
              </a:rPr>
              <a:t>ДРАКОНЧИК  ЙОШ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5" descr="http://hayola.ru/images/image/Risovanie/6/Yoshi/how-to-draw-yoshi-step-7.jpg"/>
          <p:cNvPicPr/>
          <p:nvPr/>
        </p:nvPicPr>
        <p:blipFill>
          <a:blip r:embed="rId1"/>
          <a:stretch/>
        </p:blipFill>
        <p:spPr>
          <a:xfrm>
            <a:off x="304920" y="1143000"/>
            <a:ext cx="2876400" cy="287640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6" descr="http://hayola.ru/images/image/Risovanie/6/Yoshi/how-to-draw-yoshi-step-8.jpg"/>
          <p:cNvPicPr/>
          <p:nvPr/>
        </p:nvPicPr>
        <p:blipFill>
          <a:blip r:embed="rId2"/>
          <a:stretch/>
        </p:blipFill>
        <p:spPr>
          <a:xfrm>
            <a:off x="3505320" y="990720"/>
            <a:ext cx="2876400" cy="287640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7" descr="http://hayola.ru/images/image/Risovanie/6/Yoshi/how-to-draw-yoshi-step-9.jpg"/>
          <p:cNvPicPr/>
          <p:nvPr/>
        </p:nvPicPr>
        <p:blipFill>
          <a:blip r:embed="rId3"/>
          <a:stretch/>
        </p:blipFill>
        <p:spPr>
          <a:xfrm>
            <a:off x="6267600" y="914400"/>
            <a:ext cx="2876400" cy="28764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8" descr="http://hayola.ru/images/image/Risovanie/6/Yoshi/how-to-draw-yoshi-step-10.jpg"/>
          <p:cNvPicPr/>
          <p:nvPr/>
        </p:nvPicPr>
        <p:blipFill>
          <a:blip r:embed="rId4"/>
          <a:stretch/>
        </p:blipFill>
        <p:spPr>
          <a:xfrm>
            <a:off x="2743200" y="3981600"/>
            <a:ext cx="287640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b6bcf"/>
                </a:solidFill>
                <a:latin typeface="Arial"/>
              </a:rPr>
              <a:t>ДРАКОНЧИК  ЙОШ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3" descr="http://hayola.ru/images/image/Risovanie/6/Yoshi/how-to-draw-yoshi-tutorial-drawing.jpg"/>
          <p:cNvPicPr/>
          <p:nvPr/>
        </p:nvPicPr>
        <p:blipFill>
          <a:blip r:embed="rId1"/>
          <a:stretch/>
        </p:blipFill>
        <p:spPr>
          <a:xfrm>
            <a:off x="1066680" y="1143000"/>
            <a:ext cx="68580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b6bcf"/>
                </a:solidFill>
                <a:latin typeface="Arial"/>
              </a:rPr>
              <a:t>РИСУЕМ ДРАКОНЧИКО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1" descr="http://www.vseodetyah.com/editorfiles/drakon-2012.jpg"/>
          <p:cNvPicPr/>
          <p:nvPr/>
        </p:nvPicPr>
        <p:blipFill>
          <a:blip r:embed="rId1"/>
          <a:stretch/>
        </p:blipFill>
        <p:spPr>
          <a:xfrm>
            <a:off x="1752480" y="0"/>
            <a:ext cx="5715000" cy="236232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4" descr="Дракоша"/>
          <p:cNvPicPr/>
          <p:nvPr/>
        </p:nvPicPr>
        <p:blipFill>
          <a:blip r:embed="rId2"/>
          <a:stretch/>
        </p:blipFill>
        <p:spPr>
          <a:xfrm>
            <a:off x="0" y="2666880"/>
            <a:ext cx="1371600" cy="152424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4" descr="Дракоша"/>
          <p:cNvPicPr/>
          <p:nvPr/>
        </p:nvPicPr>
        <p:blipFill>
          <a:blip r:embed="rId3"/>
          <a:stretch/>
        </p:blipFill>
        <p:spPr>
          <a:xfrm>
            <a:off x="7924680" y="2590920"/>
            <a:ext cx="1219320" cy="1447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4"/>
          <a:srcRect l="0" t="0" r="47207" b="0"/>
          <a:stretch/>
        </p:blipFill>
        <p:spPr>
          <a:xfrm>
            <a:off x="0" y="4343400"/>
            <a:ext cx="2133720" cy="2514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5"/>
          <a:stretch/>
        </p:blipFill>
        <p:spPr>
          <a:xfrm>
            <a:off x="7010280" y="4343400"/>
            <a:ext cx="2133720" cy="2514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6"/>
          <a:srcRect l="48802" t="0" r="0" b="0"/>
          <a:stretch/>
        </p:blipFill>
        <p:spPr>
          <a:xfrm>
            <a:off x="3429000" y="4343400"/>
            <a:ext cx="24382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0" y="-360"/>
            <a:ext cx="449568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отите открою ужасную тайн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ыть Змеем Горынычем – очень печальн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и дети, ни мышки, ни зайцы, ни птицы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икто не желает со Змеем водиться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 разве несчастный дракон винова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 он трехголов и чуть-чуть страшнова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дети и мышки, и птички и зай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знают, что Змея не нужно боятьс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рюет Горыныч в тоске и печал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этому Змея «Горыныч» прозвали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0" y="-360"/>
            <a:ext cx="7696080" cy="762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рако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собирательное название, объединяющее ряд мифологических и фантастических существ. Слово "дракон" используется в именованиях некоторых реальных видов позвоночных, преимущественно рептилий и ры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 дракона нашёл широкое распространение в фэнтези, а также используется в фэншуй, в гороскопах (год Дракона) и астрономи. Изучение драконов называется драконологи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C:\Users\User\Pictures\Все рисунки\Все рисунки\Мои рисунки\Рисунок48.gif"/>
          <p:cNvPicPr/>
          <p:nvPr/>
        </p:nvPicPr>
        <p:blipFill>
          <a:blip r:embed="rId1"/>
          <a:stretch/>
        </p:blipFill>
        <p:spPr>
          <a:xfrm>
            <a:off x="7095960" y="0"/>
            <a:ext cx="20480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1295640" y="0"/>
            <a:ext cx="83055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b6bcf"/>
                </a:solidFill>
                <a:latin typeface="Arial"/>
              </a:rPr>
              <a:t>Что снится Дракон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218960"/>
            <a:ext cx="40384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сли хочет спать Дракон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 кровать ложится 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кладёт свои макуш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 отдельные подуш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 семи подушках в ря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емь голов драконьих спя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этот час Семигол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идит семь различных снов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нятся ПЕРВОЙ голов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локольчики в трав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ВТОРОЙ – бифштекс отличны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астила и джем клубничны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РЕТЬЯ видит страшный сон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дался Рыцарю Дракон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от ему поставил «мат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третьей партии подря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790960" y="-360"/>
            <a:ext cx="335268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ЧЕТВЁРТАЯ во с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Ходит – бродит по Лу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Не люблю такие сн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жно шлёпнуться с Луны!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ЯТОЙ снится океан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Шхуна, бравый капита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н спокоен и суров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урят трубки семь голов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 застенчивой ШЕСТОЙ 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н приятный и просто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узыкант в концертном за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альс играет на роял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глушительный успех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Вы, маэстро – лучше всех!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л артисту преподнё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емь больших букетов ро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СЕДЬМОЙ, последней, снится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й! Похоже, ей не спится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3124080" y="685800"/>
            <a:ext cx="2667240" cy="3962520"/>
          </a:xfrm>
          <a:prstGeom prst="rect">
            <a:avLst/>
          </a:prstGeom>
          <a:ln w="0">
            <a:noFill/>
          </a:ln>
        </p:spPr>
      </p:pic>
      <p:sp>
        <p:nvSpPr>
          <p:cNvPr id="59" name="TextBox 10"/>
          <p:cNvSpPr/>
          <p:nvPr/>
        </p:nvSpPr>
        <p:spPr>
          <a:xfrm>
            <a:off x="533520" y="685800"/>
            <a:ext cx="18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. Ярышев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b6bcf"/>
                </a:solidFill>
                <a:latin typeface="Arial"/>
              </a:rPr>
              <a:t>ПОРОДЫ ДРАКОН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0" y="1218960"/>
            <a:ext cx="373392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яньлун - Небесный дракон, который охраняет чертоги богов и возит их на колесниц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4038480" y="1371600"/>
            <a:ext cx="4762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b6bcf"/>
                </a:solidFill>
                <a:latin typeface="Arial"/>
              </a:rPr>
              <a:t>ПОРОДЫ ДРАКОН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уцанлун - Дракон скрытого сокровища, который стережёт под землёй драгоценные камни и металлы и волнует землю вулкан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rcRect l="42860" t="0" r="0" b="0"/>
          <a:stretch/>
        </p:blipFill>
        <p:spPr>
          <a:xfrm>
            <a:off x="4419720" y="1447920"/>
            <a:ext cx="41148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b6bcf"/>
                </a:solidFill>
                <a:latin typeface="Arial"/>
              </a:rPr>
              <a:t>ПОРОДЫ ДРАКОН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лун – Водяной дракон, который заведует морями и рек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4381560" y="1295280"/>
            <a:ext cx="4762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b6bcf"/>
                </a:solidFill>
                <a:latin typeface="Arial"/>
              </a:rPr>
              <a:t>ПОРОДЫ ДРАКОН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лун - Божественный дракон, от которого зависят погода, ветер, дождь и который гремит с неба гром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4114800" y="1295280"/>
            <a:ext cx="4572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0T17:39:59Z</dcterms:created>
  <dc:creator>Егорова ЛК</dc:creator>
  <dc:description/>
  <dc:language>en-US</dc:language>
  <cp:lastModifiedBy>User</cp:lastModifiedBy>
  <dcterms:modified xsi:type="dcterms:W3CDTF">2024-01-30T08:11:42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