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7.gif" ContentType="image/gif"/>
  <Override PartName="/ppt/media/image26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28.jpeg" ContentType="image/jpeg"/>
  <Override PartName="/ppt/media/image25.jpeg" ContentType="image/jpeg"/>
  <Override PartName="/ppt/media/image24.jpeg" ContentType="image/jpeg"/>
  <Override PartName="/ppt/media/image2.gif" ContentType="image/gif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10.png" ContentType="image/png"/>
  <Override PartName="/ppt/media/image2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CB3-2D30-4E5C-9EE8-F27B6634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FF39-2F52-450D-8A74-5B735138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922A-8A65-4A95-8E7B-84A1A216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1BCA-9234-495F-8E53-016AF2D2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86DD-9406-49BF-A3D5-81E31936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F2B0-86C0-48B1-BA2B-A90D0607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B7E-38A7-4B7A-B50C-F1A51C07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BC89-5EB2-416E-BDDA-C1FA5E3C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A0C-58FF-455A-A1EC-3BD337A6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E14-F8B7-406B-8D42-B02E496B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354D-5E11-4E34-90C8-8FCDD5AB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853C-678D-4E09-AA07-F777B6C0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5155-2A7E-483F-A791-3D9DF8BB8D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ентация к уроку рисов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огодний символ- др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енко Алла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Черкасскопореченская СОШ»Суджан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762120" y="0"/>
            <a:ext cx="10972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b6bcf"/>
                </a:solidFill>
                <a:latin typeface="Arial"/>
              </a:rPr>
              <a:t>Не мешайте рисовать дракона! 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990360"/>
            <a:ext cx="44956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мешайте! Рисую ДРАК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стоит на перилах балк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ирается ввысь полете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Не мешайте! Не надо смотреть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летать ещё не научил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боюсь как бы он не разб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балконом сейчас нарис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огромный матрац надув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Кто смеётся опять надо мной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глаза у малышки-драко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то две разноцветные плош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когтистые лапки вцепи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ерекладину. Не отор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Трудно было мне их рисова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т он дышит и пламя сверк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все он никого не пуг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-другому не может дыш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 он стоит на балко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мы знаем вообще о драко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рисую, как видится м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тра будет гулять по лу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rcRect l="0" t="18644" r="56007" b="0"/>
          <a:stretch/>
        </p:blipFill>
        <p:spPr>
          <a:xfrm>
            <a:off x="380880" y="4495680"/>
            <a:ext cx="3810240" cy="236232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457200" y="533520"/>
            <a:ext cx="18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. Симби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НАРИСУЕМ ДРАК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1" descr="Рисуем дракончика"/>
          <p:cNvPicPr/>
          <p:nvPr/>
        </p:nvPicPr>
        <p:blipFill>
          <a:blip r:embed="rId1"/>
          <a:stretch/>
        </p:blipFill>
        <p:spPr>
          <a:xfrm>
            <a:off x="0" y="914400"/>
            <a:ext cx="4724280" cy="59436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Рисуем дракончика"/>
          <p:cNvPicPr/>
          <p:nvPr/>
        </p:nvPicPr>
        <p:blipFill>
          <a:blip r:embed="rId2"/>
          <a:stretch/>
        </p:blipFill>
        <p:spPr>
          <a:xfrm>
            <a:off x="4495680" y="914400"/>
            <a:ext cx="46483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НАРИСУЕМ ДРАКОН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Рисуем дракончика"/>
          <p:cNvPicPr/>
          <p:nvPr/>
        </p:nvPicPr>
        <p:blipFill>
          <a:blip r:embed="rId1"/>
          <a:stretch/>
        </p:blipFill>
        <p:spPr>
          <a:xfrm>
            <a:off x="0" y="990720"/>
            <a:ext cx="4581360" cy="58672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Рисуем дракончика"/>
          <p:cNvPicPr/>
          <p:nvPr/>
        </p:nvPicPr>
        <p:blipFill>
          <a:blip r:embed="rId2"/>
          <a:stretch/>
        </p:blipFill>
        <p:spPr>
          <a:xfrm>
            <a:off x="4114800" y="1066680"/>
            <a:ext cx="5029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ДРАКОНЧИК  ЙО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5" descr="http://hayola.ru/images/image/Risovanie/6/Yoshi/how-to-draw-yoshi-step-1.jpg"/>
          <p:cNvPicPr/>
          <p:nvPr/>
        </p:nvPicPr>
        <p:blipFill>
          <a:blip r:embed="rId1"/>
          <a:stretch/>
        </p:blipFill>
        <p:spPr>
          <a:xfrm>
            <a:off x="0" y="838080"/>
            <a:ext cx="2876400" cy="2876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http://hayola.ru/images/image/Risovanie/6/Yoshi/how-to-draw-yoshi-step-2.jpg"/>
          <p:cNvPicPr/>
          <p:nvPr/>
        </p:nvPicPr>
        <p:blipFill>
          <a:blip r:embed="rId2"/>
          <a:stretch/>
        </p:blipFill>
        <p:spPr>
          <a:xfrm>
            <a:off x="2971800" y="838080"/>
            <a:ext cx="3200400" cy="28958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http://hayola.ru/images/image/Risovanie/6/Yoshi/how-to-draw-yoshi-step-3.jpg"/>
          <p:cNvPicPr/>
          <p:nvPr/>
        </p:nvPicPr>
        <p:blipFill>
          <a:blip r:embed="rId3"/>
          <a:stretch/>
        </p:blipFill>
        <p:spPr>
          <a:xfrm>
            <a:off x="6267600" y="762120"/>
            <a:ext cx="2876400" cy="28764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http://hayola.ru/images/image/Risovanie/6/Yoshi/how-to-draw-yoshi-step-4.jpg"/>
          <p:cNvPicPr/>
          <p:nvPr/>
        </p:nvPicPr>
        <p:blipFill>
          <a:blip r:embed="rId4"/>
          <a:stretch/>
        </p:blipFill>
        <p:spPr>
          <a:xfrm>
            <a:off x="0" y="3581280"/>
            <a:ext cx="2876400" cy="28767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9" descr="http://hayola.ru/images/image/Risovanie/6/Yoshi/how-to-draw-yoshi-step-5.jpg"/>
          <p:cNvPicPr/>
          <p:nvPr/>
        </p:nvPicPr>
        <p:blipFill>
          <a:blip r:embed="rId5"/>
          <a:stretch/>
        </p:blipFill>
        <p:spPr>
          <a:xfrm>
            <a:off x="3124080" y="3657600"/>
            <a:ext cx="2876760" cy="2876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0" descr="http://hayola.ru/images/image/Risovanie/6/Yoshi/how-to-draw-yoshi-step-6.jpg"/>
          <p:cNvPicPr/>
          <p:nvPr/>
        </p:nvPicPr>
        <p:blipFill>
          <a:blip r:embed="rId6"/>
          <a:stretch/>
        </p:blipFill>
        <p:spPr>
          <a:xfrm>
            <a:off x="6267600" y="3657600"/>
            <a:ext cx="28764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ДРАКОНЧИК  ЙО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5" descr="http://hayola.ru/images/image/Risovanie/6/Yoshi/how-to-draw-yoshi-step-7.jpg"/>
          <p:cNvPicPr/>
          <p:nvPr/>
        </p:nvPicPr>
        <p:blipFill>
          <a:blip r:embed="rId1"/>
          <a:stretch/>
        </p:blipFill>
        <p:spPr>
          <a:xfrm>
            <a:off x="304920" y="1143000"/>
            <a:ext cx="2876400" cy="28764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http://hayola.ru/images/image/Risovanie/6/Yoshi/how-to-draw-yoshi-step-8.jpg"/>
          <p:cNvPicPr/>
          <p:nvPr/>
        </p:nvPicPr>
        <p:blipFill>
          <a:blip r:embed="rId2"/>
          <a:stretch/>
        </p:blipFill>
        <p:spPr>
          <a:xfrm>
            <a:off x="3505320" y="990720"/>
            <a:ext cx="2876400" cy="28764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" descr="http://hayola.ru/images/image/Risovanie/6/Yoshi/how-to-draw-yoshi-step-9.jpg"/>
          <p:cNvPicPr/>
          <p:nvPr/>
        </p:nvPicPr>
        <p:blipFill>
          <a:blip r:embed="rId3"/>
          <a:stretch/>
        </p:blipFill>
        <p:spPr>
          <a:xfrm>
            <a:off x="6267600" y="914400"/>
            <a:ext cx="2876400" cy="28764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8" descr="http://hayola.ru/images/image/Risovanie/6/Yoshi/how-to-draw-yoshi-step-10.jpg"/>
          <p:cNvPicPr/>
          <p:nvPr/>
        </p:nvPicPr>
        <p:blipFill>
          <a:blip r:embed="rId4"/>
          <a:stretch/>
        </p:blipFill>
        <p:spPr>
          <a:xfrm>
            <a:off x="2743200" y="3981600"/>
            <a:ext cx="28764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ДРАКОНЧИК  ЙОШ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http://hayola.ru/images/image/Risovanie/6/Yoshi/how-to-draw-yoshi-tutorial-drawing.jpg"/>
          <p:cNvPicPr/>
          <p:nvPr/>
        </p:nvPicPr>
        <p:blipFill>
          <a:blip r:embed="rId1"/>
          <a:stretch/>
        </p:blipFill>
        <p:spPr>
          <a:xfrm>
            <a:off x="1066680" y="1143000"/>
            <a:ext cx="68580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b6bcf"/>
                </a:solidFill>
                <a:latin typeface="Arial"/>
              </a:rPr>
              <a:t>РИСУЕМ ДРАКОНЧИК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1" descr="http://www.vseodetyah.com/editorfiles/drakon-2012.jpg"/>
          <p:cNvPicPr/>
          <p:nvPr/>
        </p:nvPicPr>
        <p:blipFill>
          <a:blip r:embed="rId1"/>
          <a:stretch/>
        </p:blipFill>
        <p:spPr>
          <a:xfrm>
            <a:off x="1752480" y="0"/>
            <a:ext cx="571500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Дракоша"/>
          <p:cNvPicPr/>
          <p:nvPr/>
        </p:nvPicPr>
        <p:blipFill>
          <a:blip r:embed="rId2"/>
          <a:stretch/>
        </p:blipFill>
        <p:spPr>
          <a:xfrm>
            <a:off x="0" y="2666880"/>
            <a:ext cx="1371600" cy="15242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Дракоша"/>
          <p:cNvPicPr/>
          <p:nvPr/>
        </p:nvPicPr>
        <p:blipFill>
          <a:blip r:embed="rId3"/>
          <a:stretch/>
        </p:blipFill>
        <p:spPr>
          <a:xfrm>
            <a:off x="7924680" y="2590920"/>
            <a:ext cx="1219320" cy="144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4"/>
          <a:srcRect l="0" t="0" r="47207" b="0"/>
          <a:stretch/>
        </p:blipFill>
        <p:spPr>
          <a:xfrm>
            <a:off x="0" y="4343400"/>
            <a:ext cx="2133720" cy="25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5"/>
          <a:stretch/>
        </p:blipFill>
        <p:spPr>
          <a:xfrm>
            <a:off x="7010280" y="4343400"/>
            <a:ext cx="213372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6"/>
          <a:srcRect l="48802" t="0" r="0" b="0"/>
          <a:stretch/>
        </p:blipFill>
        <p:spPr>
          <a:xfrm>
            <a:off x="3429000" y="434340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-360"/>
            <a:ext cx="44956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тите открою ужасную тайн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ть Змеем Горынычем – очень печаль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 дети, ни мышки, ни зайцы, ни птицы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кто не желает со Змеем водиться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разве несчастный дракон винова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он трехголов и чуть-чуть страшнова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дети и мышки, и птички и зай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знают, что Змея не нужно боять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юет Горыныч в тоске и печа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этому Змея «Горыныч» прозвали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-360"/>
            <a:ext cx="7696080" cy="762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ако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собирательное название, объединяющее ряд мифологических и фантастических существ. Слово "дракон" используется в именованиях некоторых реальных видов позвоночных, преимущественно рептилий и ры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 дракона нашёл широкое распространение в фэнтези, а также используется в фэншуй, в гороскопах (год Дракона) и астрономи. Изучение драконов называется драконолог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C:\Users\User\Pictures\Все рисунки\Все рисунки\Мои рисунки\Рисунок48.gif"/>
          <p:cNvPicPr/>
          <p:nvPr/>
        </p:nvPicPr>
        <p:blipFill>
          <a:blip r:embed="rId1"/>
          <a:stretch/>
        </p:blipFill>
        <p:spPr>
          <a:xfrm>
            <a:off x="7095960" y="0"/>
            <a:ext cx="2048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295640" y="0"/>
            <a:ext cx="83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b6bcf"/>
                </a:solidFill>
                <a:latin typeface="Arial"/>
              </a:rPr>
              <a:t>Что снится Дракон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218960"/>
            <a:ext cx="4038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сли хочет спать Драко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кровать ложится 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кладёт свои макуш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отдельные подуш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семи подушках в ря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ь голов драконьих спя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этот час Семигол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идит семь различных снов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нятся ПЕРВОЙ гол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локольчики в тра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ВТОРОЙ – бифштекс отличны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астила и джем клубничны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ЕТЬЯ видит страшный со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дался Рыцарю Дракон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т ему поставил «ма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ретьей партии подр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790960" y="-360"/>
            <a:ext cx="3352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ЧЕТВЁРТАЯ во с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Ходит – бродит по Лу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Не люблю такие сн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но шлёпнуться с Луны!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ЯТОЙ снится оке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хуна, бравый капит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 спокоен и сур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рят трубки семь голов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 застенчивой ШЕСТОЙ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н приятный и прост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зыкант в концертном за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альс играет на роя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глушительный успех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ы, маэстро – лучше всех!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л артисту преподнё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мь больших букетов ро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 СЕДЬМОЙ, последней, снитс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й! Похоже, ей не спитс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3124080" y="685800"/>
            <a:ext cx="2667240" cy="3962520"/>
          </a:xfrm>
          <a:prstGeom prst="rect">
            <a:avLst/>
          </a:prstGeom>
          <a:ln w="0">
            <a:noFill/>
          </a:ln>
        </p:spPr>
      </p:pic>
      <p:sp>
        <p:nvSpPr>
          <p:cNvPr id="59" name="TextBox 10"/>
          <p:cNvSpPr/>
          <p:nvPr/>
        </p:nvSpPr>
        <p:spPr>
          <a:xfrm>
            <a:off x="533520" y="685800"/>
            <a:ext cx="18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 Ярыше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b6bcf"/>
                </a:solidFill>
                <a:latin typeface="Arial"/>
              </a:rPr>
              <a:t>ПОРОДЫ ДРАКОН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0" y="1218960"/>
            <a:ext cx="37339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яньлун - Небесный дракон, который охраняет чертоги богов и возит их на колесни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038480" y="1371600"/>
            <a:ext cx="4762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ПОРОДЫ ДРАКО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цанлун - Дракон скрытого сокровища, который стережёт под землёй драгоценные камни и металлы и волнует землю вулка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rcRect l="42860" t="0" r="0" b="0"/>
          <a:stretch/>
        </p:blipFill>
        <p:spPr>
          <a:xfrm>
            <a:off x="4419720" y="1447920"/>
            <a:ext cx="41148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ПОРОДЫ ДРАКО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лун – Водяной дракон, который заведует морями и ре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381560" y="1295280"/>
            <a:ext cx="4762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6bcf"/>
                </a:solidFill>
                <a:latin typeface="Arial"/>
              </a:rPr>
              <a:t>ПОРОДЫ ДРАКО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лун - Божественный дракон, от которого зависят погода, ветер, дождь и который гремит с неба гром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4572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7:39:59Z</dcterms:created>
  <dc:creator>Егорова ЛК</dc:creator>
  <dc:description/>
  <dc:language>en-US</dc:language>
  <cp:lastModifiedBy>User</cp:lastModifiedBy>
  <dcterms:modified xsi:type="dcterms:W3CDTF">2024-01-30T08:11:4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