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7D8-4820-4FA8-9091-CBAEAEBBB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3C07-0C34-40BA-8028-C23168CE9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041-5F8A-47A7-939E-CDAB948DF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6A0-115B-4222-AC7A-F08808C17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EFE-3FB3-49E3-808D-B950E677D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43F-C2B1-4298-8D11-D512DBE58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3AF-18C0-4C23-9166-1CB534C4D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B3B-5ADF-412B-BAD0-2DCDB49E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CF3-A1D1-4C7E-BBBF-DD716EC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E07-390C-4826-A481-4826CCBA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201-9DA2-430A-BD6C-53921F82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A0-C13D-4080-938F-B4EFDC8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04B-B3E3-4C82-B64C-76A1183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C1E-7B54-4005-B366-465BEC1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541-C85B-4879-A880-6E086EC5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73D-55D6-45F2-BA7A-B9F1F3D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449-1225-4A20-BF25-84550C3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5EB-9F15-46B5-95C2-5AD7924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150-9D87-47A9-AF57-5DC92D6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98A-50DF-4215-A00A-CFF4384FC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кретное (цифровое) 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ПОУ «Чебаркульский профессиональны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1680" y="507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35640" y="674640"/>
            <a:ext cx="4706640" cy="21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770040" y="3429000"/>
            <a:ext cx="760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формационный объем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692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ем изображения можно определить по следующей формуле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4920" y="4648320"/>
            <a:ext cx="866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нформационный объем из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изонтальное разрешение экрана (точ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тикальное разрешение экрана (точ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ядность кодирования цвета (б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учается в 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2659" t="24738" r="39064" b="53389"/>
          <a:stretch/>
        </p:blipFill>
        <p:spPr>
          <a:xfrm>
            <a:off x="2057400" y="274320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оичное кодирование 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2209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представляет собой звуковую волну с непрерывно меняющейся амплитудой и частотой. Чем больше амплитуда сигнала, тем он громче для человека, чем больше частота сигнала, тем выше 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0001"/>
          <a:stretch/>
        </p:blipFill>
        <p:spPr>
          <a:xfrm>
            <a:off x="1523880" y="396252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1752480" y="3403440"/>
          <a:ext cx="563904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403440"/>
                    <a:ext cx="563904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3"/>
          <p:cNvSpPr/>
          <p:nvPr/>
        </p:nvSpPr>
        <p:spPr>
          <a:xfrm>
            <a:off x="0" y="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ая плата преобразует звук при входе в цифровую информацию путем измерения характеристики звука (период, амплитуда) несколько тысяч раз в секун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звука определяется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ой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ой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752480" y="3403440"/>
          <a:ext cx="563904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403440"/>
                    <a:ext cx="563904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3"/>
          <p:cNvSpPr/>
          <p:nvPr/>
        </p:nvSpPr>
        <p:spPr>
          <a:xfrm>
            <a:off x="0" y="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ая плата преобразует звук при входе в цифровую информацию путем измерения характеристики звука (период, амплитуда) несколько тысяч раз в секун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звука определяется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ой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ой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152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а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количество измерений уровня сигнала в единиц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разрядов, используемое для создания цифрового звука, --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а кодирования или разреш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0" y="278136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5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читывать, что возможны как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моно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стерео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ж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формационный объем звуко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9280" y="1692360"/>
            <a:ext cx="83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ем звукозаписи можно определить по следующей формуле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8000" y="4643280"/>
            <a:ext cx="89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ота дискрет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ремя звуч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кан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убина кодирования звука в битах (разреш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учается в 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2452680" y="2637000"/>
            <a:ext cx="42386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оговый и дискретный способы 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903320" y="4206960"/>
          <a:ext cx="533736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4206960"/>
                    <a:ext cx="533736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0" y="22096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аналого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ении информации величины могут принимать бесконечное множество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дискрет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ении информации величина может принимать конечное множество значений, при этом она изменяется скачк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175248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Дискрет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еобразование аналоговой информации (непрерывных изображений и звука) в набор дискретных значений, каждому из которых присваивается значение его к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оичное кодирование графическ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2209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кодирования изображения производится его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ространственная дискрет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остранственную дискретизацию можно сравнить с построением изображения из мозаики (большого количества маленьких, одинаковых по форме и размеру, разноцветных стек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5943600"/>
            <a:ext cx="92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иксе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элемент изоб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4368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изображение при кодировании представляется совокупностью точек (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икс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аждая из которых окрашена в тот или иной 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38080" y="1644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изображения определяетс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зрешением рисун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литрой цве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65480" y="457200"/>
            <a:ext cx="62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решение изоб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838080" y="44197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з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икселе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зображении по горизонтали и вертик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447920"/>
            <a:ext cx="815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Цветовая пали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убина цвета) определяет количество различных оттенков, которые может принимать отдельная точка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цветов напрямую зависит от числа бит, отводимого для хранения цвета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цвет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ит, для хранения цвета точ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55200" y="304920"/>
            <a:ext cx="463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итр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22659" t="25781" r="57813" b="62765"/>
          <a:stretch/>
        </p:blipFill>
        <p:spPr>
          <a:xfrm>
            <a:off x="3581280" y="3505320"/>
            <a:ext cx="190512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447920"/>
            <a:ext cx="81536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используются следующие пали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цве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8 бит на то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16 бит на то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 Col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24 (32) бита на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 Col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 точки определяется яркостью свечения каждого из трех основных цветов красного, зеленого и синего. Яркость определяется целым числом от 0 (минимальная яркость свечения) до 255 (максимальная яркость свечения). Первый байт — яркость красной составляющей, второй — зеленой, третий — си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55200" y="304920"/>
            <a:ext cx="463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итр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4838760" y="114300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4838760" y="266688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4838760" y="4191120"/>
            <a:ext cx="3695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5:49:05Z</dcterms:created>
  <dc:creator>Маслеников Н. В.</dc:creator>
  <dc:description/>
  <dc:language>en-US</dc:language>
  <cp:lastModifiedBy>Zodiak</cp:lastModifiedBy>
  <dcterms:modified xsi:type="dcterms:W3CDTF">2024-01-30T04:26:55Z</dcterms:modified>
  <cp:revision>18</cp:revision>
  <dc:subject/>
  <dc:title>Дискретное (цифровое) представление информации</dc:title>
</cp:coreProperties>
</file>