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127-28B9-450B-9391-661F717E68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9CDE-95D3-4C39-8D8D-EE025EA6DC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20A8-DCAF-42ED-90D4-5A992F140C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71DC-D5B0-467C-839F-1095331E3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F5A9-C61B-45EA-A497-BC05C9AECD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7368-E846-4DCA-9B09-31C74C5AFC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98E9-62CA-40CC-B510-96093386E8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2E3-56C3-45A3-849E-4AE3F6B9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0706-74BA-4E1A-A64B-400C9F046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211-78FE-47F6-8258-814DEC01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B1A-010E-4A9C-9BF1-F6A5B68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AA9F-4187-4BC1-9F21-86A139D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366-4174-44A6-AC29-E58D5640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446-375A-4767-80CD-4BC38D4F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7EE-0347-4729-A581-1955A95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0FD-7F2E-4F40-B373-0843AF1A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4B6-088E-4F56-8589-47E2685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4D7F-C2CC-4718-AF01-D863E6EA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AC17-2ABC-471A-B416-D92732C7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B47-29B5-4794-838D-AAEAE02D0E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скретное (цифровое) представление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БПОУ «Чебаркульский профессиональный технику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ь инфор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ведова О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1680" y="5076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35640" y="674640"/>
            <a:ext cx="4706640" cy="21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770040" y="3429000"/>
            <a:ext cx="760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формационный объем изобра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533520" y="1692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ем изображения можно определить по следующей формуле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14920" y="4648320"/>
            <a:ext cx="866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  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информационный объем изображ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изонтальное разрешение экрана (точ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ртикальное разрешение экрана (точ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ядность кодирования цвета (б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учается в 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rcRect l="22659" t="24738" r="39064" b="53389"/>
          <a:stretch/>
        </p:blipFill>
        <p:spPr>
          <a:xfrm>
            <a:off x="2057400" y="2743200"/>
            <a:ext cx="3733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оичное кодирование звуков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220968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представляет собой звуковую волну с непрерывно меняющейся амплитудой и частотой. Чем больше амплитуда сигнала, тем он громче для человека, чем больше частота сигнала, тем выше т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rcRect l="0" t="0" r="0" b="40001"/>
          <a:stretch/>
        </p:blipFill>
        <p:spPr>
          <a:xfrm>
            <a:off x="1523880" y="3962520"/>
            <a:ext cx="6096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1752480" y="3403440"/>
          <a:ext cx="563904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403440"/>
                    <a:ext cx="563904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3"/>
          <p:cNvSpPr/>
          <p:nvPr/>
        </p:nvSpPr>
        <p:spPr>
          <a:xfrm>
            <a:off x="0" y="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ая плата преобразует звук при входе в цифровую информацию путем измерения характеристики звука (период, амплитуда) несколько тысяч раз в секун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звука определяется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ой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ой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752480" y="3403440"/>
          <a:ext cx="5639040" cy="34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403440"/>
                    <a:ext cx="5639040" cy="34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3"/>
          <p:cNvSpPr/>
          <p:nvPr/>
        </p:nvSpPr>
        <p:spPr>
          <a:xfrm>
            <a:off x="0" y="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уковая плата преобразует звук при входе в цифровую информацию путем измерения характеристики звука (период, амплитуда) несколько тысяч раз в секун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звука определяется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ой кодир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ой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0" y="1522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Частота дискретиза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количество измерений уровня сигнала в единицу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разрядов, используемое для создания цифрового звука, --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глубина кодирования или разреш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0" y="278136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8136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5"/>
          <p:cNvSpPr/>
          <p:nvPr/>
        </p:nvSpPr>
        <p:spPr>
          <a:xfrm>
            <a:off x="0" y="5607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учитывать, что возможны как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моно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ак и </a:t>
            </a:r>
            <a:r>
              <a:rPr b="0" i="1" lang="ru-RU" sz="2800" spc="-1" strike="noStrike">
                <a:solidFill>
                  <a:srgbClr val="3333cc"/>
                </a:solidFill>
                <a:latin typeface="Arial"/>
              </a:rPr>
              <a:t>стерео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жи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формационный объем звуко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79280" y="1692360"/>
            <a:ext cx="83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ый объем звукозаписи можно определить по следующей формуле: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08000" y="4643280"/>
            <a:ext cx="89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астота дискрет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ремя звуч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личество кан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лубина кодирования звука в битах (разреш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 получается в бай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2452680" y="2637000"/>
            <a:ext cx="42386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налоговый и дискретный способы представлен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1903320" y="4206960"/>
          <a:ext cx="5337360" cy="265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3320" y="4206960"/>
                    <a:ext cx="5337360" cy="26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4"/>
          <p:cNvSpPr/>
          <p:nvPr/>
        </p:nvSpPr>
        <p:spPr>
          <a:xfrm>
            <a:off x="0" y="220968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аналогов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ении информации величины могут принимать бесконечное множество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дискретн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ении информации величина может принимать конечное множество значений, при этом она изменяется скачкообра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66760" y="175248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Arial"/>
              </a:rPr>
              <a:t>Дискретиз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еобразование аналоговой информации (непрерывных изображений и звука) в набор дискретных значений, каждому из которых присваивается значение его к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оичное кодирование графической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0" y="22096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кодирования изображения производится его 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ространственная дискретиз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ространственную дискретизацию можно сравнить с построением изображения из мозаики (большого количества маленьких, одинаковых по форме и размеру, разноцветных стеко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5943600"/>
            <a:ext cx="92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иксел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ьший элемент изобра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0" y="43689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изображение при кодировании представляется совокупностью точек (</a:t>
            </a: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пикс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каждая из которых окрашена в тот или иной ц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38080" y="164448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чество двоичного кодирования изображения определяетс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зрешением рисунк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палитрой цве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365480" y="457200"/>
            <a:ext cx="62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решение изоб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838080" y="44197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Раз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личество пикселе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изображении по горизонтали и вертика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09480" y="1447920"/>
            <a:ext cx="8153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Arial"/>
              </a:rPr>
              <a:t>Цветовая палит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лубина цвета) определяет количество различных оттенков, которые может принимать отдельная точка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цветов напрямую зависит от числа бит, отводимого для хранения цвета од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цвет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бит, для хранения цвета точк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455200" y="304920"/>
            <a:ext cx="463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итр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rcRect l="22659" t="25781" r="57813" b="62765"/>
          <a:stretch/>
        </p:blipFill>
        <p:spPr>
          <a:xfrm>
            <a:off x="3581280" y="3505320"/>
            <a:ext cx="1905120" cy="83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609480" y="1447920"/>
            <a:ext cx="81536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всего используются следующие палит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56 цвет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8 бит на то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gh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16 бит на точ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 Col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24 (32) бита на т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ежим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ue Col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вет точки определяется яркостью свечения каждого из трех основных цветов красного, зеленого и синего. Яркость определяется целым числом от 0 (минимальная яркость свечения) до 255 (максимальная яркость свечения). Первый байт — яркость красной составляющей, второй — зеленой, третий — си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55200" y="304920"/>
            <a:ext cx="463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литра цве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ue 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33520" y="266688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3520" y="419112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4838760" y="114300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4838760" y="2666880"/>
            <a:ext cx="3695760" cy="1495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4838760" y="4191120"/>
            <a:ext cx="36957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55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5:49:05Z</dcterms:created>
  <dc:creator>Маслеников Н. В.</dc:creator>
  <dc:description/>
  <dc:language>en-US</dc:language>
  <cp:lastModifiedBy>Zodiak</cp:lastModifiedBy>
  <dcterms:modified xsi:type="dcterms:W3CDTF">2024-01-30T04:26:55Z</dcterms:modified>
  <cp:revision>18</cp:revision>
  <dc:subject/>
  <dc:title>Дискретное (цифровое) представление информации</dc:title>
</cp:coreProperties>
</file>