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715-FB12-4DC5-BEE7-EA9FED7F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770-E283-4957-90FA-77401D3B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AEE-BC5C-4FA7-BAF6-8483FF9E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C52-AE3B-4020-9312-40D98662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551C-49E2-4032-B288-D4A69F2C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F165-3096-47E9-B985-3E64B6BA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E45A-51EA-4D3F-8A60-77C485EA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5BE8-7900-46BD-8858-1F347911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7355-89C2-4016-AA0F-13ED7437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56DC-DDCD-46E4-BC75-AC4EF0FF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1286-54D9-4FFE-AA21-511FE546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2B3-4E63-4144-B137-36A1076F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B54A-C152-4931-8518-255C3A0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1820-CB5F-49DF-B732-93F30002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E98C-03B2-4E58-9D86-C73D3970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76FB-0D33-4BC9-AEF0-9B034E72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A43B-6D65-45ED-8872-559240C9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C6B49-FCDD-4452-9377-53F61125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8040A-761B-4D4E-92DC-D4B5F807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F146C-6ED0-46EE-9BCA-68E38F03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25744-A2D0-4F49-82B3-DED58A9A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B05AA-EACF-4875-A5A3-7F401686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051-7FF1-4C44-9069-2804E7BA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E7F45-B6AD-4307-B2E8-B30947EC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C805E-C632-45D0-9327-1CA76CF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B3CDC-CE8E-42DA-B905-4A0DAEF2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84124-86D8-4BB9-81FC-85BEA37D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B577C-4172-4EC8-B90D-2378C9A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B171D-D15D-4389-B348-33FAAC2F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B3BE7-AE87-4F82-8B61-611D9C0A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818E-10E8-4655-BDCF-EB451080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B13B-4861-411D-98FF-D2B38599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641F-666E-43E4-A21B-D910620C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482-9DC2-45B4-B902-095613B8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E605-C50E-49C4-82E3-7D5E5B66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8F3D-65C4-4268-A1D1-C9333651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E821A-3D30-40E8-B514-85F4E772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9AAF-799D-49E5-B954-8C35A192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B0B6-D1FA-46E2-9C5F-C19D11E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BBE3-451D-4C6F-8C7B-A76A0C6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A149-5658-4275-8C68-4F0C9765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F0F7-1B50-4E26-839A-D6885AAD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246C-0F80-4086-8457-70D5AE81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D12-B545-49FE-953B-C8917C30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3A6-2A7F-4F91-B4BE-7B5587DF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E75-3BC5-4531-B078-052B52AC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A34-C9B6-4484-98DB-8BCD81A7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DF6-D352-4D49-9A08-1859B8A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546-E8EE-4244-A7A5-2AC289BD600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6BC2-1DF4-4E22-8FFD-EDB05F792621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8332-0033-4066-834B-6718C4E660E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DAB9-B03F-474D-9D51-32880BFA947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716000" y="2492280"/>
            <a:ext cx="33102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242"/>
                </a:solidFill>
                <a:latin typeface="Century Gothic"/>
              </a:rPr>
              <a:t>Информационные технологии в профессиональной деятельности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795240" y="1628640"/>
            <a:ext cx="7272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проведения рас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хранения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документооборота (текст, фото, видео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автоматизации коммуник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организации коллектив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поддержки принятия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938160" y="9345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 П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функциям применени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920880" y="2133720"/>
            <a:ext cx="72723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текстов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таблич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графическ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мультимедий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геоинформацион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управленческие технологии.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031760" y="148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 П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типу обрабатываемых данных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280" y="765000"/>
            <a:ext cx="8533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c600"/>
                </a:solidFill>
                <a:latin typeface="Century Gothic"/>
              </a:rPr>
              <a:t>Эволюция информационных технологий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701640" y="14781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Эта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84360" y="2852640"/>
            <a:ext cx="8064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1-й этап (60 - 70-е гг.) -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работка данных в вычислительных центрах в режиме коллективного пользования. Основным направлением развития информационной технологии являлась автоматизация операционных рутинных действий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2-й этап (с 80-х гг.) -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ние информационных технологий, направленных на решение страте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684360" y="1935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По признаку -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вид задач и процессов обработки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"/>
          <p:cNvSpPr/>
          <p:nvPr/>
        </p:nvSpPr>
        <p:spPr>
          <a:xfrm>
            <a:off x="662040" y="65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Эта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92280" y="1611360"/>
            <a:ext cx="806436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1-й этап (до второй половины XIX в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- "ручная" информационная технология (перо, чернильница, кни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2-й  этап (с  конца XIX в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 - "механическая" технология, (пишущая машинка, телефон, почт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3-й этап (40 - 60-е гг. XX в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- "электрическая" технология, (большие ЭВМ, электрические пишущие машинки, ксероксы, портативные диктофо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4-й этап (с начала 70-х гг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- "электронная" технология, автоматизированные системы управления (АСУ) и информационно-поисковые системы (ИП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5-й этап (с середины 80-х гг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- "компьютерная" ("новая") технология, основным инструментарием которой является персональный компьютер с широким спектром стандартных программных продуктов разн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62040" y="11178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По признаку -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виды инструментария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6200" y="863640"/>
            <a:ext cx="8533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c600"/>
                </a:solidFill>
                <a:latin typeface="Century Gothic"/>
              </a:rPr>
              <a:t>Свойства информационных технологий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73040" y="2243160"/>
            <a:ext cx="81774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позволяют активизировать и эффективно использовать информационные ресурсы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реализуют наиболее важные, интеллектуальные функции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обеспечивают информационное взаимодействие людей, что способствует распространению массов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447840" y="14151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Роль информационных технологий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 быстро возрастает, что объясняется рядом их свойств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539640" y="836640"/>
            <a:ext cx="806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занимают центральное место в процессе интеллектуализации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играют ключевую роль в процессах получения, накопления, распространения новы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позволяют реализовать методы информационного моделирования глобальных процессов (природных ситуаций, экологических катастро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оказывают огромное влияние посредством дис­танционного обучения, компьютерных игр, компьютерных видеофильм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машние задание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TextBox 2"/>
          <p:cNvSpPr/>
          <p:nvPr/>
        </p:nvSpPr>
        <p:spPr>
          <a:xfrm>
            <a:off x="684360" y="246384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дготовить доклад 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«Персоны, внесшие вклад в развитие информационных технолог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Спасибо за внимание!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85988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4c600"/>
                </a:solidFill>
                <a:latin typeface="Century Gothic"/>
              </a:rPr>
              <a:t>Понятие информационных технологий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09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Информационная технология» образован путем сложения терминов «информация» и «технология»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имологически информация происходит от латинского слова «informatio», что означает дословно «сведения, разъяснения, изложение»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обиходе информацией называют любые данные или сведения, которые кого-либо интересуют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пример, сообщение о каких-либо событиях, о чьей-либо деятельности и т.п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ехнике под информацией понимают сообщения, передаваемые в форме знаков или сигнал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85988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4c600"/>
                </a:solidFill>
                <a:latin typeface="Century Gothic"/>
              </a:rPr>
              <a:t>Понятие информационных технологий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10920" y="1412640"/>
            <a:ext cx="8064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474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Технология» (от др.-греч. τέχνη — искусство, мастерство, умение; λόγος — «слово», «мысль», «смысл», «понятие»)  совокупность методов и инструментов для достижения желаемого результат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 началу XX века термин «технология» охватывал совокупность средств, процессов и идей в дополнение к инструментам и машинам. К середине столетия понятие определялось такими фразами как «средства или деятельность, с помощью, которых человек изменяет свою среду обитания и манипулирует ей»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c600"/>
                </a:solidFill>
                <a:latin typeface="Century Gothic"/>
              </a:rPr>
              <a:t>Понятие информационной технологи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92200" y="197568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нформационная технология (ИТ) -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вокупность средств и методов сбора, обработки и передачи данных  для получения информации нового качества о состоянии объекта, процесса или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 информационной технологии -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изводство информации для ее анализа человеком и принятия на его основе решения по выполнению какого-либо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611280" y="83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c600"/>
                </a:solidFill>
                <a:latin typeface="Century Gothic"/>
              </a:rPr>
              <a:t>Типы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503280" y="1610640"/>
            <a:ext cx="80294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Глобальная информационная техн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ключает модели методы и средства, формализующие и позволяющие использовать информационные ресурсы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Базовая информационная техн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дназначена для определенной области применения (производство, научные исследования, обучение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Конкретные информационные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еализуют обработку данных при решении функциональных задач пользователей (например, задачи учета, планирования, анали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568440" y="1129680"/>
            <a:ext cx="8136000" cy="51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Инструментарий информационной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дин или несколько взаимосвязанных программных продуктов для определенного типа компьютера, технология работы в котором позволяет достичь поставленную пользователем ц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качестве инструментария можно использовать следующие распространенные виды программных продуктов для персонального компьюте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текстовый процессор (редактор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астольные издательские систе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лектронные табл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истемы управления базами да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лектронные записные книж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лектронные календа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кспертные систем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692360" y="479736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Organization Chart 13"/>
          <p:cNvGrpSpPr/>
          <p:nvPr/>
        </p:nvGrpSpPr>
        <p:grpSpPr>
          <a:xfrm>
            <a:off x="755640" y="981000"/>
            <a:ext cx="7771320" cy="4529520"/>
            <a:chOff x="755640" y="981000"/>
            <a:chExt cx="7771320" cy="4529520"/>
          </a:xfrm>
        </p:grpSpPr>
        <p:cxnSp>
          <p:nvCxnSpPr>
            <p:cNvPr id="347" name="_s1028"/>
            <p:cNvCxnSpPr>
              <a:stCxn id="348" idx="0"/>
              <a:endCxn id="349" idx="2"/>
            </p:cNvCxnSpPr>
            <p:nvPr/>
          </p:nvCxnSpPr>
          <p:spPr>
            <a:xfrm flipV="1" rot="16200000">
              <a:off x="5233680" y="2198880"/>
              <a:ext cx="906480" cy="209340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1029"/>
            <p:cNvCxnSpPr>
              <a:stCxn id="351" idx="0"/>
              <a:endCxn id="349" idx="2"/>
            </p:cNvCxnSpPr>
            <p:nvPr/>
          </p:nvCxnSpPr>
          <p:spPr>
            <a:xfrm flipH="1" flipV="1" rot="5400000">
              <a:off x="3141360" y="2199600"/>
              <a:ext cx="906480" cy="209196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9" name="_s1030"/>
            <p:cNvSpPr/>
            <p:nvPr/>
          </p:nvSpPr>
          <p:spPr>
            <a:xfrm>
              <a:off x="2847240" y="981000"/>
              <a:ext cx="3586680" cy="181188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рограммны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редства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031"/>
            <p:cNvSpPr/>
            <p:nvPr/>
          </p:nvSpPr>
          <p:spPr>
            <a:xfrm>
              <a:off x="755640" y="3698640"/>
              <a:ext cx="3586680" cy="181188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Общее ПО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032"/>
            <p:cNvSpPr/>
            <p:nvPr/>
          </p:nvSpPr>
          <p:spPr>
            <a:xfrm>
              <a:off x="4940280" y="3698640"/>
              <a:ext cx="3586680" cy="181188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рикладное ПО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993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4c600"/>
                </a:solidFill>
                <a:latin typeface="Century Gothic"/>
              </a:rPr>
              <a:t>Классификация программного обеспечения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590400" y="1853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щее 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871560" y="2781360"/>
            <a:ext cx="76309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Операционная система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(О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Системы программирования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Программы технического обслуживани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611280" y="86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кладное 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2852640"/>
            <a:ext cx="72723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редметные приложения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едставляют собой типовые пакеты программ решения конкретных задач, подсистем экономических информационных систем, функциональных информационных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рикладные приложения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являются информационными технологиями общего назначения и имеют общий, универсальный харак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826920" y="17982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 П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применению 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предметн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9:49:28Z</dcterms:created>
  <dc:creator>Admin</dc:creator>
  <dc:description/>
  <dc:language>en-US</dc:language>
  <cp:lastModifiedBy>user</cp:lastModifiedBy>
  <dcterms:modified xsi:type="dcterms:W3CDTF">2024-01-30T06:38:30Z</dcterms:modified>
  <cp:revision>45</cp:revision>
  <dc:subject/>
  <dc:title>Урок № 1</dc:title>
</cp:coreProperties>
</file>