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48FA-CEDC-45B0-AFD8-711100551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B159-DDD9-4DAF-8CA6-B06CC151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CC98-4870-45C8-9902-1EE362B2A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9944-2FEB-4451-9289-1942D98AD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ED1A5-8120-44CD-A209-D58F7A7F8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55F63-94D2-49CE-AF63-4F20425A3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6A3E-E782-4B2B-B903-3F76D503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AD79-395E-42DA-8F94-421A31C8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28357-2D8E-455B-AA9E-DFBC1E6D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476D-5C8B-4CE8-908A-880F97A8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77A2-908A-4824-932D-4B630148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9109-D003-4AC8-A5E8-519592448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8B58-7C0D-4033-9447-780628FD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E270-C98C-45FC-B364-CC02BDFF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04A2-F158-4D8D-BF23-CB516CA7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DCCAD-ACD1-4437-AD4C-CB25CDB42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3444-5467-473B-9DD7-879B80C9C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FFDE72-A991-4877-9B96-F5A8B1B47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661C14-9EC4-49BF-B179-AB7577D8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408CE9-50CB-4D41-BDDD-23225C5E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970C39-D1C3-48E5-A71E-B4DC130F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2ED71F-E677-4F08-B50C-B9BD6141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1B3E-B849-4AD1-8A54-C80C0F85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16F34B-B663-4A67-B109-76DA67AC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80F6A6-995A-41CD-9BCA-823A0596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E5DF99-B1F4-43FA-8259-FE30DAF7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1D7B64-3822-43CD-A28D-3682C44F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B00A67-165A-4328-BF80-C8678472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F05625-E340-4DA4-AC29-F1DB39805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97068E-B08F-4B3B-859B-1C05D486E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C75A5-5CAD-4F6F-9E8F-D28EB8EC4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9A413-5CAB-4C04-B2AF-4A76F228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B8EE6-49D3-4B04-923F-07FD1022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0EB5-D511-4672-AAE8-27706691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4E1CA-FEC0-4675-AEE9-F5CA29C0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003EC-0037-4780-8FC6-1A0C2BCB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6EFF2-2114-4744-B9C2-A10C2F4B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3C3DC-1B41-4BCF-A1AD-9B2B2096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9B8EF-7E7E-4D81-A332-DC1DDA6F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4C708-73CA-42E4-B490-FC821F01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7E4DF-404C-4C4F-BDF1-E1217DB0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A79F4-4C3C-42ED-9A36-FD3905259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1EE6D-780C-4D79-BA49-818F11ABD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8990-628D-4326-817E-5C1D0077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FE8E-B767-4794-96DE-28E1C65F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BF2E-D806-4B63-B85B-BE37FEC5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C7E9-F2B0-4BD9-8BD4-E7243884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0525-EAB1-41A7-99FF-087D9F30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E63E-F11B-40EE-A0CD-A08048749511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43FE-422B-4F82-AD18-E615FE6AA4BE}" type="slidenum">
              <a:rPr b="0" lang="ru-RU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5764-423A-4172-875F-02B76BA098AD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9D44-42CA-45CB-BCEA-F66FFB029848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716000" y="2492280"/>
            <a:ext cx="33102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242"/>
                </a:solidFill>
                <a:latin typeface="Century Gothic"/>
              </a:rPr>
              <a:t>Информационные технологии в профессиональной деятельности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4"/>
          <p:cNvSpPr/>
          <p:nvPr/>
        </p:nvSpPr>
        <p:spPr>
          <a:xfrm>
            <a:off x="795240" y="1628640"/>
            <a:ext cx="727236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370080" indent="-370080">
              <a:lnSpc>
                <a:spcPct val="100000"/>
              </a:lnSpc>
              <a:spcBef>
                <a:spcPts val="601"/>
              </a:spcBef>
              <a:buClr>
                <a:srgbClr val="ffa94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Для проведения расч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0080" indent="-370080">
              <a:lnSpc>
                <a:spcPct val="100000"/>
              </a:lnSpc>
              <a:spcBef>
                <a:spcPts val="601"/>
              </a:spcBef>
              <a:buClr>
                <a:srgbClr val="ffa94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Для хранения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0080" indent="-370080">
              <a:lnSpc>
                <a:spcPct val="100000"/>
              </a:lnSpc>
              <a:spcBef>
                <a:spcPts val="601"/>
              </a:spcBef>
              <a:buClr>
                <a:srgbClr val="ffa94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Для документооборота (текст, фото, видео и т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0080" indent="-370080">
              <a:lnSpc>
                <a:spcPct val="100000"/>
              </a:lnSpc>
              <a:spcBef>
                <a:spcPts val="601"/>
              </a:spcBef>
              <a:buClr>
                <a:srgbClr val="ffa94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Для автоматизации коммуник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0080" indent="-370080">
              <a:lnSpc>
                <a:spcPct val="100000"/>
              </a:lnSpc>
              <a:spcBef>
                <a:spcPts val="601"/>
              </a:spcBef>
              <a:buClr>
                <a:srgbClr val="ffa94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Для организации коллективно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0080" indent="-370080">
              <a:lnSpc>
                <a:spcPct val="100000"/>
              </a:lnSpc>
              <a:spcBef>
                <a:spcPts val="601"/>
              </a:spcBef>
              <a:buClr>
                <a:srgbClr val="ffa94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Для поддержки принятия 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938160" y="93456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2. По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entury Gothic"/>
              </a:rPr>
              <a:t>функциям применения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"/>
          <p:cNvSpPr/>
          <p:nvPr/>
        </p:nvSpPr>
        <p:spPr>
          <a:xfrm>
            <a:off x="920880" y="2133720"/>
            <a:ext cx="7272360" cy="29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a94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Gothic"/>
              </a:rPr>
              <a:t>текстовы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a94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Gothic"/>
              </a:rPr>
              <a:t>табличны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a94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Gothic"/>
              </a:rPr>
              <a:t>графическ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a94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Gothic"/>
              </a:rPr>
              <a:t>мультимедийны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a94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Gothic"/>
              </a:rPr>
              <a:t>геоинформационны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a94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Gothic"/>
              </a:rPr>
              <a:t>управленческие технологии.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1031760" y="148536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3. По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entury Gothic"/>
              </a:rPr>
              <a:t>типу обрабатываемых данных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31280" y="765000"/>
            <a:ext cx="8533080" cy="5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4c600"/>
                </a:solidFill>
                <a:latin typeface="Century Gothic"/>
              </a:rPr>
              <a:t>Эволюция информационных технологий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701640" y="14781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Эта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684360" y="2852640"/>
            <a:ext cx="80643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a94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entury Gothic"/>
              </a:rPr>
              <a:t>1-й этап (60 - 70-е гг.) -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обработка данных в вычислительных центрах в режиме коллективного пользования. Основным направлением развития информационной технологии являлась автоматизация операционных рутинных действий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a94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entury Gothic"/>
              </a:rPr>
              <a:t>2-й этап (с 80-х гг.) -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оздание информационных технологий, направленных на решение стратегических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684360" y="19350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Gothic"/>
              </a:rPr>
              <a:t>По признаку - </a:t>
            </a:r>
            <a:r>
              <a:rPr b="0" i="1" lang="ru-RU" sz="2400" spc="-1" strike="noStrike">
                <a:solidFill>
                  <a:srgbClr val="000000"/>
                </a:solidFill>
                <a:latin typeface="Century Gothic"/>
              </a:rPr>
              <a:t>вид задач и процессов обработки информации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3"/>
          <p:cNvSpPr/>
          <p:nvPr/>
        </p:nvSpPr>
        <p:spPr>
          <a:xfrm>
            <a:off x="662040" y="656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Эта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692280" y="1611360"/>
            <a:ext cx="8064360" cy="48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ffa94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entury Gothic"/>
              </a:rPr>
              <a:t>1-й этап (до второй половины XIX в.)</a:t>
            </a:r>
            <a:r>
              <a:rPr b="0" i="1" lang="ru-RU" sz="2000" spc="-1" strike="noStrike">
                <a:solidFill>
                  <a:srgbClr val="000000"/>
                </a:solidFill>
                <a:latin typeface="Century Gothic"/>
              </a:rPr>
              <a:t> - "ручная" информационная технология (перо, чернильница, книг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ffa94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entury Gothic"/>
              </a:rPr>
              <a:t>2-й  этап (с  конца XIX в.)</a:t>
            </a:r>
            <a:r>
              <a:rPr b="0" i="1" lang="ru-RU" sz="2000" spc="-1" strike="noStrike">
                <a:solidFill>
                  <a:srgbClr val="000000"/>
                </a:solidFill>
                <a:latin typeface="Century Gothic"/>
              </a:rPr>
              <a:t>  - "механическая" технология, (пишущая машинка, телефон, почт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ffa94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entury Gothic"/>
              </a:rPr>
              <a:t>3-й этап (40 - 60-е гг. XX в.)</a:t>
            </a:r>
            <a:r>
              <a:rPr b="0" i="1" lang="ru-RU" sz="2000" spc="-1" strike="noStrike">
                <a:solidFill>
                  <a:srgbClr val="000000"/>
                </a:solidFill>
                <a:latin typeface="Century Gothic"/>
              </a:rPr>
              <a:t> - "электрическая" технология, (большие ЭВМ, электрические пишущие машинки, ксероксы, портативные диктофон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ffa94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entury Gothic"/>
              </a:rPr>
              <a:t>4-й этап (с начала 70-х гг.)</a:t>
            </a:r>
            <a:r>
              <a:rPr b="0" i="1" lang="ru-RU" sz="2000" spc="-1" strike="noStrike">
                <a:solidFill>
                  <a:srgbClr val="000000"/>
                </a:solidFill>
                <a:latin typeface="Century Gothic"/>
              </a:rPr>
              <a:t> - "электронная" технология, автоматизированные системы управления (АСУ) и информационно-поисковые системы (ИП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ffa94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entury Gothic"/>
              </a:rPr>
              <a:t>5-й этап (с середины 80-х гг.)</a:t>
            </a:r>
            <a:r>
              <a:rPr b="0" i="1" lang="ru-RU" sz="2000" spc="-1" strike="noStrike">
                <a:solidFill>
                  <a:srgbClr val="000000"/>
                </a:solidFill>
                <a:latin typeface="Century Gothic"/>
              </a:rPr>
              <a:t> - "компьютерная" ("новая") технология, основным инструментарием которой является персональный компьютер с широким спектром стандартных программных продуктов разного назнач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662040" y="111780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Gothic"/>
              </a:rPr>
              <a:t>По признаку - </a:t>
            </a:r>
            <a:r>
              <a:rPr b="0" i="1" lang="ru-RU" sz="2400" spc="-1" strike="noStrike">
                <a:solidFill>
                  <a:srgbClr val="000000"/>
                </a:solidFill>
                <a:latin typeface="Century Gothic"/>
              </a:rPr>
              <a:t>виды инструментария технологии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6200" y="863640"/>
            <a:ext cx="8533080" cy="5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4c600"/>
                </a:solidFill>
                <a:latin typeface="Century Gothic"/>
              </a:rPr>
              <a:t>Свойства информационных технологий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473040" y="2243160"/>
            <a:ext cx="8177400" cy="39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a94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ИТ позволяют активизировать и эффективно использовать информационные ресурсы обще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a94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ИТ реализуют наиболее важные, интеллектуальные функции социальных процес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a94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ИТ обеспечивают информационное взаимодействие людей, что способствует распространению массовой информ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447840" y="14151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entury Gothic"/>
              </a:rPr>
              <a:t>Роль информационных технологий</a:t>
            </a:r>
            <a:r>
              <a:rPr b="1" i="1" lang="ru-RU" sz="2400" spc="-1" strike="noStrike">
                <a:solidFill>
                  <a:srgbClr val="000000"/>
                </a:solidFill>
                <a:latin typeface="Century Gothic"/>
              </a:rPr>
              <a:t> быстро возрастает, что объясняется рядом их свойств: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4"/>
          <p:cNvSpPr/>
          <p:nvPr/>
        </p:nvSpPr>
        <p:spPr>
          <a:xfrm>
            <a:off x="539640" y="836640"/>
            <a:ext cx="806472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a94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ИТ занимают центральное место в процессе интеллектуализации обще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a94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ИТ играют ключевую роль в процессах получения, накопления, распространения новых зна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a94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ИТ позволяют реализовать методы информационного моделирования глобальных процессов (природных ситуаций, экологических катастроф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a94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ИТ оказывают огромное влияние посредством дис­танционного обучения, компьютерных игр, компьютерных видеофильмов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Домашние задание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4" name="TextBox 2"/>
          <p:cNvSpPr/>
          <p:nvPr/>
        </p:nvSpPr>
        <p:spPr>
          <a:xfrm>
            <a:off x="684360" y="2463840"/>
            <a:ext cx="777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Подготовить доклад на тему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«Персоны, внесшие вклад в развитие информационных технологи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71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Спасибо за внимание!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99640" y="620280"/>
            <a:ext cx="785988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94c600"/>
                </a:solidFill>
                <a:latin typeface="Century Gothic"/>
              </a:rPr>
              <a:t>Понятие информационных технологий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610920" y="1267920"/>
            <a:ext cx="8064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indent="474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Термин «Информационная технология» образован путем сложения терминов «информация» и «технология»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indent="474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Этимологически информация происходит от латинского слова «informatio», что означает дословно «сведения, разъяснения, изложение»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indent="474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 обиходе информацией называют любые данные или сведения, которые кого-либо интересуют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indent="474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апример, сообщение о каких-либо событиях, о чьей-либо деятельности и т.п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indent="474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 технике под информацией понимают сообщения, передаваемые в форме знаков или сигналов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99640" y="620280"/>
            <a:ext cx="785988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94c600"/>
                </a:solidFill>
                <a:latin typeface="Century Gothic"/>
              </a:rPr>
              <a:t>Понятие информационных технологий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10920" y="1412640"/>
            <a:ext cx="80643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indent="474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Термин «Технология» (от др.-греч. τέχνη — искусство, мастерство, умение; λόγος — «слово», «мысль», «смысл», «понятие»)  совокупность методов и инструментов для достижения желаемого результата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indent="474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 началу XX века термин «технология» охватывал совокупность средств, процессов и идей в дополнение к инструментам и машинам. К середине столетия понятие определялось такими фразами как «средства или деятельность, с помощью, которых человек изменяет свою среду обитания и манипулирует ей»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4000" y="836280"/>
            <a:ext cx="8001000" cy="5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4c600"/>
                </a:solidFill>
                <a:latin typeface="Century Gothic"/>
              </a:rPr>
              <a:t>Понятие информационной технологии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592200" y="1975680"/>
            <a:ext cx="7848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Информационная технология (ИТ) -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овокупность средств и методов сбора, обработки и передачи данных  для получения информации нового качества о состоянии объекта, процесса или я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Цель информационной технологии -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роизводство информации для ее анализа человеком и принятия на его основе решения по выполнению какого-либо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3"/>
          <p:cNvSpPr/>
          <p:nvPr/>
        </p:nvSpPr>
        <p:spPr>
          <a:xfrm>
            <a:off x="611280" y="8308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4c600"/>
                </a:solidFill>
                <a:latin typeface="Century Gothic"/>
              </a:rPr>
              <a:t>Типы информационных технолог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503280" y="1610640"/>
            <a:ext cx="8029440" cy="448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Gothic"/>
              </a:rPr>
              <a:t>Глобальная информационная технология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ключает модели методы и средства, формализующие и позволяющие использовать информационные ресурсы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Gothic"/>
              </a:rPr>
              <a:t>Базовая информационная технология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редназначена для определенной области применения (производство, научные исследования, обучение и т.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Gothic"/>
              </a:rPr>
              <a:t>Конкретные информационные технологии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реализуют обработку данных при решении функциональных задач пользователей (например, задачи учета, планирования, анализ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3"/>
          <p:cNvSpPr/>
          <p:nvPr/>
        </p:nvSpPr>
        <p:spPr>
          <a:xfrm>
            <a:off x="568440" y="1129680"/>
            <a:ext cx="8136000" cy="51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Gothic"/>
              </a:rPr>
              <a:t>Инструментарий информационной технологии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один или несколько взаимосвязанных программных продуктов для определенного типа компьютера, технология работы в котором позволяет достичь поставленную пользователем це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В качестве инструментария можно использовать следующие распространенные виды программных продуктов для персонального компьютер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542880">
              <a:lnSpc>
                <a:spcPct val="80000"/>
              </a:lnSpc>
              <a:spcBef>
                <a:spcPts val="499"/>
              </a:spcBef>
              <a:buClr>
                <a:srgbClr val="ffa94a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текстовый процессор (редактор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542880">
              <a:lnSpc>
                <a:spcPct val="80000"/>
              </a:lnSpc>
              <a:spcBef>
                <a:spcPts val="499"/>
              </a:spcBef>
              <a:buClr>
                <a:srgbClr val="ffa94a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настольные издательские систем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542880">
              <a:lnSpc>
                <a:spcPct val="80000"/>
              </a:lnSpc>
              <a:spcBef>
                <a:spcPts val="499"/>
              </a:spcBef>
              <a:buClr>
                <a:srgbClr val="ffa94a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электронные таблиц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542880">
              <a:lnSpc>
                <a:spcPct val="80000"/>
              </a:lnSpc>
              <a:spcBef>
                <a:spcPts val="499"/>
              </a:spcBef>
              <a:buClr>
                <a:srgbClr val="ffa94a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системы управления базами данны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542880">
              <a:lnSpc>
                <a:spcPct val="80000"/>
              </a:lnSpc>
              <a:spcBef>
                <a:spcPts val="499"/>
              </a:spcBef>
              <a:buClr>
                <a:srgbClr val="ffa94a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электронные записные книж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542880">
              <a:lnSpc>
                <a:spcPct val="80000"/>
              </a:lnSpc>
              <a:spcBef>
                <a:spcPts val="499"/>
              </a:spcBef>
              <a:buClr>
                <a:srgbClr val="ffa94a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электронные календа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542880">
              <a:lnSpc>
                <a:spcPct val="80000"/>
              </a:lnSpc>
              <a:spcBef>
                <a:spcPts val="499"/>
              </a:spcBef>
              <a:buClr>
                <a:srgbClr val="ffa94a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экспертные системы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1692360" y="4797360"/>
            <a:ext cx="417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Organization Chart 13"/>
          <p:cNvGrpSpPr/>
          <p:nvPr/>
        </p:nvGrpSpPr>
        <p:grpSpPr>
          <a:xfrm>
            <a:off x="755640" y="981000"/>
            <a:ext cx="7771320" cy="4529520"/>
            <a:chOff x="755640" y="981000"/>
            <a:chExt cx="7771320" cy="4529520"/>
          </a:xfrm>
        </p:grpSpPr>
        <p:cxnSp>
          <p:nvCxnSpPr>
            <p:cNvPr id="347" name="_s1028"/>
            <p:cNvCxnSpPr>
              <a:stCxn id="348" idx="0"/>
              <a:endCxn id="349" idx="2"/>
            </p:cNvCxnSpPr>
            <p:nvPr/>
          </p:nvCxnSpPr>
          <p:spPr>
            <a:xfrm flipV="1" rot="16200000">
              <a:off x="5233680" y="2198880"/>
              <a:ext cx="906480" cy="2093400"/>
            </a:xfrm>
            <a:prstGeom prst="bentConnector3">
              <a:avLst>
                <a:gd name="adj1" fmla="val 125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50" name="_s1029"/>
            <p:cNvCxnSpPr>
              <a:stCxn id="351" idx="0"/>
              <a:endCxn id="349" idx="2"/>
            </p:cNvCxnSpPr>
            <p:nvPr/>
          </p:nvCxnSpPr>
          <p:spPr>
            <a:xfrm flipH="1" flipV="1" rot="5400000">
              <a:off x="3141360" y="2199600"/>
              <a:ext cx="906480" cy="2091960"/>
            </a:xfrm>
            <a:prstGeom prst="bentConnector3">
              <a:avLst>
                <a:gd name="adj1" fmla="val 125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49" name="_s1030"/>
            <p:cNvSpPr/>
            <p:nvPr/>
          </p:nvSpPr>
          <p:spPr>
            <a:xfrm>
              <a:off x="2847240" y="981000"/>
              <a:ext cx="3586680" cy="1811880"/>
            </a:xfrm>
            <a:prstGeom prst="roundRect">
              <a:avLst>
                <a:gd name="adj" fmla="val 16667"/>
              </a:avLst>
            </a:prstGeom>
            <a:solidFill>
              <a:srgbClr val="94c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Программные 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средства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031"/>
            <p:cNvSpPr/>
            <p:nvPr/>
          </p:nvSpPr>
          <p:spPr>
            <a:xfrm>
              <a:off x="755640" y="3698640"/>
              <a:ext cx="3586680" cy="1811880"/>
            </a:xfrm>
            <a:prstGeom prst="roundRect">
              <a:avLst>
                <a:gd name="adj" fmla="val 16667"/>
              </a:avLst>
            </a:prstGeom>
            <a:solidFill>
              <a:srgbClr val="94c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Общее ПО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032"/>
            <p:cNvSpPr/>
            <p:nvPr/>
          </p:nvSpPr>
          <p:spPr>
            <a:xfrm>
              <a:off x="4940280" y="3698640"/>
              <a:ext cx="3586680" cy="1811880"/>
            </a:xfrm>
            <a:prstGeom prst="roundRect">
              <a:avLst>
                <a:gd name="adj" fmla="val 16667"/>
              </a:avLst>
            </a:prstGeom>
            <a:solidFill>
              <a:srgbClr val="94c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Прикладное ПО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0920" y="765000"/>
            <a:ext cx="7993080" cy="5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94c600"/>
                </a:solidFill>
                <a:latin typeface="Century Gothic"/>
              </a:rPr>
              <a:t>Классификация программного обеспечения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3" name="Rectangle 15"/>
          <p:cNvSpPr/>
          <p:nvPr/>
        </p:nvSpPr>
        <p:spPr>
          <a:xfrm>
            <a:off x="590400" y="1853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Общее программное обесп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6"/>
          <p:cNvSpPr/>
          <p:nvPr/>
        </p:nvSpPr>
        <p:spPr>
          <a:xfrm>
            <a:off x="871560" y="2781360"/>
            <a:ext cx="763092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a94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entury Gothic"/>
              </a:rPr>
              <a:t>Операционная система</a:t>
            </a:r>
            <a:r>
              <a:rPr b="1" i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(ОС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a94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entury Gothic"/>
              </a:rPr>
              <a:t>Системы программирования</a:t>
            </a:r>
            <a:r>
              <a:rPr b="1" i="1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a94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entury Gothic"/>
              </a:rPr>
              <a:t>Программы технического обслуживания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3"/>
          <p:cNvSpPr/>
          <p:nvPr/>
        </p:nvSpPr>
        <p:spPr>
          <a:xfrm>
            <a:off x="611280" y="8614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рикладное программное обесп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971640" y="2852640"/>
            <a:ext cx="7272360" cy="30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a94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entury Gothic"/>
              </a:rPr>
              <a:t>Предметные приложения</a:t>
            </a:r>
            <a:r>
              <a:rPr b="1" i="1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редставляют собой типовые пакеты программ решения конкретных задач, подсистем экономических информационных систем, функциональных информационных сист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a94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entury Gothic"/>
              </a:rPr>
              <a:t>Прикладные приложения</a:t>
            </a:r>
            <a:r>
              <a:rPr b="1" i="1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являются информационными технологиями общего назначения и имеют общий, универсальный характе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826920" y="179820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1. По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entury Gothic"/>
              </a:rPr>
              <a:t>применению в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entury Gothic"/>
              </a:rPr>
              <a:t>предметной области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9:49:28Z</dcterms:created>
  <dc:creator>Admin</dc:creator>
  <dc:description/>
  <dc:language>en-US</dc:language>
  <cp:lastModifiedBy>user</cp:lastModifiedBy>
  <dcterms:modified xsi:type="dcterms:W3CDTF">2024-01-30T06:38:30Z</dcterms:modified>
  <cp:revision>45</cp:revision>
  <dc:subject/>
  <dc:title>Урок № 1</dc:title>
</cp:coreProperties>
</file>