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E69-50B5-48C3-BB61-B133773F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6C3-D610-4BC4-8CC2-6E82895E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BA4-5BA2-4827-A533-B581F664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314-786B-4E30-86DC-F84845FA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06C-84F7-40DD-ADA3-4678C0D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63C-940D-4C5F-8B1A-E5ACF80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EE2-D956-4F60-902B-D13ADA5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80C-7DD7-4B50-B07B-F9C16B66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2D0-404B-4A2D-B58D-DC4585A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918-44C2-4703-8255-1644F4B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236-3208-49BD-A0DD-FA45437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A21-B60D-4737-8B08-78410117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F7C1-4BD9-4C7C-8D9F-3F25E9659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98100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Методическое пособие к уроку по окружающему мир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по теме: «Вода: три ее состояния. Свойства воды»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780000" y="465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ставитель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Манафова С. Б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79280" y="404640"/>
            <a:ext cx="87138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66"/>
                </a:solidFill>
                <a:latin typeface="Georgia"/>
              </a:rPr>
              <a:t>Без языка говорит,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66"/>
                </a:solidFill>
                <a:latin typeface="Georgia"/>
              </a:rPr>
              <a:t>Без ног бежит.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Picture2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050920" y="260280"/>
            <a:ext cx="46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Georgia"/>
              </a:rPr>
              <a:t>Ре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1258920" y="260280"/>
            <a:ext cx="6913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нег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осуль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Лед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Дождь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Ре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4000" y="620640"/>
            <a:ext cx="856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ода: три ее состояния.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войства воды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BACK1"/>
          <p:cNvPicPr/>
          <p:nvPr/>
        </p:nvPicPr>
        <p:blipFill>
          <a:blip r:embed="rId2"/>
          <a:stretch/>
        </p:blipFill>
        <p:spPr>
          <a:xfrm>
            <a:off x="900000" y="1773360"/>
            <a:ext cx="734544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50920" y="404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Наша планета Земля на 70% состоит из 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CIENCE2"/>
          <p:cNvPicPr/>
          <p:nvPr/>
        </p:nvPicPr>
        <p:blipFill>
          <a:blip r:embed="rId2"/>
          <a:stretch/>
        </p:blipFill>
        <p:spPr>
          <a:xfrm>
            <a:off x="2916360" y="1413000"/>
            <a:ext cx="324000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Тело человека на 90% состоит из 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Organization Chart 7"/>
          <p:cNvGrpSpPr/>
          <p:nvPr/>
        </p:nvGrpSpPr>
        <p:grpSpPr>
          <a:xfrm>
            <a:off x="179280" y="1197000"/>
            <a:ext cx="8784720" cy="5326200"/>
            <a:chOff x="179280" y="1197000"/>
            <a:chExt cx="8784720" cy="5326200"/>
          </a:xfrm>
        </p:grpSpPr>
        <p:cxnSp>
          <p:nvCxnSpPr>
            <p:cNvPr id="81" name="_s1028"/>
            <p:cNvCxnSpPr>
              <a:stCxn id="82" idx="0"/>
              <a:endCxn id="83" idx="2"/>
            </p:cNvCxnSpPr>
            <p:nvPr/>
          </p:nvCxnSpPr>
          <p:spPr>
            <a:xfrm flipV="1" rot="16200000">
              <a:off x="5575680" y="2322000"/>
              <a:ext cx="1065960" cy="307548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29"/>
            <p:cNvCxnSpPr>
              <a:stCxn id="85" idx="0"/>
              <a:endCxn id="83" idx="2"/>
            </p:cNvCxnSpPr>
            <p:nvPr/>
          </p:nvCxnSpPr>
          <p:spPr>
            <a:xfrm flipV="1">
              <a:off x="4571280" y="3326760"/>
              <a:ext cx="3240" cy="106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30"/>
            <p:cNvCxnSpPr>
              <a:stCxn id="87" idx="0"/>
              <a:endCxn id="83" idx="2"/>
            </p:cNvCxnSpPr>
            <p:nvPr/>
          </p:nvCxnSpPr>
          <p:spPr>
            <a:xfrm flipH="1" flipV="1" rot="5400000">
              <a:off x="2501280" y="2322000"/>
              <a:ext cx="1065960" cy="307548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" name="_s1031"/>
            <p:cNvSpPr/>
            <p:nvPr/>
          </p:nvSpPr>
          <p:spPr>
            <a:xfrm>
              <a:off x="3254040" y="119700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99"/>
                  </a:solidFill>
                  <a:latin typeface="Georgia"/>
                </a:rPr>
                <a:t>Вода</a:t>
              </a:r>
              <a:endParaRPr b="0" lang="en-US" sz="5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" name="_s1032"/>
            <p:cNvSpPr/>
            <p:nvPr/>
          </p:nvSpPr>
          <p:spPr>
            <a:xfrm>
              <a:off x="17928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Твердое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_s1033"/>
            <p:cNvSpPr/>
            <p:nvPr/>
          </p:nvSpPr>
          <p:spPr>
            <a:xfrm>
              <a:off x="325404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Жидкое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" name="_s1034"/>
            <p:cNvSpPr/>
            <p:nvPr/>
          </p:nvSpPr>
          <p:spPr>
            <a:xfrm>
              <a:off x="632880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cc"/>
                  </a:solidFill>
                  <a:latin typeface="Georgia"/>
                </a:rPr>
                <a:t>Газообразное</a:t>
              </a:r>
              <a:r>
                <a:rPr b="1" lang="en-US" sz="3100" spc="-1" strike="noStrike">
                  <a:solidFill>
                    <a:srgbClr val="0000cc"/>
                  </a:solidFill>
                  <a:latin typeface="Georgia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1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8" name="Text Box 15"/>
          <p:cNvSpPr/>
          <p:nvPr/>
        </p:nvSpPr>
        <p:spPr>
          <a:xfrm>
            <a:off x="324000" y="189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Три состояния воды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39640" y="47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тверд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" name="Picture 8" descr="nature_108"/>
          <p:cNvPicPr/>
          <p:nvPr/>
        </p:nvPicPr>
        <p:blipFill>
          <a:blip r:embed="rId2"/>
          <a:stretch/>
        </p:blipFill>
        <p:spPr>
          <a:xfrm>
            <a:off x="4788000" y="1413000"/>
            <a:ext cx="3908160" cy="287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4859280" y="3645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НЕГ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3" name="Picture 11" descr="Зима (39)"/>
          <p:cNvPicPr/>
          <p:nvPr/>
        </p:nvPicPr>
        <p:blipFill>
          <a:blip r:embed="rId3"/>
          <a:stretch/>
        </p:blipFill>
        <p:spPr>
          <a:xfrm>
            <a:off x="179280" y="1413000"/>
            <a:ext cx="4105440" cy="288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25092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ЛЕД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40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жидк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9" descr="Природа (107)"/>
          <p:cNvPicPr/>
          <p:nvPr/>
        </p:nvPicPr>
        <p:blipFill>
          <a:blip r:embed="rId2"/>
          <a:stretch/>
        </p:blipFill>
        <p:spPr>
          <a:xfrm>
            <a:off x="250920" y="1125360"/>
            <a:ext cx="338436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nature_160"/>
          <p:cNvPicPr/>
          <p:nvPr/>
        </p:nvPicPr>
        <p:blipFill>
          <a:blip r:embed="rId3"/>
          <a:stretch/>
        </p:blipFill>
        <p:spPr>
          <a:xfrm>
            <a:off x="4788000" y="112536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nature_222"/>
          <p:cNvPicPr/>
          <p:nvPr/>
        </p:nvPicPr>
        <p:blipFill>
          <a:blip r:embed="rId4"/>
          <a:stretch/>
        </p:blipFill>
        <p:spPr>
          <a:xfrm>
            <a:off x="2340000" y="3860640"/>
            <a:ext cx="3744720" cy="2664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2195640" y="3141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Georgia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859280" y="31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Georgia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41128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Georgia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9280" y="47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газообразн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5" name="Picture 6" descr="nature_387"/>
          <p:cNvPicPr/>
          <p:nvPr/>
        </p:nvPicPr>
        <p:blipFill>
          <a:blip r:embed="rId2"/>
          <a:stretch/>
        </p:blipFill>
        <p:spPr>
          <a:xfrm>
            <a:off x="250920" y="1197000"/>
            <a:ext cx="3960720" cy="30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00040952"/>
          <p:cNvPicPr/>
          <p:nvPr/>
        </p:nvPicPr>
        <p:blipFill>
          <a:blip r:embed="rId3"/>
          <a:stretch/>
        </p:blipFill>
        <p:spPr>
          <a:xfrm>
            <a:off x="4788000" y="2781360"/>
            <a:ext cx="4033800" cy="302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9528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УМ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932360" y="5229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Georgia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50920" y="69228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Вился , вился белый   рой,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Сел на землю стал горой.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nature_422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33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900000" y="486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Georgia"/>
              </a:rPr>
              <a:t>Снег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79280" y="404640"/>
            <a:ext cx="8713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Растет она вниз головою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Не летом растет, а зимою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Но солнце ее припечет-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Заплачет она и умрет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рирода (42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050920" y="5084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Сосулька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476280"/>
            <a:ext cx="86407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огне не горит,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воде не тонет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Природа (82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68360" y="333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Georgia"/>
              </a:rPr>
              <a:t>     </a:t>
            </a:r>
            <a:r>
              <a:rPr b="1" lang="ru-RU" sz="8800" spc="-1" strike="noStrike">
                <a:solidFill>
                  <a:srgbClr val="000099"/>
                </a:solidFill>
                <a:latin typeface="Georgia"/>
              </a:rPr>
              <a:t>Лед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4000" y="476280"/>
            <a:ext cx="84960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небе родился ,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земле схоронился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84360" y="62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7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6464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6:31:36Z</dcterms:created>
  <dc:creator>User</dc:creator>
  <dc:description/>
  <dc:language>en-US</dc:language>
  <cp:lastModifiedBy>Сура</cp:lastModifiedBy>
  <dcterms:modified xsi:type="dcterms:W3CDTF">2024-01-30T07:22:52Z</dcterms:modified>
  <cp:revision>16</cp:revision>
  <dc:subject/>
  <dc:title>Слайд 1</dc:title>
</cp:coreProperties>
</file>