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7B6-4B67-4960-810B-C3E01D31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D441-E306-4459-BBE4-F64E5E8F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4DD2D-A0EF-497E-AC40-4EDDAE18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099E6-501E-47F4-AAC9-E630768D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82082-A152-48BA-AE8E-AF685914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2B0E6-02FD-4CA3-AD98-5027A18E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58F5A-31C6-4BBC-9E01-9046CCAF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FCB6C-396A-4E6A-B7D9-6DE08151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E849A-1FB5-4502-9818-3660C2B0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89AA0-6E20-4709-AACE-DE592FE1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95BC2-365B-4C5B-86E1-475BC5DA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4072B-08A7-4D66-ACA6-C3C01F16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0F8-87A1-442C-AD8D-A9CC12A5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EDA05-7B51-450F-8244-EB354E6D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F3AA8-5233-43C0-A803-83744F38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93901-5887-427D-9A2B-BB747959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4EA1A-8DFA-482B-8C04-011DFDCD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B6554-FECB-4E1F-8A08-B12FF106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82B53-3BD2-4264-A395-0653CC72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D3F7F-4B74-4E3F-8EEA-40500C1D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6AAA8-00A3-48DB-9AEA-DF03A092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0EEC2-F8F1-44AD-BBE7-96391557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14917-AB87-46B5-A1F1-A5F4FC38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646-B4CE-42D8-9CEC-837843EF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DD751-7456-423F-A8F3-FA42369A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7B1D6-1A10-48D0-94AC-DDC4A687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CE365-D9CC-46F6-A340-14BA87DD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687DB-3B09-42CE-8A74-7702A874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40D0C-35D8-4938-AE19-E3422D85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5943D-AF47-4716-85BA-92A7802B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EEDC7-BBE7-4CB8-92D0-09EA494D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6320A-5DB2-4C8B-A685-AB192411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DF8CE-7696-45A8-B396-EC524054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CE5F5-6902-4C85-9477-1B76C91E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984B-268B-4697-94EF-7688BC9B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ABBC4-6F80-4661-8A17-F5BB17AA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2638A-01B2-43FB-8E7C-13931FEB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BDA07-9D5A-4E42-B0DF-A5A89822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328F8-0C09-47DC-9355-3C74AABC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44082-1BDB-44C6-B69F-393AFE95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C6FA9-4F00-4922-A5E7-CC453D2A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362DF-5FCE-4886-8EC8-E97C1039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A7159-A80A-48D9-9717-F0CE50FE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EB099-E756-4E9F-8201-793F1F33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A2846-B9EA-453A-981B-A9DD22EF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8A7D-F4F0-4F7A-9D40-145C0D1B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1665C-BB2B-4CBC-8FD6-98CACC04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43724-5D90-4DD6-AF29-D6926E8F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0CDD4-EF8B-426A-8E63-EB1E8EE5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A17D2-67A0-41DA-A50B-F61478CA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54118-ECF1-40F2-ABE4-0084CDA6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D948-088D-4DFD-9F22-B0B2CE60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C308-215F-4FB9-B50E-0313A666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C334-DD4C-49C3-9EA7-B30F8CC7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419E-67FE-41E9-9661-7B0C66B8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CB93-CD77-4552-800F-8EB61050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7FB-B4DF-400F-BCE5-92AB3CDB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F0CD-1657-4FA3-8308-D63B0BA6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6C81-2C9F-454D-92F6-43A7ACC9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45DF-D91E-4214-82EF-588CBC7B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BDA3-26DB-4872-9E9A-F68D4B78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DD51-9A17-4DF9-B515-97242081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730A8-371C-4294-81D9-2DB3BB07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AAC81-FC83-4C00-B829-21859D2D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4B79-6C90-490E-9449-FF1FAC8B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9E8F4-7222-420A-9874-A0F7EF0A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7874-F32A-4FEF-A0BD-D0764A96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03A-9D7D-4744-A1B1-49820760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3226-3FAA-4BD3-B611-AD86DD41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83DE3-0225-4DE7-9C74-11C308E7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DF234-93F9-4832-8568-42943D91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8AC15-9DFB-4A83-AE7E-4B4FED31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58223-BC39-4F99-B7BE-F69780CB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D21E-F535-41FC-BDD5-2E712DAB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3151-0925-4825-99C7-E2732806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946BD-9FF9-4E3E-92D6-FD855883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2D5AA-9338-41D1-88A8-F48B650E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C2033-EDA5-4563-9A47-51161730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6BB-7105-4EC4-86C3-6D235A70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2EB26-B4FD-448A-BD4E-166760FC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9047D-0520-472C-BC3F-BC2AC104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5B84-D7B2-4A63-8C9F-130A906F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8EA8E-5F01-462D-B441-384CFC50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C1CA5-BF10-4E94-8253-8E169E6D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909FD-4964-44DA-A6F1-DE1FC099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5217E-2CAC-4D2E-86B8-367D54FB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31511-6DAF-40F2-8C9A-CF328122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A928D-655C-4413-ACC1-64F4F7E0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D2214-C08D-492D-8BBC-89908149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52C-5E7D-4A4F-88CE-3BB24C2B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151FE-A1C5-4DE8-B38F-6339D6E5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82467-AEAA-46F9-82AD-FDF0CE1A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5D39E-FC93-48F1-9C7D-71E9C355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AE1B4-967F-4FB9-8457-1336A1AF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178C5-3D4F-4CD3-9E83-01820452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AB996-9335-482E-B73F-C5C0E79B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6A9ED-2185-466F-8D35-5728CF14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D58A6-28F8-4E56-B535-87E4663E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0699E-46C7-43F9-ACB9-93E8A01D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2F416-4B7C-43EC-AA61-BAA2B5F9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B496-981F-40D4-8021-6AE2B161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806CF-2423-402F-895F-56CAAB8E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1A844-5639-4363-8AC5-1B7BAB67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4554F-8DC7-4939-A9B7-021745FB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129DA-65E3-4891-9A0B-6039B736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00F32-5C83-495C-AE7A-00DA0010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0774B-40EE-4FEA-9E8A-6BF51EAD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06F38-DBBB-4D98-9073-746594DF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B5551-A7DE-4163-A494-B828BFFA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EBE25-B6E9-4926-9507-23C6F632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A02FA-1914-4F4B-AB7A-24B46E6F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7B5-86A5-49A8-B17F-02F418F7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771CD-08CC-454C-926A-8065F4CD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D8BAC-C5DD-4806-A501-DFF2259B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35286-C8F8-418E-9E4D-369D7DC0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B0C87-897F-4326-9B33-3B7A69CE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83FA8-9C77-4159-9201-2A99B765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84425-1815-4183-98EF-34DEC750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908AB-B588-49B4-B80B-3847F63D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E3446-6CA2-4E05-B38B-F78F4DC7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DE076-9DE3-46CF-8870-4557CB5A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0D8DA-1F4F-48AE-86D9-8C84850A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082-119F-48AC-955B-0FB6719B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04A48-7139-4971-BFB8-6400D970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DBD22-A7CF-462E-B301-4DD89DAC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1BFAB-6A0D-497D-ACEC-6C6DFB0B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9864B-8927-4C4C-9265-7145C9EC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F307C-6150-49C6-8CD7-931E24D5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94842-0843-47CF-AE9E-B9293DCC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0E53C-6772-46AA-BF56-50CFEADA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20839-609B-4688-8D9F-D24BD9E7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435EF-EAFB-4F64-B2FC-4100DC7E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FAC00-AD6C-42FB-BAC2-B9B085EE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499-802C-4EE9-BCEE-E4E1EAAD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DD709-9D38-4313-905B-1C3D3138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9CAD2-40C3-4141-9A4A-422ECA3D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3CBE1-1C02-4D38-8E7F-0245E314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CD613-027B-4ECF-A83E-26994DD1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948B0-6104-4915-9872-6633DCF8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7E93B-3F67-4C4C-8A82-8872F388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C962D-8166-4F59-8DBF-A0161D48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F619D-2FDD-4E92-8237-654DD187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7E6F9-796F-4924-A1A6-A34EAB36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5B03B-319C-45F2-98CD-3817EEF1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21F7-1769-4CE8-AE81-BDB1476220E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0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1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3246-CDBF-42B9-B7D9-F75B148DAF5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483A-FEBC-4718-9F17-CC1542153E6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D542-F5C1-4072-8952-BF9D55A92B7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19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19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19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1E2E-9CB0-4077-ACE2-C31BD1C5004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A3B4-C7C2-4538-86E8-2835E04F998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33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34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36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6034-4844-478B-93E9-26BC6C9FEA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BDFC-8129-4D23-86C9-A8F078691D1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E1E2-26AA-4F7C-AEEB-54397B6F2C4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CD3D-4DE2-40F6-A630-C617021E31A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8A6D-1A06-464B-84BD-505A2EBAB67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AF21-6BC6-4E4F-AC0C-927834D664D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5" descr=""/>
          <p:cNvPicPr/>
          <p:nvPr/>
        </p:nvPicPr>
        <p:blipFill>
          <a:blip r:embed="rId1"/>
          <a:stretch/>
        </p:blipFill>
        <p:spPr>
          <a:xfrm>
            <a:off x="719280" y="95076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Geben Sie den Farben die Namen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971640" y="1413000"/>
          <a:ext cx="7715160" cy="511164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bl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e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o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i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chwar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wei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rü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ra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1" name="Прямоугольник 2"/>
          <p:cNvSpPr/>
          <p:nvPr/>
        </p:nvSpPr>
        <p:spPr>
          <a:xfrm>
            <a:off x="1258920" y="1484280"/>
            <a:ext cx="792000" cy="43200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Franklin Gothic Book"/>
              </a:rPr>
              <a:t>Der J</a:t>
            </a:r>
            <a:r>
              <a:rPr b="1" lang="ru-RU" sz="4800" spc="-1" strike="noStrike">
                <a:solidFill>
                  <a:srgbClr val="4f81bd"/>
                </a:solidFill>
                <a:latin typeface="Calibri"/>
                <a:ea typeface="Calibri"/>
              </a:rPr>
              <a:t>ӓ</a:t>
            </a:r>
            <a:r>
              <a:rPr b="1" lang="en-US" sz="4800" spc="-1" strike="noStrike">
                <a:solidFill>
                  <a:srgbClr val="4f81bd"/>
                </a:solidFill>
                <a:latin typeface="Calibri"/>
                <a:ea typeface="Calibri"/>
              </a:rPr>
              <a:t>ger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Franklin Gothic Book"/>
              </a:rPr>
              <a:t>Der Mühler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5" name="Объект 4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3384720" cy="3313080"/>
          </a:xfrm>
          <a:prstGeom prst="rect">
            <a:avLst/>
          </a:prstGeom>
          <a:ln w="0">
            <a:noFill/>
          </a:ln>
        </p:spPr>
      </p:pic>
      <p:pic>
        <p:nvPicPr>
          <p:cNvPr id="566" name="Объект 5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33112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333360"/>
            <a:ext cx="373392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Franklin Gothic Book"/>
              </a:rPr>
              <a:t>Der F</a:t>
            </a:r>
            <a:r>
              <a:rPr b="1" lang="ru-RU" sz="4800" spc="-1" strike="noStrike">
                <a:solidFill>
                  <a:srgbClr val="4f81bd"/>
                </a:solidFill>
                <a:latin typeface="Calibri"/>
                <a:ea typeface="Calibri"/>
              </a:rPr>
              <a:t>ӓ</a:t>
            </a:r>
            <a:r>
              <a:rPr b="1" lang="en-US" sz="4800" spc="-1" strike="noStrike">
                <a:solidFill>
                  <a:srgbClr val="4f81bd"/>
                </a:solidFill>
                <a:latin typeface="Calibri"/>
                <a:ea typeface="Calibri"/>
              </a:rPr>
              <a:t>rber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0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Franklin Gothic Book"/>
              </a:rPr>
              <a:t>Der Schornstein-feger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70" name="Объект 9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3887640" cy="3960720"/>
          </a:xfrm>
          <a:prstGeom prst="rect">
            <a:avLst/>
          </a:prstGeom>
          <a:ln w="0">
            <a:noFill/>
          </a:ln>
        </p:spPr>
      </p:pic>
      <p:pic>
        <p:nvPicPr>
          <p:cNvPr id="571" name="Объект 8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52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Franklin Gothic Book"/>
              </a:rPr>
              <a:t>Der Maler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573" name="Объект 3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9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5" descr="http://www.stihi.ru/pics/2010/02/11/5481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Box 9"/>
          <p:cNvSpPr/>
          <p:nvPr/>
        </p:nvSpPr>
        <p:spPr>
          <a:xfrm>
            <a:off x="2843280" y="260280"/>
            <a:ext cx="525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  <a:ea typeface="Arial"/>
              </a:rPr>
              <a:t>Danke für die Arbeit!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  <a:ea typeface="Arial"/>
              </a:rPr>
              <a:t>Auf Wiedersehen!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"/>
          <p:cNvGraphicFramePr/>
          <p:nvPr/>
        </p:nvGraphicFramePr>
        <p:xfrm>
          <a:off x="1301760" y="1447920"/>
          <a:ext cx="6997680" cy="4570200"/>
        </p:xfrm>
        <a:graphic>
          <a:graphicData uri="http://schemas.openxmlformats.org/drawingml/2006/table">
            <a:tbl>
              <a:tblPr/>
              <a:tblGrid>
                <a:gridCol w="1392120"/>
                <a:gridCol w="3354480"/>
                <a:gridCol w="2251080"/>
              </a:tblGrid>
              <a:tr h="36504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уро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(функции) стад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, при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затруднений и пробело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а темы  уро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целей учебной деятельност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е к жизненному опыт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на вопрос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ение таблиц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с новой информацие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есение новой информации с имеющимися знания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активности и интерес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ответов на поставленные вопрос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затруднений и/или противореч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с заданием на соотнесение, ассоциацию, языковую догадк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нграм (пазл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ссворд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ссворд-головолом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с заданием на соотнесение, ассоциацию, языковую догадк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о словаре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ирование и систематизация новой информаци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(корректировка и/ или их дополнение) на поставленные ранее вопрос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и закрепление новых знаний (понятий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 к исходной таблице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 к первоначальным ответам на вопрос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7" name="Rectangle 1"/>
          <p:cNvSpPr/>
          <p:nvPr/>
        </p:nvSpPr>
        <p:spPr>
          <a:xfrm>
            <a:off x="468360" y="786960"/>
            <a:ext cx="842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развития критического мышления. Технологическая карта урока немецкого языка во 2 классе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Цвета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Phonetische Übung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539280" y="1125000"/>
            <a:ext cx="820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r Himmel                    ist </a:t>
            </a:r>
            <a:r>
              <a:rPr b="0" lang="en-US" sz="3200" spc="-1" strike="noStrike" u="sng">
                <a:solidFill>
                  <a:srgbClr val="4f81bd"/>
                </a:solidFill>
                <a:uFillTx/>
                <a:latin typeface="Perpetua"/>
              </a:rPr>
              <a:t>blau</a:t>
            </a:r>
            <a:r>
              <a:rPr b="0" lang="en-US" sz="3200" spc="-1" strike="noStrike">
                <a:solidFill>
                  <a:srgbClr val="948a54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ie Wolken                     sind </a:t>
            </a:r>
            <a:r>
              <a:rPr b="0" lang="en-US" sz="3200" spc="-1" strike="noStrike" u="sng">
                <a:solidFill>
                  <a:srgbClr val="7f7f7f"/>
                </a:solidFill>
                <a:uFillTx/>
                <a:latin typeface="Perpetua"/>
              </a:rPr>
              <a:t>grau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r Schnee                          ist weis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ie Erde                           i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schwarz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r Herbst                             ist immer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Perpetua"/>
              </a:rPr>
              <a:t>b</a:t>
            </a:r>
            <a:r>
              <a:rPr b="0" lang="en-US" sz="3200" spc="-1" strike="noStrike" u="sng">
                <a:solidFill>
                  <a:srgbClr val="fac090"/>
                </a:solidFill>
                <a:uFillTx/>
                <a:latin typeface="Perpetua"/>
              </a:rPr>
              <a:t>u</a:t>
            </a:r>
            <a:r>
              <a:rPr b="0" lang="en-US" sz="3200" spc="-1" strike="noStrike" u="sng">
                <a:solidFill>
                  <a:srgbClr val="31859c"/>
                </a:solidFill>
                <a:uFillTx/>
                <a:latin typeface="Perpetua"/>
              </a:rPr>
              <a:t>n</a:t>
            </a:r>
            <a:r>
              <a:rPr b="0" lang="en-US" sz="3200" spc="-1" strike="noStrike" u="sng">
                <a:solidFill>
                  <a:srgbClr val="376092"/>
                </a:solidFill>
                <a:uFillTx/>
                <a:latin typeface="Perpetu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Und das gef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lt mir gu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3" name="Рисунок 3" descr=""/>
          <p:cNvPicPr/>
          <p:nvPr/>
        </p:nvPicPr>
        <p:blipFill>
          <a:blip r:embed="rId1"/>
          <a:stretch/>
        </p:blipFill>
        <p:spPr>
          <a:xfrm>
            <a:off x="2941560" y="1090440"/>
            <a:ext cx="1497240" cy="68292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4" descr=""/>
          <p:cNvPicPr/>
          <p:nvPr/>
        </p:nvPicPr>
        <p:blipFill>
          <a:blip r:embed="rId2"/>
          <a:stretch/>
        </p:blipFill>
        <p:spPr>
          <a:xfrm>
            <a:off x="2941560" y="2168640"/>
            <a:ext cx="1497240" cy="56988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5" descr=""/>
          <p:cNvPicPr/>
          <p:nvPr/>
        </p:nvPicPr>
        <p:blipFill>
          <a:blip r:embed="rId3"/>
          <a:stretch/>
        </p:blipFill>
        <p:spPr>
          <a:xfrm>
            <a:off x="2863800" y="3141720"/>
            <a:ext cx="1575000" cy="598320"/>
          </a:xfrm>
          <a:prstGeom prst="rect">
            <a:avLst/>
          </a:prstGeom>
          <a:ln w="0">
            <a:noFill/>
          </a:ln>
        </p:spPr>
      </p:pic>
      <p:pic>
        <p:nvPicPr>
          <p:cNvPr id="536" name="Рисунок 6" descr=""/>
          <p:cNvPicPr/>
          <p:nvPr/>
        </p:nvPicPr>
        <p:blipFill>
          <a:blip r:embed="rId4"/>
          <a:stretch/>
        </p:blipFill>
        <p:spPr>
          <a:xfrm>
            <a:off x="2941560" y="4076640"/>
            <a:ext cx="1497240" cy="79236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7" descr=""/>
          <p:cNvPicPr/>
          <p:nvPr/>
        </p:nvPicPr>
        <p:blipFill>
          <a:blip r:embed="rId5"/>
          <a:stretch/>
        </p:blipFill>
        <p:spPr>
          <a:xfrm>
            <a:off x="2941560" y="5300640"/>
            <a:ext cx="1790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1"/>
          <a:stretch/>
        </p:blipFill>
        <p:spPr>
          <a:xfrm>
            <a:off x="755640" y="231840"/>
            <a:ext cx="7772400" cy="18954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419640" y="6308280"/>
            <a:ext cx="539568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0" name="Picture 4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3816360" cy="33130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D:\Рабочий стол\радуга.jpg"/>
          <p:cNvPicPr/>
          <p:nvPr/>
        </p:nvPicPr>
        <p:blipFill>
          <a:blip r:embed="rId3"/>
          <a:stretch/>
        </p:blipFill>
        <p:spPr>
          <a:xfrm>
            <a:off x="4356000" y="2852640"/>
            <a:ext cx="439272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Geben Sie den Farben die Namen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971640" y="1413000"/>
          <a:ext cx="7715160" cy="511020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44" name="Прямоугольник 2"/>
          <p:cNvSpPr/>
          <p:nvPr/>
        </p:nvSpPr>
        <p:spPr>
          <a:xfrm>
            <a:off x="1258920" y="1484280"/>
            <a:ext cx="792000" cy="43200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Das Bild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546" name="Объект 5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1298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Die Beschreibung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uf dem Bild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r Himmel i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blau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ie Sonne i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gelb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ie Blumen si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rot, rosa, lila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u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orang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ie Erde i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schwarz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ie Wolken si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weiss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u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grau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as Gras i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grü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r Baumstamm i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brau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Machen Sie bitte Tangram!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550" name="Объект 4" descr=""/>
          <p:cNvPicPr/>
          <p:nvPr/>
        </p:nvPicPr>
        <p:blipFill>
          <a:blip r:embed="rId1"/>
          <a:stretch/>
        </p:blipFill>
        <p:spPr>
          <a:xfrm>
            <a:off x="914400" y="2116080"/>
            <a:ext cx="3749760" cy="3235320"/>
          </a:xfrm>
          <a:prstGeom prst="rect">
            <a:avLst/>
          </a:prstGeom>
          <a:ln w="0">
            <a:noFill/>
          </a:ln>
        </p:spPr>
      </p:pic>
      <p:pic>
        <p:nvPicPr>
          <p:cNvPr id="551" name="Объект 5" descr=""/>
          <p:cNvPicPr/>
          <p:nvPr/>
        </p:nvPicPr>
        <p:blipFill>
          <a:blip r:embed="rId2"/>
          <a:stretch/>
        </p:blipFill>
        <p:spPr>
          <a:xfrm>
            <a:off x="4933800" y="1736640"/>
            <a:ext cx="374976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Machen Sie bitte das Kreuzwortr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  <a:ea typeface="Calibri"/>
              </a:rPr>
              <a:t>ӓ</a:t>
            </a:r>
            <a:r>
              <a:rPr b="0" lang="en-US" sz="4000" spc="-1" strike="noStrike">
                <a:solidFill>
                  <a:srgbClr val="1f497d"/>
                </a:solidFill>
                <a:latin typeface="Calibri"/>
                <a:ea typeface="Calibri"/>
              </a:rPr>
              <a:t>tsel!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914400" y="1700280"/>
          <a:ext cx="3586320" cy="3744720"/>
        </p:xfrm>
        <a:graphic>
          <a:graphicData uri="http://schemas.openxmlformats.org/drawingml/2006/table">
            <a:tbl>
              <a:tblPr/>
              <a:tblGrid>
                <a:gridCol w="255600"/>
                <a:gridCol w="257040"/>
                <a:gridCol w="255600"/>
                <a:gridCol w="255600"/>
                <a:gridCol w="257400"/>
                <a:gridCol w="255600"/>
                <a:gridCol w="257040"/>
                <a:gridCol w="255600"/>
                <a:gridCol w="255600"/>
                <a:gridCol w="257040"/>
                <a:gridCol w="255600"/>
                <a:gridCol w="255600"/>
                <a:gridCol w="257400"/>
                <a:gridCol w="255600"/>
              </a:tblGrid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8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6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4838760" y="2587680"/>
          <a:ext cx="1317600" cy="1882800"/>
        </p:xfrm>
        <a:graphic>
          <a:graphicData uri="http://schemas.openxmlformats.org/drawingml/2006/table">
            <a:tbl>
              <a:tblPr/>
              <a:tblGrid>
                <a:gridCol w="596880"/>
                <a:gridCol w="720720"/>
              </a:tblGrid>
              <a:tr h="31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31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1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6"/>
                    </a:solidFill>
                  </a:tcPr>
                </a:tc>
              </a:tr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6659640" y="2637000"/>
          <a:ext cx="1368360" cy="1712880"/>
        </p:xfrm>
        <a:graphic>
          <a:graphicData uri="http://schemas.openxmlformats.org/drawingml/2006/table">
            <a:tbl>
              <a:tblPr/>
              <a:tblGrid>
                <a:gridCol w="471240"/>
                <a:gridCol w="897120"/>
              </a:tblGrid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Machen Sie die W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  <a:ea typeface="Calibri"/>
              </a:rPr>
              <a:t>ӧ</a:t>
            </a:r>
            <a:r>
              <a:rPr b="0" lang="en-US" sz="4000" spc="-1" strike="noStrike">
                <a:solidFill>
                  <a:srgbClr val="1f497d"/>
                </a:solidFill>
                <a:latin typeface="Calibri"/>
                <a:ea typeface="Calibri"/>
              </a:rPr>
              <a:t>rterkiste!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2496960" y="1841400"/>
          <a:ext cx="4607280" cy="3786120"/>
        </p:xfrm>
        <a:graphic>
          <a:graphicData uri="http://schemas.openxmlformats.org/drawingml/2006/table">
            <a:tbl>
              <a:tblPr/>
              <a:tblGrid>
                <a:gridCol w="362160"/>
                <a:gridCol w="361800"/>
                <a:gridCol w="449280"/>
                <a:gridCol w="362160"/>
                <a:gridCol w="450720"/>
                <a:gridCol w="449280"/>
                <a:gridCol w="361800"/>
                <a:gridCol w="362160"/>
                <a:gridCol w="361800"/>
                <a:gridCol w="362160"/>
                <a:gridCol w="361800"/>
                <a:gridCol w="362160"/>
              </a:tblGrid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8" name="Picture 174" descr=""/>
          <p:cNvPicPr/>
          <p:nvPr/>
        </p:nvPicPr>
        <p:blipFill>
          <a:blip r:embed="rId1"/>
          <a:stretch/>
        </p:blipFill>
        <p:spPr>
          <a:xfrm>
            <a:off x="1511280" y="1341360"/>
            <a:ext cx="6120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6:24:35Z</dcterms:created>
  <dc:creator>Пользователь Windows</dc:creator>
  <dc:description/>
  <dc:language>en-US</dc:language>
  <cp:lastModifiedBy>Учитель</cp:lastModifiedBy>
  <dcterms:modified xsi:type="dcterms:W3CDTF">2024-01-30T06:20:24Z</dcterms:modified>
  <cp:revision>66</cp:revision>
  <dc:subject/>
  <dc:title>What colour is it?</dc:title>
</cp:coreProperties>
</file>