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wmf" ContentType="image/x-wmf"/>
  <Override PartName="/ppt/media/image1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5FA-D9BA-400F-93C1-31570761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345-9118-4E2E-981A-F9278740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D62D9-0DE3-45F9-B792-A4C916F2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63B8E-2EA0-49E7-A025-0F039CD7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2B188-8A78-419D-AEC6-A9D778F1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A74ED0-FD59-4921-BDBD-2C88EE38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52430-B755-4F3B-BC1C-EE5D411D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933F6-FD8C-413B-83A8-7E9AD322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D4939-8C0D-4C79-8AEA-2D41B484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63A12-B3C9-400C-9B08-77343C930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C8190-EB14-41E5-975E-1E3D631C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E4DBA-F5CC-44C3-94C1-7C70943C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2B8-F6DF-4779-92F6-F17AF631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728E1-0CD1-46DE-AA43-8D6FA685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F69CF5-58AD-443B-B781-D9D5EEC6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7F23B-9B01-4C5C-913C-D06FA884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36051-589F-4430-9C08-7830A77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1322A-591C-4321-8CE0-FAC44AD4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A1D104-6DF9-43E6-859E-794FFE26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CE2E7-4BB6-45BD-857C-495D3100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FA62B-6A0B-4EA4-B393-8661E90E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2B03B-D470-4384-8504-26BBC482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D087B-BCE5-4A53-B21C-025248D8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133-10BC-44C0-B7B2-BCEEC5FC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EA90-8C2A-4DD5-804D-8F0644A7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7DDC0-D70E-42D6-B43D-072B8B97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4C8D0-C839-4FFA-AD73-CC2E73D3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C24D6-5DAC-41AE-A5D4-BF0F2211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3B9D-9DA9-4005-991D-C35F2F53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5334AB-1150-4F1E-AB6B-4C1A3E3A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09436-C464-4A2F-80BF-399ACD75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7097C-3C30-42AB-A88F-A3115E36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020D4-3D2F-4A2E-9A5E-AF4691D3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E664E-0B47-4241-A782-907572C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DD13-5226-4F0A-84D7-E930149F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49153-00EA-4E0A-817B-492EA090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4A61D-94FD-4B07-9612-9E973BEF9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31477-A600-4965-93A3-6815E75C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97D477-3E77-455D-8E17-BA275BB1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D10BCD-AADC-41D1-9CC3-514AB54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6DF2A-BD8B-424D-A238-FB5A5B1E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2421F-1363-4AE3-B104-30945274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E3BF33-AA23-413A-BD39-4C0748C1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69BD1-03F4-45E1-AA52-45AE1788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48DD0-53B0-4E57-B49F-ED13894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11DF-5A11-4591-9B7C-C8652B15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F60AE-E768-42F6-9C79-1727B85A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592AF-9C6B-4FC5-BC69-E6A126F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09DA2-093B-484A-BE39-C998989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4A0EF-A08E-4996-A6CC-21BDBC87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A111D1-EDAD-4769-AE18-D998CD40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485C-71EE-442D-9A92-2CF6D1B5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332E5-594E-43D2-89DE-68B3E8F6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0CD9-763A-41D6-BA61-E73B3B6E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7560-9D86-4BED-A511-45D14298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583C-2712-405B-A381-FF3D9956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67D4-3AE2-45EB-956F-949C07E4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65A7-B1C5-411E-A00D-0D1F8FC6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93D7-175C-49F7-87A4-72DB57F5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C7CC-5D8E-4610-9AC6-0498DCA6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2245-4F20-4BF0-A09F-73FE43F5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2D77-B103-41DF-8E85-DFCCFE35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FF20-6DD6-4B4C-9007-A038C5CC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4ADAC-FE61-4C98-A18B-F915A47A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C7436-104A-4FAA-928A-40FF8614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1171-E917-416A-BC93-6BC83D4B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5EA0-12DA-4CF9-A27E-6F0F1274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781D-E4A7-4070-811E-8627B31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12B7-86A4-4D4B-B2D9-D0219990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97910-7BF1-44C4-9568-9930FB96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E85D-9225-4C7E-8FC5-4C0468CD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2371B-4B7C-4396-845F-DADC89F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8C11F-4C49-4735-88A7-4A8B4DC1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D454C-3EEF-43ED-A3A3-BEEB3E8F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9B87A-AE75-4A08-8541-390FAF97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A97C3-7395-4AD2-B009-27DB6B89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F0A5-DB1B-4753-91AC-F1A77C01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816EC-C033-4DCD-A161-7D3E2B23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704-B26D-489D-9CBA-9B7A4DC4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166E-A8DF-42B4-AA4C-BC2896C1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2962-170A-4071-AC3A-23E41822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A64A1-DB86-4B14-866D-0E0D7314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CF2E8-E4CF-409A-905A-D981AA52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2C9E4-163D-48B3-8179-CB1731D4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0DA9F-650F-43ED-89A2-1409C48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0E1B2-3208-493C-B088-FE2DF5D4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3D1D6-0F1F-4CBF-BF2F-3017DD73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8B47-FFDE-400E-92DF-91B54DC6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6952-A36E-4971-BA93-DFAA509B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661-B4F6-4569-B724-D7CC6341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41E18-12A2-4101-AB92-7B3F7458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AD21B-00AF-4B6D-BF96-3F819D2D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EEA06-992D-460E-B136-09745A5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636E2-76CF-47AE-9298-D7A47DE3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F2C82-8055-4B54-84C1-E7BC4114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27D53-20AB-479F-8C2E-57822356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7FD51-2652-457D-B349-0D9A2AE9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CDB7-DD45-4C65-8396-ECA6DBE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C1D82-DEC7-4FB6-B2C5-205C36D9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D5DD-EC88-4450-ABFA-28FB8047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BDF1-CCB8-4882-8DAE-47592A36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B7F75-3062-4A5F-AA48-174BFA11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31862-0724-45CF-AC8C-F92E3DAE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7D412-F1D5-4421-B81E-90ADF6151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7824-7B18-49FB-B16E-B88E7A29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A80DC-A66A-42F9-9703-A3BB057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5CDC9-A31B-4AC2-BEE0-21B775B7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010A-4A63-4FC1-BBBA-FD9C0A4F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D0C06-8793-45FF-9AFE-C63829B8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1EA72-EFCC-4636-B350-6E06C91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9BFBF-A7D1-4D7C-8787-1BB4CF9E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509-F6AD-4A72-BB10-4D0BB8B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52906-7FB7-42F4-936A-26679B46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E408E-F83D-4E53-AE28-E9725A43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B612-DB6F-46F7-BA3E-C7356C56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8A88-E0E3-4171-A29E-1D314340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F9C90-2A4E-400F-9687-7E5DD69D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7E84C-0659-49AF-A0F8-C56EEC24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DE697-88D4-44F5-8535-54B5DE722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2A06E-96CD-4A3B-ADA2-AF64317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80DBB-97E9-404E-9687-04C99141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83241-7522-4B31-B445-B50A7891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24C-5526-4916-9A1D-FBF9A501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3C269-930B-470B-81F2-7FA21961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BAF7F-B137-421D-92D0-ED31B012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05C0-3DE6-49F1-B1BE-41AF39C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AF57A-247B-4429-8F0B-5FD15BC5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BA1A2-62EE-4311-9AC0-1E5232FC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52724-E245-4B02-8E4C-C9E01B5F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4429-D031-4466-A8D5-CFDF447B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4EEB4-C119-45DF-A7A8-BF351677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8F6F-403C-44B4-9B8A-3021B166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4ECEE-9334-495B-9A43-410FF57D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D191-3A9D-46FE-A968-A14E2C7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97F55-BBBC-45C3-8265-6B9DA195B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1C8E2-EB46-4ABD-85E8-2DC01F1C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95CA2-17BB-439C-97F7-82F1071C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3C0DE-3764-472A-9A7C-F4877D97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09058-038F-489C-B3CF-08EC05E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C7B06-36FA-4539-A0AA-52C367D7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E7457-3857-4D7F-B4D1-0DEFA2338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8A7BC-D4F5-48B7-BE59-2793659C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5238B-BB90-451A-AEEF-52DF9DC0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E6A78-D1B3-4804-A5A6-D362D6ED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5B17-183D-4065-8D46-7558D828AA1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545-9139-4225-AA2D-51F2651887E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E669-3B60-421E-9E99-CC1769DFCAF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3AF-9612-4EF1-B835-A2FF4642188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1960" cy="1527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1960" cy="1206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1960" cy="1112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0A24-AAC1-4C11-8C96-1500D2EAFD5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097C-95F4-41A4-AA64-A044790EC7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133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34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136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D2CD-8120-46C2-AB81-1494AC14855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36E4-2F85-4244-A600-439FCEF791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B994-9138-4901-9BAD-E85341BB78C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5188-4E7A-4D7B-8682-895A2444F3C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6412-8233-4352-BE77-EB563F1544B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c0504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c0e5a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feb80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feb80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9930-7890-4999-AB3F-55B8E0F01C6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5" descr=""/>
          <p:cNvPicPr/>
          <p:nvPr/>
        </p:nvPicPr>
        <p:blipFill>
          <a:blip r:embed="rId1"/>
          <a:stretch/>
        </p:blipFill>
        <p:spPr>
          <a:xfrm>
            <a:off x="719280" y="9507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eben Sie den Farben die Namen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971640" y="1413000"/>
          <a:ext cx="7715160" cy="511164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53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Perpetua"/>
                        </a:rPr>
                        <a:t>bl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el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r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li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or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schwa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wei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ra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grü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ra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1" name="Прямоугольник 2"/>
          <p:cNvSpPr/>
          <p:nvPr/>
        </p:nvSpPr>
        <p:spPr>
          <a:xfrm>
            <a:off x="1258920" y="1484280"/>
            <a:ext cx="792000" cy="4320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J</a:t>
            </a:r>
            <a:r>
              <a:rPr b="1" lang="ru-RU" sz="4800" spc="-1" strike="noStrike">
                <a:solidFill>
                  <a:srgbClr val="4f81bd"/>
                </a:solidFill>
                <a:latin typeface="Calibri"/>
                <a:ea typeface="Calibri"/>
              </a:rPr>
              <a:t>ӓ</a:t>
            </a:r>
            <a:r>
              <a:rPr b="1" lang="en-US" sz="4800" spc="-1" strike="noStrike">
                <a:solidFill>
                  <a:srgbClr val="4f81bd"/>
                </a:solidFill>
                <a:latin typeface="Calibri"/>
                <a:ea typeface="Calibri"/>
              </a:rPr>
              <a:t>g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Mühl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5" name="Объект 4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3384720" cy="3313080"/>
          </a:xfrm>
          <a:prstGeom prst="rect">
            <a:avLst/>
          </a:prstGeom>
          <a:ln w="0">
            <a:noFill/>
          </a:ln>
        </p:spPr>
      </p:pic>
      <p:pic>
        <p:nvPicPr>
          <p:cNvPr id="566" name="Объект 5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33112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373392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F</a:t>
            </a:r>
            <a:r>
              <a:rPr b="1" lang="ru-RU" sz="4800" spc="-1" strike="noStrike">
                <a:solidFill>
                  <a:srgbClr val="4f81bd"/>
                </a:solidFill>
                <a:latin typeface="Calibri"/>
                <a:ea typeface="Calibri"/>
              </a:rPr>
              <a:t>ӓ</a:t>
            </a:r>
            <a:r>
              <a:rPr b="1" lang="en-US" sz="4800" spc="-1" strike="noStrike">
                <a:solidFill>
                  <a:srgbClr val="4f81bd"/>
                </a:solidFill>
                <a:latin typeface="Calibri"/>
                <a:ea typeface="Calibri"/>
              </a:rPr>
              <a:t>rb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52880" y="1447920"/>
            <a:ext cx="37339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0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Franklin Gothic Book"/>
              </a:rPr>
              <a:t>Der Schornstein-feger</a:t>
            </a:r>
            <a:endParaRPr b="0" lang="en-US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70" name="Объект 9" descr=""/>
          <p:cNvPicPr/>
          <p:nvPr/>
        </p:nvPicPr>
        <p:blipFill>
          <a:blip r:embed="rId1"/>
          <a:stretch/>
        </p:blipFill>
        <p:spPr>
          <a:xfrm>
            <a:off x="4932360" y="2421000"/>
            <a:ext cx="3887640" cy="3960720"/>
          </a:xfrm>
          <a:prstGeom prst="rect">
            <a:avLst/>
          </a:prstGeom>
          <a:ln w="0">
            <a:noFill/>
          </a:ln>
        </p:spPr>
      </p:pic>
      <p:pic>
        <p:nvPicPr>
          <p:cNvPr id="571" name="Объект 8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52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Franklin Gothic Book"/>
              </a:rPr>
              <a:t>Der Maler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73" name="Объект 3" descr=""/>
          <p:cNvPicPr/>
          <p:nvPr/>
        </p:nvPicPr>
        <p:blipFill>
          <a:blip r:embed="rId1"/>
          <a:stretch/>
        </p:blipFill>
        <p:spPr>
          <a:xfrm>
            <a:off x="2411280" y="2060640"/>
            <a:ext cx="49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5" descr="http://www.stihi.ru/pics/2010/02/11/5481.jpg"/>
          <p:cNvPicPr/>
          <p:nvPr/>
        </p:nvPicPr>
        <p:blipFill>
          <a:blip r:embed="rId1"/>
          <a:stretch/>
        </p:blipFill>
        <p:spPr>
          <a:xfrm>
            <a:off x="0" y="0"/>
            <a:ext cx="916308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9"/>
          <p:cNvSpPr/>
          <p:nvPr/>
        </p:nvSpPr>
        <p:spPr>
          <a:xfrm>
            <a:off x="2843280" y="260280"/>
            <a:ext cx="525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  <a:ea typeface="Arial"/>
              </a:rPr>
              <a:t>Danke für die Arbeit!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  <a:ea typeface="Arial"/>
              </a:rPr>
              <a:t>Auf Wiedersehen!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1301760" y="1447920"/>
          <a:ext cx="6997680" cy="4570200"/>
        </p:xfrm>
        <a:graphic>
          <a:graphicData uri="http://schemas.openxmlformats.org/drawingml/2006/table">
            <a:tbl>
              <a:tblPr/>
              <a:tblGrid>
                <a:gridCol w="1392120"/>
                <a:gridCol w="3354480"/>
                <a:gridCol w="2251080"/>
              </a:tblGrid>
              <a:tr h="36504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 уро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ди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(функции) стад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, при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затруднений и пробело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ировка темы  уро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целей учебной деятельно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к жизненному опыт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на вопрос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ение таблиц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комство с новой информацие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тнесение новой информации с имеющимися знаниям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активности и интерес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ответов на поставленные вопросы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затруднений и/или противоречий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с заданием на соотнесение, ассоциацию, языковую догадк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нграм (пазл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ссворд-головоломка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чка с заданием на соотнесение, ассоциацию, языковую догадку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о словарем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9440">
                <a:tc>
                  <a:txBody>
                    <a:bodyPr lIns="51120" rIns="51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ирование и систематизация новой информаци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(корректировка и/ или их дополнение) на поставленные ранее вопрос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закрепление новых знаний (понятий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1120" rIns="51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к исходной таблиц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врат к первоначальным ответам на вопрос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51120" marR="51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7" name="Rectangle 1"/>
          <p:cNvSpPr/>
          <p:nvPr/>
        </p:nvSpPr>
        <p:spPr>
          <a:xfrm>
            <a:off x="468360" y="786960"/>
            <a:ext cx="842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развития критического мышления. Технологическая карта урока немецкого языка во 2 классе.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Цвета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Phonetische Übung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39280" y="1125000"/>
            <a:ext cx="820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Himmel                    ist </a:t>
            </a:r>
            <a:r>
              <a:rPr b="0" lang="en-US" sz="3200" spc="-1" strike="noStrike" u="sng">
                <a:solidFill>
                  <a:srgbClr val="4f81bd"/>
                </a:solidFill>
                <a:uFillTx/>
                <a:latin typeface="Perpetua"/>
              </a:rPr>
              <a:t>blau</a:t>
            </a:r>
            <a:r>
              <a:rPr b="0" lang="en-US" sz="3200" spc="-1" strike="noStrike">
                <a:solidFill>
                  <a:srgbClr val="948a54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Wolken                     sind </a:t>
            </a:r>
            <a:r>
              <a:rPr b="0" lang="en-US" sz="3200" spc="-1" strike="noStrike" u="sng">
                <a:solidFill>
                  <a:srgbClr val="7f7f7f"/>
                </a:solidFill>
                <a:uFillTx/>
                <a:latin typeface="Perpetua"/>
              </a:rPr>
              <a:t>grau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Schnee                          ist weiss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Erde                          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schwarz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Herbst                             ist immer </a:t>
            </a:r>
            <a:r>
              <a:rPr b="0" lang="en-US" sz="3200" spc="-1" strike="noStrike" u="sng">
                <a:solidFill>
                  <a:srgbClr val="c0504d"/>
                </a:solidFill>
                <a:uFillTx/>
                <a:latin typeface="Perpetua"/>
              </a:rPr>
              <a:t>b</a:t>
            </a:r>
            <a:r>
              <a:rPr b="0" lang="en-US" sz="3200" spc="-1" strike="noStrike" u="sng">
                <a:solidFill>
                  <a:srgbClr val="fac090"/>
                </a:solidFill>
                <a:uFillTx/>
                <a:latin typeface="Perpetua"/>
              </a:rPr>
              <a:t>u</a:t>
            </a:r>
            <a:r>
              <a:rPr b="0" lang="en-US" sz="3200" spc="-1" strike="noStrike" u="sng">
                <a:solidFill>
                  <a:srgbClr val="31859c"/>
                </a:solidFill>
                <a:uFillTx/>
                <a:latin typeface="Perpetua"/>
              </a:rPr>
              <a:t>n</a:t>
            </a:r>
            <a:r>
              <a:rPr b="0" lang="en-US" sz="3200" spc="-1" strike="noStrike" u="sng">
                <a:solidFill>
                  <a:srgbClr val="376092"/>
                </a:solidFill>
                <a:uFillTx/>
                <a:latin typeface="Perpetua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nd das gef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lt mir gut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33" name="Рисунок 3" descr=""/>
          <p:cNvPicPr/>
          <p:nvPr/>
        </p:nvPicPr>
        <p:blipFill>
          <a:blip r:embed="rId1"/>
          <a:stretch/>
        </p:blipFill>
        <p:spPr>
          <a:xfrm>
            <a:off x="2941560" y="1090440"/>
            <a:ext cx="1497240" cy="68292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4" descr=""/>
          <p:cNvPicPr/>
          <p:nvPr/>
        </p:nvPicPr>
        <p:blipFill>
          <a:blip r:embed="rId2"/>
          <a:stretch/>
        </p:blipFill>
        <p:spPr>
          <a:xfrm>
            <a:off x="2941560" y="2168640"/>
            <a:ext cx="1497240" cy="56988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5" descr=""/>
          <p:cNvPicPr/>
          <p:nvPr/>
        </p:nvPicPr>
        <p:blipFill>
          <a:blip r:embed="rId3"/>
          <a:stretch/>
        </p:blipFill>
        <p:spPr>
          <a:xfrm>
            <a:off x="2863800" y="3141720"/>
            <a:ext cx="1575000" cy="59832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6" descr=""/>
          <p:cNvPicPr/>
          <p:nvPr/>
        </p:nvPicPr>
        <p:blipFill>
          <a:blip r:embed="rId4"/>
          <a:stretch/>
        </p:blipFill>
        <p:spPr>
          <a:xfrm>
            <a:off x="2941560" y="4076640"/>
            <a:ext cx="1497240" cy="79236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7" descr=""/>
          <p:cNvPicPr/>
          <p:nvPr/>
        </p:nvPicPr>
        <p:blipFill>
          <a:blip r:embed="rId5"/>
          <a:stretch/>
        </p:blipFill>
        <p:spPr>
          <a:xfrm>
            <a:off x="2941560" y="5300640"/>
            <a:ext cx="1790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1"/>
          <a:stretch/>
        </p:blipFill>
        <p:spPr>
          <a:xfrm>
            <a:off x="755640" y="231840"/>
            <a:ext cx="7772400" cy="189540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419640" y="6308280"/>
            <a:ext cx="539568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3816360" cy="33130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D:\Рабочий стол\радуга.jpg"/>
          <p:cNvPicPr/>
          <p:nvPr/>
        </p:nvPicPr>
        <p:blipFill>
          <a:blip r:embed="rId3"/>
          <a:stretch/>
        </p:blipFill>
        <p:spPr>
          <a:xfrm>
            <a:off x="4356000" y="2852640"/>
            <a:ext cx="439272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Geben Sie den Farben die Namen.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971640" y="1413000"/>
          <a:ext cx="7715160" cy="5110200"/>
        </p:xfrm>
        <a:graphic>
          <a:graphicData uri="http://schemas.openxmlformats.org/drawingml/2006/table">
            <a:tbl>
              <a:tblPr/>
              <a:tblGrid>
                <a:gridCol w="3828960"/>
                <a:gridCol w="3886200"/>
              </a:tblGrid>
              <a:tr h="52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480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44" name="Прямоугольник 2"/>
          <p:cNvSpPr/>
          <p:nvPr/>
        </p:nvSpPr>
        <p:spPr>
          <a:xfrm>
            <a:off x="1258920" y="1484280"/>
            <a:ext cx="792000" cy="432000"/>
          </a:xfrm>
          <a:prstGeom prst="rect">
            <a:avLst/>
          </a:prstGeom>
          <a:solidFill>
            <a:srgbClr val="4f81bd"/>
          </a:solidFill>
          <a:ln w="1260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Das Bild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46" name="Объект 5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71298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Die Beschreibung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uf dem Bild: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Himmel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blau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Sonne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gelb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Blumen s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rot, rosa, lila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u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orange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Erde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schwarz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ie Wolken s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weiss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u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grau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as Gras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grü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r Baumstamm i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Perpetua"/>
              </a:rPr>
              <a:t>braun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Machen Sie bitte Tangram!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550" name="Объект 4" descr=""/>
          <p:cNvPicPr/>
          <p:nvPr/>
        </p:nvPicPr>
        <p:blipFill>
          <a:blip r:embed="rId1"/>
          <a:stretch/>
        </p:blipFill>
        <p:spPr>
          <a:xfrm>
            <a:off x="914400" y="2116080"/>
            <a:ext cx="3749760" cy="3235320"/>
          </a:xfrm>
          <a:prstGeom prst="rect">
            <a:avLst/>
          </a:prstGeom>
          <a:ln w="0">
            <a:noFill/>
          </a:ln>
        </p:spPr>
      </p:pic>
      <p:pic>
        <p:nvPicPr>
          <p:cNvPr id="551" name="Объект 5" descr=""/>
          <p:cNvPicPr/>
          <p:nvPr/>
        </p:nvPicPr>
        <p:blipFill>
          <a:blip r:embed="rId2"/>
          <a:stretch/>
        </p:blipFill>
        <p:spPr>
          <a:xfrm>
            <a:off x="4933800" y="1736640"/>
            <a:ext cx="37497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Machen Sie bitte das Kreuzwortr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  <a:ea typeface="Calibri"/>
              </a:rPr>
              <a:t>ӓ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  <a:ea typeface="Calibri"/>
              </a:rPr>
              <a:t>tsel!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914400" y="1700280"/>
          <a:ext cx="3586320" cy="3744720"/>
        </p:xfrm>
        <a:graphic>
          <a:graphicData uri="http://schemas.openxmlformats.org/drawingml/2006/table">
            <a:tbl>
              <a:tblPr/>
              <a:tblGrid>
                <a:gridCol w="255600"/>
                <a:gridCol w="257040"/>
                <a:gridCol w="255600"/>
                <a:gridCol w="255600"/>
                <a:gridCol w="257400"/>
                <a:gridCol w="255600"/>
                <a:gridCol w="257040"/>
                <a:gridCol w="255600"/>
                <a:gridCol w="255600"/>
                <a:gridCol w="257040"/>
                <a:gridCol w="255600"/>
                <a:gridCol w="255600"/>
                <a:gridCol w="257400"/>
                <a:gridCol w="255600"/>
              </a:tblGrid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8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  <a:tr h="266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mbria"/>
                          <a:ea typeface="Cambr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ctr">
                    <a:lnL w="5760">
                      <a:solidFill>
                        <a:srgbClr val="888888"/>
                      </a:solidFill>
                    </a:lnL>
                    <a:lnR w="5760">
                      <a:solidFill>
                        <a:srgbClr val="888888"/>
                      </a:solidFill>
                    </a:lnR>
                    <a:lnT w="5760">
                      <a:solidFill>
                        <a:srgbClr val="888888"/>
                      </a:solidFill>
                    </a:lnT>
                    <a:lnB w="5760">
                      <a:solidFill>
                        <a:srgbClr val="888888"/>
                      </a:solidFill>
                    </a:lnB>
                    <a:solidFill>
                      <a:srgbClr val="bbbbb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4" name=""/>
          <p:cNvGraphicFramePr/>
          <p:nvPr/>
        </p:nvGraphicFramePr>
        <p:xfrm>
          <a:off x="4838760" y="2587680"/>
          <a:ext cx="1317600" cy="1882800"/>
        </p:xfrm>
        <a:graphic>
          <a:graphicData uri="http://schemas.openxmlformats.org/drawingml/2006/table">
            <a:tbl>
              <a:tblPr/>
              <a:tblGrid>
                <a:gridCol w="596880"/>
                <a:gridCol w="720720"/>
              </a:tblGrid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4806"/>
                    </a:solidFill>
                  </a:tcPr>
                </a:tc>
              </a:tr>
              <a:tr h="312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b8b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6659640" y="2637000"/>
          <a:ext cx="1368360" cy="1712880"/>
        </p:xfrm>
        <a:graphic>
          <a:graphicData uri="http://schemas.openxmlformats.org/drawingml/2006/table">
            <a:tbl>
              <a:tblPr/>
              <a:tblGrid>
                <a:gridCol w="471240"/>
                <a:gridCol w="897120"/>
              </a:tblGrid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44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Franklin Gothic Book"/>
              </a:rPr>
              <a:t>Machen Sie die W</a:t>
            </a:r>
            <a:r>
              <a:rPr b="0" lang="ru-RU" sz="4000" spc="-1" strike="noStrike">
                <a:solidFill>
                  <a:srgbClr val="1f497d"/>
                </a:solidFill>
                <a:latin typeface="Calibri"/>
                <a:ea typeface="Calibri"/>
              </a:rPr>
              <a:t>ӧ</a:t>
            </a:r>
            <a:r>
              <a:rPr b="0" lang="en-US" sz="4000" spc="-1" strike="noStrike">
                <a:solidFill>
                  <a:srgbClr val="1f497d"/>
                </a:solidFill>
                <a:latin typeface="Calibri"/>
                <a:ea typeface="Calibri"/>
              </a:rPr>
              <a:t>rterkiste!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2496960" y="1841400"/>
          <a:ext cx="4607280" cy="3786120"/>
        </p:xfrm>
        <a:graphic>
          <a:graphicData uri="http://schemas.openxmlformats.org/drawingml/2006/table">
            <a:tbl>
              <a:tblPr/>
              <a:tblGrid>
                <a:gridCol w="362160"/>
                <a:gridCol w="361800"/>
                <a:gridCol w="449280"/>
                <a:gridCol w="362160"/>
                <a:gridCol w="450720"/>
                <a:gridCol w="449280"/>
                <a:gridCol w="361800"/>
                <a:gridCol w="362160"/>
                <a:gridCol w="361800"/>
                <a:gridCol w="362160"/>
                <a:gridCol w="361800"/>
                <a:gridCol w="362160"/>
              </a:tblGrid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erpetu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8" name="Picture 174" descr=""/>
          <p:cNvPicPr/>
          <p:nvPr/>
        </p:nvPicPr>
        <p:blipFill>
          <a:blip r:embed="rId1"/>
          <a:stretch/>
        </p:blipFill>
        <p:spPr>
          <a:xfrm>
            <a:off x="1511280" y="1341360"/>
            <a:ext cx="6120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16:24:35Z</dcterms:created>
  <dc:creator>Пользователь Windows</dc:creator>
  <dc:description/>
  <dc:language>en-US</dc:language>
  <cp:lastModifiedBy>Учитель</cp:lastModifiedBy>
  <dcterms:modified xsi:type="dcterms:W3CDTF">2024-01-30T06:20:24Z</dcterms:modified>
  <cp:revision>66</cp:revision>
  <dc:subject/>
  <dc:title>What colour is it?</dc:title>
</cp:coreProperties>
</file>