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C8CE-81BB-431E-B851-4BD9E871B6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C1DC-24F9-4B33-A6AA-DBE8EF10D9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15C-49FF-4446-ACD4-F444DC27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A3D-4AD0-4501-9269-62BF623C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A78-3F56-418F-BDAA-58471512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012-F252-47A5-BE27-A6C402B6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E9E3-0193-454F-B442-299A06FD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29C1-D3B6-4A56-B5D2-BA8B7524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46F6-678E-43FB-A7BA-4C89C0D2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D282-0641-4CA9-BF5B-584D9626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44FA-6005-4539-8E54-1B65A21B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02A7-5B60-4786-B556-17E1FB78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8E5D-73B7-495B-A6BF-28AFD1EA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60F-F27E-4B59-BF67-3ACDA635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9374-740B-4D48-A71A-E3D41352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0299-B0BB-4C81-8B52-9D1E6180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364A-FC2B-4D15-94E0-930D2A65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28EE-59C1-4E85-8F26-58D5BC9D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338F-C274-4A7F-836D-BAD557A7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21B6-956C-4CA6-8DF6-DEABDB12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DA11-210D-4B1F-B84A-2874570A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340B-7502-4F98-B688-5353F985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C684-0D37-4B7F-BB6B-581EBC55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628A-7777-4373-843E-5C516C0C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827-218E-4500-BA4F-1AFE9F73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7512-C4FE-4675-B9DE-09C61E49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A261-D0C5-47A6-A6C6-B6A331F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2B75-7154-48BD-BA0B-918B563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D82B3-E9CA-48F6-8033-349086AB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6A932-A4F6-489F-8130-7AFB1108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A20B-9F95-4B17-8691-ACE45102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1A88-BF5C-4531-8474-32FBAC66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DE90-19E0-43BE-BA68-A4284389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DDF1-8FB5-40D9-8291-300A8122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DB98-8752-442B-A165-9AE5AE42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BD0-1EA7-4FD5-8658-20EB26ED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46AF4-5FEC-4495-A740-4AC68617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0C0C-D798-4E86-A793-59D753CD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AEB6-783C-4DC1-9217-1B82284F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2C20B-DD0B-410C-9F9C-221D7B0F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C2D0-7B6C-42FC-966B-FFA2BF3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19EE-023E-4C04-A69D-378A452B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3EF0-4472-40F4-835C-1AFC55A0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2850-F026-4094-BBD1-70F5EEFF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88763-994B-4BA8-9A66-58BA87FC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5F9CF-99BB-403E-81E5-3FDEC842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8C8-F31A-4036-9066-FA342AD5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0BC3E-9BFD-4D3E-BAB8-BE887E43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6119D-6AE5-4117-B477-4927E764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4DF83-2586-4316-8887-11A67A84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108D1-2511-4689-A84E-41405869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228EE-3454-48B7-8595-5AAC84EC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1F30F-D7A6-4AD0-A734-BF9C771D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9655C-2268-4F48-BC03-DC1B1416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AACA3-CC49-4057-A6D2-80A60EF2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C707A-93F3-48D1-8D45-F3A78686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4A7A9-C875-441F-A7C2-6C1E8F7E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A69-39B0-45BE-8EF0-E9A1B9D5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22F74-A2CE-47DE-BEEF-1C131E7B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18D6C-6AD9-43EE-B894-E01787C0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3BF7B-B5DE-4B10-BB98-02750CAD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CB38B-04C1-47E4-ADF3-9E9FBBEA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114DC-9D39-4BB1-AA37-8BAB5629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14B4C-C929-45C8-A046-35B0F01A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2D2C4-9155-4F5C-996D-4650CA42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A460-C8E2-4AED-9A24-989311D9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2AB6B-E75D-4611-B726-6E0C3E5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2284F-2FF1-4699-8928-08B8C4A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175-E3BD-4860-BD10-906BC1FE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7C7E9-2E85-421F-8F54-6A10AC2B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05E99-76B0-4752-8C8C-A59A7F79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9131D-5B2D-489F-9C2F-020F33D0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EBB4D-3692-46C8-A56C-A251E5E9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C1797-74FD-465F-932B-F4CF1CDB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BB2B9-7314-4CBD-A325-B5D6FCB9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220CC-F097-4622-A3DF-92744B14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5F3C6-C9F5-41F3-80B8-F89932E9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3056-7AED-40D3-8E92-FCA38D93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773E-1882-4956-980B-AD0247C2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748-B0A2-4C52-B9E9-679BD51A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8747B-6AE5-4230-89F2-8ED13D80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81C36-6E2B-46E4-BEC8-3CC95A85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5F392-1980-4FF6-AD62-4AE8A490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F97DA-4EA8-4DB6-8E3D-28F407EE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B6E2C-DAC3-4C6F-A6C8-C4CBBB8D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AB1-6C2A-4A8A-8FDB-E8FF9C19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09F8-0BF9-478C-960D-EAEF9A963A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5B4F-F423-45B3-896F-4C36DF43C9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2DDA-4A8C-4AE9-A8A8-B4EE33938E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1955-A984-4591-9793-CFB2DFAC75B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EB73-6514-45BE-8B97-0D8D445167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C6E6-E45A-488A-95DF-E8AB89BC99C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6779-E9F3-4C91-A74A-E1C61ACF2CC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353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ПСИХОЛОГИЧЕСКАЯ ГОТОВНОСТЬ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РЕБЕНКА К ШКОЛЕ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19640" y="4292640"/>
            <a:ext cx="3672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У. Кирьянов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Школы с.Аксар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D:\Мои документы\Картинки и открытки\Готовы ли к школе 2.jpg"/>
          <p:cNvPicPr/>
          <p:nvPr/>
        </p:nvPicPr>
        <p:blipFill>
          <a:blip r:embed="rId1"/>
          <a:stretch/>
        </p:blipFill>
        <p:spPr>
          <a:xfrm>
            <a:off x="826920" y="1844640"/>
            <a:ext cx="48261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2000" y="5805360"/>
            <a:ext cx="79628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Спасибо за внимание!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Содержимое 3" descr="17.png"/>
          <p:cNvPicPr/>
          <p:nvPr/>
        </p:nvPicPr>
        <p:blipFill>
          <a:blip r:embed="rId1"/>
          <a:stretch/>
        </p:blipFill>
        <p:spPr>
          <a:xfrm>
            <a:off x="1089000" y="1268280"/>
            <a:ext cx="7875720" cy="4105440"/>
          </a:xfrm>
          <a:prstGeom prst="rect">
            <a:avLst/>
          </a:prstGeom>
          <a:ln w="0">
            <a:noFill/>
          </a:ln>
        </p:spPr>
      </p:pic>
      <p:sp>
        <p:nvSpPr>
          <p:cNvPr id="360" name="Заголовок 1"/>
          <p:cNvSpPr/>
          <p:nvPr/>
        </p:nvSpPr>
        <p:spPr>
          <a:xfrm>
            <a:off x="1149480" y="0"/>
            <a:ext cx="79628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70c0"/>
                </a:solidFill>
                <a:latin typeface="Corbel"/>
              </a:rPr>
              <a:t>Успехов Вам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03280" y="-55800"/>
            <a:ext cx="7499520" cy="68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готовым к школе – не значит уметь читать, писать и считать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готовым к школе –  значит быть готовым всему этому научиться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нгер Л.А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81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же такое психологическая готовность к  обучению в  школе?</a:t>
            </a:r>
            <a:br>
              <a:rPr sz="40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Содержимое 5" descr="Рисунок1.jpg"/>
          <p:cNvPicPr/>
          <p:nvPr/>
        </p:nvPicPr>
        <p:blipFill>
          <a:blip r:embed="rId1"/>
          <a:stretch/>
        </p:blipFill>
        <p:spPr>
          <a:xfrm>
            <a:off x="1547640" y="1700280"/>
            <a:ext cx="3257640" cy="4664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643280" y="1557000"/>
            <a:ext cx="45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к школе </a:t>
            </a:r>
            <a:r>
              <a:rPr b="1" lang="ru-RU" sz="28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(синоним: школьная зрелость) – </a:t>
            </a:r>
            <a:r>
              <a:rPr b="1" i="1" lang="ru-RU" sz="28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это необходимый и достаточный уровень психического развития ребенка для начала освоения школьной учебной программы в условиях обучения в группе сверстников.</a:t>
            </a:r>
            <a:r>
              <a:rPr b="1" lang="ru-RU" sz="28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7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Составляющие психологической готовности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9" descr="Рисунок4.jpg"/>
          <p:cNvPicPr/>
          <p:nvPr/>
        </p:nvPicPr>
        <p:blipFill>
          <a:blip r:embed="rId1"/>
          <a:stretch/>
        </p:blipFill>
        <p:spPr>
          <a:xfrm>
            <a:off x="1187280" y="1413000"/>
            <a:ext cx="3470400" cy="4273560"/>
          </a:xfrm>
          <a:prstGeom prst="rect">
            <a:avLst/>
          </a:prstGeom>
          <a:ln w="0">
            <a:noFill/>
          </a:ln>
        </p:spPr>
      </p:pic>
      <p:sp>
        <p:nvSpPr>
          <p:cNvPr id="334" name="Скругленный прямоугольник 4"/>
          <p:cNvSpPr/>
          <p:nvPr/>
        </p:nvSpPr>
        <p:spPr>
          <a:xfrm>
            <a:off x="5508720" y="119700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19"/>
                </a:solidFill>
                <a:latin typeface="Arial"/>
              </a:rPr>
              <a:t>Интеллектуальная гото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6"/>
          <p:cNvSpPr/>
          <p:nvPr/>
        </p:nvSpPr>
        <p:spPr>
          <a:xfrm>
            <a:off x="5508720" y="400536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19"/>
                </a:solidFill>
                <a:latin typeface="Arial"/>
              </a:rPr>
              <a:t>Мотивационная гото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7"/>
          <p:cNvSpPr/>
          <p:nvPr/>
        </p:nvSpPr>
        <p:spPr>
          <a:xfrm>
            <a:off x="5508720" y="537372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19"/>
                </a:solidFill>
                <a:latin typeface="Arial"/>
              </a:rPr>
              <a:t>Эмоционально-волевая гото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8"/>
          <p:cNvSpPr/>
          <p:nvPr/>
        </p:nvSpPr>
        <p:spPr>
          <a:xfrm>
            <a:off x="5508720" y="256536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19"/>
                </a:solidFill>
                <a:latin typeface="Arial"/>
              </a:rPr>
              <a:t>Личностно-социальная гото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240" y="3644640"/>
            <a:ext cx="9131400" cy="301284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  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400" y="23400"/>
            <a:ext cx="9144000" cy="69228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теллектуальная готов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9280" y="3644640"/>
            <a:ext cx="3745080" cy="284004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раж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Содержимое 7" descr="Рисунок5.jpg"/>
          <p:cNvPicPr/>
          <p:nvPr/>
        </p:nvPicPr>
        <p:blipFill>
          <a:blip r:embed="rId1"/>
          <a:stretch/>
        </p:blipFill>
        <p:spPr>
          <a:xfrm>
            <a:off x="5076720" y="3500280"/>
            <a:ext cx="3805200" cy="300528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  <p:sp>
        <p:nvSpPr>
          <p:cNvPr id="342" name="Прямоугольник 1"/>
          <p:cNvSpPr/>
          <p:nvPr/>
        </p:nvSpPr>
        <p:spPr>
          <a:xfrm>
            <a:off x="179280" y="1052640"/>
            <a:ext cx="843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авыков счета, письма не возможно без сформированности основных психических функ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5445000"/>
            <a:ext cx="9139320" cy="155736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ыша к моменту поступления в школу должен  быть достаточно разнообразный опыт общения с незнакомыми людьми. Необходимо дать ему возможность самому установить контакты с окружающими в поликлинике, на детской площадке, в магазине и пр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6480"/>
            <a:ext cx="9144000" cy="6919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чностно-социальная готов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50560" y="907920"/>
            <a:ext cx="4608360" cy="439272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и ребенок общаться с детьм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 ли инициативу в общении или ждет, когда его позовут другие ребят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ует ли принятые в обществе нормы общ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 ли учитывать интересы других детей или коллективные интересы, умеет ли отстаивать свое мне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ует ли разницу в общении с детьми, учителями и другими взрослыми, родител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Содержимое 8" descr="Рисунок6.jpg"/>
          <p:cNvPicPr/>
          <p:nvPr/>
        </p:nvPicPr>
        <p:blipFill>
          <a:blip r:embed="rId1"/>
          <a:stretch/>
        </p:blipFill>
        <p:spPr>
          <a:xfrm>
            <a:off x="4869000" y="981000"/>
            <a:ext cx="3929040" cy="378792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25920" y="-360"/>
            <a:ext cx="9169560" cy="76500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тивационная готов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0920" y="764640"/>
            <a:ext cx="4284720" cy="374364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 интерес, желание узнавать что то ново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положительного отноше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к школе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ю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й деятельност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амому себ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Содержимое 7" descr="Рисунок7.jpg"/>
          <p:cNvPicPr/>
          <p:nvPr/>
        </p:nvPicPr>
        <p:blipFill>
          <a:blip r:embed="rId1"/>
          <a:stretch/>
        </p:blipFill>
        <p:spPr>
          <a:xfrm>
            <a:off x="4716360" y="1341360"/>
            <a:ext cx="4249800" cy="288144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  <p:sp>
        <p:nvSpPr>
          <p:cNvPr id="350" name="Rectangle 10"/>
          <p:cNvSpPr/>
          <p:nvPr/>
        </p:nvSpPr>
        <p:spPr>
          <a:xfrm>
            <a:off x="0" y="4523040"/>
            <a:ext cx="9144000" cy="274608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 рассказывать ребенку о своих школьных годах, вспоминая смешные и поучительные случаи, читать вместе с ребенком книги о школе, рассказывать о школьных порядках, устроить малышу экскурсию по будущей школе, показав ему, где он будет учиться. Полезны занятия, которые развивают фантазию и воображение:  рисование, лепка, конструирование, а также самостоятельность  и упорство: занятия в кружках и секц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00" y="4652640"/>
            <a:ext cx="9144000" cy="220500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этих качеств поможет игра!!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учат спокойно дожидаться своей очереди, своего хода, с достоинством проигрывать, выстраивать свою стратегию и при этом учитывать постоянно меняющиеся обстоятельства и т.д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обходимо приучать ребенка к смене деятельности, режиму дн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роявлять веру в ребенка, искренне поощрять, помогать  и  поддерживать. Потихоньку ребенок разовьет в себе способность к волевому усилию, но не сразу. Помогите ему!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Эмоционально-волевая готовнос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6360" y="981000"/>
            <a:ext cx="4680000" cy="353232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делать не только то, что хочу, но и то, что надо, не бояться трудностей, разрешать их самостоятель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ая самооценка и положительный образ  себ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средоточиться, управление эмоци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Содержимое 6" descr="FrustratedChild710.jpg"/>
          <p:cNvPicPr/>
          <p:nvPr/>
        </p:nvPicPr>
        <p:blipFill>
          <a:blip r:embed="rId1"/>
          <a:stretch/>
        </p:blipFill>
        <p:spPr>
          <a:xfrm>
            <a:off x="4788000" y="1125360"/>
            <a:ext cx="4105080" cy="309564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8915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5519"/>
                </a:solidFill>
                <a:latin typeface="Corbe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, что психологическая готовность к школе – это вся дошкольная жизнь. Но даже за несколько месяцев до школы  можно при необходимости что-то   скорректировать и помочь будущему   первокласснику спокойно и радостно войти в новый мир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Содержимое 4" descr="anekdoty-pro-shkolu-01.jpg"/>
          <p:cNvPicPr/>
          <p:nvPr/>
        </p:nvPicPr>
        <p:blipFill>
          <a:blip r:embed="rId1"/>
          <a:stretch/>
        </p:blipFill>
        <p:spPr>
          <a:xfrm>
            <a:off x="1187280" y="3500280"/>
            <a:ext cx="3392640" cy="273708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5" descr="48891-0.jpg"/>
          <p:cNvPicPr/>
          <p:nvPr/>
        </p:nvPicPr>
        <p:blipFill>
          <a:blip r:embed="rId2"/>
          <a:stretch/>
        </p:blipFill>
        <p:spPr>
          <a:xfrm>
            <a:off x="5219640" y="3500280"/>
            <a:ext cx="3600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04:15Z</dcterms:created>
  <dc:creator>МАМА</dc:creator>
  <dc:description/>
  <dc:language>en-US</dc:language>
  <cp:lastModifiedBy>User</cp:lastModifiedBy>
  <dcterms:modified xsi:type="dcterms:W3CDTF">2021-03-01T04:21:15Z</dcterms:modified>
  <cp:revision>99</cp:revision>
  <dc:subject/>
  <dc:title>Слайд 1</dc:title>
</cp:coreProperties>
</file>