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D674-8F51-4F7E-8B60-F5EA19B2B9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8C71-2E05-4D32-8784-F59E900E03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CAE-80E2-474B-8DBE-7A3B5EF3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C2FC-65D2-483B-AB5B-994A935C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1FB5-C2F3-4DDE-95E3-7FD1A3E4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E8B5-8B64-4B49-B8E1-E0699C03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EF44-DD2C-483A-B344-BFD868C2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5897-8124-4EDC-B278-DDAAF78A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54F9-EF34-4042-82FB-8930E4EC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20D1-A36C-43FB-85AD-FE34E464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877C-28AD-480F-9AC6-26234A69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90FC-8C12-42D9-99B3-5F68EC42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6171-CDC0-4E1E-A322-7D356094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F12E-8A76-40BE-B6D5-E0AAE50F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D23E-7285-4159-9427-BE0D1D40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76E2-8D00-4170-9B3D-AB527979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E254-C1F2-44D9-B7DD-9834C611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16E2-9E5F-4339-995B-B7B9F0A3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B9AA-EA86-41BC-BE1C-3C3D2B6A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1F756-9CF5-4BDC-9BC3-3533CA5B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F44DF-FF54-4E69-8DC9-C8ADBF51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24BE8-CD51-4B5E-ACAE-8362EB18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26AB6-5682-49C4-9CB8-083E5B7B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2A497-74C3-4AC6-A2E1-1A43F8D8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2A42-DAC4-435A-84E6-FFE0B8D5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54D1D-4D28-4921-BCC2-4512AB48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6F571-3DDF-4D2A-93E9-E78EACD8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0DD33-5B92-404D-8680-37DF9890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3C820-6D91-4A88-B480-28E2512A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2B2E3-3DE8-4B88-A549-5F32DCF6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0A52D-EC26-4C02-A887-B733BB9B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6FF96-D8B0-4DC8-9BFC-FE6AEBBAA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7491D-26FC-4333-A710-6490A1DC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DB90E-9379-4EE3-9294-AE435FF7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E64FC-FEDC-499E-BC27-6FB9E3A2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0148-7CE7-4071-A16F-841B6A2B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3B44A-F17F-4CA5-8EF1-5D615D3B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CF55E-2F80-403F-BEEC-9096B15C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3139B-AB1C-45F1-BBFA-461CA2AE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2F8D3-E441-46AD-A958-03930CBF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7D583-0B0C-41AC-9A04-4EED3BE0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FF0B1-8A43-4383-87B5-010B903C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E8057-7516-4C57-9E7D-E60DEEC6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325E0-74E2-42E7-805E-0B5151C9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2895A-E9B1-4AE4-98B8-CB9F12E1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4D547-7006-423F-A574-7BC2ADEE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027-0C80-40F1-9001-7558E060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6AED2-93C1-480F-9034-67E23362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FED1F-D60C-49A4-8FFD-BAF3CA23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FAD2E-8909-4114-9816-FC882859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1DADE-2B6E-48CC-AC43-CCC219C5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D1908-D341-4874-82BB-80EEDBD5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62F97-9058-4FB5-8AF2-0A6A0ED4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3D658-B63A-49F5-B467-EC8CEA6D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EE3FE-7033-44D4-BF89-00C1F5E2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CBDD7-B428-4424-BA75-C3F8D347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35102-222D-4C93-97F4-B436CF8A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1FEB-A3AF-40E4-A484-413EA8D8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CED6B-526E-4C72-97CA-B799076ED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6CF14A-00DE-4B3A-9F02-6A130EAA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DD65B-4CF9-49AE-952E-F2B359A1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CA0F5-1C53-412A-84B7-CDC5AF41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18EC8-665B-46D2-81E3-D6C1EBB5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403AC-909A-4397-8B22-CFAD3C7E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2EF71-A4DF-4088-BCF5-68DD937E9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9C2F5-D051-4D04-B70B-5439DDBD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BF621-C119-49CA-9D9D-3578C204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F0F19-3819-4B33-B0BD-FC95EA73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3ACA-5BF4-4F67-9015-05436CA0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B216D-CAEB-4C71-965E-97EE4810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164CB-51B8-4326-AB60-85EBF01C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2B8D4-647D-4741-91A5-4872058E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FDC9E-C1D5-4072-9715-C8065788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7712D-8B9F-4A17-A9ED-EFEE811D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D5588-2789-4E01-B879-3980598B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DD09C-C7FD-49BC-B8C8-352EE220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9260C-B921-433A-9E27-C6A99F30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50632-8A87-4ED4-BBC5-CEF4DC3C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33EB1-C0C9-41B4-A982-2B3ED1C2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D127-BE26-4E8F-A4F0-E1F9DE39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67011-75A2-4CAE-AA30-9CA8DE5B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FDE53-BFA2-4E09-9BFB-531B80DE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D4B33-0EE5-459A-BF0A-9289121F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06723-6274-4710-871F-99C6F3DF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7A83E-D192-4908-AD6C-FE8872F9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05B-54E5-4635-B3BB-22DD8916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21F8-AFA4-4B83-BBDC-4F3991F222C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7DA2-AF9F-4531-AD0C-F60B316606A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C484-0267-4AD8-8C0B-619ECEDEC53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B4FF-B3FE-49DD-BA01-C093E2F3961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CE74-5C94-4E5B-9D7E-AFE768C4F6D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ED54-3319-4DDC-A5E1-B64F1413A85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823A-5264-49B7-81F4-B9E6FA3ABCA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11280" y="43920"/>
            <a:ext cx="83534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ПСИХОЛОГИЧЕСКАЯ ГОТОВНОСТЬ 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РЕБЕНКА К ШКОЛЕ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19640" y="4292640"/>
            <a:ext cx="36720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У. Кирьянова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Школы с.Аксарк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2" descr="D:\Мои документы\Картинки и открытки\Готовы ли к школе 2.jpg"/>
          <p:cNvPicPr/>
          <p:nvPr/>
        </p:nvPicPr>
        <p:blipFill>
          <a:blip r:embed="rId1"/>
          <a:stretch/>
        </p:blipFill>
        <p:spPr>
          <a:xfrm>
            <a:off x="826920" y="1844640"/>
            <a:ext cx="482616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72000" y="5805360"/>
            <a:ext cx="79628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orbel"/>
              </a:rPr>
              <a:t>Спасибо за внимание!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9" name="Содержимое 3" descr="17.png"/>
          <p:cNvPicPr/>
          <p:nvPr/>
        </p:nvPicPr>
        <p:blipFill>
          <a:blip r:embed="rId1"/>
          <a:stretch/>
        </p:blipFill>
        <p:spPr>
          <a:xfrm>
            <a:off x="1089000" y="1268280"/>
            <a:ext cx="7875720" cy="4105440"/>
          </a:xfrm>
          <a:prstGeom prst="rect">
            <a:avLst/>
          </a:prstGeom>
          <a:ln w="0">
            <a:noFill/>
          </a:ln>
        </p:spPr>
      </p:pic>
      <p:sp>
        <p:nvSpPr>
          <p:cNvPr id="360" name="Заголовок 1"/>
          <p:cNvSpPr/>
          <p:nvPr/>
        </p:nvSpPr>
        <p:spPr>
          <a:xfrm>
            <a:off x="1149480" y="0"/>
            <a:ext cx="796284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70c0"/>
                </a:solidFill>
                <a:latin typeface="Corbel"/>
              </a:rPr>
              <a:t>Успехов Вам!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03280" y="-55800"/>
            <a:ext cx="7499520" cy="682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готовым к школе – не значит уметь читать, писать и считать.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готовым к школе –  значит быть готовым всему этому научиться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600"/>
            </a:b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нгер Л.А.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817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Что же такое психологическая готовность к  обучению в  школе?</a:t>
            </a:r>
            <a:br>
              <a:rPr sz="40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Содержимое 5" descr="Рисунок1.jpg"/>
          <p:cNvPicPr/>
          <p:nvPr/>
        </p:nvPicPr>
        <p:blipFill>
          <a:blip r:embed="rId1"/>
          <a:stretch/>
        </p:blipFill>
        <p:spPr>
          <a:xfrm>
            <a:off x="1547640" y="1700280"/>
            <a:ext cx="3257640" cy="46641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643280" y="1557000"/>
            <a:ext cx="450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ая готовность к школе </a:t>
            </a:r>
            <a:r>
              <a:rPr b="1" lang="ru-RU" sz="2800" spc="-1" strike="noStrike">
                <a:solidFill>
                  <a:srgbClr val="425519"/>
                </a:solidFill>
                <a:latin typeface="Times New Roman"/>
                <a:ea typeface="Times New Roman"/>
              </a:rPr>
              <a:t>(синоним: школьная зрелость) – </a:t>
            </a:r>
            <a:r>
              <a:rPr b="1" i="1" lang="ru-RU" sz="2800" spc="-1" strike="noStrike">
                <a:solidFill>
                  <a:srgbClr val="425519"/>
                </a:solidFill>
                <a:latin typeface="Times New Roman"/>
                <a:ea typeface="Times New Roman"/>
              </a:rPr>
              <a:t>это необходимый и достаточный уровень психического развития ребенка для начала освоения школьной учебной программы в условиях обучения в группе сверстников.</a:t>
            </a:r>
            <a:r>
              <a:rPr b="1" lang="ru-RU" sz="2800" spc="-1" strike="noStrike">
                <a:solidFill>
                  <a:srgbClr val="42551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712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5519"/>
                </a:solidFill>
                <a:latin typeface="Times New Roman"/>
                <a:ea typeface="Times New Roman"/>
              </a:rPr>
              <a:t>Составляющие психологической готовности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Содержимое 9" descr="Рисунок4.jpg"/>
          <p:cNvPicPr/>
          <p:nvPr/>
        </p:nvPicPr>
        <p:blipFill>
          <a:blip r:embed="rId1"/>
          <a:stretch/>
        </p:blipFill>
        <p:spPr>
          <a:xfrm>
            <a:off x="1187280" y="1413000"/>
            <a:ext cx="3470400" cy="4273560"/>
          </a:xfrm>
          <a:prstGeom prst="rect">
            <a:avLst/>
          </a:prstGeom>
          <a:ln w="0">
            <a:noFill/>
          </a:ln>
        </p:spPr>
      </p:pic>
      <p:sp>
        <p:nvSpPr>
          <p:cNvPr id="334" name="Скругленный прямоугольник 4"/>
          <p:cNvSpPr/>
          <p:nvPr/>
        </p:nvSpPr>
        <p:spPr>
          <a:xfrm>
            <a:off x="5508720" y="1197000"/>
            <a:ext cx="3240000" cy="914400"/>
          </a:xfrm>
          <a:prstGeom prst="roundRect">
            <a:avLst>
              <a:gd name="adj" fmla="val 16667"/>
            </a:avLst>
          </a:prstGeom>
          <a:solidFill>
            <a:srgbClr val="7ec3d4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5519"/>
                </a:solidFill>
                <a:latin typeface="Arial"/>
              </a:rPr>
              <a:t>Интеллектуальная гото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6"/>
          <p:cNvSpPr/>
          <p:nvPr/>
        </p:nvSpPr>
        <p:spPr>
          <a:xfrm>
            <a:off x="5508720" y="4005360"/>
            <a:ext cx="3240000" cy="914400"/>
          </a:xfrm>
          <a:prstGeom prst="roundRect">
            <a:avLst>
              <a:gd name="adj" fmla="val 16667"/>
            </a:avLst>
          </a:prstGeom>
          <a:solidFill>
            <a:srgbClr val="7ec3d4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5519"/>
                </a:solidFill>
                <a:latin typeface="Arial"/>
              </a:rPr>
              <a:t>Мотивационная гото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кругленный прямоугольник 7"/>
          <p:cNvSpPr/>
          <p:nvPr/>
        </p:nvSpPr>
        <p:spPr>
          <a:xfrm>
            <a:off x="5508720" y="5373720"/>
            <a:ext cx="3240000" cy="914400"/>
          </a:xfrm>
          <a:prstGeom prst="roundRect">
            <a:avLst>
              <a:gd name="adj" fmla="val 16667"/>
            </a:avLst>
          </a:prstGeom>
          <a:solidFill>
            <a:srgbClr val="7ec3d4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5519"/>
                </a:solidFill>
                <a:latin typeface="Arial"/>
              </a:rPr>
              <a:t>Эмоционально-волевая гото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кругленный прямоугольник 8"/>
          <p:cNvSpPr/>
          <p:nvPr/>
        </p:nvSpPr>
        <p:spPr>
          <a:xfrm>
            <a:off x="5508720" y="2565360"/>
            <a:ext cx="3240000" cy="914400"/>
          </a:xfrm>
          <a:prstGeom prst="roundRect">
            <a:avLst>
              <a:gd name="adj" fmla="val 16667"/>
            </a:avLst>
          </a:prstGeom>
          <a:solidFill>
            <a:srgbClr val="7ec3d4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5519"/>
                </a:solidFill>
                <a:latin typeface="Arial"/>
              </a:rPr>
              <a:t>Личностно-социальная гото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240" y="3644640"/>
            <a:ext cx="9131400" cy="3012840"/>
          </a:xfrm>
          <a:prstGeom prst="rect">
            <a:avLst/>
          </a:prstGeom>
          <a:solidFill>
            <a:srgbClr val="b9d77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	</a:t>
            </a: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  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400" y="23400"/>
            <a:ext cx="9144000" cy="69228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нтеллектуальная готов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39280" y="3644640"/>
            <a:ext cx="3745080" cy="284004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ь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шлен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ображен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ни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Содержимое 7" descr="Рисунок5.jpg"/>
          <p:cNvPicPr/>
          <p:nvPr/>
        </p:nvPicPr>
        <p:blipFill>
          <a:blip r:embed="rId1"/>
          <a:stretch/>
        </p:blipFill>
        <p:spPr>
          <a:xfrm>
            <a:off x="5076720" y="3500280"/>
            <a:ext cx="3805200" cy="3005280"/>
          </a:xfrm>
          <a:prstGeom prst="rect">
            <a:avLst/>
          </a:prstGeom>
          <a:ln w="10800">
            <a:solidFill>
              <a:srgbClr val="ffffff"/>
            </a:solidFill>
            <a:prstDash val="dash"/>
            <a:miter/>
          </a:ln>
        </p:spPr>
      </p:pic>
      <p:sp>
        <p:nvSpPr>
          <p:cNvPr id="342" name="Прямоугольник 1"/>
          <p:cNvSpPr/>
          <p:nvPr/>
        </p:nvSpPr>
        <p:spPr>
          <a:xfrm>
            <a:off x="179280" y="1052640"/>
            <a:ext cx="843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навыков счета, письма не возможно без сформированности основных психических функ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5445000"/>
            <a:ext cx="9139320" cy="1557360"/>
          </a:xfrm>
          <a:prstGeom prst="rect">
            <a:avLst/>
          </a:prstGeom>
          <a:solidFill>
            <a:srgbClr val="b9d77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алыша к моменту поступления в школу должен  быть достаточно разнообразный опыт общения с незнакомыми людьми. Необходимо дать ему возможность самому установить контакты с окружающими в поликлинике, на детской площадке, в магазине и пр.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0" y="6480"/>
            <a:ext cx="9144000" cy="6919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ичностно-социальная готов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250560" y="907920"/>
            <a:ext cx="4608360" cy="439272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100000"/>
              </a:lnSpc>
              <a:buClr>
                <a:srgbClr val="99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ет ли ребенок общаться с детьм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100000"/>
              </a:lnSpc>
              <a:buClr>
                <a:srgbClr val="99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яет ли инициативу в общении или ждет, когда его позовут другие ребят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100000"/>
              </a:lnSpc>
              <a:buClr>
                <a:srgbClr val="99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ует ли принятые в обществе нормы общени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100000"/>
              </a:lnSpc>
              <a:buClr>
                <a:srgbClr val="99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 ли учитывать интересы других детей или коллективные интересы, умеет ли отстаивать свое мнение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100000"/>
              </a:lnSpc>
              <a:buClr>
                <a:srgbClr val="99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ует ли разницу в общении с детьми, учителями и другими взрослыми, родителя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Содержимое 8" descr="Рисунок6.jpg"/>
          <p:cNvPicPr/>
          <p:nvPr/>
        </p:nvPicPr>
        <p:blipFill>
          <a:blip r:embed="rId1"/>
          <a:stretch/>
        </p:blipFill>
        <p:spPr>
          <a:xfrm>
            <a:off x="4869000" y="981000"/>
            <a:ext cx="3929040" cy="3787920"/>
          </a:xfrm>
          <a:prstGeom prst="rect">
            <a:avLst/>
          </a:prstGeom>
          <a:ln w="10800">
            <a:solidFill>
              <a:srgbClr val="ffffff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-25920" y="-360"/>
            <a:ext cx="9169560" cy="76500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 algn="ctr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тивационная готов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250920" y="764640"/>
            <a:ext cx="4284720" cy="374364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lvl="1" marL="639720" indent="-236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й интерес, желание узнавать что то ново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ность положительного отношения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к школе,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ю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й деятельности,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lnSpc>
                <a:spcPct val="90000"/>
              </a:lnSpc>
              <a:buClr>
                <a:srgbClr val="99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амому себе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90000"/>
              </a:lnSpc>
              <a:buClr>
                <a:srgbClr val="99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Содержимое 7" descr="Рисунок7.jpg"/>
          <p:cNvPicPr/>
          <p:nvPr/>
        </p:nvPicPr>
        <p:blipFill>
          <a:blip r:embed="rId1"/>
          <a:stretch/>
        </p:blipFill>
        <p:spPr>
          <a:xfrm>
            <a:off x="4716360" y="1341360"/>
            <a:ext cx="4249800" cy="2881440"/>
          </a:xfrm>
          <a:prstGeom prst="rect">
            <a:avLst/>
          </a:prstGeom>
          <a:ln w="10800">
            <a:solidFill>
              <a:srgbClr val="ffffff"/>
            </a:solidFill>
            <a:prstDash val="dash"/>
            <a:miter/>
          </a:ln>
        </p:spPr>
      </p:pic>
      <p:sp>
        <p:nvSpPr>
          <p:cNvPr id="350" name="Rectangle 10"/>
          <p:cNvSpPr/>
          <p:nvPr/>
        </p:nvSpPr>
        <p:spPr>
          <a:xfrm>
            <a:off x="0" y="4523040"/>
            <a:ext cx="9144000" cy="2746080"/>
          </a:xfrm>
          <a:prstGeom prst="rect">
            <a:avLst/>
          </a:prstGeom>
          <a:solidFill>
            <a:srgbClr val="b9d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тельно рассказывать ребенку о своих школьных годах, вспоминая смешные и поучительные случаи, читать вместе с ребенком книги о школе, рассказывать о школьных порядках, устроить малышу экскурсию по будущей школе, показав ему, где он будет учиться. Полезны занятия, которые развивают фантазию и воображение:  рисование, лепка, конструирование, а также самостоятельность  и упорство: занятия в кружках и секц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400" y="4652640"/>
            <a:ext cx="9144000" cy="2205000"/>
          </a:xfrm>
          <a:prstGeom prst="rect">
            <a:avLst/>
          </a:prstGeom>
          <a:solidFill>
            <a:srgbClr val="b9d77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ю этих качеств поможет игра!!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учат спокойно дожидаться своей очереди, своего хода, с достоинством проигрывать, выстраивать свою стратегию и при этом учитывать постоянно меняющиеся обстоятельства и т.д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необходимо приучать ребенка к смене деятельности, режиму дн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проявлять веру в ребенка, искренне поощрять, помогать  и  поддерживать. Потихоньку ребенок разовьет в себе способность к волевому усилию, но не сразу. Помогите ему!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txBody>
          <a:bodyPr anchor="ctr">
            <a:normAutofit/>
          </a:bodyPr>
          <a:p>
            <a:pPr marL="63360" indent="0" algn="ctr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orbel"/>
              </a:rPr>
              <a:t>Эмоционально-волевая готовност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6360" y="981000"/>
            <a:ext cx="4680000" cy="3532320"/>
          </a:xfrm>
          <a:prstGeom prst="rect">
            <a:avLst/>
          </a:prstGeom>
          <a:noFill/>
          <a:ln w="10800">
            <a:solidFill>
              <a:srgbClr val="ffffff"/>
            </a:solidFill>
            <a:prstDash val="dash"/>
            <a:miter/>
          </a:ln>
        </p:spPr>
        <p:txBody>
          <a:bodyPr anchor="t">
            <a:normAutofit/>
          </a:bodyPr>
          <a:p>
            <a:pPr marL="392040" indent="-272880">
              <a:lnSpc>
                <a:spcPct val="100000"/>
              </a:lnSpc>
              <a:buClr>
                <a:srgbClr val="99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делать не только то, что хочу, но и то, что надо, не бояться трудностей, разрешать их самостоятельно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100000"/>
              </a:lnSpc>
              <a:buClr>
                <a:srgbClr val="99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ая самооценка и положительный образ  себ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lnSpc>
                <a:spcPct val="100000"/>
              </a:lnSpc>
              <a:buClr>
                <a:srgbClr val="99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осредоточиться, управление эмоциям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9204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Содержимое 6" descr="FrustratedChild710.jpg"/>
          <p:cNvPicPr/>
          <p:nvPr/>
        </p:nvPicPr>
        <p:blipFill>
          <a:blip r:embed="rId1"/>
          <a:stretch/>
        </p:blipFill>
        <p:spPr>
          <a:xfrm>
            <a:off x="4788000" y="1125360"/>
            <a:ext cx="4105080" cy="3095640"/>
          </a:xfrm>
          <a:prstGeom prst="rect">
            <a:avLst/>
          </a:prstGeom>
          <a:ln w="10800">
            <a:solidFill>
              <a:srgbClr val="ffffff"/>
            </a:solidFill>
            <a:prstDash val="dash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8915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5519"/>
                </a:solidFill>
                <a:latin typeface="Corbe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ается, что психологическая готовность к школе – это вся дошкольная жизнь. Но даже за несколько месяцев до школы  можно при необходимости что-то   скорректировать и помочь будущему   первокласснику спокойно и радостно войти в новый мир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6" name="Содержимое 4" descr="anekdoty-pro-shkolu-01.jpg"/>
          <p:cNvPicPr/>
          <p:nvPr/>
        </p:nvPicPr>
        <p:blipFill>
          <a:blip r:embed="rId1"/>
          <a:stretch/>
        </p:blipFill>
        <p:spPr>
          <a:xfrm>
            <a:off x="1187280" y="3500280"/>
            <a:ext cx="3392640" cy="2737080"/>
          </a:xfrm>
          <a:prstGeom prst="rect">
            <a:avLst/>
          </a:prstGeom>
          <a:ln w="0">
            <a:noFill/>
          </a:ln>
        </p:spPr>
      </p:pic>
      <p:pic>
        <p:nvPicPr>
          <p:cNvPr id="357" name="Содержимое 5" descr="48891-0.jpg"/>
          <p:cNvPicPr/>
          <p:nvPr/>
        </p:nvPicPr>
        <p:blipFill>
          <a:blip r:embed="rId2"/>
          <a:stretch/>
        </p:blipFill>
        <p:spPr>
          <a:xfrm>
            <a:off x="5219640" y="3500280"/>
            <a:ext cx="360036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1T12:04:15Z</dcterms:created>
  <dc:creator>МАМА</dc:creator>
  <dc:description/>
  <dc:language>en-US</dc:language>
  <cp:lastModifiedBy>User</cp:lastModifiedBy>
  <dcterms:modified xsi:type="dcterms:W3CDTF">2021-03-01T04:21:15Z</dcterms:modified>
  <cp:revision>99</cp:revision>
  <dc:subject/>
  <dc:title>Слайд 1</dc:title>
</cp:coreProperties>
</file>