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LASER.WAV" ContentType="audio/x-wav"/>
  <Override PartName="/ppt/media/image15.gif" ContentType="image/gif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7.jpeg" ContentType="image/jpeg"/>
  <Override PartName="/ppt/media/image28.png" ContentType="image/png"/>
  <Override PartName="/ppt/media/image27.png" ContentType="image/png"/>
  <Override PartName="/ppt/media/image33.jpeg" ContentType="image/jpeg"/>
  <Override PartName="/ppt/media/image9.jpeg" ContentType="image/jpeg"/>
  <Override PartName="/ppt/media/image32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12.gif" ContentType="image/gif"/>
  <Override PartName="/ppt/media/image13.jpeg" ContentType="image/jpeg"/>
  <Override PartName="/ppt/media/image14.gif" ContentType="image/gif"/>
  <Override PartName="/ppt/media/TYPE.WAV" ContentType="audio/x-wav"/>
  <Override PartName="/ppt/media/image16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29E0-288C-4047-B139-6D8F0813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9A39-B585-4A9B-B604-9E131D97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393E-6E58-4A9E-BE36-3A023A40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830D-D548-4660-A373-8AF43B142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C9CF-83B9-47BC-94A7-1A58044E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71E9-5692-4D94-8307-BBDE1236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075F-3A90-46F7-BC6B-991E16EF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95F4-8FA2-493A-8A04-8AC9FF73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F3A3-E2FC-42C8-9612-4DA485B3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EB63-BAA0-4F81-92D7-866A2105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0B4F-3D1C-4B7D-9185-019FDA7F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776F-1C1C-4E8E-9844-04C537E9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7E1B-942C-4237-A3CE-E8F4D304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FFC6-F4C8-4571-AD59-B3EE1CD6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88DD-0077-4ECC-98ED-1636D103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B31E-B93A-42A9-A1A8-C0DE4E5B2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F77B-C001-4761-90E1-7DF0ADED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DA671-5BBA-42EA-96AB-4E8F81F9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AB741-37AB-4550-820D-91530567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5C227-0C39-4E37-A476-494DA4D9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C24E4-F0A5-41ED-B2D2-75F76A09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A7EB3-361D-46C4-A69C-BCFBCE5A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F5AD-1D60-4890-ACB1-1A3247C4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436FE-B8A2-4622-9043-E08BC841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1EA6D-0C34-4F7B-B0F2-35F8517F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415DB-9A20-4E47-ACF6-8D7344A9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31B26-DFA3-4CF0-8395-225B9211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D7C10-63AB-456E-BE77-7DC23A12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3037F-832A-41AF-8868-FFF5BB4C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CD6A3-D1ED-4E5E-B876-8462D73E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C77F6-B690-4379-A049-5E9A829D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E2529-AED1-4F31-BC30-0907204A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E649E-1D0A-4636-8311-B320F9F3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0B4D-641F-42BE-96E7-EA211001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739C6-BC97-4587-9EAC-E58F8491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5CA39-AC37-41BC-9CA3-8DD8A5CB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F3DB7-ED74-4476-A76D-0F5D1354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1E1D6-D41D-4129-ABF9-EEC172E3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27DDA-6A42-4912-9B95-2BD93B63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4A955-E337-493D-A91C-CE233CFD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6E311-ED3F-4B43-867D-82F0344B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84A78-7062-4457-9DCC-A3422B3C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1A7CA-D7C1-4822-83B7-073179EB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0AB6-23E3-4A39-B980-154A72FF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D8DE-EF46-40F6-A7DA-D4594564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ABDD-AE9F-4319-AD64-2FA135D1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D61F-2382-4E07-A1EB-5B367F2A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A4D4-3642-41C5-BC25-A9DD158B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EDF2-7E92-484A-AE97-FBB42E75C48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AB8A-F123-4509-AD58-878AE941A5E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F76D-EE91-45BC-B171-6CC657F4151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C389-5BBB-431C-8ED1-17EC17343CB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lh4.googleusercontent.com/-n_mPAdBS39I/VXsBhJfALEI/AAAAAAAAJd4/GJUeOBGGgWk/w419-h60-no/%25D0%25B2%25D1%258B42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07880" y="1255680"/>
            <a:ext cx="8431200" cy="2438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читель биологии и химии  Шарапова Е.М. ГБОУ БЭШ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2" descr="https://ds04.infourok.ru/uploads/ex/0d6e/0001bb1d-c867743f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нтересный факт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Этиленгликоль - является одним из суррогатов алкоголя. Первые случаи отравления этиленгликолем в нашей стране отмечены в период Великой Отечественной войны в 1943-1944 годах, когда этот препарат в качестве антифриза и тормозной жидкости стал применяться для технического обслуживания боевой техники и танковых войсках. Тогда же антифриз получил среди бойцов название "бешеное шампанское", что указывает на крепость и сильное действие этиленгликоля, а также на наличие в антифризе пузырьков. Тормозную жидкость тогда же окрестили "шасси-коньяком" или "ликером Шасси". Названия сохранились до наших дней. Как и в случае с другими суррогатами алкоголя, отравления этиленгликолем обычно носят групповой или массовый характер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1" descr="https://lh5.googleusercontent.com/-3nG4dn_Xm4I/VXr-QCErvII/AAAAAAAAJdI/rvncOPPIoKs/w211-h69-no/%25D0%25B2%25D1%258B1.jpg"/>
          <p:cNvPicPr/>
          <p:nvPr/>
        </p:nvPicPr>
        <p:blipFill>
          <a:blip r:embed="rId1"/>
          <a:stretch/>
        </p:blipFill>
        <p:spPr>
          <a:xfrm>
            <a:off x="2332080" y="838080"/>
            <a:ext cx="4678200" cy="153036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7"/>
          <p:cNvSpPr/>
          <p:nvPr/>
        </p:nvSpPr>
        <p:spPr>
          <a:xfrm>
            <a:off x="685800" y="243828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опообразная, вязкая бесцветная жидкость, имеет спиртовой запах, хорошо смешивается с водой, сильно понижает температуру замерзания воды          (60%-ый раствор замерзает при -49 ˚С) –это используется в системах охлаждения двигателей – антифриз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ленгликоль токсичен – сильный Яд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нетает ЦНС и поражает поч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Прямоугольник 18"/>
          <p:cNvSpPr/>
          <p:nvPr/>
        </p:nvSpPr>
        <p:spPr>
          <a:xfrm>
            <a:off x="914400" y="15228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0529"/>
                </a:solidFill>
                <a:latin typeface="Times New Roman"/>
                <a:ea typeface="Times New Roman"/>
              </a:rPr>
              <a:t>Физические свой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0529"/>
                </a:solidFill>
                <a:latin typeface="Times New Roman"/>
                <a:ea typeface="Times New Roman"/>
              </a:rPr>
              <a:t>Физические свойств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3657600"/>
            <a:ext cx="81536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цветная, вязкая сиропообразная жидкость, сладкая на вкус. Не ядовит. Без запаха. Хорошо смешивается с вод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ён в живой природе. Играет важную роль в обменных процессах, так как входит в состав жиров (липидов) животных и растительных тканей.    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5" descr="https://lh4.googleusercontent.com/-ZUOrHsuIpIQ/VXr-QDnOINI/AAAAAAAAJdE/aq2uHsqmOvY/w232-h113-no/%25D0%25B2%25D1%258B.jpg"/>
          <p:cNvPicPr/>
          <p:nvPr/>
        </p:nvPicPr>
        <p:blipFill>
          <a:blip r:embed="rId1"/>
          <a:stretch/>
        </p:blipFill>
        <p:spPr>
          <a:xfrm>
            <a:off x="2743200" y="1143000"/>
            <a:ext cx="5181480" cy="232092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6"/>
          <p:cNvSpPr/>
          <p:nvPr/>
        </p:nvSpPr>
        <p:spPr>
          <a:xfrm>
            <a:off x="380880" y="16765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ол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Номенклатура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21104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званиях многоатомных спиртов (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олов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оложение и число гидроксильных групп указывают соответствующими цифрами и суффиксами -диол (две ОН-группы), -триол (три ОН-группы) и т.д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Заголовок 1"/>
          <p:cNvSpPr/>
          <p:nvPr/>
        </p:nvSpPr>
        <p:spPr>
          <a:xfrm>
            <a:off x="576360" y="323856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2" descr="https://sites.google.com/site/himulacom/_/rsrc/1315460516300/zvonok-na-urok/10-klass---tretij-god-obucenia/urok-no32-mnogoatomnye-spirty-etilenglikol-glicerin-svojstva-primenenie/o2123.gif"/>
          <p:cNvPicPr/>
          <p:nvPr/>
        </p:nvPicPr>
        <p:blipFill>
          <a:blip r:embed="rId1"/>
          <a:stretch/>
        </p:blipFill>
        <p:spPr>
          <a:xfrm>
            <a:off x="487440" y="3790800"/>
            <a:ext cx="8315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лучение многоатомных спиртов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7621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Получение двухатомных спирт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ромышлен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итическая гидратация оксида этилена (получение этиленгликоля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дигалогенпроизводных алканов с водными растворами щелочей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5" name="Picture 2" descr="https://lh3.googleusercontent.com/-KvalPVj9FWw/VXr_wj7sn3I/AAAAAAAAJdY/dhkZqxmzsEw/w241-h51-no/%25D0%25B2%25D1%258B3.jpg"/>
          <p:cNvPicPr/>
          <p:nvPr/>
        </p:nvPicPr>
        <p:blipFill>
          <a:blip r:embed="rId1"/>
          <a:stretch/>
        </p:blipFill>
        <p:spPr>
          <a:xfrm>
            <a:off x="2057400" y="2590920"/>
            <a:ext cx="4800600" cy="1143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https://lh5.googleusercontent.com/-ri9h9OH49ZE/VXsBhPABF0I/AAAAAAAAJdw/clxmJMKujD4/w410-h60-no/%25D0%25B2%25D1%258B41.jpg"/>
          <p:cNvPicPr/>
          <p:nvPr/>
        </p:nvPicPr>
        <p:blipFill>
          <a:blip r:embed="rId2"/>
          <a:stretch/>
        </p:blipFill>
        <p:spPr>
          <a:xfrm>
            <a:off x="533520" y="4495680"/>
            <a:ext cx="77724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3.</a:t>
            </a: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 </a:t>
            </a:r>
            <a:r>
              <a:rPr b="1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з синтез-газа</a:t>
            </a: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:  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       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01600" y="1308240"/>
            <a:ext cx="876312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CO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50°,200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МПа,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→  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H)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H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тез-газ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лаборатории: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исление алкен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Прямоугольник 3"/>
          <p:cNvSpPr/>
          <p:nvPr/>
        </p:nvSpPr>
        <p:spPr>
          <a:xfrm>
            <a:off x="2286000" y="29671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  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0" y="0"/>
            <a:ext cx="184320" cy="646200"/>
          </a:xfrm>
          <a:prstGeom prst="rect">
            <a:avLst/>
          </a:prstGeom>
          <a:solidFill>
            <a:srgbClr val="eee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Picture 3" descr="https://lh4.googleusercontent.com/-n_mPAdBS39I/VXsBhJfALEI/AAAAAAAAJd4/GJUeOBGGgWk/w419-h60-no/%25D0%25B2%25D1%258B4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1440" y="3505320"/>
            <a:ext cx="8305920" cy="178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. Получение трёхатомных спиртов (глицерина)</a:t>
            </a: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ромышлен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ыление жиров (триглицеридов)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2" descr="https://lh3.googleusercontent.com/-dLSKM9JvwM8/VXsBhUmihPI/AAAAAAAAJd0/yGNWnuGviCg/w646-h96-no/%25D0%25B2%25D1%258B4.jpg"/>
          <p:cNvPicPr/>
          <p:nvPr/>
        </p:nvPicPr>
        <p:blipFill>
          <a:blip r:embed="rId1"/>
          <a:stretch/>
        </p:blipFill>
        <p:spPr>
          <a:xfrm>
            <a:off x="380880" y="2286000"/>
            <a:ext cx="8610840" cy="22096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2"/>
          <p:cNvSpPr/>
          <p:nvPr/>
        </p:nvSpPr>
        <p:spPr>
          <a:xfrm>
            <a:off x="1512000" y="2558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Box 3"/>
          <p:cNvSpPr/>
          <p:nvPr/>
        </p:nvSpPr>
        <p:spPr>
          <a:xfrm>
            <a:off x="1467720" y="3397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1512000" y="4191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р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85760" y="1211400"/>
            <a:ext cx="8610480" cy="3352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61" name="TextBox 1"/>
          <p:cNvSpPr/>
          <p:nvPr/>
        </p:nvSpPr>
        <p:spPr>
          <a:xfrm>
            <a:off x="6564240" y="242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имические свойства многоатомных спиртов 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4e6d"/>
                </a:solidFill>
                <a:latin typeface="Times New Roman"/>
                <a:ea typeface="Times New Roman"/>
              </a:rPr>
              <a:t>1. С активными металлами:</a:t>
            </a:r>
            <a:r>
              <a:rPr b="0" lang="ru-RU" sz="2600" spc="-1" strike="noStrike">
                <a:solidFill>
                  <a:srgbClr val="004e6d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-C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H + 2Na →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+ NaO-C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ONa  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лят натрия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tretch/>
        </p:blipFill>
        <p:spPr>
          <a:xfrm>
            <a:off x="457200" y="2751120"/>
            <a:ext cx="8229600" cy="853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https://bb31e6b6-a-62cb3a1a-s-sites.googlegroups.com/site/himulacom/zvonok-na-urok/10-klass---tretij-god-obucenia/urok-no32-mnogoatomnye-spirty-etilenglikol-glicerin-svojstva-primenenie/image0.jpg?attachauth=ANoY7crGmoi-iuvgEQSAfD9NFSQhf_yFFnb63Z8F5qghN1s41fHtCu9O8Sji_I3HAh3U1bSEdpt5RUjX-zIL4Br2HNLCQeC-mLhgIl5JG-mkZCBNJaxVX0T8i5ArIdaOqB_rhgJqyvhvjek9QaIbdgzsM9DKiDKw086RQsvatGo-IYBuhn-AFgIY5j7ihmof2c94U0TkgK6k1JwU72j9tZldb7710CWVyzriAvk4GhdzvI_i_hhdYm1tWHEQ6xGyCK4rV_YxcxO4CWSNntu7hH_CYbbj-orjsSoAzOXJFu-PT0wm9P35wuwW_SxlFaOMQoNvnf9i8w-5gXOaFR730Od700IbtCFCfuuOOJO6BCm6pQDeZG6irOQ%3D&amp;attredirects=0"/>
          <p:cNvPicPr/>
          <p:nvPr/>
        </p:nvPicPr>
        <p:blipFill>
          <a:blip r:embed="rId2"/>
          <a:stretch/>
        </p:blipFill>
        <p:spPr>
          <a:xfrm>
            <a:off x="304920" y="3429000"/>
            <a:ext cx="8610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3"/>
          <p:cNvSpPr/>
          <p:nvPr/>
        </p:nvSpPr>
        <p:spPr>
          <a:xfrm>
            <a:off x="642960" y="704880"/>
            <a:ext cx="3714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badf01"/>
                </a:solidFill>
                <a:uFillTx/>
                <a:latin typeface="Times New Roman"/>
                <a:ea typeface="Calibri"/>
              </a:rPr>
              <a:t>Феодосий Печерский:</a:t>
            </a:r>
            <a:r>
              <a:rPr b="1" lang="ru-RU" sz="2000" spc="-1" strike="noStrike">
                <a:solidFill>
                  <a:srgbClr val="badf01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Бесноватый страдает по неволе и может удостоиться  жизни вечной, а пьяный страдает по собственной воле и предан на вечную муку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5292720" y="5013360"/>
            <a:ext cx="350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. Семашко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«Можно сказать, что сколько мужья выпили водки, столько их жены и дети пролили слез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Прямоугольник 5"/>
          <p:cNvSpPr/>
          <p:nvPr/>
        </p:nvSpPr>
        <p:spPr>
          <a:xfrm>
            <a:off x="428760" y="2643120"/>
            <a:ext cx="35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badf01"/>
                </a:solidFill>
                <a:uFillTx/>
                <a:latin typeface="Times New Roman"/>
                <a:ea typeface="Calibri"/>
              </a:rPr>
              <a:t>К. Ушинский:</a:t>
            </a:r>
            <a:r>
              <a:rPr b="1" lang="ru-RU" sz="2000" spc="-1" strike="noStrike">
                <a:solidFill>
                  <a:srgbClr val="badf01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ьяному на  светлой улице темно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Прямоугольник 6"/>
          <p:cNvSpPr/>
          <p:nvPr/>
        </p:nvSpPr>
        <p:spPr>
          <a:xfrm>
            <a:off x="5286240" y="4214880"/>
            <a:ext cx="364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И. Ефимов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«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т крепких вин, есть слабые головы»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4572000" y="214200"/>
            <a:ext cx="2071800" cy="2571840"/>
          </a:xfrm>
          <a:prstGeom prst="rect">
            <a:avLst/>
          </a:prstGeom>
          <a:ln w="19080">
            <a:solidFill>
              <a:srgbClr val="0f6fc6"/>
            </a:solidFill>
            <a:miter/>
          </a:ln>
        </p:spPr>
      </p:pic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6500880" y="1714680"/>
            <a:ext cx="2043000" cy="2286000"/>
          </a:xfrm>
          <a:prstGeom prst="rect">
            <a:avLst/>
          </a:prstGeom>
          <a:ln w="19080">
            <a:solidFill>
              <a:srgbClr val="0f6fc6"/>
            </a:solidFill>
            <a:miter/>
          </a:ln>
        </p:spPr>
      </p:pic>
      <p:pic>
        <p:nvPicPr>
          <p:cNvPr id="203" name="Picture 4" descr=""/>
          <p:cNvPicPr/>
          <p:nvPr/>
        </p:nvPicPr>
        <p:blipFill>
          <a:blip r:embed="rId3"/>
          <a:stretch/>
        </p:blipFill>
        <p:spPr>
          <a:xfrm>
            <a:off x="2425680" y="3344760"/>
            <a:ext cx="2857680" cy="1905120"/>
          </a:xfrm>
          <a:prstGeom prst="rect">
            <a:avLst/>
          </a:prstGeom>
          <a:ln w="19080">
            <a:solidFill>
              <a:srgbClr val="0f6fc6"/>
            </a:solidFill>
            <a:miter/>
          </a:ln>
        </p:spPr>
      </p:pic>
      <p:pic>
        <p:nvPicPr>
          <p:cNvPr id="204" name="Picture 5" descr=""/>
          <p:cNvPicPr/>
          <p:nvPr/>
        </p:nvPicPr>
        <p:blipFill>
          <a:blip r:embed="rId4"/>
          <a:stretch/>
        </p:blipFill>
        <p:spPr>
          <a:xfrm>
            <a:off x="428760" y="4071960"/>
            <a:ext cx="2071440" cy="2571840"/>
          </a:xfrm>
          <a:prstGeom prst="rect">
            <a:avLst/>
          </a:prstGeom>
          <a:ln w="19080">
            <a:solidFill>
              <a:srgbClr val="0f6fc6"/>
            </a:solidFill>
            <a:miter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456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4" descr="https://sites.google.com/site/himulacom/_/rsrc/1359130452861/zvonok-na-urok/10-klass---tretij-god-obucenia/urok-no32-mnogoatomnye-spirty-etilenglikol-glicerin-svojstva-primenenie/img1.gif"/>
          <p:cNvPicPr/>
          <p:nvPr/>
        </p:nvPicPr>
        <p:blipFill>
          <a:blip r:embed="rId1"/>
          <a:stretch/>
        </p:blipFill>
        <p:spPr>
          <a:xfrm>
            <a:off x="380880" y="1905120"/>
            <a:ext cx="8458200" cy="297180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5"/>
          <p:cNvSpPr/>
          <p:nvPr/>
        </p:nvSpPr>
        <p:spPr>
          <a:xfrm>
            <a:off x="1828800" y="9144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4e6d"/>
                </a:solidFill>
                <a:uFillTx/>
                <a:latin typeface="Times New Roman"/>
                <a:ea typeface="Times New Roman"/>
              </a:rPr>
              <a:t>Упрощённая схема реак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449280" y="168120"/>
            <a:ext cx="8686800" cy="55468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"/>
          <p:cNvPicPr/>
          <p:nvPr/>
        </p:nvPicPr>
        <p:blipFill>
          <a:blip r:embed="rId2"/>
          <a:stretch/>
        </p:blipFill>
        <p:spPr>
          <a:xfrm>
            <a:off x="2714760" y="285840"/>
            <a:ext cx="2571480" cy="5429160"/>
          </a:xfrm>
          <a:prstGeom prst="rect">
            <a:avLst/>
          </a:prstGeom>
          <a:ln w="0">
            <a:noFill/>
          </a:ln>
        </p:spPr>
      </p:pic>
      <p:sp>
        <p:nvSpPr>
          <p:cNvPr id="272" name="TextBox 9"/>
          <p:cNvSpPr/>
          <p:nvPr/>
        </p:nvSpPr>
        <p:spPr>
          <a:xfrm>
            <a:off x="4714920" y="478620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лицерат меди (2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Box 6"/>
          <p:cNvSpPr/>
          <p:nvPr/>
        </p:nvSpPr>
        <p:spPr>
          <a:xfrm>
            <a:off x="2214720" y="5572080"/>
            <a:ext cx="528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раторный   опыт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Box 10"/>
          <p:cNvSpPr/>
          <p:nvPr/>
        </p:nvSpPr>
        <p:spPr>
          <a:xfrm>
            <a:off x="0" y="6143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b0529"/>
                </a:solidFill>
                <a:latin typeface="Calibri"/>
              </a:rPr>
              <a:t>Распознавание многоатомных спирт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Прямоугольник 1"/>
          <p:cNvSpPr/>
          <p:nvPr/>
        </p:nvSpPr>
        <p:spPr>
          <a:xfrm>
            <a:off x="236520" y="762120"/>
            <a:ext cx="8305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чественная реакция многоатомных спиртов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зволяющая отличить соединения этого класса–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заимодействие со свежеприготовленным гидроксидом меди(II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щелочной среде при достаточной концентрации глицерина голубой осадок Cu(OH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растворяется с образованием раствора ярко-синего цвета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ликолята меди(II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db0529"/>
                </a:solidFill>
                <a:latin typeface="Calibri"/>
              </a:rPr>
              <a:t>Химические свойства</a:t>
            </a:r>
            <a:r>
              <a:rPr b="0" lang="ru-RU" sz="3600" spc="-1" strike="noStrike">
                <a:solidFill>
                  <a:srgbClr val="009dd9"/>
                </a:solidFill>
                <a:latin typeface="Calibri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291520" cy="527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2160" y="-76320"/>
            <a:ext cx="83818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0529"/>
                </a:solidFill>
                <a:latin typeface="Times New Roman"/>
                <a:ea typeface="Times New Roman"/>
              </a:rPr>
              <a:t>Специфические свойст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ицери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заимодействует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азотной кислото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разованием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жных эфир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зависимости от условий реакции (мольного соотношения реагентов, концентрации катализатора – серной кислоты и температуры) получаются моно-, ди- и тринитроглицериды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609480" y="2971800"/>
            <a:ext cx="822960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ÐÐ°ÑÑÐ¸Ð½ÐºÐ¸ Ð¿Ð¾ Ð·Ð°Ð¿ÑÐ¾ÑÑ Ð¿ÑÐ¸Ð¼ÐµÐ½ÐµÐ½Ð¸Ðµ ÑÑÐ¸Ð»ÐµÐ½Ð³Ð»Ð¸ÐºÐ¾Ð»Ñ ÑÑÐµÐ¼Ð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https://ds04.infourok.ru/uploads/ex/0d6e/0001bb1d-c867743f/img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3"/>
          <p:cNvSpPr/>
          <p:nvPr/>
        </p:nvSpPr>
        <p:spPr>
          <a:xfrm>
            <a:off x="457200" y="30960"/>
            <a:ext cx="8534520" cy="41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9640" tIns="53964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по теме «Спирты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ункциональная группа в молекулах спиртов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-OH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-COOH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-COH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еакция этерификации это реакция взаимодействия между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пиртом и кислот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альдегидом и кислород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металлом и неметалл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457200" y="328104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становите соответствие между названием органического вещества и его формулой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762120" y="3597840"/>
            <a:ext cx="18288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  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│      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― C― C―OH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│     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 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2971800" y="3673080"/>
            <a:ext cx="15238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│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― C―OH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│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5148360" y="3909960"/>
            <a:ext cx="2624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  H       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│      │       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― C ― C ― C ― H   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│      │       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   OH     O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914400" y="55242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пантриол - 1. 2, 3   или глицери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етанол    или метиловый спир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этанол    или этиловый спир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в виде последовательности цифр (например 132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80520" y="761760"/>
            <a:ext cx="8610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и окислении пропанола-1 образуетс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ропилен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ропано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ропанал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роп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 схеме реакции NaOH +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C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 + NaCl  веществом 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Х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являетс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хлорэт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1,2-дибромэт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ацетиле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этанал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 результате дегидратации пропанола-1 образуетс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ропанол-2        2) пропан          3) пропен               4) пропи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схеме превращений  пропанол-1→ X → пропанол-2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ом «X» являетс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2-хлорпропа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ропановая кислот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ропи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пропе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Загад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2189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еводе с латинского это слово означает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ладкий»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ействительно благодаря необычному вкусу вещество часто используют в производстве кондитерских и хлебобулочных изделий. Кроме того, сладковатая жидкость активно применяется в косметологии, фармакологии и даже в военном дел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TextBox 1"/>
          <p:cNvSpPr/>
          <p:nvPr/>
        </p:nvSpPr>
        <p:spPr>
          <a:xfrm>
            <a:off x="3505320" y="4495680"/>
            <a:ext cx="232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33520" y="380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5.Какое из перечисленных веществ может принадлежать к классу  многоатомных спиртов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1)  С</a:t>
            </a: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7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Н</a:t>
            </a: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15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ОН       2)С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7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14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              3)С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7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Н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12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О</a:t>
            </a:r>
            <a:r>
              <a:rPr b="0" lang="ru-RU" sz="1400" spc="-1" strike="noStrike">
                <a:solidFill>
                  <a:srgbClr val="262626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           4)С</a:t>
            </a: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7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Н</a:t>
            </a: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12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(ОН)</a:t>
            </a: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6. С какими веществами реагирует  многоатомные спирты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1) НС</a:t>
            </a:r>
            <a:r>
              <a:rPr b="0" lang="en-US" sz="1800" spc="-1" strike="noStrike">
                <a:solidFill>
                  <a:srgbClr val="262626"/>
                </a:solidFill>
                <a:latin typeface="Times New Roman"/>
              </a:rPr>
              <a:t>I            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2)</a:t>
            </a:r>
            <a:r>
              <a:rPr b="0" lang="en-US" sz="1800" spc="-1" strike="noStrike">
                <a:solidFill>
                  <a:srgbClr val="262626"/>
                </a:solidFill>
                <a:latin typeface="Times New Roman"/>
              </a:rPr>
              <a:t>Br        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  3) О</a:t>
            </a: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               4)  С</a:t>
            </a:r>
            <a:r>
              <a:rPr b="0" lang="en-US" sz="1800" spc="-1" strike="noStrike">
                <a:solidFill>
                  <a:srgbClr val="262626"/>
                </a:solidFill>
                <a:latin typeface="Times New Roman"/>
              </a:rPr>
              <a:t>sNO</a:t>
            </a:r>
            <a:r>
              <a:rPr b="0" lang="ru-RU" sz="1600" spc="-1" strike="noStrike">
                <a:solidFill>
                  <a:srgbClr val="262626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7.Установите соответствие между формулой  и названием вещества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               </a:t>
            </a: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Формула вещества                                         Название веществ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1.С2Н5ОН                                                            А. бутантриол-1,2,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2. СН2-ОН–СН–ОН--СН2—ОН                        Б. глицери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3. СН2ОН –СН2—СН2ОН                                 В.Этано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4.  СН3—СН2ОН --СН2ОН---СН2ОН              Г. Пропандиол-1,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8 .Установите соответствие между  названием  и  классом  органического вещества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              </a:t>
            </a:r>
            <a:r>
              <a:rPr b="1" lang="ru-RU" sz="1800" spc="-1" strike="noStrike">
                <a:solidFill>
                  <a:srgbClr val="262626"/>
                </a:solidFill>
                <a:latin typeface="Times New Roman"/>
              </a:rPr>
              <a:t>Название вещества                                         Класс соедине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1.Бутилен                                                              А. Спир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2. Бензол                                                                Б. Алка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3. Пентантриол  -1,3,5                                          В. Алке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262626"/>
                </a:solidFill>
                <a:latin typeface="Times New Roman"/>
              </a:rPr>
              <a:t>4. 2-метилпропан                                                  Г. Аре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Прямоугольник 1"/>
          <p:cNvSpPr/>
          <p:nvPr/>
        </p:nvSpPr>
        <p:spPr>
          <a:xfrm>
            <a:off x="914400" y="762120"/>
            <a:ext cx="754380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: 1-3, 2-1, 3-3, 4-4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–4;  6-1,3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- В, Б, Г, 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- В, Г, А, 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Цель урок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учащихся со строением, физическими и химическими свойствами многоатомных спиртов, значением и применением их в промышленности и в повседневной жизн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мений составлять структурные формулы спиртов, записывать уравнения реакций, уметь составлять генетическую связь с другими классами органических вещест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экологического сознания, техника безопасности при работе со спирта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dissolve/>
    <p:sndAc>
      <p:stSnd>
        <p:snd r:embed="rId1" name="LASER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5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3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7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3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55" nodeType="afterEffect" fill="hold" presetClass="entr" presetID="12" presetSubtype="4">
                                  <p:stCondLst>
                                    <p:cond delay="7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3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410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7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3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Устный опрос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акие вещества называются спиртами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 каким признакам их классифицируют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ое строение имеют одноатомные спирты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ое строение имеют многоатомные спирты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чему с увеличением молекулярной массы уменьшается растворимость одноатомных спиртов в воде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Что напоминают спирты по своим химическим свойствам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очему опьяневший человек замерзает на морозе быстрее трезвого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Какова смертельная доза алкоголя для взрослого человека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Какая средняя доза алкоголя смертельна для детей и подростков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6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6705720" y="152280"/>
            <a:ext cx="2228760" cy="1981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LASER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71" nodeType="afterEffect" fill="hold" presetClass="entr" presetID="3" presetSubtype="5">
                                  <p:stCondLst>
                                    <p:cond delay="1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75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1000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ffff"/>
                                </p:to>
                              </p:animCl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4050"/>
                            </p:stCondLst>
                            <p:childTnLst>
                              <p:par>
                                <p:cTn id="76" nodeType="afterEffect" fill="hold" presetClass="entr" presetID="3" presetSubtype="5">
                                  <p:stCondLst>
                                    <p:cond delay="1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75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6675"/>
                            </p:stCondLst>
                            <p:childTnLst>
                              <p:par>
                                <p:cTn id="80" nodeType="afterEffect" fill="hold" presetClass="entr" presetID="3" presetSubtype="5">
                                  <p:stCondLst>
                                    <p:cond delay="1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75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49525"/>
                            </p:stCondLst>
                            <p:childTnLst>
                              <p:par>
                                <p:cTn id="84" nodeType="afterEffect" fill="hold" presetClass="entr" presetID="3" presetSubtype="5">
                                  <p:stCondLst>
                                    <p:cond delay="1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75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62450"/>
                            </p:stCondLst>
                            <p:childTnLst>
                              <p:par>
                                <p:cTn id="88" nodeType="afterEffect" fill="hold" presetClass="entr" presetID="3" presetSubtype="5">
                                  <p:stCondLst>
                                    <p:cond delay="1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75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78825"/>
                            </p:stCondLst>
                            <p:childTnLst>
                              <p:par>
                                <p:cTn id="92" nodeType="afterEffect" fill="hold" presetClass="entr" presetID="3" presetSubtype="5">
                                  <p:stCondLst>
                                    <p:cond delay="1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75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92425"/>
                            </p:stCondLst>
                            <p:childTnLst>
                              <p:par>
                                <p:cTn id="96" nodeType="afterEffect" fill="hold" presetClass="entr" presetID="3" presetSubtype="5">
                                  <p:stCondLst>
                                    <p:cond delay="1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75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6775"/>
                            </p:stCondLst>
                            <p:childTnLst>
                              <p:par>
                                <p:cTn id="100" nodeType="afterEffect" fill="hold" presetClass="entr" presetID="3" presetSubtype="5">
                                  <p:stCondLst>
                                    <p:cond delay="1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75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20675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1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75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db0529"/>
                </a:solidFill>
                <a:latin typeface="Times New Roman"/>
                <a:ea typeface="Times New Roman"/>
              </a:rPr>
              <a:t>Написать формулу:</a:t>
            </a:r>
            <a:endParaRPr b="0" lang="en-US" sz="3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560" y="838080"/>
            <a:ext cx="838188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 - диметилбутанол - 1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3 - диметилбутанол - 1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ксанол - 3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0529"/>
                </a:solidFill>
                <a:latin typeface="Times New Roman"/>
                <a:ea typeface="Times New Roman"/>
              </a:rPr>
              <a:t>Дать название следующим вещества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6" descr="ÐÐ°ÑÑÐ¸Ð½ÐºÐ¸ Ð¿Ð¾ Ð·Ð°Ð¿ÑÐ¾ÑÑ ÑÐ¸Ð¼Ð¸ÑÐµÑÐºÐ¸Ðµ Ð°Ð½Ð¸Ð¼Ð°ÑÐ¸Ð¸"/>
          <p:cNvPicPr/>
          <p:nvPr/>
        </p:nvPicPr>
        <p:blipFill>
          <a:blip r:embed="rId1"/>
          <a:stretch/>
        </p:blipFill>
        <p:spPr>
          <a:xfrm>
            <a:off x="7086600" y="685800"/>
            <a:ext cx="1571760" cy="1809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ÐÐ°ÑÑÐ¸Ð½ÐºÐ¸ Ð¿Ð¾ Ð·Ð°Ð¿ÑÐ¾ÑÑ 2,3,3-Ð¢ÑÐ¸Ð¼ÐµÑÐ¸Ð»Ð¿ÐµÐ½ÑÐ°Ð½"/>
          <p:cNvPicPr/>
          <p:nvPr/>
        </p:nvPicPr>
        <p:blipFill>
          <a:blip r:embed="rId2"/>
          <a:srcRect l="0" t="0" r="0" b="57036"/>
          <a:stretch/>
        </p:blipFill>
        <p:spPr>
          <a:xfrm>
            <a:off x="609480" y="4038480"/>
            <a:ext cx="3886200" cy="2086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ÐÐ°ÑÑÐ¸Ð½ÐºÐ¸ Ð¿Ð¾ Ð·Ð°Ð¿ÑÐ¾ÑÑ 2,3,3-Ð¢ÑÐ¸Ð¼ÐµÑÐ¸Ð»Ð¿ÐµÐ½ÑÐ°Ð½"/>
          <p:cNvPicPr/>
          <p:nvPr/>
        </p:nvPicPr>
        <p:blipFill>
          <a:blip r:embed="rId3"/>
          <a:srcRect l="0" t="49602" r="0" b="7434"/>
          <a:stretch/>
        </p:blipFill>
        <p:spPr>
          <a:xfrm>
            <a:off x="4786200" y="3905280"/>
            <a:ext cx="40528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142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Н2ОН - СН(СН3) - СН(СН3) - СН3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Н2ОН - СН2 - С(С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2 - СН3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Н3 - СН2 - СНОН - СН2 - СН2 - СН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2" descr="ÐÐ°ÑÑÐ¸Ð½ÐºÐ¸ Ð¿Ð¾ Ð·Ð°Ð¿ÑÐ¾ÑÑ 2,3,3-Ð¢ÑÐ¸Ð¼ÐµÑÐ¸Ð»Ð¿ÐµÐ½ÑÐ°Ð½"/>
          <p:cNvPicPr/>
          <p:nvPr/>
        </p:nvPicPr>
        <p:blipFill>
          <a:blip r:embed="rId1"/>
          <a:stretch/>
        </p:blipFill>
        <p:spPr>
          <a:xfrm>
            <a:off x="533520" y="3048120"/>
            <a:ext cx="5029200" cy="3581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6781680" y="3029040"/>
            <a:ext cx="22924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План урока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.Строение и физические свойства многоатомных спирт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.Химические свойства многоатомных спирто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.Применение спиртов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5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6477120" y="4343400"/>
            <a:ext cx="16761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Определе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атомные спирты 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рганические соединения, в молекулах которых содержится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сколько гидроксильных групп (-ОН), соединённых с углеводородным радикалом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lux</dc:creator>
  <dc:description/>
  <dc:language>en-US</dc:language>
  <cp:lastModifiedBy>elsha</cp:lastModifiedBy>
  <dcterms:modified xsi:type="dcterms:W3CDTF">2024-01-30T08:28:17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