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LASER.WAV" ContentType="audio/x-wav"/>
  <Override PartName="/ppt/media/image15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9.jpeg" ContentType="image/jpeg"/>
  <Override PartName="/ppt/media/image32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12.gif" ContentType="image/gif"/>
  <Override PartName="/ppt/media/image13.jpeg" ContentType="image/jpeg"/>
  <Override PartName="/ppt/media/image14.gif" ContentType="image/gif"/>
  <Override PartName="/ppt/media/TYPE.WAV" ContentType="audio/x-wav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A02-D244-42A7-9268-FA7C131C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9A9-8C9D-4FAA-B876-FAFD1123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0AA-23D6-4339-8042-1D039F43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F49-C8D6-4EBF-A324-3B1E2B0B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29EA-9C12-4306-92F0-A3322654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3D70-E7B4-4255-947D-E3906A10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33C-9F9C-4FF0-B8D3-2EB3774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BDE4-112A-4AAC-8DB4-C1DC84E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D568-EB74-435A-AF39-035561F9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C74-5BC6-4985-9DA0-1FB63ED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503-148E-4BA7-8342-AB7F8BF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68A-2E4C-4EA4-A944-F0891410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1051-01A5-461C-9AAE-17965D18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EA63-2E9A-4265-9FF7-FD2B029C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B652-9369-47A9-AEC5-FDA79EE8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BC07-D3C7-4D24-8FA5-B53D61F7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FACB-97CB-409E-927F-1FAD755D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8914-8FED-409A-BC68-25EF0801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4EFA-FF03-4999-933E-FF49269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1A7A-18E8-44E2-BB27-2E5E44A2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3B0E-5DCE-49ED-A2FF-8068660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EE40-E254-4C26-AB49-B0F552C4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885-2ACC-4618-9C61-6D7BED01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16BA-CBC4-498B-B92E-07D22E29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5220-4D2D-49F5-8A77-17E08FC4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543E-FF65-4B1B-B0F4-D6D6FB5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8210-08EE-4467-8655-2DDE041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3531-2498-4C79-AC08-3541F25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B112-3CA8-4C34-A38C-38E4A025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989C-F051-4666-9985-EF57D877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190C-32A5-48E6-8B1F-558908EA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10DA-0D44-4936-8945-B360843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C7B4-5B08-43AC-8345-2769144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CA3-A02F-4131-8F6B-6DE4D25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0D6D-6743-4732-BB90-F419D358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D7CA-FB4D-47CC-AD1F-2D76F1BB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8BC2-6DEB-44F2-AD53-0412EA7A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83F2-0094-460E-B7A9-F0DDE17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3403-BD3D-4E6B-B149-8E9DCC23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E2B3-C5B5-4173-8239-EC5AA91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AAFB-12C1-4FE2-A002-00AEE505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C0EE-50A7-4173-98E5-C7C7188E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5CF3-9C21-44DB-AA55-E2153E54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DCC-1F70-4259-A7F3-ACD0FCBA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1C3-41A8-4004-99B9-0DA739D4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DBB-B5EF-4E2E-8444-258D9EF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184-2E30-452C-BC7A-C5C2820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FCA-A59A-426A-885D-6FA9DC0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5A55-BAC1-4D2D-A376-4EF9A22635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AF72-F949-40EA-8DA5-6E1DCFFBD22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8E0-286A-4D7B-8E1B-A527345167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69C3-0490-4828-B07D-C4087B72A62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h4.googleusercontent.com/-n_mPAdBS39I/VXsBhJfALEI/AAAAAAAAJd4/GJUeOBGGgWk/w419-h60-no/%25D0%25B2%25D1%258B42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43120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биологии и химии  Шарапова Е.М. ГБОУ БЭШ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https://ds04.infourok.ru/uploads/ex/0d6e/0001bb1d-c867743f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й фак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тиленгликоль - является одним из суррогатов алкоголя. Первые случаи отравления этиленгликолем в нашей стране отмечены в период Великой Отечественной войны в 1943-1944 годах, когда этот препарат в качестве антифриза и тормозной жидкости стал применяться для технического обслуживания боевой техники и танковых войсках. Тогда же антифриз получил среди бойцов название "бешеное шампанское", что указывает на крепость и сильное действие этиленгликоля, а также на наличие в антифризе пузырьков. Тормозную жидкость тогда же окрестили "шасси-коньяком" или "ликером Шасси". Названия сохранились до наших дней. Как и в случае с другими суррогатами алкоголя, отравления этиленгликолем обычно носят групповой или массов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https://lh5.googleusercontent.com/-3nG4dn_Xm4I/VXr-QCErvII/AAAAAAAAJdI/rvncOPPIoKs/w211-h69-no/%25D0%25B2%25D1%258B1.jpg"/>
          <p:cNvPicPr/>
          <p:nvPr/>
        </p:nvPicPr>
        <p:blipFill>
          <a:blip r:embed="rId1"/>
          <a:stretch/>
        </p:blipFill>
        <p:spPr>
          <a:xfrm>
            <a:off x="2332080" y="838080"/>
            <a:ext cx="4678200" cy="15303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7"/>
          <p:cNvSpPr/>
          <p:nvPr/>
        </p:nvSpPr>
        <p:spPr>
          <a:xfrm>
            <a:off x="685800" y="243828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пообразная, вязкая бесцветная жидкость, имеет спиртовой запах, хорошо смешивается с водой, сильно понижает температуру замерзания воды          (60%-ый раствор замерзает при -49 ˚С) –это используется в системах охлаждения двигателей – антифри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гликоль токсичен – сильный Яд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нетает ЦНС и поражает п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оугольник 18"/>
          <p:cNvSpPr/>
          <p:nvPr/>
        </p:nvSpPr>
        <p:spPr>
          <a:xfrm>
            <a:off x="91440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цветная, вязкая сиропообразная жидкость, сладкая на вкус. Не ядовит. Без запаха. Хорошо смешивается с вод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ён в живой природе. Играет важную роль в обменных процессах, так как входит в состав жиров (липидов) животных и растительных тканей.    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5" descr="https://lh4.googleusercontent.com/-ZUOrHsuIpIQ/VXr-QDnOINI/AAAAAAAAJdE/aq2uHsqmOvY/w232-h113-no/%25D0%25B2%25D1%258B.jpg"/>
          <p:cNvPicPr/>
          <p:nvPr/>
        </p:nvPicPr>
        <p:blipFill>
          <a:blip r:embed="rId1"/>
          <a:stretch/>
        </p:blipFill>
        <p:spPr>
          <a:xfrm>
            <a:off x="2743200" y="1143000"/>
            <a:ext cx="5181480" cy="2320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6"/>
          <p:cNvSpPr/>
          <p:nvPr/>
        </p:nvSpPr>
        <p:spPr>
          <a:xfrm>
            <a:off x="38088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о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оменклатура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104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званиях многоатомных спиртов (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оло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оложение и число гидроксильных групп указывают соответствующими цифрами и суффиксами -диол (две ОН-группы), -триол (три ОН-группы) и т.д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6360" y="323856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https://sites.google.com/site/himulacom/_/rsrc/1315460516300/zvonok-na-urok/10-klass---tretij-god-obucenia/urok-no32-mnogoatomnye-spirty-etilenglikol-glicerin-svojstva-primenenie/o2123.gif"/>
          <p:cNvPicPr/>
          <p:nvPr/>
        </p:nvPicPr>
        <p:blipFill>
          <a:blip r:embed="rId1"/>
          <a:stretch/>
        </p:blipFill>
        <p:spPr>
          <a:xfrm>
            <a:off x="487440" y="3790800"/>
            <a:ext cx="831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лучение многоатомных спиртов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Получение двухатомных спир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мышлен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еская гидратация оксида этилена (получение этиленгликоля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дигалогенпроизводных алканов с водными растворами щелоч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https://lh3.googleusercontent.com/-KvalPVj9FWw/VXr_wj7sn3I/AAAAAAAAJdY/dhkZqxmzsEw/w241-h51-no/%25D0%25B2%25D1%258B3.jpg"/>
          <p:cNvPicPr/>
          <p:nvPr/>
        </p:nvPicPr>
        <p:blipFill>
          <a:blip r:embed="rId1"/>
          <a:stretch/>
        </p:blipFill>
        <p:spPr>
          <a:xfrm>
            <a:off x="2057400" y="2590920"/>
            <a:ext cx="48006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s://lh5.googleusercontent.com/-ri9h9OH49ZE/VXsBhPABF0I/AAAAAAAAJdw/clxmJMKujD4/w410-h60-no/%25D0%25B2%25D1%258B41.jpg"/>
          <p:cNvPicPr/>
          <p:nvPr/>
        </p:nvPicPr>
        <p:blipFill>
          <a:blip r:embed="rId2"/>
          <a:stretch/>
        </p:blipFill>
        <p:spPr>
          <a:xfrm>
            <a:off x="533520" y="4495680"/>
            <a:ext cx="7772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синтез-газа</a:t>
            </a: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 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      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1600" y="1308240"/>
            <a:ext cx="87631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50°,200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МПа,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→  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-г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лаборатории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 алкен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2286000" y="2967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184320" cy="646200"/>
          </a:xfrm>
          <a:prstGeom prst="rect">
            <a:avLst/>
          </a:prstGeom>
          <a:solidFill>
            <a:srgbClr val="eee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3" descr="https://lh4.googleusercontent.com/-n_mPAdBS39I/VXsBhJfALEI/AAAAAAAAJd4/GJUeOBGGgWk/w419-h60-no/%25D0%25B2%25D1%258B4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40" y="3505320"/>
            <a:ext cx="83059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Получение трёхатомных спиртов (глицерина)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мышлен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ыление жиров (триглицеридов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https://lh3.googleusercontent.com/-dLSKM9JvwM8/VXsBhUmihPI/AAAAAAAAJd0/yGNWnuGviCg/w646-h96-no/%25D0%25B2%25D1%258B4.jpg"/>
          <p:cNvPicPr/>
          <p:nvPr/>
        </p:nvPicPr>
        <p:blipFill>
          <a:blip r:embed="rId1"/>
          <a:stretch/>
        </p:blipFill>
        <p:spPr>
          <a:xfrm>
            <a:off x="380880" y="2286000"/>
            <a:ext cx="8610840" cy="2209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1512000" y="2558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1467720" y="3397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12000" y="419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85760" y="1211400"/>
            <a:ext cx="8610480" cy="33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TextBox 1"/>
          <p:cNvSpPr/>
          <p:nvPr/>
        </p:nvSpPr>
        <p:spPr>
          <a:xfrm>
            <a:off x="6564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свойства многоатомных спиртов 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1. С активными металлами:</a:t>
            </a:r>
            <a:r>
              <a:rPr b="0" lang="ru-RU" sz="26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H + 2Na →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NaO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Na  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ят натрия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457200" y="2751120"/>
            <a:ext cx="8229600" cy="853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s://bb31e6b6-a-62cb3a1a-s-sites.googlegroups.com/site/himulacom/zvonok-na-urok/10-klass---tretij-god-obucenia/urok-no32-mnogoatomnye-spirty-etilenglikol-glicerin-svojstva-primenenie/image0.jpg?attachauth=ANoY7crGmoi-iuvgEQSAfD9NFSQhf_yFFnb63Z8F5qghN1s41fHtCu9O8Sji_I3HAh3U1bSEdpt5RUjX-zIL4Br2HNLCQeC-mLhgIl5JG-mkZCBNJaxVX0T8i5ArIdaOqB_rhgJqyvhvjek9QaIbdgzsM9DKiDKw086RQsvatGo-IYBuhn-AFgIY5j7ihmof2c94U0TkgK6k1JwU72j9tZldb7710CWVyzriAvk4GhdzvI_i_hhdYm1tWHEQ6xGyCK4rV_YxcxO4CWSNntu7hH_CYbbj-orjsSoAzOXJFu-PT0wm9P35wuwW_SxlFaOMQoNvnf9i8w-5gXOaFR730Od700IbtCFCfuuOOJO6BCm6pQDeZG6irOQ%3D&amp;attredirects=0"/>
          <p:cNvPicPr/>
          <p:nvPr/>
        </p:nvPicPr>
        <p:blipFill>
          <a:blip r:embed="rId2"/>
          <a:stretch/>
        </p:blipFill>
        <p:spPr>
          <a:xfrm>
            <a:off x="304920" y="3429000"/>
            <a:ext cx="8610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42960" y="70488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df01"/>
                </a:solidFill>
                <a:uFillTx/>
                <a:latin typeface="Times New Roman"/>
                <a:ea typeface="Calibri"/>
              </a:rPr>
              <a:t>Феодосий Печерский:</a:t>
            </a:r>
            <a:r>
              <a:rPr b="1" lang="ru-RU" sz="2000" spc="-1" strike="noStrike">
                <a:solidFill>
                  <a:srgbClr val="badf01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есноватый страдает по неволе и может удостоиться  жизни вечной, а пьяный страдает по собственной воле и предан на вечную муку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292720" y="5013360"/>
            <a:ext cx="350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. Семашк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Можно сказать, что сколько мужья выпили водки, столько их жены и дети пролили слез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428760" y="264312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df01"/>
                </a:solidFill>
                <a:uFillTx/>
                <a:latin typeface="Times New Roman"/>
                <a:ea typeface="Calibri"/>
              </a:rPr>
              <a:t>К. Ушинский:</a:t>
            </a:r>
            <a:r>
              <a:rPr b="1" lang="ru-RU" sz="2000" spc="-1" strike="noStrike">
                <a:solidFill>
                  <a:srgbClr val="badf01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ому на  светлой улице темно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5286240" y="421488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. Ефимов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крепких вин, есть слабые головы»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2071800" cy="257184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500880" y="1714680"/>
            <a:ext cx="2043000" cy="228600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425680" y="3344760"/>
            <a:ext cx="2857680" cy="190512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7184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4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https://sites.google.com/site/himulacom/_/rsrc/1359130452861/zvonok-na-urok/10-klass---tretij-god-obucenia/urok-no32-mnogoatomnye-spirty-etilenglikol-glicerin-svojstva-primenenie/img1.gif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29718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1828800" y="914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e6d"/>
                </a:solidFill>
                <a:uFillTx/>
                <a:latin typeface="Times New Roman"/>
                <a:ea typeface="Times New Roman"/>
              </a:rPr>
              <a:t>Упрощённая схема реак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49280" y="168120"/>
            <a:ext cx="8686800" cy="5546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2714760" y="285840"/>
            <a:ext cx="2571480" cy="5429160"/>
          </a:xfrm>
          <a:prstGeom prst="rect">
            <a:avLst/>
          </a:prstGeom>
          <a:ln w="0">
            <a:noFill/>
          </a:ln>
        </p:spPr>
      </p:pic>
      <p:sp>
        <p:nvSpPr>
          <p:cNvPr id="272" name="TextBox 9"/>
          <p:cNvSpPr/>
          <p:nvPr/>
        </p:nvSpPr>
        <p:spPr>
          <a:xfrm>
            <a:off x="4714920" y="47862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ицерат меди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2214720" y="5572080"/>
            <a:ext cx="52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  опыт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0" y="6143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0529"/>
                </a:solidFill>
                <a:latin typeface="Calibri"/>
              </a:rPr>
              <a:t>Распознавание многоатомных спир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236520" y="76212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ая реакция многоатомных спирто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ая отличить соединения этого класса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аимодействие со свежеприготовленным гидроксидом меди(II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елочной среде при достаточной концентрации глицерина голубой осадок Cu(OH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растворяется с образованием раствора ярко-синего цвета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лята меди(II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db0529"/>
                </a:solidFill>
                <a:latin typeface="Calibri"/>
              </a:rPr>
              <a:t>Химические свойства</a:t>
            </a:r>
            <a:r>
              <a:rPr b="0" lang="ru-RU" sz="3600" spc="-1" strike="noStrike">
                <a:solidFill>
                  <a:srgbClr val="009dd9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291520" cy="527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2160" y="-763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Специфические свой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ице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аимодейству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азотной кислот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азованием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х эфи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зависимости от условий реакции (мольного соотношения реагентов, концентрации катализатора – серной кислоты и температуры) получаются моно-, ди- и тринитроглицерид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2296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ÐÐ°ÑÑÐ¸Ð½ÐºÐ¸ Ð¿Ð¾ Ð·Ð°Ð¿ÑÐ¾ÑÑ Ð¿ÑÐ¸Ð¼ÐµÐ½ÐµÐ½Ð¸Ðµ ÑÑÐ¸Ð»ÐµÐ½Ð³Ð»Ð¸ÐºÐ¾Ð»Ñ ÑÑÐµÐ¼Ð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s://ds04.infourok.ru/uploads/ex/0d6e/0001bb1d-c867743f/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457200" y="30960"/>
            <a:ext cx="853452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53964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«Спирты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ункциональная группа в молекулах спирт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-OH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-COOH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-COH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акция этерификации это реакция взаимодействия межд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иртом и кислот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альдегидом и кислород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еталлом и неметалл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57200" y="32810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тановите соответствие между названием органического вещества и его формуло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3597840"/>
            <a:ext cx="1828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 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― C― C―OH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971800" y="3673080"/>
            <a:ext cx="1523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― C―OH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5148360" y="3909960"/>
            <a:ext cx="2624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 H       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│      │  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― C ― C ― C ― H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│      │  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OH     O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914400" y="5524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пантриол - 1. 2, 3   или глице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нол    или метиловый спи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танол    или этиловый спи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в виде последовательности цифр (например 13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0520" y="7617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окислении пропанола-1 образу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пилен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опан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пана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п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схеме реакции NaOH +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+ NaCl  веществом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вля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лорэ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,2-дибромэ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ацетиле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тана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результате дегидратации пропанола-1 образу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панол-2        2) пропан          3) пропен               4) проп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хеме превращений  пропанол-1→ X → пропанол-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м «X» явля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-хлорпроп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опановая кисло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п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пе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гад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воде с латинского это слово означает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адкий»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йствительно благодаря необычному вкусу вещество часто используют в производстве кондитерских и хлебобулочных изделий. Кроме того, сладковатая жидкость активно применяется в косметологии, фармакологии и даже в военном де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3505320" y="449568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33520" y="380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5.Какое из перечисленных веществ может принадлежать к классу  многоатомных спиртов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)  С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15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Н       2)С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14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   3)С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1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4)С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1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(ОН)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6. С какими веществами реагирует  многоатомные спир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) НС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I      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Br  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3) О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    4)  С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sNO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7.Установите соответствие между формулой  и названием веществ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Формула вещества                                         Название веще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.С2Н5ОН                                                            А. бутантриол-1,2,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2. СН2-ОН–СН–ОН--СН2—ОН                        Б. глицер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3. СН2ОН –СН2—СН2ОН                                 В.Этано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4.  СН3—СН2ОН --СН2ОН---СН2ОН              Г. Пропандиол-1,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8 .Установите соответствие между  названием  и  классом  органического вещества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Название вещества                                         Класс соедин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.Бутилен                                                              А. Спи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2. Бензол                                                                Б. Алк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3. Пентантриол  -1,3,5                                          В. Алк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4. 2-метилпропан                                                  Г. Ар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914400" y="762120"/>
            <a:ext cx="75438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1-3, 2-1, 3-3, 4-4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4;  6-1,3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В, Б, Г, 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 В, Г, А, 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ь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о строением, физическими и химическими свойствами многоатомных спиртов, значением и применением их в промышленности и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составлять структурные формулы спиртов, записывать уравнения реакций, уметь составлять генетическую связь с другими классам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кологического сознания, техника безопасности при работе со спир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  <p:sndAc>
      <p:stSnd>
        <p:snd r:embed="rId1" name="LASER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3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41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стный опрос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вещества называются спиртами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каким признакам их классифицируют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строение имеют одноатомные спирт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е строение имеют многоатомные спирты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чему с увеличением молекулярной массы уменьшается растворимость одноатомных спиртов в воде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напоминают спирты по своим химическим свойства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чему опьяневший человек замерзает на морозе быстрее трезвог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ова смертельная доза алкоголя для взрослого человек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ая средняя доза алкоголя смертельна для детей и подростк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705720" y="152280"/>
            <a:ext cx="222876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75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75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6675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75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75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245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75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8825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75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2425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75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6775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75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675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75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Написать формулу: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560" y="838080"/>
            <a:ext cx="83818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- диметилбутанол - 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 - диметилбутанол - 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ксанол - 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Дать название следующим веществ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ÐÐ°ÑÑÐ¸Ð½ÐºÐ¸ Ð¿Ð¾ Ð·Ð°Ð¿ÑÐ¾ÑÑ ÑÐ¸Ð¼Ð¸ÑÐµÑÐºÐ¸Ðµ Ð°Ð½Ð¸Ð¼Ð°ÑÐ¸Ð¸"/>
          <p:cNvPicPr/>
          <p:nvPr/>
        </p:nvPicPr>
        <p:blipFill>
          <a:blip r:embed="rId1"/>
          <a:stretch/>
        </p:blipFill>
        <p:spPr>
          <a:xfrm>
            <a:off x="7086600" y="685800"/>
            <a:ext cx="1571760" cy="1809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ÐÐ°ÑÑÐ¸Ð½ÐºÐ¸ Ð¿Ð¾ Ð·Ð°Ð¿ÑÐ¾ÑÑ 2,3,3-Ð¢ÑÐ¸Ð¼ÐµÑÐ¸Ð»Ð¿ÐµÐ½ÑÐ°Ð½"/>
          <p:cNvPicPr/>
          <p:nvPr/>
        </p:nvPicPr>
        <p:blipFill>
          <a:blip r:embed="rId2"/>
          <a:srcRect l="0" t="0" r="0" b="57036"/>
          <a:stretch/>
        </p:blipFill>
        <p:spPr>
          <a:xfrm>
            <a:off x="609480" y="4038480"/>
            <a:ext cx="3886200" cy="2086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ÐÐ°ÑÑÐ¸Ð½ÐºÐ¸ Ð¿Ð¾ Ð·Ð°Ð¿ÑÐ¾ÑÑ 2,3,3-Ð¢ÑÐ¸Ð¼ÐµÑÐ¸Ð»Ð¿ÐµÐ½ÑÐ°Ð½"/>
          <p:cNvPicPr/>
          <p:nvPr/>
        </p:nvPicPr>
        <p:blipFill>
          <a:blip r:embed="rId3"/>
          <a:srcRect l="0" t="49602" r="0" b="7434"/>
          <a:stretch/>
        </p:blipFill>
        <p:spPr>
          <a:xfrm>
            <a:off x="4786200" y="3905280"/>
            <a:ext cx="4052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2ОН - СН(СН3) - СН(СН3) - СН3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2ОН - СН2 - С(С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 - СН3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3 - СН2 - СНОН - СН2 - СН2 - СН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ÐÐ°ÑÑÐ¸Ð½ÐºÐ¸ Ð¿Ð¾ Ð·Ð°Ð¿ÑÐ¾ÑÑ 2,3,3-Ð¢ÑÐ¸Ð¼ÐµÑÐ¸Ð»Ð¿ÐµÐ½ÑÐ°Ð½"/>
          <p:cNvPicPr/>
          <p:nvPr/>
        </p:nvPicPr>
        <p:blipFill>
          <a:blip r:embed="rId1"/>
          <a:stretch/>
        </p:blipFill>
        <p:spPr>
          <a:xfrm>
            <a:off x="533520" y="3048120"/>
            <a:ext cx="5029200" cy="358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6781680" y="3029040"/>
            <a:ext cx="2292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Строение и физические свойства многоатомных спирт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Химические свойства многоатомных спирт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Применение спиртов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477120" y="434340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атомные спирты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рганические соединения, в молекулах которых содержитс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колько гидроксильных групп (-ОН), соединённых с углеводородным радикало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ux</dc:creator>
  <dc:description/>
  <dc:language>en-US</dc:language>
  <cp:lastModifiedBy>elsha</cp:lastModifiedBy>
  <dcterms:modified xsi:type="dcterms:W3CDTF">2024-01-30T08:28:1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