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carbrake.wav" ContentType="audio/x-wav"/>
  <Override PartName="/ppt/media/image3.jpeg" ContentType="image/jpeg"/>
  <Override PartName="/ppt/media/camera.wav" ContentType="audio/x-wav"/>
  <Override PartName="/ppt/media/image2.jpeg" ContentType="image/jpeg"/>
  <Override PartName="/ppt/media/whoosh.wav" ContentType="audio/x-wav"/>
  <Override PartName="/ppt/media/las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22C-D70D-40C1-8701-CCD6268E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764-036F-4B47-8CE3-C56ABC3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BD8-9C0B-4E33-AC13-7B82D4E9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088-026C-4721-9BA6-294EC08F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B4C-4785-45C5-AA7C-1A806277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6512-D03A-4615-B31B-507FF676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2F96-BCCD-4557-9C12-2265B4D2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DB5A-1463-4067-B878-34AE48B1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DC81-A962-46D8-B47C-67CC9E76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3598-EB04-4292-AB7E-EA5689E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DAB1-D4B0-4EF4-8F0D-3D3BFB9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8B8-8AC1-4229-8372-FD60F0B2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2997-AED1-49B7-BD07-970FE67D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DE6C-3CBF-4115-9A6B-9A37A116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DC36-B5D9-4207-9E14-D0019065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4AD0-7E28-4C9C-80EC-A05BBD9E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73E-FEB8-4C84-A91F-CA8DF805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8AD2-14D8-48B2-98A8-55606371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C0D5-1AF4-427E-8DC5-C798CAE3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53AE-397B-4138-B7D5-AD504D88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D24F-0927-4345-B790-063CE67D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17D7-60D1-4DB6-B67B-155A3A2D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5EB-762A-427E-8C45-C542C390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6CFD-C328-4DDC-8EFC-216E6F1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29F1-43D1-4357-A9DD-124B392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112E-1569-4696-915F-8C840ABD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27D9-B57F-4985-992F-503A4F1E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67B9-D523-4A28-921D-0232D4B1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A944-2A81-4942-B8D9-95BCE5BB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93D5-166E-43E6-B701-8377731E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FE3E-BEC7-46BB-8341-9CC37EFB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D6E49-359B-434F-B5C6-86F90FCD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ACC0-ACA3-49F0-B13E-2C9E71C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F1D-4859-4A7D-B819-0B647562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D2CB-F466-4829-A4B5-C333E4D6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0F33-D708-442F-98EA-E592FBD9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FBD0-AAA9-4C77-A9F1-71954510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6CD0-DC52-44DC-B5FC-4411BDA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96AF-A5B3-44A6-847B-644B70F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3C600-6B9D-46C2-8917-4FBFC8A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323B-E0A7-4550-90B5-64889F7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FD559-4BD8-4177-924A-F31A4912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537A-CCE5-4382-9437-3A3688D3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D0F0-6F4A-42D2-9DAC-D83BED68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897-B210-438A-B034-FBD8C9BF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FE7E-6FCE-471E-9F1D-E2C0D64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79A0-B9D1-419B-BC35-30DB1290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0B5D-0CA1-4571-AB2A-1AB000C5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BAE0C-8F3F-4D5A-B81E-26F4207D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4062-3132-4A87-84E3-BE078D42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BAA5-B345-44DB-BD6E-43F13010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300A5-160B-41DC-9134-41C69FF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3FC7-BE89-4D3A-9B20-971592F1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EA35C-0F7C-4F9B-8C3F-8617371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9812C-8DF7-4FCC-80BE-BDC9B2FB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F3C-4A15-4CB3-BF13-0E9827E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EE7B7-E221-4D9F-BA47-A9801DB2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FA9-1D03-487A-AB50-18FA8AE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003-194A-4365-8FB1-B893B45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E23-C40A-413A-8297-6BFF2290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E82-DDC1-44E7-918F-F73F146ECA3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7349-5518-438F-8C64-DD39087E9DC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D1D-A0CA-450D-A2F3-54D5E175EBC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1456-3BE4-4483-BA15-48BE5B14E9DA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47BA-21CE-4ECD-AD9B-DEDC2EA06EF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309240" y="1085760"/>
            <a:ext cx="5648400" cy="2509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5f5f"/>
                </a:solidFill>
                <a:latin typeface="Franklin Gothic Medium"/>
              </a:rPr>
              <a:t>КАК БЫТЬ ЭФФЕКТИВНЫМ</a:t>
            </a:r>
            <a:br>
              <a:rPr sz="4000"/>
            </a:br>
            <a:r>
              <a:rPr b="0" lang="ru-RU" sz="4000" spc="-1" strike="noStrike">
                <a:solidFill>
                  <a:srgbClr val="5f5f5f"/>
                </a:solidFill>
                <a:latin typeface="Franklin Gothic Medium"/>
              </a:rPr>
              <a:t>КЛАССНЫМ РУКОВОДИТЕЛЕМ?</a:t>
            </a:r>
            <a:br>
              <a:rPr sz="4000"/>
            </a:br>
            <a:r>
              <a:rPr b="0" lang="ru-RU" sz="2800" spc="-1" strike="noStrike">
                <a:solidFill>
                  <a:srgbClr val="969696"/>
                </a:solidFill>
                <a:latin typeface="Franklin Gothic Med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292720" y="4581000"/>
            <a:ext cx="3384720" cy="17528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О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М – ПСИХОЛОГОМ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ШКОЛЫ С.АКСАРКА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ЬЯНОВОЙ А.У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Рисунок 3" descr="https://image.mel.fm/i/n/n2HrLRoZWv/590.png"/>
          <p:cNvPicPr/>
          <p:nvPr/>
        </p:nvPicPr>
        <p:blipFill>
          <a:blip r:embed="rId1"/>
          <a:stretch/>
        </p:blipFill>
        <p:spPr>
          <a:xfrm>
            <a:off x="2779560" y="2511360"/>
            <a:ext cx="3681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ЕСЛИ ВЫ КЛАССНЫЙ РУКОВОДИТЕЛЬ, ЭТИ РЕКОМЕНДАЦИИ ПОМОГУТ ВАМ СОХРАНИТЬ ПСИХОЛОГИЧЕСКОЕ ЗДОРОВЬЕ И ПРОФЕССИОНАЛЬНУЮ КОМПЕТЕНЦИЮ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000" y="1484280"/>
            <a:ext cx="75200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Соблюдайте личные и профессиональные границы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 родители будут стремиться нарушить ваши границы всегда и во всём с первого дня знакомства. Для детей нарушение границ — процесс абсолютно естественный, это их способ познавать мир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69292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2. СОЗДАЙТЕ ДЛЯ КЛАССА ЧЁТКИЕ ПРАВИЛА И СЛЕДИТЕ, ЧТОБЫ ВСЕ, ВКЛЮЧАЯ ВАС, ИХ СОБЛЮДА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126792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одного микрофона — в классе говорит только один человек, неважно, ученик или учитель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уважения — нельзя оскорблять другого человека, смеяться над ним, перебивать его, брать чужие вещи без разрешения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времени — чётко соблюдать временные рамки, не опаздывать на урок, приём пищи и другие мероприятия класса. Важно, чтобы учитель также вовремя отпускал детей с урока и сам соблюдал все временные рамки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улицы и помещения — на улице можно бегать, прыгать, кричать. В помещении этого делать нельзя из соображений безопасности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5218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3. ДОВЕРЯЙТЕ ДЕТЯМ И ДАВАЙТЕ ИМ СВОБОДУ ВЫБОРА И ДЕЙСТВИ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699920"/>
            <a:ext cx="752184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иться можно о чём угодно, не бойтесь идти на компромиссы. Так вы не только заслужите уважение ребёнка, но и дадите ему возможность нести ответственность за свои поступк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4. Признавайте свою вину и просите проще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совершают все!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 умеете признавать свои ошибки, то дети, копируя вашу модель поведения, будут учиться быть друг к другу добрее и анализировать свои поступк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. Открыто обсуждайте проблемы класса с детьм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и имеют право знать, что происходит в их среде. Это поможет им чувствовать себя в безопасности и понимать, что ситуация под контролем взрослых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f5f5f"/>
                </a:solidFill>
                <a:latin typeface="Script MT Bold"/>
              </a:rPr>
              <a:t>Успехов !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5" descr="цв5"/>
          <p:cNvPicPr/>
          <p:nvPr/>
        </p:nvPicPr>
        <p:blipFill>
          <a:blip r:embed="rId1"/>
          <a:stretch/>
        </p:blipFill>
        <p:spPr>
          <a:xfrm>
            <a:off x="4500720" y="210672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5:12:07Z</dcterms:created>
  <dc:creator>1</dc:creator>
  <dc:description/>
  <dc:language>en-US</dc:language>
  <cp:lastModifiedBy>ст.Авторизации Р</cp:lastModifiedBy>
  <dcterms:modified xsi:type="dcterms:W3CDTF">2022-11-09T07:10:33Z</dcterms:modified>
  <cp:revision>20</cp:revision>
  <dc:subject/>
  <dc:title>Семья и школа.</dc:title>
</cp:coreProperties>
</file>