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carbrake.wav" ContentType="audio/x-wav"/>
  <Override PartName="/ppt/media/image3.jpeg" ContentType="image/jpeg"/>
  <Override PartName="/ppt/media/camera.wav" ContentType="audio/x-wav"/>
  <Override PartName="/ppt/media/image2.jpeg" ContentType="image/jpeg"/>
  <Override PartName="/ppt/media/whoosh.wav" ContentType="audio/x-wav"/>
  <Override PartName="/ppt/media/laser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22E-10B3-4F6F-B78A-89E5FF2A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A2BE-D2AE-4F04-B504-73384E46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20DF-F5F9-41F2-86EA-4651C7AD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40B0-FD98-4903-8BB4-378D4074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EEC1-A7EB-4DE5-AFA9-32C41D7C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AA40-EB22-45A9-8287-CDEDCB7D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AFB5-A8C9-459F-8D58-7394A6C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A59B-AA9A-4945-963B-AD892D77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83BD-6259-4042-B836-EED33083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7C8E-5A7E-47A9-85B3-60707F2E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8B1E-B4F9-4AF2-AAA6-A332D45B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678-FBDA-485B-9FF8-7DC2B6F2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AC76-FADE-4107-8AF8-C21117B5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E7FF-04B2-4F4D-89B6-574D0198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15FA-8E82-4885-BB00-544E6384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B7B0-8961-43AD-8B0F-0FE92352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5EFE-AFF5-4AB8-82F4-DFBF94577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A9B2-516E-4EF9-B3CF-9088199E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533C4-30B7-436D-B68D-75B6CEE3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69541-9193-4D51-AFF5-1EA63863B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02DAA-4E15-4179-916F-0A5A26A0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C527E-B292-4302-AFE2-F50B1DC6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51DF-BBDF-46A8-B545-F6B7D97E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8036-7FD9-4ACF-B976-7783F7EA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DE5DF-B83A-49C8-A512-305298CE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8E846-5D6B-4AFD-B184-95E73714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37FE9-70F0-4612-9A3B-85ABCBD6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3668B-776F-427C-BB00-B15A5F67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A1E8-12F7-4490-8A5F-F26F42ED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28A4-AE94-4436-839C-06452892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9681D-7DE8-4F03-928E-3323DD3E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B4F7D-FC45-4E5F-A590-8141AC21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E8670-6E09-4561-BF2C-BE9664C6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007C-1E37-4409-920E-F1C762B2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DDC8B-A1BA-4D35-8D47-D9628FC2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840E7-658F-40D0-B0C7-71CE6946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2D9DE-FA08-4CA2-8FA4-639DC487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0BABE-F257-4239-8DF7-C26B14EF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BFA5C-D229-40EC-9F5E-873AEFEC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1D62-A416-4D75-96C0-04B6A417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CA01C-56E4-4274-8911-D2D9C5B6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C4E14-0C54-4C75-8D43-11505B720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DF9CF-61AA-41CA-8157-4AC0C3E3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C51A5-7E59-4826-BD3E-C8943290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E98-D8A6-4898-A9E7-21B77E92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5AB2-1964-4B4E-A31F-5DC27518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B3DF8-9773-4A47-9813-7DB4E30E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15775-2896-486F-A93F-14410E80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BED76-FCFD-4C6C-833A-FCABE80B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2532-8F71-4253-9F79-DCE03D29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275E3-CBEF-4EA4-AD35-80F9B50E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7CB03-62BE-4B15-9D70-4FA4EA95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EFE5-55A7-43E2-942F-66E77166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A99CA-E563-453A-9713-BEA8B153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00562-2605-4EFE-9DB7-72971FE6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C553-4D68-4318-AB7C-BE823EF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BF37E-A8B1-4ED0-A376-2A5585AE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906A-104D-479A-87A5-52F4E65A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F68-1F41-4D8F-B8BD-4D197829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377-CFD8-4DE7-9A95-EE0A8695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07F3-D5AB-4469-8884-77F1E603931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F7B2-B534-4B31-83E2-AA29CF1231B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F39D-29E4-44C8-97D6-BCE95D810B0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2579-C65E-4144-94BB-9A53EB5D8DF0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9335-B7C5-4B57-9E4D-AD7F74F6B98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309240" y="1085760"/>
            <a:ext cx="5648400" cy="2509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f5f5f"/>
                </a:solidFill>
                <a:latin typeface="Franklin Gothic Medium"/>
              </a:rPr>
              <a:t>КАК БЫТЬ ЭФФЕКТИВНЫМ</a:t>
            </a:r>
            <a:br>
              <a:rPr sz="4000"/>
            </a:br>
            <a:r>
              <a:rPr b="0" lang="ru-RU" sz="4000" spc="-1" strike="noStrike">
                <a:solidFill>
                  <a:srgbClr val="5f5f5f"/>
                </a:solidFill>
                <a:latin typeface="Franklin Gothic Medium"/>
              </a:rPr>
              <a:t>КЛАССНЫМ РУКОВОДИТЕЛЕМ?</a:t>
            </a:r>
            <a:br>
              <a:rPr sz="4000"/>
            </a:br>
            <a:r>
              <a:rPr b="0" lang="ru-RU" sz="2800" spc="-1" strike="noStrike">
                <a:solidFill>
                  <a:srgbClr val="969696"/>
                </a:solidFill>
                <a:latin typeface="Franklin Gothic Mediu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5292720" y="4581000"/>
            <a:ext cx="3384720" cy="17528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О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ОМ – ПСИХОЛОГОМ 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ШКОЛЫ С.АКСАРКА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ЬЯНОВОЙ А.У.</a:t>
            </a:r>
            <a:endParaRPr b="1" lang="en-US" sz="17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17" name="Рисунок 3" descr="https://image.mel.fm/i/n/n2HrLRoZWv/590.png"/>
          <p:cNvPicPr/>
          <p:nvPr/>
        </p:nvPicPr>
        <p:blipFill>
          <a:blip r:embed="rId1"/>
          <a:stretch/>
        </p:blipFill>
        <p:spPr>
          <a:xfrm>
            <a:off x="2779560" y="2511360"/>
            <a:ext cx="36817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9" name="Объект 3" descr=""/>
          <p:cNvPicPr/>
          <p:nvPr/>
        </p:nvPicPr>
        <p:blipFill>
          <a:blip r:embed="rId1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Объект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ЕСЛИ ВЫ КЛАССНЫЙ РУКОВОДИТЕЛЬ, ЭТИ РЕКОМЕНДАЦИИ ПОМОГУТ ВАМ СОХРАНИТЬ ПСИХОЛОГИЧЕСКОЕ ЗДОРОВЬЕ И ПРОФЕССИОНАЛЬНУЮ КОМПЕТЕНЦИЮ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000" y="1484280"/>
            <a:ext cx="75200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Соблюдайте личные и профессиональные границы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и родители будут стремиться нарушить ваши границы всегда и во всём с первого дня знакомства. Для детей нарушение границ — процесс абсолютно естественный, это их способ познавать мир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69292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Medium"/>
              </a:rPr>
              <a:t>2. СОЗДАЙТЕ ДЛЯ КЛАССА ЧЁТКИЕ ПРАВИЛА И СЛЕДИТЕ, ЧТОБЫ ВСЕ, ВКЛЮЧАЯ ВАС, ИХ СОБЛЮДАЛ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9280" y="126792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авило одного микрофона — в классе говорит только один человек, неважно, ученик или учитель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авило уважения — нельзя оскорблять другого человека, смеяться над ним, перебивать его, брать чужие вещи без разрешения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авило времени — чётко соблюдать временные рамки, не опаздывать на урок, приём пищи и другие мероприятия класса. Важно, чтобы учитель также вовремя отпускал детей с урока и сам соблюдал все временные рамки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Правило улицы и помещения — на улице можно бегать, прыгать, кричать. В помещении этого делать нельзя из соображений безопасности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75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75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5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52184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Medium"/>
              </a:rPr>
              <a:t>3. ДОВЕРЯЙТЕ ДЕТЯМ И ДАВАЙТЕ ИМ СВОБОДУ ВЫБОРА И ДЕЙСТВИЙ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699920"/>
            <a:ext cx="752184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иться можно о чём угодно, не бойтесь идти на компромиссы. Так вы не только заслужите уважение ребёнка, но и дадите ему возможность нести ответственность за свои поступки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75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75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4. Признавайте свою вину и просите проще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шибки совершают все!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ы умеете признавать свои ошибки, то дети, копируя вашу модель поведения, будут учиться быть друг к другу добрее и анализировать свои поступк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Franklin Gothic Book"/>
              </a:rPr>
              <a:t>5.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. Открыто обсуждайте проблемы класса с детьм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лжны и имеют право знать, что происходит в их среде. Это поможет им чувствовать себя в безопасности и понимать, что ситуация под контролем взрослых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f5f5f"/>
                </a:solidFill>
                <a:latin typeface="Script MT Bold"/>
              </a:rPr>
              <a:t>Успехов !</a:t>
            </a:r>
            <a:endParaRPr b="1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0" name="Picture 5" descr="цв5"/>
          <p:cNvPicPr/>
          <p:nvPr/>
        </p:nvPicPr>
        <p:blipFill>
          <a:blip r:embed="rId1"/>
          <a:stretch/>
        </p:blipFill>
        <p:spPr>
          <a:xfrm>
            <a:off x="4500720" y="2106720"/>
            <a:ext cx="3527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05:12:07Z</dcterms:created>
  <dc:creator>1</dc:creator>
  <dc:description/>
  <dc:language>en-US</dc:language>
  <cp:lastModifiedBy>ст.Авторизации Р</cp:lastModifiedBy>
  <dcterms:modified xsi:type="dcterms:W3CDTF">2022-11-09T07:10:33Z</dcterms:modified>
  <cp:revision>20</cp:revision>
  <dc:subject/>
  <dc:title>Семья и школа.</dc:title>
</cp:coreProperties>
</file>