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8671C2-47C3-4280-964F-354A9FE16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3251F5-400C-4F71-B0AE-2DB5D4EB2E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B7CFD4-8209-43F3-94BC-2A9CB6FC8F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9A9D-F898-444B-A92A-19867BAD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347-1BA9-4457-BE1A-5253841F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63B-0575-4036-AB4A-7BA526D9A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AB0-B2E4-478B-8A1C-7B1EA39F8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53BE-946C-41E9-830D-60D571A3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9633-7CA4-436C-9C58-AE73D5C76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3A05-7D36-47CE-8283-DE4C4A6B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DF7E-B5EF-4BA9-A9EA-2992007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432E-599E-404E-9182-BCC2FC243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0E25-6884-4969-90A5-479278C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67DE-C41C-44CA-A13B-2576A39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C84-F814-45C6-95FA-96793DBC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9716-97EB-4ED3-959E-6D271AAE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D0DB-6C40-42F6-99F0-A383F45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A417-F668-44E1-889F-174BE0A8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36CD-CA77-4E5F-B372-6D5466BB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08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1240" y="182556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08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1240" y="4098240"/>
            <a:ext cx="2539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B129-F12C-4724-BEA0-D2E9A2DB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4ED-8F77-4B05-83DF-BE6B0080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1E0-E706-4CA2-BE7E-C3FAEBD6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3262-C879-4C11-8603-BDCCB6C0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35B-2069-4628-9F36-46C985E0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DBC3-2000-4B81-AD0F-6B23CE9F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409824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36A-239D-4827-9C1D-B1724D9E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825560"/>
            <a:ext cx="38484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5B5-1020-47D2-BA88-0038C63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52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560"/>
            <a:ext cx="788652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13DD66-9E94-4DF8-AD67-DEED2AB74DD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2480"/>
            <a:ext cx="77720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2E6EB5-7415-473B-8CF8-2C739EA3E92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62"/>
          <p:cNvSpPr/>
          <p:nvPr/>
        </p:nvSpPr>
        <p:spPr>
          <a:xfrm>
            <a:off x="2424600" y="273636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65"/>
          <p:cNvSpPr/>
          <p:nvPr/>
        </p:nvSpPr>
        <p:spPr>
          <a:xfrm>
            <a:off x="2424600" y="3574440"/>
            <a:ext cx="3502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79640" y="188640"/>
            <a:ext cx="2958480" cy="22320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1" name="Picture 4" descr=""/>
          <p:cNvPicPr/>
          <p:nvPr/>
        </p:nvPicPr>
        <p:blipFill>
          <a:blip r:embed="rId2"/>
          <a:srcRect l="4925" t="52384" r="54035" b="2296"/>
          <a:stretch/>
        </p:blipFill>
        <p:spPr>
          <a:xfrm>
            <a:off x="251640" y="4021560"/>
            <a:ext cx="3024000" cy="250236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2" name="Picture 6" descr=""/>
          <p:cNvPicPr/>
          <p:nvPr/>
        </p:nvPicPr>
        <p:blipFill>
          <a:blip r:embed="rId3"/>
          <a:srcRect l="53204" t="0" r="0" b="54724"/>
          <a:stretch/>
        </p:blipFill>
        <p:spPr>
          <a:xfrm>
            <a:off x="5672160" y="244800"/>
            <a:ext cx="3219840" cy="23346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3" name="Picture 10" descr=""/>
          <p:cNvPicPr/>
          <p:nvPr/>
        </p:nvPicPr>
        <p:blipFill>
          <a:blip r:embed="rId4"/>
          <a:srcRect l="57561" t="24800" r="7474" b="31099"/>
          <a:stretch/>
        </p:blipFill>
        <p:spPr>
          <a:xfrm>
            <a:off x="6221520" y="4228200"/>
            <a:ext cx="2664000" cy="25200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4" name="Picture 4" descr=""/>
          <p:cNvPicPr/>
          <p:nvPr/>
        </p:nvPicPr>
        <p:blipFill>
          <a:blip r:embed="rId5"/>
          <a:srcRect l="3192" t="2728" r="48749" b="51957"/>
          <a:stretch/>
        </p:blipFill>
        <p:spPr>
          <a:xfrm>
            <a:off x="2946240" y="2439000"/>
            <a:ext cx="3304080" cy="233460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3"/>
          <p:cNvSpPr/>
          <p:nvPr/>
        </p:nvSpPr>
        <p:spPr>
          <a:xfrm>
            <a:off x="643320" y="441360"/>
            <a:ext cx="7857000" cy="48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>
              <a:lnSpc>
                <a:spcPct val="107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шь, что с картины Смотрит кто-нибудь на вас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инц в плаще старинном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 робе верхолаз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  <a:spcAft>
                <a:spcPts val="799"/>
              </a:spcAf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чик или балери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7000"/>
              </a:lnSpc>
              <a:spcAft>
                <a:spcPts val="799"/>
              </a:spcAf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олька, твой сосед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картина называе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"/>
          <p:cNvPicPr/>
          <p:nvPr/>
        </p:nvPicPr>
        <p:blipFill>
          <a:blip r:embed="rId1"/>
          <a:srcRect l="8435" t="0" r="12048" b="0"/>
          <a:stretch/>
        </p:blipFill>
        <p:spPr>
          <a:xfrm>
            <a:off x="1870920" y="221760"/>
            <a:ext cx="5101200" cy="641412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4"/>
          <p:cNvSpPr/>
          <p:nvPr/>
        </p:nvSpPr>
        <p:spPr>
          <a:xfrm>
            <a:off x="910080" y="564840"/>
            <a:ext cx="760608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шь на карт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на ре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ель и белый ин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ад и обла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Aft>
                <a:spcPts val="799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снежная равн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Aft>
                <a:spcPts val="799"/>
              </a:spcAf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оле и шалаш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подобная картина называется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1792800" y="381960"/>
            <a:ext cx="5288760" cy="609372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4"/>
          <p:cNvSpPr/>
          <p:nvPr/>
        </p:nvSpPr>
        <p:spPr>
          <a:xfrm>
            <a:off x="1658520" y="1563840"/>
            <a:ext cx="6023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основные цвета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их называют основным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1590840" y="538200"/>
            <a:ext cx="5962320" cy="5781240"/>
          </a:xfrm>
          <a:prstGeom prst="rect">
            <a:avLst/>
          </a:prstGeom>
          <a:ln cap="sq" w="88900">
            <a:solidFill>
              <a:srgbClr val="7030a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286000" y="1597320"/>
            <a:ext cx="457164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7000"/>
              </a:lnSpc>
              <a:spcAft>
                <a:spcPts val="799"/>
              </a:spcAf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говорку пр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а радуг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rcRect l="17831" t="14812" r="10039" b="8993"/>
          <a:stretch/>
        </p:blipFill>
        <p:spPr>
          <a:xfrm>
            <a:off x="1882440" y="797760"/>
            <a:ext cx="5698800" cy="450900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2008080" y="1823760"/>
            <a:ext cx="57369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цвета нужно смешать, чтоб получить фиолетовы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анжевый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rcRect l="4319" t="18562" r="5775" b="44314"/>
          <a:stretch/>
        </p:blipFill>
        <p:spPr>
          <a:xfrm>
            <a:off x="1219320" y="1201320"/>
            <a:ext cx="7072920" cy="3316680"/>
          </a:xfrm>
          <a:prstGeom prst="rect">
            <a:avLst/>
          </a:prstGeom>
          <a:ln cap="sq" w="88900">
            <a:solidFill>
              <a:srgbClr val="ffff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95440" y="785880"/>
            <a:ext cx="7953120" cy="528588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1766160" y="279000"/>
            <a:ext cx="47890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Т НАПЛАКАЛ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236680" y="1170360"/>
            <a:ext cx="5382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0" lang="ru-RU" sz="3600" spc="-1" strike="noStrike">
                <a:solidFill>
                  <a:srgbClr val="ffc000"/>
                </a:solidFill>
                <a:latin typeface="Times New Roman"/>
                <a:ea typeface="Calibri"/>
              </a:rPr>
              <a:t>«ТЯНУТЬ ЗА ЯЗЫ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151280" y="2084040"/>
            <a:ext cx="75528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3200" spc="-1" strike="noStrike">
                <a:solidFill>
                  <a:srgbClr val="92d050"/>
                </a:solidFill>
                <a:latin typeface="Times New Roman"/>
                <a:ea typeface="Calibri"/>
              </a:rPr>
              <a:t>«ОДНА НОГА ЗДЕСЬ – ДРУГАЯ Т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866680" y="2888280"/>
            <a:ext cx="43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Calibri"/>
              </a:rPr>
              <a:t>«УМА ПАЛА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1317600" y="3758400"/>
            <a:ext cx="63871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ПУСТИТЬ ПЫЛЬ В ГЛАЗ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1438920" y="4630680"/>
            <a:ext cx="69876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Calibri"/>
              </a:rPr>
              <a:t>«</a:t>
            </a: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ПАСТЬ ПАЛЬЦЕМ В НЕБ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502200" y="223560"/>
            <a:ext cx="8444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РОДИСЬ КРАСИВОЙ, А РОДИСЬ БОГАТ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92520" y="1119960"/>
            <a:ext cx="8671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ЛЮБОВЬ КОЛЬЦО, А У КОЛЬЦА НЕТ ПРОБ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107720" y="1981800"/>
            <a:ext cx="75175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  <a:ea typeface="Calibri"/>
              </a:rPr>
              <a:t>ЯБЛОКО ОТ ЯБЛОНИ УКАТИ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656000" y="2955240"/>
            <a:ext cx="6609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ДЕЛО МАСТЕРА ИСПУГ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663480" y="3742200"/>
            <a:ext cx="79621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ГОСТЯХ ХОРОШО, А ДОМА ПРОСТО СУП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49560" y="4806720"/>
            <a:ext cx="8413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Calibri"/>
              </a:rPr>
              <a:t>НЕТ МИЛЕЕ ДРУЖКА, ЧЕМ РОДНУЛЕЧКА МО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313560" y="108000"/>
            <a:ext cx="41950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СЕМЬЯ, ТУЧА, 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КУЧЕ,  СТРАШНА, 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4796640" y="164880"/>
            <a:ext cx="3814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СЕМЬЯ В КУЧЕ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СТРАШНА ТУ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291600" y="1289160"/>
            <a:ext cx="428004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, ДЕТИ, НЕ, В А, ТЯГОСТЬ, РАДОСТЬ,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5163840" y="1269720"/>
            <a:ext cx="3373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ТИ В РАДОСТЬ, А НЕ В ТЯ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76560" y="2418840"/>
            <a:ext cx="419508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ГДА, НЕ , СЕМЬЕ, 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ЛАД, НУЖЕН, 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96640" y="2469600"/>
            <a:ext cx="40752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НЕ НУЖЕН КЛАД, КОГДА В СЕМЬЕ 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4600" y="3548520"/>
            <a:ext cx="4861440" cy="942840"/>
          </a:xfrm>
          <a:prstGeom prst="rect">
            <a:avLst/>
          </a:prstGeom>
          <a:solidFill>
            <a:srgbClr val="ffffff"/>
          </a:solidFill>
          <a:ln>
            <a:solidFill>
              <a:srgbClr val="c00000"/>
            </a:solidFill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МЬЯ, МЕСТЕ, ТАК, НА КОГДА, ДУША,ВМЕСТЕ,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5186160" y="3548520"/>
            <a:ext cx="38818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КОГДА СЕМЬЯ ВМЕСТЕ, ТАК И ДУША НА 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215640" y="4708800"/>
            <a:ext cx="4599000" cy="8211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ЕЗ СЕМЬЯ, ЧТО, БЕЗ ДЕТЕЙ, ЦВЕТОК, ЗАПА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5451480" y="4749120"/>
            <a:ext cx="3350880" cy="100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ЕМЬЯ БЕЗ ДЕ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—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ЧТО ЦВЕТОК БЕЗ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376560" y="5745600"/>
            <a:ext cx="4267080" cy="821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Calibri"/>
              </a:rPr>
              <a:t>ТЕПЛО, МАТЕРИ, ПР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Calibri"/>
              </a:rPr>
              <a:t>ДОБРО, СОЛНЫШКЕ,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5034600" y="5949360"/>
            <a:ext cx="3599640" cy="699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ПРИ СОЛНЫШКЕ ТЕПЛ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Calibri"/>
              </a:rPr>
              <a:t>ПРИ МАТЕРИ ДОБРО</a:t>
            </a:r>
            <a:r>
              <a:rPr b="0" lang="ru-RU" sz="1800" spc="-1" strike="noStrike">
                <a:solidFill>
                  <a:srgbClr val="111111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1353960" y="221040"/>
            <a:ext cx="6498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Д В ПЕЧИ, А ДРОВА НА П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179640" y="972000"/>
            <a:ext cx="46080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ТАЕТ СНЕГ, ТЕЧЕТ РУЧ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НА ВЕТВЯХ ПОЛНО ВРАЧ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4080240" y="1160640"/>
            <a:ext cx="5287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СТОЛЕ САПОЖКИ, ПОД СТОЛОМ ЛЕПЕШКИ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0" y="2144520"/>
            <a:ext cx="5287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В БУФЕТЕ ГАЛОШКИ - ПОД БУФЕТОМ 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8"/>
          <p:cNvSpPr/>
          <p:nvPr/>
        </p:nvSpPr>
        <p:spPr>
          <a:xfrm>
            <a:off x="3087360" y="3013560"/>
            <a:ext cx="590940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ХАЛ ДЯДЯ БЕЗ ЖИЛЕТА /БИЛЕТА/ - ЗАПЛАТИЛ ОН ШТРАФ ЗА Э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1510560" y="4287600"/>
            <a:ext cx="61858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ПОД КРОВАТЬЮ СПИТ ФЕДОТ, НА КРОВАТИ - ВАСЬКА К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3"/>
          <p:cNvSpPr/>
          <p:nvPr/>
        </p:nvSpPr>
        <p:spPr>
          <a:xfrm>
            <a:off x="1006920" y="495000"/>
            <a:ext cx="813672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БОЛЬШЕ ВСЕГО М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НРАВИЛОСЬ…»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В ДАЛЬНЕЙШЕМ Я БУ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ЬЗОВАТЬ…»,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ЗДЕСЬ Я УЗНА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ВОГО…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4" descr=""/>
          <p:cNvPicPr/>
          <p:nvPr/>
        </p:nvPicPr>
        <p:blipFill>
          <a:blip r:embed="rId1"/>
          <a:stretch/>
        </p:blipFill>
        <p:spPr>
          <a:xfrm rot="16200000">
            <a:off x="2346840" y="-731520"/>
            <a:ext cx="5241960" cy="69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rcRect l="2982" t="7289" r="43808" b="5865"/>
          <a:stretch/>
        </p:blipFill>
        <p:spPr>
          <a:xfrm>
            <a:off x="2239920" y="287280"/>
            <a:ext cx="4176000" cy="592452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1805" t="3383" r="47163" b="21020"/>
          <a:stretch/>
        </p:blipFill>
        <p:spPr>
          <a:xfrm>
            <a:off x="323640" y="332640"/>
            <a:ext cx="3096000" cy="344016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8" name="Picture 6" descr=""/>
          <p:cNvPicPr/>
          <p:nvPr/>
        </p:nvPicPr>
        <p:blipFill>
          <a:blip r:embed="rId2"/>
          <a:srcRect l="5898" t="31097" r="6689" b="30047"/>
          <a:stretch/>
        </p:blipFill>
        <p:spPr>
          <a:xfrm>
            <a:off x="3821040" y="770040"/>
            <a:ext cx="4772880" cy="256536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9" name="Picture 8" descr=""/>
          <p:cNvPicPr/>
          <p:nvPr/>
        </p:nvPicPr>
        <p:blipFill>
          <a:blip r:embed="rId3"/>
          <a:srcRect l="6831" t="14071" r="15115" b="9754"/>
          <a:stretch/>
        </p:blipFill>
        <p:spPr>
          <a:xfrm>
            <a:off x="3060000" y="3933000"/>
            <a:ext cx="4053600" cy="2736000"/>
          </a:xfrm>
          <a:prstGeom prst="rect">
            <a:avLst/>
          </a:prstGeom>
          <a:ln cap="sq" w="88900">
            <a:solidFill>
              <a:srgbClr val="c0000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3922" t="27683" r="51862" b="5016"/>
          <a:stretch/>
        </p:blipFill>
        <p:spPr>
          <a:xfrm>
            <a:off x="2088720" y="582840"/>
            <a:ext cx="4616640" cy="492372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rcRect l="10294" t="5253" r="10197" b="4269"/>
          <a:stretch/>
        </p:blipFill>
        <p:spPr>
          <a:xfrm>
            <a:off x="1371600" y="537840"/>
            <a:ext cx="6122160" cy="487656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rcRect l="44898" t="36861" r="5390" b="8493"/>
          <a:stretch/>
        </p:blipFill>
        <p:spPr>
          <a:xfrm>
            <a:off x="2011320" y="1254960"/>
            <a:ext cx="5121000" cy="4222080"/>
          </a:xfrm>
          <a:prstGeom prst="rect">
            <a:avLst/>
          </a:prstGeom>
          <a:ln cap="sq" w="88900">
            <a:solidFill>
              <a:srgbClr val="99cb38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30680" y="252360"/>
            <a:ext cx="708192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идишь на картине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шку кофе на сто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орс в большом графин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озу в хруста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бронзовую вазу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грушу, или тор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подобную картину называют 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86920" y="208080"/>
            <a:ext cx="8682480" cy="6267240"/>
          </a:xfrm>
          <a:prstGeom prst="rect">
            <a:avLst/>
          </a:prstGeom>
          <a:ln cap="sq" w="88900">
            <a:solidFill>
              <a:srgbClr val="00b050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Зеленый и желтый">
      <a:dk1>
        <a:srgbClr val="000000"/>
      </a:dk1>
      <a:lt1>
        <a:srgbClr val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55f51"/>
      </a:dk2>
      <a:lt2>
        <a:srgbClr val="e2dfcc"/>
      </a:lt2>
      <a:accent1>
        <a:srgbClr val="99cb38"/>
      </a:accent1>
      <a:accent2>
        <a:srgbClr val="63a537"/>
      </a:accent2>
      <a:accent3>
        <a:srgbClr val="37a76f"/>
      </a:accent3>
      <a:accent4>
        <a:srgbClr val="44c1a3"/>
      </a:accent4>
      <a:accent5>
        <a:srgbClr val="4eb3cf"/>
      </a:accent5>
      <a:accent6>
        <a:srgbClr val="51c3f9"/>
      </a:accent6>
      <a:hlink>
        <a:srgbClr val="ee7b08"/>
      </a:hlink>
      <a:folHlink>
        <a:srgbClr val="977b2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50</TotalTime>
  <Application>LibreOffice/7.4.7.2$Linux_X86_64 LibreOffice_project/40$Build-2</Application>
  <AppVersion>15.0000</AppVersion>
  <Words>411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10:12:37Z</dcterms:created>
  <dc:creator>Dmytro</dc:creator>
  <dc:description/>
  <dc:language>en-US</dc:language>
  <cp:lastModifiedBy>User</cp:lastModifiedBy>
  <dcterms:modified xsi:type="dcterms:W3CDTF">2024-01-30T01:26:39Z</dcterms:modified>
  <cp:revision>17</cp:revision>
  <dc:subject/>
  <dc:title>Название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25</vt:r8>
  </property>
</Properties>
</file>