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46436C-0876-49B0-B511-F5A91815D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8807A-1757-422A-BF62-59C59D4D9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32510-F92F-49F4-8288-A771D0FDA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93F-43CF-4869-867D-E905A6DD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FCA-0B85-41D1-B3B9-90173D0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973-608C-4955-A37A-6150077F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2BA-3888-43D2-A1B7-6CF50079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DF5C-F2D1-4876-875A-7ACE6283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732-3942-491E-B5EF-6DB87779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F41-D1B1-45BB-9FC4-6F8096B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4326-15BE-4F59-A2E5-8FCE8118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AED-B7C8-489E-B330-3D936C9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872-C0C0-4E99-AFEB-62E04DD7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F7E-C260-4CB7-A98D-99C0056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1B5-E9F2-46CE-B375-6FA9BEA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B8B-5997-482F-B26B-0BB89F4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77A0-C741-499B-BD12-4395A34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EF9-D250-4D67-AC34-BFB70FF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FA88-F013-4359-A4DF-C793D369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905D-7DEB-4199-8057-0E98B969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3ED-A5CD-4330-BAF7-083798B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D9C-829C-4C26-A0FC-11E30A2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C03-3DFE-4F72-BB25-61E87177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357-E366-4C72-848F-E8510421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88F-4AAF-491B-9662-CCF3AD5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32A-8DF6-4D36-8BD5-74AB7C4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E3C-1B37-4990-8BF0-38D009F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32769-17D2-469C-AE78-C6DCF090C8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2863E5-B950-4878-8B99-98544FC5869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62"/>
          <p:cNvSpPr/>
          <p:nvPr/>
        </p:nvSpPr>
        <p:spPr>
          <a:xfrm>
            <a:off x="2424600" y="27363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5"/>
          <p:cNvSpPr/>
          <p:nvPr/>
        </p:nvSpPr>
        <p:spPr>
          <a:xfrm>
            <a:off x="2424600" y="357444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640" y="188640"/>
            <a:ext cx="2958480" cy="22320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1" name="Picture 4" descr=""/>
          <p:cNvPicPr/>
          <p:nvPr/>
        </p:nvPicPr>
        <p:blipFill>
          <a:blip r:embed="rId2"/>
          <a:srcRect l="4925" t="52384" r="54035" b="2296"/>
          <a:stretch/>
        </p:blipFill>
        <p:spPr>
          <a:xfrm>
            <a:off x="251640" y="4021560"/>
            <a:ext cx="3024000" cy="250236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2" name="Picture 6" descr=""/>
          <p:cNvPicPr/>
          <p:nvPr/>
        </p:nvPicPr>
        <p:blipFill>
          <a:blip r:embed="rId3"/>
          <a:srcRect l="53204" t="0" r="0" b="54724"/>
          <a:stretch/>
        </p:blipFill>
        <p:spPr>
          <a:xfrm>
            <a:off x="5672160" y="244800"/>
            <a:ext cx="3219840" cy="23346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3" name="Picture 10" descr=""/>
          <p:cNvPicPr/>
          <p:nvPr/>
        </p:nvPicPr>
        <p:blipFill>
          <a:blip r:embed="rId4"/>
          <a:srcRect l="57561" t="24800" r="7474" b="31099"/>
          <a:stretch/>
        </p:blipFill>
        <p:spPr>
          <a:xfrm>
            <a:off x="6221520" y="4228200"/>
            <a:ext cx="2664000" cy="25200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4" descr=""/>
          <p:cNvPicPr/>
          <p:nvPr/>
        </p:nvPicPr>
        <p:blipFill>
          <a:blip r:embed="rId5"/>
          <a:srcRect l="3192" t="2728" r="48749" b="51957"/>
          <a:stretch/>
        </p:blipFill>
        <p:spPr>
          <a:xfrm>
            <a:off x="2946240" y="2439000"/>
            <a:ext cx="3304080" cy="23346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643320" y="441360"/>
            <a:ext cx="78570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, что с картины Смотрит кто-нибудь на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инц в плаще старинн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 робе верхолаз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ик или балери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ька, твой сосе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картина называ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rcRect l="8435" t="0" r="12048" b="0"/>
          <a:stretch/>
        </p:blipFill>
        <p:spPr>
          <a:xfrm>
            <a:off x="1870920" y="221760"/>
            <a:ext cx="5101200" cy="641412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910080" y="564840"/>
            <a:ext cx="760608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 на карт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на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ель и белый ин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ад и обл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Aft>
                <a:spcPts val="799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нежная равн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Aft>
                <a:spcPts val="799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ле и шал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одобная картина называется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792800" y="381960"/>
            <a:ext cx="5288760" cy="609372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1658520" y="1563840"/>
            <a:ext cx="6023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основные цвет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их называют основны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590840" y="538200"/>
            <a:ext cx="5962320" cy="5781240"/>
          </a:xfrm>
          <a:prstGeom prst="rect">
            <a:avLst/>
          </a:prstGeom>
          <a:ln cap="sq" w="88900">
            <a:solidFill>
              <a:srgbClr val="7030a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286000" y="1597320"/>
            <a:ext cx="457164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оворку п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а раду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17831" t="14812" r="10039" b="8993"/>
          <a:stretch/>
        </p:blipFill>
        <p:spPr>
          <a:xfrm>
            <a:off x="1882440" y="797760"/>
            <a:ext cx="5698800" cy="450900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2008080" y="1823760"/>
            <a:ext cx="5736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цвета нужно смешать, чтоб получить фиолетовы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анжевы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4319" t="18562" r="5775" b="44314"/>
          <a:stretch/>
        </p:blipFill>
        <p:spPr>
          <a:xfrm>
            <a:off x="1219320" y="1201320"/>
            <a:ext cx="7072920" cy="331668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95440" y="785880"/>
            <a:ext cx="7953120" cy="528588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1766160" y="279000"/>
            <a:ext cx="4789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Т НАПЛАК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236680" y="1170360"/>
            <a:ext cx="5382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«ТЯНУТЬ ЗА ЯЗЫ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151280" y="2084040"/>
            <a:ext cx="75528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«ОДНА НОГА ЗДЕСЬ – ДРУГАЯ Т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866680" y="2888280"/>
            <a:ext cx="43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Calibri"/>
              </a:rPr>
              <a:t>«УМА ПАЛА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1317600" y="3758400"/>
            <a:ext cx="6387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ПУСТИТЬ ПЫЛЬ В ГЛА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1438920" y="4630680"/>
            <a:ext cx="6987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«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ПАСТЬ ПАЛЬЦЕМ В НЕБ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502200" y="223560"/>
            <a:ext cx="844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РОДИСЬ КРАСИВОЙ, А РОДИСЬ БОГА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92520" y="1119960"/>
            <a:ext cx="867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ОВЬ КОЛЬЦО, А У КОЛЬЦА НЕТ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107720" y="1981800"/>
            <a:ext cx="7517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  <a:ea typeface="Calibri"/>
              </a:rPr>
              <a:t>ЯБЛОКО ОТ ЯБЛОНИ УКАТИ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656000" y="2955240"/>
            <a:ext cx="6609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ДЕЛО МАСТЕРА ИСПУГ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63480" y="3742200"/>
            <a:ext cx="7962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ГОСТЯХ ХОРОШО, А ДОМА ПРОСТО СУП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49560" y="4806720"/>
            <a:ext cx="841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Т МИЛЕЕ ДРУЖКА, ЧЕМ РОДНУЛЕЧКА МО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313560" y="108000"/>
            <a:ext cx="41950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ЕМЬЯ, ТУЧА, 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УЧЕ,  СТРАШНА, 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796640" y="164880"/>
            <a:ext cx="3814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ЕМЬЯ В КУЧЕ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СТРАШНА Т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91600" y="1289160"/>
            <a:ext cx="428004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, ДЕТИ, НЕ, В А, ТЯГОСТЬ, РАДОСТЬ,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163840" y="1269720"/>
            <a:ext cx="3373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И В РАДОСТЬ, А НЕ В ТЯ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76560" y="2418840"/>
            <a:ext cx="41950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ГДА, НЕ , СЕМЬЕ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Д, НУЖЕН, 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96640" y="2469600"/>
            <a:ext cx="4075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НЕ НУЖЕН КЛАД, КОГДА В СЕМЬЕ 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4600" y="3548520"/>
            <a:ext cx="486144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МЬЯ, МЕСТЕ, ТАК, НА КОГДА, ДУША,ВМЕСТЕ,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5186160" y="3548520"/>
            <a:ext cx="3881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ГДА СЕМЬЯ ВМЕСТЕ, ТАК И ДУША НА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15640" y="4708800"/>
            <a:ext cx="4599000" cy="821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ЕЗ СЕМЬЯ, ЧТО, БЕЗ ДЕТЕЙ, ЦВЕТОК, ЗАПА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5451480" y="4749120"/>
            <a:ext cx="3350880" cy="100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ЕМЬЯ БЕЗ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 ЦВЕТОК БЕЗ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76560" y="5745600"/>
            <a:ext cx="4267080" cy="821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Calibri"/>
              </a:rPr>
              <a:t>ТЕПЛО, МАТЕРИ, П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Calibri"/>
              </a:rPr>
              <a:t>ДОБРО, СОЛНЫШКЕ,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5034600" y="5949360"/>
            <a:ext cx="3599640" cy="69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И СОЛНЫШКЕ ТЕПЛ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И МАТЕРИ ДОБРО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1353960" y="221040"/>
            <a:ext cx="649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Д В ПЕЧИ, А ДРОВА НА П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79640" y="972000"/>
            <a:ext cx="46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ЕТ СНЕГ, ТЕЧЕТ РУ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ВЕТВЯХ ПОЛНО ВРА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080240" y="1160640"/>
            <a:ext cx="5287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СТОЛЕ САПОЖКИ, ПОД СТОЛОМ ЛЕПЕШК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0" y="2144520"/>
            <a:ext cx="5287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 БУФЕТЕ ГАЛОШКИ - ПОД БУФЕТОМ 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087360" y="3013560"/>
            <a:ext cx="59094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ХАЛ ДЯДЯ БЕЗ ЖИЛЕТА /БИЛЕТА/ - ЗАПЛАТИЛ ОН ШТРАФ З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510560" y="4287600"/>
            <a:ext cx="6185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Д КРОВАТЬЮ СПИТ ФЕДОТ, НА КРОВАТИ - ВАСЬКА 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006920" y="495000"/>
            <a:ext cx="813672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БОЛЬШЕ ВСЕГО М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НРАВИЛОСЬ…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 ДАЛЬНЕЙШЕМ Я БУ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ТЬ…»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ДЕСЬ Я УЗН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ВОГО…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 rot="16200000">
            <a:off x="2346840" y="-731520"/>
            <a:ext cx="5241960" cy="69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2" t="7289" r="43808" b="5865"/>
          <a:stretch/>
        </p:blipFill>
        <p:spPr>
          <a:xfrm>
            <a:off x="2239920" y="287280"/>
            <a:ext cx="4176000" cy="592452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05" t="3383" r="47163" b="21020"/>
          <a:stretch/>
        </p:blipFill>
        <p:spPr>
          <a:xfrm>
            <a:off x="323640" y="332640"/>
            <a:ext cx="3096000" cy="344016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8" name="Picture 6" descr=""/>
          <p:cNvPicPr/>
          <p:nvPr/>
        </p:nvPicPr>
        <p:blipFill>
          <a:blip r:embed="rId2"/>
          <a:srcRect l="5898" t="31097" r="6689" b="30047"/>
          <a:stretch/>
        </p:blipFill>
        <p:spPr>
          <a:xfrm>
            <a:off x="3821040" y="770040"/>
            <a:ext cx="4772880" cy="256536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" name="Picture 8" descr=""/>
          <p:cNvPicPr/>
          <p:nvPr/>
        </p:nvPicPr>
        <p:blipFill>
          <a:blip r:embed="rId3"/>
          <a:srcRect l="6831" t="14071" r="15115" b="9754"/>
          <a:stretch/>
        </p:blipFill>
        <p:spPr>
          <a:xfrm>
            <a:off x="3060000" y="3933000"/>
            <a:ext cx="4053600" cy="273600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3922" t="27683" r="51862" b="5016"/>
          <a:stretch/>
        </p:blipFill>
        <p:spPr>
          <a:xfrm>
            <a:off x="2088720" y="582840"/>
            <a:ext cx="4616640" cy="492372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10294" t="5253" r="10197" b="4269"/>
          <a:stretch/>
        </p:blipFill>
        <p:spPr>
          <a:xfrm>
            <a:off x="1371600" y="537840"/>
            <a:ext cx="6122160" cy="487656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44898" t="36861" r="5390" b="8493"/>
          <a:stretch/>
        </p:blipFill>
        <p:spPr>
          <a:xfrm>
            <a:off x="2011320" y="1254960"/>
            <a:ext cx="5121000" cy="422208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30680" y="252360"/>
            <a:ext cx="708192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 на картин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у кофе на сто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орс в большом графин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озу в хруста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бронзовую ваз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грушу, или то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одобную картину называют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86920" y="208080"/>
            <a:ext cx="8682480" cy="6267240"/>
          </a:xfrm>
          <a:prstGeom prst="rect">
            <a:avLst/>
          </a:prstGeom>
          <a:ln cap="sq" w="88900">
            <a:solidFill>
              <a:srgbClr val="00b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50</TotalTime>
  <Application>LibreOffice/7.4.7.2$Linux_X86_64 LibreOffice_project/40$Build-2</Application>
  <AppVersion>15.0000</AppVersion>
  <Words>411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User</cp:lastModifiedBy>
  <dcterms:modified xsi:type="dcterms:W3CDTF">2024-01-30T01:26:39Z</dcterms:modified>
  <cp:revision>17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5</vt:r8>
  </property>
</Properties>
</file>