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C79-F504-4D42-9522-974DF28757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числа. Выполните округление до целых, до десятых, до сотых. Увеличьте каждое из данных чисел в 10 раз, в 100 раз, в 100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AC25-168D-45D3-8C58-14CD1E29B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статью учебника (правил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3205-B612-4EF5-8A61-F64AA1C4F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D2B-DFE0-4BED-B66A-2C4E42B6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95C-D9B6-45F8-B9CE-8F0D853A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F04E5-A108-4FB8-8A4B-B837AC8D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CF854-4D29-4DA6-9F27-001D8292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2072-15A7-4631-B26B-9FF5091B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B9718-C2CD-4495-8DAC-77DAB4D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44DD4-AC0C-493C-881E-A0F0A231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22539-D486-424A-B85D-7D05B99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81F68-0A3B-4285-97EB-35826078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BB4D8-59A9-4275-9426-8F500ACB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96CF2-F9B6-4F3F-BFEB-E05F8A70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8FCA4-1A41-42D8-B0D4-D78509F5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6BB-13E4-4641-AC3F-E168F581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A7F30-AC1F-4270-8F22-3733E1C7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2B1E1-85BD-4BC6-B3AD-8398B22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4BAFE-284B-43D3-8633-6033B408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3276A-D3AA-4944-9625-C9B006DF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9411A-8232-4866-87D5-9E004625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69358-4794-42E9-A727-5A514AB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578CA-C467-44F6-B982-CE2315DC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3770F-8997-4DE6-8FEC-B45D9D34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89859-EDE6-48D5-93FA-58A9B679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EF974-21C4-4247-B34E-0BBD7CD7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5F4-6DE0-44A6-B3B4-D52442B2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20D4E-4505-45E7-A8A2-55FA0743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D61A6-2574-434B-8987-ECDAEF69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A005C-2F6B-43A8-B565-D4366843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145C1-EEF9-4E8D-B64A-E8FCB683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F34DC-6A90-47F4-BFDD-19A5EF13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AD5FB-F931-44B7-9C1E-6EF07C17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4CCD8-3BD6-49A1-AA11-B9452027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37CC9-CCA8-4C38-AD46-E8DCE802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9BA52-EE84-49F7-805B-2C1A99C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CABDF-1D3B-4C6A-AA88-AF00095C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88EA-B316-41FE-B17C-4BE093C2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BFC85-860F-4C8E-A0CB-0EA39502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4402F-C651-4B03-B38F-F2B72A9F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76947-50E7-43C0-8319-2C32F60D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F3FA6-E95C-48F0-9984-2420BD57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54806-3F69-4694-8AA7-048EB6C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EAD77-C1CF-4D7B-8616-D64E8002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9AD52-B76F-491F-AC52-769DACB7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D1E26-A15A-486E-88FB-017BBCB9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A69E6-3D00-4DD9-A3E6-8DAA774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85C88-64EB-4E79-97BD-9080FC0D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8040-534F-437F-8D6D-B0F17FAC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2EFCE-C36D-4BB7-9ED2-45458E1B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A395A-5F29-427E-85BB-DAB52A9D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828FA-1B79-41AD-93B0-7962BC16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A0A6B-9C79-4CDD-82C9-A5D71554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C4F91-EAC0-408D-ADE9-0B688656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FC1A-EE75-4F80-AD53-96CFF93E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FAB5-F1F3-47FA-90DE-05B2DE9A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DF65-E840-43A2-9395-15C8257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34F2-E029-4F51-A35F-8C44E6ED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5BAB-897D-4682-BAF6-77BE6B14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966-08AE-4018-839B-B46D4748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C0B3-94F2-4A4F-8C5C-470AB9AE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9BDF-79A9-4C08-995C-0203AC4A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62A8-A29A-4779-B93C-E38DE964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CA7-363F-4934-9C97-504F5B92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6F23-C38B-469C-8674-A44D3373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AC4EC-A6EC-4881-80E2-B71D29F9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0893-AD18-47A7-9592-DE257571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0529-3F56-4F6A-92C9-AF2EDCC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1D4C-6D56-4D1E-959B-08103EA7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EA0B-48DA-4CBF-B2C0-CDB96771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FFB-AF18-416F-A1E9-4C80F79D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5E244-7E6B-480A-8FBE-DB7FD9F7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00C1-7527-408C-BF28-EBCB23B6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64CD0-10EF-443F-AE0F-49FA943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040C-FB39-414F-BFE2-F210D1D1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A363-B8BD-4190-B251-9D353BCA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936E-582F-4F22-B806-85FF24FD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4ECE-87D0-4E13-AC3F-076A22E7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2FB5-1656-4511-B6C2-6841D156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4E01-16DE-44A6-AF23-F66D85E5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062D6-1F00-4ED7-B2B0-9816E511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263-668A-49DF-ABAF-9946D18B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3C1F-CBA3-48C3-8E0A-E81A43D0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2445E-01D4-469C-B286-C7ADF6A8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6D938-4403-4E4F-A293-55CD08F3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D6F2-B607-4FC2-8079-54AAA1A8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886C-35EC-448D-878D-7F6F8B2B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BA6F-E1F2-4406-9A6D-65DCF262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D4D1-2005-47F9-A19F-5F75979C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EFA9F-3FBA-4BD8-A089-C79071B5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DB33-0644-4B59-9ED7-D00FC0A1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7946-9C40-4768-B918-8C481A43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493-D86E-4706-984D-7C9C52FE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EC18F-03A1-4844-BBD7-A193087C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3F29-FDF7-4FD8-8303-48554DF4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261F5-2477-425E-B3E7-9B8BA1A1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3C1FD-D723-43E9-9604-A2CAD897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6E144-2020-45A2-A9A0-29BD6082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9F394-A8F5-4496-8D1F-A1495785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B5701-64F1-4700-8B79-BCBF86A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680FF-1D23-46A6-9F74-959C93F2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29B01-CE91-465F-A985-97AD7A03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C698-8D94-4E8F-9B38-D3BBE4B6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058-DBEE-496A-9ADC-D69C391D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33BB-0AA1-4E49-AB71-DD048547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E857F-9E61-4A57-8C59-94055070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672CE-902B-4F31-9C50-55EAC89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8CC8C-732C-4BA4-998A-2822321E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5A60-F15E-4E3C-A724-DD7A14AE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3CBA4-97F0-4A07-B5D2-2CC59B28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B784-ED53-4248-B711-8220AECF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4737-BAE2-4D46-9DD3-AF1E8BCE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0A9BD-8B16-444B-9F49-D57716B6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738C-241E-41B8-BC70-1FF086A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6C3-E81F-4966-863C-004E4FE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A215-8960-4AAB-8A9B-AE04BFB0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F619F-4559-4A94-85D3-C69231DA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63089-A6C4-4EA8-B03C-5107F96C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CFE9B-B205-48B2-9441-7A63EBB1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97163-C707-424F-B6D3-D436CC5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BE95B-D723-465F-A828-D2157005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48E5-91BB-49BE-AC6A-303D52C2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561F2-DA1D-47D3-A113-FD85BA16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5B9D-6694-4467-932D-FBE7054C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CF484-38D9-4F8B-8626-79023F87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330-27CD-46D5-9392-9220B62A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5760-E645-4A06-B694-CBD2033B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70270-9C8B-4E5D-ABE4-96247470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3B5D7-4B9D-4ED3-9086-30F476FB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A2CE4-E023-4987-9144-34318E97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A8590-03E9-44DE-8976-E7BE8A9F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3A12C-C08A-47AF-A4E5-FB85A6DB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5A94C-62F4-431E-9438-7AE33671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861F1-F0AC-4856-83EB-0C752967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B6519-8484-4FCA-95BA-348C616E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7A89F-F63C-44C5-BC16-53B4DB8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282-2CF5-4CAA-8EEC-FA37AE6C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F2140-FB51-4177-8A90-44211608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01BE8-46BB-4784-A2AE-77E28E5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DA9A4-0434-4912-A0AF-47C09AF5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A0BD2-7862-43CA-86D8-CDF4492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02D40-980D-4C51-AFA6-53379307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45DEA-28DE-4628-9CDB-F87FE3FF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33C3C-3C99-43E8-BFFA-6D1BFE4B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72408-8576-4F88-8ADF-E4414F69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CB69D-F258-4BA3-BEAC-A9B092F7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EC438-5057-42AD-B6EB-5FD140B1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10CA-6183-455B-AFAB-52D293D20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B29B-C7CE-43AC-94CB-11392C2D4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15C1-5587-4945-9C58-856BC118E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A4B-2F33-40E0-8491-49CF540A9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558B-A643-4B27-A173-415D4831E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4238-FE38-421E-B942-D20952212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8FE2-3D6D-46C5-9C60-EA6AA15F2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16D3-956A-451E-9908-CCA6ECAD9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476E-1421-4157-989B-DE2E8D89EF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3936-7FBC-4E1C-A4C5-7EBDBEC62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CE2D-271C-4D51-A914-BBF875234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01DC-D54D-44E9-8E5D-0DBC0C125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16000" y="1915920"/>
            <a:ext cx="6858000" cy="2881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Классная раб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Заголовок 1"/>
          <p:cNvSpPr/>
          <p:nvPr/>
        </p:nvSpPr>
        <p:spPr>
          <a:xfrm>
            <a:off x="826920" y="269892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12,43 : 1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Заголовок 1"/>
          <p:cNvSpPr/>
          <p:nvPr/>
        </p:nvSpPr>
        <p:spPr>
          <a:xfrm>
            <a:off x="5148360" y="2698920"/>
            <a:ext cx="262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12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Заголовок 1"/>
          <p:cNvSpPr/>
          <p:nvPr/>
        </p:nvSpPr>
        <p:spPr>
          <a:xfrm>
            <a:off x="5219640" y="2719440"/>
            <a:ext cx="30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000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Заголовок 1"/>
          <p:cNvSpPr/>
          <p:nvPr/>
        </p:nvSpPr>
        <p:spPr>
          <a:xfrm>
            <a:off x="826920" y="269892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0,056 : 1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Заголовок 1"/>
          <p:cNvSpPr/>
          <p:nvPr/>
        </p:nvSpPr>
        <p:spPr>
          <a:xfrm>
            <a:off x="826920" y="269892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54 : 10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Заголовок 1"/>
          <p:cNvSpPr/>
          <p:nvPr/>
        </p:nvSpPr>
        <p:spPr>
          <a:xfrm>
            <a:off x="5219640" y="2719440"/>
            <a:ext cx="30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0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Заголовок 1"/>
          <p:cNvSpPr/>
          <p:nvPr/>
        </p:nvSpPr>
        <p:spPr>
          <a:xfrm>
            <a:off x="5219640" y="2719440"/>
            <a:ext cx="30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04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Заголовок 1"/>
          <p:cNvSpPr/>
          <p:nvPr/>
        </p:nvSpPr>
        <p:spPr>
          <a:xfrm>
            <a:off x="826920" y="269892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4,12 : 1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Заголовок 1"/>
          <p:cNvSpPr/>
          <p:nvPr/>
        </p:nvSpPr>
        <p:spPr>
          <a:xfrm>
            <a:off x="611280" y="2276640"/>
            <a:ext cx="496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768,9 : 10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Заголовок 1"/>
          <p:cNvSpPr/>
          <p:nvPr/>
        </p:nvSpPr>
        <p:spPr>
          <a:xfrm>
            <a:off x="5148360" y="2286000"/>
            <a:ext cx="302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76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Заголовок 1"/>
          <p:cNvSpPr/>
          <p:nvPr/>
        </p:nvSpPr>
        <p:spPr>
          <a:xfrm>
            <a:off x="1547640" y="1052640"/>
            <a:ext cx="604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7200" spc="-1" strike="noStrike">
                <a:solidFill>
                  <a:srgbClr val="c00000"/>
                </a:solidFill>
                <a:latin typeface="Comic Sans MS"/>
                <a:ea typeface="Arial"/>
              </a:rPr>
              <a:t>135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Стр. 2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Заголовок 1"/>
          <p:cNvSpPr/>
          <p:nvPr/>
        </p:nvSpPr>
        <p:spPr>
          <a:xfrm>
            <a:off x="900000" y="1052640"/>
            <a:ext cx="755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7200" spc="-1" strike="noStrike">
                <a:solidFill>
                  <a:srgbClr val="c00000"/>
                </a:solidFill>
                <a:latin typeface="Comic Sans MS"/>
                <a:ea typeface="Arial"/>
              </a:rPr>
              <a:t>1359 (а,б,в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Стр. 2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Заголовок 1"/>
          <p:cNvSpPr/>
          <p:nvPr/>
        </p:nvSpPr>
        <p:spPr>
          <a:xfrm>
            <a:off x="900000" y="1052640"/>
            <a:ext cx="755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omic Sans MS"/>
                <a:ea typeface="Arial"/>
              </a:rPr>
              <a:t>№ </a:t>
            </a:r>
            <a:r>
              <a:rPr b="1" lang="ru-RU" sz="7200" spc="-1" strike="noStrike">
                <a:solidFill>
                  <a:srgbClr val="7030a0"/>
                </a:solidFill>
                <a:latin typeface="Comic Sans MS"/>
                <a:ea typeface="Arial"/>
              </a:rPr>
              <a:t>1375 (3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omic Sans MS"/>
                <a:ea typeface="Arial"/>
              </a:rPr>
              <a:t>№ </a:t>
            </a:r>
            <a:r>
              <a:rPr b="1" lang="ru-RU" sz="7200" spc="-1" strike="noStrike">
                <a:solidFill>
                  <a:srgbClr val="7030a0"/>
                </a:solidFill>
                <a:latin typeface="Comic Sans MS"/>
                <a:ea typeface="Arial"/>
              </a:rPr>
              <a:t>137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124000" y="1757160"/>
            <a:ext cx="2448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7,16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Содержимое 2"/>
          <p:cNvSpPr/>
          <p:nvPr/>
        </p:nvSpPr>
        <p:spPr>
          <a:xfrm>
            <a:off x="5508720" y="1785960"/>
            <a:ext cx="244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3152"/>
                </a:solidFill>
                <a:latin typeface="Comic Sans MS"/>
                <a:ea typeface="Arial"/>
              </a:rPr>
              <a:t>2,8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Содержимое 2"/>
          <p:cNvSpPr/>
          <p:nvPr/>
        </p:nvSpPr>
        <p:spPr>
          <a:xfrm>
            <a:off x="2124000" y="306396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omic Sans MS"/>
                <a:ea typeface="Arial"/>
              </a:rPr>
              <a:t>4,3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одержимое 2"/>
          <p:cNvSpPr/>
          <p:nvPr/>
        </p:nvSpPr>
        <p:spPr>
          <a:xfrm>
            <a:off x="5508720" y="300528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mic Sans MS"/>
                <a:ea typeface="Arial"/>
              </a:rPr>
              <a:t>6,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Содержимое 2"/>
          <p:cNvSpPr/>
          <p:nvPr/>
        </p:nvSpPr>
        <p:spPr>
          <a:xfrm>
            <a:off x="1908000" y="436572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Comic Sans MS"/>
                <a:ea typeface="Arial"/>
              </a:rPr>
              <a:t>3,00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Содержимое 2"/>
          <p:cNvSpPr/>
          <p:nvPr/>
        </p:nvSpPr>
        <p:spPr>
          <a:xfrm>
            <a:off x="5508720" y="436572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Comic Sans MS"/>
                <a:ea typeface="Arial"/>
              </a:rPr>
              <a:t>0,9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Графический диктант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да «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», нет «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/\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4360" y="1844640"/>
            <a:ext cx="77752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6,4 : 4 = 4,1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6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9 : 2 = 4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5,5 : 5 = 3,1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7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8 : 16 =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,8 : 2 = 0,9 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8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5,5 : 11 =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7 : 2 = 3,5   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9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63 : 630 = 0,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3,13 :13 =1,1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10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,5 : 7 =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755640" y="2133360"/>
            <a:ext cx="763272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7200" spc="-1" strike="noStrike">
                <a:solidFill>
                  <a:srgbClr val="6600cc"/>
                </a:solidFill>
                <a:latin typeface="Calibri"/>
              </a:rPr>
              <a:t>_ _ _ _ /\ _ _ _ _ _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755280" y="1599840"/>
            <a:ext cx="74883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omic Sans MS"/>
              </a:rPr>
              <a:t>540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 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 590    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340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omic Sans MS"/>
              </a:rPr>
              <a:t>2100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    </a:t>
            </a:r>
            <a:r>
              <a:rPr b="1" lang="ru-RU" sz="5400" spc="-1" strike="noStrike">
                <a:solidFill>
                  <a:srgbClr val="0070c0"/>
                </a:solidFill>
                <a:latin typeface="Comic Sans MS"/>
              </a:rPr>
              <a:t>43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 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21090      </a:t>
            </a:r>
            <a:r>
              <a:rPr b="1" lang="ru-RU" sz="5400" spc="-1" strike="noStrike">
                <a:solidFill>
                  <a:srgbClr val="002060"/>
                </a:solidFill>
                <a:latin typeface="Comic Sans MS"/>
              </a:rPr>
              <a:t>507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181080" y="37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cc"/>
                </a:solidFill>
                <a:latin typeface="Comic Sans MS"/>
              </a:rPr>
              <a:t>Стр. 20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Заголовок 1"/>
          <p:cNvSpPr/>
          <p:nvPr/>
        </p:nvSpPr>
        <p:spPr>
          <a:xfrm>
            <a:off x="46836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(Работа по статье учебни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mic Sans MS"/>
                <a:ea typeface="Arial"/>
              </a:rPr>
              <a:t>Прочитайте статью учебника и приготовьтесь отвечать на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26920" y="21697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mic Sans MS"/>
              </a:rPr>
              <a:t>65,78 : 10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Заголовок 1"/>
          <p:cNvSpPr/>
          <p:nvPr/>
        </p:nvSpPr>
        <p:spPr>
          <a:xfrm>
            <a:off x="5940360" y="2170080"/>
            <a:ext cx="23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,57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Заголовок 1"/>
          <p:cNvSpPr/>
          <p:nvPr/>
        </p:nvSpPr>
        <p:spPr>
          <a:xfrm>
            <a:off x="826920" y="2698920"/>
            <a:ext cx="489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mic Sans MS"/>
                <a:ea typeface="Arial"/>
              </a:rPr>
              <a:t>87 : 1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Заголовок 1"/>
          <p:cNvSpPr/>
          <p:nvPr/>
        </p:nvSpPr>
        <p:spPr>
          <a:xfrm>
            <a:off x="4932360" y="2698920"/>
            <a:ext cx="23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8,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Заголовок 1"/>
          <p:cNvSpPr/>
          <p:nvPr/>
        </p:nvSpPr>
        <p:spPr>
          <a:xfrm>
            <a:off x="4900680" y="2698920"/>
            <a:ext cx="230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0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Заголовок 1"/>
          <p:cNvSpPr/>
          <p:nvPr/>
        </p:nvSpPr>
        <p:spPr>
          <a:xfrm>
            <a:off x="826920" y="2698920"/>
            <a:ext cx="489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mic Sans MS"/>
                <a:ea typeface="Arial"/>
              </a:rPr>
              <a:t>8 : 1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admin</cp:lastModifiedBy>
  <dcterms:modified xsi:type="dcterms:W3CDTF">2024-01-30T07:45:34Z</dcterms:modified>
  <cp:revision>18</cp:revision>
  <dc:subject/>
  <dc:title>Слайд 1</dc:title>
</cp:coreProperties>
</file>