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2D23-CFFD-4530-B714-D0955327A1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числа. Выполните округление до целых, до десятых, до сотых. Увеличьте каждое из данных чисел в 10 раз, в 100 раз, в 1000 р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C1F5-486A-4654-9C75-2A14B0F5C0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статью учебника (правил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1846-301A-4C10-82F8-573C258E1C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414-E92B-4AC3-83D7-2BC38AB6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3C7-F192-4C17-9EE4-13A2C552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D932E-BAFB-4208-8C13-8747BFDC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2C7E15-F28D-4164-9FA9-907FFABE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A37B4-0E49-4CF6-AB60-3569115B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86430-B612-4B63-8A0E-FC0E35D0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4A808-0A3B-4708-A323-5FBB3FC8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F98F6-3EBC-4A96-A3C0-D972391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70770-79EC-4FFB-A9D7-B5D774AA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9E210-9854-4564-9D06-D9F4B62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2BBE51-B130-42BF-9663-AC8C33E7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1BD58-C4A3-468F-A2A0-B49722AF4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AE40-48EE-4626-933C-EE4923DB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90BAA-1F81-4561-89CF-379DB13D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01BC5-A79D-45DD-BB5C-88C0CDCD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8B166-AE9A-468D-8E92-DB66BB2E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6BA9C-5A4A-4F84-9B29-1722F9F6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F016C-3AF2-4698-A9FA-F9801BB3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59E17-8D01-4BF6-82AC-30C001EB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81270-879A-452D-8C58-21AD7C7A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8D4CC-0325-4602-95E5-F4DE5A8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B054E-A8DC-4F79-893A-4571D14E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146CA-2EBE-44C6-A0E2-370B52E1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CC0-5A7E-4C5E-AEDC-9AE8CEA4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E88D3-5634-42DB-9F85-115224E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77ED2-3CD5-48DA-A959-979ABB08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8428B-63E1-445C-8363-EE6A1BFD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BD361-ACDA-43D8-A36E-8D323F8F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0BED9-5424-45C3-9ADA-ED47E83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EE48D-D6E0-47DA-AB03-395352A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7F752-0C3C-495B-8D85-E4BA6DA1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E21F-2906-43C8-8277-630A9D8C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D7511-E4B7-46E3-812B-B3D02070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A07AB-014A-49CF-9E5C-BCC686CD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4CA7-F4EC-4C75-A85F-42252F1E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1B10B-D290-4DE1-A24E-42794D08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6397DF-7186-4A09-82BC-4DCA63A00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DE16F4-A514-46ED-A2A5-6E8D29FC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11693-7AA6-4340-8572-BF7685B5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DBE9D-203B-4693-AD44-D2B0A1B1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AC96A-86E7-4B7E-BFAA-18B11B59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EBA04-5811-4303-BF1C-6859EBFF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2D1AF-9962-4AA3-9D44-F65B489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9405B-EAAA-4826-AFB5-56D88F9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02BE5-8242-452D-A092-4FDBD1F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BD3D-87FE-41A8-8FB9-373261C7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0E236-5832-407E-B7D3-8962222D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6F5821-0F86-4CEB-B121-6BEADE82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0D510-A483-4444-9655-072C4685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82D2C-6AD7-4CF7-ACB9-46D1171E0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89653-023C-4159-8770-F5F2F58A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36A07-0B18-4952-B764-9D7B6EA5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CA97-F79E-4ED3-8401-65AFC3EF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BE8-3E00-4CDA-950F-62864D76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B2AB-4CB1-4289-A350-0D325BB5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524B-4224-4858-A3F0-CD7BD70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C786-618E-43B6-8AF0-F5E65656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53F-F3DE-4EF4-B19F-CF17B8FE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483E-F7A5-44EE-BD98-6782EA18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68AA-D361-45F4-84B2-D3D2433D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BC7F-7C94-4BF8-A7F4-F9C43E92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CE89-4B57-4837-88C3-D5CCA2CA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9EE2-EF2E-4874-9F95-3DFB33EB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D71B-1F6D-4566-9349-300C8EB6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541C-A3EF-40EB-A33D-EE2F1601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5B4E-3AC3-4AC2-BCAA-A5830E6B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E976B-3FD3-4EA0-A5E5-7CF74103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17BD-8501-4026-9021-168C46C1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825A-C253-46D3-B72F-A854D5D6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18846-2782-48E9-BFB7-9ADFE597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4730-4CB1-4B45-97BA-27F8BAC8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6B321-48B7-4395-8921-375458D9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76E3F-6301-4718-9320-2FE6AD3D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C8F0-B295-4F18-99CB-3EA0AA219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A88C2-DE16-4BB7-A4DF-16CD496B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FD638-7E13-4FAD-AA86-AFB83840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EEBF-2A95-4B6D-BF84-B0706E88F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419C-A753-4CF4-8817-0B67522B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376-1874-459C-9879-E4F390DE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0DA80-4815-48AD-BA97-DF481AC3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F24C-4DEA-477E-92D3-32884E65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AAB3-EF4A-4502-B60C-690548BC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A340D-1C56-4E9C-A72E-40C8FB5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BF23-0FFE-42E3-A580-027D05CE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BD861-532E-49E2-B4F1-C9BE2A07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B4148-873C-4AF1-A609-0C7E4F8B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C92BC-8EBC-4568-BFD5-5D538C87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C4306-0717-4BCB-B704-3DF279C7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6C257-A48F-4256-BEF6-4D1B868E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935-8E21-4C1A-80AE-297A20B0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02C50-110A-49D8-9FA8-58DF72A0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280F9-ED44-48F2-ACA9-EDE31C53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68C2-1200-436F-9373-D78D8048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5A6F-1524-4456-9C3D-2D03CF6D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3FD3-C88D-47E8-B6EF-29FAB779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679DB-D7FF-433E-ACE1-0A79C14A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F3DA9-FA28-44DE-84AF-6D61F64F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7699A-F45E-464F-A05E-9133D24F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6E65A-9256-4051-9706-7225209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A49FF-8433-47B0-91B4-0D7FBB1E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47F-36F0-403A-B02A-16318CA0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1232-6069-4517-BF11-DF68ACFE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63351-CFC8-4E61-93CF-12B62548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EA854-B0F9-4105-9122-A2C5C1AF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6BBFA-3F8B-4DDA-AA56-0CAA3122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B7312-51DA-469C-A845-7B536C76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CE9FE-2CE7-430C-8958-FE084AB9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E9DC-4113-4E49-B3DC-2AF1EB1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93A3C-A016-4F64-A8AF-12EB08A4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9479F-8C20-48F4-AF7A-2DFDB483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D4F81-B812-4E64-8196-9681FCA6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1D7B-F1D6-443D-A4BC-1543EB5C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A330B-ED18-42BD-A300-182C89D6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832C8-4D97-4A13-A693-8680E45E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70E1-4D0D-4DDA-A6EB-010B1004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FC334-E97B-4EBE-9AF1-9750EFE8D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A31BC-F04E-4FC2-81D6-B7FCA2B0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30648-448E-49D5-9532-AAAE220E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6516F-85E9-46EC-9065-63C7A576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C5AAF-0FC9-4EC3-8208-023D4C2B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2A4D6A-0B7D-467B-AD9F-9ABCC18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A86AB-21EC-422F-9853-59DACCAD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7F6-EF82-4FA7-A310-BFE4C42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15BF-B767-4134-9199-E9F773D5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CB4E5-B0A5-492F-A225-FE8C8C20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293FF-9919-4FE6-934B-1B19D919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93497-4C26-45C0-9F5F-254BC7E9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2A628-0783-4347-B4C2-12CD79FA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DBB59-24E8-4DC4-BA96-5F3CC7FD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6A69A-BC08-4560-B746-C61259CF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148DC-E720-41D7-B620-6D3039A8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B5AB-809D-4045-9E49-73F278DD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B3B8-0B85-4AA4-AD13-3AAC2A13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436-8235-492A-B857-B3A556E9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1A74-191D-4590-B259-864114D7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BB787-6043-426C-A29A-9889E6C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B0E3E-1195-4DDA-A6A9-3C3B90B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D7F69-DD06-4026-921D-90EFD697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08D0-94D9-4EB9-B65A-82DF253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7E682-FD4E-480D-816B-433F81AD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BDBF-541A-450D-BD22-52B60E9A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8696F-D525-4D85-9263-EE6CCAD4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E386A0-B3C8-48C8-BC85-CE710EEE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BADE2-57BC-4459-945D-B05293DB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B0AF-B431-4E12-8D27-26E8FDA26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7D3-47C3-4EAC-8311-FDCC0EA26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C41B-1EE1-42A5-9A21-44D3FDD3F2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9B94-F562-43A6-AEF4-E72552538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605-73E2-4938-BA35-1E40808A76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782-E129-4F45-83EE-CC3814C581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3B33-C7C6-42F7-ADDC-4BFE9F1AFC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DCF5-45C7-4BA0-8DFD-93D5389172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E7C4-025C-415A-99E1-3A261C0EE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942B-6208-4D52-835B-438D8F1F4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0521-B1E3-4B46-B03B-142AB5012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4172-4DC3-4BA0-AE9C-8982ED767D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16000" y="1915920"/>
            <a:ext cx="6858000" cy="2881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omic Sans MS"/>
                <a:ea typeface="Times New Roman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12,43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Заголовок 1"/>
          <p:cNvSpPr/>
          <p:nvPr/>
        </p:nvSpPr>
        <p:spPr>
          <a:xfrm>
            <a:off x="5148360" y="2698920"/>
            <a:ext cx="262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12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00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0,056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54 : 10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Заголовок 1"/>
          <p:cNvSpPr/>
          <p:nvPr/>
        </p:nvSpPr>
        <p:spPr>
          <a:xfrm>
            <a:off x="5219640" y="2719440"/>
            <a:ext cx="30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04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Заголовок 1"/>
          <p:cNvSpPr/>
          <p:nvPr/>
        </p:nvSpPr>
        <p:spPr>
          <a:xfrm>
            <a:off x="826920" y="269892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4,12 : 1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Заголовок 1"/>
          <p:cNvSpPr/>
          <p:nvPr/>
        </p:nvSpPr>
        <p:spPr>
          <a:xfrm>
            <a:off x="611280" y="2276640"/>
            <a:ext cx="496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768,9 : 1000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Заголовок 1"/>
          <p:cNvSpPr/>
          <p:nvPr/>
        </p:nvSpPr>
        <p:spPr>
          <a:xfrm>
            <a:off x="5148360" y="2286000"/>
            <a:ext cx="302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omic Sans MS"/>
                <a:ea typeface="Arial"/>
              </a:rPr>
              <a:t>0,76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Заголовок 1"/>
          <p:cNvSpPr/>
          <p:nvPr/>
        </p:nvSpPr>
        <p:spPr>
          <a:xfrm>
            <a:off x="1547640" y="1052640"/>
            <a:ext cx="604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135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Стр. 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Заголовок 1"/>
          <p:cNvSpPr/>
          <p:nvPr/>
        </p:nvSpPr>
        <p:spPr>
          <a:xfrm>
            <a:off x="900000" y="1052640"/>
            <a:ext cx="755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c00000"/>
                </a:solidFill>
                <a:latin typeface="Comic Sans MS"/>
                <a:ea typeface="Arial"/>
              </a:rPr>
              <a:t>1359 (а,б,в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  <a:ea typeface="Arial"/>
              </a:rPr>
              <a:t>Стр. 2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Заголовок 1"/>
          <p:cNvSpPr/>
          <p:nvPr/>
        </p:nvSpPr>
        <p:spPr>
          <a:xfrm>
            <a:off x="900000" y="1052640"/>
            <a:ext cx="755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1375 (3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№ </a:t>
            </a:r>
            <a:r>
              <a:rPr b="1" lang="ru-RU" sz="7200" spc="-1" strike="noStrike">
                <a:solidFill>
                  <a:srgbClr val="7030a0"/>
                </a:solidFill>
                <a:latin typeface="Comic Sans MS"/>
                <a:ea typeface="Arial"/>
              </a:rPr>
              <a:t>137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2124000" y="175716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omic Sans MS"/>
              </a:rPr>
              <a:t>7,16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Содержимое 2"/>
          <p:cNvSpPr/>
          <p:nvPr/>
        </p:nvSpPr>
        <p:spPr>
          <a:xfrm>
            <a:off x="5508720" y="1785960"/>
            <a:ext cx="24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03152"/>
                </a:solidFill>
                <a:latin typeface="Comic Sans MS"/>
                <a:ea typeface="Arial"/>
              </a:rPr>
              <a:t>2,8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Содержимое 2"/>
          <p:cNvSpPr/>
          <p:nvPr/>
        </p:nvSpPr>
        <p:spPr>
          <a:xfrm>
            <a:off x="2124000" y="306396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84807"/>
                </a:solidFill>
                <a:latin typeface="Comic Sans MS"/>
                <a:ea typeface="Arial"/>
              </a:rPr>
              <a:t>4,3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Содержимое 2"/>
          <p:cNvSpPr/>
          <p:nvPr/>
        </p:nvSpPr>
        <p:spPr>
          <a:xfrm>
            <a:off x="5508720" y="300528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  <a:ea typeface="Arial"/>
              </a:rPr>
              <a:t>6,2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Содержимое 2"/>
          <p:cNvSpPr/>
          <p:nvPr/>
        </p:nvSpPr>
        <p:spPr>
          <a:xfrm>
            <a:off x="1908000" y="436572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00"/>
                </a:solidFill>
                <a:latin typeface="Comic Sans MS"/>
                <a:ea typeface="Arial"/>
              </a:rPr>
              <a:t>3,00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Содержимое 2"/>
          <p:cNvSpPr/>
          <p:nvPr/>
        </p:nvSpPr>
        <p:spPr>
          <a:xfrm>
            <a:off x="5508720" y="4365720"/>
            <a:ext cx="244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cc"/>
                </a:solidFill>
                <a:latin typeface="Comic Sans MS"/>
                <a:ea typeface="Arial"/>
              </a:rPr>
              <a:t>0,9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Графический диктант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да «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_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», нет «</a:t>
            </a: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/\</a:t>
            </a:r>
            <a:r>
              <a:rPr b="1" lang="ru-RU" sz="4400" spc="-1" strike="noStrike">
                <a:solidFill>
                  <a:srgbClr val="00206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684360" y="1844640"/>
            <a:ext cx="7775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6,4 : 4 = 4,1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6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9 : 2 = 4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5,5 : 5 = 3,1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7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8 : 16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,8 : 2 = 0,9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8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5,5 : 11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7 : 2 = 3,5     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9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63 : 630 = 0,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13,13 :13 =1,1 </a:t>
            </a:r>
            <a:r>
              <a:rPr b="1" lang="ru-RU" sz="3200" spc="-1" strike="noStrike">
                <a:solidFill>
                  <a:srgbClr val="c00000"/>
                </a:solidFill>
                <a:latin typeface="Comic Sans MS"/>
              </a:rPr>
              <a:t>10) </a:t>
            </a:r>
            <a:r>
              <a:rPr b="1" lang="ru-RU" sz="3200" spc="-1" strike="noStrike">
                <a:solidFill>
                  <a:srgbClr val="002060"/>
                </a:solidFill>
                <a:latin typeface="Comic Sans MS"/>
              </a:rPr>
              <a:t>3,5 : 7 = 0,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755640" y="2133360"/>
            <a:ext cx="7632720" cy="19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7200" spc="-1" strike="noStrike">
                <a:solidFill>
                  <a:srgbClr val="6600cc"/>
                </a:solidFill>
                <a:latin typeface="Calibri"/>
              </a:rPr>
              <a:t>_ _ _ _ /\ _ _ _ _ _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755280" y="1599840"/>
            <a:ext cx="74883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omic Sans MS"/>
              </a:rPr>
              <a:t>540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c00000"/>
                </a:solidFill>
                <a:latin typeface="Comic Sans MS"/>
              </a:rPr>
              <a:t> 590    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340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46c0a"/>
                </a:solidFill>
                <a:latin typeface="Comic Sans MS"/>
              </a:rPr>
              <a:t>2100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  </a:t>
            </a:r>
            <a:r>
              <a:rPr b="1" lang="ru-RU" sz="5400" spc="-1" strike="noStrike">
                <a:solidFill>
                  <a:srgbClr val="0070c0"/>
                </a:solidFill>
                <a:latin typeface="Comic Sans MS"/>
              </a:rPr>
              <a:t>432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   </a:t>
            </a: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21090      </a:t>
            </a: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507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-181080" y="37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cc"/>
                </a:solidFill>
                <a:latin typeface="Comic Sans MS"/>
              </a:rPr>
              <a:t>Стр. 209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Заголовок 1"/>
          <p:cNvSpPr/>
          <p:nvPr/>
        </p:nvSpPr>
        <p:spPr>
          <a:xfrm>
            <a:off x="468360" y="141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  <a:ea typeface="Arial"/>
              </a:rPr>
              <a:t>(Работа по статье учебни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omic Sans MS"/>
                <a:ea typeface="Arial"/>
              </a:rPr>
              <a:t>Прочитайте статью учебника и приготовьтесь отвечать на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26920" y="2169720"/>
            <a:ext cx="48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</a:rPr>
              <a:t>65,78 : 10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Заголовок 1"/>
          <p:cNvSpPr/>
          <p:nvPr/>
        </p:nvSpPr>
        <p:spPr>
          <a:xfrm>
            <a:off x="5940360" y="217008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6,57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Заголовок 1"/>
          <p:cNvSpPr/>
          <p:nvPr/>
        </p:nvSpPr>
        <p:spPr>
          <a:xfrm>
            <a:off x="826920" y="2698920"/>
            <a:ext cx="489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  <a:ea typeface="Arial"/>
              </a:rPr>
              <a:t>87 :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Заголовок 1"/>
          <p:cNvSpPr/>
          <p:nvPr/>
        </p:nvSpPr>
        <p:spPr>
          <a:xfrm>
            <a:off x="4932360" y="2698920"/>
            <a:ext cx="23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8,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Заголовок 1"/>
          <p:cNvSpPr/>
          <p:nvPr/>
        </p:nvSpPr>
        <p:spPr>
          <a:xfrm>
            <a:off x="4900680" y="2698920"/>
            <a:ext cx="230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mic Sans MS"/>
                <a:ea typeface="Arial"/>
              </a:rPr>
              <a:t>0,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Заголовок 1"/>
          <p:cNvSpPr/>
          <p:nvPr/>
        </p:nvSpPr>
        <p:spPr>
          <a:xfrm>
            <a:off x="826920" y="2698920"/>
            <a:ext cx="489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omic Sans MS"/>
                <a:ea typeface="Arial"/>
              </a:rPr>
              <a:t>8 : 10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admin</cp:lastModifiedBy>
  <dcterms:modified xsi:type="dcterms:W3CDTF">2024-01-30T07:45:34Z</dcterms:modified>
  <cp:revision>18</cp:revision>
  <dc:subject/>
  <dc:title>Слайд 1</dc:title>
</cp:coreProperties>
</file>