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A1B0-6BA9-4AD2-849E-9B7979AD4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ачала наклоны вперед и назад, затем вращение гол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8052-700D-411D-ABD2-6C6D112BF1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9764-D7DB-4178-8AEA-8148192507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определения числового выражения - переход на следующий слайд (верхняя кноп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падая повторно на этот слайд повторяем определение буквенных выражений. Далее:                     Чтобы получить второе определение – нажмите на «Знайку».                                                                  После определения буквенных выражений нажмите на вторую кнопу и Вы перейдете к практическому зад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3EFA-277A-4A22-990C-B52FE1762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жу фронтальное рассуждение, результаты на экране появляются после щелчка мыш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йте полученные примеры на умн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зываются числа при умножении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то показывает первый множител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то показывает второй множител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EFE3-7CB3-4350-9847-E5F884812B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5B62-DC98-4C83-95CA-DF35FA3DCF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решения задачи №2 Выясняем, чем отличаются за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116B-0797-45D2-B1C7-62EEB02464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времени решал Борис одно уравнение? Сколько уравнений решил Борис? Решите задач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0BB-7F7C-49AD-9551-28876F06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E4B-AB26-4B07-AD52-1DAEB738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58A-EA2D-47F0-B398-B58D0DBE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C81-E79E-4F68-8423-CEB9ACCA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52D-DA55-476D-B51C-C35B8CC1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DD24-5ECF-483B-9A69-09287268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0B2-1D4F-4B3A-B22C-125EE114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804-1DCA-41D2-AEA9-1F5EC5FD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2D6-57BD-4BCD-B718-098D85EF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7CB2-25F4-45E8-BDC4-BC4B65F9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7BDE-7053-4F7D-B941-58CD7008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982-5170-44D7-A659-FA79D287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660F-ACF8-4168-8F36-CABDAA3DBE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d36efffaaed"/>
          <p:cNvPicPr/>
          <p:nvPr/>
        </p:nvPicPr>
        <p:blipFill>
          <a:blip r:embed="rId1"/>
          <a:stretch/>
        </p:blipFill>
        <p:spPr>
          <a:xfrm>
            <a:off x="0" y="2897280"/>
            <a:ext cx="2428920" cy="396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Рисунок15"/>
          <p:cNvPicPr/>
          <p:nvPr/>
        </p:nvPicPr>
        <p:blipFill>
          <a:blip r:embed="rId2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971640" y="1096920"/>
            <a:ext cx="7173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9999"/>
                </a:solidFill>
                <a:latin typeface="Georgia"/>
              </a:rPr>
              <a:t>Классн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Физкультминут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Заголовок 1"/>
          <p:cNvSpPr/>
          <p:nvPr/>
        </p:nvSpPr>
        <p:spPr>
          <a:xfrm>
            <a:off x="324000" y="1417680"/>
            <a:ext cx="8229600" cy="53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Вновь у нас физкультминут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Наклонились,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ну-ка, ну-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Распрямились, потяну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А теперь назад прогну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Голова устала тож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Так давайте ей поможе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Вправо, влево, раз и дв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Думай, думай го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Хоть зарядка корот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Отдохнули мы слег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dd36efffaaed"/>
          <p:cNvPicPr/>
          <p:nvPr/>
        </p:nvPicPr>
        <p:blipFill>
          <a:blip r:embed="rId1"/>
          <a:stretch/>
        </p:blipFill>
        <p:spPr>
          <a:xfrm>
            <a:off x="6443640" y="2560680"/>
            <a:ext cx="2428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4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75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7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2700360" y="230040"/>
            <a:ext cx="5356080" cy="1224000"/>
          </a:xfrm>
          <a:prstGeom prst="wedgeRoundRectCallout">
            <a:avLst>
              <a:gd name="adj1" fmla="val 36166"/>
              <a:gd name="adj2" fmla="val 163231"/>
              <a:gd name="adj3" fmla="val 16667"/>
            </a:avLst>
          </a:prstGeom>
          <a:solidFill>
            <a:srgbClr val="cc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3399"/>
                </a:solidFill>
                <a:latin typeface="Georgia"/>
              </a:rPr>
              <a:t>№ </a:t>
            </a:r>
            <a:r>
              <a:rPr b="1" i="1" lang="ru-RU" sz="4800" spc="-1" strike="noStrike">
                <a:solidFill>
                  <a:srgbClr val="333399"/>
                </a:solidFill>
                <a:latin typeface="Georgia"/>
              </a:rPr>
              <a:t>412 с. 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Рисунок15"/>
          <p:cNvPicPr/>
          <p:nvPr/>
        </p:nvPicPr>
        <p:blipFill>
          <a:blip r:embed="rId1"/>
          <a:stretch/>
        </p:blipFill>
        <p:spPr>
          <a:xfrm>
            <a:off x="6084720" y="1660680"/>
            <a:ext cx="2725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8"/>
          <p:cNvSpPr/>
          <p:nvPr/>
        </p:nvSpPr>
        <p:spPr>
          <a:xfrm>
            <a:off x="264960" y="588960"/>
            <a:ext cx="24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а) 154 ∙ 8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2611440" y="244440"/>
            <a:ext cx="1677960" cy="14828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12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0"/>
          <p:cNvSpPr/>
          <p:nvPr/>
        </p:nvSpPr>
        <p:spPr>
          <a:xfrm>
            <a:off x="2603520" y="1832040"/>
            <a:ext cx="1554120" cy="13698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22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1"/>
          <p:cNvSpPr/>
          <p:nvPr/>
        </p:nvSpPr>
        <p:spPr>
          <a:xfrm>
            <a:off x="2611440" y="3279600"/>
            <a:ext cx="1655640" cy="14893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14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56240" y="2141640"/>
            <a:ext cx="24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) 39 ∙ 57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23200" y="3665520"/>
            <a:ext cx="244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) 64 ∙ 23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77840" y="5011560"/>
            <a:ext cx="24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г) 76 ∙ 81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1"/>
          <p:cNvSpPr/>
          <p:nvPr/>
        </p:nvSpPr>
        <p:spPr>
          <a:xfrm>
            <a:off x="2476440" y="4633920"/>
            <a:ext cx="1656000" cy="148896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61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4554000" y="5051520"/>
            <a:ext cx="289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) 207 ∙ 305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289400" y="363996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ж) 814 ∙ 372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416480" y="226836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е) 605 ∙ 37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515840" y="687240"/>
            <a:ext cx="269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д) 744 ∙ 12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7400880" y="4718160"/>
            <a:ext cx="1676520" cy="14810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631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7128000" y="3171960"/>
            <a:ext cx="2057400" cy="16048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3028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>
            <a:off x="7018200" y="1866960"/>
            <a:ext cx="1677960" cy="14828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223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7164360" y="339840"/>
            <a:ext cx="1677960" cy="14824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Times New Roman"/>
              </a:rPr>
              <a:t>89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Выноска-облако 2"/>
          <p:cNvSpPr/>
          <p:nvPr/>
        </p:nvSpPr>
        <p:spPr>
          <a:xfrm flipH="1">
            <a:off x="826920" y="1440"/>
            <a:ext cx="6840720" cy="3356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Рисунок15"/>
          <p:cNvPicPr/>
          <p:nvPr/>
        </p:nvPicPr>
        <p:blipFill>
          <a:blip r:embed="rId1"/>
          <a:stretch/>
        </p:blipFill>
        <p:spPr>
          <a:xfrm>
            <a:off x="4572000" y="268776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22"/>
          <p:cNvSpPr txBox="1"/>
          <p:nvPr/>
        </p:nvSpPr>
        <p:spPr>
          <a:xfrm>
            <a:off x="1619280" y="1160640"/>
            <a:ext cx="504036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Молодцы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0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Georgia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20" descr=""/>
          <p:cNvPicPr/>
          <p:nvPr/>
        </p:nvPicPr>
        <p:blipFill>
          <a:blip r:embed="rId1"/>
          <a:stretch/>
        </p:blipFill>
        <p:spPr>
          <a:xfrm>
            <a:off x="6588000" y="4581360"/>
            <a:ext cx="2333880" cy="196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dd36efffaaed"/>
          <p:cNvPicPr/>
          <p:nvPr/>
        </p:nvPicPr>
        <p:blipFill>
          <a:blip r:embed="rId2"/>
          <a:stretch/>
        </p:blipFill>
        <p:spPr>
          <a:xfrm>
            <a:off x="539640" y="2060640"/>
            <a:ext cx="2428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nodeType="clickEffect" fill="hold">
                      <p:stCondLst>
                        <p:cond delay="0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Выноска-облако 5"/>
          <p:cNvSpPr/>
          <p:nvPr/>
        </p:nvSpPr>
        <p:spPr>
          <a:xfrm flipH="1">
            <a:off x="1547640" y="303120"/>
            <a:ext cx="6769440" cy="273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24000" y="907560"/>
            <a:ext cx="57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Какие новые знания получи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Заголовок 1"/>
          <p:cNvSpPr/>
          <p:nvPr/>
        </p:nvSpPr>
        <p:spPr>
          <a:xfrm>
            <a:off x="2046240" y="900000"/>
            <a:ext cx="577044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Как вы понимаете смысл действия умно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Заголовок 1"/>
          <p:cNvSpPr/>
          <p:nvPr/>
        </p:nvSpPr>
        <p:spPr>
          <a:xfrm>
            <a:off x="2055960" y="787320"/>
            <a:ext cx="5770440" cy="13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Georgia"/>
              </a:rPr>
              <a:t>Как называются числа при умнож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Рисунок15"/>
          <p:cNvPicPr/>
          <p:nvPr/>
        </p:nvPicPr>
        <p:blipFill>
          <a:blip r:embed="rId1"/>
          <a:stretch/>
        </p:blipFill>
        <p:spPr>
          <a:xfrm>
            <a:off x="5364000" y="2276640"/>
            <a:ext cx="2725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1817640" y="692280"/>
            <a:ext cx="5508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№ </a:t>
            </a: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451, № 45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№ </a:t>
            </a:r>
            <a:r>
              <a:rPr b="1" i="1" lang="ru-RU" sz="4800" spc="-1" strike="noStrike">
                <a:solidFill>
                  <a:srgbClr val="0070c0"/>
                </a:solidFill>
                <a:latin typeface="Georgia"/>
              </a:rPr>
              <a:t>455 (а,б,в,г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dd36efffaaed"/>
          <p:cNvPicPr/>
          <p:nvPr/>
        </p:nvPicPr>
        <p:blipFill>
          <a:blip r:embed="rId1"/>
          <a:stretch/>
        </p:blipFill>
        <p:spPr>
          <a:xfrm>
            <a:off x="-6480" y="2492280"/>
            <a:ext cx="2428920" cy="3961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Рисунок15"/>
          <p:cNvPicPr/>
          <p:nvPr/>
        </p:nvPicPr>
        <p:blipFill>
          <a:blip r:embed="rId2"/>
          <a:stretch/>
        </p:blipFill>
        <p:spPr>
          <a:xfrm>
            <a:off x="5961240" y="2370240"/>
            <a:ext cx="27255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0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84240" y="4815000"/>
            <a:ext cx="8208720" cy="19429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1"/>
          <p:cNvSpPr/>
          <p:nvPr/>
        </p:nvSpPr>
        <p:spPr>
          <a:xfrm>
            <a:off x="196920" y="2082960"/>
            <a:ext cx="6246720" cy="1993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35 – х = 17  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У      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31 + у = 16 +44 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29 + х = 45 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О       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80 – с = 21 + 19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у – 37  = 18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Е</a:t>
            </a: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        40 – 3 = с + 13  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Georgia"/>
              </a:rPr>
              <a:t>90 – у =62   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79280" y="14400"/>
            <a:ext cx="7705800" cy="1728720"/>
          </a:xfrm>
          <a:prstGeom prst="wedgeRoundRectCallout">
            <a:avLst>
              <a:gd name="adj1" fmla="val 45981"/>
              <a:gd name="adj2" fmla="val 80916"/>
              <a:gd name="adj3" fmla="val 16667"/>
            </a:avLst>
          </a:prstGeom>
          <a:solidFill>
            <a:srgbClr val="ffd1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Если вы правильно найдете корни уравнения и заполните таблицу ответов, то сможете прочитать тему нашего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Рисунок15"/>
          <p:cNvPicPr/>
          <p:nvPr/>
        </p:nvPicPr>
        <p:blipFill>
          <a:blip r:embed="rId1"/>
          <a:stretch/>
        </p:blipFill>
        <p:spPr>
          <a:xfrm>
            <a:off x="6191280" y="1004760"/>
            <a:ext cx="2725560" cy="414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347760" y="5002200"/>
          <a:ext cx="7680240" cy="1568520"/>
        </p:xfrm>
        <a:graphic>
          <a:graphicData uri="http://schemas.openxmlformats.org/drawingml/2006/table">
            <a:tbl>
              <a:tblPr/>
              <a:tblGrid>
                <a:gridCol w="853920"/>
                <a:gridCol w="852480"/>
                <a:gridCol w="854280"/>
                <a:gridCol w="852480"/>
                <a:gridCol w="853920"/>
                <a:gridCol w="852480"/>
                <a:gridCol w="854280"/>
                <a:gridCol w="852480"/>
                <a:gridCol w="85392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Прямоугольник 4"/>
          <p:cNvSpPr/>
          <p:nvPr/>
        </p:nvSpPr>
        <p:spPr>
          <a:xfrm>
            <a:off x="468360" y="5796000"/>
            <a:ext cx="647640" cy="50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1284120" y="5819760"/>
            <a:ext cx="64800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135160" y="5864400"/>
            <a:ext cx="647640" cy="50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2997360" y="5864400"/>
            <a:ext cx="647640" cy="50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3840120" y="5819760"/>
            <a:ext cx="647640" cy="50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4767120" y="5837400"/>
            <a:ext cx="648000" cy="50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0"/>
          <p:cNvSpPr/>
          <p:nvPr/>
        </p:nvSpPr>
        <p:spPr>
          <a:xfrm>
            <a:off x="5543640" y="5837400"/>
            <a:ext cx="647640" cy="50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1"/>
          <p:cNvSpPr/>
          <p:nvPr/>
        </p:nvSpPr>
        <p:spPr>
          <a:xfrm>
            <a:off x="6397560" y="5864400"/>
            <a:ext cx="647640" cy="50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2"/>
          <p:cNvSpPr/>
          <p:nvPr/>
        </p:nvSpPr>
        <p:spPr>
          <a:xfrm>
            <a:off x="7267680" y="5878440"/>
            <a:ext cx="647640" cy="50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Выноска-облако 2"/>
          <p:cNvSpPr/>
          <p:nvPr/>
        </p:nvSpPr>
        <p:spPr>
          <a:xfrm>
            <a:off x="1835280" y="-19080"/>
            <a:ext cx="6553080" cy="3672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66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00"/>
                </a:solidFill>
                <a:latin typeface="Georgia"/>
              </a:rPr>
              <a:t>Умножение и его свой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dd36efffaaed"/>
          <p:cNvPicPr/>
          <p:nvPr/>
        </p:nvPicPr>
        <p:blipFill>
          <a:blip r:embed="rId1"/>
          <a:stretch/>
        </p:blipFill>
        <p:spPr>
          <a:xfrm>
            <a:off x="1332000" y="2492280"/>
            <a:ext cx="2428920" cy="39610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"/>
          <p:cNvPicPr/>
          <p:nvPr/>
        </p:nvPicPr>
        <p:blipFill>
          <a:blip r:embed="rId2"/>
          <a:stretch/>
        </p:blipFill>
        <p:spPr>
          <a:xfrm>
            <a:off x="4730760" y="3652920"/>
            <a:ext cx="38196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dd36efffaaed"/>
          <p:cNvPicPr/>
          <p:nvPr/>
        </p:nvPicPr>
        <p:blipFill>
          <a:blip r:embed="rId1"/>
          <a:stretch/>
        </p:blipFill>
        <p:spPr>
          <a:xfrm>
            <a:off x="0" y="141300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5"/>
          <p:cNvSpPr/>
          <p:nvPr/>
        </p:nvSpPr>
        <p:spPr>
          <a:xfrm>
            <a:off x="900000" y="341280"/>
            <a:ext cx="7488360" cy="642960"/>
          </a:xfrm>
          <a:prstGeom prst="wedgeRoundRectCallout">
            <a:avLst>
              <a:gd name="adj1" fmla="val -30898"/>
              <a:gd name="adj2" fmla="val 21170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Прочитайт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68520" y="2276640"/>
            <a:ext cx="639144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900"/>
                </a:solidFill>
                <a:latin typeface="Georgia"/>
              </a:rPr>
              <a:t>34 + 18 +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Georgia"/>
              </a:rPr>
              <a:t>45 + 44 + 43 + 41 +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Georgia"/>
              </a:rPr>
              <a:t>31 + 31 + 31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Georgia"/>
              </a:rPr>
              <a:t>19 +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Georgia"/>
              </a:rPr>
              <a:t>17 + 17 + 17 +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7346880" y="3848040"/>
            <a:ext cx="1581120" cy="27082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5"/>
          <p:cNvSpPr/>
          <p:nvPr/>
        </p:nvSpPr>
        <p:spPr>
          <a:xfrm>
            <a:off x="1042920" y="544680"/>
            <a:ext cx="6553440" cy="576000"/>
          </a:xfrm>
          <a:prstGeom prst="wedgeRoundRectCallout">
            <a:avLst>
              <a:gd name="adj1" fmla="val -30898"/>
              <a:gd name="adj2" fmla="val 21170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Чем они похож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1025640" y="554040"/>
            <a:ext cx="6535800" cy="576360"/>
          </a:xfrm>
          <a:prstGeom prst="wedgeRoundRectCallout">
            <a:avLst>
              <a:gd name="adj1" fmla="val -30898"/>
              <a:gd name="adj2" fmla="val 21170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Чем отличаю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534960" y="558720"/>
            <a:ext cx="8218440" cy="685800"/>
          </a:xfrm>
          <a:prstGeom prst="wedgeRoundRectCallout">
            <a:avLst>
              <a:gd name="adj1" fmla="val -30898"/>
              <a:gd name="adj2" fmla="val 21170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Распределите их на дв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511200" y="198360"/>
            <a:ext cx="8405640" cy="862200"/>
          </a:xfrm>
          <a:prstGeom prst="wedgeRoundRectCallout">
            <a:avLst>
              <a:gd name="adj1" fmla="val -30898"/>
              <a:gd name="adj2" fmla="val 211708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Georgia"/>
              </a:rPr>
              <a:t>Выпишите те, которые можно заменить умнож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1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Рисунок15"/>
          <p:cNvPicPr/>
          <p:nvPr/>
        </p:nvPicPr>
        <p:blipFill>
          <a:blip r:embed="rId1"/>
          <a:stretch/>
        </p:blipFill>
        <p:spPr>
          <a:xfrm>
            <a:off x="6418440" y="2708280"/>
            <a:ext cx="2725560" cy="41497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730080" y="574560"/>
            <a:ext cx="568836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31 + 31 + 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679320" y="1903320"/>
            <a:ext cx="67294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17 + 17 + 17 + 1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1922400" y="3224160"/>
            <a:ext cx="471636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19 + 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1" descr=""/>
          <p:cNvPicPr/>
          <p:nvPr/>
        </p:nvPicPr>
        <p:blipFill>
          <a:blip r:embed="rId2"/>
          <a:stretch/>
        </p:blipFill>
        <p:spPr>
          <a:xfrm>
            <a:off x="536400" y="3716280"/>
            <a:ext cx="1865520" cy="2637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3567240" y="565200"/>
            <a:ext cx="136656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= 31 ∙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208480" y="565200"/>
            <a:ext cx="93528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= 9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4572000" y="1911240"/>
            <a:ext cx="1728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= 17 ∙ 4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6300720" y="1920960"/>
            <a:ext cx="1079640" cy="70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= 68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6"/>
          <p:cNvSpPr/>
          <p:nvPr/>
        </p:nvSpPr>
        <p:spPr>
          <a:xfrm>
            <a:off x="3586320" y="3232080"/>
            <a:ext cx="172080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= 19 ∙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6"/>
          <p:cNvSpPr/>
          <p:nvPr/>
        </p:nvSpPr>
        <p:spPr>
          <a:xfrm>
            <a:off x="5353200" y="3240000"/>
            <a:ext cx="1206360" cy="647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= 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Выноска-облако 1"/>
          <p:cNvSpPr/>
          <p:nvPr/>
        </p:nvSpPr>
        <p:spPr>
          <a:xfrm flipH="1">
            <a:off x="178560" y="189000"/>
            <a:ext cx="8533080" cy="3095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66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65"/>
          <p:cNvSpPr txBox="1"/>
          <p:nvPr/>
        </p:nvSpPr>
        <p:spPr>
          <a:xfrm>
            <a:off x="1042920" y="692280"/>
            <a:ext cx="7274160" cy="17841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Прочитайте статью учебника и 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latin typeface="Georgia"/>
              </a:rPr>
              <a:t>приготовьтесь отвечать на вопросы</a:t>
            </a:r>
            <a:endParaRPr b="1" i="1" lang="en-US" sz="1800" spc="1" strike="noStrike">
              <a:ln w="19080">
                <a:solidFill>
                  <a:srgbClr val="00ffff"/>
                </a:solidFill>
                <a:miter/>
              </a:ln>
              <a:solidFill>
                <a:srgbClr val="0000ff"/>
              </a:solidFill>
              <a:latin typeface="Georgia"/>
              <a:ea typeface="Georgia"/>
            </a:endParaRPr>
          </a:p>
        </p:txBody>
      </p:sp>
      <p:pic>
        <p:nvPicPr>
          <p:cNvPr id="89" name="Picture 5" descr="Рисунок15"/>
          <p:cNvPicPr/>
          <p:nvPr/>
        </p:nvPicPr>
        <p:blipFill>
          <a:blip r:embed="rId1"/>
          <a:stretch/>
        </p:blipFill>
        <p:spPr>
          <a:xfrm>
            <a:off x="5076720" y="2476440"/>
            <a:ext cx="2725920" cy="41497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638280" y="350676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Georgia"/>
              </a:rPr>
              <a:t>Стр. 66- 6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121" descr=""/>
          <p:cNvPicPr/>
          <p:nvPr/>
        </p:nvPicPr>
        <p:blipFill>
          <a:blip r:embed="rId2"/>
          <a:stretch/>
        </p:blipFill>
        <p:spPr>
          <a:xfrm>
            <a:off x="590400" y="4559400"/>
            <a:ext cx="23338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Выноска-облако 2"/>
          <p:cNvSpPr/>
          <p:nvPr/>
        </p:nvSpPr>
        <p:spPr>
          <a:xfrm>
            <a:off x="1150920" y="387360"/>
            <a:ext cx="4826160" cy="1908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№ </a:t>
            </a: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404   с. 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d36efffaaed"/>
          <p:cNvPicPr/>
          <p:nvPr/>
        </p:nvPicPr>
        <p:blipFill>
          <a:blip r:embed="rId1"/>
          <a:stretch/>
        </p:blipFill>
        <p:spPr>
          <a:xfrm>
            <a:off x="34920" y="1628640"/>
            <a:ext cx="2428920" cy="3961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20"/>
          <p:cNvSpPr/>
          <p:nvPr/>
        </p:nvSpPr>
        <p:spPr>
          <a:xfrm>
            <a:off x="3564000" y="2751120"/>
            <a:ext cx="57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Georgia"/>
              </a:rPr>
              <a:t>707 + 707 + 707 = 707 ∙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20"/>
          <p:cNvSpPr/>
          <p:nvPr/>
        </p:nvSpPr>
        <p:spPr>
          <a:xfrm>
            <a:off x="2654280" y="3770280"/>
            <a:ext cx="646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Georgia"/>
              </a:rPr>
              <a:t>50 + 50 + 50 + 50 + 50 + 50 =  = 50 ∙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20"/>
          <p:cNvSpPr/>
          <p:nvPr/>
        </p:nvSpPr>
        <p:spPr>
          <a:xfrm>
            <a:off x="2771640" y="5157720"/>
            <a:ext cx="57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х + х + х + х + х + х = х ∙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20"/>
          <p:cNvSpPr/>
          <p:nvPr/>
        </p:nvSpPr>
        <p:spPr>
          <a:xfrm>
            <a:off x="4302000" y="20224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роверка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Выноска-облако 1"/>
          <p:cNvSpPr/>
          <p:nvPr/>
        </p:nvSpPr>
        <p:spPr>
          <a:xfrm flipH="1">
            <a:off x="2411280" y="189000"/>
            <a:ext cx="5832720" cy="2376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66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3300"/>
                </a:solidFill>
                <a:latin typeface="Georgia"/>
              </a:rPr>
              <a:t>№ </a:t>
            </a:r>
            <a:r>
              <a:rPr b="1" i="1" lang="ru-RU" sz="3600" spc="-1" strike="noStrike">
                <a:solidFill>
                  <a:srgbClr val="993300"/>
                </a:solidFill>
                <a:latin typeface="Georgia"/>
              </a:rPr>
              <a:t>405 с. 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dd36efffaaed"/>
          <p:cNvPicPr/>
          <p:nvPr/>
        </p:nvPicPr>
        <p:blipFill>
          <a:blip r:embed="rId1"/>
          <a:stretch/>
        </p:blipFill>
        <p:spPr>
          <a:xfrm>
            <a:off x="6575400" y="118584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18"/>
          <p:cNvSpPr/>
          <p:nvPr/>
        </p:nvSpPr>
        <p:spPr>
          <a:xfrm>
            <a:off x="193680" y="2421000"/>
            <a:ext cx="48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712 ∙ 3 = 712 + 712 + 7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18"/>
          <p:cNvSpPr/>
          <p:nvPr/>
        </p:nvSpPr>
        <p:spPr>
          <a:xfrm>
            <a:off x="270360" y="3271680"/>
            <a:ext cx="53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а ∙ 6 = а + а + а + а + а +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18"/>
          <p:cNvSpPr/>
          <p:nvPr/>
        </p:nvSpPr>
        <p:spPr>
          <a:xfrm>
            <a:off x="36360" y="4121280"/>
            <a:ext cx="792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Georgia"/>
              </a:rPr>
              <a:t>(х + у) ∙ 4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00"/>
                </a:solidFill>
                <a:latin typeface="Georgia"/>
              </a:rPr>
              <a:t>(х + у) +(х + у) +(х + у) + (х + 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18"/>
          <p:cNvSpPr/>
          <p:nvPr/>
        </p:nvSpPr>
        <p:spPr>
          <a:xfrm>
            <a:off x="787680" y="5599080"/>
            <a:ext cx="80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(</a:t>
            </a:r>
            <a:r>
              <a:rPr b="1" i="1" lang="en-US" sz="3200" spc="-1" strike="noStrike">
                <a:solidFill>
                  <a:srgbClr val="c00000"/>
                </a:solidFill>
                <a:latin typeface="Georgia"/>
              </a:rPr>
              <a:t>k + m + 4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) ∙ 2</a:t>
            </a:r>
            <a:r>
              <a:rPr b="1" i="1" lang="en-US" sz="3200" spc="-1" strike="noStrike">
                <a:solidFill>
                  <a:srgbClr val="c00000"/>
                </a:solidFill>
                <a:latin typeface="Georgia"/>
              </a:rPr>
              <a:t> =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(</a:t>
            </a:r>
            <a:r>
              <a:rPr b="1" i="1" lang="en-US" sz="3200" spc="-1" strike="noStrike">
                <a:solidFill>
                  <a:srgbClr val="c00000"/>
                </a:solidFill>
                <a:latin typeface="Georgia"/>
              </a:rPr>
              <a:t>k + m + 4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)</a:t>
            </a:r>
            <a:r>
              <a:rPr b="1" i="1" lang="en-US" sz="3200" spc="-1" strike="noStrike">
                <a:solidFill>
                  <a:srgbClr val="c00000"/>
                </a:solidFill>
                <a:latin typeface="Georgia"/>
              </a:rPr>
              <a:t> + 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(</a:t>
            </a:r>
            <a:r>
              <a:rPr b="1" i="1" lang="en-US" sz="3200" spc="-1" strike="noStrike">
                <a:solidFill>
                  <a:srgbClr val="c00000"/>
                </a:solidFill>
                <a:latin typeface="Georgia"/>
              </a:rPr>
              <a:t>k + m + 4</a:t>
            </a: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18"/>
          <p:cNvSpPr/>
          <p:nvPr/>
        </p:nvSpPr>
        <p:spPr>
          <a:xfrm>
            <a:off x="682200" y="170352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Проверка</a:t>
            </a: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8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dd36efffaaed"/>
          <p:cNvPicPr/>
          <p:nvPr/>
        </p:nvPicPr>
        <p:blipFill>
          <a:blip r:embed="rId1"/>
          <a:stretch/>
        </p:blipFill>
        <p:spPr>
          <a:xfrm>
            <a:off x="0" y="1052640"/>
            <a:ext cx="2428920" cy="396072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"/>
          <p:cNvSpPr/>
          <p:nvPr/>
        </p:nvSpPr>
        <p:spPr>
          <a:xfrm>
            <a:off x="250920" y="189000"/>
            <a:ext cx="3189240" cy="780840"/>
          </a:xfrm>
          <a:prstGeom prst="wedgeRoundRectCallout">
            <a:avLst>
              <a:gd name="adj1" fmla="val 15523"/>
              <a:gd name="adj2" fmla="val 148069"/>
              <a:gd name="adj3" fmla="val 16667"/>
            </a:avLst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00"/>
                </a:solidFill>
                <a:latin typeface="Georgia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11"/>
          <p:cNvSpPr/>
          <p:nvPr/>
        </p:nvSpPr>
        <p:spPr>
          <a:xfrm>
            <a:off x="6105600" y="31680"/>
            <a:ext cx="2916000" cy="2492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№ 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40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18"/>
          <p:cNvSpPr/>
          <p:nvPr/>
        </p:nvSpPr>
        <p:spPr>
          <a:xfrm>
            <a:off x="2627280" y="252396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2 мин 30 с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18"/>
          <p:cNvSpPr/>
          <p:nvPr/>
        </p:nvSpPr>
        <p:spPr>
          <a:xfrm>
            <a:off x="5492880" y="2523960"/>
            <a:ext cx="13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50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8"/>
          <p:cNvSpPr/>
          <p:nvPr/>
        </p:nvSpPr>
        <p:spPr>
          <a:xfrm>
            <a:off x="2631960" y="3443400"/>
            <a:ext cx="19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150 ∙ 6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8"/>
          <p:cNvSpPr/>
          <p:nvPr/>
        </p:nvSpPr>
        <p:spPr>
          <a:xfrm>
            <a:off x="4549680" y="3424320"/>
            <a:ext cx="15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900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8"/>
          <p:cNvSpPr/>
          <p:nvPr/>
        </p:nvSpPr>
        <p:spPr>
          <a:xfrm>
            <a:off x="2827440" y="4429080"/>
            <a:ext cx="36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900 с = 15 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18"/>
          <p:cNvSpPr/>
          <p:nvPr/>
        </p:nvSpPr>
        <p:spPr>
          <a:xfrm>
            <a:off x="560520" y="5715000"/>
            <a:ext cx="83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Ответ: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Борис решал 6 уравнений 15 мин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09:57:32Z</dcterms:created>
  <dc:creator>MAMA</dc:creator>
  <dc:description/>
  <dc:language>en-US</dc:language>
  <cp:lastModifiedBy>admin</cp:lastModifiedBy>
  <dcterms:modified xsi:type="dcterms:W3CDTF">2024-01-30T07:35:36Z</dcterms:modified>
  <cp:revision>47</cp:revision>
  <dc:subject/>
  <dc:title>Слайд 1</dc:title>
</cp:coreProperties>
</file>