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5E08-CDBF-4314-B16F-810EBF8371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наклоны вперед и назад, затем вращение гол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3FD1-E0BF-4CB4-BA1C-02DE21CA94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155E-7A0B-4E7D-8D9F-11EA9DA53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ределения числового выражения - переход на следующий слайд (верхняя кноп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адая повторно на этот слайд повторяем определение буквенных выражений. Далее:                     Чтобы получить второе определение – нажмите на «Знайку».                                                                  После определения буквенных выражений нажмите на вторую кнопу и Вы перейдете к практическому зад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C657-A1FD-487E-8429-F7EE33164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жу фронтальное рассуждение, результаты на экране появляются после щелчка мыш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йте полученные примеры на умн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ются числа при умножении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то показывает первый множител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то показывает второй множител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DBCB-4E88-41FF-A1A3-379616FEF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E2F8-3FC7-4DBA-857F-4A68DF74A3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ешения задачи №2 Выясняем, чем отличаютс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C122-9994-46ED-B40E-757CEE98EB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времени решал Борис одно уравнение? Сколько уравнений решил Борис? Решите задач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29A-82F0-4686-AF40-9708DF11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91B-7AA2-4B67-A67C-2016F623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904-17BA-4AB6-9124-009A5CB0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305-AA0C-4044-BC98-714EF672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2AE-2AD3-4BC2-A640-015AF5BA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C71-3CCD-4376-A513-F4795BFA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975-CDB9-4E0F-845B-F982700E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F18-C565-4F8F-8F42-E03C4715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5F5-E863-4AC2-AEC9-0E711053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27F-E871-46B4-AE76-D001B912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7B2-91B9-4ACB-AF58-F63D03F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016-19A6-4381-A550-0DE3D775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DE76-0D21-44DA-B8F8-CA6562F0A5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d36efffaaed"/>
          <p:cNvPicPr/>
          <p:nvPr/>
        </p:nvPicPr>
        <p:blipFill>
          <a:blip r:embed="rId1"/>
          <a:stretch/>
        </p:blipFill>
        <p:spPr>
          <a:xfrm>
            <a:off x="0" y="289728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Рисунок15"/>
          <p:cNvPicPr/>
          <p:nvPr/>
        </p:nvPicPr>
        <p:blipFill>
          <a:blip r:embed="rId2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971640" y="1096920"/>
            <a:ext cx="717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9999"/>
                </a:solidFill>
                <a:latin typeface="Georgia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Физкультминут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оловок 1"/>
          <p:cNvSpPr/>
          <p:nvPr/>
        </p:nvSpPr>
        <p:spPr>
          <a:xfrm>
            <a:off x="324000" y="1417680"/>
            <a:ext cx="822960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Вновь у нас физкультмину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Наклонились,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ну-ка, ну-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Распрямились, потяну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А теперь назад прог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Голова устала т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Так давайте ей помож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Вправо, влево, раз и д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Думай, думай го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Хоть зарядка коро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Отдохнули мы слег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dd36efffaaed"/>
          <p:cNvPicPr/>
          <p:nvPr/>
        </p:nvPicPr>
        <p:blipFill>
          <a:blip r:embed="rId1"/>
          <a:stretch/>
        </p:blipFill>
        <p:spPr>
          <a:xfrm>
            <a:off x="6443640" y="2560680"/>
            <a:ext cx="2428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7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2700360" y="230040"/>
            <a:ext cx="5356080" cy="1224000"/>
          </a:xfrm>
          <a:prstGeom prst="wedgeRoundRectCallout">
            <a:avLst>
              <a:gd name="adj1" fmla="val 36166"/>
              <a:gd name="adj2" fmla="val 163231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Georgia"/>
              </a:rPr>
              <a:t>№ </a:t>
            </a:r>
            <a:r>
              <a:rPr b="1" i="1" lang="ru-RU" sz="4800" spc="-1" strike="noStrike">
                <a:solidFill>
                  <a:srgbClr val="333399"/>
                </a:solidFill>
                <a:latin typeface="Georgia"/>
              </a:rPr>
              <a:t>412 с. 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Рисунок15"/>
          <p:cNvPicPr/>
          <p:nvPr/>
        </p:nvPicPr>
        <p:blipFill>
          <a:blip r:embed="rId1"/>
          <a:stretch/>
        </p:blipFill>
        <p:spPr>
          <a:xfrm>
            <a:off x="6084720" y="1660680"/>
            <a:ext cx="2725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8"/>
          <p:cNvSpPr/>
          <p:nvPr/>
        </p:nvSpPr>
        <p:spPr>
          <a:xfrm>
            <a:off x="264960" y="58896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) 154 ∙ 8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2611440" y="244440"/>
            <a:ext cx="1677960" cy="14828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12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2603520" y="1832040"/>
            <a:ext cx="1554120" cy="1369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22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2611440" y="3279600"/>
            <a:ext cx="1655640" cy="14893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14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56240" y="214164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) 39 ∙ 57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23200" y="3665520"/>
            <a:ext cx="244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) 64 ∙ 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77840" y="501156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г) 76 ∙ 81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2476440" y="4633920"/>
            <a:ext cx="165600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61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54000" y="5051520"/>
            <a:ext cx="28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) 207 ∙ 30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289400" y="363996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ж) 814 ∙ 37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416480" y="226836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е) 605 ∙ 37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15840" y="687240"/>
            <a:ext cx="26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д) 744 ∙ 1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7400880" y="4718160"/>
            <a:ext cx="1676520" cy="14810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631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7128000" y="3171960"/>
            <a:ext cx="2057400" cy="16048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3028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7018200" y="1866960"/>
            <a:ext cx="1677960" cy="14828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223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7164360" y="339840"/>
            <a:ext cx="1677960" cy="14824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89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Выноска-облако 2"/>
          <p:cNvSpPr/>
          <p:nvPr/>
        </p:nvSpPr>
        <p:spPr>
          <a:xfrm flipH="1">
            <a:off x="826920" y="1440"/>
            <a:ext cx="6840720" cy="3356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Рисунок15"/>
          <p:cNvPicPr/>
          <p:nvPr/>
        </p:nvPicPr>
        <p:blipFill>
          <a:blip r:embed="rId1"/>
          <a:stretch/>
        </p:blipFill>
        <p:spPr>
          <a:xfrm>
            <a:off x="4572000" y="268776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22"/>
          <p:cNvSpPr txBox="1"/>
          <p:nvPr/>
        </p:nvSpPr>
        <p:spPr>
          <a:xfrm>
            <a:off x="1619280" y="1160640"/>
            <a:ext cx="504036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лодцы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20" descr=""/>
          <p:cNvPicPr/>
          <p:nvPr/>
        </p:nvPicPr>
        <p:blipFill>
          <a:blip r:embed="rId1"/>
          <a:stretch/>
        </p:blipFill>
        <p:spPr>
          <a:xfrm>
            <a:off x="6588000" y="4581360"/>
            <a:ext cx="2333880" cy="196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dd36efffaaed"/>
          <p:cNvPicPr/>
          <p:nvPr/>
        </p:nvPicPr>
        <p:blipFill>
          <a:blip r:embed="rId2"/>
          <a:stretch/>
        </p:blipFill>
        <p:spPr>
          <a:xfrm>
            <a:off x="539640" y="2060640"/>
            <a:ext cx="2428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Выноска-облако 5"/>
          <p:cNvSpPr/>
          <p:nvPr/>
        </p:nvSpPr>
        <p:spPr>
          <a:xfrm flipH="1">
            <a:off x="1547640" y="303120"/>
            <a:ext cx="6769440" cy="273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24000" y="907560"/>
            <a:ext cx="57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Какие новые знания получи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2046240" y="900000"/>
            <a:ext cx="577044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Как вы понимаете смысл действия умн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2055960" y="787320"/>
            <a:ext cx="577044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Как называются числа при умно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Рисунок15"/>
          <p:cNvPicPr/>
          <p:nvPr/>
        </p:nvPicPr>
        <p:blipFill>
          <a:blip r:embed="rId1"/>
          <a:stretch/>
        </p:blipFill>
        <p:spPr>
          <a:xfrm>
            <a:off x="5364000" y="2276640"/>
            <a:ext cx="2725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1817640" y="692280"/>
            <a:ext cx="5508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№ </a:t>
            </a: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451, № 45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№ </a:t>
            </a: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455 (а,б,в,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dd36efffaaed"/>
          <p:cNvPicPr/>
          <p:nvPr/>
        </p:nvPicPr>
        <p:blipFill>
          <a:blip r:embed="rId1"/>
          <a:stretch/>
        </p:blipFill>
        <p:spPr>
          <a:xfrm>
            <a:off x="-6480" y="2492280"/>
            <a:ext cx="2428920" cy="3961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Рисунок15"/>
          <p:cNvPicPr/>
          <p:nvPr/>
        </p:nvPicPr>
        <p:blipFill>
          <a:blip r:embed="rId2"/>
          <a:stretch/>
        </p:blipFill>
        <p:spPr>
          <a:xfrm>
            <a:off x="5961240" y="237024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84240" y="4815000"/>
            <a:ext cx="8208720" cy="19429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"/>
          <p:cNvSpPr/>
          <p:nvPr/>
        </p:nvSpPr>
        <p:spPr>
          <a:xfrm>
            <a:off x="196920" y="2082960"/>
            <a:ext cx="6246720" cy="1993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35 – х = 17 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У      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31 + у = 16 +44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29 + х = 45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      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80 – с = 21 + 19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у – 37  = 18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       40 – 3 = с + 13 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90 – у =62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79280" y="14400"/>
            <a:ext cx="7705800" cy="1728720"/>
          </a:xfrm>
          <a:prstGeom prst="wedgeRoundRectCallout">
            <a:avLst>
              <a:gd name="adj1" fmla="val 45981"/>
              <a:gd name="adj2" fmla="val 80916"/>
              <a:gd name="adj3" fmla="val 16667"/>
            </a:avLst>
          </a:prstGeom>
          <a:solidFill>
            <a:srgbClr val="ffd1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вы правильно найдете корни уравнения и заполните таблицу ответов, то сможете прочитать тему нашего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Рисунок15"/>
          <p:cNvPicPr/>
          <p:nvPr/>
        </p:nvPicPr>
        <p:blipFill>
          <a:blip r:embed="rId1"/>
          <a:stretch/>
        </p:blipFill>
        <p:spPr>
          <a:xfrm>
            <a:off x="6191280" y="1004760"/>
            <a:ext cx="2725560" cy="414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47760" y="5002200"/>
          <a:ext cx="7680240" cy="1568520"/>
        </p:xfrm>
        <a:graphic>
          <a:graphicData uri="http://schemas.openxmlformats.org/drawingml/2006/table">
            <a:tbl>
              <a:tblPr/>
              <a:tblGrid>
                <a:gridCol w="853920"/>
                <a:gridCol w="852480"/>
                <a:gridCol w="854280"/>
                <a:gridCol w="852480"/>
                <a:gridCol w="853920"/>
                <a:gridCol w="852480"/>
                <a:gridCol w="854280"/>
                <a:gridCol w="852480"/>
                <a:gridCol w="85392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Прямоугольник 4"/>
          <p:cNvSpPr/>
          <p:nvPr/>
        </p:nvSpPr>
        <p:spPr>
          <a:xfrm>
            <a:off x="468360" y="5796000"/>
            <a:ext cx="64764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1284120" y="5819760"/>
            <a:ext cx="6480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135160" y="5864400"/>
            <a:ext cx="647640" cy="50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2997360" y="5864400"/>
            <a:ext cx="647640" cy="50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840120" y="5819760"/>
            <a:ext cx="64764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4767120" y="5837400"/>
            <a:ext cx="648000" cy="50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5543640" y="5837400"/>
            <a:ext cx="647640" cy="50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1"/>
          <p:cNvSpPr/>
          <p:nvPr/>
        </p:nvSpPr>
        <p:spPr>
          <a:xfrm>
            <a:off x="6397560" y="5864400"/>
            <a:ext cx="647640" cy="50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2"/>
          <p:cNvSpPr/>
          <p:nvPr/>
        </p:nvSpPr>
        <p:spPr>
          <a:xfrm>
            <a:off x="7267680" y="5878440"/>
            <a:ext cx="64764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Выноска-облако 2"/>
          <p:cNvSpPr/>
          <p:nvPr/>
        </p:nvSpPr>
        <p:spPr>
          <a:xfrm>
            <a:off x="1835280" y="-19080"/>
            <a:ext cx="6553080" cy="3672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6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Georgia"/>
              </a:rPr>
              <a:t>Умножение и его свой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dd36efffaaed"/>
          <p:cNvPicPr/>
          <p:nvPr/>
        </p:nvPicPr>
        <p:blipFill>
          <a:blip r:embed="rId1"/>
          <a:stretch/>
        </p:blipFill>
        <p:spPr>
          <a:xfrm>
            <a:off x="1332000" y="2492280"/>
            <a:ext cx="2428920" cy="3961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4730760" y="3652920"/>
            <a:ext cx="3819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d36efffaaed"/>
          <p:cNvPicPr/>
          <p:nvPr/>
        </p:nvPicPr>
        <p:blipFill>
          <a:blip r:embed="rId1"/>
          <a:stretch/>
        </p:blipFill>
        <p:spPr>
          <a:xfrm>
            <a:off x="0" y="1413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900000" y="341280"/>
            <a:ext cx="7488360" cy="642960"/>
          </a:xfrm>
          <a:prstGeom prst="wedgeRoundRectCallout">
            <a:avLst>
              <a:gd name="adj1" fmla="val -30898"/>
              <a:gd name="adj2" fmla="val 21170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Прочитайт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68520" y="2276640"/>
            <a:ext cx="6391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Georgia"/>
              </a:rPr>
              <a:t>34 + 18 +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45 + 44 + 43 + 41 +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Georgia"/>
              </a:rPr>
              <a:t>31 + 31 + 31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Georgia"/>
              </a:rPr>
              <a:t>19 +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eorgia"/>
              </a:rPr>
              <a:t>17 + 17 + 17 +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7346880" y="3848040"/>
            <a:ext cx="1581120" cy="27082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/>
          <p:cNvSpPr/>
          <p:nvPr/>
        </p:nvSpPr>
        <p:spPr>
          <a:xfrm>
            <a:off x="1042920" y="544680"/>
            <a:ext cx="6553440" cy="576000"/>
          </a:xfrm>
          <a:prstGeom prst="wedgeRoundRectCallout">
            <a:avLst>
              <a:gd name="adj1" fmla="val -30898"/>
              <a:gd name="adj2" fmla="val 21170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Чем они похож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025640" y="554040"/>
            <a:ext cx="6535800" cy="576360"/>
          </a:xfrm>
          <a:prstGeom prst="wedgeRoundRectCallout">
            <a:avLst>
              <a:gd name="adj1" fmla="val -30898"/>
              <a:gd name="adj2" fmla="val 21170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Чем отлича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534960" y="558720"/>
            <a:ext cx="8218440" cy="685800"/>
          </a:xfrm>
          <a:prstGeom prst="wedgeRoundRectCallout">
            <a:avLst>
              <a:gd name="adj1" fmla="val -30898"/>
              <a:gd name="adj2" fmla="val 21170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Распределите их на дв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511200" y="198360"/>
            <a:ext cx="8405640" cy="862200"/>
          </a:xfrm>
          <a:prstGeom prst="wedgeRoundRectCallout">
            <a:avLst>
              <a:gd name="adj1" fmla="val -30898"/>
              <a:gd name="adj2" fmla="val 21170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Выпишите те, которые можно заменить умно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30080" y="574560"/>
            <a:ext cx="568836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31 + 31 + 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679320" y="1903320"/>
            <a:ext cx="67294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17 + 17 + 17 + 1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1922400" y="3224160"/>
            <a:ext cx="471636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19 + 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1" descr=""/>
          <p:cNvPicPr/>
          <p:nvPr/>
        </p:nvPicPr>
        <p:blipFill>
          <a:blip r:embed="rId2"/>
          <a:stretch/>
        </p:blipFill>
        <p:spPr>
          <a:xfrm>
            <a:off x="536400" y="3716280"/>
            <a:ext cx="1865520" cy="2637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3567240" y="565200"/>
            <a:ext cx="136656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31 ∙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208480" y="565200"/>
            <a:ext cx="93528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4572000" y="1911240"/>
            <a:ext cx="1728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17 ∙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6300720" y="1920960"/>
            <a:ext cx="1079640" cy="70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6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3586320" y="3232080"/>
            <a:ext cx="172080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19 ∙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6"/>
          <p:cNvSpPr/>
          <p:nvPr/>
        </p:nvSpPr>
        <p:spPr>
          <a:xfrm>
            <a:off x="5353200" y="3240000"/>
            <a:ext cx="120636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Выноска-облако 1"/>
          <p:cNvSpPr/>
          <p:nvPr/>
        </p:nvSpPr>
        <p:spPr>
          <a:xfrm flipH="1">
            <a:off x="178560" y="189000"/>
            <a:ext cx="8533080" cy="3095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6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65"/>
          <p:cNvSpPr txBox="1"/>
          <p:nvPr/>
        </p:nvSpPr>
        <p:spPr>
          <a:xfrm>
            <a:off x="1042920" y="692280"/>
            <a:ext cx="7274160" cy="1784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Прочитайте статью учебника и 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приготовьтесь отвечать на вопросы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  <p:pic>
        <p:nvPicPr>
          <p:cNvPr id="89" name="Picture 5" descr="Рисунок15"/>
          <p:cNvPicPr/>
          <p:nvPr/>
        </p:nvPicPr>
        <p:blipFill>
          <a:blip r:embed="rId1"/>
          <a:stretch/>
        </p:blipFill>
        <p:spPr>
          <a:xfrm>
            <a:off x="5076720" y="2476440"/>
            <a:ext cx="2725920" cy="41497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638280" y="350676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Georgia"/>
              </a:rPr>
              <a:t>Стр. 66- 6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21" descr=""/>
          <p:cNvPicPr/>
          <p:nvPr/>
        </p:nvPicPr>
        <p:blipFill>
          <a:blip r:embed="rId2"/>
          <a:stretch/>
        </p:blipFill>
        <p:spPr>
          <a:xfrm>
            <a:off x="590400" y="4559400"/>
            <a:ext cx="23338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Выноска-облако 2"/>
          <p:cNvSpPr/>
          <p:nvPr/>
        </p:nvSpPr>
        <p:spPr>
          <a:xfrm>
            <a:off x="1150920" y="387360"/>
            <a:ext cx="4826160" cy="1908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404   с. 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d36efffaaed"/>
          <p:cNvPicPr/>
          <p:nvPr/>
        </p:nvPicPr>
        <p:blipFill>
          <a:blip r:embed="rId1"/>
          <a:stretch/>
        </p:blipFill>
        <p:spPr>
          <a:xfrm>
            <a:off x="34920" y="1628640"/>
            <a:ext cx="2428920" cy="396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20"/>
          <p:cNvSpPr/>
          <p:nvPr/>
        </p:nvSpPr>
        <p:spPr>
          <a:xfrm>
            <a:off x="3564000" y="2751120"/>
            <a:ext cx="57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707 + 707 + 707 = 707 ∙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20"/>
          <p:cNvSpPr/>
          <p:nvPr/>
        </p:nvSpPr>
        <p:spPr>
          <a:xfrm>
            <a:off x="2654280" y="3770280"/>
            <a:ext cx="646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Georgia"/>
              </a:rPr>
              <a:t>50 + 50 + 50 + 50 + 50 + 50 =  = 50 ∙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0"/>
          <p:cNvSpPr/>
          <p:nvPr/>
        </p:nvSpPr>
        <p:spPr>
          <a:xfrm>
            <a:off x="2771640" y="5157720"/>
            <a:ext cx="57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х + х + х + х + х + х = х ∙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20"/>
          <p:cNvSpPr/>
          <p:nvPr/>
        </p:nvSpPr>
        <p:spPr>
          <a:xfrm>
            <a:off x="4302000" y="20224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роверк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Выноска-облако 1"/>
          <p:cNvSpPr/>
          <p:nvPr/>
        </p:nvSpPr>
        <p:spPr>
          <a:xfrm flipH="1">
            <a:off x="2411280" y="189000"/>
            <a:ext cx="5832720" cy="2376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6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Georgia"/>
              </a:rPr>
              <a:t>№ </a:t>
            </a:r>
            <a:r>
              <a:rPr b="1" i="1" lang="ru-RU" sz="3600" spc="-1" strike="noStrike">
                <a:solidFill>
                  <a:srgbClr val="993300"/>
                </a:solidFill>
                <a:latin typeface="Georgia"/>
              </a:rPr>
              <a:t>405 с. 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dd36efffaaed"/>
          <p:cNvPicPr/>
          <p:nvPr/>
        </p:nvPicPr>
        <p:blipFill>
          <a:blip r:embed="rId1"/>
          <a:stretch/>
        </p:blipFill>
        <p:spPr>
          <a:xfrm>
            <a:off x="6575400" y="118584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18"/>
          <p:cNvSpPr/>
          <p:nvPr/>
        </p:nvSpPr>
        <p:spPr>
          <a:xfrm>
            <a:off x="193680" y="2421000"/>
            <a:ext cx="48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712 ∙ 3 = 712 + 712 + 7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8"/>
          <p:cNvSpPr/>
          <p:nvPr/>
        </p:nvSpPr>
        <p:spPr>
          <a:xfrm>
            <a:off x="270360" y="3271680"/>
            <a:ext cx="53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а ∙ 6 = а + а + а + а + а +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8"/>
          <p:cNvSpPr/>
          <p:nvPr/>
        </p:nvSpPr>
        <p:spPr>
          <a:xfrm>
            <a:off x="36360" y="4121280"/>
            <a:ext cx="792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Georgia"/>
              </a:rPr>
              <a:t>(х + у) ∙ 4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Georgia"/>
              </a:rPr>
              <a:t>(х + у) +(х + у) +(х + у) + (х + 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8"/>
          <p:cNvSpPr/>
          <p:nvPr/>
        </p:nvSpPr>
        <p:spPr>
          <a:xfrm>
            <a:off x="787680" y="5599080"/>
            <a:ext cx="80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c00000"/>
                </a:solidFill>
                <a:latin typeface="Georgia"/>
              </a:rPr>
              <a:t>k + m + 4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) ∙ 2</a:t>
            </a:r>
            <a:r>
              <a:rPr b="1" i="1" lang="en-US" sz="3200" spc="-1" strike="noStrike">
                <a:solidFill>
                  <a:srgbClr val="c00000"/>
                </a:solidFill>
                <a:latin typeface="Georgia"/>
              </a:rPr>
              <a:t> =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c00000"/>
                </a:solidFill>
                <a:latin typeface="Georgia"/>
              </a:rPr>
              <a:t>k + m + 4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)</a:t>
            </a:r>
            <a:r>
              <a:rPr b="1" i="1" lang="en-US" sz="3200" spc="-1" strike="noStrike">
                <a:solidFill>
                  <a:srgbClr val="c00000"/>
                </a:solidFill>
                <a:latin typeface="Georgia"/>
              </a:rPr>
              <a:t> +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c00000"/>
                </a:solidFill>
                <a:latin typeface="Georgia"/>
              </a:rPr>
              <a:t>k + m + 4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18"/>
          <p:cNvSpPr/>
          <p:nvPr/>
        </p:nvSpPr>
        <p:spPr>
          <a:xfrm>
            <a:off x="682200" y="170352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роверка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d36efffaaed"/>
          <p:cNvPicPr/>
          <p:nvPr/>
        </p:nvPicPr>
        <p:blipFill>
          <a:blip r:embed="rId1"/>
          <a:stretch/>
        </p:blipFill>
        <p:spPr>
          <a:xfrm>
            <a:off x="0" y="105264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"/>
          <p:cNvSpPr/>
          <p:nvPr/>
        </p:nvSpPr>
        <p:spPr>
          <a:xfrm>
            <a:off x="250920" y="189000"/>
            <a:ext cx="3189240" cy="780840"/>
          </a:xfrm>
          <a:prstGeom prst="wedgeRoundRectCallout">
            <a:avLst>
              <a:gd name="adj1" fmla="val 15523"/>
              <a:gd name="adj2" fmla="val 148069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11"/>
          <p:cNvSpPr/>
          <p:nvPr/>
        </p:nvSpPr>
        <p:spPr>
          <a:xfrm>
            <a:off x="6105600" y="31680"/>
            <a:ext cx="2916000" cy="2492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№ 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40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18"/>
          <p:cNvSpPr/>
          <p:nvPr/>
        </p:nvSpPr>
        <p:spPr>
          <a:xfrm>
            <a:off x="2627280" y="25239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 мин 30 с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18"/>
          <p:cNvSpPr/>
          <p:nvPr/>
        </p:nvSpPr>
        <p:spPr>
          <a:xfrm>
            <a:off x="5492880" y="2523960"/>
            <a:ext cx="13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50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8"/>
          <p:cNvSpPr/>
          <p:nvPr/>
        </p:nvSpPr>
        <p:spPr>
          <a:xfrm>
            <a:off x="2631960" y="3443400"/>
            <a:ext cx="19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50 ∙ 6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8"/>
          <p:cNvSpPr/>
          <p:nvPr/>
        </p:nvSpPr>
        <p:spPr>
          <a:xfrm>
            <a:off x="4549680" y="3424320"/>
            <a:ext cx="15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900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8"/>
          <p:cNvSpPr/>
          <p:nvPr/>
        </p:nvSpPr>
        <p:spPr>
          <a:xfrm>
            <a:off x="2827440" y="4429080"/>
            <a:ext cx="36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900 с = 15 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8"/>
          <p:cNvSpPr/>
          <p:nvPr/>
        </p:nvSpPr>
        <p:spPr>
          <a:xfrm>
            <a:off x="560520" y="571500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орис решал 6 уравнений 15 мин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09:57:32Z</dcterms:created>
  <dc:creator>MAMA</dc:creator>
  <dc:description/>
  <dc:language>en-US</dc:language>
  <cp:lastModifiedBy>admin</cp:lastModifiedBy>
  <dcterms:modified xsi:type="dcterms:W3CDTF">2024-01-30T07:35:36Z</dcterms:modified>
  <cp:revision>47</cp:revision>
  <dc:subject/>
  <dc:title>Слайд 1</dc:title>
</cp:coreProperties>
</file>