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gif" ContentType="image/gi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9134-9972-49EB-99F0-9F2E6C1D3D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формула? Оцените свою работу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27AC-0EDA-4449-8D63-5829333856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слово у вас получилось? Сформулируйте тему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C49-FAC4-480B-BB7C-D500B4C2E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форму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CB4F-D5FE-4D81-8F67-BBEC89885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ИТЕ ФОРМУЛУ ПУТИ. Что обозначает каждая буква в этой формуле? Составьте формулу вычисления периметра прямоугольника, если его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CB0A-D36C-49DE-A138-273C5B24C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у вычисления периметра прямоугольника, если его стороны а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8DAC-FEBC-475E-9086-236A05441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4C5-599B-49B4-B4F0-A30CAEB4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8FD-8CE2-4BD5-9E20-4E926B94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7D978-BB58-4065-9EBE-904452A6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C340E-7FD8-45E7-99DC-20D4C73C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EF0BD-AFF0-4445-BAF5-48982376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648E0-EF0A-45CA-AA68-47A20582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6F9D7-4FCB-47DE-AC43-41D77030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0E356-4771-4F1B-80BF-45CA3D95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DBF49-AAD0-4ACA-A933-6FED6E8F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E1F3B-A451-4426-A0F3-195130EF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AF912-B392-48B0-98F7-7D42151B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6D5DC-DF39-472F-BF82-77722DF6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F7F-B61C-425C-B753-AE16B824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9FBAA-F34B-4249-8EB2-29317D8D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F9A39-6C75-4079-A946-E1B4570B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7C2B5-56C4-42CA-86B8-E555CC54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F7A5B-21B4-4E1D-8FDC-3F6ADA1E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6D783-B71B-4804-A3C5-EBCC82FF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E4B3A-2EA8-422B-A6F5-9C1DF4DB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23D8B-AE26-4488-97AF-E8127943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6E067-1B7D-417D-839D-29C31783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603B3-7153-438E-B6A8-42C387F3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F0DEF-3211-4E80-B3E6-EEAB276F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B53-A9C1-4C80-BF66-A91A7C33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7BF32-67FA-44F2-914F-A1AF4ECB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9B50D-3315-4B27-9EBE-3725417B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C7A52-D62B-4D46-B64E-2132D010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3D3C7-1F27-4A54-BA1C-631BE208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415F-EA4E-4EEA-980E-34B87289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06866-CE58-4EEC-A96F-0C1568F1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9D0D2-B423-4AFA-8A61-10B29C2A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4F476-783F-4518-A1EB-E3286B99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9F558-41CB-420A-A06D-F55408AB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071A2-7B9D-45D2-B300-FB74292A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B48B-107B-416D-8ACA-41B9AF66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6BE16-93FB-4C64-853B-7C65C605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782FE-15EA-4373-BFF3-60080EA1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7B633-AF24-4C81-9B16-F7240CC7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D14D4-6522-4962-BEF4-6E4AAF71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BD907-6F69-444C-8738-12CF0F92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D5B2B-2ACE-476A-BE05-DEF6EFAC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77216-B325-4E10-A204-E167710C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1ACE4-1E6C-4523-8341-FF160F59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27580-495C-4F9D-AEFD-A5AB2C9A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2CF90-1C27-4754-A771-677E1571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FA1D-E4EA-4E73-8FBB-DB1A5339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6FE78-2D9B-4E5A-81E5-7F57D9DB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EA7B5-E8C4-4C0D-8F6C-B1EBC622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6ED79-03B5-4E02-B1F1-69B10388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926B5-D562-4F5A-9D65-E98423A8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E1A0D-3985-46A9-B810-A0199FBB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5532-9C53-43AE-B980-BAB10640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9CD8-0C08-418E-911D-FCE6343C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089C-79EE-40E5-A505-68426E67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8E17-6F27-4EBC-9488-DEC212C3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08A5-6C74-4D14-BF4C-B1D3ECB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85A-94FB-448D-BAD7-17911244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8C01-63EC-442E-BEC6-DEE05718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0CD0-6041-4225-81C8-47D1B8D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20C0-5E3D-45C5-9E86-81CA6D22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8927-96CB-4BAC-BFED-94DB67A6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0A0C-3EFF-4A47-86FA-F8976A82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B270-655B-4421-81B4-5FC9FF7A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D991-668A-46DE-A2F5-85354C61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2C7E-D748-43FD-80AE-408794B2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B7624-70AF-4BF8-AEAD-299D7088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3FC5-8F83-48C0-BE92-F3532FC0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409-AEF1-4BC7-86AA-D62F5311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20C8-55E4-439D-B49D-A3F549EE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AAB5-AC70-40BA-80C6-32EF9C3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0DE8-2FC9-4E1D-ADC7-239A3F9A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F5EE8-C027-4207-97AF-004B8A70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52F1E-50EF-470A-B2EA-FBD4498B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BB136-C3C7-4EB0-B596-4B7F1AF5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93840-8B2C-4ED1-8A52-77007FC7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9D46-13E0-4961-8D31-E34D01C0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750B5-E7E3-4A71-94EC-C7376988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93F8-6BBD-44B5-99F1-38E4329C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286-E12F-4D91-9BDB-9E1BF5AF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1ABA-AB5F-4CCB-9B33-22B80E56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A90A-1B45-4940-ABC1-40B50973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6410-B0EB-4FC2-8528-AC341E90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CCBD-6B07-4329-912E-C400A6C4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95E10-F22E-4B3F-B050-110801DB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4E20F-CCB6-49E4-B586-3D5B290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B212B-7225-4396-B560-943C8778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82D05-24F1-4626-A85F-C9A349CE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5000-8621-4417-9687-58BC81A5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E9FB-B40A-4278-8CF1-CBD24578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E0E-BEBA-459F-9958-6D4D0EAD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9E2B9-232C-4697-AE94-19E29029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F7346-9171-489E-8A13-B43CB360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A3EF5-2758-481D-9FD9-80C0F825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F1994-3755-4D3E-92D1-F314DBCC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6D8B3-E1CE-4101-9D13-C151512B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DDE86-8ED2-481A-966C-6E6B3E0F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45D90-B78D-417A-94EA-F4BA5469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625A7-5E58-414A-9D06-CD3CF56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EC73-A939-4BEA-AB5D-158FCA93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2932-0A0A-4DFC-A118-B1E67E35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576-2AA2-4E85-921F-592E9E14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4E3E2-75C9-436C-9D48-C7BCEAE4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6FB18-1CC7-4224-A080-ED625933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C4BF5-9260-4B10-AF64-1811DB72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05B0E-FA5F-4CBD-A42F-6B4710F8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5F8F8-0190-4A41-A0A7-B82D4367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2A861-5358-4E98-B7EE-B50EE01C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D7A65-AD5E-4819-9350-00E178ED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8744F-2488-4769-B604-4CBB823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2125E-8047-44D7-98E5-426C1417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B7B6-9DD7-4743-9F2E-1E8BAD6C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7A5-3EB3-4651-8C60-724CDE89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E5895-BBB1-4F65-AF93-0C27072C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4D92F-089E-4B58-BD9E-3E7B4D87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E938A-E698-421B-9E8F-CA6DFFF4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9FCE5-D33B-46A5-B566-6DB92D62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04D97-AACA-4510-965E-22F89FEB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2018C-654B-4269-B803-1C450EDA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D2716-1629-4BE5-AA7D-52C97CC4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9A1B5-A212-41C7-BD11-246B1BF1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04185-BE15-4B9D-9BBB-A8C70396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E9AE4-6078-47BA-9402-E5FF1449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442-DF7F-42DF-AA6D-49371287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C3FB1-DC95-49C3-8768-2D3BD32C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6A90E-1422-4B3F-8CC2-A642A25A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65492-1050-42A1-AD6D-DED9AC8F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5D28B-49F2-402E-82EA-40A37CD1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8170F-95C5-45F2-B7A5-DE5C29A6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4E683-E073-4418-A8F2-391982BC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1B6A7-A275-4417-90B0-206C2253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80DD6-4014-4775-AEB4-5A788256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35CAF-F49A-40F7-85CA-03912655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609A-D7D0-417E-B2C6-110A9E1F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0D8-FBDC-43C7-B965-B3FCD3B9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CF29A-0ACA-42A1-89A6-78E1C06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30422-8C91-44DC-8BBA-E7BD863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15D64-4679-412A-ACC0-F913563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BF1E4-BF9F-48F9-94B4-FC6C491D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992ED-C5A5-455D-AC09-5098E605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1BA86-ED43-4AE4-936A-CC7B5B58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CD6EE-D08F-4F3F-98F3-6F87AC58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A974F-C740-434C-8213-8AB9565E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3DD25-7CDD-4208-BC30-27393FD2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FB39F-0E67-42DB-96E3-27FF8311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C79F-AA8F-4C17-A4A6-5327218FA1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602B-F4B8-45E2-A312-001241EBB6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0D59-5DD6-4548-85EC-4C082A826E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FE44-41D9-460B-823D-0E36E0256F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9797-1FD6-4DB6-BC81-9FDF7667D6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5FE9-211E-4449-9A93-DD08A23A5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F031-1A67-498C-BDB9-99E932742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2B85-BB8E-4E62-85AA-1C04B52C8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B67C-78C8-42BF-B823-5AA8A87777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9BC3-1037-42A1-ACDE-DBE79E5C0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866A-B148-4F57-BA9C-C99631539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E842-B2E8-4092-90C5-FA3E1A90B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3000" y="1773000"/>
            <a:ext cx="685800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лассная рабо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206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1295280" y="254448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а) 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а = 9 см      Р -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Заголовок 1"/>
          <p:cNvSpPr/>
          <p:nvPr/>
        </p:nvSpPr>
        <p:spPr>
          <a:xfrm>
            <a:off x="3166920" y="623880"/>
            <a:ext cx="2810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6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Заголовок 1"/>
          <p:cNvSpPr/>
          <p:nvPr/>
        </p:nvSpPr>
        <p:spPr>
          <a:xfrm>
            <a:off x="2732040" y="1401840"/>
            <a:ext cx="367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Comic Sans MS"/>
                <a:ea typeface="Arial"/>
              </a:rPr>
              <a:t>Р = 4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бъект 2"/>
          <p:cNvSpPr/>
          <p:nvPr/>
        </p:nvSpPr>
        <p:spPr>
          <a:xfrm>
            <a:off x="1476360" y="372744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  <a:ea typeface="Arial"/>
              </a:rPr>
              <a:t>Р = 4 ∙ 9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ятно 1 6"/>
          <p:cNvSpPr/>
          <p:nvPr/>
        </p:nvSpPr>
        <p:spPr>
          <a:xfrm>
            <a:off x="5003640" y="3335400"/>
            <a:ext cx="2232360" cy="18018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mic Sans MS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75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75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75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835280" y="3313080"/>
            <a:ext cx="2232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64 = 4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Заголовок 1"/>
          <p:cNvSpPr/>
          <p:nvPr/>
        </p:nvSpPr>
        <p:spPr>
          <a:xfrm>
            <a:off x="3166920" y="623880"/>
            <a:ext cx="2810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6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Заголовок 1"/>
          <p:cNvSpPr/>
          <p:nvPr/>
        </p:nvSpPr>
        <p:spPr>
          <a:xfrm>
            <a:off x="2732040" y="1401840"/>
            <a:ext cx="367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Comic Sans MS"/>
                <a:ea typeface="Arial"/>
              </a:rPr>
              <a:t>Р = 4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бъект 2"/>
          <p:cNvSpPr/>
          <p:nvPr/>
        </p:nvSpPr>
        <p:spPr>
          <a:xfrm>
            <a:off x="1295280" y="2544840"/>
            <a:ext cx="655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  <a:ea typeface="Arial"/>
              </a:rPr>
              <a:t>б) 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  <a:ea typeface="Arial"/>
              </a:rPr>
              <a:t>а - ?      Р = 64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бъект 2"/>
          <p:cNvSpPr/>
          <p:nvPr/>
        </p:nvSpPr>
        <p:spPr>
          <a:xfrm>
            <a:off x="1835280" y="3960720"/>
            <a:ext cx="22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  <a:ea typeface="Arial"/>
              </a:rPr>
              <a:t>4а = 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бъект 2"/>
          <p:cNvSpPr/>
          <p:nvPr/>
        </p:nvSpPr>
        <p:spPr>
          <a:xfrm>
            <a:off x="1835280" y="4618080"/>
            <a:ext cx="2949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  <a:ea typeface="Arial"/>
              </a:rPr>
              <a:t>а = 64 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бъект 2"/>
          <p:cNvSpPr/>
          <p:nvPr/>
        </p:nvSpPr>
        <p:spPr>
          <a:xfrm>
            <a:off x="1835280" y="5265720"/>
            <a:ext cx="2949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  <a:ea typeface="Arial"/>
              </a:rPr>
              <a:t>а = 16 (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6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75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75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75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75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75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4" name="Прямоугольник 3" descr=""/>
          <p:cNvPicPr/>
          <p:nvPr/>
        </p:nvPicPr>
        <p:blipFill>
          <a:blip r:embed="rId2"/>
          <a:stretch/>
        </p:blipFill>
        <p:spPr>
          <a:xfrm>
            <a:off x="1407960" y="152280"/>
            <a:ext cx="6791400" cy="1914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9" descr="F:\z39bb2.gif"/>
          <p:cNvPicPr/>
          <p:nvPr/>
        </p:nvPicPr>
        <p:blipFill>
          <a:blip r:embed="rId3"/>
          <a:stretch/>
        </p:blipFill>
        <p:spPr>
          <a:xfrm>
            <a:off x="150840" y="1417680"/>
            <a:ext cx="2886120" cy="37512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9" descr="F:\z39bb2.gif"/>
          <p:cNvPicPr/>
          <p:nvPr/>
        </p:nvPicPr>
        <p:blipFill>
          <a:blip r:embed="rId4"/>
          <a:stretch/>
        </p:blipFill>
        <p:spPr>
          <a:xfrm flipH="1">
            <a:off x="5686560" y="2973240"/>
            <a:ext cx="3000240" cy="3643560"/>
          </a:xfrm>
          <a:prstGeom prst="rect">
            <a:avLst/>
          </a:prstGeom>
          <a:ln w="0">
            <a:noFill/>
          </a:ln>
        </p:spPr>
      </p:pic>
      <p:sp>
        <p:nvSpPr>
          <p:cNvPr id="747" name="Прямоугольник 6"/>
          <p:cNvSpPr/>
          <p:nvPr/>
        </p:nvSpPr>
        <p:spPr>
          <a:xfrm>
            <a:off x="3203640" y="104616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-</a:t>
            </a: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жив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ид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беж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Ночью сп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берё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даё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танцу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7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7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7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7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7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7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Заголовок 1"/>
          <p:cNvSpPr/>
          <p:nvPr/>
        </p:nvSpPr>
        <p:spPr>
          <a:xfrm>
            <a:off x="2717640" y="500040"/>
            <a:ext cx="399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679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 (a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Скругленный прямоугольник 4"/>
          <p:cNvSpPr/>
          <p:nvPr/>
        </p:nvSpPr>
        <p:spPr>
          <a:xfrm>
            <a:off x="2124000" y="1484280"/>
            <a:ext cx="5184720" cy="13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а = </a:t>
            </a: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b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∙ q + r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Заголовок 1"/>
          <p:cNvSpPr/>
          <p:nvPr/>
        </p:nvSpPr>
        <p:spPr>
          <a:xfrm>
            <a:off x="1150920" y="2795760"/>
            <a:ext cx="68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omic Sans MS"/>
                <a:ea typeface="Arial"/>
              </a:rPr>
              <a:t>q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  <a:ea typeface="Arial"/>
              </a:rPr>
              <a:t> = 15, </a:t>
            </a:r>
            <a:r>
              <a:rPr b="1" lang="en-US" sz="4800" spc="-1" strike="noStrike">
                <a:solidFill>
                  <a:srgbClr val="0070c0"/>
                </a:solidFill>
                <a:latin typeface="Comic Sans MS"/>
                <a:ea typeface="Arial"/>
              </a:rPr>
              <a:t>b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  <a:ea typeface="Arial"/>
              </a:rPr>
              <a:t> = 7, </a:t>
            </a:r>
            <a:r>
              <a:rPr b="1" lang="en-US" sz="4800" spc="-1" strike="noStrike">
                <a:solidFill>
                  <a:srgbClr val="0070c0"/>
                </a:solidFill>
                <a:latin typeface="Comic Sans MS"/>
                <a:ea typeface="Arial"/>
              </a:rPr>
              <a:t>r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  <a:ea typeface="Arial"/>
              </a:rPr>
              <a:t> =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Заголовок 1"/>
          <p:cNvSpPr/>
          <p:nvPr/>
        </p:nvSpPr>
        <p:spPr>
          <a:xfrm>
            <a:off x="395280" y="3995640"/>
            <a:ext cx="57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  <a:ea typeface="Arial"/>
              </a:rPr>
              <a:t>a</a:t>
            </a:r>
            <a:r>
              <a:rPr b="1" lang="en-US" sz="4800" spc="-1" strike="noStrike">
                <a:solidFill>
                  <a:srgbClr val="0070c0"/>
                </a:solidFill>
                <a:latin typeface="Comic Sans MS"/>
                <a:ea typeface="Arial"/>
              </a:rPr>
              <a:t> = 7</a:t>
            </a:r>
            <a:r>
              <a:rPr b="1" lang="en-US" sz="4800" spc="-1" strike="noStrike">
                <a:solidFill>
                  <a:srgbClr val="7030a0"/>
                </a:solidFill>
                <a:latin typeface="Comic Sans MS"/>
                <a:ea typeface="Arial"/>
              </a:rPr>
              <a:t> </a:t>
            </a:r>
            <a:r>
              <a:rPr b="1" lang="en-US" sz="4800" spc="-1" strike="noStrike">
                <a:solidFill>
                  <a:srgbClr val="0070c0"/>
                </a:solidFill>
                <a:latin typeface="Comic Sans MS"/>
                <a:ea typeface="Arial"/>
              </a:rPr>
              <a:t>∙ 15 + 4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ятно 1 7"/>
          <p:cNvSpPr/>
          <p:nvPr/>
        </p:nvSpPr>
        <p:spPr>
          <a:xfrm>
            <a:off x="6004080" y="3519360"/>
            <a:ext cx="2376360" cy="2097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1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8" dur="75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3" dur="7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58920" y="2677680"/>
            <a:ext cx="778824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257 = 28b +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28b + 5 = 2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28b = 257 –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28b =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b = 252 : 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b = 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Заголовок 1"/>
          <p:cNvSpPr/>
          <p:nvPr/>
        </p:nvSpPr>
        <p:spPr>
          <a:xfrm>
            <a:off x="2771640" y="496800"/>
            <a:ext cx="3997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679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 (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б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Скругленный прямоугольник 4"/>
          <p:cNvSpPr/>
          <p:nvPr/>
        </p:nvSpPr>
        <p:spPr>
          <a:xfrm>
            <a:off x="2664000" y="1224000"/>
            <a:ext cx="3816000" cy="752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а = </a:t>
            </a: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b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∙ q + r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Заголовок 1"/>
          <p:cNvSpPr/>
          <p:nvPr/>
        </p:nvSpPr>
        <p:spPr>
          <a:xfrm>
            <a:off x="1258920" y="2004840"/>
            <a:ext cx="60134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  <a:ea typeface="Arial"/>
              </a:rPr>
              <a:t>а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  <a:ea typeface="Arial"/>
              </a:rPr>
              <a:t> = </a:t>
            </a:r>
            <a:r>
              <a:rPr b="1" lang="ru-RU" sz="4000" spc="-1" strike="noStrike">
                <a:solidFill>
                  <a:srgbClr val="009900"/>
                </a:solidFill>
                <a:latin typeface="Comic Sans MS"/>
                <a:ea typeface="Arial"/>
              </a:rPr>
              <a:t>257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  <a:ea typeface="Arial"/>
              </a:rPr>
              <a:t>, </a:t>
            </a:r>
            <a:r>
              <a:rPr b="1" lang="en-US" sz="4000" spc="-1" strike="noStrike">
                <a:solidFill>
                  <a:srgbClr val="0070c0"/>
                </a:solidFill>
                <a:latin typeface="Comic Sans MS"/>
                <a:ea typeface="Arial"/>
              </a:rPr>
              <a:t>q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  <a:ea typeface="Arial"/>
              </a:rPr>
              <a:t> = 28, </a:t>
            </a:r>
            <a:r>
              <a:rPr b="1" lang="en-US" sz="4000" spc="-1" strike="noStrike">
                <a:solidFill>
                  <a:srgbClr val="0070c0"/>
                </a:solidFill>
                <a:latin typeface="Comic Sans MS"/>
                <a:ea typeface="Arial"/>
              </a:rPr>
              <a:t>r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  <a:ea typeface="Arial"/>
              </a:rPr>
              <a:t>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6" dur="75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0" name="Заголовок 1"/>
          <p:cNvSpPr/>
          <p:nvPr/>
        </p:nvSpPr>
        <p:spPr>
          <a:xfrm>
            <a:off x="2562120" y="1068480"/>
            <a:ext cx="399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679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 (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в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ятно 1 4"/>
          <p:cNvSpPr/>
          <p:nvPr/>
        </p:nvSpPr>
        <p:spPr>
          <a:xfrm>
            <a:off x="2670120" y="2112840"/>
            <a:ext cx="3889440" cy="350064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q = 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4" name="Заголовок 1"/>
          <p:cNvSpPr/>
          <p:nvPr/>
        </p:nvSpPr>
        <p:spPr>
          <a:xfrm>
            <a:off x="2771640" y="496800"/>
            <a:ext cx="3997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6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ятно 1 4"/>
          <p:cNvSpPr/>
          <p:nvPr/>
        </p:nvSpPr>
        <p:spPr>
          <a:xfrm>
            <a:off x="2670120" y="2112840"/>
            <a:ext cx="3889440" cy="350064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11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86920" y="2560680"/>
            <a:ext cx="608508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7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7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70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Прямоугольник 3" descr=""/>
          <p:cNvPicPr/>
          <p:nvPr/>
        </p:nvPicPr>
        <p:blipFill>
          <a:blip r:embed="rId1"/>
          <a:stretch/>
        </p:blipFill>
        <p:spPr>
          <a:xfrm>
            <a:off x="231840" y="566640"/>
            <a:ext cx="86868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042920" y="1390320"/>
            <a:ext cx="7416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omic Sans MS"/>
              </a:rPr>
              <a:t>Лабиринт вопросов труд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omic Sans MS"/>
              </a:rPr>
              <a:t>Разгадать помогут н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omic Sans MS"/>
              </a:rPr>
              <a:t>Наши знания, умен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omic Sans MS"/>
              </a:rPr>
              <a:t>Со смекалкой попола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75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49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Найдите значения выражений самым удобным способ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55640" y="1700280"/>
            <a:ext cx="7848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4∙19∙25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Шиф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8∙15∙125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15000)   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75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Comic Sans MS"/>
              </a:rPr>
              <a:t>250 ∙35 ∙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50 ∙75 ∙2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</a:t>
            </a: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94000)       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19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16 ∙47 ∙125   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3100)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1 мл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omic Sans MS"/>
              </a:rPr>
              <a:t>40 ∙8 ∙25 ∙125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</a:t>
            </a:r>
            <a:r>
              <a:rPr b="0" lang="ru-RU" sz="32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1e1c11"/>
                </a:solidFill>
                <a:latin typeface="Comic Sans MS"/>
              </a:rPr>
              <a:t>(700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omic Sans MS"/>
              </a:rPr>
              <a:t>31 ∙25 ∙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5" name="Прямая со стрелкой 4"/>
          <p:cNvCxnSpPr/>
          <p:nvPr/>
        </p:nvCxnSpPr>
        <p:spPr>
          <a:xfrm flipH="1">
            <a:off x="4787280" y="2133360"/>
            <a:ext cx="648360" cy="1436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86" name="Прямая со стрелкой 5"/>
          <p:cNvCxnSpPr/>
          <p:nvPr/>
        </p:nvCxnSpPr>
        <p:spPr>
          <a:xfrm>
            <a:off x="6641640" y="2133360"/>
            <a:ext cx="810360" cy="216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87" name="Прямая со стрелкой 8"/>
          <p:cNvCxnSpPr/>
          <p:nvPr/>
        </p:nvCxnSpPr>
        <p:spPr>
          <a:xfrm flipH="1">
            <a:off x="4787280" y="2241720"/>
            <a:ext cx="880200" cy="125928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88" name="Прямая со стрелкой 10"/>
          <p:cNvCxnSpPr/>
          <p:nvPr/>
        </p:nvCxnSpPr>
        <p:spPr>
          <a:xfrm flipH="1">
            <a:off x="5226840" y="2259000"/>
            <a:ext cx="537480" cy="17834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89" name="Прямая со стрелкой 12"/>
          <p:cNvCxnSpPr/>
          <p:nvPr/>
        </p:nvCxnSpPr>
        <p:spPr>
          <a:xfrm>
            <a:off x="5990760" y="2295000"/>
            <a:ext cx="165960" cy="2304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90" name="Прямая со стрелкой 14"/>
          <p:cNvCxnSpPr/>
          <p:nvPr/>
        </p:nvCxnSpPr>
        <p:spPr>
          <a:xfrm>
            <a:off x="6117840" y="2276280"/>
            <a:ext cx="756360" cy="181980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91" name="Прямая со стрелкой 16"/>
          <p:cNvCxnSpPr/>
          <p:nvPr/>
        </p:nvCxnSpPr>
        <p:spPr>
          <a:xfrm>
            <a:off x="6338520" y="2314080"/>
            <a:ext cx="708840" cy="12056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5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5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5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5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5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5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50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6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75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75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6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75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7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75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2682720"/>
            <a:ext cx="76374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Объект 2"/>
          <p:cNvSpPr/>
          <p:nvPr/>
        </p:nvSpPr>
        <p:spPr>
          <a:xfrm>
            <a:off x="2556000" y="2301840"/>
            <a:ext cx="3738600" cy="1560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Georgia"/>
                <a:ea typeface="Arial"/>
              </a:rPr>
              <a:t>s = v∙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334960" y="3504960"/>
            <a:ext cx="367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Р = 2а + 2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929280" y="920520"/>
            <a:ext cx="77976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1" i="1" lang="ru-RU" sz="54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Прямоугольник 3"/>
          <p:cNvSpPr/>
          <p:nvPr/>
        </p:nvSpPr>
        <p:spPr>
          <a:xfrm>
            <a:off x="2050920" y="981000"/>
            <a:ext cx="4681800" cy="19731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бъект 2"/>
          <p:cNvSpPr/>
          <p:nvPr/>
        </p:nvSpPr>
        <p:spPr>
          <a:xfrm>
            <a:off x="4002120" y="2349360"/>
            <a:ext cx="7794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    </a:t>
            </a:r>
            <a:r>
              <a:rPr b="1" i="1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Заголовок 1"/>
          <p:cNvSpPr/>
          <p:nvPr/>
        </p:nvSpPr>
        <p:spPr>
          <a:xfrm>
            <a:off x="2335320" y="4344840"/>
            <a:ext cx="367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= 2(а + </a:t>
            </a:r>
            <a:r>
              <a:rPr b="1" lang="en-US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b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5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75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Прямоугольник 3"/>
          <p:cNvSpPr/>
          <p:nvPr/>
        </p:nvSpPr>
        <p:spPr>
          <a:xfrm>
            <a:off x="3181320" y="1111320"/>
            <a:ext cx="2233800" cy="2087640"/>
          </a:xfrm>
          <a:prstGeom prst="rect">
            <a:avLst/>
          </a:prstGeom>
          <a:solidFill>
            <a:srgbClr val="ff9900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бъект 2"/>
          <p:cNvSpPr/>
          <p:nvPr/>
        </p:nvSpPr>
        <p:spPr>
          <a:xfrm>
            <a:off x="5438880" y="1146240"/>
            <a:ext cx="779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omic Sans MS"/>
                <a:ea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Заголовок 1"/>
          <p:cNvSpPr/>
          <p:nvPr/>
        </p:nvSpPr>
        <p:spPr>
          <a:xfrm>
            <a:off x="2335320" y="3505320"/>
            <a:ext cx="367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  <a:ea typeface="Arial"/>
              </a:rPr>
              <a:t>Р = а+а+а+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Заголовок 1"/>
          <p:cNvSpPr/>
          <p:nvPr/>
        </p:nvSpPr>
        <p:spPr>
          <a:xfrm>
            <a:off x="2235240" y="4546440"/>
            <a:ext cx="367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Р = 4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5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7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75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677 (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Прямоугольник 3"/>
          <p:cNvSpPr/>
          <p:nvPr/>
        </p:nvSpPr>
        <p:spPr>
          <a:xfrm>
            <a:off x="2340000" y="14176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= 2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en-US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b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4"/>
          <p:cNvSpPr/>
          <p:nvPr/>
        </p:nvSpPr>
        <p:spPr>
          <a:xfrm>
            <a:off x="900000" y="24638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-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5"/>
          <p:cNvSpPr/>
          <p:nvPr/>
        </p:nvSpPr>
        <p:spPr>
          <a:xfrm>
            <a:off x="1116000" y="333072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а =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4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оугольник 6"/>
          <p:cNvSpPr/>
          <p:nvPr/>
        </p:nvSpPr>
        <p:spPr>
          <a:xfrm>
            <a:off x="1119240" y="430380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b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=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3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7"/>
          <p:cNvSpPr/>
          <p:nvPr/>
        </p:nvSpPr>
        <p:spPr>
          <a:xfrm>
            <a:off x="3851280" y="274176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= 2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4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3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ятно 1 8"/>
          <p:cNvSpPr/>
          <p:nvPr/>
        </p:nvSpPr>
        <p:spPr>
          <a:xfrm>
            <a:off x="5470560" y="3392640"/>
            <a:ext cx="2735280" cy="2592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14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75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75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75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75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677 (б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4"/>
          <p:cNvSpPr/>
          <p:nvPr/>
        </p:nvSpPr>
        <p:spPr>
          <a:xfrm>
            <a:off x="304920" y="12970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= 2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en-US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b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оугольник 5"/>
          <p:cNvSpPr/>
          <p:nvPr/>
        </p:nvSpPr>
        <p:spPr>
          <a:xfrm>
            <a:off x="28440" y="224964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</a:t>
            </a:r>
            <a:r>
              <a:rPr b="1" lang="en-US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= 3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6"/>
          <p:cNvSpPr/>
          <p:nvPr/>
        </p:nvSpPr>
        <p:spPr>
          <a:xfrm>
            <a:off x="23760" y="297180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а </a:t>
            </a:r>
            <a:r>
              <a:rPr b="1" lang="en-US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- 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7"/>
          <p:cNvSpPr/>
          <p:nvPr/>
        </p:nvSpPr>
        <p:spPr>
          <a:xfrm>
            <a:off x="541440" y="3740040"/>
            <a:ext cx="29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b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=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7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8"/>
          <p:cNvSpPr/>
          <p:nvPr/>
        </p:nvSpPr>
        <p:spPr>
          <a:xfrm>
            <a:off x="4127400" y="14065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30 = 2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7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оугольник 9"/>
          <p:cNvSpPr/>
          <p:nvPr/>
        </p:nvSpPr>
        <p:spPr>
          <a:xfrm>
            <a:off x="4086360" y="205596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2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7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 =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10"/>
          <p:cNvSpPr/>
          <p:nvPr/>
        </p:nvSpPr>
        <p:spPr>
          <a:xfrm>
            <a:off x="3838680" y="272088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7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 = 30 :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11"/>
          <p:cNvSpPr/>
          <p:nvPr/>
        </p:nvSpPr>
        <p:spPr>
          <a:xfrm>
            <a:off x="3816360" y="3489480"/>
            <a:ext cx="47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7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=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12"/>
          <p:cNvSpPr/>
          <p:nvPr/>
        </p:nvSpPr>
        <p:spPr>
          <a:xfrm>
            <a:off x="3875040" y="424800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= 15 -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13"/>
          <p:cNvSpPr/>
          <p:nvPr/>
        </p:nvSpPr>
        <p:spPr>
          <a:xfrm>
            <a:off x="3132000" y="500868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7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7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75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75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75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75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75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75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75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75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75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75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75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75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75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75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admin</cp:lastModifiedBy>
  <dcterms:modified xsi:type="dcterms:W3CDTF">2024-01-30T07:20:22Z</dcterms:modified>
  <cp:revision>27</cp:revision>
  <dc:subject/>
  <dc:title>Слайд 1</dc:title>
</cp:coreProperties>
</file>