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FC9-CD8B-4135-85DA-1257C052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E29F-6581-44A3-A5EF-015F4931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33C-41CD-48DD-AAC6-DC66ACC9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5C08-58F0-47D7-BFF8-5D7BF0DA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F91-F6EB-4FDF-884F-034D75AB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0C56-0E88-48B4-AEFB-AF0D9BCF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FB3A-58DE-4A50-9E74-41D9FDB7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8C55-8A58-48AC-8967-5A230EFE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450-D0C8-4A93-8F6A-28516FBB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789C-BC82-498E-95F3-396519AA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F07F-8EF3-41C6-9D27-17A88754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9863-F4BB-47F4-9B7C-A0821425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11C0-4735-4423-A6B7-471328AAEE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ие сведения о сборочных чертежах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епежные соедин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соеди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755640" y="1413000"/>
            <a:ext cx="25192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Разъем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084720" y="1413000"/>
            <a:ext cx="2303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еразъем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AutoShape 5"/>
          <p:cNvCxnSpPr/>
          <p:nvPr/>
        </p:nvCxnSpPr>
        <p:spPr>
          <a:xfrm flipH="1">
            <a:off x="1331640" y="2349000"/>
            <a:ext cx="288000" cy="575640"/>
          </a:xfrm>
          <a:prstGeom prst="straightConnector1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77" name="AutoShape 6"/>
          <p:cNvCxnSpPr/>
          <p:nvPr/>
        </p:nvCxnSpPr>
        <p:spPr>
          <a:xfrm>
            <a:off x="2916000" y="2349000"/>
            <a:ext cx="361080" cy="575640"/>
          </a:xfrm>
          <a:prstGeom prst="straightConnector1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78" name="AutoShape 7"/>
          <p:cNvSpPr/>
          <p:nvPr/>
        </p:nvSpPr>
        <p:spPr>
          <a:xfrm>
            <a:off x="324000" y="2997360"/>
            <a:ext cx="1726920" cy="57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 резь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2627280" y="2997360"/>
            <a:ext cx="1944720" cy="57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Без резь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 flipH="1">
            <a:off x="1042560" y="3645000"/>
            <a:ext cx="14436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3780000" y="3645000"/>
            <a:ext cx="142560" cy="433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250920" y="4149720"/>
            <a:ext cx="194472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Болтов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инто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Шпиле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2627280" y="4149720"/>
            <a:ext cx="2232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Шпоно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Штифто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Шплинто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Шлице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13"/>
          <p:cNvCxnSpPr/>
          <p:nvPr/>
        </p:nvCxnSpPr>
        <p:spPr>
          <a:xfrm>
            <a:off x="7164000" y="2349000"/>
            <a:ext cx="1080" cy="575640"/>
          </a:xfrm>
          <a:prstGeom prst="straightConnector1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85" name="Rectangle 14"/>
          <p:cNvSpPr/>
          <p:nvPr/>
        </p:nvSpPr>
        <p:spPr>
          <a:xfrm>
            <a:off x="6300720" y="3068640"/>
            <a:ext cx="2232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ар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Заклепо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Клее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я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азовите типы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соедин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248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5040360" cy="2795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3995640" y="4699080"/>
            <a:ext cx="5148360" cy="2158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365040"/>
            <a:ext cx="4679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Болтовое соедин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борка деталей осуществляется с помощью болта, гайки и шай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одержимое 6" descr="Рисунок5.jpg"/>
          <p:cNvPicPr/>
          <p:nvPr/>
        </p:nvPicPr>
        <p:blipFill>
          <a:blip r:embed="rId1"/>
          <a:stretch/>
        </p:blipFill>
        <p:spPr>
          <a:xfrm>
            <a:off x="5580000" y="44280"/>
            <a:ext cx="3146400" cy="1872000"/>
          </a:xfrm>
          <a:prstGeom prst="rect">
            <a:avLst/>
          </a:prstGeom>
          <a:ln w="0">
            <a:noFill/>
          </a:ln>
        </p:spPr>
      </p:pic>
      <p:sp>
        <p:nvSpPr>
          <p:cNvPr id="93" name="Заголовок 1"/>
          <p:cNvSpPr/>
          <p:nvPr/>
        </p:nvSpPr>
        <p:spPr>
          <a:xfrm>
            <a:off x="395280" y="1916280"/>
            <a:ext cx="482436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Шпилечное соедин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борка деталей осуществляется с помощью шпильки, один конец которой вворачивается в одну из соединяемых деталей, а на другой надевается присоединяемая деталь, шайба и затягивается гай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8" descr="Рисунок6.jpg"/>
          <p:cNvPicPr/>
          <p:nvPr/>
        </p:nvPicPr>
        <p:blipFill>
          <a:blip r:embed="rId2"/>
          <a:stretch/>
        </p:blipFill>
        <p:spPr>
          <a:xfrm>
            <a:off x="5608800" y="2098800"/>
            <a:ext cx="3139920" cy="1761840"/>
          </a:xfrm>
          <a:prstGeom prst="rect">
            <a:avLst/>
          </a:prstGeom>
          <a:ln w="0">
            <a:noFill/>
          </a:ln>
        </p:spPr>
      </p:pic>
      <p:sp>
        <p:nvSpPr>
          <p:cNvPr id="95" name="Заголовок 1"/>
          <p:cNvSpPr/>
          <p:nvPr/>
        </p:nvSpPr>
        <p:spPr>
          <a:xfrm>
            <a:off x="468360" y="4437000"/>
            <a:ext cx="4680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итовое соедин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борка деталей осуществляется с помощью винта, ввинчиваемого в одну из соединяемых деталей, либо винта, шайбы и гай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0" descr="Рисунок7.jpg"/>
          <p:cNvPicPr/>
          <p:nvPr/>
        </p:nvPicPr>
        <p:blipFill>
          <a:blip r:embed="rId3"/>
          <a:stretch/>
        </p:blipFill>
        <p:spPr>
          <a:xfrm>
            <a:off x="5724360" y="4365720"/>
            <a:ext cx="3040200" cy="2087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Заголовок 1"/>
          <p:cNvSpPr/>
          <p:nvPr/>
        </p:nvSpPr>
        <p:spPr>
          <a:xfrm>
            <a:off x="611280" y="870120"/>
            <a:ext cx="41767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Шпоночное соедин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борка деталей осуществляется по средством шпонки, которая устанавливается в шпоночном пазу вала и входит в шпоночную канавку присоединяемой де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Рисунок8.png"/>
          <p:cNvPicPr/>
          <p:nvPr/>
        </p:nvPicPr>
        <p:blipFill>
          <a:blip r:embed="rId1"/>
          <a:stretch/>
        </p:blipFill>
        <p:spPr>
          <a:xfrm>
            <a:off x="5435640" y="525600"/>
            <a:ext cx="3030480" cy="2974680"/>
          </a:xfrm>
          <a:prstGeom prst="rect">
            <a:avLst/>
          </a:prstGeom>
          <a:ln w="0">
            <a:noFill/>
          </a:ln>
        </p:spPr>
      </p:pic>
      <p:sp>
        <p:nvSpPr>
          <p:cNvPr id="99" name="Заголовок 1"/>
          <p:cNvSpPr/>
          <p:nvPr/>
        </p:nvSpPr>
        <p:spPr>
          <a:xfrm>
            <a:off x="611280" y="3789360"/>
            <a:ext cx="41767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Штифторое соедин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борка деталей осуществляется посредством плотной посадки штифта (цилиндрической или конической) в соединяемые де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" descr="Рисунок9.png"/>
          <p:cNvPicPr/>
          <p:nvPr/>
        </p:nvPicPr>
        <p:blipFill>
          <a:blip r:embed="rId2"/>
          <a:stretch/>
        </p:blipFill>
        <p:spPr>
          <a:xfrm>
            <a:off x="5483160" y="3645000"/>
            <a:ext cx="3205080" cy="2160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Заголовок 1"/>
          <p:cNvSpPr/>
          <p:nvPr/>
        </p:nvSpPr>
        <p:spPr>
          <a:xfrm>
            <a:off x="324000" y="365040"/>
            <a:ext cx="50400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варное соедин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оединение, осуществляемое путем местного нагрева материала деталей до расплавленного или пластического состо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2" descr="Рисунок10.jpg"/>
          <p:cNvPicPr/>
          <p:nvPr/>
        </p:nvPicPr>
        <p:blipFill>
          <a:blip r:embed="rId1"/>
          <a:stretch/>
        </p:blipFill>
        <p:spPr>
          <a:xfrm>
            <a:off x="6012000" y="189000"/>
            <a:ext cx="2520720" cy="211608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324000" y="2492280"/>
            <a:ext cx="5040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яное соедин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оединение металлических или металлизированных деталей с помощью дополнительного металла или сплава, называемого припоем, путем нагрева мест соединения д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лавления припо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6" descr="Рисунок11.jpg"/>
          <p:cNvPicPr/>
          <p:nvPr/>
        </p:nvPicPr>
        <p:blipFill>
          <a:blip r:embed="rId2"/>
          <a:stretch/>
        </p:blipFill>
        <p:spPr>
          <a:xfrm>
            <a:off x="6012000" y="2565360"/>
            <a:ext cx="2520720" cy="205272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324000" y="4869000"/>
            <a:ext cx="50400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лепаное соедин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едставляет собой соединение двух деталей с помощью заклепки. На одном конце заклепки имеется головка, а другой расклепы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8" descr="Рисунок12.jpg"/>
          <p:cNvPicPr/>
          <p:nvPr/>
        </p:nvPicPr>
        <p:blipFill>
          <a:blip r:embed="rId3"/>
          <a:stretch/>
        </p:blipFill>
        <p:spPr>
          <a:xfrm>
            <a:off x="5786280" y="5013360"/>
            <a:ext cx="2962440" cy="1225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живёт в мире вещей, которые иначе называются издел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ежда, обувь, игрушки, инструменты, мебель, транспортные средства, станки и т.п. – всё это изделия , состоящие из деталей, собранных в определённой последова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ногодетальное изделие называется Сборочной единицей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составная часть изделия – находится в своём рабочем положении. Нарушение последовательности сборки деталей в издели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допустим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рте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бочий чертеж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чертеж одной детали готовой к изготовл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788000" y="1628640"/>
            <a:ext cx="4032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борочный  чертеж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чертеж изделия, состоящий из нескольких дета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 flipH="1">
            <a:off x="2484000" y="126828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5076720" y="126828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8" descr="Рисунок1.png"/>
          <p:cNvPicPr/>
          <p:nvPr/>
        </p:nvPicPr>
        <p:blipFill>
          <a:blip r:embed="rId1"/>
          <a:stretch/>
        </p:blipFill>
        <p:spPr>
          <a:xfrm>
            <a:off x="7164360" y="4073400"/>
            <a:ext cx="1685880" cy="25797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Рисунок2.png"/>
          <p:cNvPicPr/>
          <p:nvPr/>
        </p:nvPicPr>
        <p:blipFill>
          <a:blip r:embed="rId2"/>
          <a:stretch/>
        </p:blipFill>
        <p:spPr>
          <a:xfrm>
            <a:off x="971640" y="4724280"/>
            <a:ext cx="1930320" cy="1735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рте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788000" y="1628640"/>
            <a:ext cx="4032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H="1">
            <a:off x="2484000" y="126828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5076720" y="126828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Рисунок2.png"/>
          <p:cNvPicPr/>
          <p:nvPr/>
        </p:nvPicPr>
        <p:blipFill>
          <a:blip r:embed="rId1"/>
          <a:stretch/>
        </p:blipFill>
        <p:spPr>
          <a:xfrm>
            <a:off x="755640" y="2492280"/>
            <a:ext cx="328608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Рисунок1.png"/>
          <p:cNvPicPr/>
          <p:nvPr/>
        </p:nvPicPr>
        <p:blipFill>
          <a:blip r:embed="rId2"/>
          <a:stretch/>
        </p:blipFill>
        <p:spPr>
          <a:xfrm>
            <a:off x="4859280" y="2276640"/>
            <a:ext cx="2881440" cy="4406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ертёж детал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изображение детали (виды, разрезы, сечения) и другие данные необходимые для её из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1187280" y="2924280"/>
            <a:ext cx="6480360" cy="32875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4427640" y="5805360"/>
            <a:ext cx="3168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915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борочный чертёж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изображение сборочной единицы, обеспечивающее сборку изде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Рисунок3.png"/>
          <p:cNvPicPr/>
          <p:nvPr/>
        </p:nvPicPr>
        <p:blipFill>
          <a:blip r:embed="rId1"/>
          <a:stretch/>
        </p:blipFill>
        <p:spPr>
          <a:xfrm>
            <a:off x="1547640" y="2276640"/>
            <a:ext cx="2181240" cy="4005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Рисунок4.png"/>
          <p:cNvPicPr/>
          <p:nvPr/>
        </p:nvPicPr>
        <p:blipFill>
          <a:blip r:embed="rId2"/>
          <a:stretch/>
        </p:blipFill>
        <p:spPr>
          <a:xfrm>
            <a:off x="4643280" y="2205000"/>
            <a:ext cx="3202200" cy="4184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84360" y="1844640"/>
            <a:ext cx="3387600" cy="3529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2124000" y="692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абочий черте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Рисунок2.png"/>
          <p:cNvPicPr/>
          <p:nvPr/>
        </p:nvPicPr>
        <p:blipFill>
          <a:blip r:embed="rId2"/>
          <a:stretch/>
        </p:blipFill>
        <p:spPr>
          <a:xfrm>
            <a:off x="5148360" y="2060640"/>
            <a:ext cx="3367080" cy="3024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еди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ение двух разрозненных предметов, в результате которого получается новый объект или изменяются характерист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ющих называется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оедин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и, входящие в соединение называются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деталями.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й объект, образуемый при соединении двух деталей называется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уз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, состоящий из нескольких узлов и способный выполнять определенные действия, ради которых эти узлы были объединены называется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механиз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252720" y="1855440"/>
            <a:ext cx="403236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Разъемные- соединени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когда изделие можно собрать и разобрать не разрушая дета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еди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452840" y="1844640"/>
            <a:ext cx="46911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Неразъемны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нельзя разобрать изделия, не разрушив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 flipH="1">
            <a:off x="2916360" y="1197000"/>
            <a:ext cx="792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5364000" y="1197000"/>
            <a:ext cx="64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3:31:50Z</dcterms:created>
  <dc:creator>Admin</dc:creator>
  <dc:description/>
  <dc:language>en-US</dc:language>
  <cp:lastModifiedBy>Admin</cp:lastModifiedBy>
  <dcterms:modified xsi:type="dcterms:W3CDTF">2020-04-13T22:31:07Z</dcterms:modified>
  <cp:revision>51</cp:revision>
  <dc:subject/>
  <dc:title>Общие сведения о сборочных чертежах.</dc:title>
</cp:coreProperties>
</file>