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3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C172-014D-441F-B5EB-27048D5A9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878-49AE-4E77-ABDC-8759D3B7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AAF-E2A2-4545-891C-8E96015C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FD68-BEA9-4E5D-8392-D46A62F2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DCBD-C014-4089-9937-B37656C2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CB2-EFD5-44F3-9BA4-AB7B7950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567-D0F8-43A8-9A22-54494D4A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B445-D391-4F8B-9892-4283D3A3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7C3-97A7-4F04-9CEB-5D8E108C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044-44C0-43CA-9FF8-C960EF1D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30A-49A4-48E9-9363-186CB421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EF0-7784-497A-9EDD-0D5A1DBC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BE02-341C-486D-AC93-4A196BDE3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щие сведения о сборочных чертежах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епежные соедин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соеди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755640" y="1413000"/>
            <a:ext cx="2519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Разъе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084720" y="1413000"/>
            <a:ext cx="2303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Неразъе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5"/>
          <p:cNvCxnSpPr/>
          <p:nvPr/>
        </p:nvCxnSpPr>
        <p:spPr>
          <a:xfrm flipH="1">
            <a:off x="1331640" y="2349000"/>
            <a:ext cx="288000" cy="57564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77" name="AutoShape 6"/>
          <p:cNvCxnSpPr/>
          <p:nvPr/>
        </p:nvCxnSpPr>
        <p:spPr>
          <a:xfrm>
            <a:off x="2916000" y="2349000"/>
            <a:ext cx="361080" cy="57564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78" name="AutoShape 7"/>
          <p:cNvSpPr/>
          <p:nvPr/>
        </p:nvSpPr>
        <p:spPr>
          <a:xfrm>
            <a:off x="324000" y="2997360"/>
            <a:ext cx="1726920" cy="57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 резь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8"/>
          <p:cNvSpPr/>
          <p:nvPr/>
        </p:nvSpPr>
        <p:spPr>
          <a:xfrm>
            <a:off x="2627280" y="2997360"/>
            <a:ext cx="1944720" cy="576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Без резь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9"/>
          <p:cNvSpPr/>
          <p:nvPr/>
        </p:nvSpPr>
        <p:spPr>
          <a:xfrm flipH="1">
            <a:off x="1042560" y="3645000"/>
            <a:ext cx="144360" cy="431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"/>
          <p:cNvSpPr/>
          <p:nvPr/>
        </p:nvSpPr>
        <p:spPr>
          <a:xfrm>
            <a:off x="3780000" y="3645000"/>
            <a:ext cx="142560" cy="433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250920" y="4149720"/>
            <a:ext cx="194472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Болтов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Винт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пиле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2627280" y="4149720"/>
            <a:ext cx="2232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поно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тифт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плинто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лицев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13"/>
          <p:cNvCxnSpPr/>
          <p:nvPr/>
        </p:nvCxnSpPr>
        <p:spPr>
          <a:xfrm>
            <a:off x="7164000" y="2349000"/>
            <a:ext cx="1080" cy="575640"/>
          </a:xfrm>
          <a:prstGeom prst="straightConnector1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85" name="Rectangle 14"/>
          <p:cNvSpPr/>
          <p:nvPr/>
        </p:nvSpPr>
        <p:spPr>
          <a:xfrm>
            <a:off x="6300720" y="3068640"/>
            <a:ext cx="2232000" cy="172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Сва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Заклепоч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Клее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Пая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Назовите типы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 соеди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248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1332000" y="2205000"/>
            <a:ext cx="5040360" cy="2795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3995640" y="4699080"/>
            <a:ext cx="5148360" cy="21589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365040"/>
            <a:ext cx="4679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лтов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с помощью болта, гайки и шай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Содержимое 6" descr="Рисунок5.jpg"/>
          <p:cNvPicPr/>
          <p:nvPr/>
        </p:nvPicPr>
        <p:blipFill>
          <a:blip r:embed="rId1"/>
          <a:stretch/>
        </p:blipFill>
        <p:spPr>
          <a:xfrm>
            <a:off x="5580000" y="44280"/>
            <a:ext cx="3146400" cy="1872000"/>
          </a:xfrm>
          <a:prstGeom prst="rect">
            <a:avLst/>
          </a:prstGeom>
          <a:ln w="0">
            <a:noFill/>
          </a:ln>
        </p:spPr>
      </p:pic>
      <p:sp>
        <p:nvSpPr>
          <p:cNvPr id="93" name="Заголовок 1"/>
          <p:cNvSpPr/>
          <p:nvPr/>
        </p:nvSpPr>
        <p:spPr>
          <a:xfrm>
            <a:off x="395280" y="1916280"/>
            <a:ext cx="4824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пилеч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с помощью шпильки, один конец которой вворачивается в одну из соединяемых деталей, а на другой надевается присоединяемая деталь, шайба и затягивается гай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8" descr="Рисунок6.jpg"/>
          <p:cNvPicPr/>
          <p:nvPr/>
        </p:nvPicPr>
        <p:blipFill>
          <a:blip r:embed="rId2"/>
          <a:stretch/>
        </p:blipFill>
        <p:spPr>
          <a:xfrm>
            <a:off x="5608800" y="2098800"/>
            <a:ext cx="3139920" cy="176184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1"/>
          <p:cNvSpPr/>
          <p:nvPr/>
        </p:nvSpPr>
        <p:spPr>
          <a:xfrm>
            <a:off x="468360" y="4437000"/>
            <a:ext cx="4680000" cy="19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итов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с помощью винта, ввинчиваемого в одну из соединяемых деталей, либо винта, шайбы и гай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0" descr="Рисунок7.jpg"/>
          <p:cNvPicPr/>
          <p:nvPr/>
        </p:nvPicPr>
        <p:blipFill>
          <a:blip r:embed="rId3"/>
          <a:stretch/>
        </p:blipFill>
        <p:spPr>
          <a:xfrm>
            <a:off x="5724360" y="4365720"/>
            <a:ext cx="3040200" cy="2087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Заголовок 1"/>
          <p:cNvSpPr/>
          <p:nvPr/>
        </p:nvSpPr>
        <p:spPr>
          <a:xfrm>
            <a:off x="611280" y="870120"/>
            <a:ext cx="417672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поноч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по средством шпонки, которая устанавливается в шпоночном пазу вала и входит в шпоночную канавку присоединяемой д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Рисунок8.png"/>
          <p:cNvPicPr/>
          <p:nvPr/>
        </p:nvPicPr>
        <p:blipFill>
          <a:blip r:embed="rId1"/>
          <a:stretch/>
        </p:blipFill>
        <p:spPr>
          <a:xfrm>
            <a:off x="5435640" y="525600"/>
            <a:ext cx="3030480" cy="297468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611280" y="3789360"/>
            <a:ext cx="4176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Штифтор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борка деталей осуществляется посредством плотной посадки штифта (цилиндрической или конической) в соединяемые дет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Рисунок9.png"/>
          <p:cNvPicPr/>
          <p:nvPr/>
        </p:nvPicPr>
        <p:blipFill>
          <a:blip r:embed="rId2"/>
          <a:stretch/>
        </p:blipFill>
        <p:spPr>
          <a:xfrm>
            <a:off x="5483160" y="3645000"/>
            <a:ext cx="3205080" cy="2160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324000" y="365040"/>
            <a:ext cx="5040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вар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единение, осуществляемое путем местного нагрева материала деталей до расплавленного или пластического состоя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2" descr="Рисунок10.jpg"/>
          <p:cNvPicPr/>
          <p:nvPr/>
        </p:nvPicPr>
        <p:blipFill>
          <a:blip r:embed="rId1"/>
          <a:stretch/>
        </p:blipFill>
        <p:spPr>
          <a:xfrm>
            <a:off x="6012000" y="189000"/>
            <a:ext cx="2520720" cy="211608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324000" y="2492280"/>
            <a:ext cx="5040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ая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единение металлических или металлизированных деталей с помощью дополнительного металла или сплава, называемого припоем, путем нагрева мест соединения д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лавления припо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Рисунок11.jpg"/>
          <p:cNvPicPr/>
          <p:nvPr/>
        </p:nvPicPr>
        <p:blipFill>
          <a:blip r:embed="rId2"/>
          <a:stretch/>
        </p:blipFill>
        <p:spPr>
          <a:xfrm>
            <a:off x="6012000" y="2565360"/>
            <a:ext cx="2520720" cy="205272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324000" y="4869000"/>
            <a:ext cx="5040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лепаное соединени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едставляет собой соединение двух деталей с помощью заклепки. На одном конце заклепки имеется головка, а другой расклепыв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8" descr="Рисунок12.jpg"/>
          <p:cNvPicPr/>
          <p:nvPr/>
        </p:nvPicPr>
        <p:blipFill>
          <a:blip r:embed="rId3"/>
          <a:stretch/>
        </p:blipFill>
        <p:spPr>
          <a:xfrm>
            <a:off x="5786280" y="5013360"/>
            <a:ext cx="2962440" cy="1225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живёт в мире вещей, которые иначе называются издели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ежда, обувь, игрушки, инструменты, мебель, транспортные средства, станки и т.п. – всё это изделия , состоящие из деталей, собранных в определённой последова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Многодетальное изделие называется Сборочной единицей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составная часть изделия – находится в своём рабочем положении. Нарушение последовательности сборки деталей в издели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допустим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е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бочий чертеж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чертеж одной детали готовой к изгот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788000" y="1628640"/>
            <a:ext cx="4032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борочный  чертеж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чертеж изделия, состоящий из нескольких дета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>
            <a:off x="2484000" y="126828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>
            <a:off x="5076720" y="126828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8" descr="Рисунок1.png"/>
          <p:cNvPicPr/>
          <p:nvPr/>
        </p:nvPicPr>
        <p:blipFill>
          <a:blip r:embed="rId1"/>
          <a:stretch/>
        </p:blipFill>
        <p:spPr>
          <a:xfrm>
            <a:off x="7164360" y="4073400"/>
            <a:ext cx="1685880" cy="25797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Рисунок2.png"/>
          <p:cNvPicPr/>
          <p:nvPr/>
        </p:nvPicPr>
        <p:blipFill>
          <a:blip r:embed="rId2"/>
          <a:stretch/>
        </p:blipFill>
        <p:spPr>
          <a:xfrm>
            <a:off x="971640" y="4724280"/>
            <a:ext cx="1930320" cy="1735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теж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4788000" y="1628640"/>
            <a:ext cx="4032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2484000" y="126828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5076720" y="126828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Рисунок2.png"/>
          <p:cNvPicPr/>
          <p:nvPr/>
        </p:nvPicPr>
        <p:blipFill>
          <a:blip r:embed="rId1"/>
          <a:stretch/>
        </p:blipFill>
        <p:spPr>
          <a:xfrm>
            <a:off x="755640" y="2492280"/>
            <a:ext cx="3286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Рисунок1.png"/>
          <p:cNvPicPr/>
          <p:nvPr/>
        </p:nvPicPr>
        <p:blipFill>
          <a:blip r:embed="rId2"/>
          <a:stretch/>
        </p:blipFill>
        <p:spPr>
          <a:xfrm>
            <a:off x="4859280" y="2276640"/>
            <a:ext cx="2881440" cy="4406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ертёж детали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изображение детали (виды, разрезы, сечения) и другие данные необходимые для её из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480360" cy="328752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427640" y="5805360"/>
            <a:ext cx="316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915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борочный чертёж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изображение сборочной единицы, обеспечивающее сборку издел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Рисунок3.png"/>
          <p:cNvPicPr/>
          <p:nvPr/>
        </p:nvPicPr>
        <p:blipFill>
          <a:blip r:embed="rId1"/>
          <a:stretch/>
        </p:blipFill>
        <p:spPr>
          <a:xfrm>
            <a:off x="1547640" y="2276640"/>
            <a:ext cx="2181240" cy="4005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Рисунок4.png"/>
          <p:cNvPicPr/>
          <p:nvPr/>
        </p:nvPicPr>
        <p:blipFill>
          <a:blip r:embed="rId2"/>
          <a:stretch/>
        </p:blipFill>
        <p:spPr>
          <a:xfrm>
            <a:off x="4643280" y="2205000"/>
            <a:ext cx="3202200" cy="41846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84360" y="1844640"/>
            <a:ext cx="3387600" cy="3529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124000" y="692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абочий черте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Рисунок2.png"/>
          <p:cNvPicPr/>
          <p:nvPr/>
        </p:nvPicPr>
        <p:blipFill>
          <a:blip r:embed="rId2"/>
          <a:stretch/>
        </p:blipFill>
        <p:spPr>
          <a:xfrm>
            <a:off x="5148360" y="2060640"/>
            <a:ext cx="336708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динение двух разрозненных предметов, в результате которого получается новый объект или изменяются характеристи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щих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соед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сти, входящие в соединение называю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деталями.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ый объект, образуемый при соединении двух деталей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уз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ект, состоящий из нескольких узлов и способный выполнять определенные действия, ради которых эти узлы были объединены называется </a:t>
            </a: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механизм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-252720" y="1855440"/>
            <a:ext cx="403236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Разъемные- соединени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когда изделие можно собрать и разобрать не разрушая дета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еди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452840" y="1844640"/>
            <a:ext cx="469116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Неразъемны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нельзя разобрать изделия, не разрушив 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 flipH="1">
            <a:off x="2916360" y="1197000"/>
            <a:ext cx="792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5364000" y="1197000"/>
            <a:ext cx="648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31:50Z</dcterms:created>
  <dc:creator>Admin</dc:creator>
  <dc:description/>
  <dc:language>en-US</dc:language>
  <cp:lastModifiedBy>Admin</cp:lastModifiedBy>
  <dcterms:modified xsi:type="dcterms:W3CDTF">2020-04-13T22:31:07Z</dcterms:modified>
  <cp:revision>51</cp:revision>
  <dc:subject/>
  <dc:title>Общие сведения о сборочных чертежах.</dc:title>
</cp:coreProperties>
</file>