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18.jpeg" ContentType="image/jpeg"/>
  <Override PartName="/ppt/media/image6.wmf" ContentType="image/x-wmf"/>
  <Override PartName="/ppt/media/image16.jpeg" ContentType="image/jpeg"/>
  <Override PartName="/ppt/media/image15.jpeg" ContentType="image/jpeg"/>
  <Override PartName="/ppt/media/image1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7.wmf" ContentType="image/x-wmf"/>
  <Override PartName="/ppt/media/image14.jpeg" ContentType="image/jpeg"/>
  <Override PartName="/ppt/media/image8.png" ContentType="image/png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notesMasterIdLst>
    <p:notesMasterId r:id="rId22"/>
  </p:notes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  <p:sldId id="274" r:id="rId41"/>
    <p:sldId id="275" r:id="rId42"/>
    <p:sldId id="276" r:id="rId43"/>
    <p:sldId id="277" r:id="rId44"/>
    <p:sldId id="278" r:id="rId45"/>
    <p:sldId id="279" r:id="rId46"/>
    <p:sldId id="280" r:id="rId47"/>
    <p:sldId id="281" r:id="rId48"/>
    <p:sldId id="282" r:id="rId49"/>
    <p:sldId id="283" r:id="rId50"/>
    <p:sldId id="28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notesMaster" Target="notesMasters/notesMaster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slide" Target="slides/slide19.xml"/><Relationship Id="rId42" Type="http://schemas.openxmlformats.org/officeDocument/2006/relationships/slide" Target="slides/slide20.xml"/><Relationship Id="rId43" Type="http://schemas.openxmlformats.org/officeDocument/2006/relationships/slide" Target="slides/slide21.xml"/><Relationship Id="rId44" Type="http://schemas.openxmlformats.org/officeDocument/2006/relationships/slide" Target="slides/slide22.xml"/><Relationship Id="rId45" Type="http://schemas.openxmlformats.org/officeDocument/2006/relationships/slide" Target="slides/slide23.xml"/><Relationship Id="rId46" Type="http://schemas.openxmlformats.org/officeDocument/2006/relationships/slide" Target="slides/slide24.xml"/><Relationship Id="rId47" Type="http://schemas.openxmlformats.org/officeDocument/2006/relationships/slide" Target="slides/slide25.xml"/><Relationship Id="rId48" Type="http://schemas.openxmlformats.org/officeDocument/2006/relationships/slide" Target="slides/slide26.xml"/><Relationship Id="rId49" Type="http://schemas.openxmlformats.org/officeDocument/2006/relationships/slide" Target="slides/slide27.xml"/><Relationship Id="rId50" Type="http://schemas.openxmlformats.org/officeDocument/2006/relationships/slide" Target="slides/slide28.xml"/><Relationship Id="rId51" Type="http://schemas.openxmlformats.org/officeDocument/2006/relationships/slide" Target="slides/slide29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 type="dt" idx="6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5"/>
          <p:cNvSpPr>
            <a:spLocks noGrp="1"/>
          </p:cNvSpPr>
          <p:nvPr>
            <p:ph type="ftr" idx="6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PlaceHolder 6"/>
          <p:cNvSpPr>
            <a:spLocks noGrp="1"/>
          </p:cNvSpPr>
          <p:nvPr>
            <p:ph type="sldNum" idx="6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864AB-7C9A-4B2D-B334-A02FA7FE005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D5749-E93B-447C-BFCB-FABD070B21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93D2-607D-49BE-8577-318933394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747B-9298-45B7-99A5-97FD4FDA0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232ADB-9F50-41E6-AD9F-CD5F554BD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C7193C-A932-4DFF-A9D0-44D31BBEF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FDCE84-C126-4095-9B38-EB1A1B99A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A4AB09-D4FC-408E-849F-9F38B3D4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0D8C06-78AA-4528-9971-425E9919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8A1A54-015A-45CC-8FB7-A3264518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884854-0851-4C99-A6EA-DF52D057A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DD1F23-5F56-4F63-BCC7-C15C78E6B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003C7E-7E96-4466-8E99-57C474D11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7293EE-B398-42D6-9661-457F2C917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A6D0-582F-497C-AD7E-C55831AC2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4778D7-FD67-4ACA-9F60-2991B49EB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3C7E50-7BBA-42C9-A0F5-196DDC9E0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F810CC-14AA-4E4C-93E8-42C67E14A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42E993-5C35-4AF4-8641-0913A010D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0FC30D-A563-4046-9FC6-DC34AC3D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ADB814-B960-46BC-8EA0-E3DAE196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224478-1A2C-4BBD-805C-0CD82E5B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1F2DF3-4B5F-43E8-A497-90743C33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874797-A216-4B55-B0DE-1C9AAC300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349692-5E01-4646-981E-42A3BE6EE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188D-058E-43E2-9A7E-FC203CE80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B14D5E-483B-4627-B65F-572457F1A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D88EC9-6EB6-4084-887A-9AF86C12A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E6D05A-4A16-4DDC-8F70-30170538D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6D7A6C-33DF-430D-B671-B876416F8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BB8CF5-4653-470D-A055-9D64D26F0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F9225C-D1B7-4106-AA9A-A6D5B0386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F2BF82-6FB0-43E5-ACEA-0D48642B2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FD1BA4-B189-4702-B41A-9C5B5485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4DC7A9-2D8A-4670-A675-4E5222B5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72EECC-44A7-4636-AD89-AB389A13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42423-83E5-4EF0-A615-FA085FC55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436EC8-20F3-45AA-A3F3-F681B9306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764131-0F53-46B7-B04E-FA870DD69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475579-F7DA-4598-9005-84A9902FF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1E0385-5DEE-4633-BCDD-3AC3B9541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BFBF8D-0F8D-4E38-8CD0-14A4B5B12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0E1C7B-E3CB-4E81-9CD5-6C58A7C85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E73C9E-4246-4522-8D80-170FE966C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F4B1F1-E5FE-4F0C-B34E-667A0AABF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070865-B31B-4790-9F8B-D23F5D99A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7090A3-B6BB-417C-A01A-EF32DE70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DA27B-8F97-4267-A4A0-48D7FADB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3C698E-3066-4F3A-8471-31ADFA09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4FB33A-388A-4A90-8A77-FC4C7020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F769AA-53A9-4A00-91DC-C1E04A943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AE8802-C738-4A67-BC8E-0643C5F33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CA156F-432E-4F72-8A23-9C5FDA8DE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A07363-2C7D-4C43-9A76-B3FEDF890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FDF6B9-7FE6-4647-AAEE-0766AB1B8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CA2165-D10D-4AED-B5AA-E4A34C73F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DA082B-4090-49D8-9383-DF583FE11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EF0744-4FD0-486B-AF4C-68076ECD2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ED622-D46A-412E-A75E-E06776F65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B1EBEB-98C4-443A-85CE-AEAD403A4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DC6346-109B-497F-A085-9CF994B1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EE4B78-BA30-4724-833D-573D09DF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1418C3-37B2-4768-81C2-84838503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FDB906-F2D8-40AC-B358-8EC511A43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033E4D-1907-452E-92FC-B4B5614CF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2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2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0F1410-824C-4556-AEF3-6F18DCB57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18D47D-933C-4A57-BCB6-F128A6E20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CFDF8D-B2A2-46B6-8C24-3C97E42E2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602C97-BF5F-4D52-B494-54498359D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B2BB3-943D-4637-86C9-1E1E40395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7FE120-FAD9-4D87-BE39-FAD83A4B5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64C18F-0708-4300-BD89-2B7985943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B6579B-0BD4-44DE-BA38-CEC3F091C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8FFC42-A600-4C2B-BB21-A3756DD1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12B163-8642-49E1-B0A5-04679672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B892FE-CD94-429C-9D79-8A9CBCA8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1EDA26-2B39-4478-B8D2-9739522B5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B6AD9E-CC21-456D-9A64-B3098E4DC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BCAF68-62BA-40DA-A10A-9FB313EC2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92EA58-292C-4FA2-B595-E5AE6F84E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20B35-792D-4368-B9A1-46B1AAFB7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78D0E1-6F6A-4979-B9E9-36495F43E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7EC316-B50A-443A-9D5E-96A79639E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5C51ED-F70F-4A01-A802-E952FD298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42FA84-4683-47F4-8CEB-EA477C265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1B629C-DD3F-4B06-BF07-D5936AE5F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5989D3-40E6-4EB1-A4F3-22796E1D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3F6ED3-9D4D-4665-A50E-0516CEBF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EDF0FA-E735-40BA-A689-A81F4EB6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80D801-A320-48CE-9E59-772455933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307B38-82CC-4A7B-B4A8-E75CD63E7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F3238-6871-4C13-9464-93C6FB069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0834AE-C34C-4445-9CA1-BBBD8D0EF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2E0064-C1D9-46EE-BB33-D75AC2613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177728-A801-4149-9506-F79E0E775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DA94C6-C7A2-4DCA-AE61-C9302030A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E6AEDF-39EB-4184-8A18-496E0BD47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4A31B6-A10F-4844-8BEC-FF5051449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588E81-A0AF-4675-BA58-AD9B99E57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92F133-5DC8-4DC9-9FA2-61A2ADFA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283CC6-26CA-4F40-B88E-E791A513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B29ECA-D327-48C5-BEDA-48EE72DA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366FD-7F2E-4A91-BD2F-4225E42C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2B09B6-8692-40F0-B6AA-91FD93D2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197522-34EA-4F6E-AE43-CB4EEB397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AB3F5C-32F4-4C11-B2DB-EE9759FBA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7BBD6C-A7A7-49FF-A8D9-4A9CBFB2B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5B94F1-C29D-45A8-8A01-44BF13A75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F4F633-B461-4D07-AC02-1BA650624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53D8CD-2186-4CB0-A258-43DF55952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5EA369-548A-4880-A8A5-0A0CD18CB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D10EF3-E600-4C2C-805F-112D0CF01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D9AFAB-E4A1-49E3-A602-EFB7F61F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EA1E-1E17-47DD-8E4F-CEC68A73D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52907-5227-44E3-B54B-E42ADBD2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5EE20E-826B-4EF9-A6A8-EB5DAD83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2CC6E6-9B97-45C4-822C-ABBD6D4C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3892E5-B0CF-489F-BFAD-5FCA27795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F041CD-1D5B-4D41-8CFD-8A3CA9107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93E76C-9544-4A1E-8067-E5503CDA4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9A5107-3FF5-4638-9BB4-2EC4F1701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3B19BF-0927-4CC6-8DB9-55B0F2D14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FB0973-1300-4EC0-B720-8268B9B82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318EE0-03DD-4892-855B-E9617E9E1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DEC6B9-FACF-41B8-8373-C9CB46D78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46F04-CD3E-4A64-BB38-0897F240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C8F4FB-72AC-4F66-998E-5959043B8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7C8340-F992-473A-A6AB-3713B1D8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8BE1A8-466D-4D89-BD2B-6C38AAF1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64774A-FC7B-47FF-9206-50E62C86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B508EA-A6D6-4D55-A651-536EC6ACE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9FE41A-6ABB-4A2F-9D7F-3DD842C21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5564F9-79CA-4D12-82AF-B5F8B4DB1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5916E7-8B72-4870-94F7-5156B98A1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48DF41-4EF9-4685-A9A7-A94E83D2E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F22FA5-EC4A-4926-8F4D-B33BD4A56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E755D-138E-4CD9-9FD2-4157CEAFE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74E5AB-C8D6-444C-AC1C-24A21DE31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20AFCB-57EF-4E4A-9608-85504AA46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4485CD-7C88-41C9-95FA-9E94E962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28C950-6A3B-4C09-AF17-CFD013DE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0BBC99-EFC2-4226-98F4-7589140E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004270-C297-49A3-8963-0BAA56D6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C16BDE-3B42-46A2-A074-7F36F1AFE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379813-C5EE-4706-BD79-2099A2F3E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8BFF20-F249-4603-A87B-3585A11F9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4C987F-B89A-4C1B-AC95-8E7ACD328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B8DD2-843E-4B59-9264-2F8B84511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9C98AD-3F48-4001-A738-2A2474610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F8E1ED-9E4C-4B1E-92AE-8282998A1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F34CFD-C928-441A-9409-6015E2BEA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B74E38-97EF-4108-B245-C6D8B7E5C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810E46-9709-4756-8D91-C9EFB0C5A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BC0A5D-BD15-47A6-89C5-40607B1C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A066AE-4C0C-46DA-927B-53293CD9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8DE331-F122-4005-BAD3-61D8185F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7DF93F-7858-4E2B-AB23-73B6837B6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1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576BC6-4CD8-424E-8009-F2A8C5B7A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17668-4904-4DC8-9FBE-736C06E1F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869F28-582D-4783-BEAD-26C8CB8FF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452D8-0CE2-4646-9F68-7F892E810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C16C1-E9BC-4CCA-AAB0-CADB62887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2ABA9-A71B-442B-BD2B-7E044C162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C94AF-0937-448E-A138-B1338C47C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22883-8AFD-40BD-ACFF-D2516FBB8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4732-3A1E-45A6-AD72-A304F4CEF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C335D-11D7-427E-B05B-D3A61F559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ECE3E-9097-4644-8862-87426E7C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70734-3FBB-4453-9A1D-07D474FE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F48FF-21AE-4AB4-8789-012C3569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5E426-3A75-42AE-9DEF-4437D9E27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D8475-4B6B-4E48-AEED-E551C2FE7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0E990-D6BA-4E51-9B27-FDCCACA97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76E2C-0DBD-401B-B1AB-D7D0DF6DB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66E62-307E-415D-8A8D-D1106A59F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0B1CC-9451-417E-BE4A-6F6B95D48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7DD4-8F1B-4874-8CEA-ED4755B1F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5AA7E-6524-4DF6-963F-633F33388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4AB4F-53F9-4F26-A829-B29387D87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C8A14-3C81-40FB-917D-CA7F7B0A9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A86E0-ADEB-4F29-88A7-7A2254CA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1A58F-58F4-48E9-B695-30084C33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B9D39-4906-480C-87BF-69B133E1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C1E3E-7300-4E3B-9C4B-1374C1B8C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8AA1C-BADE-4669-A1D0-E9D566D4C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714AE-E862-46E4-AC04-B9A3F3F14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93A23-5F67-4321-BFDB-D1463211B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C3B9-5EB4-4E4E-9DD3-7D849F363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98FF2-1A5B-483A-9C4F-0B37F2418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D923F-02B3-4023-8670-43A70FFB9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B5BA0-D78B-4044-B186-E11C969E2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90556-6E2B-435D-9D75-79AB33BB5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62589-F588-422F-9E27-7007EDA02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0E431-B645-409A-B376-22E62170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BF56D-1AC8-4631-A774-B389787D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88E15-CAA1-41FB-889D-16BB6693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13BE4-B081-495E-B8D5-F0F158AA3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3220A-5C15-4F25-BFA9-8674DE629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5CFE-BDD7-4F08-995B-65F2AF63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76407-5A0F-4430-BF59-8853667FC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5E80D-7A5E-4811-87DF-D71C29D46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69136-B281-445F-86EB-A32FD1C04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5B0887-B15F-443E-A2D3-ADEDA9948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7947A-B647-4D4E-9CD1-F97CFB248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5C043E-1573-4D5F-AF82-2E785ECCC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22033-341E-47F8-8192-AA2075BDE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0F9EA-5850-4118-B02F-A7A8F734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F7766-E505-4703-AA56-065F0186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BD64F-2CCD-41C1-A71F-B680D188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64FC-A411-47E2-BC5E-5C92F3A9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0BF71-895B-453B-9B02-DC4417E90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141F45-A4AD-46C8-85BC-43280993D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A3E2A-498A-4835-8853-BFD0B2E14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36F6B4-BE81-48A6-A04E-391ACBCD9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9639C0-137E-4688-A736-88B5B5726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4051B-F459-4B64-8213-1EFBFADF2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BF82A1-98BC-46D2-8A10-5F6747C7E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E6ADC-7337-41C3-8F69-D7173E89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73A01-58F8-4445-A3E0-B4832EC6E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71AF4-71B5-4266-A636-9F83E2B1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9B81-49BC-4C35-BB16-807C1D34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6397C7-058C-4245-8B61-3F9FE901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D7BA2-26E8-4935-8675-52447F8E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56C177-532F-40B1-B5A8-DC1E2CC4B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6D9D0-9BC0-44B5-9F22-7312049C9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B2EF35-2B60-48D9-8D8D-604B48BD2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B467A-F343-47AF-8573-B9896FDA6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B5BD69-4CA6-487D-887F-9663F30B4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344582-E731-4722-86B2-C2E60860E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AFA882-AC94-423F-8541-05E1497C5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98C6E6-5DB9-417B-A923-CE9333C80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6156-F746-45D1-BC6F-F7996A1B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73A56D-8D7D-42E9-91C9-1E57EBEE5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9F65F5-2F93-48E4-BDA4-231D0BE0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0542D5-54ED-4756-BDF0-B18B2D1C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5F661-A8B9-4EED-BB12-8B621BE7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DE4A70-DFD9-4C20-8B64-4D080E30C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A75D8-991C-452F-A462-BAE474809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594727-3804-4C78-85DF-1F80DF575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D297CF-9CCF-4A73-8B52-2666B2DF3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E6F84E-47D2-4783-8B76-23A46AF88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BBECF4-7097-4475-A4AC-BF852D9A8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FD87-3180-492C-B1F1-C48FCCB6545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" name="Рисунок 6" descr="colour-pencils.jpg"/>
          <p:cNvPicPr/>
          <p:nvPr/>
        </p:nvPicPr>
        <p:blipFill>
          <a:blip r:embed="rId3"/>
          <a:srcRect l="0" t="50004" r="6501" b="19802"/>
          <a:stretch/>
        </p:blipFill>
        <p:spPr>
          <a:xfrm>
            <a:off x="0" y="6215040"/>
            <a:ext cx="5143680" cy="642960"/>
          </a:xfrm>
          <a:prstGeom prst="rect">
            <a:avLst/>
          </a:prstGeom>
          <a:ln w="0">
            <a:noFill/>
          </a:ln>
        </p:spPr>
      </p:pic>
      <p:pic>
        <p:nvPicPr>
          <p:cNvPr id="33" name="Рисунок 7" descr="colour-pencils.jpg"/>
          <p:cNvPicPr/>
          <p:nvPr/>
        </p:nvPicPr>
        <p:blipFill>
          <a:blip r:embed="rId4"/>
          <a:srcRect l="34001" t="50004" r="1368" b="19802"/>
          <a:stretch/>
        </p:blipFill>
        <p:spPr>
          <a:xfrm>
            <a:off x="5214960" y="6215040"/>
            <a:ext cx="3929040" cy="642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4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5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Рисунок 6" descr="colour-pencils.jpg"/>
          <p:cNvPicPr/>
          <p:nvPr/>
        </p:nvPicPr>
        <p:blipFill>
          <a:blip r:embed="rId3"/>
          <a:srcRect l="0" t="50004" r="6501" b="19802"/>
          <a:stretch/>
        </p:blipFill>
        <p:spPr>
          <a:xfrm>
            <a:off x="0" y="6215040"/>
            <a:ext cx="5143680" cy="642960"/>
          </a:xfrm>
          <a:prstGeom prst="rect">
            <a:avLst/>
          </a:prstGeom>
          <a:ln w="0">
            <a:noFill/>
          </a:ln>
        </p:spPr>
      </p:pic>
      <p:pic>
        <p:nvPicPr>
          <p:cNvPr id="669" name="Рисунок 7" descr="colour-pencils.jpg"/>
          <p:cNvPicPr/>
          <p:nvPr/>
        </p:nvPicPr>
        <p:blipFill>
          <a:blip r:embed="rId4"/>
          <a:srcRect l="34001" t="50004" r="1368" b="19802"/>
          <a:stretch/>
        </p:blipFill>
        <p:spPr>
          <a:xfrm>
            <a:off x="5214960" y="6215040"/>
            <a:ext cx="3929040" cy="642960"/>
          </a:xfrm>
          <a:prstGeom prst="rect">
            <a:avLst/>
          </a:prstGeom>
          <a:ln w="0">
            <a:noFill/>
          </a:ln>
        </p:spPr>
      </p:pic>
      <p:sp>
        <p:nvSpPr>
          <p:cNvPr id="670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C095E-807D-4FA7-A348-3D0ECA5985D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1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2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9" name="Рисунок 6" descr="colour-pencils.jpg"/>
          <p:cNvPicPr/>
          <p:nvPr/>
        </p:nvPicPr>
        <p:blipFill>
          <a:blip r:embed="rId3"/>
          <a:srcRect l="0" t="50004" r="6501" b="19802"/>
          <a:stretch/>
        </p:blipFill>
        <p:spPr>
          <a:xfrm>
            <a:off x="0" y="6215040"/>
            <a:ext cx="5143680" cy="642960"/>
          </a:xfrm>
          <a:prstGeom prst="rect">
            <a:avLst/>
          </a:prstGeom>
          <a:ln w="0">
            <a:noFill/>
          </a:ln>
        </p:spPr>
      </p:pic>
      <p:pic>
        <p:nvPicPr>
          <p:cNvPr id="740" name="Рисунок 7" descr="colour-pencils.jpg"/>
          <p:cNvPicPr/>
          <p:nvPr/>
        </p:nvPicPr>
        <p:blipFill>
          <a:blip r:embed="rId4"/>
          <a:srcRect l="34001" t="50004" r="1368" b="19802"/>
          <a:stretch/>
        </p:blipFill>
        <p:spPr>
          <a:xfrm>
            <a:off x="5214960" y="6215040"/>
            <a:ext cx="3929040" cy="642960"/>
          </a:xfrm>
          <a:prstGeom prst="rect">
            <a:avLst/>
          </a:prstGeom>
          <a:ln w="0">
            <a:noFill/>
          </a:ln>
        </p:spPr>
      </p:pic>
      <p:sp>
        <p:nvSpPr>
          <p:cNvPr id="741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>
              <a:gd name="textAreaLeft" fmla="*/ 0 w 1359000"/>
              <a:gd name="textAreaRight" fmla="*/ 1359360 w 1359000"/>
              <a:gd name="textAreaTop" fmla="*/ 360 h 508320"/>
              <a:gd name="textAreaBottom" fmla="*/ 509040 h 50832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D623C-C533-44F3-A443-5F38C981D74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8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9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0" name="Рисунок 6" descr="colour-pencils.jpg"/>
          <p:cNvPicPr/>
          <p:nvPr/>
        </p:nvPicPr>
        <p:blipFill>
          <a:blip r:embed="rId3"/>
          <a:srcRect l="0" t="50004" r="6501" b="19802"/>
          <a:stretch/>
        </p:blipFill>
        <p:spPr>
          <a:xfrm>
            <a:off x="0" y="6215040"/>
            <a:ext cx="5143680" cy="642960"/>
          </a:xfrm>
          <a:prstGeom prst="rect">
            <a:avLst/>
          </a:prstGeom>
          <a:ln w="0">
            <a:noFill/>
          </a:ln>
        </p:spPr>
      </p:pic>
      <p:pic>
        <p:nvPicPr>
          <p:cNvPr id="811" name="Рисунок 7" descr="colour-pencils.jpg"/>
          <p:cNvPicPr/>
          <p:nvPr/>
        </p:nvPicPr>
        <p:blipFill>
          <a:blip r:embed="rId4"/>
          <a:srcRect l="34001" t="50004" r="1368" b="19802"/>
          <a:stretch/>
        </p:blipFill>
        <p:spPr>
          <a:xfrm>
            <a:off x="5214960" y="6215040"/>
            <a:ext cx="3929040" cy="642960"/>
          </a:xfrm>
          <a:prstGeom prst="rect">
            <a:avLst/>
          </a:prstGeom>
          <a:ln w="0">
            <a:noFill/>
          </a:ln>
        </p:spPr>
      </p:pic>
      <p:sp>
        <p:nvSpPr>
          <p:cNvPr id="812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>
              <a:gd name="textAreaLeft" fmla="*/ 0 w 1359000"/>
              <a:gd name="textAreaRight" fmla="*/ 1359360 w 1359000"/>
              <a:gd name="textAreaTop" fmla="*/ 360 h 508320"/>
              <a:gd name="textAreaBottom" fmla="*/ 509040 h 50832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Box 63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Box 64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2A5F1-9F2C-49B6-9E8A-9076516E782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5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7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3" name="Рисунок 6" descr="colour-pencils.jpg"/>
          <p:cNvPicPr/>
          <p:nvPr/>
        </p:nvPicPr>
        <p:blipFill>
          <a:blip r:embed="rId3"/>
          <a:srcRect l="0" t="50004" r="6501" b="19802"/>
          <a:stretch/>
        </p:blipFill>
        <p:spPr>
          <a:xfrm>
            <a:off x="0" y="6215040"/>
            <a:ext cx="5143680" cy="642960"/>
          </a:xfrm>
          <a:prstGeom prst="rect">
            <a:avLst/>
          </a:prstGeom>
          <a:ln w="0">
            <a:noFill/>
          </a:ln>
        </p:spPr>
      </p:pic>
      <p:pic>
        <p:nvPicPr>
          <p:cNvPr id="884" name="Рисунок 7" descr="colour-pencils.jpg"/>
          <p:cNvPicPr/>
          <p:nvPr/>
        </p:nvPicPr>
        <p:blipFill>
          <a:blip r:embed="rId4"/>
          <a:srcRect l="34001" t="50004" r="1368" b="19802"/>
          <a:stretch/>
        </p:blipFill>
        <p:spPr>
          <a:xfrm>
            <a:off x="5214960" y="6215040"/>
            <a:ext cx="3929040" cy="642960"/>
          </a:xfrm>
          <a:prstGeom prst="rect">
            <a:avLst/>
          </a:prstGeom>
          <a:ln w="0">
            <a:noFill/>
          </a:ln>
        </p:spPr>
      </p:pic>
      <p:sp>
        <p:nvSpPr>
          <p:cNvPr id="88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34C02-0622-4753-A04A-192B3D85534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2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4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4" name="Рисунок 6" descr="colour-pencils.jpg"/>
          <p:cNvPicPr/>
          <p:nvPr/>
        </p:nvPicPr>
        <p:blipFill>
          <a:blip r:embed="rId3"/>
          <a:srcRect l="0" t="50004" r="6501" b="19802"/>
          <a:stretch/>
        </p:blipFill>
        <p:spPr>
          <a:xfrm>
            <a:off x="0" y="6215040"/>
            <a:ext cx="5143680" cy="642960"/>
          </a:xfrm>
          <a:prstGeom prst="rect">
            <a:avLst/>
          </a:prstGeom>
          <a:ln w="0">
            <a:noFill/>
          </a:ln>
        </p:spPr>
      </p:pic>
      <p:pic>
        <p:nvPicPr>
          <p:cNvPr id="955" name="Рисунок 7" descr="colour-pencils.jpg"/>
          <p:cNvPicPr/>
          <p:nvPr/>
        </p:nvPicPr>
        <p:blipFill>
          <a:blip r:embed="rId4"/>
          <a:srcRect l="34001" t="50004" r="1368" b="19802"/>
          <a:stretch/>
        </p:blipFill>
        <p:spPr>
          <a:xfrm>
            <a:off x="5214960" y="6215040"/>
            <a:ext cx="3929040" cy="642960"/>
          </a:xfrm>
          <a:prstGeom prst="rect">
            <a:avLst/>
          </a:prstGeom>
          <a:ln w="0">
            <a:noFill/>
          </a:ln>
        </p:spPr>
      </p:pic>
      <p:sp>
        <p:nvSpPr>
          <p:cNvPr id="9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Box 63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Box 64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318BC-7C09-4D41-AB50-06C7C5CA0ED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0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7" name="Рисунок 6" descr="colour-pencils.jpg"/>
          <p:cNvPicPr/>
          <p:nvPr/>
        </p:nvPicPr>
        <p:blipFill>
          <a:blip r:embed="rId3"/>
          <a:srcRect l="0" t="50004" r="6501" b="19802"/>
          <a:stretch/>
        </p:blipFill>
        <p:spPr>
          <a:xfrm>
            <a:off x="0" y="6215040"/>
            <a:ext cx="5143680" cy="642960"/>
          </a:xfrm>
          <a:prstGeom prst="rect">
            <a:avLst/>
          </a:prstGeom>
          <a:ln w="0">
            <a:noFill/>
          </a:ln>
        </p:spPr>
      </p:pic>
      <p:pic>
        <p:nvPicPr>
          <p:cNvPr id="1028" name="Рисунок 7" descr="colour-pencils.jpg"/>
          <p:cNvPicPr/>
          <p:nvPr/>
        </p:nvPicPr>
        <p:blipFill>
          <a:blip r:embed="rId4"/>
          <a:srcRect l="34001" t="50004" r="1368" b="19802"/>
          <a:stretch/>
        </p:blipFill>
        <p:spPr>
          <a:xfrm>
            <a:off x="5214960" y="6215040"/>
            <a:ext cx="3929040" cy="642960"/>
          </a:xfrm>
          <a:prstGeom prst="rect">
            <a:avLst/>
          </a:prstGeom>
          <a:ln w="0">
            <a:noFill/>
          </a:ln>
        </p:spPr>
      </p:pic>
      <p:sp>
        <p:nvSpPr>
          <p:cNvPr id="1029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BB8F7-31D4-4675-B38B-CCF75021E46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7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8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8" name="Рисунок 6" descr="colour-pencils.jpg"/>
          <p:cNvPicPr/>
          <p:nvPr/>
        </p:nvPicPr>
        <p:blipFill>
          <a:blip r:embed="rId3"/>
          <a:srcRect l="0" t="50004" r="6501" b="19802"/>
          <a:stretch/>
        </p:blipFill>
        <p:spPr>
          <a:xfrm>
            <a:off x="0" y="6215040"/>
            <a:ext cx="5143680" cy="642960"/>
          </a:xfrm>
          <a:prstGeom prst="rect">
            <a:avLst/>
          </a:prstGeom>
          <a:ln w="0">
            <a:noFill/>
          </a:ln>
        </p:spPr>
      </p:pic>
      <p:pic>
        <p:nvPicPr>
          <p:cNvPr id="1099" name="Рисунок 7" descr="colour-pencils.jpg"/>
          <p:cNvPicPr/>
          <p:nvPr/>
        </p:nvPicPr>
        <p:blipFill>
          <a:blip r:embed="rId4"/>
          <a:srcRect l="34001" t="50004" r="1368" b="19802"/>
          <a:stretch/>
        </p:blipFill>
        <p:spPr>
          <a:xfrm>
            <a:off x="5214960" y="6215040"/>
            <a:ext cx="3929040" cy="642960"/>
          </a:xfrm>
          <a:prstGeom prst="rect">
            <a:avLst/>
          </a:prstGeom>
          <a:ln w="0">
            <a:noFill/>
          </a:ln>
        </p:spPr>
      </p:pic>
      <p:sp>
        <p:nvSpPr>
          <p:cNvPr id="110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D7A6F-DC8F-4751-9175-FAEC4A5928E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4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5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9" name="Рисунок 6" descr="colour-pencils.jpg"/>
          <p:cNvPicPr/>
          <p:nvPr/>
        </p:nvPicPr>
        <p:blipFill>
          <a:blip r:embed="rId3"/>
          <a:srcRect l="0" t="50004" r="6501" b="19802"/>
          <a:stretch/>
        </p:blipFill>
        <p:spPr>
          <a:xfrm>
            <a:off x="0" y="6215040"/>
            <a:ext cx="5143680" cy="642960"/>
          </a:xfrm>
          <a:prstGeom prst="rect">
            <a:avLst/>
          </a:prstGeom>
          <a:ln w="0">
            <a:noFill/>
          </a:ln>
        </p:spPr>
      </p:pic>
      <p:pic>
        <p:nvPicPr>
          <p:cNvPr id="1170" name="Рисунок 7" descr="colour-pencils.jpg"/>
          <p:cNvPicPr/>
          <p:nvPr/>
        </p:nvPicPr>
        <p:blipFill>
          <a:blip r:embed="rId4"/>
          <a:srcRect l="34001" t="50004" r="1368" b="19802"/>
          <a:stretch/>
        </p:blipFill>
        <p:spPr>
          <a:xfrm>
            <a:off x="5214960" y="6215040"/>
            <a:ext cx="3929040" cy="642960"/>
          </a:xfrm>
          <a:prstGeom prst="rect">
            <a:avLst/>
          </a:prstGeom>
          <a:ln w="0">
            <a:noFill/>
          </a:ln>
        </p:spPr>
      </p:pic>
      <p:sp>
        <p:nvSpPr>
          <p:cNvPr id="11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41CDA-9309-4670-88CF-4DE7C3196CA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2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2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0" name="Рисунок 6" descr="colour-pencils.jpg"/>
          <p:cNvPicPr/>
          <p:nvPr/>
        </p:nvPicPr>
        <p:blipFill>
          <a:blip r:embed="rId3"/>
          <a:srcRect l="0" t="50004" r="6501" b="19802"/>
          <a:stretch/>
        </p:blipFill>
        <p:spPr>
          <a:xfrm>
            <a:off x="0" y="6215040"/>
            <a:ext cx="5143680" cy="642960"/>
          </a:xfrm>
          <a:prstGeom prst="rect">
            <a:avLst/>
          </a:prstGeom>
          <a:ln w="0">
            <a:noFill/>
          </a:ln>
        </p:spPr>
      </p:pic>
      <p:pic>
        <p:nvPicPr>
          <p:cNvPr id="1241" name="Рисунок 7" descr="colour-pencils.jpg"/>
          <p:cNvPicPr/>
          <p:nvPr/>
        </p:nvPicPr>
        <p:blipFill>
          <a:blip r:embed="rId4"/>
          <a:srcRect l="34001" t="50004" r="1368" b="19802"/>
          <a:stretch/>
        </p:blipFill>
        <p:spPr>
          <a:xfrm>
            <a:off x="5214960" y="6215040"/>
            <a:ext cx="3929040" cy="642960"/>
          </a:xfrm>
          <a:prstGeom prst="rect">
            <a:avLst/>
          </a:prstGeom>
          <a:ln w="0">
            <a:noFill/>
          </a:ln>
        </p:spPr>
      </p:pic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 type="dt" idx="5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 type="ftr" idx="5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5"/>
          <p:cNvSpPr>
            <a:spLocks noGrp="1"/>
          </p:cNvSpPr>
          <p:nvPr>
            <p:ph type="sldNum" idx="5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9A7BB-3A3D-42DB-B49D-6D25F08FE87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28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29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0" name="Рисунок 6" descr="colour-pencils.jpg"/>
          <p:cNvPicPr/>
          <p:nvPr/>
        </p:nvPicPr>
        <p:blipFill>
          <a:blip r:embed="rId3"/>
          <a:srcRect l="0" t="50004" r="6501" b="19802"/>
          <a:stretch/>
        </p:blipFill>
        <p:spPr>
          <a:xfrm>
            <a:off x="0" y="6215040"/>
            <a:ext cx="5143680" cy="642960"/>
          </a:xfrm>
          <a:prstGeom prst="rect">
            <a:avLst/>
          </a:prstGeom>
          <a:ln w="0">
            <a:noFill/>
          </a:ln>
        </p:spPr>
      </p:pic>
      <p:pic>
        <p:nvPicPr>
          <p:cNvPr id="1311" name="Рисунок 7" descr="colour-pencils.jpg"/>
          <p:cNvPicPr/>
          <p:nvPr/>
        </p:nvPicPr>
        <p:blipFill>
          <a:blip r:embed="rId4"/>
          <a:srcRect l="34001" t="50004" r="1368" b="19802"/>
          <a:stretch/>
        </p:blipFill>
        <p:spPr>
          <a:xfrm>
            <a:off x="5214960" y="6215040"/>
            <a:ext cx="3929040" cy="642960"/>
          </a:xfrm>
          <a:prstGeom prst="rect">
            <a:avLst/>
          </a:prstGeom>
          <a:ln w="0">
            <a:noFill/>
          </a:ln>
        </p:spPr>
      </p:pic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5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5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5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D0004-8EE8-4A11-ABEA-CD19E99552E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6" descr="colour-pencils.jpg"/>
          <p:cNvPicPr/>
          <p:nvPr/>
        </p:nvPicPr>
        <p:blipFill>
          <a:blip r:embed="rId3"/>
          <a:srcRect l="0" t="50004" r="6501" b="19802"/>
          <a:stretch/>
        </p:blipFill>
        <p:spPr>
          <a:xfrm>
            <a:off x="0" y="6215040"/>
            <a:ext cx="5143680" cy="64296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7" descr="colour-pencils.jpg"/>
          <p:cNvPicPr/>
          <p:nvPr/>
        </p:nvPicPr>
        <p:blipFill>
          <a:blip r:embed="rId4"/>
          <a:srcRect l="34001" t="50004" r="1368" b="19802"/>
          <a:stretch/>
        </p:blipFill>
        <p:spPr>
          <a:xfrm>
            <a:off x="5214960" y="6215040"/>
            <a:ext cx="3929040" cy="642960"/>
          </a:xfrm>
          <a:prstGeom prst="rect">
            <a:avLst/>
          </a:prstGeom>
          <a:ln w="0">
            <a:noFill/>
          </a:ln>
        </p:spPr>
      </p:pic>
      <p:sp>
        <p:nvSpPr>
          <p:cNvPr id="99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>
              <a:gd name="textAreaLeft" fmla="*/ 0 w 1395360"/>
              <a:gd name="textAreaRight" fmla="*/ 1395720 w 1395360"/>
              <a:gd name="textAreaTop" fmla="*/ 0 h 781200"/>
              <a:gd name="textAreaBottom" fmla="*/ 781560 h 781200"/>
            </a:gdLst>
            <a:ahLst/>
            <a:rect l="textAreaLeft" t="textAreaTop" r="textAreaRight" b="textAreaBottom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9" descr="colour-pencils.jpg"/>
          <p:cNvPicPr/>
          <p:nvPr/>
        </p:nvPicPr>
        <p:blipFill>
          <a:blip r:embed="rId5"/>
          <a:stretch/>
        </p:blipFill>
        <p:spPr>
          <a:xfrm>
            <a:off x="1238400" y="4065480"/>
            <a:ext cx="6626160" cy="144000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8" descr="colour-pencils.jpg"/>
          <p:cNvPicPr/>
          <p:nvPr/>
        </p:nvPicPr>
        <p:blipFill>
          <a:blip r:embed="rId6"/>
          <a:srcRect l="0" t="0" r="0" b="76850"/>
          <a:stretch/>
        </p:blipFill>
        <p:spPr>
          <a:xfrm>
            <a:off x="714240" y="2143080"/>
            <a:ext cx="7858440" cy="162720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7" descr="bordur-deti.jpg"/>
          <p:cNvPicPr/>
          <p:nvPr/>
        </p:nvPicPr>
        <p:blipFill>
          <a:blip r:embed="rId7"/>
          <a:stretch/>
        </p:blipFill>
        <p:spPr>
          <a:xfrm>
            <a:off x="0" y="39600"/>
            <a:ext cx="9144000" cy="21751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D76BF-8630-4F9E-A4BD-49BA845F14A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5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36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0" name="Рисунок 6" descr="colour-pencils.jpg"/>
          <p:cNvPicPr/>
          <p:nvPr/>
        </p:nvPicPr>
        <p:blipFill>
          <a:blip r:embed="rId3"/>
          <a:srcRect l="0" t="50004" r="6501" b="19802"/>
          <a:stretch/>
        </p:blipFill>
        <p:spPr>
          <a:xfrm>
            <a:off x="0" y="6215040"/>
            <a:ext cx="5143680" cy="642960"/>
          </a:xfrm>
          <a:prstGeom prst="rect">
            <a:avLst/>
          </a:prstGeom>
          <a:ln w="0">
            <a:noFill/>
          </a:ln>
        </p:spPr>
      </p:pic>
      <p:pic>
        <p:nvPicPr>
          <p:cNvPr id="1381" name="Рисунок 7" descr="colour-pencils.jpg"/>
          <p:cNvPicPr/>
          <p:nvPr/>
        </p:nvPicPr>
        <p:blipFill>
          <a:blip r:embed="rId4"/>
          <a:srcRect l="34001" t="50004" r="1368" b="19802"/>
          <a:stretch/>
        </p:blipFill>
        <p:spPr>
          <a:xfrm>
            <a:off x="5214960" y="6215040"/>
            <a:ext cx="3929040" cy="642960"/>
          </a:xfrm>
          <a:prstGeom prst="rect">
            <a:avLst/>
          </a:prstGeom>
          <a:ln w="0">
            <a:noFill/>
          </a:ln>
        </p:spPr>
      </p:pic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 type="dt" idx="5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 type="ftr" idx="5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 type="sldNum" idx="6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73C42-9A98-421E-9B85-636F5F496DA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Рисунок 6" descr="colour-pencils.jpg"/>
          <p:cNvPicPr/>
          <p:nvPr/>
        </p:nvPicPr>
        <p:blipFill>
          <a:blip r:embed="rId3"/>
          <a:srcRect l="0" t="50004" r="6501" b="19802"/>
          <a:stretch/>
        </p:blipFill>
        <p:spPr>
          <a:xfrm>
            <a:off x="0" y="6215040"/>
            <a:ext cx="5143680" cy="64296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7" descr="colour-pencils.jpg"/>
          <p:cNvPicPr/>
          <p:nvPr/>
        </p:nvPicPr>
        <p:blipFill>
          <a:blip r:embed="rId4"/>
          <a:srcRect l="34001" t="50004" r="1368" b="19802"/>
          <a:stretch/>
        </p:blipFill>
        <p:spPr>
          <a:xfrm>
            <a:off x="5214960" y="6215040"/>
            <a:ext cx="3929040" cy="642960"/>
          </a:xfrm>
          <a:prstGeom prst="rect">
            <a:avLst/>
          </a:prstGeom>
          <a:ln w="0">
            <a:noFill/>
          </a:ln>
        </p:spPr>
      </p:pic>
      <p:sp>
        <p:nvSpPr>
          <p:cNvPr id="173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9C833-6B69-47D4-B0E6-EE26E9EFE1D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1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Рисунок 6" descr="colour-pencils.jpg"/>
          <p:cNvPicPr/>
          <p:nvPr/>
        </p:nvPicPr>
        <p:blipFill>
          <a:blip r:embed="rId3"/>
          <a:srcRect l="0" t="50004" r="6501" b="19802"/>
          <a:stretch/>
        </p:blipFill>
        <p:spPr>
          <a:xfrm>
            <a:off x="0" y="6215040"/>
            <a:ext cx="5143680" cy="64296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7" descr="colour-pencils.jpg"/>
          <p:cNvPicPr/>
          <p:nvPr/>
        </p:nvPicPr>
        <p:blipFill>
          <a:blip r:embed="rId4"/>
          <a:srcRect l="34001" t="50004" r="1368" b="19802"/>
          <a:stretch/>
        </p:blipFill>
        <p:spPr>
          <a:xfrm>
            <a:off x="5214960" y="6215040"/>
            <a:ext cx="3929040" cy="642960"/>
          </a:xfrm>
          <a:prstGeom prst="rect">
            <a:avLst/>
          </a:prstGeom>
          <a:ln w="0">
            <a:noFill/>
          </a:ln>
        </p:spPr>
      </p:pic>
      <p:sp>
        <p:nvSpPr>
          <p:cNvPr id="244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>
              <a:gd name="textAreaLeft" fmla="*/ 0 w 1359000"/>
              <a:gd name="textAreaRight" fmla="*/ 1359360 w 1359000"/>
              <a:gd name="textAreaTop" fmla="*/ 360 h 508320"/>
              <a:gd name="textAreaBottom" fmla="*/ 509040 h 50832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BCF53-0B9E-4DEA-A1F8-E3C624D8176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8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0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Рисунок 6" descr="colour-pencils.jpg"/>
          <p:cNvPicPr/>
          <p:nvPr/>
        </p:nvPicPr>
        <p:blipFill>
          <a:blip r:embed="rId3"/>
          <a:srcRect l="0" t="50004" r="6501" b="19802"/>
          <a:stretch/>
        </p:blipFill>
        <p:spPr>
          <a:xfrm>
            <a:off x="0" y="6215040"/>
            <a:ext cx="5143680" cy="642960"/>
          </a:xfrm>
          <a:prstGeom prst="rect">
            <a:avLst/>
          </a:prstGeom>
          <a:ln w="0">
            <a:noFill/>
          </a:ln>
        </p:spPr>
      </p:pic>
      <p:pic>
        <p:nvPicPr>
          <p:cNvPr id="314" name="Рисунок 7" descr="colour-pencils.jpg"/>
          <p:cNvPicPr/>
          <p:nvPr/>
        </p:nvPicPr>
        <p:blipFill>
          <a:blip r:embed="rId4"/>
          <a:srcRect l="34001" t="50004" r="1368" b="19802"/>
          <a:stretch/>
        </p:blipFill>
        <p:spPr>
          <a:xfrm>
            <a:off x="5214960" y="6215040"/>
            <a:ext cx="3929040" cy="642960"/>
          </a:xfrm>
          <a:prstGeom prst="rect">
            <a:avLst/>
          </a:prstGeom>
          <a:ln w="0">
            <a:noFill/>
          </a:ln>
        </p:spPr>
      </p:pic>
      <p:sp>
        <p:nvSpPr>
          <p:cNvPr id="31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6AAE2-A7A2-424F-B27C-D55D686C62D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5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7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Рисунок 6" descr="colour-pencils.jpg"/>
          <p:cNvPicPr/>
          <p:nvPr/>
        </p:nvPicPr>
        <p:blipFill>
          <a:blip r:embed="rId3"/>
          <a:srcRect l="0" t="50004" r="6501" b="19802"/>
          <a:stretch/>
        </p:blipFill>
        <p:spPr>
          <a:xfrm>
            <a:off x="0" y="6215040"/>
            <a:ext cx="5143680" cy="642960"/>
          </a:xfrm>
          <a:prstGeom prst="rect">
            <a:avLst/>
          </a:prstGeom>
          <a:ln w="0">
            <a:noFill/>
          </a:ln>
        </p:spPr>
      </p:pic>
      <p:pic>
        <p:nvPicPr>
          <p:cNvPr id="385" name="Рисунок 7" descr="colour-pencils.jpg"/>
          <p:cNvPicPr/>
          <p:nvPr/>
        </p:nvPicPr>
        <p:blipFill>
          <a:blip r:embed="rId4"/>
          <a:srcRect l="34001" t="50004" r="1368" b="19802"/>
          <a:stretch/>
        </p:blipFill>
        <p:spPr>
          <a:xfrm>
            <a:off x="5214960" y="6215040"/>
            <a:ext cx="3929040" cy="642960"/>
          </a:xfrm>
          <a:prstGeom prst="rect">
            <a:avLst/>
          </a:prstGeom>
          <a:ln w="0">
            <a:noFill/>
          </a:ln>
        </p:spPr>
      </p:pic>
      <p:sp>
        <p:nvSpPr>
          <p:cNvPr id="386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C72F9-7410-4AEE-918A-EF9472155F5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2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4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Рисунок 6" descr="colour-pencils.jpg"/>
          <p:cNvPicPr/>
          <p:nvPr/>
        </p:nvPicPr>
        <p:blipFill>
          <a:blip r:embed="rId3"/>
          <a:srcRect l="0" t="50004" r="6501" b="19802"/>
          <a:stretch/>
        </p:blipFill>
        <p:spPr>
          <a:xfrm>
            <a:off x="0" y="6215040"/>
            <a:ext cx="5143680" cy="642960"/>
          </a:xfrm>
          <a:prstGeom prst="rect">
            <a:avLst/>
          </a:prstGeom>
          <a:ln w="0">
            <a:noFill/>
          </a:ln>
        </p:spPr>
      </p:pic>
      <p:pic>
        <p:nvPicPr>
          <p:cNvPr id="456" name="Рисунок 7" descr="colour-pencils.jpg"/>
          <p:cNvPicPr/>
          <p:nvPr/>
        </p:nvPicPr>
        <p:blipFill>
          <a:blip r:embed="rId4"/>
          <a:srcRect l="34001" t="50004" r="1368" b="19802"/>
          <a:stretch/>
        </p:blipFill>
        <p:spPr>
          <a:xfrm>
            <a:off x="5214960" y="6215040"/>
            <a:ext cx="3929040" cy="642960"/>
          </a:xfrm>
          <a:prstGeom prst="rect">
            <a:avLst/>
          </a:prstGeom>
          <a:ln w="0">
            <a:noFill/>
          </a:ln>
        </p:spPr>
      </p:pic>
      <p:sp>
        <p:nvSpPr>
          <p:cNvPr id="457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3BA3E-8353-4538-AA02-B610DBFB7D2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0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1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Рисунок 6" descr="colour-pencils.jpg"/>
          <p:cNvPicPr/>
          <p:nvPr/>
        </p:nvPicPr>
        <p:blipFill>
          <a:blip r:embed="rId3"/>
          <a:srcRect l="0" t="50004" r="6501" b="19802"/>
          <a:stretch/>
        </p:blipFill>
        <p:spPr>
          <a:xfrm>
            <a:off x="0" y="6215040"/>
            <a:ext cx="5143680" cy="642960"/>
          </a:xfrm>
          <a:prstGeom prst="rect">
            <a:avLst/>
          </a:prstGeom>
          <a:ln w="0">
            <a:noFill/>
          </a:ln>
        </p:spPr>
      </p:pic>
      <p:pic>
        <p:nvPicPr>
          <p:cNvPr id="527" name="Рисунок 7" descr="colour-pencils.jpg"/>
          <p:cNvPicPr/>
          <p:nvPr/>
        </p:nvPicPr>
        <p:blipFill>
          <a:blip r:embed="rId4"/>
          <a:srcRect l="34001" t="50004" r="1368" b="19802"/>
          <a:stretch/>
        </p:blipFill>
        <p:spPr>
          <a:xfrm>
            <a:off x="5214960" y="6215040"/>
            <a:ext cx="3929040" cy="642960"/>
          </a:xfrm>
          <a:prstGeom prst="rect">
            <a:avLst/>
          </a:prstGeom>
          <a:ln w="0">
            <a:noFill/>
          </a:ln>
        </p:spPr>
      </p:pic>
      <p:sp>
        <p:nvSpPr>
          <p:cNvPr id="52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F5944-18C4-4E87-8E09-6DAE94DC8B5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7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>
                <a:gd name="textAreaLeft" fmla="*/ 0 w 449280"/>
                <a:gd name="textAreaRight" fmla="*/ 449640 w 449280"/>
                <a:gd name="textAreaTop" fmla="*/ 0 h 2322360"/>
                <a:gd name="textAreaBottom" fmla="*/ 2322720 h 232236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>
                <a:gd name="textAreaLeft" fmla="*/ 0 w 423360"/>
                <a:gd name="textAreaRight" fmla="*/ 423720 w 423360"/>
                <a:gd name="textAreaTop" fmla="*/ 0 h 1420200"/>
                <a:gd name="textAreaBottom" fmla="*/ 1420200 h 142020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>
                <a:gd name="textAreaLeft" fmla="*/ 0 w 570960"/>
                <a:gd name="textAreaRight" fmla="*/ 571320 w 570960"/>
                <a:gd name="textAreaTop" fmla="*/ 0 h 3328560"/>
                <a:gd name="textAreaBottom" fmla="*/ 3328920 h 332856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27880"/>
                <a:gd name="textAreaBottom" fmla="*/ 2928240 h 292788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920"/>
                <a:gd name="textAreaBottom" fmla="*/ 1025280 h 102492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>
                <a:gd name="textAreaLeft" fmla="*/ 0 w 1442520"/>
                <a:gd name="textAreaRight" fmla="*/ 1442880 w 1442520"/>
                <a:gd name="textAreaTop" fmla="*/ 0 h 4048200"/>
                <a:gd name="textAreaBottom" fmla="*/ 4048560 h 404820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8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1360"/>
                <a:gd name="textAreaBottom" fmla="*/ 4401720 h 440136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1580760"/>
                <a:gd name="textAreaBottom" fmla="*/ 1581120 h 158076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2235960"/>
                <a:gd name="textAreaBottom" fmla="*/ 2236320 h 223596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27240"/>
                <a:gd name="textAreaBottom" fmla="*/ 3027600 h 302724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560"/>
                <a:gd name="textAreaBottom" fmla="*/ 511920 h 51156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2716920"/>
                <a:gd name="textAreaBottom" fmla="*/ 2717280 h 271692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27880"/>
                <a:gd name="textAreaBottom" fmla="*/ 228240 h 22788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530640"/>
                <a:gd name="textAreaBottom" fmla="*/ 531000 h 53064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Рисунок 6" descr="colour-pencils.jpg"/>
          <p:cNvPicPr/>
          <p:nvPr/>
        </p:nvPicPr>
        <p:blipFill>
          <a:blip r:embed="rId3"/>
          <a:srcRect l="0" t="50004" r="6501" b="19802"/>
          <a:stretch/>
        </p:blipFill>
        <p:spPr>
          <a:xfrm>
            <a:off x="0" y="6215040"/>
            <a:ext cx="5143680" cy="642960"/>
          </a:xfrm>
          <a:prstGeom prst="rect">
            <a:avLst/>
          </a:prstGeom>
          <a:ln w="0">
            <a:noFill/>
          </a:ln>
        </p:spPr>
      </p:pic>
      <p:pic>
        <p:nvPicPr>
          <p:cNvPr id="598" name="Рисунок 7" descr="colour-pencils.jpg"/>
          <p:cNvPicPr/>
          <p:nvPr/>
        </p:nvPicPr>
        <p:blipFill>
          <a:blip r:embed="rId4"/>
          <a:srcRect l="34001" t="50004" r="1368" b="19802"/>
          <a:stretch/>
        </p:blipFill>
        <p:spPr>
          <a:xfrm>
            <a:off x="5214960" y="6215040"/>
            <a:ext cx="3929040" cy="642960"/>
          </a:xfrm>
          <a:prstGeom prst="rect">
            <a:avLst/>
          </a:prstGeom>
          <a:ln w="0">
            <a:noFill/>
          </a:ln>
        </p:spPr>
      </p:pic>
      <p:sp>
        <p:nvSpPr>
          <p:cNvPr id="59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>
              <a:gd name="textAreaLeft" fmla="*/ 0 w 1359000"/>
              <a:gd name="textAreaRight" fmla="*/ 1359360 w 1359000"/>
              <a:gd name="textAreaTop" fmla="*/ -360 h 507960"/>
              <a:gd name="textAreaBottom" fmla="*/ 507960 h 50796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A00D0-5E3A-40D6-AF1D-56140CB4793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0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1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85.xml"/><Relationship Id="rId1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684000" y="1844640"/>
            <a:ext cx="5832360" cy="19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900" spc="-1" strike="noStrike">
                <a:solidFill>
                  <a:srgbClr val="262626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262626"/>
                </a:solidFill>
                <a:latin typeface="Arial"/>
              </a:rPr>
              <a:t>мастер-класс </a:t>
            </a:r>
            <a:r>
              <a:rPr b="1" lang="ru-RU" sz="3600" spc="-1" strike="noStrike">
                <a:solidFill>
                  <a:srgbClr val="262626"/>
                </a:solidFill>
                <a:latin typeface="Arial"/>
              </a:rPr>
              <a:t>«Логопедический калейдоскоп»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 type="subTitle"/>
          </p:nvPr>
        </p:nvSpPr>
        <p:spPr>
          <a:xfrm>
            <a:off x="1402920" y="4076280"/>
            <a:ext cx="45687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ель -логопед :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атышкова Татьяна Николаевна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entury Gothic"/>
              </a:rPr>
              <a:t>Игры и упражнения</a:t>
            </a:r>
            <a:br>
              <a:rPr sz="4000"/>
            </a:br>
            <a:r>
              <a:rPr b="0" lang="en-US" sz="2000" spc="-1" strike="noStrike">
                <a:solidFill>
                  <a:srgbClr val="0000cc"/>
                </a:solidFill>
                <a:latin typeface="Century Gothic"/>
              </a:rPr>
              <a:t>Различение слов, близких по звуковому составу</a:t>
            </a:r>
            <a:endParaRPr b="0" lang="en-US" sz="2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404040"/>
                </a:solidFill>
                <a:latin typeface="Century Gothic"/>
              </a:rPr>
              <a:t>Найди ошибку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Услышишь правильное название картинки хлопни в ладоши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Бамт       баман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Пант       бамам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Бант       баван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Банп       банан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1979280" y="62028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entury Gothic"/>
              </a:rPr>
              <a:t>Игры и упражнения</a:t>
            </a:r>
            <a:br>
              <a:rPr sz="4000"/>
            </a:br>
            <a:r>
              <a:rPr b="0" lang="en-US" sz="2000" spc="-1" strike="noStrike">
                <a:solidFill>
                  <a:srgbClr val="000099"/>
                </a:solidFill>
                <a:latin typeface="Century Gothic"/>
              </a:rPr>
              <a:t>Различение слов, близких по звуковому составу</a:t>
            </a:r>
            <a:endParaRPr b="0" lang="en-US" sz="2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1547640" y="1844280"/>
            <a:ext cx="6591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a53010"/>
                </a:solidFill>
                <a:latin typeface="Century Gothic"/>
              </a:rPr>
              <a:t>Запомни и повтори слова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a5301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a53010"/>
                </a:solidFill>
                <a:latin typeface="Century Gothic"/>
              </a:rPr>
              <a:t>Панамы – бананы – вагоны – диваны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a5301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a53010"/>
                </a:solidFill>
                <a:latin typeface="Century Gothic"/>
              </a:rPr>
              <a:t>Бананы – вагоны – диваны – панамы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a53010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a53010"/>
                </a:solidFill>
                <a:latin typeface="Century Gothic"/>
              </a:rPr>
              <a:t>Вагоны – диваны – панамы – бананы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entury Gothic"/>
              </a:rPr>
              <a:t>Игры и упражнения</a:t>
            </a:r>
            <a:br>
              <a:rPr sz="4000"/>
            </a:br>
            <a:r>
              <a:rPr b="0" lang="en-US" sz="2000" spc="-1" strike="noStrike">
                <a:solidFill>
                  <a:srgbClr val="0000cc"/>
                </a:solidFill>
                <a:latin typeface="Century Gothic"/>
              </a:rPr>
              <a:t>Дифференциация слогов</a:t>
            </a:r>
            <a:endParaRPr b="0" lang="en-US" sz="2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Century Gothic"/>
              </a:rPr>
              <a:t>Повтори слоги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entury Gothic"/>
              </a:rPr>
              <a:t>Па – ба – па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entury Gothic"/>
              </a:rPr>
              <a:t>Ба – па – ба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entury Gothic"/>
              </a:rPr>
              <a:t>Да – та – да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entury Gothic"/>
              </a:rPr>
              <a:t>Та – да – та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entury Gothic"/>
              </a:rPr>
              <a:t>Фа – ва – фа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entury Gothic"/>
              </a:rPr>
              <a:t>Ва – фа – ва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454" name="Picture 4" descr="SO01955_"/>
          <p:cNvPicPr/>
          <p:nvPr/>
        </p:nvPicPr>
        <p:blipFill>
          <a:blip r:embed="rId2"/>
          <a:stretch/>
        </p:blipFill>
        <p:spPr>
          <a:xfrm rot="328800">
            <a:off x="4571640" y="2349000"/>
            <a:ext cx="313380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entury Gothic"/>
              </a:rPr>
              <a:t>Игры и упражнения</a:t>
            </a:r>
            <a:br>
              <a:rPr sz="4000"/>
            </a:br>
            <a:r>
              <a:rPr b="0" lang="en-US" sz="2000" spc="-1" strike="noStrike">
                <a:solidFill>
                  <a:srgbClr val="0000cc"/>
                </a:solidFill>
                <a:latin typeface="Century Gothic"/>
              </a:rPr>
              <a:t>Дифференциация фонем</a:t>
            </a:r>
            <a:endParaRPr b="0" lang="en-US" sz="2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a53010"/>
                </a:solidFill>
                <a:latin typeface="Century Gothic"/>
              </a:rPr>
              <a:t>Дети шагают под музыку. Затем если услышат слово, начинающееся со звука /З/, они хлопают в ладоши, а если слово со звука /Ж/ - приседают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457" name="Picture 4" descr="BD07889_"/>
          <p:cNvPicPr/>
          <p:nvPr/>
        </p:nvPicPr>
        <p:blipFill>
          <a:blip r:embed="rId2"/>
          <a:stretch/>
        </p:blipFill>
        <p:spPr>
          <a:xfrm>
            <a:off x="3348000" y="386064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4"/>
          <p:cNvSpPr/>
          <p:nvPr/>
        </p:nvSpPr>
        <p:spPr>
          <a:xfrm>
            <a:off x="468360" y="3211560"/>
            <a:ext cx="8351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дагоги от родителей часто слышат такие слова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У нас стихи не запоминаются!!! Не может быстро запомнить текст, путается в строчках, переставляет слова местам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Picture 5" descr="0_ca2e5_39eb4984_orig"/>
          <p:cNvPicPr/>
          <p:nvPr/>
        </p:nvPicPr>
        <p:blipFill>
          <a:blip r:embed="rId2"/>
          <a:stretch/>
        </p:blipFill>
        <p:spPr>
          <a:xfrm>
            <a:off x="5867280" y="260280"/>
            <a:ext cx="226872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1258560" y="404640"/>
            <a:ext cx="7885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entury Gothic"/>
              </a:rPr>
              <a:t>«Учите ребёнка каким-нибудь 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Century Gothic"/>
              </a:rPr>
              <a:t>неизвестным ему словам – 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Century Gothic"/>
              </a:rPr>
              <a:t>он будет долго и напрасно мучиться, 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Century Gothic"/>
              </a:rPr>
              <a:t>но свяжите двадцать таких слов 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Century Gothic"/>
              </a:rPr>
              <a:t>с картинками и он их усвоит на лету».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Century Gothic"/>
              </a:rPr>
              <a:t>                                                                                         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Century Gothic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Century Gothic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Century Gothic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Century Gothic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Century Gothic"/>
              </a:rPr>
              <a:t>	</a:t>
            </a:r>
            <a:r>
              <a:rPr b="1" lang="ru-RU" sz="3200" spc="-1" strike="noStrike">
                <a:solidFill>
                  <a:srgbClr val="000099"/>
                </a:solidFill>
                <a:latin typeface="Century Gothic"/>
              </a:rPr>
              <a:t>К.Д. Ушинский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4"/>
          <p:cNvSpPr/>
          <p:nvPr/>
        </p:nvSpPr>
        <p:spPr>
          <a:xfrm>
            <a:off x="324000" y="197964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МНЕМОТЕХНИК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система специальных приемов, обеспечивающих эффективное запоминание, сохранение и воспроизведение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Мнемотехника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извана облегчить запоминание и увеличить объем памяти, путем образования дополнительных ассоциа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АКТУАЛЬНОСТЬ </a:t>
            </a: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63" name=""/>
          <p:cNvSpPr txBox="1"/>
          <p:nvPr/>
        </p:nvSpPr>
        <p:spPr>
          <a:xfrm>
            <a:off x="684360" y="1773360"/>
            <a:ext cx="785016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Arial"/>
              </a:rPr>
              <a:t>1.Мнемотехника облегчает детям овладение связной речью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Arial"/>
              </a:rPr>
              <a:t>2. Ребёнок с опорой на образы памяти устанавливает причинно-следственные связи, делает выводы, развивая тем самым логическое мышление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Arial"/>
              </a:rPr>
              <a:t>3. Применения мнемотехники, использование обобщений позволяют ребёнку систематизировать свой непосредственный опыт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4" name="Organization Chart 2"/>
          <p:cNvGrpSpPr/>
          <p:nvPr/>
        </p:nvGrpSpPr>
        <p:grpSpPr>
          <a:xfrm>
            <a:off x="179280" y="621360"/>
            <a:ext cx="8414640" cy="5323680"/>
            <a:chOff x="179280" y="621360"/>
            <a:chExt cx="8414640" cy="5323680"/>
          </a:xfrm>
        </p:grpSpPr>
        <p:cxnSp>
          <p:nvCxnSpPr>
            <p:cNvPr id="1465" name="_s1028"/>
            <p:cNvCxnSpPr>
              <a:stCxn id="1466" idx="0"/>
              <a:endCxn id="1467" idx="2"/>
            </p:cNvCxnSpPr>
            <p:nvPr/>
          </p:nvCxnSpPr>
          <p:spPr>
            <a:xfrm flipV="1" rot="16200000">
              <a:off x="5605560" y="1973520"/>
              <a:ext cx="834840" cy="2618280"/>
            </a:xfrm>
            <a:prstGeom prst="bentConnector3">
              <a:avLst>
                <a:gd name="adj1" fmla="val 1367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68" name="_s1029"/>
            <p:cNvCxnSpPr>
              <a:stCxn id="1469" idx="0"/>
              <a:endCxn id="1467" idx="2"/>
            </p:cNvCxnSpPr>
            <p:nvPr/>
          </p:nvCxnSpPr>
          <p:spPr>
            <a:xfrm flipH="1" flipV="1" rot="5400000">
              <a:off x="4132800" y="3118680"/>
              <a:ext cx="834840" cy="327960"/>
            </a:xfrm>
            <a:prstGeom prst="bentConnector3">
              <a:avLst>
                <a:gd name="adj1" fmla="val 1367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70" name="_s1030"/>
            <p:cNvCxnSpPr>
              <a:stCxn id="1471" idx="0"/>
              <a:endCxn id="1467" idx="2"/>
            </p:cNvCxnSpPr>
            <p:nvPr/>
          </p:nvCxnSpPr>
          <p:spPr>
            <a:xfrm flipH="1" flipV="1" rot="5400000">
              <a:off x="2660400" y="1646280"/>
              <a:ext cx="834840" cy="3273120"/>
            </a:xfrm>
            <a:prstGeom prst="bentConnector3">
              <a:avLst>
                <a:gd name="adj1" fmla="val 1367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67" name="_s1031"/>
            <p:cNvSpPr/>
            <p:nvPr/>
          </p:nvSpPr>
          <p:spPr>
            <a:xfrm>
              <a:off x="1043640" y="621360"/>
              <a:ext cx="7336800" cy="2244600"/>
            </a:xfrm>
            <a:prstGeom prst="roundRect">
              <a:avLst>
                <a:gd name="adj" fmla="val 16667"/>
              </a:avLst>
            </a:prstGeom>
            <a:solidFill>
              <a:srgbClr val="a5301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766f54"/>
                  </a:solidFill>
                  <a:latin typeface="Comic Sans MS"/>
                </a:rPr>
                <a:t>Мнемотехника строится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766f54"/>
                  </a:solidFill>
                  <a:latin typeface="Comic Sans MS"/>
                </a:rPr>
                <a:t>от простого к сложном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_s1032"/>
            <p:cNvSpPr/>
            <p:nvPr/>
          </p:nvSpPr>
          <p:spPr>
            <a:xfrm>
              <a:off x="179280" y="3700440"/>
              <a:ext cx="2524320" cy="2244600"/>
            </a:xfrm>
            <a:prstGeom prst="roundRect">
              <a:avLst>
                <a:gd name="adj" fmla="val 16667"/>
              </a:avLst>
            </a:prstGeom>
            <a:solidFill>
              <a:srgbClr val="a5301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omic Sans MS"/>
                </a:rPr>
                <a:t>мнемоквадра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_s1033"/>
            <p:cNvSpPr/>
            <p:nvPr/>
          </p:nvSpPr>
          <p:spPr>
            <a:xfrm>
              <a:off x="3124440" y="3700440"/>
              <a:ext cx="2524320" cy="2244600"/>
            </a:xfrm>
            <a:prstGeom prst="roundRect">
              <a:avLst>
                <a:gd name="adj" fmla="val 16667"/>
              </a:avLst>
            </a:prstGeom>
            <a:solidFill>
              <a:srgbClr val="a5301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omic Sans MS"/>
                </a:rPr>
                <a:t>мнемодорожк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_s1034"/>
            <p:cNvSpPr/>
            <p:nvPr/>
          </p:nvSpPr>
          <p:spPr>
            <a:xfrm>
              <a:off x="6069600" y="3700440"/>
              <a:ext cx="2524320" cy="2244600"/>
            </a:xfrm>
            <a:prstGeom prst="roundRect">
              <a:avLst>
                <a:gd name="adj" fmla="val 16667"/>
              </a:avLst>
            </a:prstGeom>
            <a:solidFill>
              <a:srgbClr val="a5301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omic Sans MS"/>
                </a:rPr>
                <a:t>мнемотаблиц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500" spc="-1" strike="noStrike">
                <a:solidFill>
                  <a:srgbClr val="766f54"/>
                </a:solidFill>
                <a:latin typeface="Century Gothic"/>
              </a:rPr>
              <a:t>мнемоквадрат</a:t>
            </a:r>
            <a:endParaRPr b="0" lang="en-US" sz="65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473" name="Picture 9" descr="Изображение"/>
          <p:cNvPicPr/>
          <p:nvPr/>
        </p:nvPicPr>
        <p:blipFill>
          <a:blip r:embed="rId2"/>
          <a:stretch/>
        </p:blipFill>
        <p:spPr>
          <a:xfrm>
            <a:off x="685800" y="2178000"/>
            <a:ext cx="3772080" cy="2959200"/>
          </a:xfrm>
          <a:prstGeom prst="rect">
            <a:avLst/>
          </a:prstGeom>
          <a:ln w="0">
            <a:noFill/>
          </a:ln>
        </p:spPr>
      </p:pic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0" y="1197000"/>
            <a:ext cx="42480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Century Gothic"/>
              </a:rPr>
              <a:t>Мнемоквадрат-</a:t>
            </a:r>
            <a:r>
              <a:rPr b="1" lang="en-US" sz="32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3200" spc="-1" strike="noStrike">
                <a:solidFill>
                  <a:srgbClr val="404040"/>
                </a:solidFill>
                <a:latin typeface="Century Gothic"/>
              </a:rPr>
              <a:t>это графическое или частично графическое изображение предмета, явления природы, персонажа сказки и т.д.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262626"/>
                </a:solidFill>
                <a:latin typeface="Century Gothic"/>
              </a:rPr>
              <a:t>Актуальность:</a:t>
            </a: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33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Привлечь  родителей к участию в обучении ребенка с проблемами речевого развития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0" spc="-1" strike="noStrike">
                <a:solidFill>
                  <a:srgbClr val="766f54"/>
                </a:solidFill>
                <a:latin typeface="Century Gothic"/>
              </a:rPr>
              <a:t>мнемодорожка</a:t>
            </a:r>
            <a:endParaRPr b="0" lang="en-US" sz="6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4610160" y="1828800"/>
            <a:ext cx="420984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Суть </a:t>
            </a: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мнемодорожек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 заключается в следующем: на каждое слово или маленькое словосочетание придумывается изображение; таким образом, весь текст зарисовывается схематично. Глядя на эти схемы- рисунки ребёнок легко воспроизводит текстовую информацию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477" name="Объект 4" descr=""/>
          <p:cNvPicPr/>
          <p:nvPr/>
        </p:nvPicPr>
        <p:blipFill>
          <a:blip r:embed="rId2"/>
          <a:stretch/>
        </p:blipFill>
        <p:spPr>
          <a:xfrm>
            <a:off x="685800" y="2244600"/>
            <a:ext cx="3772080" cy="2826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766f54"/>
                </a:solidFill>
                <a:latin typeface="Century Gothic"/>
              </a:rPr>
              <a:t>мнемотаблица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755640" y="95256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Century Gothic"/>
              </a:rPr>
              <a:t>Мнемотаблица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 – это схема, в которую заложена определённая информация. В качестве символов – заместителей используются: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Предметные картинки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Силуэтные изображения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Геометрические фигуры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480" name="Picture 6" descr="Изображение 235"/>
          <p:cNvPicPr/>
          <p:nvPr/>
        </p:nvPicPr>
        <p:blipFill>
          <a:blip r:embed="rId2"/>
          <a:stretch/>
        </p:blipFill>
        <p:spPr>
          <a:xfrm>
            <a:off x="4944960" y="1828800"/>
            <a:ext cx="3102120" cy="36576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Прямоугольник 1"/>
          <p:cNvSpPr/>
          <p:nvPr/>
        </p:nvSpPr>
        <p:spPr>
          <a:xfrm>
            <a:off x="611280" y="189000"/>
            <a:ext cx="83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СЕЛЫЙ СНЕГОВ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сугробам напрямик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корзина, не метл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ел веселый снеговик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плитка шоколадн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в руке его был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елочка нарядна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2" name="Picture 10" descr="C:\Users\Светлана\Desktop\снеговик\Безымянный2.jpg"/>
          <p:cNvPicPr/>
          <p:nvPr/>
        </p:nvPicPr>
        <p:blipFill>
          <a:blip r:embed="rId2"/>
          <a:stretch/>
        </p:blipFill>
        <p:spPr>
          <a:xfrm>
            <a:off x="971640" y="2205000"/>
            <a:ext cx="2663640" cy="2003400"/>
          </a:xfrm>
          <a:prstGeom prst="rect">
            <a:avLst/>
          </a:prstGeom>
          <a:ln w="0">
            <a:noFill/>
          </a:ln>
        </p:spPr>
      </p:pic>
      <p:pic>
        <p:nvPicPr>
          <p:cNvPr id="1483" name="Picture 11" descr="C:\Users\Светлана\Desktop\снеговик\Безымянный1.jpg"/>
          <p:cNvPicPr/>
          <p:nvPr/>
        </p:nvPicPr>
        <p:blipFill>
          <a:blip r:embed="rId3"/>
          <a:stretch/>
        </p:blipFill>
        <p:spPr>
          <a:xfrm>
            <a:off x="3586320" y="2203560"/>
            <a:ext cx="2404800" cy="2004840"/>
          </a:xfrm>
          <a:prstGeom prst="rect">
            <a:avLst/>
          </a:prstGeom>
          <a:ln w="0">
            <a:noFill/>
          </a:ln>
        </p:spPr>
      </p:pic>
      <p:pic>
        <p:nvPicPr>
          <p:cNvPr id="1484" name="Picture 12" descr="C:\Users\Светлана\Desktop\снеговик\Безымянный3.jpg"/>
          <p:cNvPicPr/>
          <p:nvPr/>
        </p:nvPicPr>
        <p:blipFill>
          <a:blip r:embed="rId4"/>
          <a:stretch/>
        </p:blipFill>
        <p:spPr>
          <a:xfrm>
            <a:off x="5867280" y="2203560"/>
            <a:ext cx="2495520" cy="2004840"/>
          </a:xfrm>
          <a:prstGeom prst="rect">
            <a:avLst/>
          </a:prstGeom>
          <a:ln w="0">
            <a:noFill/>
          </a:ln>
        </p:spPr>
      </p:pic>
      <p:pic>
        <p:nvPicPr>
          <p:cNvPr id="1485" name="Picture 13" descr="C:\Users\Светлана\Desktop\снеговик\Безымянный4.jpg"/>
          <p:cNvPicPr/>
          <p:nvPr/>
        </p:nvPicPr>
        <p:blipFill>
          <a:blip r:embed="rId5"/>
          <a:stretch/>
        </p:blipFill>
        <p:spPr>
          <a:xfrm>
            <a:off x="968400" y="4208400"/>
            <a:ext cx="1954080" cy="2003400"/>
          </a:xfrm>
          <a:prstGeom prst="rect">
            <a:avLst/>
          </a:prstGeom>
          <a:ln w="0">
            <a:noFill/>
          </a:ln>
        </p:spPr>
      </p:pic>
      <p:pic>
        <p:nvPicPr>
          <p:cNvPr id="1486" name="Picture 14" descr="C:\Users\Светлана\Desktop\снеговик\Безымянный5.jpg"/>
          <p:cNvPicPr/>
          <p:nvPr/>
        </p:nvPicPr>
        <p:blipFill>
          <a:blip r:embed="rId6"/>
          <a:stretch/>
        </p:blipFill>
        <p:spPr>
          <a:xfrm>
            <a:off x="2922480" y="4203720"/>
            <a:ext cx="1995480" cy="2012760"/>
          </a:xfrm>
          <a:prstGeom prst="rect">
            <a:avLst/>
          </a:prstGeom>
          <a:ln w="0">
            <a:noFill/>
          </a:ln>
        </p:spPr>
      </p:pic>
      <p:pic>
        <p:nvPicPr>
          <p:cNvPr id="1487" name="Picture 15" descr="C:\Users\Светлана\Desktop\снеговик\Безымянный6.jpg"/>
          <p:cNvPicPr/>
          <p:nvPr/>
        </p:nvPicPr>
        <p:blipFill>
          <a:blip r:embed="rId7"/>
          <a:stretch/>
        </p:blipFill>
        <p:spPr>
          <a:xfrm>
            <a:off x="4788000" y="4149720"/>
            <a:ext cx="1735200" cy="2062080"/>
          </a:xfrm>
          <a:prstGeom prst="rect">
            <a:avLst/>
          </a:prstGeom>
          <a:ln w="0">
            <a:noFill/>
          </a:ln>
        </p:spPr>
      </p:pic>
      <p:pic>
        <p:nvPicPr>
          <p:cNvPr id="1488" name="Picture 16" descr="C:\Users\Светлана\Desktop\снеговик\Безымянный7.jpg"/>
          <p:cNvPicPr/>
          <p:nvPr/>
        </p:nvPicPr>
        <p:blipFill>
          <a:blip r:embed="rId8"/>
          <a:stretch/>
        </p:blipFill>
        <p:spPr>
          <a:xfrm>
            <a:off x="6489720" y="4130640"/>
            <a:ext cx="187308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1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/>
                                        <p:tgtEl>
                                          <p:spTgt spid="1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1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1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1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1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1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1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Century Gothic"/>
              </a:rPr>
              <a:t>Логоритмика – это система музыкально-двигательных, рече -двигательных и музыкально-речевых игр и упражнений, осуществляемых в целях логопедической коррекции и оздоровительных задач.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a53010"/>
                </a:solidFill>
                <a:latin typeface="Century Gothic"/>
              </a:rPr>
              <a:t>Г.А. Волкова, в книге </a:t>
            </a:r>
            <a:r>
              <a:rPr b="1" i="1" lang="en-US" sz="2800" spc="-1" strike="noStrike">
                <a:solidFill>
                  <a:srgbClr val="a53010"/>
                </a:solidFill>
                <a:latin typeface="Century Gothic"/>
              </a:rPr>
              <a:t>«Логопедическая ритмика»</a:t>
            </a:r>
            <a:r>
              <a:rPr b="0" lang="en-US" sz="2800" spc="-1" strike="noStrike">
                <a:solidFill>
                  <a:srgbClr val="a53010"/>
                </a:solidFill>
                <a:latin typeface="Century Gothic"/>
              </a:rPr>
              <a:t> пишет: </a:t>
            </a:r>
            <a:r>
              <a:rPr b="1" i="1" lang="en-US" sz="2800" spc="-1" strike="noStrike">
                <a:solidFill>
                  <a:srgbClr val="a53010"/>
                </a:solidFill>
                <a:latin typeface="Century Gothic"/>
              </a:rPr>
              <a:t>«Важнейшей задачей, определяющей особую значимость логопедической ритмики как одного из звеньев логопедической коррекции, является формирование и развитие у детей с речевой патологией двигательных способностей как основы воспитания речи, перевоспитания и устранения речевых нарушений.»</a:t>
            </a:r>
            <a:r>
              <a:rPr b="0" lang="en-US" sz="2800" spc="-1" strike="noStrike">
                <a:solidFill>
                  <a:srgbClr val="a53010"/>
                </a:solidFill>
                <a:latin typeface="Century Gothic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8000640" y="3214440"/>
            <a:ext cx="401940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a5301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Игры и упражнения по логопедической ритмике: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a53010"/>
                </a:solidFill>
                <a:latin typeface="Century Gothic"/>
              </a:rPr>
              <a:t>Упражнение на развитие фонематического слуха – «Поезд» (дети стоят в колонну, руки на поясе)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a53010"/>
                </a:solidFill>
                <a:latin typeface="Century Gothic"/>
              </a:rPr>
              <a:t>–</a:t>
            </a:r>
            <a:r>
              <a:rPr b="0" lang="en-US" sz="2000" spc="-1" strike="noStrike">
                <a:solidFill>
                  <a:srgbClr val="a53010"/>
                </a:solidFill>
                <a:latin typeface="Century Gothic"/>
              </a:rPr>
              <a:t> </a:t>
            </a:r>
            <a:r>
              <a:rPr b="0" lang="en-US" sz="2000" spc="-1" strike="noStrike">
                <a:solidFill>
                  <a:srgbClr val="a53010"/>
                </a:solidFill>
                <a:latin typeface="Century Gothic"/>
              </a:rPr>
              <a:t>Я буду произносить гласные звуки в медленном темпе – поезд движется, если услышите звук у – останавливаетесь. ( игра проводится 3-4 раза)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Century Gothic"/>
              </a:rPr>
              <a:t>Упражнение на развитие мелкой моторики </a:t>
            </a:r>
            <a:r>
              <a:rPr b="0" lang="en-US" sz="3600" spc="-1" strike="noStrike">
                <a:solidFill>
                  <a:srgbClr val="000099"/>
                </a:solidFill>
                <a:latin typeface="Century Gothic"/>
              </a:rPr>
              <a:t>(мелодия «Крик петуха»; движения выполняются на сильную долю</a:t>
            </a:r>
            <a:br>
              <a:rPr sz="3600"/>
            </a:br>
            <a:r>
              <a:rPr b="0" lang="en-US" sz="3600" spc="-1" strike="noStrike">
                <a:solidFill>
                  <a:srgbClr val="a53010"/>
                </a:solidFill>
                <a:latin typeface="Century Gothic"/>
              </a:rPr>
              <a:t>хлопок , ребро, ладонь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1999800" y="297144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1476000" y="4759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Century Gothic"/>
              </a:rPr>
              <a:t>Музыкально-ритмическая игра </a:t>
            </a:r>
            <a:r>
              <a:rPr b="1" i="1" lang="en-US" sz="2800" spc="-1" strike="noStrike">
                <a:solidFill>
                  <a:srgbClr val="262626"/>
                </a:solidFill>
                <a:latin typeface="Century Gothic"/>
              </a:rPr>
              <a:t>«Птицы – пальчики»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1692000" y="141264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200" spc="-1" strike="noStrike">
                <a:solidFill>
                  <a:srgbClr val="000099"/>
                </a:solidFill>
                <a:latin typeface="Century Gothic"/>
              </a:rPr>
              <a:t>(с палочками или карандашами)</a:t>
            </a:r>
            <a:r>
              <a:rPr b="0" lang="ru-RU" sz="1200" spc="-1" strike="noStrike">
                <a:solidFill>
                  <a:srgbClr val="000099"/>
                </a:solidFill>
                <a:latin typeface="Century Gothic"/>
              </a:rPr>
              <a:t> автор Железнова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marL="281160" indent="-28116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entury Gothic"/>
              </a:rPr>
              <a:t>Птицы пальчики летят, то вперед,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marL="281160" indent="-28116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entury Gothic"/>
              </a:rPr>
              <a:t>а то назад, что за пальчики, скажи – это пальчики мои.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marL="281160" indent="-28116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200" spc="-1" strike="noStrike">
                <a:solidFill>
                  <a:srgbClr val="000099"/>
                </a:solidFill>
                <a:latin typeface="Century Gothic"/>
              </a:rPr>
              <a:t> </a:t>
            </a:r>
            <a:r>
              <a:rPr b="0" i="1" lang="ru-RU" sz="1200" spc="-1" strike="noStrike">
                <a:solidFill>
                  <a:srgbClr val="000099"/>
                </a:solidFill>
                <a:latin typeface="Century Gothic"/>
              </a:rPr>
              <a:t>Стучим палочками по столу.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marL="281160" indent="-28116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entury Gothic"/>
              </a:rPr>
              <a:t>Вверх  взлетели высоко, полетели далеко,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marL="281160" indent="-28116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entury Gothic"/>
              </a:rPr>
              <a:t>вот уже над головой–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marL="281160" indent="-28116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entury Gothic"/>
              </a:rPr>
              <a:t>не пора ли вам домой.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marL="281160" indent="-28116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entury Gothic"/>
              </a:rPr>
              <a:t> </a:t>
            </a:r>
            <a:r>
              <a:rPr b="0" i="1" lang="ru-RU" sz="1200" spc="-1" strike="noStrike">
                <a:solidFill>
                  <a:srgbClr val="000099"/>
                </a:solidFill>
                <a:latin typeface="Century Gothic"/>
              </a:rPr>
              <a:t>Стучим палочка о палочку над головой.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marL="281160" indent="-28116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entury Gothic"/>
              </a:rPr>
              <a:t>Птицы возвращались, плавно опускались,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marL="281160" indent="-28116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entury Gothic"/>
              </a:rPr>
              <a:t>прилетели сели – кушать захотели.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marL="281160" indent="-28116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200" spc="-1" strike="noStrike">
                <a:solidFill>
                  <a:srgbClr val="000099"/>
                </a:solidFill>
                <a:latin typeface="Century Gothic"/>
              </a:rPr>
              <a:t> </a:t>
            </a:r>
            <a:r>
              <a:rPr b="0" i="1" lang="ru-RU" sz="1200" spc="-1" strike="noStrike">
                <a:solidFill>
                  <a:srgbClr val="000099"/>
                </a:solidFill>
                <a:latin typeface="Century Gothic"/>
              </a:rPr>
              <a:t>Стучим палочка о палочку перед собой.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marL="281160" indent="-28116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entury Gothic"/>
              </a:rPr>
              <a:t>Просто поклевали, видно, что устали.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marL="281160" indent="-28116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entury Gothic"/>
              </a:rPr>
              <a:t> </a:t>
            </a:r>
            <a:r>
              <a:rPr b="0" i="1" lang="ru-RU" sz="1200" spc="-1" strike="noStrike">
                <a:solidFill>
                  <a:srgbClr val="000099"/>
                </a:solidFill>
                <a:latin typeface="Century Gothic"/>
              </a:rPr>
              <a:t>Стучим по очереди палочками по столу.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marL="281160" indent="-28116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entury Gothic"/>
              </a:rPr>
              <a:t>Пальцы отдыхают и опять взлетают.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marL="281160" indent="-28116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Century Gothic"/>
              </a:rPr>
              <a:t> </a:t>
            </a:r>
            <a:r>
              <a:rPr b="0" i="1" lang="ru-RU" sz="1200" spc="-1" strike="noStrike">
                <a:solidFill>
                  <a:srgbClr val="000099"/>
                </a:solidFill>
                <a:latin typeface="Century Gothic"/>
              </a:rPr>
              <a:t>Палочки лежат на столе.</a:t>
            </a:r>
            <a:endParaRPr b="0" lang="en-US" sz="1200" spc="-1" strike="noStrike">
              <a:solidFill>
                <a:srgbClr val="404040"/>
              </a:solidFill>
              <a:latin typeface="Century Gothic"/>
            </a:endParaRPr>
          </a:p>
          <a:p>
            <a:pPr marL="281160" indent="-28116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200" spc="-1" strike="noStrike">
                <a:solidFill>
                  <a:srgbClr val="000099"/>
                </a:solidFill>
                <a:latin typeface="Century Gothic"/>
              </a:rPr>
              <a:t>(Упражнение можно  использовать на занятиях по изодеятельности, для развития мелкой моторики, по формированию элементарных экологических представлений в старшем дошкольном возрасте</a:t>
            </a:r>
            <a:r>
              <a:rPr b="0" i="1" lang="ru-RU" sz="1200" spc="-1" strike="noStrike">
                <a:solidFill>
                  <a:srgbClr val="404040"/>
                </a:solidFill>
                <a:latin typeface="Century Gothic"/>
              </a:rPr>
              <a:t>)</a:t>
            </a: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entury Gothic"/>
              </a:rPr>
              <a:t>Упражнение на координацию движений</a:t>
            </a:r>
            <a:r>
              <a:rPr b="0" lang="en-US" sz="3200" spc="-1" strike="noStrike">
                <a:solidFill>
                  <a:srgbClr val="262626"/>
                </a:solidFill>
                <a:latin typeface="Century Gothic"/>
              </a:rPr>
              <a:t> (мелодия Гномики )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entury Gothic"/>
              </a:rPr>
              <a:t>1</a:t>
            </a: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часть(обычная ходьба)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2 часть , ходьба перекрестным шагом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3 часть соединяем локоть  левой руки с коленом провой ноги (и раскрываем руку и ногу), То же повторить с правым локтем  и левым коленом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826920" y="2133360"/>
            <a:ext cx="6050160" cy="150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262626"/>
                </a:solidFill>
                <a:latin typeface="Century Gothic"/>
              </a:rPr>
              <a:t>ЖЕЛАЮ</a:t>
            </a:r>
            <a:br>
              <a:rPr sz="5400"/>
            </a:br>
            <a:r>
              <a:rPr b="1" lang="ru-RU" sz="5400" spc="-1" strike="noStrike">
                <a:solidFill>
                  <a:srgbClr val="262626"/>
                </a:solidFill>
                <a:latin typeface="Century Gothic"/>
              </a:rPr>
              <a:t>УДАЧИ!</a:t>
            </a:r>
            <a:endParaRPr b="0" lang="en-US" sz="54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Задачи:</a:t>
            </a: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35" name=""/>
          <p:cNvSpPr txBox="1"/>
          <p:nvPr/>
        </p:nvSpPr>
        <p:spPr>
          <a:xfrm>
            <a:off x="1928520" y="142848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Познакомить родителей с приемами работы логопеда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Обучать родителей развитию фонематического слуха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Обучать приемам мнемотехники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Arial"/>
              </a:rPr>
              <a:t>П</a:t>
            </a: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оказать значимость применения логоритмики  для речевого развития дошкольников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Century Gothic"/>
              </a:rPr>
              <a:t>Прекрасен мир звуков! Прекрасен потому, что жить в нем радостно и интересно.  Стоит на мгновение закрыть уши, как сразу замолкнут все звуки   и обеднеет для нас мир. 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2071440" y="457164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1763280" y="549360"/>
            <a:ext cx="6589800" cy="12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entury Gothic"/>
              </a:rPr>
              <a:t> </a:t>
            </a:r>
            <a:r>
              <a:rPr b="1" lang="en-US" sz="2800" spc="-1" strike="noStrike">
                <a:solidFill>
                  <a:srgbClr val="262626"/>
                </a:solidFill>
                <a:latin typeface="Century Gothic"/>
              </a:rPr>
              <a:t>Непременным условием для развития речи является способность слышать. Даже незначительное снижение физического слуха в раннем детстве вызывает задержку речевого развития Если ребенок слышит, как осторожно скрипнула дверь, отличает приближающийся гул машины, отличает шум ветра от шума дождя - то у него все в порядке с физиологическим слухом. </a:t>
            </a:r>
            <a:br>
              <a:rPr sz="2800"/>
            </a:br>
            <a:br>
              <a:rPr sz="3200"/>
            </a:br>
            <a:br>
              <a:rPr sz="3200"/>
            </a:b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Century Gothic"/>
              </a:rPr>
              <a:t>Ребенок появляется на свет, обладая врожденной чувствительностью к звукам . На третьей-четвертой неделе жизни у ребёнка слуховое сосредоточение не только на сильный звук, но и на речь взрослого человека. А к трем годам фонематический слух должен быть сформирован</a:t>
            </a:r>
            <a:r>
              <a:rPr b="1" lang="en-US" sz="2400" spc="-1" strike="noStrike">
                <a:solidFill>
                  <a:srgbClr val="262626"/>
                </a:solidFill>
                <a:latin typeface="Century Gothic"/>
              </a:rPr>
              <a:t>. 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6589800" cy="12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Century Gothic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262626"/>
                </a:solidFill>
                <a:latin typeface="Century Gothic"/>
              </a:rPr>
              <a:t>           </a:t>
            </a:r>
            <a:r>
              <a:rPr b="0" lang="en-US" sz="2800" spc="-1" strike="noStrike">
                <a:solidFill>
                  <a:srgbClr val="a53010"/>
                </a:solidFill>
                <a:latin typeface="Century Gothic"/>
              </a:rPr>
              <a:t>Развитие фонематического слуха у детей -залог успешного  обучения чтению и письму, а в дальнейшем- и иностранным языкам</a:t>
            </a:r>
            <a:r>
              <a:rPr b="0" lang="en-US" sz="2800" spc="-1" strike="noStrike">
                <a:solidFill>
                  <a:srgbClr val="262626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a53010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1476000" y="263664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Развитие фонематического слуха неотъемлемая часть  логопедических занятий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Умение сосредоточится на звуке- очень важная особенность человека. Без нее нельзя научить ребенка слушать и слышать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2214720" y="356760"/>
            <a:ext cx="658944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Цель игр и упражнений для развития фонематического слуха: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45" name=""/>
          <p:cNvSpPr txBox="1"/>
          <p:nvPr/>
        </p:nvSpPr>
        <p:spPr>
          <a:xfrm>
            <a:off x="1999800" y="307944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</a:rPr>
              <a:t>Научить ребенка слушать и слышать .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entury Gothic"/>
              </a:rPr>
              <a:t>Игры  и упражнения для развития фонематического  слуха: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Century Gothic"/>
              </a:rPr>
              <a:t>не речевые звуки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Century Gothic"/>
              </a:rPr>
              <a:t>Что слышно ?(</a:t>
            </a:r>
            <a:r>
              <a:rPr b="0" lang="en-US" sz="2000" spc="-1" strike="noStrike">
                <a:solidFill>
                  <a:srgbClr val="404040"/>
                </a:solidFill>
                <a:latin typeface="Century Gothic"/>
              </a:rPr>
              <a:t>Ребенку предлагают закрыть глаза и рассказать о том, что он слышит за окном.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entury Gothic"/>
              </a:rPr>
              <a:t>Что звучит ?(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попросить ребенка определить какой предмет звучит</a:t>
            </a:r>
            <a:r>
              <a:rPr b="0" lang="en-US" sz="2000" spc="-1" strike="noStrike">
                <a:solidFill>
                  <a:srgbClr val="000099"/>
                </a:solidFill>
                <a:latin typeface="Century Gothic"/>
              </a:rPr>
              <a:t> )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entury Gothic"/>
              </a:rPr>
              <a:t>Определить чей голос звучит?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entury Gothic"/>
              </a:rPr>
              <a:t>Ц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ир</a:t>
            </a:r>
            <a:r>
              <a:rPr b="0" lang="en-US" sz="2000" spc="-1" strike="noStrike">
                <a:solidFill>
                  <a:srgbClr val="000099"/>
                </a:solidFill>
                <a:latin typeface="Century Gothic"/>
              </a:rPr>
              <a:t>к 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17:10:51Z</dcterms:created>
  <dc:creator>Admin</dc:creator>
  <dc:description/>
  <dc:language>en-US</dc:language>
  <cp:lastModifiedBy>ТАТЬЯНА</cp:lastModifiedBy>
  <dcterms:modified xsi:type="dcterms:W3CDTF">2019-04-24T03:32:49Z</dcterms:modified>
  <cp:revision>62</cp:revision>
  <dc:subject/>
  <dc:title>Слайд 1</dc:title>
</cp:coreProperties>
</file>