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4.jpeg" ContentType="image/jpe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F0B-7E14-4D14-8C27-475220A50E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BAF6-77A0-464E-8C1F-CE3E68E18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C60-8D27-43B4-9D54-4916B51F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24E-86C1-4494-B39A-0E05763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C4B25-9F3B-4A89-96BD-F043B41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FB674-B563-4166-9371-13EDF772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F02E5-E431-4C09-A041-C863DDC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11518-2B6B-445E-87ED-FA066B5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BA9CD-BBDD-4277-B087-4CF9D6F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3FF8-9592-4A17-AA8B-7719D95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8800-C41B-42C8-8DDC-E0B4C8A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7635C-545C-4372-A11B-AAAE2FAC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F00BF-4F7B-42B5-A043-06102488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C3A7C-ABF2-49EF-AF56-2B9C323E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92C-88D8-4B08-B162-ECE9607D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D6253-EB6C-48D9-90CD-95F31840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4747B-33AD-4C02-AE17-85F9B6A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56492-6C60-4C98-A6D7-670E14A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5418-E385-4DA3-995C-DF1E85F8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2BF14-2265-4E4E-A343-507631C4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19B9B-A13E-479B-8F3B-820E71E2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E88D3-1C4B-471D-8CAE-DD2F429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F1913-0E45-429A-B1E1-51DE3CB1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DFC0-9BFA-4648-8F9D-4981F102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38542-2E2D-477C-868C-B29BE7ED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EE1-CD0B-4D3A-9751-6883AB75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343E1-6563-44FF-9576-1F862868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0F81B-1407-40E3-88EC-08D13FA0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6B82-9FCB-459F-85BA-7821F28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4D280-FB55-457D-9C3F-7797824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1F63-4AD9-42E2-A0AA-EE4FCA9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F0B9-B950-4947-B719-F1DD007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FF4D-8F7E-4161-AC87-5F000BF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56E79-D2F3-4F8F-8AFC-4C68EBE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6FE7-0F33-4CEB-B05B-04121E7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B412-10C8-46FB-BD8C-7984A16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9C46-C44D-4D7C-AD49-597FE145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0E3A-4304-48EA-BD3D-4B64F49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3774F-75AC-4676-85F0-9F6F0F82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EC79-1923-4507-AE3B-81CA9221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50C9F-7D61-4697-B3C0-0BF1AA19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3398-0084-4368-85A1-2FEF5A2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45FE0-EE9F-4A81-B04D-27A7FFD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9D5E8-ABE8-4DB6-9607-59F50564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10372-3A9A-4220-838C-6423ADF2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AB1E1-8756-47EB-8865-BD8A9853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B7A3B-26E3-4A26-A519-88C006E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5E27-E474-4F3E-9C21-81ADACCE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ACD68-64B8-46B2-9587-815BC0A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91A75-FE49-4FA9-8CD8-8272740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DB6A-5FA5-4A63-BF46-79315FEF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E6788-9387-433B-A2CD-F1445312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1387E-E42E-4147-ABFE-61BF75A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19C84-96F9-4EE2-B776-4871CD63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F1617-0CE4-41AD-89F5-49C36DDA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7BAA0-3C18-4944-80E2-EDC747C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2E374-EE1A-4AD9-A43B-0271D80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7E4B7-CF51-4098-BBC7-B7BCAC3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81CF-709E-4C50-BF7E-BBA19B4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007D9-EB67-4714-A166-A058FDF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73AB2-8093-4CBF-9EBC-527B483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B0265-FDEF-4F03-B7CC-78F0329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B1E73-EF1F-4418-880F-FF9E088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DA50E-C609-4525-BE7B-46AF59D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8B307-85C7-4540-9615-04610234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310D3-B5EC-4E5D-BA24-2A7476B4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52337-A0E6-42B2-9BD1-FD26355D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64B02-DBC5-47FE-9A1F-C9D0FA7B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E5547-BD27-4AAB-A5ED-505C823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3F0C-6AF0-4961-9A6C-C905AF1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B1C39-7033-409A-97E5-2E76161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6B227-E608-4174-ACCD-E47936A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A756B-5843-42A1-ACC2-008DDEE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4A86C-F1BE-4F9D-BA60-53F0BC5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8417F-39D0-48F4-8877-7C14A18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590E3-C54A-436F-91E1-5FE5052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CD477-76CC-4D9D-879C-04D28B22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23EF0-2F39-4651-AC46-06063B8D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A5E37-6D69-4BC0-B970-CA3C836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458F6-A26E-4C08-A446-ACA80807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E727-A0FB-4CE7-8FAE-2C392DA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2E871-F2FB-46EE-9E04-E7713A4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E73EF-65AC-432A-967F-E618CAEB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72D0F-6712-4F99-9519-97B189D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BDBF1-E0EE-405D-95D7-F387066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69A65-A525-47F6-93EA-2866161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2C118-0C4D-4873-87AC-5DF33CA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69B2A-BC93-441F-AC00-A2859B4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C26BE-DA67-4C25-9654-9BFC7C7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BFDE3-2281-40A3-8A11-EE12313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53A66-9393-40A8-8DF0-9082C899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3D80-64E3-481B-8C56-DEE6E85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96565-4AF2-45F4-915C-14CF2DD6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071DA-4812-4793-97DE-53CABD38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AEA14-17B9-4C0D-A009-9DC17992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7FE92-8378-4CB3-8240-00550CE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635E4-EE77-4509-8442-E72BF68F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8EE34-2066-427A-8DC4-8779BD6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D621D-710F-499C-BB4C-ABE1DA2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561DD-8477-43D1-8F38-1BE6116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6D573-DBD2-4E62-B712-74223A7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5CAF6-73BC-489F-B06D-5A47250D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0164-9DA1-44DD-ADF4-6C9BCDA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1E704-62B4-4032-AF08-8597E74F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539A8-A917-49B7-B8E2-AFCB221B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65DFB-BAED-420B-9D72-1AF86CE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D369A-2C94-4338-9BE1-6AB5CC2C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BF5A9-CFB5-447C-A2EF-03E8876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5641F-5D98-4A16-9D3B-5AACB064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882ED-18C5-4DD1-8A1C-611B90FD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21716-6BD0-41D9-999D-05A882BE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6652D-B4BF-4C56-855C-065A5D3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5EB68-D697-49C1-9977-616024A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097-8433-4596-B03D-31E9F35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2AE-39AD-4488-8E7E-26DA015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2EC32-48A3-45FC-94C3-7BB7588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52067-9CBC-4503-849D-DCE6062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49954-583A-4815-9FED-03A5E4C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86D11-83FB-48BE-81FD-EE5BB34A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BE7AC-6C79-43CB-AD23-39AF44B4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F18C8-6895-4A57-8FCB-74AAE35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1C1D8-BCD2-434F-95B0-133C25E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7610B-C55F-4563-979D-400C493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26595-DAB5-4CCB-8E50-38EE12D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0FABA-925E-483F-A033-F0022A5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830-E7F2-464E-8326-368FDA0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018BF-1C70-4CB1-9F96-8A8E0D1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E0A17-8755-4142-9511-861C3975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818B1-8BD5-4783-848F-D42149A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C5AE8-580E-4DF7-B735-4AC3312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A631A-6A88-4046-8544-B5C368A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3C1FC-C33A-459C-BB81-A31EB34D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33BC1-58CA-4F09-89BA-DC52E9A4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00F9E-1A5F-482D-A895-379E04CB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31D8B-3473-417C-9F91-90E5D65E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BE4F8-E88C-48B0-B9DD-A308B017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638-3D50-4FB6-92E0-E00FA54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E3626-A15F-463F-9752-8B2EB2B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ED173-47BB-4123-ADAB-8CD2AC66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EAF00-FFD6-49D9-9898-BA7D8B6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716FB-EC71-4DC8-9066-9C24DD3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92B50-856D-4574-B42F-448684C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AFD75-AE7D-457B-9112-40DD21E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B9CDB-61EB-4213-87EA-9D5D685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E385B-090D-478E-8EBA-41D61FC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EBA34-0D32-47F8-979D-BDE9793A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C73B9-4776-4CBB-A131-2F52F04C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2941-C77B-4560-B878-DD12B520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A44F5-A825-42D2-A70E-8759C15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706A7-798C-483E-BD5C-AA6D652A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810C3-4A7B-4BDA-8AA5-DA1402F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ADFD9-633C-4D8F-9307-51C540B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FCA16-5C67-43B5-B74C-842ABD3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CCCD7-C9B0-4F47-989F-EF78AA2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7ABBD-8F93-4D47-BB7F-36D8197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BD36F-BE48-4AE9-AD4A-2AFD8EC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509CA-7F32-4A8C-B676-5B963AD3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5883B-91D2-49F7-8401-0EB4EA8E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4842-B143-46E7-AD43-14F5EF6B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9A3A1-2E1D-4E1D-BC6D-8D190B79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039D-CA21-43D1-96D3-08CC4961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CDFE-6679-4A4F-A152-1794D4E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D0FE-89CE-4E47-AA62-A7EAAF6A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B74B-89F9-491E-AA7F-B2356C6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3AF2-4344-4927-AED2-6D006813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D70-23A2-4458-907F-9FAF09B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90D8-7FCD-485A-95E6-07E5BD02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40AF-76A3-47BD-BD97-D264B0E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DFE2-6B17-4A2D-B6BA-EF8008A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2A83-C8E3-4BF9-96EF-580BDF0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12BC-ABC4-4915-84BD-1DEC7581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2B89-616C-4881-99E6-CF88CFDF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F463-712E-445B-A38F-40105874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D24D-4695-4E92-BDE8-2D9D1D43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9581-ED9C-4345-8172-0D9409C3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434D-701E-4537-AA32-040BB53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01B-80F4-4D41-995A-1316A24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57F1-51DA-4F23-988C-2CE20FD0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CB5C-BC6F-4590-AAF8-63B315F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82BF-9C28-44F2-9AA0-EA103383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FB32-9FC0-4B35-9C7B-9C30CE1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6CBE-272D-4CA7-B530-006D1FB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2709-B40D-470F-9F9F-B316224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4B66-523F-403E-B9F9-A13E33CA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9565-7CA4-4EFB-8A94-D89C1056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DAC2-0BDF-433C-8F23-E44E581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7C96-4AEB-462F-B699-E0441257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48C-2007-4859-B4BA-0C549A33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9965-A5C0-4730-BB65-5F3BC5B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544A-45D3-46F3-BB89-E963CF2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C59B-06F5-4FDD-AF91-C9371B0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7A2B-7688-4708-8563-3973F1E8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4BB5-8BAC-44B8-967A-091978C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65D0-1C3B-44D1-8405-987838B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F5D3-749A-49D0-9034-DC72F91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EB0E-5085-46C1-8FED-C0F7909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F7C5-1B0D-454F-A0FA-A1BDFC4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E623-9502-47E4-BF1E-3390844B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BC7-DDCD-4A39-9B5D-210420EA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89E6-37FC-4EA4-9D1E-6A3A2998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51E4-05C0-4C6C-8685-41C9CE76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F9B0-11FB-4899-AF48-EA3AE061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2279-E7A3-4458-B223-A4CCAFE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3B87C-9F9B-4B51-91AB-C68197CC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4927-A0F0-4017-894D-51B09CE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B229-A98F-4B7B-9483-07B48351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D5D5-D44B-4BC1-AE8C-B28F026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787C-2725-489D-BDF5-2AC91FD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29943-17B2-4B32-9817-D3D47C4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7F5-18D7-40D3-B06D-69B7835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4B49C-00E8-432C-9C38-BC7C799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C7EC-AB61-47EE-87F2-F273F2C1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B58C1-21CC-44DA-91FB-3E6BCAE4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8E462-74E1-4061-AE78-CA2FF3C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9ACA-139B-4474-A077-6F7C284B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9A35-5B4B-4322-BDAE-FF73EA9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133C-89BC-4994-9402-98AE6585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AD28-8C85-41A5-9AB8-DB4377C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2620E-A908-40DD-A29A-8F5F82D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2A23-5663-410E-852F-C3FC134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40D-ECCE-4176-9476-EC20A5D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B99A-F404-4F5A-A9AC-F0D7904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E949B-19C1-4A0A-8F1C-D060DBB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D86D-2D9A-48F2-9932-8EE6C8C1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05F8-58D3-408E-B7B8-2C307E75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4DDC-B8C6-4A38-88E0-AEE0A0BC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1121-ED18-4FD0-9592-EEB74802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F1A0-79AD-40FF-89A4-CB2948A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F027-5218-45BF-838C-9D1C7E3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3D76-5869-4263-96AA-A3915344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24BB-6C46-4FAB-8D74-688A6E3D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94-2898-46D1-8C80-91E8AA7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4F46F-7F72-40D9-9857-D870D78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AA59-DDB1-4765-AFEB-A9B0A15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E0A7-BF7D-4634-B8F3-6170E5B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EB21-FFB4-46A5-B014-B7CF7BC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7DB7-F411-44B5-AA35-20693A94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04E3-894E-45DF-8EBB-92E91546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B1ADF-7C2D-40C0-9EF3-C726AA0C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42E1-D753-41C1-97B1-0CD6398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7E794-C45F-4BB3-88B6-1B28826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7213-6010-40C8-AD00-A9FFD863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1CB-9383-4FBD-B123-6A9C41A760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3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5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669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67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F46-D950-4778-8057-EECB7B8591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74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EE0-590A-444C-8FF3-70CDA28CF3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8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9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5F26-4289-4AA0-B0C0-3EC23C7309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5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8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8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A1BA-68B2-49AD-A3A7-A9F8483D02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4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E87-7009-491E-8A94-8F5ACE3F52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0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2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02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BFBB-F4A9-4C59-ABD9-BBDC3B0DB5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99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0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7A73-BAA0-4CFD-8E38-368A0A5F8F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4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5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D40-4AB4-4FE5-B27D-38A1D8D277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24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38D-7A31-41D0-AB87-CCD46C5302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8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31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C36-9F69-4F2F-83D1-A9DF1F586E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colour-pencils.jpg"/>
          <p:cNvPicPr/>
          <p:nvPr/>
        </p:nvPicPr>
        <p:blipFill>
          <a:blip r:embed="rId6"/>
          <a:srcRect l="0" t="0" r="0" b="76850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15DB-EBB9-4768-A89F-1C5FC1008B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38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B92-D5A3-43BB-800F-0AC6175033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F97-89F5-469B-BCE0-0BF97C0EAD0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5F2-343C-4BD9-BAC4-3FC0DA48E2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794-C4DB-47B7-AD73-28B268D9AC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5270-2B85-4523-9EC8-669AFE3E48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570C-5472-41C9-A3E5-B458A49C050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0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1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2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84F-B4DB-4613-85B1-B287A8418D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7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8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9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2A6-9C85-4D8B-A76B-CCB9ADBDEC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262626"/>
                </a:solidFill>
                <a:latin typeface="Arial"/>
              </a:rPr>
              <a:t>мастер-класс </a:t>
            </a: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«Логопедический калейдоскоп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-логопед 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тышкова Татьяна Николаев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Различение слов, близких по звуковому составу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 Gothic"/>
              </a:rPr>
              <a:t>Найди ошибку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слышишь правильное название картинки хлопни в ладош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мт       бам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ант       бама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нт       бав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нп       бан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Различение слов, близких по звуковому составу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65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a53010"/>
                </a:solidFill>
                <a:latin typeface="Century Gothic"/>
              </a:rPr>
              <a:t>Запомни и повтори слов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Панамы – бананы – вагоны – диван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Бананы – вагоны – диваны – панам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Вагоны – диваны – панамы – банан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Дифференциация слогов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entury Gothic"/>
              </a:rPr>
              <a:t>Повтори слог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Па – ба – п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Ба – па – б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Да – та – д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Та – да – 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Фа – ва – ф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Ва – фа – в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54" name="Picture 4" descr="SO01955_"/>
          <p:cNvPicPr/>
          <p:nvPr/>
        </p:nvPicPr>
        <p:blipFill>
          <a:blip r:embed="rId2"/>
          <a:stretch/>
        </p:blipFill>
        <p:spPr>
          <a:xfrm rot="328800">
            <a:off x="4571640" y="2349000"/>
            <a:ext cx="3133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Дифференциация фонем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Дети шагают под музыку. Затем если услышат слово, начинающееся со звука /З/, они хлопают в ладоши, а если слово со звука /Ж/ - приседают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57" name="Picture 4" descr="BD07889_"/>
          <p:cNvPicPr/>
          <p:nvPr/>
        </p:nvPicPr>
        <p:blipFill>
          <a:blip r:embed="rId2"/>
          <a:stretch/>
        </p:blipFill>
        <p:spPr>
          <a:xfrm>
            <a:off x="3348000" y="3860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4"/>
          <p:cNvSpPr/>
          <p:nvPr/>
        </p:nvSpPr>
        <p:spPr>
          <a:xfrm>
            <a:off x="468360" y="321156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 от родителей часто слышат такие сло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 нас стихи не запоминаются!!! Не может быстро запомнить текст, путается в строчках, переставляет слова мест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5" descr="0_ca2e5_39eb4984_orig"/>
          <p:cNvPicPr/>
          <p:nvPr/>
        </p:nvPicPr>
        <p:blipFill>
          <a:blip r:embed="rId2"/>
          <a:stretch/>
        </p:blipFill>
        <p:spPr>
          <a:xfrm>
            <a:off x="5867280" y="260280"/>
            <a:ext cx="2268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«Учите ребёнка каким-нибудь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неизвестным ему словам –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он будет долго и напрасно мучиться,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но свяжите двадцать таких сло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с картинками и он их усвоит на лету»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                                                      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К.Д. Ушински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4"/>
          <p:cNvSpPr/>
          <p:nvPr/>
        </p:nvSpPr>
        <p:spPr>
          <a:xfrm>
            <a:off x="324000" y="1979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истема специальных прие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вана облегчить запоминание и увеличить объем памяти, путем образования дополнительных ассоци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АКТУАЛЬНОСТЬ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84360" y="1773360"/>
            <a:ext cx="7850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1.Мнемотехника облегчает детям овладение связной речью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2. Ребёнок с опорой на образы памяти устанавливает причинно-следственные связи, делает выводы, развивая тем самым логическое мышлени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3. Применения мнемотехники, использование обобщений позволяют ребёнку систематизировать свой непосредственный опыт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Organization Chart 2"/>
          <p:cNvGrpSpPr/>
          <p:nvPr/>
        </p:nvGrpSpPr>
        <p:grpSpPr>
          <a:xfrm>
            <a:off x="179280" y="621360"/>
            <a:ext cx="8414640" cy="5323680"/>
            <a:chOff x="179280" y="621360"/>
            <a:chExt cx="8414640" cy="5323680"/>
          </a:xfrm>
        </p:grpSpPr>
        <p:cxnSp>
          <p:nvCxnSpPr>
            <p:cNvPr id="1465" name="_s1028"/>
            <p:cNvCxnSpPr>
              <a:stCxn id="1466" idx="0"/>
              <a:endCxn id="1467" idx="2"/>
            </p:cNvCxnSpPr>
            <p:nvPr/>
          </p:nvCxnSpPr>
          <p:spPr>
            <a:xfrm flipV="1" rot="16200000">
              <a:off x="5605560" y="1973520"/>
              <a:ext cx="834840" cy="261828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8" name="_s1029"/>
            <p:cNvCxnSpPr>
              <a:stCxn id="1469" idx="0"/>
              <a:endCxn id="1467" idx="2"/>
            </p:cNvCxnSpPr>
            <p:nvPr/>
          </p:nvCxnSpPr>
          <p:spPr>
            <a:xfrm flipH="1" flipV="1" rot="5400000">
              <a:off x="4132800" y="3118680"/>
              <a:ext cx="834840" cy="32796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0" name="_s1030"/>
            <p:cNvCxnSpPr>
              <a:stCxn id="1471" idx="0"/>
              <a:endCxn id="1467" idx="2"/>
            </p:cNvCxnSpPr>
            <p:nvPr/>
          </p:nvCxnSpPr>
          <p:spPr>
            <a:xfrm flipH="1" flipV="1" rot="5400000">
              <a:off x="2660400" y="1646280"/>
              <a:ext cx="834840" cy="327312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7" name="_s1031"/>
            <p:cNvSpPr/>
            <p:nvPr/>
          </p:nvSpPr>
          <p:spPr>
            <a:xfrm>
              <a:off x="1043640" y="621360"/>
              <a:ext cx="733680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66f54"/>
                  </a:solidFill>
                  <a:latin typeface="Comic Sans MS"/>
                </a:rPr>
                <a:t>Мнемотехника строит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66f54"/>
                  </a:solidFill>
                  <a:latin typeface="Comic Sans MS"/>
                </a:rPr>
                <a:t>от простого к слож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_s1032"/>
            <p:cNvSpPr/>
            <p:nvPr/>
          </p:nvSpPr>
          <p:spPr>
            <a:xfrm>
              <a:off x="17928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квадр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_s1033"/>
            <p:cNvSpPr/>
            <p:nvPr/>
          </p:nvSpPr>
          <p:spPr>
            <a:xfrm>
              <a:off x="312444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дорож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_s1034"/>
            <p:cNvSpPr/>
            <p:nvPr/>
          </p:nvSpPr>
          <p:spPr>
            <a:xfrm>
              <a:off x="606960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табли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766f54"/>
                </a:solidFill>
                <a:latin typeface="Century Gothic"/>
              </a:rPr>
              <a:t>мнемоквадрат</a:t>
            </a:r>
            <a:endParaRPr b="0" lang="en-US" sz="65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73" name="Picture 9" descr="Изображение"/>
          <p:cNvPicPr/>
          <p:nvPr/>
        </p:nvPicPr>
        <p:blipFill>
          <a:blip r:embed="rId2"/>
          <a:stretch/>
        </p:blipFill>
        <p:spPr>
          <a:xfrm>
            <a:off x="685800" y="2178000"/>
            <a:ext cx="3772080" cy="295920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248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Мнемоквадрат-</a:t>
            </a: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это графическое или частично графическое изображение предмета, явления природы, персонажа сказки и т.д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Актуальность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Привлечь  родителей к участию в обучении ребенка с проблемами речевого развития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766f54"/>
                </a:solidFill>
                <a:latin typeface="Century Gothic"/>
              </a:rPr>
              <a:t>мнемодорожка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610160" y="1828800"/>
            <a:ext cx="42098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уть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мнемодороже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заключается в следующем: на каждое слово или маленькое словосочетание придумывается изображение; таким образом, весь текст зарисовывается схематично. Глядя на эти схемы- рисунки ребёнок легко воспроизводит текстовую информаци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77" name="Объект 4" descr=""/>
          <p:cNvPicPr/>
          <p:nvPr/>
        </p:nvPicPr>
        <p:blipFill>
          <a:blip r:embed="rId2"/>
          <a:stretch/>
        </p:blipFill>
        <p:spPr>
          <a:xfrm>
            <a:off x="685800" y="2244600"/>
            <a:ext cx="3772080" cy="282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66f54"/>
                </a:solidFill>
                <a:latin typeface="Century Gothic"/>
              </a:rPr>
              <a:t>мнемотаблиц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755640" y="9525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Мнемотаблиц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– это схема, в которую заложена определённая информация. В качестве символов – заместителей используются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едметные картинк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илуэтные изображения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Геометрические фиг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0" name="Picture 6" descr="Изображение 235"/>
          <p:cNvPicPr/>
          <p:nvPr/>
        </p:nvPicPr>
        <p:blipFill>
          <a:blip r:embed="rId2"/>
          <a:stretch/>
        </p:blipFill>
        <p:spPr>
          <a:xfrm>
            <a:off x="4944960" y="1828800"/>
            <a:ext cx="310212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Прямоугольник 1"/>
          <p:cNvSpPr/>
          <p:nvPr/>
        </p:nvSpPr>
        <p:spPr>
          <a:xfrm>
            <a:off x="61128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 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гробам напрями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рзина, не мет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 веселый снегов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литка шокола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е его 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лочка нарядн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10" descr="C:\Users\Светлана\Desktop\снеговик\Безымянный2.jpg"/>
          <p:cNvPicPr/>
          <p:nvPr/>
        </p:nvPicPr>
        <p:blipFill>
          <a:blip r:embed="rId2"/>
          <a:stretch/>
        </p:blipFill>
        <p:spPr>
          <a:xfrm>
            <a:off x="971640" y="2205000"/>
            <a:ext cx="2663640" cy="20034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1" descr="C:\Users\Светлана\Desktop\снеговик\Безымянный1.jpg"/>
          <p:cNvPicPr/>
          <p:nvPr/>
        </p:nvPicPr>
        <p:blipFill>
          <a:blip r:embed="rId3"/>
          <a:stretch/>
        </p:blipFill>
        <p:spPr>
          <a:xfrm>
            <a:off x="3586320" y="2203560"/>
            <a:ext cx="2404800" cy="200484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2" descr="C:\Users\Светлана\Desktop\снеговик\Безымянный3.jpg"/>
          <p:cNvPicPr/>
          <p:nvPr/>
        </p:nvPicPr>
        <p:blipFill>
          <a:blip r:embed="rId4"/>
          <a:stretch/>
        </p:blipFill>
        <p:spPr>
          <a:xfrm>
            <a:off x="5867280" y="2203560"/>
            <a:ext cx="2495520" cy="200484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3" descr="C:\Users\Светлана\Desktop\снеговик\Безымянный4.jpg"/>
          <p:cNvPicPr/>
          <p:nvPr/>
        </p:nvPicPr>
        <p:blipFill>
          <a:blip r:embed="rId5"/>
          <a:stretch/>
        </p:blipFill>
        <p:spPr>
          <a:xfrm>
            <a:off x="968400" y="4208400"/>
            <a:ext cx="1954080" cy="20034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4" descr="C:\Users\Светлана\Desktop\снеговик\Безымянный5.jpg"/>
          <p:cNvPicPr/>
          <p:nvPr/>
        </p:nvPicPr>
        <p:blipFill>
          <a:blip r:embed="rId6"/>
          <a:stretch/>
        </p:blipFill>
        <p:spPr>
          <a:xfrm>
            <a:off x="2922480" y="4203720"/>
            <a:ext cx="1995480" cy="201276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5" descr="C:\Users\Светлана\Desktop\снеговик\Безымянный6.jpg"/>
          <p:cNvPicPr/>
          <p:nvPr/>
        </p:nvPicPr>
        <p:blipFill>
          <a:blip r:embed="rId7"/>
          <a:stretch/>
        </p:blipFill>
        <p:spPr>
          <a:xfrm>
            <a:off x="4788000" y="4149720"/>
            <a:ext cx="1735200" cy="20620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6" descr="C:\Users\Светлана\Desktop\снеговик\Безымянный7.jpg"/>
          <p:cNvPicPr/>
          <p:nvPr/>
        </p:nvPicPr>
        <p:blipFill>
          <a:blip r:embed="rId8"/>
          <a:stretch/>
        </p:blipFill>
        <p:spPr>
          <a:xfrm>
            <a:off x="6489720" y="4130640"/>
            <a:ext cx="1873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entury Gothic"/>
              </a:rPr>
              <a:t>Логоритмика – это система музыкально-двигательных, рече -двигательных и музыкально-речевых игр и упражнений, осуществляемых в целях логопедической коррекции и оздоровительных задач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Г.А. Волкова, в книге </a:t>
            </a:r>
            <a:r>
              <a:rPr b="1" i="1" lang="en-US" sz="2800" spc="-1" strike="noStrike">
                <a:solidFill>
                  <a:srgbClr val="a53010"/>
                </a:solidFill>
                <a:latin typeface="Century Gothic"/>
              </a:rPr>
              <a:t>«Логопедическая ритмика»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 пишет: </a:t>
            </a:r>
            <a:r>
              <a:rPr b="1" i="1" lang="en-US" sz="2800" spc="-1" strike="noStrike">
                <a:solidFill>
                  <a:srgbClr val="a53010"/>
                </a:solidFill>
                <a:latin typeface="Century Gothic"/>
              </a:rPr>
              <a:t>«Важнейшей задачей, определяющей особую значимость логопедической ритмики как одного из звеньев логопедической коррекции, является формирование и развитие у детей с речевой патологией двигательных способностей как основы воспитания речи, перевоспитания и устранения речевых нарушений.»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8000640" y="3214440"/>
            <a:ext cx="4019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a5301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Игры и упражнения по логопедической ритмике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a53010"/>
                </a:solidFill>
                <a:latin typeface="Century Gothic"/>
              </a:rPr>
              <a:t>Упражнение на развитие фонематического слуха – «Поезд» (дети стоят в колонну, руки на поясе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a53010"/>
                </a:solidFill>
                <a:latin typeface="Century Gothic"/>
              </a:rPr>
              <a:t>–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Я буду произносить гласные звуки в медленном темпе – поезд движется, если услышите звук у – останавливаетесь. ( игра проводится 3-4 раза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Century Gothic"/>
              </a:rPr>
              <a:t>Упражнение на развитие мелкой моторики </a:t>
            </a:r>
            <a:r>
              <a:rPr b="0" lang="en-US" sz="3600" spc="-1" strike="noStrike">
                <a:solidFill>
                  <a:srgbClr val="000099"/>
                </a:solidFill>
                <a:latin typeface="Century Gothic"/>
              </a:rPr>
              <a:t>(мелодия «Крик петуха»; движения выполняются на сильную долю</a:t>
            </a:r>
            <a:br>
              <a:rPr sz="3600"/>
            </a:br>
            <a:r>
              <a:rPr b="0" lang="en-US" sz="3600" spc="-1" strike="noStrike">
                <a:solidFill>
                  <a:srgbClr val="a53010"/>
                </a:solidFill>
                <a:latin typeface="Century Gothic"/>
              </a:rPr>
              <a:t>хлопок , ребро, ладо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999800" y="29714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Музыкально-ритмическая игра </a:t>
            </a:r>
            <a:r>
              <a:rPr b="1" i="1" lang="en-US" sz="2800" spc="-1" strike="noStrike">
                <a:solidFill>
                  <a:srgbClr val="262626"/>
                </a:solidFill>
                <a:latin typeface="Century Gothic"/>
              </a:rPr>
              <a:t>«Птицы – пальчики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692000" y="1412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(с палочками или карандашами)</a:t>
            </a: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автор Железнова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тицы пальчики летят, то вперед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а то назад, что за пальчики, скажи – это пальчики мо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ми по столу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Вверх  взлетели высоко, полетели далеко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вот уже над головой–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не пора ли вам дом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 о палочку над голов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тицы возвращались, плавно опускались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рилетели сели – кушать захоте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 о палочку перед соб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росто поклевали, видно, что уста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о очереди палочками по столу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альцы отдыхают и опять взлетают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Палочки лежат на столе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(Упражнение можно  использовать на занятиях по изодеятельности, для развития мелкой моторики, по формированию элементарных экологических представлений в старшем дошкольном возрасте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)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Упражнение на координацию движений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(мелодия Гномики 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часть(обычная ходьба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2 часть , ходьба перекрестным шаго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3 часть соединяем локоть  левой руки с коленом провой ноги (и раскрываем руку и ногу), То же повторить с правым локтем  и левым коленом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605016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ЖЕЛАЮ</a:t>
            </a:r>
            <a:br>
              <a:rPr sz="5400"/>
            </a:b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УДАЧИ!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928520" y="142848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знакомить родителей с приемами работы логопед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бучать родителей развитию фонематического слух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бучать приемам мнемотехник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казать значимость применения логоритмики  для речевого развития дошкольников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Прекрасен мир звуков! Прекрасен потому, что жить в нем радостно и интересно.  Стоит на мгновение закрыть уши, как сразу замолкнут все звуки   и обеднеет для нас мир.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071440" y="4571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 </a:t>
            </a: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Непременным условием для развития речи является способность слышать. Даже незначительное снижение физического слуха в раннем детстве вызывает задержку речевого развития Если ребенок слышит, как осторожно скрипнула дверь, отличает приближающийся гул машины, отличает шум ветра от шума дождя - то у него все в порядке с физиологическим слухом. 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Ребенок появляется на свет, обладая врожденной чувствительностью к звукам . На третьей-четвертой неделе жизни у ребёнка слуховое сосредоточение не только на сильный звук, но и на речь взрослого человека. А к трем годам фонематический слух должен быть сформирован</a:t>
            </a:r>
            <a:r>
              <a:rPr b="1" lang="en-US" sz="2400" spc="-1" strike="noStrike">
                <a:solidFill>
                  <a:srgbClr val="262626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           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Развитие фонематического слуха у детей -залог успешного  обучения чтению и письму, а в дальнейшем- и иностранным языкам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476000" y="2636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Развитие фонематического слуха неотъемлемая часть  логопедических занят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Умение сосредоточится на звуке- очень важная особенность человека. Без нее нельзя научить ребенка слушать и слыша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214720" y="35676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Цель игр и упражнений для развития фонематического слух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999800" y="30794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Научить ребенка слушать и слышать 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Игры  и упражнения для развития фонематического  слуха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не речевые звук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Что слышно ?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Ребенку предлагают закрыть глаза и рассказать о том, что он слышит за окно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Что звучит ?(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попросить ребенка определить какой предмет звучит</a:t>
            </a: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Определить чей голос звучит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Ц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р</a:t>
            </a: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к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ТАТЬЯНА</cp:lastModifiedBy>
  <dcterms:modified xsi:type="dcterms:W3CDTF">2019-04-24T03:32:49Z</dcterms:modified>
  <cp:revision>62</cp:revision>
  <dc:subject/>
  <dc:title>Слайд 1</dc:title>
</cp:coreProperties>
</file>