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55EE5-C645-4B23-85CB-450B5B08B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8C69D-65A4-4D11-ABE7-37AE50CF8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89249-06B9-4E4B-8497-26AEDDF10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D6DCF-ABFF-496B-99F0-1A2E38508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28454-546D-4275-9AD7-574DEB4BB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ECEFD-D929-40A3-B819-28201C9FC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641E5-B842-4B03-9195-D544FBDFA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0E411-2C91-44F2-9AA6-D386399BF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DBC3-C9CD-46AE-B577-7C2574E70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81C94-2BCD-49D6-9832-9F349EEE8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4B58-B6A3-4BA0-8EE9-52D40316C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04DF-AB7E-41B5-B251-8057ACF8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CE0B-FE2F-4269-B951-DD30AC9F7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783B9-3982-4088-BEC5-79EF3CC3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44B23-DBF8-4D84-BE36-B9AF1BFE8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EBED0-DE3B-4A89-9B9A-A7C68ECB8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33DD5-8DAC-4C7E-ADAA-0E99AB868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F51AF-932F-474A-8A54-1D1B6FD5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B0DA-1E57-40A2-9D44-A3494313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EB2E-BD43-498C-A8A7-7BA0F619D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35DF-2B0D-4BDB-AAF0-D415CCB8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DAAA-FDB2-45F2-B961-A26986E9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2552-2D7D-45BC-9C51-B099A1543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BAC6-83C8-40A3-90FC-E112AD51B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8BA6-C648-4703-9954-4E8C6E4F7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1C32-685B-43A9-A38B-6EA9185340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2952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резентация на тему :           «Использование  логоритмических упражнений </a:t>
            </a:r>
            <a:br>
              <a:rPr sz="4000"/>
            </a:br>
            <a:r>
              <a:rPr b="1" lang="ru-RU" sz="4000" spc="-1" strike="noStrike">
                <a:solidFill>
                  <a:srgbClr val="ffffb7"/>
                </a:solidFill>
                <a:latin typeface="Arial Black"/>
              </a:rPr>
              <a:t> в непосредственной  образовательной  деятельности»</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итель- логопед:</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атышкова Т.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b7"/>
                </a:solidFill>
                <a:latin typeface="Arial Black"/>
              </a:rPr>
              <a:t>Практическая часть </a:t>
            </a:r>
            <a:endParaRPr b="1" lang="en-US" sz="6000" spc="-1" strike="noStrike">
              <a:solidFill>
                <a:srgbClr val="ffffb7"/>
              </a:solidFill>
              <a:latin typeface="Arial Black"/>
            </a:endParaRPr>
          </a:p>
        </p:txBody>
      </p:sp>
      <p:sp>
        <p:nvSpPr>
          <p:cNvPr id="119" name=""/>
          <p:cNvSpPr/>
          <p:nvPr/>
        </p:nvSpPr>
        <p:spPr>
          <a:xfrm>
            <a:off x="2057760" y="1828800"/>
            <a:ext cx="652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a:rPr>
              <a:t>Логоритмические игры для детей 3-4 лет:</a:t>
            </a:r>
            <a:br>
              <a:rPr sz="2400"/>
            </a:br>
            <a:endParaRPr b="0" lang="en-US" sz="2400" spc="-1" strike="noStrike">
              <a:solidFill>
                <a:srgbClr val="ffffff"/>
              </a:solidFill>
              <a:latin typeface="Arial"/>
            </a:endParaRPr>
          </a:p>
        </p:txBody>
      </p:sp>
      <p:sp>
        <p:nvSpPr>
          <p:cNvPr id="120" name=""/>
          <p:cNvSpPr/>
          <p:nvPr/>
        </p:nvSpPr>
        <p:spPr>
          <a:xfrm>
            <a:off x="2362320" y="281952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ажнение на дыха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тер дует громко в уши (губы трубочкой, тянут звук «УУ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лака плывут над сушей (машут руками над головой  тянут звук «оо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шел дождь и даже гномики(стучат по ладошке пальце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стро спрятались все в домики(руки «домиком»   над головой, приседаю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Упражнение с предметом заменителем(кружки –одуванчики)</a:t>
            </a: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fontScale="91000"/>
          </a:bodyPr>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шли с леса на полянку(«идут» ногами, попутно машут руками ,как при ходьбе)</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увидели цветы ,(тянут звук «ооо»)</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 круглой шапкой белоснежной (показывают руками шапку)</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у старенькой зимы(тянут звук «ууу»)</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дуванчиком зовется  ты спеши в него подуть (сдувают с ладошки  кружок)</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стро с шапкой  расстается( трясут кистями рук сверху вниз)</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лыбнуться не забудь ( широко улыбаются сжимая зуб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38512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Эти короткие игры можно проводить перед прогулкой на улицу или во время водных процедур.</a:t>
            </a:r>
            <a:endParaRPr b="1" lang="en-US" sz="3600" spc="-1" strike="noStrike">
              <a:solidFill>
                <a:srgbClr val="ffffb7"/>
              </a:solidFill>
              <a:latin typeface="Arial Black"/>
            </a:endParaRPr>
          </a:p>
        </p:txBody>
      </p:sp>
      <p:sp>
        <p:nvSpPr>
          <p:cNvPr id="124" name=""/>
          <p:cNvSpPr txBox="1"/>
          <p:nvPr/>
        </p:nvSpPr>
        <p:spPr>
          <a:xfrm>
            <a:off x="762120" y="2666880"/>
            <a:ext cx="800712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ют свои пальчики озорные зайчики.</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мыливают руки , протирают каждый пальчик ,начиная с большог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ытирают руки сухо и скорей идет на кухню (вытирают рук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ческие игры для детей 4-5 лет</a:t>
            </a:r>
            <a:br>
              <a:rPr sz="4400"/>
            </a:br>
            <a:endParaRPr b="1" lang="en-US"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ежит лошадка цок-цок-цок (цокающие движения языком от неба)</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Щебечет птичка в поле (то же цоканье но то зубов</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 бережке сидит дружок( улыбка ,зубы  разжаты)</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 ловит рыбку на море(смыкают и расправляют губ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Развитие дыхания   </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кла хочет спать .(вдох носом, на выдохе протяжный звук «ааа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поем песенку (вдох носом ,на одном выдохе троекратное повторение слога «ла-ла-л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кла Маша уснула ( сопят носо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ческие упражнения после сна</a:t>
            </a:r>
            <a:endParaRPr b="1" lang="en-US" sz="4400" spc="-1" strike="noStrike">
              <a:solidFill>
                <a:srgbClr val="ffffb7"/>
              </a:solidFill>
              <a:latin typeface="Arial Black"/>
            </a:endParaRPr>
          </a:p>
        </p:txBody>
      </p:sp>
      <p:sp>
        <p:nvSpPr>
          <p:cNvPr id="130" name=""/>
          <p:cNvSpPr txBox="1"/>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веселый петушок (вдох , на выдохе  «ко-ко-к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меня есть гребешок( потрясти головой)</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насупленный индюк( вдох, на выдохе «па -па –п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ернышки ищу тюк-тюк(наклоны головой, как будто клюет зерн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лошадка озорная (цоканье языком от неб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вост игрива золотая ( потрясти голов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ЛОГОРИТМИЧЕСКИЕ УПРАЖНЕНИ ДЛЯ 5-6 ЛЕТ</a:t>
            </a:r>
            <a:endParaRPr b="1" lang="en-US" sz="4400" spc="-1" strike="noStrike">
              <a:solidFill>
                <a:srgbClr val="ffffb7"/>
              </a:solidFill>
              <a:latin typeface="Arial Black"/>
            </a:endParaRPr>
          </a:p>
        </p:txBody>
      </p:sp>
      <p:sp>
        <p:nvSpPr>
          <p:cNvPr id="13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пражнения на развитие речевого дыхания.  </a:t>
            </a:r>
            <a:br>
              <a:rPr sz="3200"/>
            </a:br>
            <a:r>
              <a:rPr b="0" lang="en-US" sz="3200" spc="-1" strike="noStrike">
                <a:solidFill>
                  <a:srgbClr val="ffffff"/>
                </a:solidFill>
                <a:latin typeface="Arial"/>
              </a:rPr>
              <a:t>Упражнение «Снежинка»  Положить на ладошку шарик из ваты, предложить ребенку сдуть «снежинку» и посмотреть, как она летит. Повторить 3-4 раза</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Мимические упражнения на развитие артикуляционного аппарата.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34"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пражнение №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Белка с ветки в свой домишко Перетаскивала шишку. Дети мимикой выражают смену настроений в стихотворении, Белка шишку уронила, Прямо в мишку угодила. Застонал, заохал Мишка: - На носу вскочила шишка! </a:t>
            </a:r>
            <a:endParaRPr b="0" lang="en-US" sz="2400" spc="-1" strike="noStrike">
              <a:solidFill>
                <a:srgbClr val="ffffff"/>
              </a:solidFill>
              <a:latin typeface="Arial"/>
            </a:endParaRPr>
          </a:p>
        </p:txBody>
      </p:sp>
      <p:sp>
        <p:nvSpPr>
          <p:cNvPr id="135"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ражнение №2 «Удивились», «Огорчились», «Горький лук», «Веселимся», «Режем лимон», «Разбилась чашка», «Мама пришла» и т.д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90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Ножки» игра с палочками или карандашами. (</a:t>
            </a:r>
            <a:r>
              <a:rPr b="1" lang="en-US" sz="2000" spc="-1" strike="noStrike">
                <a:solidFill>
                  <a:srgbClr val="ffffb7"/>
                </a:solidFill>
                <a:latin typeface="Arial Black"/>
              </a:rPr>
              <a:t>Во </a:t>
            </a:r>
            <a:r>
              <a:rPr b="1" lang="en-US" sz="2400" spc="-1" strike="noStrike">
                <a:solidFill>
                  <a:srgbClr val="ffffb7"/>
                </a:solidFill>
                <a:latin typeface="Arial Black"/>
              </a:rPr>
              <a:t>время</a:t>
            </a:r>
            <a:r>
              <a:rPr b="1" lang="en-US" sz="2000" spc="-1" strike="noStrike">
                <a:solidFill>
                  <a:srgbClr val="ffffb7"/>
                </a:solidFill>
                <a:latin typeface="Arial Black"/>
              </a:rPr>
              <a:t> продуктивной деятельности</a:t>
            </a:r>
            <a:r>
              <a:rPr b="1" lang="en-US" sz="3600" spc="-1" strike="noStrike">
                <a:solidFill>
                  <a:srgbClr val="ffffb7"/>
                </a:solidFill>
                <a:latin typeface="Arial Black"/>
              </a:rPr>
              <a:t> )</a:t>
            </a:r>
            <a:endParaRPr b="1" lang="en-US" sz="3600" spc="-1" strike="noStrike">
              <a:solidFill>
                <a:srgbClr val="ffffb7"/>
              </a:solidFill>
              <a:latin typeface="Arial Black"/>
            </a:endParaRPr>
          </a:p>
        </p:txBody>
      </p:sp>
      <p:sp>
        <p:nvSpPr>
          <p:cNvPr id="137" name="PlaceHolder 2"/>
          <p:cNvSpPr>
            <a:spLocks noGrp="1"/>
          </p:cNvSpPr>
          <p:nvPr>
            <p:ph type="subTitle"/>
          </p:nvPr>
        </p:nvSpPr>
        <p:spPr>
          <a:xfrm>
            <a:off x="1371600" y="2666520"/>
            <a:ext cx="6400800" cy="2971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ожки, ножки, вы шагали? Мы шагали, мы шагали! - ритмичные удары палочками по полу Ножки, ножки, вы бежали? Мы бежали, мы бежали! - ритмичные удары в темпе бега Ножки, ножки, вы стучали? Мы стучали, мы стучали! - удары свободными концом палочки об пол Ножки, ножки, вы плясали? Мы плясали, мы плясали! - удары палочкой крест на крест Ножки, ножки, вы устали? Мы устали, мы устали! - удары лежащих палочек друг о друга Ножки, ножки, отдыхали? Отдыхали, отдыхал! - поглаживание руками лежащих палочек И опять всё начинали! - ритмичные удары по полу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 </a:t>
            </a:r>
            <a:r>
              <a:rPr b="1" lang="en-US" sz="2400" spc="-1" strike="noStrike">
                <a:solidFill>
                  <a:srgbClr val="ffffb7"/>
                </a:solidFill>
                <a:latin typeface="Arial Black"/>
              </a:rPr>
              <a:t>Музыкально-ритмическая игра </a:t>
            </a:r>
            <a:r>
              <a:rPr b="1" i="1" lang="en-US" sz="2400" spc="-1" strike="noStrike">
                <a:solidFill>
                  <a:srgbClr val="ffffb7"/>
                </a:solidFill>
                <a:latin typeface="Arial Black"/>
              </a:rPr>
              <a:t>«Птицы – пальчики»</a:t>
            </a:r>
            <a:br>
              <a:rPr sz="2400"/>
            </a:br>
            <a:r>
              <a:rPr b="1" i="1" lang="en-US" sz="2400" spc="-1" strike="noStrike">
                <a:solidFill>
                  <a:srgbClr val="ffffb7"/>
                </a:solidFill>
                <a:latin typeface="Arial Black"/>
              </a:rPr>
              <a:t>(с палочками или карандашами)</a:t>
            </a:r>
            <a:r>
              <a:rPr b="1" lang="en-US" sz="2400" spc="-1" strike="noStrike">
                <a:solidFill>
                  <a:srgbClr val="ffffb7"/>
                </a:solidFill>
                <a:latin typeface="Arial Black"/>
              </a:rPr>
              <a:t> автор Железнова</a:t>
            </a:r>
            <a:br>
              <a:rPr sz="2400"/>
            </a:br>
            <a:endParaRPr b="1" lang="en-US" sz="2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тицы пальчики летят, то вперед,</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то назад, что за пальчики, скажи – это пальчики мо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тучим палочками по столу.</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рх  взлетели высоко, полетели далеко,</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т уже над голов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пора ли вам дом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Стучим палочка о палочку над голов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тицы возвращались, плавно опускались,</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летели сели – кушать захотел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тучим палочка о палочку перед соб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сто поклевали, видно, что устал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Стучим по очереди палочками по столу.</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льцы отдыхают и опять взлетают.</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Палочки лежат на столе.</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Упражнение можно  использовать на занятиях по изодеятельности, для развития мелкой моторики, по формированию элементарных экологических представлений в старшем дошкольном возрасте</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Актуальность </a:t>
            </a:r>
            <a:endParaRPr b="1" lang="en-US" sz="4400" spc="-1" strike="noStrike">
              <a:solidFill>
                <a:srgbClr val="ffffb7"/>
              </a:solidFill>
              <a:latin typeface="Arial Black"/>
            </a:endParaRPr>
          </a:p>
        </p:txBody>
      </p:sp>
      <p:sp>
        <p:nvSpPr>
          <p:cNvPr id="101"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последние годы отмечается увелечение детей с нарушением речи.</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длагаю вам  логоритмические упражнения способствующие оказать помощь в условиях общеразвивающего детского сада детям с нарушением реч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Обезьянки» речедвигательное упражнение</a:t>
            </a:r>
            <a:br>
              <a:rPr sz="3200"/>
            </a:br>
            <a:r>
              <a:rPr b="1" lang="ru-RU" sz="3200" spc="-1" strike="noStrike">
                <a:solidFill>
                  <a:srgbClr val="ffffb7"/>
                </a:solidFill>
                <a:latin typeface="Arial Black"/>
              </a:rPr>
              <a:t>. Использовать после сна</a:t>
            </a:r>
            <a:br>
              <a:rPr sz="3200"/>
            </a:b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но утром на полянке Так резвятся обезьянки: (хлопаем) Правой ножкой топ, топ! (топаем правой ногой) Левой ножкой топ, топ! (топаем левой ногой) Руки вверх, вверх, вверх! (поднимаем руки вверх) Кто поднимет выше всех? (встаем на носочки и тянемся еще выш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a:t>
            </a:r>
            <a:r>
              <a:rPr b="1" lang="en-US" sz="3200" spc="-1" strike="noStrike">
                <a:solidFill>
                  <a:srgbClr val="ffffb7"/>
                </a:solidFill>
                <a:latin typeface="Arial Black"/>
              </a:rPr>
              <a:t>Кошка» речевое упражнение с элементами релаксации</a:t>
            </a:r>
            <a:br>
              <a:rPr sz="3200"/>
            </a:br>
            <a:br>
              <a:rPr sz="3200"/>
            </a:br>
            <a:endParaRPr b="1" lang="en-US" sz="3200" spc="-1" strike="noStrike">
              <a:solidFill>
                <a:srgbClr val="ffffb7"/>
              </a:solidFill>
              <a:latin typeface="Arial Black"/>
            </a:endParaRPr>
          </a:p>
        </p:txBody>
      </p:sp>
      <p:sp>
        <p:nvSpPr>
          <p:cNvPr id="143" name="PlaceHolder 2"/>
          <p:cNvSpPr>
            <a:spLocks noGrp="1"/>
          </p:cNvSpPr>
          <p:nvPr>
            <p:ph/>
          </p:nvPr>
        </p:nvSpPr>
        <p:spPr>
          <a:xfrm>
            <a:off x="1136160" y="13716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т окошко распахнулось. (руки в стороны) Вышла кошка на карниз. (имитация мягкой, грациозной походки кошки) Посмотрела кошка наверх, (запрокинуть голову, посмотреть вверх) Посмотрела кошка вниз. (опустить голову, посмотреть вниз) Вот налево повернулась, (повернуть голову налево) Проводила взглядом мух. (повернуть голову направо, взглядом "проводить" муху) Потянулась, улыбнулась (соответствующие движения и мимика) И уселась на карниз. (присест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Часы» пальчиковая игра </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ти сидят на полу (на коленях). Мышь полезла в первый раз посмотреть который час.  Вдруг часы сказали: «Бом!», Один хлопок над головой.  Мышь скатилась кувырком. Руки скатываются на пол.  Мышь полезла второй раз посмотреть который час. «Бегут» пальчиками от пола до макушки. Вдруг часы сказали: «Бом, бом!»   Два хлопка. Мышь скатилась кувырком. Руки скатываются на пол.  Мышь полезла в третий раз . (как динамическая пауз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Рыбки» пальчиковая игра</a:t>
            </a:r>
            <a:br>
              <a:rPr sz="4000"/>
            </a:br>
            <a:br>
              <a:rPr sz="4000"/>
            </a:br>
            <a:endParaRPr b="1" lang="en-US" sz="40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адони сомкнуты, чуть округлены. Выполняют волнообразные движения в воздухе. ПЯТЬ МАЛЕНЬКИХ РЫБОК ИГРАЛИ В РЕКЕ, Руки прижаты друг к другу. Переворачивают их с боку на бок. ЛЕЖАЛО БОЛЬШОЕ БРЕВНО НА ПЕСКЕ, Ладони сомкнуты, чуть округлены. Выполняют ими «ныряющее» движение. И РЫБКА СКАЗАЛА: «НЫРЯТЬ ЗДЕСЬ ЛЕГКО!» Качают сомкнутыми ладонями (отрицательный жест). ВТОРАЯ СКАЗАЛА: «ВЕДЬ ЗДЕСЬ ГЛУБОКО.» Ладони поворачиваются на тыльную сторону одной из рук (рыбка спит). А ТРЕТЬЯ СКАЗАЛА: «МНЕ ХОЧЕТСЯ СПАТЬ!» Быстро качают ладонями (дрожь). ЧЕТВЁРТАЯ СТАЛА ЧУТЬ-ЧУТЬ ЗАМЕРЗАТЬ. Запястья соединены. Ладони раскрываются и соединяются (рот). А ПЯТАЯ КРИКНУЛА: «ЗДЕСЬ КРОКОДИЛ!   Быстрые волнообразные движения сомкнутыми ладонями (уплывают). ПЛЫВИТЕ СКОРЕЙ, ЧТОБЫ НЕ ПРОГЛОТИЛ!»     ( как  динамическая пауз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ля детей 6-7 лет </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е на дыхание </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качай куклу</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е для развития речевых и мимических движений.</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дагог</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т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ы будешь толстяком помидором, а ты – худышкой петрушкой, ты – толстушкой капустой, а ты – худышкой луком и т.д. справа от меня овощи-худышки, слева овощи-толстяки и толстушк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третились толстяки и худышк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дивились худышки: </a:t>
            </a:r>
            <a:r>
              <a:rPr b="1" i="1" lang="ru-RU" sz="1800" spc="-1" strike="noStrike">
                <a:solidFill>
                  <a:srgbClr val="ffffff"/>
                </a:solidFill>
                <a:latin typeface="Arial"/>
              </a:rPr>
              <a:t>«Ах, какие вы толс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ердились толстяки и толстушки: </a:t>
            </a:r>
            <a:r>
              <a:rPr b="1" i="1" lang="ru-RU" sz="1800" spc="-1" strike="noStrike">
                <a:solidFill>
                  <a:srgbClr val="ffffff"/>
                </a:solidFill>
                <a:latin typeface="Arial"/>
              </a:rPr>
              <a:t>«Не такие уж мы толс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ще больше удивились худышки: </a:t>
            </a:r>
            <a:r>
              <a:rPr b="1" i="1" lang="ru-RU" sz="1800" spc="-1" strike="noStrike">
                <a:solidFill>
                  <a:srgbClr val="ffffff"/>
                </a:solidFill>
                <a:latin typeface="Arial"/>
              </a:rPr>
              <a:t>«О, да вы еще и серди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ще больше рассердились толстяки и толстушки: </a:t>
            </a:r>
            <a:r>
              <a:rPr b="1" i="1" lang="ru-RU" sz="1800" spc="-1" strike="noStrike">
                <a:solidFill>
                  <a:srgbClr val="ffffff"/>
                </a:solidFill>
                <a:latin typeface="Arial"/>
              </a:rPr>
              <a:t>«У-у-у! Мы действительно серди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морщили нос худышки: </a:t>
            </a:r>
            <a:r>
              <a:rPr b="1" i="1" lang="ru-RU" sz="1800" spc="-1" strike="noStrike">
                <a:solidFill>
                  <a:srgbClr val="ffffff"/>
                </a:solidFill>
                <a:latin typeface="Arial"/>
              </a:rPr>
              <a:t>«Ф-фу! Не хотим с вами в одном огороде раст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ивили губы толстяки и толстушки: </a:t>
            </a:r>
            <a:r>
              <a:rPr b="1" i="1" lang="ru-RU" sz="1800" spc="-1" strike="noStrike">
                <a:solidFill>
                  <a:srgbClr val="ffffff"/>
                </a:solidFill>
                <a:latin typeface="Arial"/>
              </a:rPr>
              <a:t>«Пф! Ну и не надо!»</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удышки втягивают щеки, толстяки надувают ще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игра топни , хлопни и присядь»</a:t>
            </a:r>
            <a:r>
              <a:rPr b="1" lang="en-US" sz="4000" spc="-1" strike="noStrike">
                <a:solidFill>
                  <a:srgbClr val="ffffb7"/>
                </a:solidFill>
                <a:latin typeface="Arial Black"/>
              </a:rPr>
              <a:t> </a:t>
            </a:r>
            <a:endParaRPr b="1" lang="en-US" sz="40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спользовать как динамическую паузу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гда звучит трещотка дети топают , на звучание колокольчика хлопают ,  </a:t>
            </a: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УБЕНЦИ ПРИСЕДАЮ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то больше запомнит!»</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едущий: «Ребята, кто из вас больше запомнит звуков? Я буду произносить цепочку звуков, вы сначала внимательно ее послушайте, а затем по моей команде повторит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аем первую цепочку: «А–О–У–Э». Затем ведущий просит повторить ее одного из ребят. Если звуки произнесены верно, то цепочку звуков повторяет хором вся группа. Если же была допущена ошибка, то ведущий просит: «Ребята, я был невнимателен и прослушал. Помогите мне, пожалуйста, повторите звуки еще раз».</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торая цепочка может выглядеть так: «У–А–Ы–И–Э–О». Работа с ней идет по тому же алгоритм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тем в звуковые ряды вводятся вместе с гласными и согласные зву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амое главное – постепенное увеличение объема после того, как вы убедитесь, что дети легко справляются с предыдущим упражнение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можно использовать перед прогулкой, приемом пищ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гра с мячом» </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едагог  предлагает каждому ребенку быть звуком С и «получить подарок» — гласный звук {А, О, У, Ы, И). Далее, кидая ребенку мяч, он называет только гласный, а тот, возвращая мяч, называет слог со звуком С (СА, </a:t>
            </a:r>
            <a:r>
              <a:rPr b="1" lang="en-US" sz="3200" spc="-1" strike="noStrike">
                <a:solidFill>
                  <a:srgbClr val="ffffff"/>
                </a:solidFill>
                <a:latin typeface="Arial"/>
              </a:rPr>
              <a:t>СО, СУ, СЫ). (организовать детей на заняти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Упражнения после сна </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ссаж тела «Лягушата»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ягушата встали, потянулись И друг другу улыбнулис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гибают спинки, Спинки-тростин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жками затопали, Ручками захлопал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тучим ладошкой  По ручкам мы немножк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потом, потом, потом Грудку мы чуть-чуть побье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лоп-хлоп тут и там, И немного по бока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лопают ладошки Нас уже по ножка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гладили ладошки. И ручки, и нож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ягушата скажут: «Ква!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ыгать весело, друзь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30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b7"/>
                </a:solidFill>
                <a:latin typeface="Arial Black"/>
              </a:rPr>
              <a:t>Спасибо за внимание !!!</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ка- это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стема музыкально- двигательных  и </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чедвигательных заданий и упраждений ,</a:t>
            </a:r>
            <a:endParaRPr b="0" lang="en-US" sz="3200" spc="-1" strike="noStrike">
              <a:solidFill>
                <a:srgbClr val="ffffff"/>
              </a:solidFill>
              <a:latin typeface="Arial"/>
            </a:endParaRPr>
          </a:p>
          <a:p>
            <a:pPr marL="343080" indent="-343080" algn="ct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на основана  на использовании  связи </a:t>
            </a:r>
            <a:r>
              <a:rPr b="0" lang="ru-RU" sz="2800" spc="-1" strike="noStrike">
                <a:solidFill>
                  <a:srgbClr val="ffffff"/>
                </a:solidFill>
                <a:latin typeface="Arial"/>
              </a:rPr>
              <a:t>слова, музыки и движ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дачи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ие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хового внимани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ого,звукового, тембрового,</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намического слуха, чувства ритма, певческого динамического голос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торики пальцев рук , мимики , Пантомимики, пространственных  организаций движени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ыхания ;речевой моторики для формирования артикуляционной базы звуков;</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спитание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ие перевоплощаться , выразительности и грации движений , умение определять характер музыки , согласовывать ее с движение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ключаемости с одного вида  деятельности на друго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ормирование , развития и коррек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хо –зрительно –двигательной координа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Гипотеза </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ьзование  элементов логоритмики в  развивающей деятельности детей развивает у дошкольников музыкально-ритмический слух, обеспечивает формирование двигательной сферы в целом, а также повышает эффективность коррекционного воздействия на восприятие ими ритмической структуры речи.</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труктура логоритмики</a:t>
            </a:r>
            <a:endParaRPr b="1" lang="en-US" sz="4400" spc="-1" strike="noStrike">
              <a:solidFill>
                <a:srgbClr val="ffffb7"/>
              </a:solidFill>
              <a:latin typeface="Arial Black"/>
            </a:endParaRPr>
          </a:p>
        </p:txBody>
      </p:sp>
      <p:sp>
        <p:nvSpPr>
          <p:cNvPr id="109" name=""/>
          <p:cNvSpPr txBox="1"/>
          <p:nvPr/>
        </p:nvSpPr>
        <p:spPr>
          <a:xfrm>
            <a:off x="837720" y="1447560"/>
            <a:ext cx="8007480" cy="4190760"/>
          </a:xfrm>
          <a:prstGeom prst="rect">
            <a:avLst/>
          </a:prstGeom>
          <a:noFill/>
          <a:ln w="0">
            <a:noFill/>
          </a:ln>
        </p:spPr>
        <p:txBody>
          <a:bodyPr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моциональная разминка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че - двигательные игры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ого - игры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гровой массаж</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альчиковая гимнастика</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гро - гимнастика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моционально – волевой тренинг Коррекционные упражнен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ЛОГОРИТМИКА ВКЛЮЧАЕТ В СЕБЯ </a:t>
            </a:r>
            <a:br>
              <a:rPr sz="2800"/>
            </a:br>
            <a:r>
              <a:rPr b="1" lang="en-US" sz="2800" spc="-1" strike="noStrike">
                <a:solidFill>
                  <a:srgbClr val="ffffb7"/>
                </a:solidFill>
                <a:latin typeface="Arial Black"/>
              </a:rPr>
              <a:t>СЛЕДУЮЩИЕ ЭЛЕМЕНТЫ :</a:t>
            </a:r>
            <a:endParaRPr b="1" lang="en-US" sz="2800" spc="-1" strike="noStrike">
              <a:solidFill>
                <a:srgbClr val="ffffb7"/>
              </a:solidFill>
              <a:latin typeface="Arial Black"/>
            </a:endParaRPr>
          </a:p>
        </p:txBody>
      </p:sp>
      <p:sp>
        <p:nvSpPr>
          <p:cNvPr id="11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ЖНЕНИЯ</a:t>
            </a:r>
            <a:endParaRPr b="0" lang="en-US" sz="24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льчиковая гимнастика, песни и стихи, сопровождаемые движением рук .</a:t>
            </a:r>
            <a:endParaRPr b="0" lang="en-US" sz="1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ые и музыкально- ритмические игры с музыкальными инструментами</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опедическая (артикуляционная) гимнастика, вокально- артикуляционные упражнения. Укрепление мышц органов артикуляции, развитие их подвижности. </a:t>
            </a:r>
            <a:endParaRPr b="0" lang="en-US" sz="1800" spc="-1" strike="noStrike">
              <a:solidFill>
                <a:srgbClr val="ffffff"/>
              </a:solidFill>
              <a:latin typeface="Arial"/>
            </a:endParaRPr>
          </a:p>
        </p:txBody>
      </p:sp>
      <p:sp>
        <p:nvSpPr>
          <p:cNvPr id="112" name="PlaceHolder 3"/>
          <p:cNvSpPr>
            <a:spLocks noGrp="1"/>
          </p:cNvSpPr>
          <p:nvPr>
            <p:ph/>
          </p:nvPr>
        </p:nvSpPr>
        <p:spPr>
          <a:xfrm>
            <a:off x="495288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РАЗВИТИЕ</a:t>
            </a:r>
            <a:endParaRPr b="0" lang="en-US" sz="28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витие мелкой моторики, плавности и выразительности речи, речевого слуха и речевой памяти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витие речи, внимания, умения ориентироваться в пространстве. Развитие чувства ритма </a:t>
            </a:r>
            <a:endParaRPr b="0" lang="en-US" sz="20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звитие певческих данных</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 name="PlaceHolder 2"/>
          <p:cNvSpPr>
            <a:spLocks noGrp="1"/>
          </p:cNvSpPr>
          <p:nvPr>
            <p:ph/>
          </p:nvPr>
        </p:nvSpPr>
        <p:spPr>
          <a:xfrm>
            <a:off x="990360" y="304560"/>
            <a:ext cx="3927240" cy="4190760"/>
          </a:xfrm>
          <a:prstGeom prst="rect">
            <a:avLst/>
          </a:prstGeom>
          <a:noFill/>
          <a:ln w="0">
            <a:noFill/>
          </a:ln>
        </p:spPr>
        <p:txBody>
          <a:bodyPr lIns="90000" rIns="90000" tIns="46800" bIns="46800" anchor="t">
            <a:normAutofit fontScale="94000"/>
          </a:bodyPr>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истоговорки для автоматизации произношения звуков, фонопедические упражнения </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мимических мышц. Коммуникативные игры и танцы</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22200" indent="-32220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общей моторики, соответствующие возрастным особенностям</a:t>
            </a:r>
            <a:r>
              <a:rPr b="0" lang="ru-RU" sz="2400" spc="-1" strike="noStrike">
                <a:solidFill>
                  <a:srgbClr val="ffffff"/>
                </a:solidFill>
                <a:latin typeface="Arial"/>
              </a:rPr>
              <a:t> </a:t>
            </a:r>
            <a:endParaRPr b="0" lang="en-US" sz="2400" spc="-1" strike="noStrike">
              <a:solidFill>
                <a:srgbClr val="ffffff"/>
              </a:solidFill>
              <a:latin typeface="Arial"/>
            </a:endParaRPr>
          </a:p>
          <a:p>
            <a:pPr marL="322200" indent="-32220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словотворчества</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15" name="PlaceHolder 3"/>
          <p:cNvSpPr>
            <a:spLocks noGrp="1"/>
          </p:cNvSpPr>
          <p:nvPr>
            <p:ph/>
          </p:nvPr>
        </p:nvSpPr>
        <p:spPr>
          <a:xfrm>
            <a:off x="4724280" y="152280"/>
            <a:ext cx="3927600" cy="4191120"/>
          </a:xfrm>
          <a:prstGeom prst="rect">
            <a:avLst/>
          </a:prstGeom>
          <a:noFill/>
          <a:ln w="0">
            <a:noFill/>
          </a:ln>
        </p:spPr>
        <p:txBody>
          <a:bodyPr lIns="90000" rIns="90000" tIns="46800" bIns="46800" anchor="t">
            <a:normAutofit fontScale="91000"/>
          </a:bodyPr>
          <a:p>
            <a:pPr marL="312120" indent="-31212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рекция звукопроизношения, укрепление гортани и привитие навыков речевого дыхания </a:t>
            </a:r>
            <a:endParaRPr b="0" lang="en-US" sz="1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ие эмоциональной сферы, ассоциативно- образного мышления, выразительности невербальных средств общения, позитивного самоощущения</a:t>
            </a:r>
            <a:r>
              <a:rPr b="0" lang="ru-RU" sz="2800" spc="-1" strike="noStrike">
                <a:solidFill>
                  <a:srgbClr val="ffffff"/>
                </a:solidFill>
                <a:latin typeface="Arial"/>
              </a:rPr>
              <a:t> </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Развитие мышечно- двигательной и координационной сферы. </a:t>
            </a:r>
            <a:r>
              <a:rPr b="0" lang="ru-RU" sz="2800" spc="-1" strike="noStrike">
                <a:solidFill>
                  <a:srgbClr val="ffffff"/>
                </a:solidFill>
                <a:latin typeface="Arial"/>
              </a:rPr>
              <a:t> </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ширение активного  </a:t>
            </a:r>
            <a:r>
              <a:rPr b="0" lang="ru-RU" sz="1400" spc="-1" strike="noStrike">
                <a:solidFill>
                  <a:srgbClr val="ffffff"/>
                </a:solidFill>
                <a:latin typeface="Arial"/>
              </a:rPr>
              <a:t>СЛОВАРНОГО </a:t>
            </a:r>
            <a:r>
              <a:rPr b="0" lang="ru-RU" sz="1800" spc="-1" strike="noStrike">
                <a:solidFill>
                  <a:srgbClr val="ffffff"/>
                </a:solidFill>
                <a:latin typeface="Arial"/>
              </a:rPr>
              <a:t>запаса детей.</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Рекомендации логопеда </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желательно, чтобы в мелодии встречались большие интервалы.</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Рекомендуется подбирать песни в медленном и среднем темп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Желательно, чтобы в тексте песен было много гласных и звонких соглас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ккомпанемент песенок должен быть несложным. Желательно, чтобы в тексте песен было много гласных и звонких соглас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ккомпанемент песен должен быть несложным.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учше подбирать песни, которые можно инсценирова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кст песни должен соответствовать возрасту и речевым возможностям дете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1:21:43Z</dcterms:created>
  <dc:creator>ТАТЬЯНА</dc:creator>
  <dc:description/>
  <dc:language>en-US</dc:language>
  <cp:lastModifiedBy>ТАТЬЯНА</cp:lastModifiedBy>
  <dcterms:modified xsi:type="dcterms:W3CDTF">2019-05-13T06:07:57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