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FAD29-9E12-4B06-BCE8-E990616BEC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8DDDC-83B5-4851-9491-3880DE874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4608B-FA86-47CF-A2ED-FF2FE28924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4674D-6A60-4384-9022-A7E211DC7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62D95-3CBD-41C5-8F17-7E1D8BA6B6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79EA0-5C45-490D-9533-05B8A2341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C01FB-0C21-41A6-8EB1-7E18F1445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48BFF-E0A2-4E52-AADF-0F75554EE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26E3C-6979-40F1-A125-00AF368EC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1D547-AF32-43F6-BAA4-0A32969A3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638A0-7563-4420-B9D5-351DC0D8F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E453F-B3DF-4AFF-9A4C-312695277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5772C-727E-4672-9A13-7704CAC67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CB4C6-6209-4C8E-9360-51D6957F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23047-301C-4577-AFEE-3F806EEEA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ED326-4424-4240-9158-C7D55A76A7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AFFF2-2DE3-426A-854E-7F1FE9186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2D000-B610-4764-AB28-C5359E8D0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79CF4-0CA0-4196-B628-CE645D9ED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E3164-BAAC-4F8F-8647-792E732B6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E9C31-0187-48CD-903E-D68326C6A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D4A9D-543B-484F-BC2C-92C331590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45780-A42C-4906-A13C-FF1BFA0DD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08B59-C47B-43F3-AC59-82163A7C7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FDD25-11A7-4BCB-A521-66720E55F8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6622-83F8-4E0B-ABD6-64DFFF9814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129528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Презентация на тему :           «Использование  логоритмических упражнений </a:t>
            </a:r>
            <a:br>
              <a:rPr sz="4000"/>
            </a:br>
            <a:r>
              <a:rPr b="1" lang="ru-RU" sz="4000" spc="-1" strike="noStrike">
                <a:solidFill>
                  <a:srgbClr val="ffffb7"/>
                </a:solidFill>
                <a:latin typeface="Arial Black"/>
              </a:rPr>
              <a:t> в непосредственной  образовательной  деятельности»</a:t>
            </a:r>
            <a:endParaRPr b="1" lang="en-US" sz="4000" spc="-1" strike="noStrike">
              <a:solidFill>
                <a:srgbClr val="ffffb7"/>
              </a:solidFill>
              <a:latin typeface="Arial Black"/>
            </a:endParaRPr>
          </a:p>
        </p:txBody>
      </p:sp>
      <p:sp>
        <p:nvSpPr>
          <p:cNvPr id="99"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итель- логопед:</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Латышкова Т.Н.</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b7"/>
                </a:solidFill>
                <a:latin typeface="Arial Black"/>
              </a:rPr>
              <a:t>Практическая часть </a:t>
            </a:r>
            <a:endParaRPr b="1" lang="en-US" sz="6000" spc="-1" strike="noStrike">
              <a:solidFill>
                <a:srgbClr val="ffffb7"/>
              </a:solidFill>
              <a:latin typeface="Arial Black"/>
            </a:endParaRPr>
          </a:p>
        </p:txBody>
      </p:sp>
      <p:sp>
        <p:nvSpPr>
          <p:cNvPr id="119" name=""/>
          <p:cNvSpPr/>
          <p:nvPr/>
        </p:nvSpPr>
        <p:spPr>
          <a:xfrm>
            <a:off x="2057760" y="1828800"/>
            <a:ext cx="6528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b7"/>
                </a:solidFill>
                <a:latin typeface="Arial"/>
              </a:rPr>
              <a:t>Логоритмические игры для детей 3-4 лет:</a:t>
            </a:r>
            <a:br>
              <a:rPr sz="2400"/>
            </a:br>
            <a:endParaRPr b="0" lang="en-US" sz="2400" spc="-1" strike="noStrike">
              <a:solidFill>
                <a:srgbClr val="ffffff"/>
              </a:solidFill>
              <a:latin typeface="Arial"/>
            </a:endParaRPr>
          </a:p>
        </p:txBody>
      </p:sp>
      <p:sp>
        <p:nvSpPr>
          <p:cNvPr id="120" name=""/>
          <p:cNvSpPr/>
          <p:nvPr/>
        </p:nvSpPr>
        <p:spPr>
          <a:xfrm>
            <a:off x="2362320" y="2819520"/>
            <a:ext cx="45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ражнение на дыхани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тер дует громко в уши (губы трубочкой, тянут звук «УУ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лака плывут над сушей (машут руками над головой  тянут звук «ооо»)</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шел дождь и даже гномики(стучат по ладошке пальце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ыстро спрятались все в домики(руки «домиком»   над головой, приседаю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Упражнение с предметом заменителем(кружки –одуванчики)</a:t>
            </a:r>
            <a:endParaRPr b="1" lang="en-US" sz="4400" spc="-1" strike="noStrike">
              <a:solidFill>
                <a:srgbClr val="ffffb7"/>
              </a:solidFill>
              <a:latin typeface="Arial Black"/>
            </a:endParaRPr>
          </a:p>
        </p:txBody>
      </p:sp>
      <p:sp>
        <p:nvSpPr>
          <p:cNvPr id="122" name=""/>
          <p:cNvSpPr txBox="1"/>
          <p:nvPr/>
        </p:nvSpPr>
        <p:spPr>
          <a:xfrm>
            <a:off x="837720" y="1904760"/>
            <a:ext cx="8007480" cy="4190760"/>
          </a:xfrm>
          <a:prstGeom prst="rect">
            <a:avLst/>
          </a:prstGeom>
          <a:noFill/>
          <a:ln w="0">
            <a:noFill/>
          </a:ln>
        </p:spPr>
        <p:txBody>
          <a:bodyPr anchor="t">
            <a:normAutofit fontScale="91000"/>
          </a:bodyPr>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шли с леса на полянку(«идут» ногами, попутно машут руками ,как при ходьбе)</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 увидели цветы ,(тянут звук «ооо»)</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 круглой шапкой белоснежной (показывают руками шапку)</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к у старенькой зимы(тянут звук «ууу»)</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дуванчиком зовется  ты спеши в него подуть (сдувают с ладошки  кружок)</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Быстро с шапкой  расстается( трясут кистями рук сверху вниз)</a:t>
            </a:r>
            <a:endParaRPr b="0" lang="en-US" sz="2400" spc="-1" strike="noStrike">
              <a:solidFill>
                <a:srgbClr val="ffffff"/>
              </a:solidFill>
              <a:latin typeface="Arial"/>
            </a:endParaRPr>
          </a:p>
          <a:p>
            <a:pPr marL="312120" indent="-31212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лыбнуться не забудь ( широко улыбаются сжимая зуб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385120" cy="2438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Эти короткие игры можно проводить перед прогулкой на улицу или во время водных процедур.</a:t>
            </a:r>
            <a:endParaRPr b="1" lang="en-US" sz="3600" spc="-1" strike="noStrike">
              <a:solidFill>
                <a:srgbClr val="ffffb7"/>
              </a:solidFill>
              <a:latin typeface="Arial Black"/>
            </a:endParaRPr>
          </a:p>
        </p:txBody>
      </p:sp>
      <p:sp>
        <p:nvSpPr>
          <p:cNvPr id="124" name=""/>
          <p:cNvSpPr txBox="1"/>
          <p:nvPr/>
        </p:nvSpPr>
        <p:spPr>
          <a:xfrm>
            <a:off x="762120" y="2666880"/>
            <a:ext cx="8007120" cy="4191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Моют свои пальчики озорные зайчики.</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амыливают руки , протирают каждый пальчик ,начиная с большог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Вытирают руки сухо и скорей идет на кухню (вытирают руки)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Логоритмические игры для детей 4-5 лет</a:t>
            </a:r>
            <a:br>
              <a:rPr sz="4400"/>
            </a:br>
            <a:endParaRPr b="1" lang="en-US" sz="4400" spc="-1" strike="noStrike">
              <a:solidFill>
                <a:srgbClr val="ffffb7"/>
              </a:solidFill>
              <a:latin typeface="Arial Black"/>
            </a:endParaRPr>
          </a:p>
        </p:txBody>
      </p:sp>
      <p:sp>
        <p:nvSpPr>
          <p:cNvPr id="126" name=""/>
          <p:cNvSpPr txBox="1"/>
          <p:nvPr/>
        </p:nvSpPr>
        <p:spPr>
          <a:xfrm>
            <a:off x="837720" y="1904760"/>
            <a:ext cx="8007480" cy="4190760"/>
          </a:xfrm>
          <a:prstGeom prst="rect">
            <a:avLst/>
          </a:prstGeom>
          <a:noFill/>
          <a:ln w="0">
            <a:noFill/>
          </a:ln>
        </p:spPr>
        <p:txBody>
          <a:bodyPr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Бежит лошадка цок-цок-цок (цокающие движения языком от неба)</a:t>
            </a: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Щебечет птичка в поле (то же цоканье но то зубов</a:t>
            </a: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На бережке сидит дружок( улыбка ,зубы  разжаты)</a:t>
            </a: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 ловит рыбку на море(смыкают и расправляют губ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Развитие дыхания   </a:t>
            </a:r>
            <a:endParaRPr b="1" lang="en-US" sz="4400" spc="-1" strike="noStrike">
              <a:solidFill>
                <a:srgbClr val="ffffb7"/>
              </a:solidFill>
              <a:latin typeface="Arial Black"/>
            </a:endParaRPr>
          </a:p>
        </p:txBody>
      </p:sp>
      <p:sp>
        <p:nvSpPr>
          <p:cNvPr id="12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укла хочет спать .(вдох носом, на выдохе протяжный звук «ааа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поем песенку (вдох носом ,на одном выдохе троекратное повторение слога «ла-ла-ла»)</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укла Маша уснула ( сопят носом)</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Логоритмические упражнения после сна</a:t>
            </a:r>
            <a:endParaRPr b="1" lang="en-US" sz="4400" spc="-1" strike="noStrike">
              <a:solidFill>
                <a:srgbClr val="ffffb7"/>
              </a:solidFill>
              <a:latin typeface="Arial Black"/>
            </a:endParaRPr>
          </a:p>
        </p:txBody>
      </p:sp>
      <p:sp>
        <p:nvSpPr>
          <p:cNvPr id="130" name=""/>
          <p:cNvSpPr txBox="1"/>
          <p:nvPr/>
        </p:nvSpPr>
        <p:spPr>
          <a:xfrm>
            <a:off x="837720" y="1904760"/>
            <a:ext cx="8007480" cy="419076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 веселый петушок (вдох , на выдохе  «ко-ко-к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 меня есть гребешок( потрясти головой)</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 насупленный индюк( вдох, на выдохе «па -па –па»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ернышки ищу тюк-тюк(наклоны головой, как будто клюет зерна) </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Я лошадка озорная (цоканье языком от неба)</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вост игрива золотая ( потрясти голово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ЛОГОРИТМИЧЕСКИЕ УПРАЖНЕНИ ДЛЯ 5-6 ЛЕТ</a:t>
            </a:r>
            <a:endParaRPr b="1" lang="en-US" sz="4400" spc="-1" strike="noStrike">
              <a:solidFill>
                <a:srgbClr val="ffffb7"/>
              </a:solidFill>
              <a:latin typeface="Arial Black"/>
            </a:endParaRPr>
          </a:p>
        </p:txBody>
      </p:sp>
      <p:sp>
        <p:nvSpPr>
          <p:cNvPr id="13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Упражнения на развитие речевого дыхания.  </a:t>
            </a:r>
            <a:br>
              <a:rPr sz="3200"/>
            </a:br>
            <a:r>
              <a:rPr b="0" lang="en-US" sz="3200" spc="-1" strike="noStrike">
                <a:solidFill>
                  <a:srgbClr val="ffffff"/>
                </a:solidFill>
                <a:latin typeface="Arial"/>
              </a:rPr>
              <a:t>Упражнение «Снежинка»  Положить на ладошку шарик из ваты, предложить ребенку сдуть «снежинку» и посмотреть, как она летит. Повторить 3-4 раза</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Мимические упражнения на развитие артикуляционного аппарата.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34"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Упражнение №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Белка с ветки в свой домишко Перетаскивала шишку. Дети мимикой выражают смену настроений в стихотворении, Белка шишку уронила, Прямо в мишку угодила. Застонал, заохал Мишка: - На носу вскочила шишка! </a:t>
            </a:r>
            <a:endParaRPr b="0" lang="en-US" sz="2400" spc="-1" strike="noStrike">
              <a:solidFill>
                <a:srgbClr val="ffffff"/>
              </a:solidFill>
              <a:latin typeface="Arial"/>
            </a:endParaRPr>
          </a:p>
        </p:txBody>
      </p:sp>
      <p:sp>
        <p:nvSpPr>
          <p:cNvPr id="135" name="PlaceHolder 3"/>
          <p:cNvSpPr>
            <a:spLocks noGrp="1"/>
          </p:cNvSpPr>
          <p:nvPr>
            <p:ph/>
          </p:nvPr>
        </p:nvSpPr>
        <p:spPr>
          <a:xfrm>
            <a:off x="4917960" y="1904760"/>
            <a:ext cx="39276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пражнение №2 «Удивились», «Огорчились», «Горький лук», «Веселимся», «Режем лимон», «Разбилась чашка», «Мама пришла» и т.д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9903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Ножки» игра с палочками или карандашами. (</a:t>
            </a:r>
            <a:r>
              <a:rPr b="1" lang="en-US" sz="2000" spc="-1" strike="noStrike">
                <a:solidFill>
                  <a:srgbClr val="ffffb7"/>
                </a:solidFill>
                <a:latin typeface="Arial Black"/>
              </a:rPr>
              <a:t>Во </a:t>
            </a:r>
            <a:r>
              <a:rPr b="1" lang="en-US" sz="2400" spc="-1" strike="noStrike">
                <a:solidFill>
                  <a:srgbClr val="ffffb7"/>
                </a:solidFill>
                <a:latin typeface="Arial Black"/>
              </a:rPr>
              <a:t>время</a:t>
            </a:r>
            <a:r>
              <a:rPr b="1" lang="en-US" sz="2000" spc="-1" strike="noStrike">
                <a:solidFill>
                  <a:srgbClr val="ffffb7"/>
                </a:solidFill>
                <a:latin typeface="Arial Black"/>
              </a:rPr>
              <a:t> продуктивной деятельности</a:t>
            </a:r>
            <a:r>
              <a:rPr b="1" lang="en-US" sz="3600" spc="-1" strike="noStrike">
                <a:solidFill>
                  <a:srgbClr val="ffffb7"/>
                </a:solidFill>
                <a:latin typeface="Arial Black"/>
              </a:rPr>
              <a:t> )</a:t>
            </a:r>
            <a:endParaRPr b="1" lang="en-US" sz="3600" spc="-1" strike="noStrike">
              <a:solidFill>
                <a:srgbClr val="ffffb7"/>
              </a:solidFill>
              <a:latin typeface="Arial Black"/>
            </a:endParaRPr>
          </a:p>
        </p:txBody>
      </p:sp>
      <p:sp>
        <p:nvSpPr>
          <p:cNvPr id="137" name="PlaceHolder 2"/>
          <p:cNvSpPr>
            <a:spLocks noGrp="1"/>
          </p:cNvSpPr>
          <p:nvPr>
            <p:ph type="subTitle"/>
          </p:nvPr>
        </p:nvSpPr>
        <p:spPr>
          <a:xfrm>
            <a:off x="1371600" y="2666520"/>
            <a:ext cx="6400800" cy="297180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ожки, ножки, вы шагали? Мы шагали, мы шагали! - ритмичные удары палочками по полу Ножки, ножки, вы бежали? Мы бежали, мы бежали! - ритмичные удары в темпе бега Ножки, ножки, вы стучали? Мы стучали, мы стучали! - удары свободными концом палочки об пол Ножки, ножки, вы плясали? Мы плясали, мы плясали! - удары палочкой крест на крест Ножки, ножки, вы устали? Мы устали, мы устали! - удары лежащих палочек друг о друга Ножки, ножки, отдыхали? Отдыхали, отдыхал! - поглаживание руками лежащих палочек И опять всё начинали! - ритмичные удары по полу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b7"/>
                </a:solidFill>
                <a:latin typeface="Arial Black"/>
              </a:rPr>
              <a:t> </a:t>
            </a:r>
            <a:r>
              <a:rPr b="1" lang="en-US" sz="2400" spc="-1" strike="noStrike">
                <a:solidFill>
                  <a:srgbClr val="ffffb7"/>
                </a:solidFill>
                <a:latin typeface="Arial Black"/>
              </a:rPr>
              <a:t>Музыкально-ритмическая игра </a:t>
            </a:r>
            <a:r>
              <a:rPr b="1" i="1" lang="en-US" sz="2400" spc="-1" strike="noStrike">
                <a:solidFill>
                  <a:srgbClr val="ffffb7"/>
                </a:solidFill>
                <a:latin typeface="Arial Black"/>
              </a:rPr>
              <a:t>«Птицы – пальчики»</a:t>
            </a:r>
            <a:br>
              <a:rPr sz="2400"/>
            </a:br>
            <a:r>
              <a:rPr b="1" i="1" lang="en-US" sz="2400" spc="-1" strike="noStrike">
                <a:solidFill>
                  <a:srgbClr val="ffffb7"/>
                </a:solidFill>
                <a:latin typeface="Arial Black"/>
              </a:rPr>
              <a:t>(с палочками или карандашами)</a:t>
            </a:r>
            <a:r>
              <a:rPr b="1" lang="en-US" sz="2400" spc="-1" strike="noStrike">
                <a:solidFill>
                  <a:srgbClr val="ffffb7"/>
                </a:solidFill>
                <a:latin typeface="Arial Black"/>
              </a:rPr>
              <a:t> автор Железнова</a:t>
            </a:r>
            <a:br>
              <a:rPr sz="2400"/>
            </a:br>
            <a:endParaRPr b="1" lang="en-US" sz="2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тицы пальчики летят, то вперед,</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то назад, что за пальчики, скажи – это пальчики мои.</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ru-RU" sz="1800" spc="-1" strike="noStrike">
                <a:solidFill>
                  <a:srgbClr val="ffffff"/>
                </a:solidFill>
                <a:latin typeface="Arial"/>
              </a:rPr>
              <a:t>Стучим палочками по столу.</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верх  взлетели высоко, полетели далеко,</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т уже над головой–</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е пора ли вам домой.</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i="1" lang="ru-RU" sz="1800" spc="-1" strike="noStrike">
                <a:solidFill>
                  <a:srgbClr val="ffffff"/>
                </a:solidFill>
                <a:latin typeface="Arial"/>
              </a:rPr>
              <a:t>Стучим палочка о палочку над головой.</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тицы возвращались, плавно опускались,</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летели сели – кушать захотели.</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 </a:t>
            </a:r>
            <a:r>
              <a:rPr b="0" i="1" lang="ru-RU" sz="1800" spc="-1" strike="noStrike">
                <a:solidFill>
                  <a:srgbClr val="ffffff"/>
                </a:solidFill>
                <a:latin typeface="Arial"/>
              </a:rPr>
              <a:t>Стучим палочка о палочку перед собой.</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сто поклевали, видно, что устали.</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i="1" lang="ru-RU" sz="1800" spc="-1" strike="noStrike">
                <a:solidFill>
                  <a:srgbClr val="ffffff"/>
                </a:solidFill>
                <a:latin typeface="Arial"/>
              </a:rPr>
              <a:t>Стучим по очереди палочками по столу.</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льцы отдыхают и опять взлетают.</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i="1" lang="ru-RU" sz="1800" spc="-1" strike="noStrike">
                <a:solidFill>
                  <a:srgbClr val="ffffff"/>
                </a:solidFill>
                <a:latin typeface="Arial"/>
              </a:rPr>
              <a:t>Палочки лежат на столе.</a:t>
            </a:r>
            <a:endParaRPr b="0" lang="en-US" sz="1800" spc="-1" strike="noStrike">
              <a:solidFill>
                <a:srgbClr val="ffffff"/>
              </a:solidFill>
              <a:latin typeface="Arial"/>
            </a:endParaRPr>
          </a:p>
          <a:p>
            <a:pPr marL="308520" indent="-30852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Arial"/>
              </a:rPr>
              <a:t>(Упражнение можно  использовать на занятиях по изодеятельности, для развития мелкой моторики, по формированию элементарных экологических представлений в старшем дошкольном возрасте</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Актуальность </a:t>
            </a:r>
            <a:endParaRPr b="1" lang="en-US" sz="4400" spc="-1" strike="noStrike">
              <a:solidFill>
                <a:srgbClr val="ffffb7"/>
              </a:solidFill>
              <a:latin typeface="Arial Black"/>
            </a:endParaRPr>
          </a:p>
        </p:txBody>
      </p:sp>
      <p:sp>
        <p:nvSpPr>
          <p:cNvPr id="101" name="PlaceHolder 2"/>
          <p:cNvSpPr>
            <a:spLocks noGrp="1"/>
          </p:cNvSpPr>
          <p:nvPr>
            <p:ph/>
          </p:nvPr>
        </p:nvSpPr>
        <p:spPr>
          <a:xfrm>
            <a:off x="113616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последние годы отмечается увелечение детей с нарушением речи.</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длагаю вам  логоритмические упражнения способствующие оказать помощь в условиях общеразвивающего детского сада детям с нарушением реч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Обезьянки» речедвигательное упражнение</a:t>
            </a:r>
            <a:br>
              <a:rPr sz="3200"/>
            </a:br>
            <a:r>
              <a:rPr b="1" lang="ru-RU" sz="3200" spc="-1" strike="noStrike">
                <a:solidFill>
                  <a:srgbClr val="ffffb7"/>
                </a:solidFill>
                <a:latin typeface="Arial Black"/>
              </a:rPr>
              <a:t>. Использовать после сна</a:t>
            </a:r>
            <a:br>
              <a:rPr sz="3200"/>
            </a:b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ано утром на полянке Так резвятся обезьянки: (хлопаем) Правой ножкой топ, топ! (топаем правой ногой) Левой ножкой топ, топ! (топаем левой ногой) Руки вверх, вверх, вверх! (поднимаем руки вверх) Кто поднимет выше всех? (встаем на носочки и тянемся еще выше)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a:t>
            </a:r>
            <a:r>
              <a:rPr b="1" lang="en-US" sz="3200" spc="-1" strike="noStrike">
                <a:solidFill>
                  <a:srgbClr val="ffffb7"/>
                </a:solidFill>
                <a:latin typeface="Arial Black"/>
              </a:rPr>
              <a:t>Кошка» речевое упражнение с элементами релаксации</a:t>
            </a:r>
            <a:br>
              <a:rPr sz="3200"/>
            </a:br>
            <a:br>
              <a:rPr sz="3200"/>
            </a:br>
            <a:endParaRPr b="1" lang="en-US" sz="3200" spc="-1" strike="noStrike">
              <a:solidFill>
                <a:srgbClr val="ffffb7"/>
              </a:solidFill>
              <a:latin typeface="Arial Black"/>
            </a:endParaRPr>
          </a:p>
        </p:txBody>
      </p:sp>
      <p:sp>
        <p:nvSpPr>
          <p:cNvPr id="143" name="PlaceHolder 2"/>
          <p:cNvSpPr>
            <a:spLocks noGrp="1"/>
          </p:cNvSpPr>
          <p:nvPr>
            <p:ph/>
          </p:nvPr>
        </p:nvSpPr>
        <p:spPr>
          <a:xfrm>
            <a:off x="1136160" y="1371600"/>
            <a:ext cx="8007480" cy="41911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Вот окошко распахнулось. (руки в стороны) Вышла кошка на карниз. (имитация мягкой, грациозной походки кошки) Посмотрела кошка наверх, (запрокинуть голову, посмотреть вверх) Посмотрела кошка вниз. (опустить голову, посмотреть вниз) Вот налево повернулась, (повернуть голову налево) Проводила взглядом мух. (повернуть голову направо, взглядом "проводить" муху) Потянулась, улыбнулась (соответствующие движения и мимика) И уселась на карниз. (присесть)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Часы» пальчиковая игра </a:t>
            </a: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Дети сидят на полу (на коленях). Мышь полезла в первый раз посмотреть который час.  Вдруг часы сказали: «Бом!», Один хлопок над головой.  Мышь скатилась кувырком. Руки скатываются на пол.  Мышь полезла второй раз посмотреть который час. «Бегут» пальчиками от пола до макушки. Вдруг часы сказали: «Бом, бом!»   Два хлопка. Мышь скатилась кувырком. Руки скатываются на пол.  Мышь полезла в третий раз . (как динамическая пауз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b7"/>
                </a:solidFill>
                <a:latin typeface="Arial Black"/>
              </a:rPr>
              <a:t>«Рыбки» пальчиковая игра</a:t>
            </a:r>
            <a:br>
              <a:rPr sz="4000"/>
            </a:br>
            <a:br>
              <a:rPr sz="4000"/>
            </a:br>
            <a:endParaRPr b="1" lang="en-US" sz="40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Ладони сомкнуты, чуть округлены. Выполняют волнообразные движения в воздухе. ПЯТЬ МАЛЕНЬКИХ РЫБОК ИГРАЛИ В РЕКЕ, Руки прижаты друг к другу. Переворачивают их с боку на бок. ЛЕЖАЛО БОЛЬШОЕ БРЕВНО НА ПЕСКЕ, Ладони сомкнуты, чуть округлены. Выполняют ими «ныряющее» движение. И РЫБКА СКАЗАЛА: «НЫРЯТЬ ЗДЕСЬ ЛЕГКО!» Качают сомкнутыми ладонями (отрицательный жест). ВТОРАЯ СКАЗАЛА: «ВЕДЬ ЗДЕСЬ ГЛУБОКО.» Ладони поворачиваются на тыльную сторону одной из рук (рыбка спит). А ТРЕТЬЯ СКАЗАЛА: «МНЕ ХОЧЕТСЯ СПАТЬ!» Быстро качают ладонями (дрожь). ЧЕТВЁРТАЯ СТАЛА ЧУТЬ-ЧУТЬ ЗАМЕРЗАТЬ. Запястья соединены. Ладони раскрываются и соединяются (рот). А ПЯТАЯ КРИКНУЛА: «ЗДЕСЬ КРОКОДИЛ!   Быстрые волнообразные движения сомкнутыми ладонями (уплывают). ПЛЫВИТЕ СКОРЕЙ, ЧТОБЫ НЕ ПРОГЛОТИЛ!»     ( как  динамическая пауз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Для детей 6-7 лет </a:t>
            </a:r>
            <a:endParaRPr b="1" lang="en-US" sz="4400" spc="-1" strike="noStrike">
              <a:solidFill>
                <a:srgbClr val="ffffb7"/>
              </a:solidFill>
              <a:latin typeface="Arial Black"/>
            </a:endParaRPr>
          </a:p>
        </p:txBody>
      </p:sp>
      <p:sp>
        <p:nvSpPr>
          <p:cNvPr id="14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е на дыхание </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качай куклу</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е для развития речевых и мимических движений.</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дагог</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ети</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ы будешь толстяком помидором, а ты – худышкой петрушкой, ты – толстушкой капустой, а ты – худышкой луком и т.д. справа от меня овощи-худышки, слева овощи-толстяки и толстушки.</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стретились толстяки и худышки.</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дивились худышки: </a:t>
            </a:r>
            <a:r>
              <a:rPr b="1" i="1" lang="ru-RU" sz="1800" spc="-1" strike="noStrike">
                <a:solidFill>
                  <a:srgbClr val="ffffff"/>
                </a:solidFill>
                <a:latin typeface="Arial"/>
              </a:rPr>
              <a:t>«Ах, какие вы толстые!»</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сердились толстяки и толстушки: </a:t>
            </a:r>
            <a:r>
              <a:rPr b="1" i="1" lang="ru-RU" sz="1800" spc="-1" strike="noStrike">
                <a:solidFill>
                  <a:srgbClr val="ffffff"/>
                </a:solidFill>
                <a:latin typeface="Arial"/>
              </a:rPr>
              <a:t>«Не такие уж мы толстые!»</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ще больше удивились худышки: </a:t>
            </a:r>
            <a:r>
              <a:rPr b="1" i="1" lang="ru-RU" sz="1800" spc="-1" strike="noStrike">
                <a:solidFill>
                  <a:srgbClr val="ffffff"/>
                </a:solidFill>
                <a:latin typeface="Arial"/>
              </a:rPr>
              <a:t>«О, да вы еще и сердитые!»</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ще больше рассердились толстяки и толстушки: </a:t>
            </a:r>
            <a:r>
              <a:rPr b="1" i="1" lang="ru-RU" sz="1800" spc="-1" strike="noStrike">
                <a:solidFill>
                  <a:srgbClr val="ffffff"/>
                </a:solidFill>
                <a:latin typeface="Arial"/>
              </a:rPr>
              <a:t>«У-у-у! Мы действительно сердитые!»</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морщили нос худышки: </a:t>
            </a:r>
            <a:r>
              <a:rPr b="1" i="1" lang="ru-RU" sz="1800" spc="-1" strike="noStrike">
                <a:solidFill>
                  <a:srgbClr val="ffffff"/>
                </a:solidFill>
                <a:latin typeface="Arial"/>
              </a:rPr>
              <a:t>«Ф-фу! Не хотим с вами в одном огороде расти!»</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ивили губы толстяки и толстушки: </a:t>
            </a:r>
            <a:r>
              <a:rPr b="1" i="1" lang="ru-RU" sz="1800" spc="-1" strike="noStrike">
                <a:solidFill>
                  <a:srgbClr val="ffffff"/>
                </a:solidFill>
                <a:latin typeface="Arial"/>
              </a:rPr>
              <a:t>«Пф! Ну и не надо!»</a:t>
            </a:r>
            <a:endParaRPr b="0" lang="en-US" sz="1800" spc="-1" strike="noStrike">
              <a:solidFill>
                <a:srgbClr val="ffffff"/>
              </a:solidFill>
              <a:latin typeface="Arial"/>
            </a:endParaRPr>
          </a:p>
          <a:p>
            <a:pPr marL="301680" indent="-3016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Худышки втягивают щеки, толстяки надувают щек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игра топни , хлопни и присядь»</a:t>
            </a:r>
            <a:r>
              <a:rPr b="1" lang="en-US" sz="4000" spc="-1" strike="noStrike">
                <a:solidFill>
                  <a:srgbClr val="ffffb7"/>
                </a:solidFill>
                <a:latin typeface="Arial Black"/>
              </a:rPr>
              <a:t> </a:t>
            </a:r>
            <a:endParaRPr b="1" lang="en-US" sz="40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Использовать как динамическую паузу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Когда звучит трещотка дети топают , на звучание колокольчика хлопают ,  </a:t>
            </a:r>
            <a:endParaRPr b="0" lang="en-US" sz="32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БУБЕНЦИ ПРИСЕДАЮ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Кто больше запомнит!»</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Ведущий: «Ребята, кто из вас больше запомнит звуков? Я буду произносить цепочку звуков, вы сначала внимательно ее послушайте, а затем по моей команде повторите».</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Даем первую цепочку: «А–О–У–Э». Затем ведущий просит повторить ее одного из ребят. Если звуки произнесены верно, то цепочку звуков повторяет хором вся группа. Если же была допущена ошибка, то ведущий просит: «Ребята, я был невнимателен и прослушал. Помогите мне, пожалуйста, повторите звуки еще раз».</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Вторая цепочка может выглядеть так: «У–А–Ы–И–Э–О». Работа с ней идет по тому же алгоритму.</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Затем в звуковые ряды вводятся вместе с гласными и согласные звук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Самое главное – постепенное увеличение объема после того, как вы убедитесь, что дети легко справляются с предыдущим упражнением</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можно использовать перед прогулкой, приемом пищ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Игра с мячом» </a:t>
            </a:r>
            <a:endParaRPr b="1" lang="en-US" sz="4400" spc="-1" strike="noStrike">
              <a:solidFill>
                <a:srgbClr val="ffffb7"/>
              </a:solidFill>
              <a:latin typeface="Arial Black"/>
            </a:endParaRPr>
          </a:p>
        </p:txBody>
      </p:sp>
      <p:sp>
        <p:nvSpPr>
          <p:cNvPr id="1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Педагог  предлагает каждому ребенку быть звуком С и «получить подарок» — гласный звук {А, О, У, Ы, И). Далее, кидая ребенку мяч, он называет только гласный, а тот, возвращая мяч, называет слог со звуком С (СА, </a:t>
            </a:r>
            <a:r>
              <a:rPr b="1" lang="en-US" sz="3200" spc="-1" strike="noStrike">
                <a:solidFill>
                  <a:srgbClr val="ffffff"/>
                </a:solidFill>
                <a:latin typeface="Arial"/>
              </a:rPr>
              <a:t>СО, СУ, СЫ). (организовать детей на занятие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Упражнения после сна </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ссаж тела «Лягушата»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ягушата встали, потянулись И друг другу улыбнулис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гибают спинки, Спинки-тростинк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жками затопали, Ручками захлопал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стучим ладошкой  По ручкам мы немножк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потом, потом, потом Грудку мы чуть-чуть побье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Хлоп-хлоп тут и там, И немного по бока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Хлопают ладошки Нас уже по ножкам.</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гладили ладошки. И ручки, и ножк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Лягушата скажут: «Ква!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ыгать весело, друзья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1430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b7"/>
                </a:solidFill>
                <a:latin typeface="Arial Black"/>
              </a:rPr>
              <a:t>Спасибо за внимание !!!</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Логоритмика- это </a:t>
            </a: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истема музыкально- двигательных  и </a:t>
            </a:r>
            <a:endParaRPr b="0" lang="en-US" sz="3200" spc="-1" strike="noStrike">
              <a:solidFill>
                <a:srgbClr val="ffffff"/>
              </a:solidFill>
              <a:latin typeface="Arial"/>
            </a:endParaRPr>
          </a:p>
          <a:p>
            <a:pPr marL="343080" indent="-343080" algn="ctr">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чедвигательных заданий и упраждений ,</a:t>
            </a:r>
            <a:endParaRPr b="0" lang="en-US" sz="3200" spc="-1" strike="noStrike">
              <a:solidFill>
                <a:srgbClr val="ffffff"/>
              </a:solidFill>
              <a:latin typeface="Arial"/>
            </a:endParaRPr>
          </a:p>
          <a:p>
            <a:pPr marL="343080" indent="-343080" algn="ctr">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на основана  на использовании  связи </a:t>
            </a:r>
            <a:r>
              <a:rPr b="0" lang="ru-RU" sz="2800" spc="-1" strike="noStrike">
                <a:solidFill>
                  <a:srgbClr val="ffffff"/>
                </a:solidFill>
                <a:latin typeface="Arial"/>
              </a:rPr>
              <a:t>слова, музыки и движ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Задачи </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ие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хового внимания;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зыкального,звукового, тембрового,</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инамического слуха, чувства ритма, певческого динамического голос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торики пальцев рук , мимики , Пантомимики, пространственных  организаций движений;</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ыхания ;речевой моторики для формирования артикуляционной базы звуков;</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оспитание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мение перевоплощаться , выразительности и грации движений , умение определять характер музыки , согласовывать ее с движением.</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ключаемости с одного вида  деятельности на другой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Формирование , развития и коррек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лухо –зрительно –двигательной координаци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 </a:t>
            </a:r>
            <a:r>
              <a:rPr b="1" lang="en-US" sz="4400" spc="-1" strike="noStrike">
                <a:solidFill>
                  <a:srgbClr val="ffffb7"/>
                </a:solidFill>
                <a:latin typeface="Arial Black"/>
              </a:rPr>
              <a:t>Гипотеза </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ьзование  элементов логоритмики в  развивающей деятельности детей развивает у дошкольников музыкально-ритмический слух, обеспечивает формирование двигательной сферы в целом, а также повышает эффективность коррекционного воздействия на восприятие ими ритмической структуры речи.</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труктура логоритмики</a:t>
            </a:r>
            <a:endParaRPr b="1" lang="en-US" sz="4400" spc="-1" strike="noStrike">
              <a:solidFill>
                <a:srgbClr val="ffffb7"/>
              </a:solidFill>
              <a:latin typeface="Arial Black"/>
            </a:endParaRPr>
          </a:p>
        </p:txBody>
      </p:sp>
      <p:sp>
        <p:nvSpPr>
          <p:cNvPr id="109" name=""/>
          <p:cNvSpPr txBox="1"/>
          <p:nvPr/>
        </p:nvSpPr>
        <p:spPr>
          <a:xfrm>
            <a:off x="837720" y="1447560"/>
            <a:ext cx="8007480" cy="4190760"/>
          </a:xfrm>
          <a:prstGeom prst="rect">
            <a:avLst/>
          </a:prstGeom>
          <a:noFill/>
          <a:ln w="0">
            <a:noFill/>
          </a:ln>
        </p:spPr>
        <p:txBody>
          <a:bodyPr anchor="t">
            <a:normAutofit fontScale="90000"/>
          </a:bodyPr>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Эмоциональная разминка </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че - двигательные игры </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Лого - игры </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гровой массаж</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альчиковая гимнастика</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Игро - гимнастика </a:t>
            </a:r>
            <a:endParaRPr b="0" lang="en-US" sz="3200" spc="-1" strike="noStrike">
              <a:solidFill>
                <a:srgbClr val="ffffff"/>
              </a:solidFill>
              <a:latin typeface="Arial"/>
            </a:endParaRPr>
          </a:p>
          <a:p>
            <a:pPr marL="308520" indent="-30852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Эмоционально – волевой тренинг Коррекционные упражнения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b7"/>
                </a:solidFill>
                <a:latin typeface="Arial Black"/>
              </a:rPr>
              <a:t>ЛОГОРИТМИКА ВКЛЮЧАЕТ В СЕБЯ </a:t>
            </a:r>
            <a:br>
              <a:rPr sz="2800"/>
            </a:br>
            <a:r>
              <a:rPr b="1" lang="en-US" sz="2800" spc="-1" strike="noStrike">
                <a:solidFill>
                  <a:srgbClr val="ffffb7"/>
                </a:solidFill>
                <a:latin typeface="Arial Black"/>
              </a:rPr>
              <a:t>СЛЕДУЮЩИЕ ЭЛЕМЕНТЫ :</a:t>
            </a:r>
            <a:endParaRPr b="1" lang="en-US" sz="2800" spc="-1" strike="noStrike">
              <a:solidFill>
                <a:srgbClr val="ffffb7"/>
              </a:solidFill>
              <a:latin typeface="Arial Black"/>
            </a:endParaRPr>
          </a:p>
        </p:txBody>
      </p:sp>
      <p:sp>
        <p:nvSpPr>
          <p:cNvPr id="111" name="PlaceHolder 2"/>
          <p:cNvSpPr>
            <a:spLocks noGrp="1"/>
          </p:cNvSpPr>
          <p:nvPr>
            <p:ph/>
          </p:nvPr>
        </p:nvSpPr>
        <p:spPr>
          <a:xfrm>
            <a:off x="838080" y="1904760"/>
            <a:ext cx="3927600" cy="4190760"/>
          </a:xfrm>
          <a:prstGeom prst="rect">
            <a:avLst/>
          </a:prstGeom>
          <a:noFill/>
          <a:ln w="0">
            <a:noFill/>
          </a:ln>
        </p:spPr>
        <p:txBody>
          <a:bodyPr lIns="90000" rIns="90000" tIns="46800" bIns="46800"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ПРАЖНЕНИЯ</a:t>
            </a:r>
            <a:endParaRPr b="0" lang="en-US" sz="24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альчиковая гимнастика, песни и стихи, сопровождаемые движением рук .</a:t>
            </a:r>
            <a:endParaRPr b="0" lang="en-US" sz="18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узыкальные и музыкально- ритмические игры с музыкальными инструментами</a:t>
            </a:r>
            <a:r>
              <a:rPr b="0" lang="ru-RU"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огопедическая (артикуляционная) гимнастика, вокально- артикуляционные упражнения. Укрепление мышц органов артикуляции, развитие их подвижности. </a:t>
            </a:r>
            <a:endParaRPr b="0" lang="en-US" sz="1800" spc="-1" strike="noStrike">
              <a:solidFill>
                <a:srgbClr val="ffffff"/>
              </a:solidFill>
              <a:latin typeface="Arial"/>
            </a:endParaRPr>
          </a:p>
        </p:txBody>
      </p:sp>
      <p:sp>
        <p:nvSpPr>
          <p:cNvPr id="112" name="PlaceHolder 3"/>
          <p:cNvSpPr>
            <a:spLocks noGrp="1"/>
          </p:cNvSpPr>
          <p:nvPr>
            <p:ph/>
          </p:nvPr>
        </p:nvSpPr>
        <p:spPr>
          <a:xfrm>
            <a:off x="4952880" y="1904760"/>
            <a:ext cx="392760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РАЗВИТИЕ</a:t>
            </a:r>
            <a:endParaRPr b="0" lang="en-US" sz="28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азвитие мелкой моторики, плавности и выразительности речи, речевого слуха и речевой памяти </a:t>
            </a:r>
            <a:endParaRPr b="0" lang="en-US" sz="2000" spc="-1" strike="noStrike">
              <a:solidFill>
                <a:srgbClr val="ffffff"/>
              </a:solidFill>
              <a:latin typeface="Arial"/>
            </a:endParaRPr>
          </a:p>
          <a:p>
            <a:pPr marL="343080" indent="-343080">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Развитие речи, внимания, умения ориентироваться в пространстве. Развитие чувства ритма </a:t>
            </a:r>
            <a:endParaRPr b="0" lang="en-US" sz="20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азвитие певческих данных</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4" name="PlaceHolder 2"/>
          <p:cNvSpPr>
            <a:spLocks noGrp="1"/>
          </p:cNvSpPr>
          <p:nvPr>
            <p:ph/>
          </p:nvPr>
        </p:nvSpPr>
        <p:spPr>
          <a:xfrm>
            <a:off x="990360" y="304560"/>
            <a:ext cx="3927240" cy="4190760"/>
          </a:xfrm>
          <a:prstGeom prst="rect">
            <a:avLst/>
          </a:prstGeom>
          <a:noFill/>
          <a:ln w="0">
            <a:noFill/>
          </a:ln>
        </p:spPr>
        <p:txBody>
          <a:bodyPr lIns="90000" rIns="90000" tIns="46800" bIns="46800" anchor="t">
            <a:normAutofit fontScale="94000"/>
          </a:bodyPr>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истоговорки для автоматизации произношения звуков, фонопедические упражнения </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я на развитие мимических мышц. Коммуникативные игры и танцы</a:t>
            </a:r>
            <a:endParaRPr b="0" lang="en-US" sz="1800" spc="-1" strike="noStrike">
              <a:solidFill>
                <a:srgbClr val="ffffff"/>
              </a:solidFill>
              <a:latin typeface="Arial"/>
            </a:endParaRPr>
          </a:p>
          <a:p>
            <a:pPr marL="322200" indent="-32220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endParaRPr b="0" lang="en-US" sz="1800" spc="-1" strike="noStrike">
              <a:solidFill>
                <a:srgbClr val="ffffff"/>
              </a:solidFill>
              <a:latin typeface="Arial"/>
            </a:endParaRPr>
          </a:p>
          <a:p>
            <a:pPr marL="322200" indent="-32220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я на развитие общей моторики, соответствующие возрастным особенностям</a:t>
            </a:r>
            <a:r>
              <a:rPr b="0" lang="ru-RU" sz="2400" spc="-1" strike="noStrike">
                <a:solidFill>
                  <a:srgbClr val="ffffff"/>
                </a:solidFill>
                <a:latin typeface="Arial"/>
              </a:rPr>
              <a:t> </a:t>
            </a:r>
            <a:endParaRPr b="0" lang="en-US" sz="2400" spc="-1" strike="noStrike">
              <a:solidFill>
                <a:srgbClr val="ffffff"/>
              </a:solidFill>
              <a:latin typeface="Arial"/>
            </a:endParaRPr>
          </a:p>
          <a:p>
            <a:pPr marL="322200" indent="-32220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пражнения на развитие словотворчества</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115" name="PlaceHolder 3"/>
          <p:cNvSpPr>
            <a:spLocks noGrp="1"/>
          </p:cNvSpPr>
          <p:nvPr>
            <p:ph/>
          </p:nvPr>
        </p:nvSpPr>
        <p:spPr>
          <a:xfrm>
            <a:off x="4724280" y="152280"/>
            <a:ext cx="3927600" cy="4191120"/>
          </a:xfrm>
          <a:prstGeom prst="rect">
            <a:avLst/>
          </a:prstGeom>
          <a:noFill/>
          <a:ln w="0">
            <a:noFill/>
          </a:ln>
        </p:spPr>
        <p:txBody>
          <a:bodyPr lIns="90000" rIns="90000" tIns="46800" bIns="46800" anchor="t">
            <a:normAutofit fontScale="91000"/>
          </a:bodyPr>
          <a:p>
            <a:pPr marL="312120" indent="-31212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ррекция звукопроизношения, укрепление гортани и привитие навыков речевого дыхания </a:t>
            </a:r>
            <a:endParaRPr b="0" lang="en-US" sz="1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ие эмоциональной сферы, ассоциативно- образного мышления, выразительности невербальных средств общения, позитивного самоощущения</a:t>
            </a:r>
            <a:r>
              <a:rPr b="0" lang="ru-RU" sz="2800" spc="-1" strike="noStrike">
                <a:solidFill>
                  <a:srgbClr val="ffffff"/>
                </a:solidFill>
                <a:latin typeface="Arial"/>
              </a:rPr>
              <a:t> </a:t>
            </a:r>
            <a:endParaRPr b="0" lang="en-US" sz="2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1800" spc="-1" strike="noStrike">
                <a:solidFill>
                  <a:srgbClr val="ffffff"/>
                </a:solidFill>
                <a:latin typeface="Arial"/>
              </a:rPr>
              <a:t>Развитие мышечно- двигательной и координационной сферы. </a:t>
            </a:r>
            <a:r>
              <a:rPr b="0" lang="ru-RU" sz="2800" spc="-1" strike="noStrike">
                <a:solidFill>
                  <a:srgbClr val="ffffff"/>
                </a:solidFill>
                <a:latin typeface="Arial"/>
              </a:rPr>
              <a:t> </a:t>
            </a:r>
            <a:endParaRPr b="0" lang="en-US" sz="2800" spc="-1" strike="noStrike">
              <a:solidFill>
                <a:srgbClr val="ffffff"/>
              </a:solidFill>
              <a:latin typeface="Arial"/>
            </a:endParaRPr>
          </a:p>
          <a:p>
            <a:pPr marL="312120" indent="-31212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сширение активного  </a:t>
            </a:r>
            <a:r>
              <a:rPr b="0" lang="ru-RU" sz="1400" spc="-1" strike="noStrike">
                <a:solidFill>
                  <a:srgbClr val="ffffff"/>
                </a:solidFill>
                <a:latin typeface="Arial"/>
              </a:rPr>
              <a:t>СЛОВАРНОГО </a:t>
            </a:r>
            <a:r>
              <a:rPr b="0" lang="ru-RU" sz="1800" spc="-1" strike="noStrike">
                <a:solidFill>
                  <a:srgbClr val="ffffff"/>
                </a:solidFill>
                <a:latin typeface="Arial"/>
              </a:rPr>
              <a:t>запаса детей.</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Рекомендации логопеда </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ежелательно, чтобы в мелодии встречались большие интервалы.</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Рекомендуется подбирать песни в медленном и среднем темпе.</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Желательно, чтобы в тексте песен было много гласных и звонких соглас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Аккомпанемент песенок должен быть несложным. Желательно, чтобы в тексте песен было много гласных и звонких соглас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Аккомпанемент песен должен быть несложным.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Лучше подбирать песни, которые можно инсценировать. </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Текст песни должен соответствовать возрасту и речевым возможностям дете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1:21:43Z</dcterms:created>
  <dc:creator>ТАТЬЯНА</dc:creator>
  <dc:description/>
  <dc:language>en-US</dc:language>
  <cp:lastModifiedBy>ТАТЬЯНА</cp:lastModifiedBy>
  <dcterms:modified xsi:type="dcterms:W3CDTF">2019-05-13T06:07:57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