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2.jpeg" ContentType="image/jpeg"/>
  <Override PartName="/ppt/media/image21.jpeg" ContentType="image/jpeg"/>
  <Override PartName="/ppt/media/image6.gif" ContentType="image/gif"/>
  <Override PartName="/ppt/media/image8.jpeg" ContentType="image/jpeg"/>
  <Override PartName="/ppt/media/image13.jpeg" ContentType="image/jpeg"/>
  <Override PartName="/ppt/media/image27.jpeg" ContentType="image/jpeg"/>
  <Override PartName="/ppt/media/image10.png" ContentType="image/png"/>
  <Override PartName="/ppt/media/image33.jpeg" ContentType="image/jpeg"/>
  <Override PartName="/ppt/media/image19.jpeg" ContentType="image/jpeg"/>
  <Override PartName="/ppt/media/image12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29.jpeg" ContentType="image/jpeg"/>
  <Override PartName="/ppt/media/image7.gif" ContentType="image/gif"/>
  <Override PartName="/ppt/media/image26.jpeg" ContentType="image/jpeg"/>
  <Override PartName="/ppt/media/image5.gif" ContentType="image/gif"/>
  <Override PartName="/ppt/media/image14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D7A3-E7B9-4864-8200-3BE83602C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535E-F22A-49BA-878F-F65DA5CA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B5DD-02F2-45FE-803B-4FC278FA9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2746-D550-4A90-8450-11D181042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E373-0180-4194-9EC7-C93C062B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5334-57BD-4075-862A-3B22D43F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EE34-56B4-48FC-8287-17DED7A1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5BF0-551D-4A98-A7B8-2693C9EE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521E-BF84-418C-8ED8-9209095A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140D-E3A2-4856-8450-A4337B9F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6F1D-27B4-42D7-A03A-C17624B5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5776-4726-4CCF-BD25-D5F45FC2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8A6C-EE29-4439-B8D2-62D3CF4AEA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:\фон инна\j5348_1209189306.jpg"/>
          <p:cNvPicPr/>
          <p:nvPr/>
        </p:nvPicPr>
        <p:blipFill>
          <a:blip r:embed="rId1"/>
          <a:stretch/>
        </p:blipFill>
        <p:spPr>
          <a:xfrm>
            <a:off x="-428760" y="0"/>
            <a:ext cx="10058400" cy="7986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ff00"/>
                </a:solidFill>
                <a:latin typeface="Arial"/>
              </a:rPr>
              <a:t>Покорители космоса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643280" y="5214960"/>
            <a:ext cx="450072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345960" y="474840"/>
            <a:ext cx="7560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Юрий Алексеевич Гагарин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совершил первый космический полет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Картинка 14 из 5334"/>
          <p:cNvPicPr/>
          <p:nvPr/>
        </p:nvPicPr>
        <p:blipFill>
          <a:blip r:embed="rId1"/>
          <a:stretch/>
        </p:blipFill>
        <p:spPr>
          <a:xfrm>
            <a:off x="250920" y="1773360"/>
            <a:ext cx="4155840" cy="4824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>
            <a:off x="5003640" y="1773360"/>
            <a:ext cx="35290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ranklin Gothic Demi Cond"/>
              </a:rPr>
              <a:t>Первый полет человека в косм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39640" y="155736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Demi Cond"/>
              </a:rPr>
              <a:t>12 апреля 1961г.        Ю.А.    Гагари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7[2]"/>
          <p:cNvPicPr/>
          <p:nvPr/>
        </p:nvPicPr>
        <p:blipFill>
          <a:blip r:embed="rId1"/>
          <a:stretch/>
        </p:blipFill>
        <p:spPr>
          <a:xfrm>
            <a:off x="6516720" y="2492280"/>
            <a:ext cx="2448000" cy="41767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3780000" y="602136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осток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179280" y="2492280"/>
            <a:ext cx="3745080" cy="4105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250px-Convert_ru_kosmos077"/>
          <p:cNvPicPr/>
          <p:nvPr/>
        </p:nvPicPr>
        <p:blipFill>
          <a:blip r:embed="rId3"/>
          <a:stretch/>
        </p:blipFill>
        <p:spPr>
          <a:xfrm>
            <a:off x="7308720" y="189000"/>
            <a:ext cx="1650960" cy="1944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"/>
          <p:cNvPicPr/>
          <p:nvPr/>
        </p:nvPicPr>
        <p:blipFill>
          <a:blip r:embed="rId4"/>
          <a:stretch/>
        </p:blipFill>
        <p:spPr>
          <a:xfrm>
            <a:off x="4284720" y="2708280"/>
            <a:ext cx="194472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365400" y="98280"/>
            <a:ext cx="876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лексей Архипович Леоно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смонавт, впервые вышедши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открытый косм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Картинка 5 из 559"/>
          <p:cNvPicPr/>
          <p:nvPr/>
        </p:nvPicPr>
        <p:blipFill>
          <a:blip r:embed="rId1"/>
          <a:stretch/>
        </p:blipFill>
        <p:spPr>
          <a:xfrm>
            <a:off x="125280" y="1916280"/>
            <a:ext cx="4430880" cy="4719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Картинка 22 из 559"/>
          <p:cNvPicPr/>
          <p:nvPr/>
        </p:nvPicPr>
        <p:blipFill>
          <a:blip r:embed="rId2"/>
          <a:stretch/>
        </p:blipFill>
        <p:spPr>
          <a:xfrm>
            <a:off x="4932360" y="2421000"/>
            <a:ext cx="370836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147636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Leonow,_Alexei"/>
          <p:cNvPicPr/>
          <p:nvPr/>
        </p:nvPicPr>
        <p:blipFill>
          <a:blip r:embed="rId1"/>
          <a:stretch/>
        </p:blipFill>
        <p:spPr>
          <a:xfrm>
            <a:off x="179280" y="189000"/>
            <a:ext cx="2637000" cy="2232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A-001"/>
          <p:cNvPicPr/>
          <p:nvPr/>
        </p:nvPicPr>
        <p:blipFill>
          <a:blip r:embed="rId2"/>
          <a:stretch/>
        </p:blipFill>
        <p:spPr>
          <a:xfrm>
            <a:off x="6227640" y="115920"/>
            <a:ext cx="2684520" cy="28573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8"/>
          <p:cNvSpPr/>
          <p:nvPr/>
        </p:nvSpPr>
        <p:spPr>
          <a:xfrm>
            <a:off x="-3983040" y="3247920"/>
            <a:ext cx="293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2286000" y="2558880"/>
            <a:ext cx="3941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 своём выходе в открытый косм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космонавтике вообще Алексей Архипови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онов написал книгу «Выхожу в космос», которую сам и проиллюстрирова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leonov1"/>
          <p:cNvPicPr/>
          <p:nvPr/>
        </p:nvPicPr>
        <p:blipFill>
          <a:blip r:embed="rId3"/>
          <a:stretch/>
        </p:blipFill>
        <p:spPr>
          <a:xfrm>
            <a:off x="73080" y="3573360"/>
            <a:ext cx="2232000" cy="3022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cshelovek_nad_planetoy"/>
          <p:cNvPicPr/>
          <p:nvPr/>
        </p:nvPicPr>
        <p:blipFill>
          <a:blip r:embed="rId4"/>
          <a:stretch/>
        </p:blipFill>
        <p:spPr>
          <a:xfrm>
            <a:off x="6156360" y="3645000"/>
            <a:ext cx="2797200" cy="2952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i?id=10477792-07&amp;tov=2"/>
          <p:cNvPicPr/>
          <p:nvPr/>
        </p:nvPicPr>
        <p:blipFill>
          <a:blip r:embed="rId5"/>
          <a:stretch/>
        </p:blipFill>
        <p:spPr>
          <a:xfrm>
            <a:off x="2987640" y="4653000"/>
            <a:ext cx="2448000" cy="1728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4" descr="i?id=3074275-05&amp;tov=3"/>
          <p:cNvPicPr/>
          <p:nvPr/>
        </p:nvPicPr>
        <p:blipFill>
          <a:blip r:embed="rId6"/>
          <a:stretch/>
        </p:blipFill>
        <p:spPr>
          <a:xfrm>
            <a:off x="3132000" y="260280"/>
            <a:ext cx="26640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684360" y="266760"/>
            <a:ext cx="86756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Валентина Николаевна Терешкова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ервая женщина – космонавт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нашей страны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Картинка 1 из 1094"/>
          <p:cNvPicPr/>
          <p:nvPr/>
        </p:nvPicPr>
        <p:blipFill>
          <a:blip r:embed="rId1"/>
          <a:stretch/>
        </p:blipFill>
        <p:spPr>
          <a:xfrm>
            <a:off x="971640" y="1268280"/>
            <a:ext cx="3643200" cy="534348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13"/>
          <p:cNvGrpSpPr/>
          <p:nvPr/>
        </p:nvGrpSpPr>
        <p:grpSpPr>
          <a:xfrm>
            <a:off x="5364000" y="2133720"/>
            <a:ext cx="3168360" cy="4078440"/>
            <a:chOff x="5364000" y="2133720"/>
            <a:chExt cx="3168360" cy="4078440"/>
          </a:xfrm>
        </p:grpSpPr>
        <p:pic>
          <p:nvPicPr>
            <p:cNvPr id="109" name="Picture 5" descr="tereshkova"/>
            <p:cNvPicPr/>
            <p:nvPr/>
          </p:nvPicPr>
          <p:blipFill>
            <a:blip r:embed="rId2"/>
            <a:stretch/>
          </p:blipFill>
          <p:spPr>
            <a:xfrm>
              <a:off x="5364000" y="2133720"/>
              <a:ext cx="3168360" cy="36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12"/>
            <p:cNvSpPr/>
            <p:nvPr/>
          </p:nvSpPr>
          <p:spPr>
            <a:xfrm>
              <a:off x="5364000" y="5813280"/>
              <a:ext cx="310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Calibri"/>
                </a:rPr>
                <a:t>В. Терешко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Если Россия уйдет - космодром &quot;Байконур&quot; останется"/>
          <p:cNvPicPr/>
          <p:nvPr/>
        </p:nvPicPr>
        <p:blipFill>
          <a:blip r:embed="rId1"/>
          <a:stretch/>
        </p:blipFill>
        <p:spPr>
          <a:xfrm>
            <a:off x="324000" y="189000"/>
            <a:ext cx="8481960" cy="58276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2"/>
          <p:cNvSpPr/>
          <p:nvPr/>
        </p:nvSpPr>
        <p:spPr>
          <a:xfrm>
            <a:off x="2124000" y="6093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смодром «Байкону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999720" y="6214680"/>
            <a:ext cx="735804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тавлен памятник первому космонавту Юрию Гагарин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714240" y="214200"/>
            <a:ext cx="7858440" cy="58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Картинка 16 из 411"/>
          <p:cNvPicPr/>
          <p:nvPr/>
        </p:nvPicPr>
        <p:blipFill>
          <a:blip r:embed="rId1"/>
          <a:stretch/>
        </p:blipFill>
        <p:spPr>
          <a:xfrm>
            <a:off x="4067280" y="3357720"/>
            <a:ext cx="4859280" cy="3341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kosmos-pejzazh-planety-4465"/>
          <p:cNvPicPr/>
          <p:nvPr/>
        </p:nvPicPr>
        <p:blipFill>
          <a:blip r:embed="rId2"/>
          <a:stretch/>
        </p:blipFill>
        <p:spPr>
          <a:xfrm>
            <a:off x="179280" y="260280"/>
            <a:ext cx="2360880" cy="39337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2556000" y="620640"/>
            <a:ext cx="658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осмос - это бесконечная пустыня с огненными шарами гигантских звезд и движущимися вокруг них большими и маленькими плане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250920" y="4653000"/>
            <a:ext cx="342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смо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Вселенная, весь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187280" y="333360"/>
            <a:ext cx="6769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2 апреля- день космонавтик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105"/>
          <p:cNvPicPr/>
          <p:nvPr/>
        </p:nvPicPr>
        <p:blipFill>
          <a:blip r:embed="rId2"/>
          <a:stretch/>
        </p:blipFill>
        <p:spPr>
          <a:xfrm>
            <a:off x="250920" y="1628640"/>
            <a:ext cx="2952720" cy="2016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105"/>
          <p:cNvPicPr/>
          <p:nvPr/>
        </p:nvPicPr>
        <p:blipFill>
          <a:blip r:embed="rId3"/>
          <a:stretch/>
        </p:blipFill>
        <p:spPr>
          <a:xfrm>
            <a:off x="6300720" y="1773360"/>
            <a:ext cx="2664000" cy="2376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105"/>
          <p:cNvPicPr/>
          <p:nvPr/>
        </p:nvPicPr>
        <p:blipFill>
          <a:blip r:embed="rId4"/>
          <a:stretch/>
        </p:blipFill>
        <p:spPr>
          <a:xfrm>
            <a:off x="324000" y="4437000"/>
            <a:ext cx="3313080" cy="1989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105"/>
          <p:cNvPicPr/>
          <p:nvPr/>
        </p:nvPicPr>
        <p:blipFill>
          <a:blip r:embed="rId5"/>
          <a:stretch/>
        </p:blipFill>
        <p:spPr>
          <a:xfrm>
            <a:off x="5508720" y="4437000"/>
            <a:ext cx="3097080" cy="2205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05"/>
          <p:cNvPicPr/>
          <p:nvPr/>
        </p:nvPicPr>
        <p:blipFill>
          <a:blip r:embed="rId6"/>
          <a:stretch/>
        </p:blipFill>
        <p:spPr>
          <a:xfrm>
            <a:off x="3276720" y="1844640"/>
            <a:ext cx="2879640" cy="2952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138"/>
          <p:cNvPicPr/>
          <p:nvPr/>
        </p:nvPicPr>
        <p:blipFill>
          <a:blip r:embed="rId7"/>
          <a:stretch/>
        </p:blipFill>
        <p:spPr>
          <a:xfrm rot="12009600">
            <a:off x="539280" y="2997000"/>
            <a:ext cx="2987640" cy="1779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138"/>
          <p:cNvPicPr/>
          <p:nvPr/>
        </p:nvPicPr>
        <p:blipFill>
          <a:blip r:embed="rId8"/>
          <a:stretch/>
        </p:blipFill>
        <p:spPr>
          <a:xfrm rot="14078400">
            <a:off x="6143400" y="3217680"/>
            <a:ext cx="2887920" cy="2157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138"/>
          <p:cNvPicPr/>
          <p:nvPr/>
        </p:nvPicPr>
        <p:blipFill>
          <a:blip r:embed="rId9"/>
          <a:stretch/>
        </p:blipFill>
        <p:spPr>
          <a:xfrm rot="12429600">
            <a:off x="3030120" y="4176360"/>
            <a:ext cx="2987640" cy="213840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17"/>
          <p:cNvSpPr/>
          <p:nvPr/>
        </p:nvSpPr>
        <p:spPr>
          <a:xfrm>
            <a:off x="5651640" y="1916280"/>
            <a:ext cx="433080" cy="360360"/>
          </a:xfrm>
          <a:custGeom>
            <a:avLst/>
            <a:gdLst/>
            <a:ahLst/>
            <a:rect l="l" t="t" r="r" b="b"/>
            <a:pathLst>
              <a:path w="433388" h="360362">
                <a:moveTo>
                  <a:pt x="0" y="137646"/>
                </a:moveTo>
                <a:lnTo>
                  <a:pt x="165540" y="137647"/>
                </a:lnTo>
                <a:lnTo>
                  <a:pt x="216694" y="0"/>
                </a:lnTo>
                <a:lnTo>
                  <a:pt x="267848" y="137647"/>
                </a:lnTo>
                <a:lnTo>
                  <a:pt x="433388" y="137646"/>
                </a:lnTo>
                <a:lnTo>
                  <a:pt x="299462" y="222715"/>
                </a:lnTo>
                <a:lnTo>
                  <a:pt x="350618" y="360361"/>
                </a:lnTo>
                <a:lnTo>
                  <a:pt x="216694" y="275290"/>
                </a:lnTo>
                <a:lnTo>
                  <a:pt x="82770" y="360361"/>
                </a:lnTo>
                <a:lnTo>
                  <a:pt x="133926" y="222715"/>
                </a:lnTo>
                <a:lnTo>
                  <a:pt x="0" y="13764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8"/>
          <p:cNvSpPr/>
          <p:nvPr/>
        </p:nvSpPr>
        <p:spPr>
          <a:xfrm rot="20574600">
            <a:off x="287280" y="4322520"/>
            <a:ext cx="455760" cy="476280"/>
          </a:xfrm>
          <a:custGeom>
            <a:avLst/>
            <a:gdLst/>
            <a:ahLst/>
            <a:rect l="l" t="t" r="r" b="b"/>
            <a:pathLst>
              <a:path w="455612" h="476250">
                <a:moveTo>
                  <a:pt x="0" y="181911"/>
                </a:moveTo>
                <a:lnTo>
                  <a:pt x="174029" y="181912"/>
                </a:lnTo>
                <a:lnTo>
                  <a:pt x="227806" y="0"/>
                </a:lnTo>
                <a:lnTo>
                  <a:pt x="281583" y="181912"/>
                </a:lnTo>
                <a:lnTo>
                  <a:pt x="455612" y="181911"/>
                </a:lnTo>
                <a:lnTo>
                  <a:pt x="314819" y="294337"/>
                </a:lnTo>
                <a:lnTo>
                  <a:pt x="368598" y="476249"/>
                </a:lnTo>
                <a:lnTo>
                  <a:pt x="227806" y="363820"/>
                </a:lnTo>
                <a:lnTo>
                  <a:pt x="87014" y="476249"/>
                </a:lnTo>
                <a:lnTo>
                  <a:pt x="140793" y="294337"/>
                </a:lnTo>
                <a:lnTo>
                  <a:pt x="0" y="1819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9"/>
          <p:cNvSpPr/>
          <p:nvPr/>
        </p:nvSpPr>
        <p:spPr>
          <a:xfrm rot="2113800">
            <a:off x="8080200" y="6129360"/>
            <a:ext cx="419400" cy="403200"/>
          </a:xfrm>
          <a:custGeom>
            <a:avLst/>
            <a:gdLst/>
            <a:ahLst/>
            <a:rect l="l" t="t" r="r" b="b"/>
            <a:pathLst>
              <a:path w="419100" h="403225">
                <a:moveTo>
                  <a:pt x="0" y="154018"/>
                </a:moveTo>
                <a:lnTo>
                  <a:pt x="160083" y="154019"/>
                </a:lnTo>
                <a:lnTo>
                  <a:pt x="209550" y="0"/>
                </a:lnTo>
                <a:lnTo>
                  <a:pt x="259017" y="154019"/>
                </a:lnTo>
                <a:lnTo>
                  <a:pt x="419100" y="154018"/>
                </a:lnTo>
                <a:lnTo>
                  <a:pt x="289590" y="249206"/>
                </a:lnTo>
                <a:lnTo>
                  <a:pt x="339059" y="403224"/>
                </a:lnTo>
                <a:lnTo>
                  <a:pt x="209550" y="308034"/>
                </a:lnTo>
                <a:lnTo>
                  <a:pt x="80041" y="403224"/>
                </a:lnTo>
                <a:lnTo>
                  <a:pt x="129510" y="249206"/>
                </a:lnTo>
                <a:lnTo>
                  <a:pt x="0" y="15401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0" descr="105"/>
          <p:cNvPicPr/>
          <p:nvPr/>
        </p:nvPicPr>
        <p:blipFill>
          <a:blip r:embed="rId10"/>
          <a:stretch/>
        </p:blipFill>
        <p:spPr>
          <a:xfrm>
            <a:off x="2050920" y="2060640"/>
            <a:ext cx="2880000" cy="295272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21"/>
          <p:cNvSpPr/>
          <p:nvPr/>
        </p:nvSpPr>
        <p:spPr>
          <a:xfrm>
            <a:off x="4211640" y="5950080"/>
            <a:ext cx="360360" cy="358560"/>
          </a:xfrm>
          <a:custGeom>
            <a:avLst/>
            <a:gdLst/>
            <a:ahLst/>
            <a:rect l="l" t="t" r="r" b="b"/>
            <a:pathLst>
              <a:path w="360362" h="358775">
                <a:moveTo>
                  <a:pt x="0" y="137040"/>
                </a:moveTo>
                <a:lnTo>
                  <a:pt x="137647" y="137040"/>
                </a:lnTo>
                <a:lnTo>
                  <a:pt x="180181" y="0"/>
                </a:lnTo>
                <a:lnTo>
                  <a:pt x="222715" y="137040"/>
                </a:lnTo>
                <a:lnTo>
                  <a:pt x="360362" y="137040"/>
                </a:lnTo>
                <a:lnTo>
                  <a:pt x="249003" y="221734"/>
                </a:lnTo>
                <a:lnTo>
                  <a:pt x="291539" y="358774"/>
                </a:lnTo>
                <a:lnTo>
                  <a:pt x="180181" y="274078"/>
                </a:lnTo>
                <a:lnTo>
                  <a:pt x="68823" y="358774"/>
                </a:lnTo>
                <a:lnTo>
                  <a:pt x="111359" y="221734"/>
                </a:lnTo>
                <a:lnTo>
                  <a:pt x="0" y="137040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2"/>
          <p:cNvSpPr/>
          <p:nvPr/>
        </p:nvSpPr>
        <p:spPr>
          <a:xfrm rot="1269600">
            <a:off x="2178000" y="6127920"/>
            <a:ext cx="399960" cy="399960"/>
          </a:xfrm>
          <a:custGeom>
            <a:avLst/>
            <a:gdLst/>
            <a:ahLst/>
            <a:rect l="l" t="t" r="r" b="b"/>
            <a:pathLst>
              <a:path w="400050" h="400050">
                <a:moveTo>
                  <a:pt x="0" y="152805"/>
                </a:moveTo>
                <a:lnTo>
                  <a:pt x="152806" y="152806"/>
                </a:lnTo>
                <a:lnTo>
                  <a:pt x="200025" y="0"/>
                </a:lnTo>
                <a:lnTo>
                  <a:pt x="247244" y="152806"/>
                </a:lnTo>
                <a:lnTo>
                  <a:pt x="400050" y="152805"/>
                </a:lnTo>
                <a:lnTo>
                  <a:pt x="276426" y="247243"/>
                </a:lnTo>
                <a:lnTo>
                  <a:pt x="323647" y="400049"/>
                </a:lnTo>
                <a:lnTo>
                  <a:pt x="200025" y="305609"/>
                </a:lnTo>
                <a:lnTo>
                  <a:pt x="76403" y="400049"/>
                </a:lnTo>
                <a:lnTo>
                  <a:pt x="123624" y="247243"/>
                </a:lnTo>
                <a:lnTo>
                  <a:pt x="0" y="152805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3"/>
          <p:cNvSpPr/>
          <p:nvPr/>
        </p:nvSpPr>
        <p:spPr>
          <a:xfrm rot="20184600">
            <a:off x="378000" y="1870200"/>
            <a:ext cx="431640" cy="482400"/>
          </a:xfrm>
          <a:custGeom>
            <a:avLst/>
            <a:gdLst/>
            <a:ahLst/>
            <a:rect l="l" t="t" r="r" b="b"/>
            <a:pathLst>
              <a:path w="431800" h="482600">
                <a:moveTo>
                  <a:pt x="0" y="184336"/>
                </a:moveTo>
                <a:lnTo>
                  <a:pt x="164934" y="184338"/>
                </a:lnTo>
                <a:lnTo>
                  <a:pt x="215900" y="0"/>
                </a:lnTo>
                <a:lnTo>
                  <a:pt x="266866" y="184338"/>
                </a:lnTo>
                <a:lnTo>
                  <a:pt x="431800" y="184336"/>
                </a:lnTo>
                <a:lnTo>
                  <a:pt x="298365" y="298262"/>
                </a:lnTo>
                <a:lnTo>
                  <a:pt x="349333" y="482599"/>
                </a:lnTo>
                <a:lnTo>
                  <a:pt x="215900" y="368671"/>
                </a:lnTo>
                <a:lnTo>
                  <a:pt x="82467" y="482599"/>
                </a:lnTo>
                <a:lnTo>
                  <a:pt x="133435" y="298262"/>
                </a:lnTo>
                <a:lnTo>
                  <a:pt x="0" y="18433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4"/>
          <p:cNvSpPr/>
          <p:nvPr/>
        </p:nvSpPr>
        <p:spPr>
          <a:xfrm rot="1025400">
            <a:off x="8302320" y="3711240"/>
            <a:ext cx="503280" cy="366840"/>
          </a:xfrm>
          <a:custGeom>
            <a:avLst/>
            <a:gdLst/>
            <a:ahLst/>
            <a:rect l="l" t="t" r="r" b="b"/>
            <a:pathLst>
              <a:path w="503238" h="366713">
                <a:moveTo>
                  <a:pt x="1" y="140072"/>
                </a:moveTo>
                <a:lnTo>
                  <a:pt x="192221" y="140073"/>
                </a:lnTo>
                <a:lnTo>
                  <a:pt x="251619" y="0"/>
                </a:lnTo>
                <a:lnTo>
                  <a:pt x="311017" y="140073"/>
                </a:lnTo>
                <a:lnTo>
                  <a:pt x="503237" y="140072"/>
                </a:lnTo>
                <a:lnTo>
                  <a:pt x="347727" y="226640"/>
                </a:lnTo>
                <a:lnTo>
                  <a:pt x="407128" y="366712"/>
                </a:lnTo>
                <a:lnTo>
                  <a:pt x="251619" y="280142"/>
                </a:lnTo>
                <a:lnTo>
                  <a:pt x="96110" y="366712"/>
                </a:lnTo>
                <a:lnTo>
                  <a:pt x="155511" y="226640"/>
                </a:lnTo>
                <a:lnTo>
                  <a:pt x="1" y="140072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5"/>
          <p:cNvSpPr/>
          <p:nvPr/>
        </p:nvSpPr>
        <p:spPr>
          <a:xfrm rot="897000">
            <a:off x="2970360" y="2174400"/>
            <a:ext cx="449280" cy="432000"/>
          </a:xfrm>
          <a:custGeom>
            <a:avLst/>
            <a:gdLst/>
            <a:ahLst/>
            <a:rect l="l" t="t" r="r" b="b"/>
            <a:pathLst>
              <a:path w="449262" h="431800">
                <a:moveTo>
                  <a:pt x="0" y="164933"/>
                </a:moveTo>
                <a:lnTo>
                  <a:pt x="171604" y="164934"/>
                </a:lnTo>
                <a:lnTo>
                  <a:pt x="224631" y="0"/>
                </a:lnTo>
                <a:lnTo>
                  <a:pt x="277658" y="164934"/>
                </a:lnTo>
                <a:lnTo>
                  <a:pt x="449262" y="164933"/>
                </a:lnTo>
                <a:lnTo>
                  <a:pt x="310431" y="266866"/>
                </a:lnTo>
                <a:lnTo>
                  <a:pt x="363460" y="431799"/>
                </a:lnTo>
                <a:lnTo>
                  <a:pt x="224631" y="329864"/>
                </a:lnTo>
                <a:lnTo>
                  <a:pt x="85802" y="431799"/>
                </a:lnTo>
                <a:lnTo>
                  <a:pt x="138831" y="266866"/>
                </a:lnTo>
                <a:lnTo>
                  <a:pt x="0" y="164933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6"/>
          <p:cNvSpPr/>
          <p:nvPr/>
        </p:nvSpPr>
        <p:spPr>
          <a:xfrm>
            <a:off x="5867280" y="4076640"/>
            <a:ext cx="360360" cy="432000"/>
          </a:xfrm>
          <a:custGeom>
            <a:avLst/>
            <a:gdLst/>
            <a:ahLst/>
            <a:rect l="l" t="t" r="r" b="b"/>
            <a:pathLst>
              <a:path w="360363" h="431800">
                <a:moveTo>
                  <a:pt x="0" y="164933"/>
                </a:moveTo>
                <a:lnTo>
                  <a:pt x="137647" y="164934"/>
                </a:lnTo>
                <a:lnTo>
                  <a:pt x="180182" y="0"/>
                </a:lnTo>
                <a:lnTo>
                  <a:pt x="222716" y="164934"/>
                </a:lnTo>
                <a:lnTo>
                  <a:pt x="360363" y="164933"/>
                </a:lnTo>
                <a:lnTo>
                  <a:pt x="249003" y="266866"/>
                </a:lnTo>
                <a:lnTo>
                  <a:pt x="291540" y="431799"/>
                </a:lnTo>
                <a:lnTo>
                  <a:pt x="180182" y="329864"/>
                </a:lnTo>
                <a:lnTo>
                  <a:pt x="68823" y="431799"/>
                </a:lnTo>
                <a:lnTo>
                  <a:pt x="111360" y="266866"/>
                </a:lnTo>
                <a:lnTo>
                  <a:pt x="0" y="16493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8"/>
          <p:cNvSpPr/>
          <p:nvPr/>
        </p:nvSpPr>
        <p:spPr>
          <a:xfrm>
            <a:off x="3564000" y="42926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164933"/>
                </a:moveTo>
                <a:lnTo>
                  <a:pt x="164934" y="164934"/>
                </a:lnTo>
                <a:lnTo>
                  <a:pt x="215900" y="0"/>
                </a:lnTo>
                <a:lnTo>
                  <a:pt x="266866" y="164934"/>
                </a:lnTo>
                <a:lnTo>
                  <a:pt x="431800" y="164933"/>
                </a:lnTo>
                <a:lnTo>
                  <a:pt x="298365" y="266866"/>
                </a:lnTo>
                <a:lnTo>
                  <a:pt x="349333" y="431799"/>
                </a:lnTo>
                <a:lnTo>
                  <a:pt x="215900" y="329864"/>
                </a:lnTo>
                <a:lnTo>
                  <a:pt x="82467" y="431799"/>
                </a:lnTo>
                <a:lnTo>
                  <a:pt x="133435" y="266866"/>
                </a:lnTo>
                <a:lnTo>
                  <a:pt x="0" y="164933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9"/>
          <p:cNvSpPr/>
          <p:nvPr/>
        </p:nvSpPr>
        <p:spPr>
          <a:xfrm rot="20277600">
            <a:off x="237960" y="5845320"/>
            <a:ext cx="436680" cy="417240"/>
          </a:xfrm>
          <a:custGeom>
            <a:avLst/>
            <a:gdLst/>
            <a:ahLst/>
            <a:rect l="l" t="t" r="r" b="b"/>
            <a:pathLst>
              <a:path w="436563" h="417513">
                <a:moveTo>
                  <a:pt x="0" y="159475"/>
                </a:moveTo>
                <a:lnTo>
                  <a:pt x="166753" y="159476"/>
                </a:lnTo>
                <a:lnTo>
                  <a:pt x="218282" y="0"/>
                </a:lnTo>
                <a:lnTo>
                  <a:pt x="269810" y="159476"/>
                </a:lnTo>
                <a:lnTo>
                  <a:pt x="436563" y="159475"/>
                </a:lnTo>
                <a:lnTo>
                  <a:pt x="301656" y="258036"/>
                </a:lnTo>
                <a:lnTo>
                  <a:pt x="353187" y="417512"/>
                </a:lnTo>
                <a:lnTo>
                  <a:pt x="218282" y="318949"/>
                </a:lnTo>
                <a:lnTo>
                  <a:pt x="83376" y="417512"/>
                </a:lnTo>
                <a:lnTo>
                  <a:pt x="134907" y="258036"/>
                </a:lnTo>
                <a:lnTo>
                  <a:pt x="0" y="159475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0" descr="105"/>
          <p:cNvPicPr/>
          <p:nvPr/>
        </p:nvPicPr>
        <p:blipFill>
          <a:blip r:embed="rId11"/>
          <a:stretch/>
        </p:blipFill>
        <p:spPr>
          <a:xfrm flipH="1" rot="10800000">
            <a:off x="4932360" y="2491920"/>
            <a:ext cx="287964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01"/>
          <p:cNvPicPr/>
          <p:nvPr/>
        </p:nvPicPr>
        <p:blipFill>
          <a:blip r:embed="rId1"/>
          <a:stretch/>
        </p:blipFill>
        <p:spPr>
          <a:xfrm>
            <a:off x="-87480" y="0"/>
            <a:ext cx="923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Картинка 1 из 1912"/>
          <p:cNvPicPr/>
          <p:nvPr/>
        </p:nvPicPr>
        <p:blipFill>
          <a:blip r:embed="rId1"/>
          <a:stretch/>
        </p:blipFill>
        <p:spPr>
          <a:xfrm>
            <a:off x="250920" y="0"/>
            <a:ext cx="4321080" cy="66326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471920" y="1483920"/>
            <a:ext cx="4672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ргей Павлович Короле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вный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структо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ерв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смических рак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213840" y="714240"/>
            <a:ext cx="442908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жде чем человек полетел в космос, там побывали живот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ой в космос отправилась  собака Лай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о время люди ещё очень мало знали о космосе, а космические аппараты ещё не умели возвращать с орбиты. Поэтому Лайка навсегда осталась в космическом пространств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4849920" y="500040"/>
            <a:ext cx="398304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ноября 1957 года отправилась в космос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бака Лай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01_01_03_05"/>
          <p:cNvPicPr/>
          <p:nvPr/>
        </p:nvPicPr>
        <p:blipFill>
          <a:blip r:embed="rId2"/>
          <a:stretch/>
        </p:blipFill>
        <p:spPr>
          <a:xfrm>
            <a:off x="1116000" y="1413000"/>
            <a:ext cx="626436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928440" y="5286240"/>
            <a:ext cx="714348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ди помнят о тех, кто первыми побывал в космосе. В Москве открыт памятник первому живому существу, покорившему космос, собаке Лай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187280" y="133200"/>
            <a:ext cx="648036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3780000" y="476280"/>
            <a:ext cx="4863960" cy="2806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395280" y="4365720"/>
            <a:ext cx="8215200" cy="20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ез 3 года после неудачного  полета собаки Лайки, в космос отправляются уже две собаки – Белка и Стрел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осмосе они пробыли  всего один день и  удачно приземлились на Зем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235080" y="189000"/>
            <a:ext cx="3265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8T04:52:05Z</dcterms:created>
  <dc:creator>Лариса</dc:creator>
  <dc:description/>
  <dc:language>en-US</dc:language>
  <cp:lastModifiedBy>Алексей</cp:lastModifiedBy>
  <dcterms:modified xsi:type="dcterms:W3CDTF">2023-04-10T21:35:29Z</dcterms:modified>
  <cp:revision>48</cp:revision>
  <dc:subject/>
  <dc:title>Слайд 1</dc:title>
</cp:coreProperties>
</file>