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D14-9945-4CF2-B09B-A51D76A8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411-1DA6-4850-824C-901E0849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F0FD-38D9-4712-BE16-A5D9C28D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CEB-2629-4A60-B375-51955DC3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343-1B8F-4956-9F92-26C55C7F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A20D-1BBE-4C0C-8825-94080D20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5971-4767-40CA-994B-74B823BA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E3D-1554-45A2-B829-66E9F94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655F-A454-438C-A2AB-76B441C7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D1F-ED72-4F69-BC80-3186235E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C0A-4D60-4FAF-9D1A-C47B57AD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8DB-89BA-4ED7-8C4D-528949B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>
            <a:alpha val="7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162D-CCD5-4FF4-887D-9145F29A12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u.wikipedia.org/wiki/&#1054;&#1087;&#1090;&#1080;&#1095;&#1077;&#1089;&#1082;&#1072;&#1103;_&#1089;&#1080;&#1089;&#1090;&#1077;&#1084;&#1072;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927000" y="2571840"/>
            <a:ext cx="714384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257184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р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ml_objects587.jpg"/>
          <p:cNvPicPr/>
          <p:nvPr/>
        </p:nvPicPr>
        <p:blipFill>
          <a:blip r:embed="rId1"/>
          <a:stretch/>
        </p:blipFill>
        <p:spPr>
          <a:xfrm>
            <a:off x="1071720" y="928800"/>
            <a:ext cx="69436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2571840" y="621504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ервн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03_02_02_01.jpg"/>
          <p:cNvPicPr/>
          <p:nvPr/>
        </p:nvPicPr>
        <p:blipFill>
          <a:blip r:embed="rId1"/>
          <a:stretch/>
        </p:blipFill>
        <p:spPr>
          <a:xfrm>
            <a:off x="1285920" y="1000080"/>
            <a:ext cx="6729480" cy="50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14200" y="47862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Мышечн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03_02_02_05.jpg"/>
          <p:cNvPicPr/>
          <p:nvPr/>
        </p:nvPicPr>
        <p:blipFill>
          <a:blip r:embed="rId1"/>
          <a:srcRect l="0" t="0" r="50659" b="50295"/>
          <a:stretch/>
        </p:blipFill>
        <p:spPr>
          <a:xfrm>
            <a:off x="357120" y="1357200"/>
            <a:ext cx="4160880" cy="31435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03_02_02_05.jpg"/>
          <p:cNvPicPr/>
          <p:nvPr/>
        </p:nvPicPr>
        <p:blipFill>
          <a:blip r:embed="rId2"/>
          <a:srcRect l="50979" t="0" r="0" b="50007"/>
          <a:stretch/>
        </p:blipFill>
        <p:spPr>
          <a:xfrm>
            <a:off x="4714920" y="1357200"/>
            <a:ext cx="4108320" cy="3143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643280" y="478620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643040" y="3571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643120" y="6215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овые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4" descr="03_02_02_06.jpg"/>
          <p:cNvPicPr/>
          <p:nvPr/>
        </p:nvPicPr>
        <p:blipFill>
          <a:blip r:embed="rId1"/>
          <a:stretch/>
        </p:blipFill>
        <p:spPr>
          <a:xfrm>
            <a:off x="1214280" y="928800"/>
            <a:ext cx="6658200" cy="49924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5"/>
          <p:cNvSpPr/>
          <p:nvPr/>
        </p:nvSpPr>
        <p:spPr>
          <a:xfrm>
            <a:off x="3571920" y="1071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йце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128592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перматозо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img144.jpg"/>
          <p:cNvPicPr/>
          <p:nvPr/>
        </p:nvPicPr>
        <p:blipFill>
          <a:blip r:embed="rId1"/>
          <a:srcRect l="2820" t="0" r="7823" b="0"/>
          <a:stretch/>
        </p:blipFill>
        <p:spPr>
          <a:xfrm>
            <a:off x="857160" y="1785960"/>
            <a:ext cx="7524720" cy="36432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214280" y="5716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ьзуясь учебником (стр.109) и данными рисунками, нарисуйте в тетради разные виды клеток и подпишите их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857160" y="5715000"/>
            <a:ext cx="75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клетки, к которыми мы уже познакомились, отсутствуют на данном рисунке?  Дорисуйте их и подпишите наз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2" descr="на юбилее.jpg"/>
          <p:cNvPicPr/>
          <p:nvPr/>
        </p:nvPicPr>
        <p:blipFill>
          <a:blip r:embed="rId1">
            <a:lum contrast="30000"/>
          </a:blip>
          <a:srcRect l="0" t="7382" r="0" b="3839"/>
          <a:stretch/>
        </p:blipFill>
        <p:spPr>
          <a:xfrm>
            <a:off x="571680" y="642960"/>
            <a:ext cx="2230200" cy="3571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3000240" y="642960"/>
            <a:ext cx="5786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Авто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Елена Николаевна Леонтье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учитель хим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КОУ «Ильинская средняя общеобразовательная школа» Олонец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еспублики Каре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786040" y="585792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. Ильинский 2019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642960" y="571680"/>
            <a:ext cx="77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Тема урока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Живые клет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642960" y="2286000"/>
            <a:ext cx="7929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Цель урока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знать, что такое клетка, какие бывают клетки, познакомиться с оптическим прибором – микроскоп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ml_objects555.jpg"/>
          <p:cNvPicPr/>
          <p:nvPr/>
        </p:nvPicPr>
        <p:blipFill>
          <a:blip r:embed="rId1"/>
          <a:stretch/>
        </p:blipFill>
        <p:spPr>
          <a:xfrm>
            <a:off x="571680" y="928800"/>
            <a:ext cx="3554280" cy="4286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71680" y="5357880"/>
            <a:ext cx="36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оберт Гу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1635-17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4286160" y="7920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Английский естествоиспытатель Роберт Г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родился 18 июля 1635 г. во Фрешуо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в семье священника местной церкв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4357800" y="207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665 г. он стал профессором Лондон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4286160" y="450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 1665 г. Гук внес важные усовершенствования в конструкцию микроскопа и с его помощью осуществил ряд исслед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4286160" y="3071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руг научных интересов Гука был весьма широк: теплота, упругость, оптика, небесная механика.  Он проводил много научных исследований совместно с Р. Бой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кругленный прямоугольник 6"/>
          <p:cNvSpPr/>
          <p:nvPr/>
        </p:nvSpPr>
        <p:spPr>
          <a:xfrm>
            <a:off x="3571920" y="1428840"/>
            <a:ext cx="5286240" cy="5143320"/>
          </a:xfrm>
          <a:prstGeom prst="roundRect">
            <a:avLst>
              <a:gd name="adj" fmla="val 16667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/>
          <p:cNvSpPr/>
          <p:nvPr/>
        </p:nvSpPr>
        <p:spPr>
          <a:xfrm>
            <a:off x="357120" y="1357200"/>
            <a:ext cx="2928960" cy="5214960"/>
          </a:xfrm>
          <a:custGeom>
            <a:avLst/>
            <a:gdLst>
              <a:gd name="textAreaLeft" fmla="*/ 142920 w 2928960"/>
              <a:gd name="textAreaRight" fmla="*/ 2786040 w 2928960"/>
              <a:gd name="textAreaTop" fmla="*/ 142920 h 5214960"/>
              <a:gd name="textAreaBottom" fmla="*/ 5072040 h 5214960"/>
            </a:gdLst>
            <a:ahLst/>
            <a:rect l="textAreaLeft" t="textAreaTop" r="textAreaRight" b="textAreaBottom"/>
            <a:pathLst>
              <a:path w="21600" h="38456">
                <a:moveTo>
                  <a:pt x="3600" y="0"/>
                </a:moveTo>
                <a:arcTo wR="3600" hR="3600" stAng="16200000" swAng="-5400000"/>
                <a:lnTo>
                  <a:pt x="0" y="34856"/>
                </a:lnTo>
                <a:arcTo wR="3600" hR="3600" stAng="10800000" swAng="-5400000"/>
                <a:lnTo>
                  <a:pt x="18000" y="384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" descr="180px-Compound_Microscope_1876.jpg"/>
          <p:cNvPicPr/>
          <p:nvPr/>
        </p:nvPicPr>
        <p:blipFill>
          <a:blip r:embed="rId1"/>
          <a:stretch/>
        </p:blipFill>
        <p:spPr>
          <a:xfrm>
            <a:off x="571680" y="1785960"/>
            <a:ext cx="2571480" cy="308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0040" y="214200"/>
            <a:ext cx="81439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Микроскоп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— это лабораторна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оптическая систем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для получения увеличенных изображений малых объектов с целью рассмотрения, изучения и применения на практ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3" descr="microskop-c12.gif"/>
          <p:cNvPicPr/>
          <p:nvPr/>
        </p:nvPicPr>
        <p:blipFill>
          <a:blip r:embed="rId3"/>
          <a:stretch/>
        </p:blipFill>
        <p:spPr>
          <a:xfrm>
            <a:off x="607212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200px-Olympus_SZIII_stereo_microscope.jpg"/>
          <p:cNvPicPr/>
          <p:nvPr/>
        </p:nvPicPr>
        <p:blipFill>
          <a:blip r:embed="rId4"/>
          <a:stretch/>
        </p:blipFill>
        <p:spPr>
          <a:xfrm>
            <a:off x="3857760" y="2143080"/>
            <a:ext cx="2041560" cy="27147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7" descr="microscope.jpg"/>
          <p:cNvPicPr/>
          <p:nvPr/>
        </p:nvPicPr>
        <p:blipFill>
          <a:blip r:embed="rId5"/>
          <a:stretch/>
        </p:blipFill>
        <p:spPr>
          <a:xfrm>
            <a:off x="6357960" y="3214800"/>
            <a:ext cx="2333520" cy="2668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8"/>
          <p:cNvSpPr/>
          <p:nvPr/>
        </p:nvSpPr>
        <p:spPr>
          <a:xfrm>
            <a:off x="642960" y="5286240"/>
            <a:ext cx="23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аринный микроско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929040" y="5357880"/>
            <a:ext cx="20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ременные микроск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1428840" y="4287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оение микроск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img143.jpg"/>
          <p:cNvPicPr/>
          <p:nvPr/>
        </p:nvPicPr>
        <p:blipFill>
          <a:blip r:embed="rId1"/>
          <a:srcRect l="54061" t="-239" r="8418" b="0"/>
          <a:stretch/>
        </p:blipFill>
        <p:spPr>
          <a:xfrm>
            <a:off x="642960" y="1357200"/>
            <a:ext cx="3500280" cy="4530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ая соединительная линия 4"/>
          <p:cNvSpPr/>
          <p:nvPr/>
        </p:nvSpPr>
        <p:spPr>
          <a:xfrm flipH="1" flipV="1">
            <a:off x="2786040" y="1571400"/>
            <a:ext cx="1000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6"/>
          <p:cNvSpPr/>
          <p:nvPr/>
        </p:nvSpPr>
        <p:spPr>
          <a:xfrm>
            <a:off x="3571200" y="2143080"/>
            <a:ext cx="14292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>
            <a:off x="3286080" y="3071880"/>
            <a:ext cx="5716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0"/>
          <p:cNvSpPr/>
          <p:nvPr/>
        </p:nvSpPr>
        <p:spPr>
          <a:xfrm flipH="1" flipV="1">
            <a:off x="1571760" y="2285640"/>
            <a:ext cx="4284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2"/>
          <p:cNvSpPr/>
          <p:nvPr/>
        </p:nvSpPr>
        <p:spPr>
          <a:xfrm>
            <a:off x="2928960" y="4143240"/>
            <a:ext cx="5713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14"/>
          <p:cNvSpPr/>
          <p:nvPr/>
        </p:nvSpPr>
        <p:spPr>
          <a:xfrm>
            <a:off x="2500200" y="5214960"/>
            <a:ext cx="1071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16"/>
          <p:cNvSpPr/>
          <p:nvPr/>
        </p:nvSpPr>
        <p:spPr>
          <a:xfrm flipH="1" flipV="1">
            <a:off x="1000080" y="2357280"/>
            <a:ext cx="285840" cy="5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18"/>
          <p:cNvSpPr/>
          <p:nvPr/>
        </p:nvSpPr>
        <p:spPr>
          <a:xfrm flipH="1" flipV="1">
            <a:off x="713880" y="2857320"/>
            <a:ext cx="142920" cy="64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3571920" y="50007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3500280" y="4143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1"/>
          <p:cNvSpPr/>
          <p:nvPr/>
        </p:nvSpPr>
        <p:spPr>
          <a:xfrm>
            <a:off x="3643200" y="2500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2500200" y="135720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1357200" y="2000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4"/>
          <p:cNvSpPr/>
          <p:nvPr/>
        </p:nvSpPr>
        <p:spPr>
          <a:xfrm>
            <a:off x="3786120" y="30718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5"/>
          <p:cNvSpPr/>
          <p:nvPr/>
        </p:nvSpPr>
        <p:spPr>
          <a:xfrm>
            <a:off x="785880" y="2071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6"/>
          <p:cNvSpPr/>
          <p:nvPr/>
        </p:nvSpPr>
        <p:spPr>
          <a:xfrm>
            <a:off x="571680" y="250020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7"/>
          <p:cNvSpPr/>
          <p:nvPr/>
        </p:nvSpPr>
        <p:spPr>
          <a:xfrm>
            <a:off x="4786200" y="2000160"/>
            <a:ext cx="36435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став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тати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рительная труб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уля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ъект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ировочные вин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метный стол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рк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ml_objects563.jpg"/>
          <p:cNvPicPr/>
          <p:nvPr/>
        </p:nvPicPr>
        <p:blipFill>
          <a:blip r:embed="rId1"/>
          <a:stretch/>
        </p:blipFill>
        <p:spPr>
          <a:xfrm>
            <a:off x="357120" y="1143000"/>
            <a:ext cx="6419880" cy="4815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100px-Elektronenmikroskop.jpg"/>
          <p:cNvPicPr/>
          <p:nvPr/>
        </p:nvPicPr>
        <p:blipFill>
          <a:blip r:embed="rId2"/>
          <a:stretch/>
        </p:blipFill>
        <p:spPr>
          <a:xfrm>
            <a:off x="7358040" y="500040"/>
            <a:ext cx="1413000" cy="59054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571680" y="35712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лектронные микроско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03_02_01_02.jpg"/>
          <p:cNvPicPr/>
          <p:nvPr/>
        </p:nvPicPr>
        <p:blipFill>
          <a:blip r:embed="rId1"/>
          <a:stretch/>
        </p:blipFill>
        <p:spPr>
          <a:xfrm>
            <a:off x="1571760" y="357120"/>
            <a:ext cx="6072120" cy="36594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214200" y="4082400"/>
            <a:ext cx="85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зяв кусочек чистой светлой пробки, я отрезал от него острым перочинным ножом очень тонкую пластинку. Когда затем я поместил этот срез на черное предметное стекло и стал разглядывать его под микроскопом, я очень ясно увидел, что весь он пронизан отверстиями и порами. Они были не слишком глубоки, а состояли из очень многих маленьких ячеек, вычлененных из одной длинной непрерывной поры особыми перегородками..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Так в 1665 г. известный английский естествоиспытатель Роберт Гук описывал открытие кл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ml_objects567.jpg"/>
          <p:cNvPicPr/>
          <p:nvPr/>
        </p:nvPicPr>
        <p:blipFill>
          <a:blip r:embed="rId1"/>
          <a:stretch/>
        </p:blipFill>
        <p:spPr>
          <a:xfrm>
            <a:off x="285840" y="1428840"/>
            <a:ext cx="3643200" cy="431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ml_objects569.jpg"/>
          <p:cNvPicPr/>
          <p:nvPr/>
        </p:nvPicPr>
        <p:blipFill>
          <a:blip r:embed="rId2"/>
          <a:stretch/>
        </p:blipFill>
        <p:spPr>
          <a:xfrm>
            <a:off x="4143240" y="928800"/>
            <a:ext cx="4705560" cy="31431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357200" y="28584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Строен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857160" y="53578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ивотн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5286240" y="92880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тительная кл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7" descr="img139.jpg"/>
          <p:cNvPicPr/>
          <p:nvPr/>
        </p:nvPicPr>
        <p:blipFill>
          <a:blip r:embed="rId3"/>
          <a:srcRect l="3649" t="11659" r="3217" b="6778"/>
          <a:stretch/>
        </p:blipFill>
        <p:spPr>
          <a:xfrm>
            <a:off x="4500720" y="4286160"/>
            <a:ext cx="403380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571760" y="35712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Многообразие кле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2" descr="ml_objects590.jpg"/>
          <p:cNvPicPr/>
          <p:nvPr/>
        </p:nvPicPr>
        <p:blipFill>
          <a:blip r:embed="rId1"/>
          <a:stretch/>
        </p:blipFill>
        <p:spPr>
          <a:xfrm>
            <a:off x="1143000" y="1000080"/>
            <a:ext cx="6643800" cy="4983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2500200" y="6215040"/>
            <a:ext cx="41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летки ко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25:20Z</dcterms:created>
  <dc:creator>mixail</dc:creator>
  <dc:description/>
  <dc:language>en-US</dc:language>
  <cp:lastModifiedBy>Andrey</cp:lastModifiedBy>
  <dcterms:modified xsi:type="dcterms:W3CDTF">2024-01-29T21:39:37Z</dcterms:modified>
  <cp:revision>25</cp:revision>
  <dc:subject/>
  <dc:title>Слайд 1</dc:title>
</cp:coreProperties>
</file>