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2329A-FC08-426B-A1C6-58CCB323F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D6D24-644B-43AA-A4F7-3B1088728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1A12B-4C30-4A4A-89F3-34D5F1F02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AD592-3B27-40DF-BA80-FDC3C31C6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B4346-F829-497E-A5E7-41A05F85A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44141-8C6E-4F1B-949F-489D5FA64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2877F-A84D-40EE-BF7D-E17D86281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8346F-0F46-4D94-B704-FF78DAE80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DFD88-014F-4590-9F7B-3715058E1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C1A73-6285-48C9-AB56-A5E93A429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C5906-1133-4382-9E4F-C922ECF70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E519-C62D-4CDE-980D-D053C12F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DE3F-2F9E-4763-AB29-D4D0FF6CF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6B830-4119-4B29-AE6B-DD4DA1AB4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A85FE-00C9-437C-AAB5-A68601D9A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496F2-3B3F-458A-9F68-36836F7A1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AAEA8-F0B0-4E8B-B8AB-EA598213F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6612E-EF51-4744-B3A7-AE2C0C2E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EA0B-608C-4515-B6F1-44F0954D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A521-9ECF-4488-8892-D997AA7C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B15E4-7E7A-48E9-B1B5-B9AB98DF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6262-A6E7-41C9-9371-882C83F0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061F-87A1-4F5E-A9B8-002982B2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28D7-B808-40BA-978B-80899A38D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302d"/>
                </a:solidFill>
                <a:latin typeface="Tahoma"/>
              </a:rPr>
              <a:t>Click to edit the title text format</a:t>
            </a:r>
            <a:endParaRPr b="0" lang="en-US" sz="4400" spc="-1" strike="noStrike">
              <a:solidFill>
                <a:srgbClr val="51302d"/>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edit the outline text format</a:t>
            </a:r>
            <a:endParaRPr b="0" lang="en-US" sz="3200" spc="-1" strike="noStrike">
              <a:solidFill>
                <a:srgbClr val="663300"/>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econd Outline Level</a:t>
            </a:r>
            <a:endParaRPr b="0" lang="en-US" sz="3200" spc="-1" strike="noStrike">
              <a:solidFill>
                <a:srgbClr val="663300"/>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Third Outline Level</a:t>
            </a:r>
            <a:endParaRPr b="0" lang="en-US" sz="3200" spc="-1" strike="noStrike">
              <a:solidFill>
                <a:srgbClr val="663300"/>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Fourth Outline Level</a:t>
            </a:r>
            <a:endParaRPr b="0" lang="en-US" sz="3200" spc="-1" strike="noStrike">
              <a:solidFill>
                <a:srgbClr val="663300"/>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Fifth Outline Level</a:t>
            </a:r>
            <a:endParaRPr b="0" lang="en-US" sz="3200" spc="-1" strike="noStrike">
              <a:solidFill>
                <a:srgbClr val="663300"/>
              </a:solidFill>
              <a:latin typeface="Tahoma"/>
            </a:endParaRPr>
          </a:p>
          <a:p>
            <a:pPr lvl="5" marL="2036520" indent="-226080">
              <a:spcBef>
                <a:spcPts val="7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ixth Outline Level</a:t>
            </a:r>
            <a:endParaRPr b="0" lang="en-US" sz="3200" spc="-1" strike="noStrike">
              <a:solidFill>
                <a:srgbClr val="663300"/>
              </a:solidFill>
              <a:latin typeface="Tahoma"/>
            </a:endParaRPr>
          </a:p>
          <a:p>
            <a:pPr lvl="6" marL="2036520" indent="-226080">
              <a:spcBef>
                <a:spcPts val="7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eventh Outline Level</a:t>
            </a:r>
            <a:endParaRPr b="0" lang="en-US" sz="3200" spc="-1" strike="noStrike">
              <a:solidFill>
                <a:srgbClr val="6633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5CB6-487C-4D00-92B1-BF5E59A80C8C}" type="slidenum">
              <a:rPr b="0" lang="en-US" sz="1400" spc="-1" strike="noStrike">
                <a:solidFill>
                  <a:srgbClr val="66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302d"/>
                </a:solidFill>
                <a:latin typeface="Tahoma"/>
              </a:rPr>
              <a:t>Click to edit the title text format</a:t>
            </a:r>
            <a:endParaRPr b="0" lang="en-US" sz="4400" spc="-1" strike="noStrike">
              <a:solidFill>
                <a:srgbClr val="51302d"/>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8BFD-F0BE-426B-9D15-9533EAEB4673}" type="slidenum">
              <a:rPr b="0" lang="en-US" sz="1400" spc="-1" strike="noStrike">
                <a:solidFill>
                  <a:srgbClr val="6633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edit the outline text format</a:t>
            </a:r>
            <a:endParaRPr b="0" lang="en-US" sz="3200" spc="-1" strike="noStrike">
              <a:solidFill>
                <a:srgbClr val="66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econd Outline Level</a:t>
            </a:r>
            <a:endParaRPr b="0" lang="en-US" sz="2800" spc="-1" strike="noStrike">
              <a:solidFill>
                <a:srgbClr val="663300"/>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Third Outline Level</a:t>
            </a:r>
            <a:endParaRPr b="0" lang="en-US" sz="2400" spc="-1" strike="noStrike">
              <a:solidFill>
                <a:srgbClr val="663300"/>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Fourth Outline Level</a:t>
            </a:r>
            <a:endParaRPr b="0" lang="en-US" sz="2000" spc="-1" strike="noStrike">
              <a:solidFill>
                <a:srgbClr val="663300"/>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Fifth Outline Level</a:t>
            </a:r>
            <a:endParaRPr b="0" lang="en-US" sz="2000" spc="-1" strike="noStrike">
              <a:solidFill>
                <a:srgbClr val="663300"/>
              </a:solidFill>
              <a:latin typeface="Tahoma"/>
            </a:endParaRPr>
          </a:p>
          <a:p>
            <a:pPr lvl="5" marL="1828800">
              <a:spcBef>
                <a:spcPts val="4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Sixth Outline Level</a:t>
            </a:r>
            <a:endParaRPr b="0" lang="en-US" sz="2000" spc="-1" strike="noStrike">
              <a:solidFill>
                <a:srgbClr val="663300"/>
              </a:solidFill>
              <a:latin typeface="Tahoma"/>
            </a:endParaRPr>
          </a:p>
          <a:p>
            <a:pPr lvl="6" marL="1828800">
              <a:spcBef>
                <a:spcPts val="4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Seventh Outline Level</a:t>
            </a:r>
            <a:endParaRPr b="0" lang="en-US" sz="2000" spc="-1" strike="noStrike">
              <a:solidFill>
                <a:srgbClr val="6633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3300"/>
                </a:solidFill>
                <a:latin typeface="Tahoma"/>
              </a:rPr>
              <a:t>Миогимнастика</a:t>
            </a:r>
            <a:endParaRPr b="0" lang="en-US" sz="4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Упражнение с пуговицами. Две пуговицы диаметром 25— 30 мм соединяют шнурком и располагают на расстоянии 15—18 см друг от друга. Одну пуговицу ребенок захватывает губами, а другую берет правой рукой и натягивает шнур. Такое упражнение делают 2— 3 раза в день, повторяя его 10 раз.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333000"/>
            <a:ext cx="7905600" cy="576252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Упражнение с металлическим диском. Упражнение показано при вредной привычке сосания, особенно большого пальца, нарушенной осанке, ротовом дыхании, дистальном прикусе. J. А. С. Во время выполнения гимнастических упражнений можно пользоваться серебряной монетой. Можно использовать также металлический диск диаметром 2,5—3 см, толщиной 1,5 мм и массой около 6,5 г. Для исправления осанки ребенок во время выполнения упражнения становится вплотную к углу, прикасаясь к нему пятками, ягодицами и лопатками; при этом взгляд должен быть направлен горизонтально вперед. </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1302d"/>
                </a:solidFill>
                <a:latin typeface="Tahoma"/>
              </a:rPr>
              <a:t>Упражнения для мышц переднего участка языка.</a:t>
            </a:r>
            <a:br>
              <a:rPr sz="4000"/>
            </a:br>
            <a:endParaRPr b="0" lang="en-US" sz="4000" spc="-1" strike="noStrike">
              <a:solidFill>
                <a:srgbClr val="51302d"/>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1. На кончик языка накладывают резиновое кольцо диаметром 5— 8 мм (можно нарезать такие кольца шириной 2 мм из резиновой детали пипетки). Ребенок поднимает язык кверху и прижимает его к переднему участку твердого неба в области небных складок, зубы сжимает, губы не смыкает. Рекомендуют проглотить слюну, не изменяя положения кончика языка и резинового кольца. Если язык находится между зубными рядами, то упражнение выполняется неправильно. Следует терпеливо разъяснить ребенку задачу упражнения и достигнуть правильного положения языка. Упражнение повторяют в первый день 5—6 раз, на второй — 2 раза (утром и вечером) по 5—6 раз, в последующие — 3 раза в день по 10—12 раз.</a:t>
            </a:r>
            <a:br>
              <a:rPr sz="2400"/>
            </a:br>
            <a:r>
              <a:rPr b="0" lang="en-US" sz="2400" spc="-1" strike="noStrike">
                <a:solidFill>
                  <a:srgbClr val="663300"/>
                </a:solidFill>
                <a:latin typeface="Tahoma"/>
              </a:rPr>
              <a:t> </a:t>
            </a:r>
            <a:endParaRPr b="0" lang="en-US" sz="24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620280"/>
            <a:ext cx="8229600" cy="547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2. То же резиновое кольцо ребёнок прижимает кончиком языка к переднему участку неба в области небных складок. Зубы и губы сжимает, кольцо удерживает в течение 5 мин. В последующие дни время выполнения упражнения увеличивают до 10 мин.</a:t>
            </a:r>
            <a:br>
              <a:rPr sz="3200"/>
            </a:br>
            <a:r>
              <a:rPr b="0" lang="en-US" sz="3200" spc="-1" strike="noStrike">
                <a:solidFill>
                  <a:srgbClr val="663300"/>
                </a:solidFill>
                <a:latin typeface="Tahoma"/>
              </a:rPr>
              <a:t>3. Положение языка и резинового кольца то же. Зубы сомкнуты. Ребёнка обучают проглатыванию слюны с несомкнутыми губами. Упражнение выполняют 3 раза в день по 10 мин.</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476280"/>
            <a:ext cx="8229600" cy="56196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Упражнения для мышц среднего участка языка. </a:t>
            </a:r>
            <a:endParaRPr b="0" lang="en-US" sz="2800" spc="-1" strike="noStrike">
              <a:solidFill>
                <a:srgbClr val="663300"/>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На язык накладывают два резиновых кольца: одно на кончик, другое на середину. Ребенок поднимает язык вверх и прижимает к своду неба, зубы сжимает, губы смыкает не полностью. Не изменяя положения языка, трижды проглатывает слюну. Напряжение жевательных мышц можно проконтролировать пальпацией, приложив пальцы к щекам. При неправильном глотании жевательные мышцы не напрягаются. </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676160"/>
            <a:ext cx="7918560" cy="3408120"/>
          </a:xfrm>
          <a:prstGeom prst="rect">
            <a:avLst/>
          </a:prstGeom>
          <a:noFill/>
          <a:ln w="0">
            <a:noFill/>
          </a:ln>
          <a:effectLst>
            <a:outerShdw dist="107932" dir="2700000" blurRad="0" rotWithShape="0">
              <a:srgbClr val="ffffcc">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1302d"/>
                </a:solidFill>
                <a:latin typeface="Tahoma"/>
              </a:rPr>
              <a:t>Миотерапия - метод лечебной гимнастики, используемый в ортодонтии для профилактики и лечения зубочелюстных аномалий</a:t>
            </a:r>
            <a:br>
              <a:rPr sz="3200"/>
            </a:br>
            <a:r>
              <a:rPr b="0" lang="ru-RU" sz="3200" spc="-1" strike="noStrike">
                <a:solidFill>
                  <a:srgbClr val="51302d"/>
                </a:solidFill>
                <a:latin typeface="Tahoma"/>
              </a:rPr>
              <a:t>Это </a:t>
            </a:r>
            <a:r>
              <a:rPr b="1" lang="ru-RU" sz="3200" spc="-1" strike="noStrike">
                <a:solidFill>
                  <a:srgbClr val="51302d"/>
                </a:solidFill>
                <a:latin typeface="Tahoma"/>
              </a:rPr>
              <a:t>комплекс упражнений</a:t>
            </a:r>
            <a:r>
              <a:rPr b="0" lang="ru-RU" sz="3200" spc="-1" strike="noStrike">
                <a:solidFill>
                  <a:srgbClr val="51302d"/>
                </a:solidFill>
                <a:latin typeface="Tahoma"/>
              </a:rPr>
              <a:t>, сориентированных на тренировку тех или иных мышц лица. Её можно применять, начиная с сознательного возраста, когда ребёнок может самостоятельно делать упражнения — т.е. с 3-4 лет.</a:t>
            </a:r>
            <a:endParaRPr b="0" lang="en-US" sz="3200" spc="-1" strike="noStrike">
              <a:solidFill>
                <a:srgbClr val="51302d"/>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4"/>
                                        </p:tgtEl>
                                        <p:attrNameLst>
                                          <p:attrName>style.visibility</p:attrName>
                                        </p:attrNameLst>
                                      </p:cBhvr>
                                      <p:to>
                                        <p:strVal val="visible"/>
                                      </p:to>
                                    </p:set>
                                    <p:anim calcmode="discrete" valueType="clr">
                                      <p:cBhvr additive="repl">
                                        <p:cTn id="7" dur="80"/>
                                        <p:tgtEl>
                                          <p:spTgt spid="84"/>
                                        </p:tgtEl>
                                        <p:attrNameLst>
                                          <p:attrName>style.color</p:attrName>
                                        </p:attrNameLst>
                                      </p:cBhvr>
                                      <p:tavLst>
                                        <p:tav tm="0">
                                          <p:val>
                                            <p:strVal val="rgb(-103,102,51)"/>
                                          </p:val>
                                        </p:tav>
                                        <p:tav tm="50000">
                                          <p:val>
                                            <p:strVal val="rgb(-1,-52,0)"/>
                                          </p:val>
                                        </p:tav>
                                      </p:tavLst>
                                    </p:anim>
                                    <p:anim calcmode="discrete" valueType="clr">
                                      <p:cBhvr additive="repl">
                                        <p:cTn id="8" dur="80"/>
                                        <p:tgtEl>
                                          <p:spTgt spid="84"/>
                                        </p:tgtEl>
                                        <p:attrNameLst>
                                          <p:attrName>fillcolor</p:attrName>
                                        </p:attrNameLst>
                                      </p:cBhvr>
                                      <p:tavLst>
                                        <p:tav tm="0">
                                          <p:val>
                                            <p:strVal val="rgb(-103,102,51)"/>
                                          </p:val>
                                        </p:tav>
                                        <p:tav tm="50000">
                                          <p:val>
                                            <p:strVal val="rgb(-1,-52,0)"/>
                                          </p:val>
                                        </p:tav>
                                      </p:tavLst>
                                    </p:anim>
                                    <p:set>
                                      <p:cBhvr>
                                        <p:cTn id="9" dur="80"/>
                                        <p:tgtEl>
                                          <p:spTgt spid="84"/>
                                        </p:tgtEl>
                                        <p:attrNameLst>
                                          <p:attrName>fill.type</p:attrName>
                                        </p:attrNameLst>
                                      </p:cBhvr>
                                      <p:to>
                                        <p:strVal val="solid"/>
                                      </p:to>
                                    </p:set>
                                  </p:childTnLst>
                                </p:cTn>
                              </p:par>
                            </p:childTnLst>
                          </p:cTn>
                        </p:par>
                        <p:par>
                          <p:cTn id="10" fill="hold">
                            <p:stCondLst>
                              <p:cond delay="11200"/>
                            </p:stCondLst>
                            <p:childTnLst>
                              <p:par>
                                <p:cTn id="11" nodeType="afterEffect" fill="hold" presetClass="emph" presetID="3" presetSubtype="2">
                                  <p:stCondLst>
                                    <p:cond delay="0"/>
                                  </p:stCondLst>
                                  <p:iterate type="lt">
                                    <p:tmAbs val="0"/>
                                  </p:iterate>
                                  <p:childTnLst>
                                    <p:animClr clrSpc="rgb">
                                      <p:cBhvr>
                                        <p:cTn id="12" dur="2000" fill="hold"/>
                                        <p:tgtEl>
                                          <p:spTgt spid="84"/>
                                        </p:tgtEl>
                                        <p:attrNameLst>
                                          <p:attrName>style.color</p:attrName>
                                        </p:attrNameLst>
                                      </p:cBhvr>
                                      <p:to>
                                        <a:srgbClr val="3366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50920" y="692280"/>
            <a:ext cx="8229600" cy="5403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Миотерапия как самостоятельный метод лечения и в качестве поддерживающей терапии в составе ортодонтического лечения имеет важнейшее значение, особенно в молочном прикусе. A.P.Rogers в 1916 г. обосновал метод функционального воздействия для исправления зубочелюстных аномалий.</a:t>
            </a:r>
            <a:endParaRPr b="0" lang="en-US" sz="3200" spc="-1" strike="noStrike">
              <a:solidFill>
                <a:srgbClr val="663300"/>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 </a:t>
            </a:r>
            <a:r>
              <a:rPr b="0" lang="ru-RU" sz="3200" spc="-1" strike="noStrike">
                <a:solidFill>
                  <a:srgbClr val="663300"/>
                </a:solidFill>
                <a:latin typeface="Tahoma"/>
              </a:rPr>
              <a:t>В нашей стране одними из первых эту проблему разрабатывали С.С.Райзман, Е.И.Гав-рилов, Г.А.Туробова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88"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Лечебная  гимнастика при механической дислалии проводится для следующих групп мышц:</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 окружающих зубные ряды; </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 заднего и переднего участка языка; </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 поднимающих нижнюю челюсть.</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А так же  для исправления аномалий положения зубов, для мышц</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1302d"/>
                </a:solidFill>
                <a:latin typeface="Tahoma"/>
              </a:rPr>
              <a:t>Упражнения для круговой мышцы рта</a:t>
            </a:r>
            <a:endParaRPr b="0" lang="en-US" sz="4000" spc="-1" strike="noStrike">
              <a:solidFill>
                <a:srgbClr val="51302d"/>
              </a:solidFill>
              <a:latin typeface="Tahoma"/>
            </a:endParaRPr>
          </a:p>
        </p:txBody>
      </p:sp>
      <p:sp>
        <p:nvSpPr>
          <p:cNvPr id="90" name="PlaceHolder 2"/>
          <p:cNvSpPr>
            <a:spLocks noGrp="1"/>
          </p:cNvSpPr>
          <p:nvPr>
            <p:ph/>
          </p:nvPr>
        </p:nvSpPr>
        <p:spPr>
          <a:xfrm>
            <a:off x="457200" y="1628280"/>
            <a:ext cx="8229600" cy="4467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Несмыкание губ приводит к ряду функциональных нарушений с неблагоприятными последствиями как местного, так и общего характера, поэтому гимнастическим упражнениям для тренировки круговой мышцы рта следует уделять особое внимание. Отучить ребенка от ротового дыхания довольно трудно. К этому нужно приступать после того, как получено заключение отоларинголога о проходимости носовых ходов для воздушной струи. Чтобы убедиться в возможности носового дыхания, следует предложить ребенку набрать в рот воды и проверить, как долго он может держать ее, не проглатывая и не размыкая губ. При затрудненном носовом дыхании ребенок размыкает губы через 20—40 с. Можно приложить к ноздре кусочек ваты или полоску папиросной бумаги, зеркало.</a:t>
            </a:r>
            <a:endParaRPr b="0" lang="en-US" sz="24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404280"/>
            <a:ext cx="8229600" cy="569124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Упражнения без сопротивления:</a:t>
            </a:r>
            <a:endParaRPr b="0" lang="en-US" sz="2800" spc="-1" strike="noStrike">
              <a:solidFill>
                <a:srgbClr val="663300"/>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 Ребенок смыкает губы и надувает щеки, после чего прижимает к щекам кулаки и медленно выдавливает воздух через сжатые губы. </a:t>
            </a:r>
            <a:endParaRPr b="0" lang="en-US" sz="2800" spc="-1" strike="noStrike">
              <a:solidFill>
                <a:srgbClr val="663300"/>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 Для развития круговой мышцы рта можно свистеть, дуть на легко перемещающийся предмет, например подвешенный кусок ваты, перышко и т. п. </a:t>
            </a:r>
            <a:endParaRPr b="0" lang="en-US" sz="2800" spc="-1" strike="noStrike">
              <a:solidFill>
                <a:srgbClr val="663300"/>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Рекомендуют также прокладывать между губами сложенную вдвое полоску бумаги и сжимать губы. Бумагу удерживают губами 30—50 мин. Упражнения выполняют ежедневно. </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1302d"/>
                </a:solidFill>
                <a:latin typeface="Tahoma"/>
              </a:rPr>
              <a:t>Упражнения с сопротивлением:</a:t>
            </a:r>
            <a:br>
              <a:rPr sz="4000"/>
            </a:br>
            <a:endParaRPr b="0" lang="en-US" sz="4000" spc="-1" strike="noStrike">
              <a:solidFill>
                <a:srgbClr val="51302d"/>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Ребенок закладывает согнутые мизинцы в углы рта и слегка растягивает их, сжимая губы и следя за тем, чтобы они не выворачивались.</a:t>
            </a:r>
            <a:br>
              <a:rPr sz="3200"/>
            </a:br>
            <a:br>
              <a:rPr sz="3200"/>
            </a:br>
            <a:r>
              <a:rPr b="0" lang="en-US" sz="3200" spc="-1" strike="noStrike">
                <a:solidFill>
                  <a:srgbClr val="663300"/>
                </a:solidFill>
                <a:latin typeface="Tahoma"/>
              </a:rPr>
              <a:t>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000" y="404280"/>
            <a:ext cx="7761240" cy="569124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Упражнение с пластинкой из пластмассы. Ребенок зажимает губами край пластинки толщиной 1—2 мм и удерживает ее в горизонтальном положении. На пластинку накладывают какой либо груз. Увеличение груза вызывает усиление сжатия губ.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333000"/>
            <a:ext cx="7834320" cy="57625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Упражнение с ватными валиками. Небольшие ватные валики закладывают в область переходной складки преддверия полости рта по обе стороны от уздечки верхней губы. Ребенок должен сомкнуть губы и произнести несколько фраз, содержащих губные звуки («б», «м», «п»), для чего требуется смыкание губ. В течение дня упражнение надо повторять неоднократно.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9:42:20Z</dcterms:created>
  <dc:creator>Наталья</dc:creator>
  <dc:description/>
  <dc:language>en-US</dc:language>
  <cp:lastModifiedBy>мама</cp:lastModifiedBy>
  <dcterms:modified xsi:type="dcterms:W3CDTF">2012-05-30T15:15:57Z</dcterms:modified>
  <cp:revision>9</cp:revision>
  <dc:subject/>
  <dc:title>Какие  бывают  животные</dc:title>
</cp:coreProperties>
</file>