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ACB-C747-4B6D-85C4-E6BFA105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2B5-36F6-4076-8E4F-7401BD86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887-49B5-4D0A-9431-C9CA00F7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5AF-5894-44D4-AB8B-44845859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B836-109D-4E7C-AE46-B3585A58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4DD2-57D9-4D30-ABA3-998DFCB9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17EA-1E69-4E9A-B4DB-FB957F4D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FDB5-8723-4EA2-B4E4-EB7F433A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73E-FEA4-45A6-9FD6-79FFA254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1B44-2F5E-42A8-A3AA-EF0E22F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4A85-FB9F-45B2-9CC0-2FD8075C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3B6-8AC3-4A0C-B137-DA4FDC43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2C99-21D9-4FEE-BB72-D6FD1AC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429-D1FE-459B-B69F-6F1D034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C741-C199-4D3A-A5B2-F2E9A406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78AE-9D0C-485F-A70D-81D415E9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096E-B1ED-466B-8433-44F00AC7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B362-E8E4-434F-8984-6308CE98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CDA0-1C6B-402E-B7C3-F43164E5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2724-65E9-446A-959D-6FD4FB7A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19A5-C0F2-42B0-8D32-601C0EAA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C67A-25CA-4C82-9FF3-CD2B69C3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21D-5FD7-41D2-80D0-D2826AF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DEBC-92F2-4686-83A4-F6D0762C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362F-DCEC-472A-9CD8-0535C88E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FEB8-D6FA-4556-8B0A-E0876BF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3503-0EDD-4BA5-931B-A6C6C9A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DE31-5981-4574-A3DE-BFAFA742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43A5-0DD1-4B2A-9767-8D3F9763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3777-D508-4542-912B-3EC98305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A559-61EE-45A4-B111-79C994BD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F542-DEB5-4B3B-ADA0-572E0811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3AD9-A8E8-472D-89D9-4AF62363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F43-03CA-4837-96E9-CB26ECFA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A4F41-A7EE-4A43-82C2-4BF2D3A3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D07B-150F-4050-AA7E-79BE7E05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CE04-ED81-4DFC-A53D-8B6558AE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1517D-FA31-4EEF-A4C4-25FC8A50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30CC-C2D7-4D63-B0A9-28F8DC90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253A-7209-4355-B0F1-190FAB7D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E6C22-34BC-4794-882C-CC4FE8EA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134E-10E3-49F7-9EBA-A5D3C923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7B7A-6158-4EB9-85F8-3081C65D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DB65-2866-4ACC-921A-EF651FE5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DA3-9C64-4FB6-8394-F6F984B0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5ECB-3957-47C5-8932-724F28D1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720CC-D4DC-4DAC-BF75-775BFC96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266E2-C1D8-4450-A66B-B12537F1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8AFD-938C-4501-B628-09B66971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5C2CC-30AE-4584-9BFE-D8C6B78D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8D22-47D2-499E-9C24-6A484A23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753C-F57A-43C6-B641-DD150EC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90793-6099-456B-B4A1-0DCB0136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37485-489D-42D1-983F-BC37877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BF651-4FCB-48E4-9F29-B1B5CF87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949-2782-4CFE-8552-7377A4ED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CA38D-16F6-4841-A8FD-9702B5BA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D84-472A-4D8F-9E1E-8B263E70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C48-92DE-49A3-A9D5-BC8653A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D94-1C01-40C7-A44E-EC578C58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E924-A7D9-4E54-B219-B743F25B073B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8D58-83A8-489F-B69A-4BA81CBBFA20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AE31-F9FA-4F89-89A3-C30908E10B78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368-AB0E-41B0-8643-058DE88F86F7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126-905D-4941-8DB3-6AAC94BA3B3B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clipartpanda.com/weather-clip-art-inclement_weather_Vector_Clipart.png" TargetMode="External"/><Relationship Id="rId2" Type="http://schemas.openxmlformats.org/officeDocument/2006/relationships/hyperlink" Target="http://3.bp.blogspot.com/-PQ3V-ttpS1s/UopKK13sZWI/AAAAAAAAPdo/HzK1xwbp0KY/s1600/g&#252;ne&#351;+resimleri+%2827%29.pn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640" y="980640"/>
            <a:ext cx="7488000" cy="24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ts val="5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df9307"/>
                </a:solidFill>
                <a:latin typeface="Tahoma"/>
                <a:ea typeface="Tahoma"/>
              </a:rPr>
              <a:t>Погодные явления и безопасность человека</a:t>
            </a:r>
            <a:endParaRPr b="1" lang="en-US" sz="5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708000" y="4436640"/>
            <a:ext cx="5002200" cy="1368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Учитель ОБЖ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МКОУ «Октябрьская СОШ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Касторенского района Курской обла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Сурк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одзаголовок 2"/>
          <p:cNvSpPr/>
          <p:nvPr/>
        </p:nvSpPr>
        <p:spPr>
          <a:xfrm>
            <a:off x="3457440" y="6021360"/>
            <a:ext cx="22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Декабрь, 20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7020000" y="549360"/>
            <a:ext cx="1619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7b7f"/>
                </a:solidFill>
                <a:latin typeface="Tahoma"/>
                <a:ea typeface="Tahoma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34304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362800" cy="5559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468360" y="476280"/>
            <a:ext cx="590544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 природы нет плохой погоды,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ждая погода – благодать.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ждь ли снег, любое время года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до благодарно принимать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0960" y="555120"/>
            <a:ext cx="8136000" cy="211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Тема урока:</a:t>
            </a:r>
            <a:br>
              <a:rPr sz="1400"/>
            </a:br>
            <a:r>
              <a:rPr b="1" lang="ru-RU" sz="4800" spc="-1" strike="noStrike">
                <a:solidFill>
                  <a:srgbClr val="df9307"/>
                </a:solidFill>
                <a:latin typeface="Tahoma"/>
                <a:ea typeface="Tahoma"/>
              </a:rPr>
              <a:t>«Погодные явления и безопасность человека»</a:t>
            </a:r>
            <a:endParaRPr b="1" lang="en-US" sz="4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4" name="Заголовок 1"/>
          <p:cNvSpPr/>
          <p:nvPr/>
        </p:nvSpPr>
        <p:spPr>
          <a:xfrm>
            <a:off x="2843280" y="2708280"/>
            <a:ext cx="5761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Цель урока:</a:t>
            </a:r>
            <a:br>
              <a:rPr sz="3600"/>
            </a:br>
            <a:r>
              <a:rPr b="1" lang="ru-RU" sz="2800" spc="-1" strike="noStrike">
                <a:solidFill>
                  <a:srgbClr val="df9307"/>
                </a:solidFill>
                <a:latin typeface="Tahoma"/>
                <a:ea typeface="Tahoma"/>
              </a:rPr>
              <a:t>изучить погодные явления характерные для данного места проживания и научиться безопасно вести себя в различных погодных услов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93508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00720" cy="2122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0" algn="ctr">
              <a:lnSpc>
                <a:spcPts val="4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4000" spc="-1" strike="noStrike">
                <a:solidFill>
                  <a:srgbClr val="df9307"/>
                </a:solidFill>
                <a:latin typeface="Tahoma"/>
              </a:rPr>
              <a:t>Погода – это состояние атмосферы в определённом месте и в определённое врем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7" descr="http://st.depositphotos.com/1027309/2999/v/950/depositphotos_29992109-Thermometer-snow-sun.jpg"/>
          <p:cNvPicPr/>
          <p:nvPr/>
        </p:nvPicPr>
        <p:blipFill>
          <a:blip r:embed="rId1"/>
          <a:stretch/>
        </p:blipFill>
        <p:spPr>
          <a:xfrm>
            <a:off x="4140360" y="3068640"/>
            <a:ext cx="4686120" cy="3313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http://www.province.ru/tyumen/media/k2/items/cache/5003d452a8da016f3ed02a6385cf54e8_XL.jpg"/>
          <p:cNvPicPr/>
          <p:nvPr/>
        </p:nvPicPr>
        <p:blipFill>
          <a:blip r:embed="rId2"/>
          <a:stretch/>
        </p:blipFill>
        <p:spPr>
          <a:xfrm>
            <a:off x="826920" y="2205000"/>
            <a:ext cx="3191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МЕТЕОСТАНЦИЯ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50" name="Содержимое 3" descr="метеостанция.jpg"/>
          <p:cNvPicPr/>
          <p:nvPr/>
        </p:nvPicPr>
        <p:blipFill>
          <a:blip r:embed="rId1"/>
          <a:stretch/>
        </p:blipFill>
        <p:spPr>
          <a:xfrm>
            <a:off x="826920" y="530280"/>
            <a:ext cx="7490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971640" y="1773360"/>
          <a:ext cx="7345440" cy="3840120"/>
        </p:xfrm>
        <a:graphic>
          <a:graphicData uri="http://schemas.openxmlformats.org/drawingml/2006/table">
            <a:tbl>
              <a:tblPr/>
              <a:tblGrid>
                <a:gridCol w="711000"/>
                <a:gridCol w="6634440"/>
              </a:tblGrid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По словесному описанию предсказать (определить) природное явл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Перечислить последствия этого явления для чело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168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Дать рекомендации одноклассникам по безопасному поведению по время того природного явления, которое вы определи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</a:tbl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71280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9307"/>
                </a:solidFill>
                <a:latin typeface="Tahoma"/>
                <a:ea typeface="Tahoma"/>
              </a:rPr>
              <a:t>План работы метеостанций: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00720" cy="2122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0" algn="ctr">
              <a:lnSpc>
                <a:spcPts val="4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4000" spc="-1" strike="noStrike">
                <a:solidFill>
                  <a:srgbClr val="df9307"/>
                </a:solidFill>
                <a:latin typeface="Tahoma"/>
              </a:rPr>
              <a:t>Погода – это состояние атмосферы в определённом месте и в определённое врем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7" descr="http://st.depositphotos.com/1027309/2999/v/950/depositphotos_29992109-Thermometer-snow-sun.jpg"/>
          <p:cNvPicPr/>
          <p:nvPr/>
        </p:nvPicPr>
        <p:blipFill>
          <a:blip r:embed="rId1"/>
          <a:stretch/>
        </p:blipFill>
        <p:spPr>
          <a:xfrm>
            <a:off x="4140360" y="3068640"/>
            <a:ext cx="4686120" cy="3313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http://www.province.ru/tyumen/media/k2/items/cache/5003d452a8da016f3ed02a6385cf54e8_XL.jpg"/>
          <p:cNvPicPr/>
          <p:nvPr/>
        </p:nvPicPr>
        <p:blipFill>
          <a:blip r:embed="rId2"/>
          <a:stretch/>
        </p:blipFill>
        <p:spPr>
          <a:xfrm>
            <a:off x="826920" y="2205000"/>
            <a:ext cx="3191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ГРОЗА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57" name="Содержимое 3" descr="гроза.jpg"/>
          <p:cNvPicPr/>
          <p:nvPr/>
        </p:nvPicPr>
        <p:blipFill>
          <a:blip r:embed="rId1"/>
          <a:stretch/>
        </p:blipFill>
        <p:spPr>
          <a:xfrm>
            <a:off x="1042920" y="530280"/>
            <a:ext cx="71294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ГОЛОЛЁД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59" name="Содержимое 3" descr="гололёд.jpg"/>
          <p:cNvPicPr/>
          <p:nvPr/>
        </p:nvPicPr>
        <p:blipFill>
          <a:blip r:embed="rId1"/>
          <a:stretch/>
        </p:blipFill>
        <p:spPr>
          <a:xfrm>
            <a:off x="900000" y="530280"/>
            <a:ext cx="74170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СНЕЖНЫЙ ЗАНОС,МЕТЕЛЬ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61" name="Содержимое 3" descr="метель.jpg"/>
          <p:cNvPicPr/>
          <p:nvPr/>
        </p:nvPicPr>
        <p:blipFill>
          <a:blip r:embed="rId1"/>
          <a:stretch/>
        </p:blipFill>
        <p:spPr>
          <a:xfrm>
            <a:off x="971640" y="530280"/>
            <a:ext cx="74167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0960" y="555120"/>
            <a:ext cx="8136000" cy="211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Тема урока:</a:t>
            </a:r>
            <a:br>
              <a:rPr sz="1400"/>
            </a:br>
            <a:r>
              <a:rPr b="1" lang="ru-RU" sz="4800" spc="-1" strike="noStrike">
                <a:solidFill>
                  <a:srgbClr val="df9307"/>
                </a:solidFill>
                <a:latin typeface="Tahoma"/>
                <a:ea typeface="Tahoma"/>
              </a:rPr>
              <a:t>«Погодные явления и безопасность человека»</a:t>
            </a:r>
            <a:endParaRPr b="1" lang="en-US" sz="4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2843280" y="2708280"/>
            <a:ext cx="5761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Цель урока:</a:t>
            </a:r>
            <a:br>
              <a:rPr sz="3600"/>
            </a:br>
            <a:r>
              <a:rPr b="1" lang="ru-RU" sz="2800" spc="-1" strike="noStrike">
                <a:solidFill>
                  <a:srgbClr val="df9307"/>
                </a:solidFill>
                <a:latin typeface="Tahoma"/>
                <a:ea typeface="Tahoma"/>
              </a:rPr>
              <a:t>изучить погодные явления характерные для данного места проживания и научиться безопасно вести себя в различных погодных услов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93508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3640" y="2781360"/>
            <a:ext cx="510516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5000"/>
          </a:bodyPr>
          <a:p>
            <a:pPr marL="225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Calibri"/>
              </a:rPr>
              <a:t>ВНИМАНИЕ,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219320" y="396252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Calibri"/>
              </a:rPr>
              <a:t>НАХОДЧ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267080" y="5029200"/>
            <a:ext cx="4876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СМЕКАЛК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84360" y="6093000"/>
            <a:ext cx="78818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1"/>
          <a:srcRect l="5023" t="3633" r="0" b="6367"/>
          <a:stretch/>
        </p:blipFill>
        <p:spPr>
          <a:xfrm>
            <a:off x="4322880" y="476280"/>
            <a:ext cx="482112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f9307"/>
                </a:solidFill>
                <a:latin typeface="Tahoma"/>
                <a:ea typeface="Tahoma"/>
              </a:rPr>
              <a:t>Тест по теме: «Погодные явления и безопасность человека»</a:t>
            </a:r>
            <a:endParaRPr b="1" lang="en-US" sz="3400" spc="-1" strike="noStrike">
              <a:solidFill>
                <a:srgbClr val="d75b7e"/>
              </a:solidFill>
              <a:latin typeface="Verdan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843120" y="2133720"/>
          <a:ext cx="3657600" cy="36716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36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df9307"/>
                          </a:solidFill>
                          <a:uFillTx/>
                          <a:latin typeface="Tahoma"/>
                          <a:ea typeface="Tahoma"/>
                        </a:rPr>
                        <a:t>Ответы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1 – БВГД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2 – 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3 – 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88000" y="2133720"/>
          <a:ext cx="3809880" cy="3671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36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df9307"/>
                          </a:solidFill>
                          <a:uFillTx/>
                          <a:latin typeface="Arial"/>
                          <a:ea typeface="Arial"/>
                        </a:rPr>
                        <a:t>Критерии:</a:t>
                      </a:r>
                      <a:r>
                        <a:rPr b="0" lang="ru-RU" sz="3200" spc="-1" strike="noStrike">
                          <a:solidFill>
                            <a:srgbClr val="df9307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999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Максимальное количество баллов, выставляемое в рейтинговый лист за тест – 7. </a:t>
                      </a: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Один балл за каждый правильный ответ</a:t>
                      </a: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8" name="Picture 1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1479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6894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Домашнее задание</a:t>
            </a:r>
            <a:endParaRPr b="1" lang="en-US" sz="40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3964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lnSpc>
                <a:spcPts val="25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изучить §3.1, стр. 64-70, пересказать, ответить на вопрос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ts val="25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выписать определения погодных явлений в рабочую тетрадь, подготовиться к терминологическому диктант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ts val="25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ts val="25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творческое задание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ts val="25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- записать народные приметы, указывающие на перемену пог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2830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6912000" cy="5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9b639"/>
                </a:solidFill>
                <a:latin typeface="Tahoma"/>
                <a:ea typeface="Tahoma"/>
              </a:rPr>
              <a:t>Информационные ресурсы</a:t>
            </a:r>
            <a:endParaRPr b="1" lang="en-US" sz="29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98064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1 картинка - </a:t>
            </a:r>
            <a:r>
              <a:rPr b="0" lang="en-US" sz="1400" spc="-1" strike="noStrike" u="sng">
                <a:solidFill>
                  <a:srgbClr val="ffde66"/>
                </a:solidFill>
                <a:uFillTx/>
                <a:latin typeface="Tahoma"/>
                <a:ea typeface="Tahoma"/>
                <a:hlinkClick r:id="rId1"/>
              </a:rPr>
              <a:t>http://images.clipartpanda.com/weather-clip-art-inclement_weather_Vector_Clipart.p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2 картинка - </a:t>
            </a:r>
            <a:r>
              <a:rPr b="0" lang="en-US" sz="1400" spc="-1" strike="noStrike" u="sng">
                <a:solidFill>
                  <a:srgbClr val="ffde66"/>
                </a:solidFill>
                <a:uFillTx/>
                <a:latin typeface="Tahoma"/>
                <a:ea typeface="Tahoma"/>
                <a:hlinkClick r:id="rId2"/>
              </a:rPr>
              <a:t>http://3.bp.blogspot.com/-PQ3V-ttpS1s/UopKK13sZWI/AAAAAAAAPdo/HzK1xwbp0KY/s1600/g%C3%BCne%C5%9F+resimleri+%2827%29.p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3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yt3.ggpht.com/-Yl76pioRj5A/AAAAAAAAAAI/AAAAAAAAAAA/mH4FKPebItE/s900-c-k-no/photo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4 картинка - Форштат М.Л. Учись быть пешеходом. Учебное пособие по ПДД для 6 класса. Рис. Д.Г. Майстренко/ Дизайн обложки А.С. Андреева. - СПб.: ИД «МиМ», 1998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5 картинка - Форштат М.Л. Учись быть пешеходом. Учебное пособие по ПДД для 6 класса. Рис. Д.Г. Майстренко/ Дизайн обложки А.С. Андреева. - СПб.: ИД «МиМ», 1998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6 картинка - Основы безопасности жизнедеятельности. 5 класс: учеб. для общеобразоват. организаций с прил. на электрон. носителе / А.Т.Смирнов, Б.О. Хренников; под ред. А.Т. Смирнова; Рос. акад. наук, Рос. акад. образования, изд-во «Просвещение». – 3-е изд. – М.: Просвещение, 2014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7 картинка - Основы безопасности жизнедеятельности. 5 класс: учеб. для общеобразоват. организаций с прил. на электрон. носителе / А.Т.Смирнов, Б.О. Хренников; под ред. А.Т. Смирнова; Рос. акад. наук, Рос. акад. образования, изд-во «Просвещение». – 3-е изд. – М.: Просвещение, 2014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8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picnations.tk/wp-content/uploads/2015/09/Raindrops-on-Leaf-Wallpaper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9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www.province.ru/tyumen/media/k2/items/cache/5003d452a8da016f3ed02a6385cf54e8_XL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10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st.depositphotos.com/1027309/2999/v/950/depositphotos_29992109-Thermometer-snow-sun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11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st2.depositphotos.com/1000489/5709/v/950/depositphotos_57094631-Owl-reading-a-book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55640" y="1197000"/>
            <a:ext cx="7632720" cy="4392720"/>
          </a:xfrm>
          <a:prstGeom prst="rect">
            <a:avLst/>
          </a:prstGeom>
          <a:gradFill rotWithShape="0">
            <a:gsLst>
              <a:gs pos="0">
                <a:srgbClr val="bc3e02"/>
              </a:gs>
              <a:gs pos="100000">
                <a:srgbClr val="ff5f1a"/>
              </a:gs>
            </a:gsLst>
            <a:lin ang="16200000"/>
          </a:gradFill>
          <a:ln w="9360">
            <a:solidFill>
              <a:srgbClr val="ff5d0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1. Если в доме отключили электричество, чем наиболее безопасно можно воспользоваться для освещения? (1балл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А. спичкам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Б. свеч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В. Зажигал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Г. электрическим фонарик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4360" y="1302840"/>
            <a:ext cx="7775280" cy="4187880"/>
          </a:xfrm>
          <a:prstGeom prst="rect">
            <a:avLst/>
          </a:prstGeom>
          <a:gradFill rotWithShape="0">
            <a:gsLst>
              <a:gs pos="0">
                <a:srgbClr val="ffd95c"/>
              </a:gs>
              <a:gs pos="100000">
                <a:srgbClr val="ffecac"/>
              </a:gs>
            </a:gsLst>
            <a:lin ang="16200000"/>
          </a:gradFill>
          <a:ln w="9360">
            <a:solidFill>
              <a:srgbClr val="ffc4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2. Возникновение пожароопасной ситуации в жилище может возникнуть из-за: (1 балл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А. неосторожного обращения с огнём и химическими препарат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. отключения электричеств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. отключения в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4360" y="907920"/>
            <a:ext cx="7775280" cy="4897440"/>
          </a:xfrm>
          <a:prstGeom prst="rect">
            <a:avLst/>
          </a:prstGeom>
          <a:gradFill rotWithShape="0">
            <a:gsLst>
              <a:gs pos="0">
                <a:srgbClr val="ffd95c"/>
              </a:gs>
              <a:gs pos="100000">
                <a:srgbClr val="ffecac"/>
              </a:gs>
            </a:gsLst>
            <a:lin ang="16200000"/>
          </a:gradFill>
          <a:ln w="9360">
            <a:solidFill>
              <a:srgbClr val="ffc4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3. Укажите основные причины затопления жилища: (3 балла.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А. неисправность запорных устройств (кранов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. неисправность электропроводки и освещ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. поломка крыш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Г. сквозные трещины в перегородках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. аварийное состояние водопрово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Е. засорение системы канализац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4360" y="907920"/>
            <a:ext cx="7775280" cy="4897440"/>
          </a:xfrm>
          <a:prstGeom prst="rect">
            <a:avLst/>
          </a:prstGeom>
          <a:gradFill rotWithShape="0">
            <a:gsLst>
              <a:gs pos="0">
                <a:srgbClr val="ffd95c"/>
              </a:gs>
              <a:gs pos="100000">
                <a:srgbClr val="ffecac"/>
              </a:gs>
            </a:gsLst>
            <a:lin ang="16200000"/>
          </a:gradFill>
          <a:ln w="9360">
            <a:solidFill>
              <a:srgbClr val="ffc4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4. Какие нужно предпринять действия при запахе газа в квартире? (1 балл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А) зажгу спичк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) включить свет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) перекрою кран подачи газа, открою все окна, двери, вызову аварийную службу, сообщу родителя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Г) ничего не дела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10920" y="620640"/>
            <a:ext cx="7777080" cy="5112000"/>
          </a:xfrm>
          <a:prstGeom prst="rect">
            <a:avLst/>
          </a:prstGeom>
          <a:gradFill rotWithShape="0">
            <a:gsLst>
              <a:gs pos="0">
                <a:srgbClr val="bc3e02"/>
              </a:gs>
              <a:gs pos="100000">
                <a:srgbClr val="ff5f1a"/>
              </a:gs>
            </a:gsLst>
            <a:lin ang="16200000"/>
          </a:gradFill>
          <a:ln w="9360">
            <a:solidFill>
              <a:srgbClr val="ff5d0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5. Выберите названные ниже основные причины взрывов в жилых зданиях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(2 балла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А. неисправность системы водоснабж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Б. утечка бытового газ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В. неосторожное обращение с огне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Г. нарушение правил эксплуатации бытовых электроприбор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. незаконное хранение и неправильное обращение с взрывными устройства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f9307"/>
                </a:solidFill>
                <a:latin typeface="Tahoma"/>
                <a:ea typeface="Tahoma"/>
              </a:rPr>
              <a:t>Повторение пройденного материала</a:t>
            </a:r>
            <a:endParaRPr b="1" lang="en-US" sz="3400" spc="-1" strike="noStrike">
              <a:solidFill>
                <a:srgbClr val="d75b7e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43120" y="2133720"/>
          <a:ext cx="3657600" cy="424800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2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df9307"/>
                          </a:solidFill>
                          <a:uFillTx/>
                          <a:latin typeface="Tahoma"/>
                          <a:ea typeface="Tahoma"/>
                        </a:rPr>
                        <a:t>Ответы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1 –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2 –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3 – А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4 –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5 - Б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788000" y="2133720"/>
          <a:ext cx="3809880" cy="3671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36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df9307"/>
                          </a:solidFill>
                          <a:uFillTx/>
                          <a:latin typeface="Arial"/>
                          <a:ea typeface="Arial"/>
                        </a:rPr>
                        <a:t>Критерии:</a:t>
                      </a:r>
                      <a:r>
                        <a:rPr b="0" lang="ru-RU" sz="3200" spc="-1" strike="noStrike">
                          <a:solidFill>
                            <a:srgbClr val="df9307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999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Максимальное количество баллов, выставляемое в рейтинговый лист за тест – 8. </a:t>
                      </a: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Один балл за каждый правильный ответ</a:t>
                      </a: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1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1479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f9307"/>
                </a:solidFill>
                <a:latin typeface="Tahoma"/>
                <a:ea typeface="Tahoma"/>
              </a:rPr>
              <a:t>Рейтинговый лист</a:t>
            </a:r>
            <a:endParaRPr b="1" lang="en-US" sz="4800" spc="-1" strike="noStrike">
              <a:solidFill>
                <a:srgbClr val="d75b7e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30360" y="1609560"/>
          <a:ext cx="7921440" cy="4034160"/>
        </p:xfrm>
        <a:graphic>
          <a:graphicData uri="http://schemas.openxmlformats.org/drawingml/2006/table">
            <a:tbl>
              <a:tblPr/>
              <a:tblGrid>
                <a:gridCol w="2639880"/>
                <a:gridCol w="3408480"/>
                <a:gridCol w="1873080"/>
              </a:tblGrid>
              <a:tr h="67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Домашнее 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Тема и цель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Новый матери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Т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13:21:06Z</dcterms:created>
  <dc:creator>user</dc:creator>
  <dc:description/>
  <dc:language>en-US</dc:language>
  <cp:lastModifiedBy>школа</cp:lastModifiedBy>
  <dcterms:modified xsi:type="dcterms:W3CDTF">2024-01-21T23:10:30Z</dcterms:modified>
  <cp:revision>90</cp:revision>
  <dc:subject/>
  <dc:title>Слайд 1</dc:title>
</cp:coreProperties>
</file>