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73B3-24D5-4F75-AF1C-C75164DD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168-FA7A-433D-87E3-3232A9C6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5DB8-0846-44CD-85DE-7734D608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9586-75FC-469B-8294-CCF5E22A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314CD-FAB2-4CB5-8082-3A3AEE42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26F2-0858-4D57-A0EE-FB491121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E41C-D7F1-4496-9419-35C10883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F7F9-7098-4AB2-8FCF-0C0BE29E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44DF-5AD3-4648-B313-FF76DFB5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4A83-490C-49F9-AA8D-B18E6B2B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793A-FC38-4158-B854-84D2AB8C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A5C8-CF65-4D8F-B988-6FE7CAEF1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7FC7-6F28-48C8-A4A7-281F0799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A3C2-516D-4633-B335-8097ABFC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33AF-F392-4C17-A7DF-1328BE14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C494-43BB-4C7D-AAEC-892F8B54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FCA5-F7D1-4BF4-9377-84D00A8F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43B41-C1C4-4A58-BA57-7C6CD365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C3B09-7CF7-4231-9E49-05E0EF30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CE38A-3234-4E63-9B6D-81B831A6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882F9-5B4C-4EB4-AEBA-6D20B573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A9B3A-EE3A-4112-BB90-BF959B3B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D638-D490-4045-A7F5-3E04488D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76FB8-A657-47A7-96B7-C6D7DC5D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5B319-B1B6-42AA-A86A-2FA9C275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7F972-920D-4D81-8B09-BB176D5A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A7879-601C-474D-A471-94A43C94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7BCFF-BB34-4F8F-B741-E471C081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5EECB-319E-4302-889D-2C40017E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C754-29FE-4687-BB01-8F395AA5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F6A48-6FB9-414F-95A9-CDD130F7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7D97A-2B4A-42BE-9980-D829BA3B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4EEC8-42E3-400A-BECA-CD58FBB7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B9B-F723-441D-830A-271EEA6B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7B2F8-304D-42E6-B6D3-30243693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4EB38-4C89-4FD7-89D2-333C1464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B6D8-8C84-499B-8583-67FDD689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760B5-88A0-4DAB-869A-33478433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07763-4C51-4D19-A6DA-18DFCC59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07AFB-CAAF-46CE-8EF4-5DB61004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6978D-70BF-4AD4-B4E7-A7A64533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E0C91-9868-4D81-85E1-C8249FAC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ECE6B-DAFB-4D15-B057-EF85768D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EB362-5E3A-4254-9118-F06F121B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FDF-2490-4235-BCE8-045B1528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1FACB-3AE4-4A3A-9310-30DF363A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58A26-30E5-42CD-8623-F918A05E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9D133-6868-49FD-9E5F-789C3198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647F0-870F-47AE-874F-5E209FE3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0B089-7CD9-4FD8-9015-5650EFED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BF1B6-5E89-4E61-AD8F-B572070C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C2658-7218-4243-908D-8B646854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E8E82-CE3E-48BC-8A94-E00D7F58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A3BBF-5B5D-4B6D-A761-7D058169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5285E-11C5-47F8-88AC-F9F9C56EA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CFA-838E-46D8-BD08-B0779F24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95B9B-A983-46D6-9A5F-FF427BCA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2CE-8DDE-4C98-8365-245DD9CD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2B0-6037-4D61-A89F-4D9A0BF1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0FBB-EA4E-489D-914E-50C07074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1177-0749-41F5-9C60-7D18F2440A15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E0AD-9AB3-41A1-9F98-8FAAD46DD7E2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9F44-CBD9-4C96-AF64-F1005B848FCF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4E65-DA37-457A-814B-E5C48706CD97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3930-00A7-4B0F-8F97-40DEC294F70E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clipartpanda.com/weather-clip-art-inclement_weather_Vector_Clipart.png" TargetMode="External"/><Relationship Id="rId2" Type="http://schemas.openxmlformats.org/officeDocument/2006/relationships/hyperlink" Target="http://3.bp.blogspot.com/-PQ3V-ttpS1s/UopKK13sZWI/AAAAAAAAPdo/HzK1xwbp0KY/s1600/g&#252;ne&#351;+resimleri+%2827%29.png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71640" y="980640"/>
            <a:ext cx="7488000" cy="240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ts val="5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800" spc="-1" strike="noStrike">
                <a:solidFill>
                  <a:srgbClr val="df9307"/>
                </a:solidFill>
                <a:latin typeface="Tahoma"/>
                <a:ea typeface="Tahoma"/>
              </a:rPr>
              <a:t>Погодные явления и безопасность человека</a:t>
            </a:r>
            <a:endParaRPr b="1" lang="en-US" sz="58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3708000" y="4436640"/>
            <a:ext cx="5002200" cy="13683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7b7f"/>
                </a:solidFill>
                <a:latin typeface="Tahoma"/>
                <a:ea typeface="Tahoma"/>
              </a:rPr>
              <a:t>Учитель ОБЖ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7b7f"/>
                </a:solidFill>
                <a:latin typeface="Tahoma"/>
                <a:ea typeface="Tahoma"/>
              </a:rPr>
              <a:t>МКОУ «Октябрьская СОШ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7b7f"/>
                </a:solidFill>
                <a:latin typeface="Tahoma"/>
                <a:ea typeface="Tahoma"/>
              </a:rPr>
              <a:t>Касторенского района Курской област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7b7f"/>
                </a:solidFill>
                <a:latin typeface="Tahoma"/>
                <a:ea typeface="Tahoma"/>
              </a:rPr>
              <a:t>Суркова Е.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Подзаголовок 2"/>
          <p:cNvSpPr/>
          <p:nvPr/>
        </p:nvSpPr>
        <p:spPr>
          <a:xfrm>
            <a:off x="3457440" y="6021360"/>
            <a:ext cx="226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37b7f"/>
                </a:solidFill>
                <a:latin typeface="Tahoma"/>
                <a:ea typeface="Tahoma"/>
              </a:rPr>
              <a:t>Декабрь, 202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одзаголовок 2"/>
          <p:cNvSpPr/>
          <p:nvPr/>
        </p:nvSpPr>
        <p:spPr>
          <a:xfrm>
            <a:off x="7020000" y="549360"/>
            <a:ext cx="1619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0" bIns="46800" anchor="t">
            <a:noAutofit/>
          </a:bodyPr>
          <a:p>
            <a:pPr marL="36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7b7f"/>
                </a:solidFill>
                <a:latin typeface="Tahoma"/>
                <a:ea typeface="Tahoma"/>
              </a:rPr>
              <a:t>5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343044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390600" y="396720"/>
            <a:ext cx="8362800" cy="55594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468360" y="476280"/>
            <a:ext cx="590544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 природы нет плохой погоды,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ждая погода – благодать.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ождь ли снег, любое время года,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до благодарно принимать…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80960" y="555120"/>
            <a:ext cx="8136000" cy="211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9307"/>
                </a:solidFill>
                <a:latin typeface="Tahoma"/>
                <a:ea typeface="Tahoma"/>
              </a:rPr>
              <a:t>Тема урока:</a:t>
            </a:r>
            <a:br>
              <a:rPr sz="1400"/>
            </a:br>
            <a:r>
              <a:rPr b="1" lang="ru-RU" sz="4800" spc="-1" strike="noStrike">
                <a:solidFill>
                  <a:srgbClr val="df9307"/>
                </a:solidFill>
                <a:latin typeface="Tahoma"/>
                <a:ea typeface="Tahoma"/>
              </a:rPr>
              <a:t>«Погодные явления и безопасность человека»</a:t>
            </a:r>
            <a:endParaRPr b="1" lang="en-US" sz="48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44" name="Заголовок 1"/>
          <p:cNvSpPr/>
          <p:nvPr/>
        </p:nvSpPr>
        <p:spPr>
          <a:xfrm>
            <a:off x="2843280" y="2708280"/>
            <a:ext cx="57610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9307"/>
                </a:solidFill>
                <a:latin typeface="Tahoma"/>
                <a:ea typeface="Tahoma"/>
              </a:rPr>
              <a:t>Цель урока:</a:t>
            </a:r>
            <a:br>
              <a:rPr sz="3600"/>
            </a:br>
            <a:r>
              <a:rPr b="1" lang="ru-RU" sz="2800" spc="-1" strike="noStrike">
                <a:solidFill>
                  <a:srgbClr val="df9307"/>
                </a:solidFill>
                <a:latin typeface="Tahoma"/>
                <a:ea typeface="Tahoma"/>
              </a:rPr>
              <a:t>изучить погодные явления характерные для данного места проживания и научиться безопасно вести себя в различных погодных услов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935080" cy="22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100720" cy="2122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0" algn="ctr">
              <a:lnSpc>
                <a:spcPts val="4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4000" spc="-1" strike="noStrike">
                <a:solidFill>
                  <a:srgbClr val="df9307"/>
                </a:solidFill>
                <a:latin typeface="Tahoma"/>
              </a:rPr>
              <a:t>Погода – это состояние атмосферы в определённом месте и в определённое время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7" descr="http://st.depositphotos.com/1027309/2999/v/950/depositphotos_29992109-Thermometer-snow-sun.jpg"/>
          <p:cNvPicPr/>
          <p:nvPr/>
        </p:nvPicPr>
        <p:blipFill>
          <a:blip r:embed="rId1"/>
          <a:stretch/>
        </p:blipFill>
        <p:spPr>
          <a:xfrm>
            <a:off x="4140360" y="3068640"/>
            <a:ext cx="4686120" cy="3313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http://www.province.ru/tyumen/media/k2/items/cache/5003d452a8da016f3ed02a6385cf54e8_XL.jpg"/>
          <p:cNvPicPr/>
          <p:nvPr/>
        </p:nvPicPr>
        <p:blipFill>
          <a:blip r:embed="rId2"/>
          <a:stretch/>
        </p:blipFill>
        <p:spPr>
          <a:xfrm>
            <a:off x="826920" y="2205000"/>
            <a:ext cx="31910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МЕТЕОСТАНЦИЯ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50" name="Содержимое 3" descr="метеостанция.jpg"/>
          <p:cNvPicPr/>
          <p:nvPr/>
        </p:nvPicPr>
        <p:blipFill>
          <a:blip r:embed="rId1"/>
          <a:stretch/>
        </p:blipFill>
        <p:spPr>
          <a:xfrm>
            <a:off x="826920" y="530280"/>
            <a:ext cx="74901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"/>
          <p:cNvGraphicFramePr/>
          <p:nvPr/>
        </p:nvGraphicFramePr>
        <p:xfrm>
          <a:off x="971640" y="1773360"/>
          <a:ext cx="7345440" cy="3840120"/>
        </p:xfrm>
        <a:graphic>
          <a:graphicData uri="http://schemas.openxmlformats.org/drawingml/2006/table">
            <a:tbl>
              <a:tblPr/>
              <a:tblGrid>
                <a:gridCol w="711000"/>
                <a:gridCol w="6634440"/>
              </a:tblGrid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По словесному описанию предсказать (определить) природное явл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Перечислить последствия этого явления для человек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168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Дать рекомендации одноклассникам по безопасному поведению по время того природного явления, которое вы определил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</a:tr>
            </a:tbl>
          </a:graphicData>
        </a:graphic>
      </p:graphicFrame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16000" y="692280"/>
            <a:ext cx="7128000" cy="69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9307"/>
                </a:solidFill>
                <a:latin typeface="Tahoma"/>
                <a:ea typeface="Tahoma"/>
              </a:rPr>
              <a:t>План работы метеостанций: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100720" cy="2122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0" algn="ctr">
              <a:lnSpc>
                <a:spcPts val="4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4000" spc="-1" strike="noStrike">
                <a:solidFill>
                  <a:srgbClr val="df9307"/>
                </a:solidFill>
                <a:latin typeface="Tahoma"/>
              </a:rPr>
              <a:t>Погода – это состояние атмосферы в определённом месте и в определённое время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7" descr="http://st.depositphotos.com/1027309/2999/v/950/depositphotos_29992109-Thermometer-snow-sun.jpg"/>
          <p:cNvPicPr/>
          <p:nvPr/>
        </p:nvPicPr>
        <p:blipFill>
          <a:blip r:embed="rId1"/>
          <a:stretch/>
        </p:blipFill>
        <p:spPr>
          <a:xfrm>
            <a:off x="4140360" y="3068640"/>
            <a:ext cx="4686120" cy="3313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http://www.province.ru/tyumen/media/k2/items/cache/5003d452a8da016f3ed02a6385cf54e8_XL.jpg"/>
          <p:cNvPicPr/>
          <p:nvPr/>
        </p:nvPicPr>
        <p:blipFill>
          <a:blip r:embed="rId2"/>
          <a:stretch/>
        </p:blipFill>
        <p:spPr>
          <a:xfrm>
            <a:off x="826920" y="2205000"/>
            <a:ext cx="31910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ГРОЗА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57" name="Содержимое 3" descr="гроза.jpg"/>
          <p:cNvPicPr/>
          <p:nvPr/>
        </p:nvPicPr>
        <p:blipFill>
          <a:blip r:embed="rId1"/>
          <a:stretch/>
        </p:blipFill>
        <p:spPr>
          <a:xfrm>
            <a:off x="1042920" y="530280"/>
            <a:ext cx="712944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ГОЛОЛЁД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59" name="Содержимое 3" descr="гололёд.jpg"/>
          <p:cNvPicPr/>
          <p:nvPr/>
        </p:nvPicPr>
        <p:blipFill>
          <a:blip r:embed="rId1"/>
          <a:stretch/>
        </p:blipFill>
        <p:spPr>
          <a:xfrm>
            <a:off x="900000" y="530280"/>
            <a:ext cx="741708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СНЕЖНЫЙ ЗАНОС,МЕТЕЛЬ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61" name="Содержимое 3" descr="метель.jpg"/>
          <p:cNvPicPr/>
          <p:nvPr/>
        </p:nvPicPr>
        <p:blipFill>
          <a:blip r:embed="rId1"/>
          <a:stretch/>
        </p:blipFill>
        <p:spPr>
          <a:xfrm>
            <a:off x="971640" y="530280"/>
            <a:ext cx="741672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80960" y="555120"/>
            <a:ext cx="8136000" cy="2117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9307"/>
                </a:solidFill>
                <a:latin typeface="Tahoma"/>
                <a:ea typeface="Tahoma"/>
              </a:rPr>
              <a:t>Тема урока:</a:t>
            </a:r>
            <a:br>
              <a:rPr sz="1400"/>
            </a:br>
            <a:r>
              <a:rPr b="1" lang="ru-RU" sz="4800" spc="-1" strike="noStrike">
                <a:solidFill>
                  <a:srgbClr val="df9307"/>
                </a:solidFill>
                <a:latin typeface="Tahoma"/>
                <a:ea typeface="Tahoma"/>
              </a:rPr>
              <a:t>«Погодные явления и безопасность человека»</a:t>
            </a:r>
            <a:endParaRPr b="1" lang="en-US" sz="48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63" name="Заголовок 1"/>
          <p:cNvSpPr/>
          <p:nvPr/>
        </p:nvSpPr>
        <p:spPr>
          <a:xfrm>
            <a:off x="2843280" y="2708280"/>
            <a:ext cx="576108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9307"/>
                </a:solidFill>
                <a:latin typeface="Tahoma"/>
                <a:ea typeface="Tahoma"/>
              </a:rPr>
              <a:t>Цель урока:</a:t>
            </a:r>
            <a:br>
              <a:rPr sz="3600"/>
            </a:br>
            <a:r>
              <a:rPr b="1" lang="ru-RU" sz="2800" spc="-1" strike="noStrike">
                <a:solidFill>
                  <a:srgbClr val="df9307"/>
                </a:solidFill>
                <a:latin typeface="Tahoma"/>
                <a:ea typeface="Tahoma"/>
              </a:rPr>
              <a:t>изучить погодные явления характерные для данного места проживания и научиться безопасно вести себя в различных погодных услов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8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2935080" cy="22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3640" y="2781360"/>
            <a:ext cx="510516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5000"/>
          </a:bodyPr>
          <a:p>
            <a:pPr marL="225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00"/>
                </a:solidFill>
                <a:latin typeface="Calibri"/>
              </a:rPr>
              <a:t>ВНИМАНИЕ,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219320" y="396252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3300"/>
                </a:solidFill>
                <a:latin typeface="Calibri"/>
              </a:rPr>
              <a:t>НАХОДЧИВОСТЬ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267080" y="5029200"/>
            <a:ext cx="4876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Calibri"/>
              </a:rPr>
              <a:t>СМЕКАЛК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84360" y="6093000"/>
            <a:ext cx="788184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"/>
          <p:cNvPicPr/>
          <p:nvPr/>
        </p:nvPicPr>
        <p:blipFill>
          <a:blip r:embed="rId1"/>
          <a:srcRect l="5023" t="3633" r="0" b="6367"/>
          <a:stretch/>
        </p:blipFill>
        <p:spPr>
          <a:xfrm>
            <a:off x="4322880" y="476280"/>
            <a:ext cx="482112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df9307"/>
                </a:solidFill>
                <a:latin typeface="Tahoma"/>
                <a:ea typeface="Tahoma"/>
              </a:rPr>
              <a:t>Тест по теме: «Погодные явления и безопасность человека»</a:t>
            </a:r>
            <a:endParaRPr b="1" lang="en-US" sz="3400" spc="-1" strike="noStrike">
              <a:solidFill>
                <a:srgbClr val="d75b7e"/>
              </a:solidFill>
              <a:latin typeface="Verdan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843120" y="2133720"/>
          <a:ext cx="3657600" cy="367164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36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df9307"/>
                          </a:solidFill>
                          <a:uFillTx/>
                          <a:latin typeface="Tahoma"/>
                          <a:ea typeface="Tahoma"/>
                        </a:rPr>
                        <a:t>Ответы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1 – БВГДЕ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2 – 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3 – 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88000" y="2133720"/>
          <a:ext cx="3809880" cy="36716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36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df9307"/>
                          </a:solidFill>
                          <a:uFillTx/>
                          <a:latin typeface="Arial"/>
                          <a:ea typeface="Arial"/>
                        </a:rPr>
                        <a:t>Критерии:</a:t>
                      </a:r>
                      <a:r>
                        <a:rPr b="0" lang="ru-RU" sz="3200" spc="-1" strike="noStrike">
                          <a:solidFill>
                            <a:srgbClr val="df9307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999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Максимальное количество баллов, выставляемое в рейтинговый лист за тест – 7. </a:t>
                      </a: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Один балл за каждый правильный ответ</a:t>
                      </a: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8" name="Picture 1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14796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56894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9307"/>
                </a:solidFill>
                <a:latin typeface="Tahoma"/>
                <a:ea typeface="Tahoma"/>
              </a:rPr>
              <a:t>Домашнее задание</a:t>
            </a:r>
            <a:endParaRPr b="1" lang="en-US" sz="40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39640" y="155700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33520" indent="-533520">
              <a:lnSpc>
                <a:spcPts val="25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изучить §3.1, стр. 64-70, пересказать, ответить на вопросы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ts val="25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выписать определения погодных явлений в рабочую тетрадь, подготовиться к терминологическому диктанту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ts val="25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ts val="25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творческое задание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ts val="25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ahoma"/>
                <a:ea typeface="Tahoma"/>
              </a:rPr>
              <a:t>- записать народные приметы, указывающие на перемену пог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5724360" y="4437000"/>
            <a:ext cx="28306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692360" y="404640"/>
            <a:ext cx="6912000" cy="5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9b639"/>
                </a:solidFill>
                <a:latin typeface="Tahoma"/>
                <a:ea typeface="Tahoma"/>
              </a:rPr>
              <a:t>Информационные ресурсы</a:t>
            </a:r>
            <a:endParaRPr b="1" lang="en-US" sz="29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560" y="98064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1 картинка - </a:t>
            </a:r>
            <a:r>
              <a:rPr b="0" lang="en-US" sz="1400" spc="-1" strike="noStrike" u="sng">
                <a:solidFill>
                  <a:srgbClr val="ffde66"/>
                </a:solidFill>
                <a:uFillTx/>
                <a:latin typeface="Tahoma"/>
                <a:ea typeface="Tahoma"/>
                <a:hlinkClick r:id="rId1"/>
              </a:rPr>
              <a:t>http://images.clipartpanda.com/weather-clip-art-inclement_weather_Vector_Clipart.p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2 картинка - </a:t>
            </a:r>
            <a:r>
              <a:rPr b="0" lang="en-US" sz="1400" spc="-1" strike="noStrike" u="sng">
                <a:solidFill>
                  <a:srgbClr val="ffde66"/>
                </a:solidFill>
                <a:uFillTx/>
                <a:latin typeface="Tahoma"/>
                <a:ea typeface="Tahoma"/>
                <a:hlinkClick r:id="rId2"/>
              </a:rPr>
              <a:t>http://3.bp.blogspot.com/-PQ3V-ttpS1s/UopKK13sZWI/AAAAAAAAPdo/HzK1xwbp0KY/s1600/g%C3%BCne%C5%9F+resimleri+%2827%29.p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3 картинка - </a:t>
            </a:r>
            <a:r>
              <a:rPr b="0" lang="en-US" sz="1400" spc="-1" strike="noStrike">
                <a:solidFill>
                  <a:srgbClr val="df9307"/>
                </a:solidFill>
                <a:latin typeface="Tahoma"/>
                <a:ea typeface="Tahoma"/>
              </a:rPr>
              <a:t>http://yt3.ggpht.com/-Yl76pioRj5A/AAAAAAAAAAI/AAAAAAAAAAA/mH4FKPebItE/s900-c-k-no/photo.jp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4 картинка - Форштат М.Л. Учись быть пешеходом. Учебное пособие по ПДД для 6 класса. Рис. Д.Г. Майстренко/ Дизайн обложки А.С. Андреева. - СПб.: ИД «МиМ», 1998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5 картинка - Форштат М.Л. Учись быть пешеходом. Учебное пособие по ПДД для 6 класса. Рис. Д.Г. Майстренко/ Дизайн обложки А.С. Андреева. - СПб.: ИД «МиМ», 1998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6 картинка - Основы безопасности жизнедеятельности. 5 класс: учеб. для общеобразоват. организаций с прил. на электрон. носителе / А.Т.Смирнов, Б.О. Хренников; под ред. А.Т. Смирнова; Рос. акад. наук, Рос. акад. образования, изд-во «Просвещение». – 3-е изд. – М.: Просвещение, 2014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7 картинка - Основы безопасности жизнедеятельности. 5 класс: учеб. для общеобразоват. организаций с прил. на электрон. носителе / А.Т.Смирнов, Б.О. Хренников; под ред. А.Т. Смирнова; Рос. акад. наук, Рос. акад. образования, изд-во «Просвещение». – 3-е изд. – М.: Просвещение, 2014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8 картинка - </a:t>
            </a:r>
            <a:r>
              <a:rPr b="0" lang="en-US" sz="1400" spc="-1" strike="noStrike">
                <a:solidFill>
                  <a:srgbClr val="df9307"/>
                </a:solidFill>
                <a:latin typeface="Tahoma"/>
                <a:ea typeface="Tahoma"/>
              </a:rPr>
              <a:t>http://picnations.tk/wp-content/uploads/2015/09/Raindrops-on-Leaf-Wallpaper.jp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9 картинка - </a:t>
            </a:r>
            <a:r>
              <a:rPr b="0" lang="en-US" sz="1400" spc="-1" strike="noStrike">
                <a:solidFill>
                  <a:srgbClr val="df9307"/>
                </a:solidFill>
                <a:latin typeface="Tahoma"/>
                <a:ea typeface="Tahoma"/>
              </a:rPr>
              <a:t>http://www.province.ru/tyumen/media/k2/items/cache/5003d452a8da016f3ed02a6385cf54e8_XL.jp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10 картинка - </a:t>
            </a:r>
            <a:r>
              <a:rPr b="0" lang="en-US" sz="1400" spc="-1" strike="noStrike">
                <a:solidFill>
                  <a:srgbClr val="df9307"/>
                </a:solidFill>
                <a:latin typeface="Tahoma"/>
                <a:ea typeface="Tahoma"/>
              </a:rPr>
              <a:t>http://st.depositphotos.com/1027309/2999/v/950/depositphotos_29992109-Thermometer-snow-sun.jp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f9307"/>
                </a:solidFill>
                <a:latin typeface="Tahoma"/>
                <a:ea typeface="Tahoma"/>
              </a:rPr>
              <a:t>11 картинка - </a:t>
            </a:r>
            <a:r>
              <a:rPr b="0" lang="en-US" sz="1400" spc="-1" strike="noStrike">
                <a:solidFill>
                  <a:srgbClr val="df9307"/>
                </a:solidFill>
                <a:latin typeface="Tahoma"/>
                <a:ea typeface="Tahoma"/>
              </a:rPr>
              <a:t>http://st2.depositphotos.com/1000489/5709/v/950/depositphotos_57094631-Owl-reading-a-book.jp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f930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755640" y="1197000"/>
            <a:ext cx="7632720" cy="4392720"/>
          </a:xfrm>
          <a:prstGeom prst="rect">
            <a:avLst/>
          </a:prstGeom>
          <a:gradFill rotWithShape="0">
            <a:gsLst>
              <a:gs pos="0">
                <a:srgbClr val="bc3e02"/>
              </a:gs>
              <a:gs pos="100000">
                <a:srgbClr val="ff5f1a"/>
              </a:gs>
            </a:gsLst>
            <a:lin ang="16200000"/>
          </a:gradFill>
          <a:ln w="9360">
            <a:solidFill>
              <a:srgbClr val="ff5d0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1. Если в доме отключили электричество, чем наиболее безопасно можно воспользоваться для освещения? (1балл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А. спичкам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Б. свеч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В. Зажигалк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Г. электрическим фонарик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84360" y="1302840"/>
            <a:ext cx="7775280" cy="4187880"/>
          </a:xfrm>
          <a:prstGeom prst="rect">
            <a:avLst/>
          </a:prstGeom>
          <a:gradFill rotWithShape="0">
            <a:gsLst>
              <a:gs pos="0">
                <a:srgbClr val="ffd95c"/>
              </a:gs>
              <a:gs pos="100000">
                <a:srgbClr val="ffecac"/>
              </a:gs>
            </a:gsLst>
            <a:lin ang="16200000"/>
          </a:gradFill>
          <a:ln w="9360">
            <a:solidFill>
              <a:srgbClr val="ffc40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2. Возникновение пожароопасной ситуации в жилище может возникнуть из-за: (1 балл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А. неосторожного обращения с огнём и химическими препаратам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. отключения электричеств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. отключения в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4360" y="907920"/>
            <a:ext cx="7775280" cy="4897440"/>
          </a:xfrm>
          <a:prstGeom prst="rect">
            <a:avLst/>
          </a:prstGeom>
          <a:gradFill rotWithShape="0">
            <a:gsLst>
              <a:gs pos="0">
                <a:srgbClr val="ffd95c"/>
              </a:gs>
              <a:gs pos="100000">
                <a:srgbClr val="ffecac"/>
              </a:gs>
            </a:gsLst>
            <a:lin ang="16200000"/>
          </a:gradFill>
          <a:ln w="9360">
            <a:solidFill>
              <a:srgbClr val="ffc40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3. Укажите основные причины затопления жилища: (3 балла.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А. неисправность запорных устройств (кранов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. неисправность электропроводки и освеще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. поломка крыши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Г. сквозные трещины в перегородках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Д. аварийное состояние водопровод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Е. засорение системы канализац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4360" y="907920"/>
            <a:ext cx="7775280" cy="4897440"/>
          </a:xfrm>
          <a:prstGeom prst="rect">
            <a:avLst/>
          </a:prstGeom>
          <a:gradFill rotWithShape="0">
            <a:gsLst>
              <a:gs pos="0">
                <a:srgbClr val="ffd95c"/>
              </a:gs>
              <a:gs pos="100000">
                <a:srgbClr val="ffecac"/>
              </a:gs>
            </a:gsLst>
            <a:lin ang="16200000"/>
          </a:gradFill>
          <a:ln w="9360">
            <a:solidFill>
              <a:srgbClr val="ffc409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4. Какие нужно предпринять действия при запахе газа в квартире? (1 балл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А) зажгу спичку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Б) включить свет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В) перекрою кран подачи газа, открою все окна, двери, вызову аварийную службу, сообщу родителям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Г) ничего не делать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10920" y="620640"/>
            <a:ext cx="7777080" cy="5112000"/>
          </a:xfrm>
          <a:prstGeom prst="rect">
            <a:avLst/>
          </a:prstGeom>
          <a:gradFill rotWithShape="0">
            <a:gsLst>
              <a:gs pos="0">
                <a:srgbClr val="bc3e02"/>
              </a:gs>
              <a:gs pos="100000">
                <a:srgbClr val="ff5f1a"/>
              </a:gs>
            </a:gsLst>
            <a:lin ang="16200000"/>
          </a:gradFill>
          <a:ln w="9360">
            <a:solidFill>
              <a:srgbClr val="ff5d0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5. Выберите названные ниже основные причины взрывов в жилых зданиях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Bookman Old Style"/>
              </a:rPr>
              <a:t>(2 балла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А. неисправность системы водоснабжения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Б. утечка бытового газа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В. неосторожное обращение с огнем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Г. нарушение правил эксплуатации бытовых электроприборов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man Old Style"/>
              </a:rPr>
              <a:t>Д. незаконное хранение и неправильное обращение с взрывными устройствам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0728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df9307"/>
                </a:solidFill>
                <a:latin typeface="Tahoma"/>
                <a:ea typeface="Tahoma"/>
              </a:rPr>
              <a:t>Повторение пройденного материала</a:t>
            </a:r>
            <a:endParaRPr b="1" lang="en-US" sz="3400" spc="-1" strike="noStrike">
              <a:solidFill>
                <a:srgbClr val="d75b7e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843120" y="2133720"/>
          <a:ext cx="3657600" cy="4248000"/>
        </p:xfrm>
        <a:graphic>
          <a:graphicData uri="http://schemas.openxmlformats.org/drawingml/2006/table">
            <a:tbl>
              <a:tblPr/>
              <a:tblGrid>
                <a:gridCol w="3657600"/>
              </a:tblGrid>
              <a:tr h="42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df9307"/>
                          </a:solidFill>
                          <a:uFillTx/>
                          <a:latin typeface="Tahoma"/>
                          <a:ea typeface="Tahoma"/>
                        </a:rPr>
                        <a:t>Ответы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1 – 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2 –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3 – А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4 –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5 - Б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4788000" y="2133720"/>
          <a:ext cx="3809880" cy="36716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367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0" spc="-1" strike="noStrike" u="sng">
                          <a:solidFill>
                            <a:srgbClr val="df9307"/>
                          </a:solidFill>
                          <a:uFillTx/>
                          <a:latin typeface="Arial"/>
                          <a:ea typeface="Arial"/>
                        </a:rPr>
                        <a:t>Критерии:</a:t>
                      </a:r>
                      <a:r>
                        <a:rPr b="0" lang="ru-RU" sz="3200" spc="-1" strike="noStrike">
                          <a:solidFill>
                            <a:srgbClr val="df9307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999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Максимальное количество баллов, выставляемое в рейтинговый лист за тест – 8. </a:t>
                      </a: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Один балл за каждый правильный ответ</a:t>
                      </a:r>
                      <a:r>
                        <a:rPr b="1" lang="ru-RU" sz="2800" spc="-1" strike="noStrike">
                          <a:solidFill>
                            <a:srgbClr val="df9307"/>
                          </a:solidFill>
                          <a:latin typeface="Tahoma"/>
                          <a:ea typeface="Tahoma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8" name="Picture 1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147960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df9307"/>
                </a:solidFill>
                <a:latin typeface="Tahoma"/>
                <a:ea typeface="Tahoma"/>
              </a:rPr>
              <a:t>Рейтинговый лист</a:t>
            </a:r>
            <a:endParaRPr b="1" lang="en-US" sz="4800" spc="-1" strike="noStrike">
              <a:solidFill>
                <a:srgbClr val="d75b7e"/>
              </a:solidFill>
              <a:latin typeface="Verdan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630360" y="1609560"/>
          <a:ext cx="7921440" cy="4034160"/>
        </p:xfrm>
        <a:graphic>
          <a:graphicData uri="http://schemas.openxmlformats.org/drawingml/2006/table">
            <a:tbl>
              <a:tblPr/>
              <a:tblGrid>
                <a:gridCol w="2639880"/>
                <a:gridCol w="3408480"/>
                <a:gridCol w="1873080"/>
              </a:tblGrid>
              <a:tr h="67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56205"/>
                          </a:solidFill>
                          <a:latin typeface="Verdana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56205"/>
                          </a:solidFill>
                          <a:latin typeface="Verdana"/>
                        </a:rPr>
                        <a:t>Количество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56205"/>
                          </a:solidFill>
                          <a:latin typeface="Verdana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6205"/>
                          </a:solidFill>
                          <a:latin typeface="Verdana"/>
                        </a:rPr>
                        <a:t>Домашнее зад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67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6205"/>
                          </a:solidFill>
                          <a:latin typeface="Verdana"/>
                        </a:rPr>
                        <a:t>Тема и цель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6205"/>
                          </a:solidFill>
                          <a:latin typeface="Verdana"/>
                        </a:rPr>
                        <a:t>Новый матери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</a:tr>
              <a:tr h="67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6205"/>
                          </a:solidFill>
                          <a:latin typeface="Verdana"/>
                        </a:rPr>
                        <a:t>Т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eeee8"/>
                    </a:solidFill>
                  </a:tcPr>
                </a:tc>
              </a:tr>
              <a:tr h="67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956205"/>
                          </a:solidFill>
                          <a:latin typeface="Verdana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a8d3d"/>
                      </a:solidFill>
                    </a:lnL>
                    <a:lnR w="5760">
                      <a:solidFill>
                        <a:srgbClr val="fa8d3d"/>
                      </a:solidFill>
                    </a:lnR>
                    <a:lnT w="5760">
                      <a:solidFill>
                        <a:srgbClr val="fa8d3d"/>
                      </a:solidFill>
                    </a:lnT>
                    <a:lnB w="5760">
                      <a:solidFill>
                        <a:srgbClr val="fa8d3d"/>
                      </a:solidFill>
                    </a:lnB>
                    <a:solidFill>
                      <a:srgbClr val="fddb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2T13:21:06Z</dcterms:created>
  <dc:creator>user</dc:creator>
  <dc:description/>
  <dc:language>en-US</dc:language>
  <cp:lastModifiedBy>школа</cp:lastModifiedBy>
  <dcterms:modified xsi:type="dcterms:W3CDTF">2024-01-21T23:10:30Z</dcterms:modified>
  <cp:revision>90</cp:revision>
  <dc:subject/>
  <dc:title>Слайд 1</dc:title>
</cp:coreProperties>
</file>