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78A-9D9D-4C78-B7AF-6762F814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19E-D25B-4FE1-8052-511DFB26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50D-1FC1-4F2B-BF19-1F5FDB35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A54-4B48-4CDD-A1B5-323A545B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57E2-4949-4A6F-AC46-F9E4C6EA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FFDE-8AF5-4C83-A707-EE84D5FF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523B-46E7-4F15-8A6C-640AF1CF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E578-A570-4754-B532-1407B78F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957A-DF75-4564-B3AD-75D8D28D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9872-EB2C-48FD-A97D-F7F6F129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6646-41A8-43E9-B474-7AEFC795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DA8-EDFF-4370-AD04-F415A3ED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53E5-D853-47B2-A3BD-044ADB21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E0B0-D7D5-40BC-BF7A-34916CB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C11F-1DCA-4FD5-8595-CFC8C8F5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9213-8BAA-4B63-A4B8-995552F6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EBF9-360B-4D36-8E80-45845AE6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65AA9-A3D2-429E-9680-03D3050C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5C8F0-4CE3-4754-B3C3-3FC6B12A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1EB56-79FE-4872-8A03-3C583F41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CFA3B-19E0-46DB-BD39-7F912B56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C0615-E872-4190-9AAC-87B04E84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7C2-F2F8-4969-9B7A-A9E6F15F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21F4E-4BEB-4A0C-AFB2-930C9EC9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D27BE-6AF9-4E14-950E-0CFD510B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897B1-F6EC-4679-973D-6ADAEFC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BA993-11BC-48BB-872F-01D2470C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EA411-7B7F-497F-8789-F80CE98A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AB51B-7B6F-419E-8AE8-83B5D782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AB330-CEEC-412F-A0B5-94C31FE7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1C905-33C4-443A-A6BD-EF477F64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CCB57-0257-46DB-8D3D-5F8B2F27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A5ABF-9B18-4DF6-86E9-264FFA78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00E-AB48-4EAB-8A7C-5E88E9C4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0CA7-1CDA-4F19-BA12-355A1DC2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74201-B899-4B69-AE03-E07EB80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CFD9-45FD-4557-B1FC-E4766826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F9C3B-9C33-4C3F-8F32-7682AC2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04858-70B4-4AD9-8517-BA22EC38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372E8-E6F4-4626-B886-CA1E16A6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E20A-A199-46C2-9DF8-0387ACBE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54D1C-5240-42E7-ADE0-729CAD48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48A2E-41ED-4CE9-A490-1CBE1C81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3C0-EA73-4E0D-83FA-A7050FCC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40A-56EA-4ED7-8056-CB9E0A17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F49-0551-42B2-89C3-729E4444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4F2-4010-4C17-A7E2-BF22DA4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1F9-9153-424E-97EC-30D07AAC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0657-0032-4D94-AD28-FAE55D8578F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F8F8-ADAA-4348-B0EB-43436D303F9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C806-3368-4AF6-A09A-0A72C7974F3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B98A-F956-4F7B-8DE3-C4EA7933D58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252720" y="2703240"/>
            <a:ext cx="971532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eorgia"/>
              </a:rPr>
              <a:t>Тема: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 Географическое положение и история исследования   Южной Америк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7" descr="Картинка 34 из 84000"/>
          <p:cNvPicPr/>
          <p:nvPr/>
        </p:nvPicPr>
        <p:blipFill>
          <a:blip r:embed="rId1"/>
          <a:stretch/>
        </p:blipFill>
        <p:spPr>
          <a:xfrm>
            <a:off x="4357800" y="4013280"/>
            <a:ext cx="3504960" cy="2062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16" name="Picture 9" descr="Картинка 25 из 84000"/>
          <p:cNvPicPr/>
          <p:nvPr/>
        </p:nvPicPr>
        <p:blipFill>
          <a:blip r:embed="rId2"/>
          <a:stretch/>
        </p:blipFill>
        <p:spPr>
          <a:xfrm>
            <a:off x="5143680" y="928800"/>
            <a:ext cx="3657600" cy="17859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7" name="Picture 11" descr="Картинка 40 из 84000"/>
          <p:cNvPicPr/>
          <p:nvPr/>
        </p:nvPicPr>
        <p:blipFill>
          <a:blip r:embed="rId3"/>
          <a:stretch/>
        </p:blipFill>
        <p:spPr>
          <a:xfrm>
            <a:off x="1139760" y="426960"/>
            <a:ext cx="2517840" cy="2517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Картинка 131 из 84000"/>
          <p:cNvPicPr/>
          <p:nvPr/>
        </p:nvPicPr>
        <p:blipFill>
          <a:blip r:embed="rId4"/>
          <a:stretch/>
        </p:blipFill>
        <p:spPr>
          <a:xfrm>
            <a:off x="1187280" y="4202280"/>
            <a:ext cx="1447920" cy="1990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2195640" y="4273560"/>
            <a:ext cx="1154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Прямоугольник 5" descr=""/>
          <p:cNvPicPr/>
          <p:nvPr/>
        </p:nvPicPr>
        <p:blipFill>
          <a:blip r:embed="rId5"/>
          <a:stretch/>
        </p:blipFill>
        <p:spPr>
          <a:xfrm>
            <a:off x="5157720" y="6040440"/>
            <a:ext cx="3718080" cy="8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684360" y="1557360"/>
          <a:ext cx="7775280" cy="3743280"/>
        </p:xfrm>
        <a:graphic>
          <a:graphicData uri="http://schemas.openxmlformats.org/drawingml/2006/table">
            <a:tbl>
              <a:tblPr/>
              <a:tblGrid>
                <a:gridCol w="2482560"/>
                <a:gridCol w="5292720"/>
              </a:tblGrid>
              <a:tr h="374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Какие материки расположены рядом, чем они отделен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северо-западу расположен материк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Северная Амери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, отделенная  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анамски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канал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югу от материка расположена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Антаркти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материк), отделённая проливом  Дрей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324000" y="1484280"/>
          <a:ext cx="8280360" cy="3457440"/>
        </p:xfrm>
        <a:graphic>
          <a:graphicData uri="http://schemas.openxmlformats.org/drawingml/2006/table">
            <a:tbl>
              <a:tblPr/>
              <a:tblGrid>
                <a:gridCol w="2644560"/>
                <a:gridCol w="5635800"/>
              </a:tblGrid>
              <a:tr h="345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Какие острова расположены рядом с материком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ядом с материком Южная Америка расположены острова: на юге –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о.Огненная Земля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Фолклендски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-в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севе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Малые Антильские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тров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близи экватора в Тихом океане находятся острова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Галапагосск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Прямоугольник 4" descr=""/>
          <p:cNvPicPr/>
          <p:nvPr/>
        </p:nvPicPr>
        <p:blipFill>
          <a:blip r:embed="rId1"/>
          <a:stretch/>
        </p:blipFill>
        <p:spPr>
          <a:xfrm>
            <a:off x="262080" y="944640"/>
            <a:ext cx="8345520" cy="11826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407880" y="1989000"/>
            <a:ext cx="826128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жизни Америго Веспуччи 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н занимался до того, как отправился в свое первое путешествие?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ду он совершил первое путешеств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исследовал в этом походе?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добную бухту на побережье Южной Америки моряки назвали Рио-де- Жанейро?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была составлена первая карта Южной Америки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videoplayback (19).mp4" descr=""/>
          <p:cNvPicPr/>
          <p:nvPr/>
        </p:nvPicPr>
        <p:blipFill>
          <a:blip r:embed="rId1"/>
          <a:stretch/>
        </p:blipFill>
        <p:spPr>
          <a:xfrm>
            <a:off x="1979640" y="1378080"/>
            <a:ext cx="5472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1593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539640" y="1308240"/>
            <a:ext cx="806472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  к видеороли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1 – 151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6 лет работал в банкирском доме Меди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сследовал океан, природу Южной Америки, изучал народы, живущие на побережье мат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ио-де-Жанейро в переводе означает река января. Моряки прибыли в эту бухту 1 янва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1 версия –  Марти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дземюлл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ерсия – Леонардо да Вин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Прямоугольник 3" descr=""/>
          <p:cNvPicPr/>
          <p:nvPr/>
        </p:nvPicPr>
        <p:blipFill>
          <a:blip r:embed="rId1"/>
          <a:stretch/>
        </p:blipFill>
        <p:spPr>
          <a:xfrm>
            <a:off x="-201600" y="237960"/>
            <a:ext cx="9236160" cy="1438560"/>
          </a:xfrm>
          <a:prstGeom prst="rect">
            <a:avLst/>
          </a:prstGeom>
          <a:ln w="0">
            <a:noFill/>
          </a:ln>
        </p:spPr>
      </p:pic>
      <p:pic>
        <p:nvPicPr>
          <p:cNvPr id="252" name="Таблица 4" descr=""/>
          <p:cNvPicPr/>
          <p:nvPr/>
        </p:nvPicPr>
        <p:blipFill>
          <a:blip r:embed="rId2"/>
          <a:stretch/>
        </p:blipFill>
        <p:spPr>
          <a:xfrm>
            <a:off x="85680" y="1536840"/>
            <a:ext cx="886320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учить материал § 35,36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полнительное задание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отовить рекламный буклет «Путешествие вдоль берега Южной Америки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5554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rebuchet MS"/>
              </a:rPr>
              <a:t>Домашнее задание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3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3" descr=""/>
          <p:cNvPicPr/>
          <p:nvPr/>
        </p:nvPicPr>
        <p:blipFill>
          <a:blip r:embed="rId1"/>
          <a:stretch/>
        </p:blipFill>
        <p:spPr>
          <a:xfrm>
            <a:off x="804960" y="476280"/>
            <a:ext cx="3254400" cy="7063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250920" y="1628640"/>
            <a:ext cx="8569080" cy="20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Сформировать представление о физико - географическом положении  Юж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3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3" descr=""/>
          <p:cNvPicPr/>
          <p:nvPr/>
        </p:nvPicPr>
        <p:blipFill>
          <a:blip r:embed="rId1"/>
          <a:stretch/>
        </p:blipFill>
        <p:spPr>
          <a:xfrm>
            <a:off x="743040" y="476280"/>
            <a:ext cx="3384360" cy="70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395280" y="2133720"/>
          <a:ext cx="7993080" cy="3527280"/>
        </p:xfrm>
        <a:graphic>
          <a:graphicData uri="http://schemas.openxmlformats.org/drawingml/2006/table">
            <a:tbl>
              <a:tblPr/>
              <a:tblGrid>
                <a:gridCol w="2801880"/>
                <a:gridCol w="5191200"/>
              </a:tblGrid>
              <a:tr h="587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ориге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енные жители Австрал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рр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пнейшая  река Австрал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й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зеро Австрал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о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йняя южная точка Афр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сцюш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высокая точка Австрал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х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большая пустыня ми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Прямоугольник 5" descr=""/>
          <p:cNvPicPr/>
          <p:nvPr/>
        </p:nvPicPr>
        <p:blipFill>
          <a:blip r:embed="rId2"/>
          <a:stretch/>
        </p:blipFill>
        <p:spPr>
          <a:xfrm>
            <a:off x="-212760" y="878040"/>
            <a:ext cx="93567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s://druzhniy-center.ru/wp-content/uploads/9/d/8/9d8c6e0618b4668abddbde0d9c2fb709.jpeg"/>
          <p:cNvPicPr/>
          <p:nvPr/>
        </p:nvPicPr>
        <p:blipFill>
          <a:blip r:embed="rId1"/>
          <a:srcRect l="2004" t="3738" r="49295" b="5648"/>
          <a:stretch/>
        </p:blipFill>
        <p:spPr>
          <a:xfrm>
            <a:off x="297000" y="635040"/>
            <a:ext cx="4608360" cy="62150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3" descr=""/>
          <p:cNvPicPr/>
          <p:nvPr/>
        </p:nvPicPr>
        <p:blipFill>
          <a:blip r:embed="rId2"/>
          <a:stretch/>
        </p:blipFill>
        <p:spPr>
          <a:xfrm>
            <a:off x="4011480" y="652320"/>
            <a:ext cx="5315040" cy="11574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Прямоугольник 1" descr=""/>
          <p:cNvPicPr/>
          <p:nvPr/>
        </p:nvPicPr>
        <p:blipFill>
          <a:blip r:embed="rId1"/>
          <a:stretch/>
        </p:blipFill>
        <p:spPr>
          <a:xfrm>
            <a:off x="-165240" y="944640"/>
            <a:ext cx="9193320" cy="11826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"/>
          <p:cNvSpPr/>
          <p:nvPr/>
        </p:nvSpPr>
        <p:spPr>
          <a:xfrm>
            <a:off x="324000" y="1690560"/>
            <a:ext cx="85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rebuchet MS"/>
              </a:rPr>
              <a:t>План характеристики географического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324000" y="2136600"/>
            <a:ext cx="835164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е материка по отношению к экватору, к тропикам, к нулевому мериди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крайние точки матер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в каких климатических поясах расположен мате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, какие океаны и моря омывают  матер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, какие материки расположены рядом с матер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, какие острова расположены с матер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24000" y="1341360"/>
          <a:ext cx="8208720" cy="3382920"/>
        </p:xfrm>
        <a:graphic>
          <a:graphicData uri="http://schemas.openxmlformats.org/drawingml/2006/table">
            <a:tbl>
              <a:tblPr/>
              <a:tblGrid>
                <a:gridCol w="2620800"/>
                <a:gridCol w="5587920"/>
              </a:tblGrid>
              <a:tr h="338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Определите, как расположен материк относительно экватора, тропиков (полярных кругов), нулевого меридиа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к Южная Америка относительно экватора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в    северном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   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южном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ушариях. Относительно нулевого меридиана материк расположен в  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западно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полушарии.   Южный полярный круг материк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не пересекае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324000" y="1092240"/>
          <a:ext cx="8319960" cy="4832280"/>
        </p:xfrm>
        <a:graphic>
          <a:graphicData uri="http://schemas.openxmlformats.org/drawingml/2006/table">
            <a:tbl>
              <a:tblPr/>
              <a:tblGrid>
                <a:gridCol w="3681360"/>
                <a:gridCol w="2655720"/>
                <a:gridCol w="1982880"/>
              </a:tblGrid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е, крайние точки материка, их координа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йние 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ордин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. Гальин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 ͦ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с.ш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 ͦ з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ж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. Фроуар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 ͦ  ю.ш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 ͦ 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а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. Париньяс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 ͦ  ю.ш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  ͦ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з. 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то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. Кабу-Бра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 ͦ  с.ш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 ͦ  з. 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08000" y="1341360"/>
          <a:ext cx="8856720" cy="5121360"/>
        </p:xfrm>
        <a:graphic>
          <a:graphicData uri="http://schemas.openxmlformats.org/drawingml/2006/table">
            <a:tbl>
              <a:tblPr/>
              <a:tblGrid>
                <a:gridCol w="2827440"/>
                <a:gridCol w="6029280"/>
              </a:tblGrid>
              <a:tr h="548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По карте атласа «Климатические пояса» и параграфу 36 (стр. 143, стр. 144)определите в каких климатических поясах расположена Южная Америк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5040" indent="-255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a04da3"/>
                        </a:buClr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жная Америка расположена в следующих климатических поясах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: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  <a:ea typeface="Calibri"/>
                        </a:rPr>
                        <a:t>в экваториальном, субэкваториальном, тропическом, субтропическом и умеренном климатических поясах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ыми климатическими поясами являются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субэкваториальный  и тропически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т.к. они занимают наибольшую площадь на материк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к находится в зоне действия двух постоянных ветров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: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ассатов и  западных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24000" y="1268280"/>
          <a:ext cx="8424720" cy="5121360"/>
        </p:xfrm>
        <a:graphic>
          <a:graphicData uri="http://schemas.openxmlformats.org/drawingml/2006/table">
            <a:tbl>
              <a:tblPr/>
              <a:tblGrid>
                <a:gridCol w="2690640"/>
                <a:gridCol w="5734080"/>
              </a:tblGrid>
              <a:tr h="5121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По карте атласа «Южная Америка. Физическая карта» определите , какими океанами и морями омывается матери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к на западе омывается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Тихи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океаном, на востоке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Атлантическим океано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севере материк омывается водами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Карибског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моря. Береговая линия материка  слабо изреза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доль западных берегов Южной Америки движется мощное холодное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еруанско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теч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восточных берегов картина иная: здесь преобладают движение теплых вод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Гвианское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Бразильское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чен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04:35:36Z</dcterms:created>
  <dc:creator>student</dc:creator>
  <dc:description/>
  <dc:language>en-US</dc:language>
  <cp:lastModifiedBy>Admin</cp:lastModifiedBy>
  <dcterms:modified xsi:type="dcterms:W3CDTF">2023-02-06T13:14:06Z</dcterms:modified>
  <cp:revision>64</cp:revision>
  <dc:subject/>
  <dc:title>Географическое  положение Южной  Америки.</dc:title>
</cp:coreProperties>
</file>