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EC4-DFF3-473F-9A86-CB2A3FC6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ED11-3277-4AA4-AFA6-6F410D25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FE5-2327-439A-A617-6605DB1B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C8D-0463-4619-B0EE-9C56E580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2A17-DA48-4CBB-B7D7-02200CDA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8A56-B183-4A61-8C22-02656904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F150-FC3F-4B47-9A62-F05D950C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E483-5B83-4FE1-A28E-CAB11654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F084-9433-4121-AABB-6B21AB04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89C7-BEB4-4433-9216-689675FB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2E31-7E13-4160-8FE4-621CB7D1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5FB-ECF6-4EE4-A216-16BA63F4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0679-6F09-45D9-A2FC-C4038EE2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5FD93-033C-4E4E-9A60-571D4107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E41C-AF0C-4046-92E7-D68C6E5B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49D7-657D-467C-A9AC-76B36182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EEF3-557F-4B90-834D-8DFB1D2C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C0906-B74A-475A-8CA1-46B617E1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26FAB-202C-40AE-8A66-98D54413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506DF-E7A8-4434-9D80-F8ADC9ED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B76E5-5C9F-4907-993A-5419F64F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5026C3-5AB1-4A9C-A7EF-F759D77A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F7E-81D8-4F91-B4C2-BB12E816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2318C-DECE-4FF7-B3BF-083D480B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F8872-1114-454C-A8D3-4F524D1C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72CF7-3DF2-4B6F-B767-9D55D52E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7919F-CC71-4564-89B2-4C7D98CC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F0FFB8-E76F-40DB-AA11-C12977EC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ECB2A-9699-46BD-8BCA-60B29347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23BC4-0270-4017-9796-F14AF8FE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72694-2898-4F25-A528-D373CD5A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47B49-261D-42D0-B36F-349ED748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D5F45-BD94-4C6C-8DCE-56665ABE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50F-0C42-4EC4-BAD8-12749E6C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BF475-6B26-4EA8-A78F-CA48DC3D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64319-C1D8-4A87-A49A-E29DED64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64F3E-46DE-49CC-8CBC-1615F89F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359B1-9D81-4F6A-A895-0F591A31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2C31C-BED4-4C6F-A013-38865789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2E04D-2CF8-43E5-B4D2-438B06FF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CA50D-6D8B-4A57-9EE3-E7D45BF3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DF474-78E0-4B6B-8108-BBE8CA83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DA141-13EB-4438-B02A-E0D62FCE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5BE-FA74-4432-9A24-049E1EEA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9CE-68A6-4627-AF15-5A072673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9AA-777D-40F7-A234-40205210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D71-9422-43AE-8E5A-6DFE68B2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32C-DD0E-4437-9A19-32E266AA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0166-C411-4603-AA58-14843839338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1B72-60D7-48CD-92CB-CA7A741768C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948E-8F9A-456C-80CB-FB7D1D846E6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1AEE-2962-44EB-B359-E1E48404CE5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252720" y="2703240"/>
            <a:ext cx="971532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Georgia"/>
              </a:rPr>
              <a:t>Тема: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 Географическое положение и история исследования   Южной Америки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5" name="Picture 7" descr="Картинка 34 из 84000"/>
          <p:cNvPicPr/>
          <p:nvPr/>
        </p:nvPicPr>
        <p:blipFill>
          <a:blip r:embed="rId1"/>
          <a:stretch/>
        </p:blipFill>
        <p:spPr>
          <a:xfrm>
            <a:off x="4357800" y="4013280"/>
            <a:ext cx="3504960" cy="20620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16" name="Picture 9" descr="Картинка 25 из 84000"/>
          <p:cNvPicPr/>
          <p:nvPr/>
        </p:nvPicPr>
        <p:blipFill>
          <a:blip r:embed="rId2"/>
          <a:stretch/>
        </p:blipFill>
        <p:spPr>
          <a:xfrm>
            <a:off x="5143680" y="928800"/>
            <a:ext cx="3657600" cy="1785960"/>
          </a:xfrm>
          <a:prstGeom prst="rect">
            <a:avLst/>
          </a:prstGeom>
          <a:ln w="9360">
            <a:solidFill>
              <a:srgbClr val="00206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7" name="Picture 11" descr="Картинка 40 из 84000"/>
          <p:cNvPicPr/>
          <p:nvPr/>
        </p:nvPicPr>
        <p:blipFill>
          <a:blip r:embed="rId3"/>
          <a:stretch/>
        </p:blipFill>
        <p:spPr>
          <a:xfrm>
            <a:off x="1139760" y="426960"/>
            <a:ext cx="2517840" cy="25178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Картинка 131 из 84000"/>
          <p:cNvPicPr/>
          <p:nvPr/>
        </p:nvPicPr>
        <p:blipFill>
          <a:blip r:embed="rId4"/>
          <a:stretch/>
        </p:blipFill>
        <p:spPr>
          <a:xfrm>
            <a:off x="1187280" y="4202280"/>
            <a:ext cx="1447920" cy="1990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1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0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2195640" y="4273560"/>
            <a:ext cx="1154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Прямоугольник 5" descr=""/>
          <p:cNvPicPr/>
          <p:nvPr/>
        </p:nvPicPr>
        <p:blipFill>
          <a:blip r:embed="rId5"/>
          <a:stretch/>
        </p:blipFill>
        <p:spPr>
          <a:xfrm>
            <a:off x="5157720" y="6040440"/>
            <a:ext cx="3718080" cy="8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684360" y="1557360"/>
          <a:ext cx="7775280" cy="3743280"/>
        </p:xfrm>
        <a:graphic>
          <a:graphicData uri="http://schemas.openxmlformats.org/drawingml/2006/table">
            <a:tbl>
              <a:tblPr/>
              <a:tblGrid>
                <a:gridCol w="2482560"/>
                <a:gridCol w="5292720"/>
              </a:tblGrid>
              <a:tr h="374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Какие материки расположены рядом, чем они отделен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северо-западу расположен материк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Северная Америк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, отделенная  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анамским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канал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югу от материка расположена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Антарктида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(материк), отделённая проливом  Дрейк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324000" y="1484280"/>
          <a:ext cx="8280360" cy="3457440"/>
        </p:xfrm>
        <a:graphic>
          <a:graphicData uri="http://schemas.openxmlformats.org/drawingml/2006/table">
            <a:tbl>
              <a:tblPr/>
              <a:tblGrid>
                <a:gridCol w="2644560"/>
                <a:gridCol w="5635800"/>
              </a:tblGrid>
              <a:tr h="3457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Какие острова расположены рядом с материком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ядом с материком Южная Америка расположены острова: на юге –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о.Огненная Земля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Фолклендски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-в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севере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Малые Антильские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тров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близи экватора в Тихом океане находятся острова </a:t>
                      </a:r>
                      <a:r>
                        <a:rPr b="0" lang="ru-RU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Галапагосские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Прямоугольник 4" descr=""/>
          <p:cNvPicPr/>
          <p:nvPr/>
        </p:nvPicPr>
        <p:blipFill>
          <a:blip r:embed="rId1"/>
          <a:stretch/>
        </p:blipFill>
        <p:spPr>
          <a:xfrm>
            <a:off x="262080" y="944640"/>
            <a:ext cx="8345520" cy="11826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407880" y="1989000"/>
            <a:ext cx="826128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ы жизни Америго Веспуччи 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н занимался до того, как отправился в свое первое путешествие?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ду он совершил первое путешеств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н исследовал в этом походе?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удобную бухту на побережье Южной Америки моряки назвали Рио-де- Жанейро?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 была составлена первая карта Южной Америки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videoplayback (19).mp4" descr=""/>
          <p:cNvPicPr/>
          <p:nvPr/>
        </p:nvPicPr>
        <p:blipFill>
          <a:blip r:embed="rId1"/>
          <a:stretch/>
        </p:blipFill>
        <p:spPr>
          <a:xfrm>
            <a:off x="1979640" y="1378080"/>
            <a:ext cx="5472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1593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" dur="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539640" y="1308240"/>
            <a:ext cx="806472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  к видеоролик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51 – 1512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6 лет работал в банкирском доме Меди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270000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сследовал океан, природу Южной Америки, изучал народы, живущие на побережье матер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ио-де-Жанейро в переводе означает река января. Моряки прибыли в эту бухту 1 январ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1 версия –  Мартин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дземюлл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ерсия – Леонардо да Вин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Прямоугольник 3" descr=""/>
          <p:cNvPicPr/>
          <p:nvPr/>
        </p:nvPicPr>
        <p:blipFill>
          <a:blip r:embed="rId1"/>
          <a:stretch/>
        </p:blipFill>
        <p:spPr>
          <a:xfrm>
            <a:off x="-201600" y="237960"/>
            <a:ext cx="9236160" cy="1438560"/>
          </a:xfrm>
          <a:prstGeom prst="rect">
            <a:avLst/>
          </a:prstGeom>
          <a:ln w="0">
            <a:noFill/>
          </a:ln>
        </p:spPr>
      </p:pic>
      <p:pic>
        <p:nvPicPr>
          <p:cNvPr id="252" name="Таблица 4" descr=""/>
          <p:cNvPicPr/>
          <p:nvPr/>
        </p:nvPicPr>
        <p:blipFill>
          <a:blip r:embed="rId2"/>
          <a:stretch/>
        </p:blipFill>
        <p:spPr>
          <a:xfrm>
            <a:off x="85680" y="1536840"/>
            <a:ext cx="886320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2400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учить материал § 35,36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полнительное задание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отовить рекламный буклет «Путешествие вдоль берега Южной Америки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5554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Trebuchet MS"/>
              </a:rPr>
              <a:t>Домашнее задание: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3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3" descr=""/>
          <p:cNvPicPr/>
          <p:nvPr/>
        </p:nvPicPr>
        <p:blipFill>
          <a:blip r:embed="rId1"/>
          <a:stretch/>
        </p:blipFill>
        <p:spPr>
          <a:xfrm>
            <a:off x="804960" y="476280"/>
            <a:ext cx="3254400" cy="70632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250920" y="1628640"/>
            <a:ext cx="8569080" cy="20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Сформировать представление о физико - географическом положении  Южной Амери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3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Прямоугольник 3" descr=""/>
          <p:cNvPicPr/>
          <p:nvPr/>
        </p:nvPicPr>
        <p:blipFill>
          <a:blip r:embed="rId1"/>
          <a:stretch/>
        </p:blipFill>
        <p:spPr>
          <a:xfrm>
            <a:off x="743040" y="476280"/>
            <a:ext cx="3384360" cy="70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395280" y="2133720"/>
          <a:ext cx="7993080" cy="3527280"/>
        </p:xfrm>
        <a:graphic>
          <a:graphicData uri="http://schemas.openxmlformats.org/drawingml/2006/table">
            <a:tbl>
              <a:tblPr/>
              <a:tblGrid>
                <a:gridCol w="2801880"/>
                <a:gridCol w="5191200"/>
              </a:tblGrid>
              <a:tr h="587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бориген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енные жители Австрал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рр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пнейшая  река Австрал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й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зеро Австрал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о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йняя южная точка Афр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сцюшк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высокая точка Австрал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ха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большая пустыня ми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Прямоугольник 5" descr=""/>
          <p:cNvPicPr/>
          <p:nvPr/>
        </p:nvPicPr>
        <p:blipFill>
          <a:blip r:embed="rId2"/>
          <a:stretch/>
        </p:blipFill>
        <p:spPr>
          <a:xfrm>
            <a:off x="-212760" y="878040"/>
            <a:ext cx="93567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6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s://druzhniy-center.ru/wp-content/uploads/9/d/8/9d8c6e0618b4668abddbde0d9c2fb709.jpeg"/>
          <p:cNvPicPr/>
          <p:nvPr/>
        </p:nvPicPr>
        <p:blipFill>
          <a:blip r:embed="rId1"/>
          <a:srcRect l="2004" t="3738" r="49295" b="5648"/>
          <a:stretch/>
        </p:blipFill>
        <p:spPr>
          <a:xfrm>
            <a:off x="297000" y="635040"/>
            <a:ext cx="4608360" cy="62150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3" descr=""/>
          <p:cNvPicPr/>
          <p:nvPr/>
        </p:nvPicPr>
        <p:blipFill>
          <a:blip r:embed="rId2"/>
          <a:stretch/>
        </p:blipFill>
        <p:spPr>
          <a:xfrm>
            <a:off x="4011480" y="652320"/>
            <a:ext cx="5315040" cy="11574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Прямоугольник 1" descr=""/>
          <p:cNvPicPr/>
          <p:nvPr/>
        </p:nvPicPr>
        <p:blipFill>
          <a:blip r:embed="rId1"/>
          <a:stretch/>
        </p:blipFill>
        <p:spPr>
          <a:xfrm>
            <a:off x="-165240" y="944640"/>
            <a:ext cx="9193320" cy="11826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3"/>
          <p:cNvSpPr/>
          <p:nvPr/>
        </p:nvSpPr>
        <p:spPr>
          <a:xfrm>
            <a:off x="324000" y="1690560"/>
            <a:ext cx="85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rebuchet MS"/>
              </a:rPr>
              <a:t>План характеристики географического по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"/>
          <p:cNvSpPr/>
          <p:nvPr/>
        </p:nvSpPr>
        <p:spPr>
          <a:xfrm>
            <a:off x="324000" y="2136600"/>
            <a:ext cx="835164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оложение материка по отношению к экватору, к тропикам, к нулевому меридиа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крайние точки матер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в каких климатических поясах расположен матер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 , какие океаны и моря омывают  матер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, какие материки расположены рядом с матер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пределить, какие острова расположены с матери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324000" y="1341360"/>
          <a:ext cx="8208720" cy="3382920"/>
        </p:xfrm>
        <a:graphic>
          <a:graphicData uri="http://schemas.openxmlformats.org/drawingml/2006/table">
            <a:tbl>
              <a:tblPr/>
              <a:tblGrid>
                <a:gridCol w="2620800"/>
                <a:gridCol w="5587920"/>
              </a:tblGrid>
              <a:tr h="3382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Определите, как расположен материк относительно экватора, тропиков (полярных кругов), нулевого меридиа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к Южная Америка относительно экватора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в    северном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    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южном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ушариях. Относительно нулевого меридиана материк расположен в  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западно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полушарии.   Южный полярный круг материк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не пересекае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324000" y="1092240"/>
          <a:ext cx="8319960" cy="4832280"/>
        </p:xfrm>
        <a:graphic>
          <a:graphicData uri="http://schemas.openxmlformats.org/drawingml/2006/table">
            <a:tbl>
              <a:tblPr/>
              <a:tblGrid>
                <a:gridCol w="3681360"/>
                <a:gridCol w="2655720"/>
                <a:gridCol w="1982880"/>
              </a:tblGrid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е, крайние точки материка, их координа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айние 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ордина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. Гальина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 ͦ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с.ш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 ͦ з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ж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. Фроуар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 ͦ  ю.ш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 ͦ в.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ад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. Париньяс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 ͦ  ю.ш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  ͦ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з. 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точ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. Кабу-Бран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  ͦ  с.ш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  ͦ  з. 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9" name=""/>
          <p:cNvGraphicFramePr/>
          <p:nvPr/>
        </p:nvGraphicFramePr>
        <p:xfrm>
          <a:off x="108000" y="1341360"/>
          <a:ext cx="8856720" cy="5121360"/>
        </p:xfrm>
        <a:graphic>
          <a:graphicData uri="http://schemas.openxmlformats.org/drawingml/2006/table">
            <a:tbl>
              <a:tblPr/>
              <a:tblGrid>
                <a:gridCol w="2827440"/>
                <a:gridCol w="6029280"/>
              </a:tblGrid>
              <a:tr h="548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По карте атласа «Климатические пояса» и параграфу 36 (стр. 143, стр. 144)определите в каких климатических поясах расположена Южная Америк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5040" indent="-2556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a04da3"/>
                        </a:buClr>
                        <a:buFont typeface="Georgi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жная Америка расположена в следующих климатических поясах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: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Georgia"/>
                          <a:ea typeface="Calibri"/>
                        </a:rPr>
                        <a:t>в экваториальном, субэкваториальном, тропическом, субтропическом и умеренном климатических поясах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ыми климатическими поясами являются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субэкваториальный  и тропический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т.к. они занимают наибольшую площадь на материк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к находится в зоне действия двух постоянных ветров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: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ассатов и  западных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4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331452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324000" y="1268280"/>
          <a:ext cx="8424720" cy="5121360"/>
        </p:xfrm>
        <a:graphic>
          <a:graphicData uri="http://schemas.openxmlformats.org/drawingml/2006/table">
            <a:tbl>
              <a:tblPr/>
              <a:tblGrid>
                <a:gridCol w="2690640"/>
                <a:gridCol w="5734080"/>
              </a:tblGrid>
              <a:tr h="5121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По карте атласа «Южная Америка. Физическая карта» определите , какими океанами и морями омывается материк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ерик на западе омывается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Тихи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океаном, на востоке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Атлантическим океано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севере материк омывается водами 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Карибског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моря. Береговая линия материка  слабо изрезан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доль западных берегов Южной Америки движется мощное холодное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Перуанско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теч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 восточных берегов картина иная: здесь преобладают движение теплых вод </a:t>
                      </a: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Гвианское 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Бразильское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ечен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04:35:36Z</dcterms:created>
  <dc:creator>student</dc:creator>
  <dc:description/>
  <dc:language>en-US</dc:language>
  <cp:lastModifiedBy>Admin</cp:lastModifiedBy>
  <dcterms:modified xsi:type="dcterms:W3CDTF">2023-02-06T13:14:06Z</dcterms:modified>
  <cp:revision>64</cp:revision>
  <dc:subject/>
  <dc:title>Географическое  положение Южной  Америки.</dc:title>
</cp:coreProperties>
</file>