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7BA4-BCB2-47FE-90F8-1D30A322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DE3B-B472-4869-A7F7-A9046B0D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0BAE-DE27-49C5-9123-9473BF90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D12-2126-4BA5-AEE1-011F8DEF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AD8E-783D-462E-BC62-48253C577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65CB-9F59-4C80-9D39-91F5FDDC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F6CD-2A53-40F9-BDAA-7E5E2B98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AA01-43A8-4AA1-B6D1-80564292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04C7-8728-4468-8955-1B10F733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EF1C-17CA-4ECC-96DA-4C024507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18FC-1DE9-4654-9936-7F9F129F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DF7-AB04-479E-A620-25C20AFE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DD3C-EEA4-4EE7-A6F9-F69A8E1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A107E-B64C-4BBA-9E8B-A01D779D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B6E0-28E1-448D-B263-F25BA6B1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5DB9-E386-49D3-92DE-2DC0C265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C4FE-8629-4C35-A190-7DC9631E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3CA-EA16-4497-B940-BA6E7AB6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11A-A97A-4470-98AC-7E2B34E5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8F0-0202-4BD6-A991-D493F7EC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5E3-EF37-45E6-A1E4-4F5F3405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0FC-85B9-412E-8510-9490696D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81A-459D-4C73-B0FA-15D5713B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2EF7-5130-481A-98FD-0C4205F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71E6-6330-4D49-BFD8-A5A9EF447F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5DF-22AC-4BAB-B511-D8A2E43E48E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imes New Roman"/>
              </a:rPr>
              <a:t>Площадь криволинейной трапеции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атематики Загаевская Ф.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3946680" y="2128320"/>
            <a:ext cx="0" cy="351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40640" y="2128680"/>
            <a:ext cx="0" cy="344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33720" y="2790720"/>
            <a:ext cx="2827440" cy="2683080"/>
          </a:xfrm>
          <a:custGeom>
            <a:avLst/>
            <a:gdLst/>
            <a:ahLst/>
            <a:rect l="l" t="t" r="r" b="b"/>
            <a:pathLst>
              <a:path w="1781" h="1690">
                <a:moveTo>
                  <a:pt x="0" y="728"/>
                </a:moveTo>
                <a:lnTo>
                  <a:pt x="8" y="1690"/>
                </a:lnTo>
                <a:lnTo>
                  <a:pt x="1781" y="1690"/>
                </a:lnTo>
                <a:lnTo>
                  <a:pt x="1766" y="0"/>
                </a:lnTo>
                <a:lnTo>
                  <a:pt x="1630" y="228"/>
                </a:lnTo>
                <a:lnTo>
                  <a:pt x="1501" y="394"/>
                </a:lnTo>
                <a:lnTo>
                  <a:pt x="1372" y="523"/>
                </a:lnTo>
                <a:lnTo>
                  <a:pt x="1304" y="576"/>
                </a:lnTo>
                <a:lnTo>
                  <a:pt x="1236" y="614"/>
                </a:lnTo>
                <a:lnTo>
                  <a:pt x="1145" y="637"/>
                </a:lnTo>
                <a:lnTo>
                  <a:pt x="1039" y="675"/>
                </a:lnTo>
                <a:lnTo>
                  <a:pt x="819" y="675"/>
                </a:lnTo>
                <a:lnTo>
                  <a:pt x="576" y="667"/>
                </a:lnTo>
                <a:lnTo>
                  <a:pt x="379" y="675"/>
                </a:lnTo>
                <a:lnTo>
                  <a:pt x="182" y="698"/>
                </a:lnTo>
                <a:lnTo>
                  <a:pt x="0" y="728"/>
                </a:lnTo>
                <a:close/>
              </a:path>
            </a:pathLst>
          </a:custGeom>
          <a:solidFill>
            <a:srgbClr val="99cc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7520" y="50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Криволинейная трапец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41560" y="2111040"/>
            <a:ext cx="0" cy="39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41520" y="547524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5200" y="543708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92760" y="5489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79680" y="1974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9200" y="5524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957480" y="3957120"/>
            <a:ext cx="0" cy="152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751800" y="2814120"/>
            <a:ext cx="0" cy="2684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16160" y="2106720"/>
            <a:ext cx="4114800" cy="2346120"/>
          </a:xfrm>
          <a:custGeom>
            <a:avLst/>
            <a:gdLst/>
            <a:ahLst/>
            <a:rect l="l" t="t" r="r" b="b"/>
            <a:pathLst>
              <a:path w="2592" h="1478">
                <a:moveTo>
                  <a:pt x="0" y="1478"/>
                </a:moveTo>
                <a:cubicBezTo>
                  <a:pt x="93" y="1384"/>
                  <a:pt x="186" y="1291"/>
                  <a:pt x="326" y="1228"/>
                </a:cubicBezTo>
                <a:cubicBezTo>
                  <a:pt x="466" y="1165"/>
                  <a:pt x="600" y="1133"/>
                  <a:pt x="841" y="1099"/>
                </a:cubicBezTo>
                <a:cubicBezTo>
                  <a:pt x="1082" y="1065"/>
                  <a:pt x="1518" y="1154"/>
                  <a:pt x="1773" y="1023"/>
                </a:cubicBezTo>
                <a:cubicBezTo>
                  <a:pt x="2028" y="892"/>
                  <a:pt x="2236" y="480"/>
                  <a:pt x="2372" y="310"/>
                </a:cubicBezTo>
                <a:cubicBezTo>
                  <a:pt x="2508" y="140"/>
                  <a:pt x="2550" y="70"/>
                  <a:pt x="259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30400" y="55339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35520" y="5508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3434040" y="2128320"/>
            <a:ext cx="5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6209280" y="20689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=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41400" y="3343320"/>
            <a:ext cx="7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=f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46680" y="5473800"/>
            <a:ext cx="28033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Формула площади криволинейной трапеции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68280" y="2317680"/>
            <a:ext cx="774720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ерывная и неотрицательная 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a; b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ункция, 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ё первообразная на этом отрезке, 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36680" y="4062240"/>
                <a:ext cx="48484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−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8680" y="1828800"/>
            <a:ext cx="81853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числите площад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волинейной трапеции, ограниченной графиком функци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)=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ямым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=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=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73400" y="2766960"/>
            <a:ext cx="131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-128880" y="-1719720"/>
            <a:ext cx="3890880" cy="8084160"/>
            <a:chOff x="-128880" y="-1719720"/>
            <a:chExt cx="3890880" cy="8084160"/>
          </a:xfrm>
        </p:grpSpPr>
        <p:sp>
          <p:nvSpPr>
            <p:cNvPr id="124" name=""/>
            <p:cNvSpPr/>
            <p:nvPr/>
          </p:nvSpPr>
          <p:spPr>
            <a:xfrm>
              <a:off x="1703520" y="4083120"/>
              <a:ext cx="576000" cy="1966680"/>
            </a:xfrm>
            <a:custGeom>
              <a:avLst/>
              <a:gdLst/>
              <a:ahLst/>
              <a:rect l="l" t="t" r="r" b="b"/>
              <a:pathLst>
                <a:path w="363" h="1239">
                  <a:moveTo>
                    <a:pt x="0" y="987"/>
                  </a:moveTo>
                  <a:lnTo>
                    <a:pt x="8" y="1239"/>
                  </a:lnTo>
                  <a:lnTo>
                    <a:pt x="363" y="1231"/>
                  </a:lnTo>
                  <a:lnTo>
                    <a:pt x="363" y="0"/>
                  </a:lnTo>
                  <a:lnTo>
                    <a:pt x="260" y="426"/>
                  </a:lnTo>
                  <a:lnTo>
                    <a:pt x="150" y="750"/>
                  </a:lnTo>
                  <a:lnTo>
                    <a:pt x="0" y="987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201680" y="3369960"/>
              <a:ext cx="0" cy="295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6360" y="6049800"/>
              <a:ext cx="295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-128520" y="-1720080"/>
              <a:ext cx="2574000" cy="775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997" y="370"/>
                  </a:moveTo>
                  <a:arcTo wR="10800" hR="10800" stAng="-6302471" swAng="5406833"/>
                  <a:lnTo>
                    <a:pt x="10800" y="10800"/>
                  </a:lnTo>
                  <a:close/>
                </a:path>
                <a:path fill="none" w="21600" h="21600">
                  <a:moveTo>
                    <a:pt x="7997" y="370"/>
                  </a:moveTo>
                  <a:arcTo wR="10800" hR="10800" stAng="-6302471" swAng="5406833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1716120" y="566244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279520" y="4133520"/>
              <a:ext cx="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09280" y="352584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y=x</a:t>
              </a:r>
              <a:r>
                <a:rPr b="0" i="1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66800" y="593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9240" y="3240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8840" y="5959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87240" y="5996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38400" y="598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887640" y="3639960"/>
                <a:ext cx="41562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Упражне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числите площадь фигуры, ограниченной лин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= sin x, y = 0, x = 0, x =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2x – x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660000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–(x–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= 0, x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62400" y="2643120"/>
            <a:ext cx="3194280" cy="33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502320" y="3827520"/>
                <a:ext cx="3700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0T16:51:54Z</dcterms:created>
  <dc:creator>Загаевская Ф.Т.</dc:creator>
  <dc:description/>
  <dc:language>en-US</dc:language>
  <cp:lastModifiedBy>мама</cp:lastModifiedBy>
  <dcterms:modified xsi:type="dcterms:W3CDTF">2008-05-10T18:33:56Z</dcterms:modified>
  <cp:revision>9</cp:revision>
  <dc:subject/>
  <dc:title>Площадь криволинейной трапеции</dc:title>
</cp:coreProperties>
</file>