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C53-49F5-493C-840B-39009B57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455-9D9E-49B3-8CCC-A61F1FE3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0DC-356B-43EB-B7CD-C204DE60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C8E-0442-443E-8C73-97E00D5B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41B5-EA33-4A03-A676-8523C33A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1DF0-6746-4448-AD26-2A68D923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27DA-D84F-467A-9877-6C895E32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BB55-4488-4B3D-BBF9-6F1B706F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FC51-B971-40E0-8DF3-5DBAACDB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9773-944E-4CB8-BEE0-F08C7444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845F-3AC5-485A-956F-48E2F02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A6D-CC12-4D47-AF1E-E814F5DE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60C0-46C6-422C-B516-3B13C843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2588-3188-405C-8037-7DAD246D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972C-5CFC-426F-916A-CBBBF534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D8FC-E3CE-4EDE-A099-0BC7FAE0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FC2F-460F-4955-8BA6-A438C81D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3DD-B303-48BC-B9C6-45210983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0F4-15AA-4B65-B56A-7BE85629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501-C007-4F49-B949-F6E46BC3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437-7984-4205-B45F-4662D3FD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BA3-86F6-4790-AB3D-23CBB84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43E-5044-463F-8B41-F6D9BF5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978-4E62-4D7F-9A35-33F8C83C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B59B-DF13-48B8-95B2-05E9E0A2A4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834D-2600-4276-8F52-3BA247D899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Площадь криволинейной трапеции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атематики Загаевская Ф.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3946680" y="2128320"/>
            <a:ext cx="0" cy="351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40640" y="2128680"/>
            <a:ext cx="0" cy="34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33720" y="2790720"/>
            <a:ext cx="2827440" cy="2683080"/>
          </a:xfrm>
          <a:custGeom>
            <a:avLst/>
            <a:gdLst/>
            <a:ahLst/>
            <a:rect l="l" t="t" r="r" b="b"/>
            <a:pathLst>
              <a:path w="1781" h="1690">
                <a:moveTo>
                  <a:pt x="0" y="728"/>
                </a:moveTo>
                <a:lnTo>
                  <a:pt x="8" y="1690"/>
                </a:lnTo>
                <a:lnTo>
                  <a:pt x="1781" y="1690"/>
                </a:lnTo>
                <a:lnTo>
                  <a:pt x="1766" y="0"/>
                </a:lnTo>
                <a:lnTo>
                  <a:pt x="1630" y="228"/>
                </a:lnTo>
                <a:lnTo>
                  <a:pt x="1501" y="394"/>
                </a:lnTo>
                <a:lnTo>
                  <a:pt x="1372" y="523"/>
                </a:lnTo>
                <a:lnTo>
                  <a:pt x="1304" y="576"/>
                </a:lnTo>
                <a:lnTo>
                  <a:pt x="1236" y="614"/>
                </a:lnTo>
                <a:lnTo>
                  <a:pt x="1145" y="637"/>
                </a:lnTo>
                <a:lnTo>
                  <a:pt x="1039" y="675"/>
                </a:lnTo>
                <a:lnTo>
                  <a:pt x="819" y="675"/>
                </a:lnTo>
                <a:lnTo>
                  <a:pt x="576" y="667"/>
                </a:lnTo>
                <a:lnTo>
                  <a:pt x="379" y="675"/>
                </a:lnTo>
                <a:lnTo>
                  <a:pt x="182" y="698"/>
                </a:lnTo>
                <a:lnTo>
                  <a:pt x="0" y="728"/>
                </a:lnTo>
                <a:close/>
              </a:path>
            </a:pathLst>
          </a:custGeom>
          <a:solidFill>
            <a:srgbClr val="99cc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7520" y="50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Криволинейная трапец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941560" y="2111040"/>
            <a:ext cx="0" cy="39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41520" y="547524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0" y="5437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92760" y="5489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79680" y="1974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9200" y="5524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57480" y="3957120"/>
            <a:ext cx="0" cy="152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751800" y="2814120"/>
            <a:ext cx="0" cy="2684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16160" y="2106720"/>
            <a:ext cx="4114800" cy="2346120"/>
          </a:xfrm>
          <a:custGeom>
            <a:avLst/>
            <a:gdLst/>
            <a:ahLst/>
            <a:rect l="l" t="t" r="r" b="b"/>
            <a:pathLst>
              <a:path w="2592" h="1478">
                <a:moveTo>
                  <a:pt x="0" y="1478"/>
                </a:moveTo>
                <a:cubicBezTo>
                  <a:pt x="93" y="1384"/>
                  <a:pt x="186" y="1291"/>
                  <a:pt x="326" y="1228"/>
                </a:cubicBezTo>
                <a:cubicBezTo>
                  <a:pt x="466" y="1165"/>
                  <a:pt x="600" y="1133"/>
                  <a:pt x="841" y="1099"/>
                </a:cubicBezTo>
                <a:cubicBezTo>
                  <a:pt x="1082" y="1065"/>
                  <a:pt x="1518" y="1154"/>
                  <a:pt x="1773" y="1023"/>
                </a:cubicBezTo>
                <a:cubicBezTo>
                  <a:pt x="2028" y="892"/>
                  <a:pt x="2236" y="480"/>
                  <a:pt x="2372" y="310"/>
                </a:cubicBezTo>
                <a:cubicBezTo>
                  <a:pt x="2508" y="140"/>
                  <a:pt x="2550" y="70"/>
                  <a:pt x="2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0400" y="55339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35520" y="5508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3434040" y="212832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6209280" y="20689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41400" y="334332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46680" y="5473800"/>
            <a:ext cx="2803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Формула площади криволинейной трапеци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8280" y="2317680"/>
            <a:ext cx="77472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рерывная и неотрицательная 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a; b]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ункция, 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ё первообразная на этом отрезке, 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36680" y="4062240"/>
                <a:ext cx="48484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8680" y="1828800"/>
            <a:ext cx="81853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числите площад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волинейной трапеции, ограниченной графиком функ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)=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ямы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=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=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=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73400" y="27669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-128880" y="-1719720"/>
            <a:ext cx="3890880" cy="8084160"/>
            <a:chOff x="-128880" y="-1719720"/>
            <a:chExt cx="3890880" cy="8084160"/>
          </a:xfrm>
        </p:grpSpPr>
        <p:sp>
          <p:nvSpPr>
            <p:cNvPr id="124" name=""/>
            <p:cNvSpPr/>
            <p:nvPr/>
          </p:nvSpPr>
          <p:spPr>
            <a:xfrm>
              <a:off x="1703520" y="4083120"/>
              <a:ext cx="576000" cy="1966680"/>
            </a:xfrm>
            <a:custGeom>
              <a:avLst/>
              <a:gdLst/>
              <a:ahLst/>
              <a:rect l="l" t="t" r="r" b="b"/>
              <a:pathLst>
                <a:path w="363" h="1239">
                  <a:moveTo>
                    <a:pt x="0" y="987"/>
                  </a:moveTo>
                  <a:lnTo>
                    <a:pt x="8" y="1239"/>
                  </a:lnTo>
                  <a:lnTo>
                    <a:pt x="363" y="1231"/>
                  </a:lnTo>
                  <a:lnTo>
                    <a:pt x="363" y="0"/>
                  </a:lnTo>
                  <a:lnTo>
                    <a:pt x="260" y="426"/>
                  </a:lnTo>
                  <a:lnTo>
                    <a:pt x="150" y="750"/>
                  </a:lnTo>
                  <a:lnTo>
                    <a:pt x="0" y="98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201680" y="3369960"/>
              <a:ext cx="0" cy="295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6360" y="6049800"/>
              <a:ext cx="29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-128520" y="-1720080"/>
              <a:ext cx="2574000" cy="775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97" y="370"/>
                  </a:moveTo>
                  <a:arcTo wR="10800" hR="10800" stAng="-6302471" swAng="5406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997" y="370"/>
                  </a:moveTo>
                  <a:arcTo wR="10800" hR="10800" stAng="-6302471" swAng="540683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716120" y="566244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279520" y="4133520"/>
              <a:ext cx="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09280" y="352584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=x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66800" y="593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9240" y="3240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5959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87240" y="5996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38400" y="598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887640" y="3639960"/>
                <a:ext cx="415620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1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Упражн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числите площадь фигуры, ограниченной ли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sin x, y = 0, x = 0, x =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2x –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–(x–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= 0, x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2400" y="2643120"/>
            <a:ext cx="319428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02320" y="3827520"/>
                <a:ext cx="370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16:51:54Z</dcterms:created>
  <dc:creator>Загаевская Ф.Т.</dc:creator>
  <dc:description/>
  <dc:language>en-US</dc:language>
  <cp:lastModifiedBy>мама</cp:lastModifiedBy>
  <dcterms:modified xsi:type="dcterms:W3CDTF">2008-05-10T18:33:56Z</dcterms:modified>
  <cp:revision>9</cp:revision>
  <dc:subject/>
  <dc:title>Площадь криволинейной трапеции</dc:title>
</cp:coreProperties>
</file>