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454-F42E-4072-8C23-0C585D8D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0E9-901C-4EFA-84F7-70AA0D16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D9A-E755-442A-A724-AB858E0D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9EE-E603-4B86-BB83-7234355D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2C1-2A67-447D-B1E4-B8E1D864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723-2885-4CE3-B10F-5B97F8BE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ED1-A1E1-4AE1-B3FA-A872C962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1AD-BE27-4C27-BC1F-D97EC1EB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6E4-2AC0-4BAC-930E-E250987C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3D3-73BA-4F2F-AB58-88704B02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3F0-F34B-4365-A211-37D2401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313-F43A-496C-8BC0-5D000D0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FCA9-6D5D-4D15-A680-D3EA44DA5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503360" y="3899160"/>
            <a:ext cx="7640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изова  Татьяна Алексеевн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ОУ школа №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од Долгопруд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ужающий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:  Персп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53424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«Растения и животные Красной книги 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24-01-29T18:14:28Z</dcterms:modified>
  <cp:revision>1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