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3F7-7E6A-4978-9F18-DD5655CA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793-B354-4FE3-8B25-5B15ED7C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76A-6FE3-45FA-8A0D-EBC18370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6A3-0D34-46C3-84C0-B287BC5BB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921C-88CF-4DBE-82C9-1FB4A842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040F-071F-4F31-AC9E-E1DA9984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858-8A8B-4218-B5C9-4231CEC4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9E9-931C-4D10-B9CC-466079E5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68F-8416-43CC-AFCC-B65ACEEA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4A0-3E0A-4FEE-96C3-DE99B52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B02-7A92-48BB-A9F0-8EC1CD0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EF0-7A5F-4B05-B75D-2FD7720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F756-92B6-4601-B27E-B431AB933D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1503360" y="3899160"/>
            <a:ext cx="7640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изова  Татьяна Алексеевн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ОУ школа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од Долгопруд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кружающий 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кла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:  Перспект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534240"/>
            <a:ext cx="8686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а: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«Растения и животные Красной книги 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тьяна</cp:lastModifiedBy>
  <dcterms:modified xsi:type="dcterms:W3CDTF">2024-01-29T18:14:28Z</dcterms:modified>
  <cp:revision>1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