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E39-C5A2-40E1-AF35-B3292D5F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6F1-3270-438E-A487-6546F312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BB473-2E00-468A-AF40-C29744E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400D8-7895-4B34-9412-93A0B104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9ADF5-F1FC-4CD0-A59B-BA3FE9B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C3066-EFC0-45E9-A560-8B6CE92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440D6-037A-45C5-8E63-BFF68BD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9704A-9361-4190-9E43-6CF05D6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8B5AC-7545-4CC7-8AE6-21DB983E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1445F-031E-4D70-B0AB-B3584BA1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1C901-E884-4C5E-92DF-B78DA321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28B-E249-4A9D-97EF-E2A1B95F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1E2-AA38-49EA-BA7C-193EDC77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4D4-098D-4079-AE67-07260253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1C8-F824-4767-8CFC-142FC8E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410-90ED-4F88-8A12-A22677C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7BC-A6AD-4C17-8A72-8A12BF0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D79F-8501-43ED-9987-F950AFF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662-0D91-4911-9E90-043BA1C1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CE5C-C234-4C32-8D5E-5CE4882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667-E55C-4EFE-BB4B-904AAE42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DD5D-9DC4-457E-855A-737032E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BFD9-6482-47C2-BE7F-0BBB8B7D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CFA-530F-4CAB-8F69-57A7A0E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688-A565-4348-B3AF-0808F663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01C1-A582-4552-8248-08374DE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687D-4E03-42B8-8E9E-B5C0CD9E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E675-0CE9-4ED7-BE08-C804D12C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4F14-F625-4F53-9220-CF8E9CF5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F830-A39B-4D69-B77F-4EEADE2F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5DFF-5138-49B4-9695-EBE5D63E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2D0-F170-4D7D-B338-9D27972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B173-702D-4F21-A724-771BC0C2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48DB-2177-4DD3-B109-378FD4A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522C-F763-48B0-9E9D-ACF4D8E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12DB-0D84-4F29-BB04-BD00748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335C-91E9-444C-B634-9C4E9DF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7CC4-FC8D-45F9-9872-2B73F3BA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71F8-593C-4E63-B3A3-C5E91EFB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1E6E-FDCF-47CA-B4BD-F6BD7CA6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1385-52D6-4CC2-8A74-74CA9723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A27A-D250-4EFF-9055-7EA6E6B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2CA-14C1-489E-9A1F-69E680F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1960-5285-4508-9F93-1FF7A0D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A815-4F6E-4C6A-9720-86AB1F0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3908-BF88-48BD-9E91-C4B0DA4E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C11E-46B6-4DBB-B359-EB11AA0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320A-E004-4FB4-9690-4A5F2F94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AB9E-973C-4840-A4FF-83C020E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CCDB-7540-4036-BB6A-A780896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4C48-76EB-4CCC-A40A-100A04A7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A7C4-DEA6-429F-B924-6040FCE4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AB2A-2EF1-4ABD-8926-FD3B8872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412-75AA-478A-A7B7-5D18576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0E97-35C1-4E40-81AD-DE4F61E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8C88-3AE4-4C42-8CA9-881F3E6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4E38-7140-413A-BC3C-021CCC5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BE8F-57DE-4743-B2FC-351FFC78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1AEF-CCEA-4518-8468-1E30914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8A71-FD63-4BFD-972C-5056E6C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5A2E-B8AA-4F9C-8CE9-F21D562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BCBE-802C-46BE-9C42-1237BAA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665B4-8BAC-4860-849B-13116B5F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224A-AB35-4BCA-8A86-43197E5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53C-6554-481A-810C-1A695C0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FF95A-053E-4A08-AF4E-BF4D7A5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5CC3-DDEF-4DCA-90E8-B862DB06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C56C-9461-4BE1-8D1D-4E41329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D65C-5736-434A-A277-C98267B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FD9B-9E7B-421A-9F2E-C68A27CA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E669-2F46-42CD-BD27-2A7308C9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69F1-D60B-4595-99F8-01AF76B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8679-D6D4-404D-A796-E3A0A38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9C3F-BB6E-4308-A6A1-8CC3F4A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B1E8-C651-431B-B4F5-1E79CC8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14F-4005-4015-AB6D-0AB7815A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401D-4F2D-41F2-AB2A-D72577A4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4F16-BFF4-46A2-B32E-9A228B24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47B2-5A6F-4A5E-90D8-6D20E655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7169-90C0-4552-A2C7-080A3941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1FCE-B906-4CBD-9F80-22FADBC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C14C-AF80-4D11-9122-E52537D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C9FF-4731-4153-8139-BE85372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B873-A047-4E8B-B4F3-6E3721BB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64208-93FF-4850-96A4-CCD6DE8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01D1-E2A1-4F14-B8F2-3F4E390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CC4-EA5A-4FF2-953E-2DBD04C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2569-EE9E-4B05-A25D-E353944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21211-3023-47D6-8C91-E81F118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3B7C-47F6-4DC0-88E6-31AA76F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F0689-F1C3-42C7-93C5-65633880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78E2-8EB5-4472-8EF1-1DCA54BC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F947-E6F5-4E74-8D33-6E7E5016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BD6E-4458-4165-8F71-7435668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383B-A8F4-4C19-A7FE-2549717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276C-85F5-4EA9-9617-C449FD42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1AC2-2FC4-46AE-9FDD-F0B7E933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7D9-8E44-4054-955B-D74066B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1BDE-0879-4EB9-8F75-580C798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C113-65C4-4C09-B3DD-E20B869D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45A3-4D14-4369-9FFB-39DA4A0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E7AD8-6939-465E-A157-7546738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9BF3A-2157-4422-9D75-CB7EDF8C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20AC1-D025-49F9-BEA1-26DF1360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0D1D4-5E2C-45EE-A61B-8B8D5ED8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FE44-C7B5-4E27-8025-4E48361C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F76CD-9F6E-4B2D-A28D-C22C56E5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58DEB-7B1C-4C2B-BA8D-7C02886F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A29D-3C25-4588-90D6-339D4B0D2B70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554-A05D-4784-AB7B-1A792FD2234E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501-EEC1-4358-94C3-0EB7586E21C2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41A-4785-48F5-BF3C-54D4C568EDAA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74A-4D3F-4C14-96E8-C23297905684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0509-B805-498A-A013-F1D11AAFFBD5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586-60FB-47DE-B5DE-004BA1944F8B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7E0-3E81-4A84-BA42-44601F1ADCF5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4A94-C5A0-4B3A-B526-0EB14321B3F0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9;&#1084;" TargetMode="External"/><Relationship Id="rId3" Type="http://schemas.openxmlformats.org/officeDocument/2006/relationships/hyperlink" Target="http://ru.wikipedia.org/wiki/&#1054;&#1087;&#1099;&#1090;" TargetMode="External"/><Relationship Id="rId4" Type="http://schemas.openxmlformats.org/officeDocument/2006/relationships/hyperlink" Target="http://mirslovarei.com/oje_a/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944640"/>
            <a:ext cx="8467560" cy="2347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357800" y="3886200"/>
            <a:ext cx="4481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Воспитатель :  Серова О.А. </a:t>
            </a:r>
            <a:br>
              <a:rPr sz="2000"/>
            </a:b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Школа –Интернат №1  им. К.К. Грота, г. Санкт- Петербург. </a:t>
            </a:r>
            <a:br>
              <a:rPr sz="2000"/>
            </a:br>
            <a:endParaRPr b="0" lang="en-US" sz="2000" spc="-1" strike="noStrike">
              <a:solidFill>
                <a:srgbClr val="464646"/>
              </a:solidFill>
              <a:latin typeface="Constantia"/>
            </a:endParaRPr>
          </a:p>
        </p:txBody>
      </p:sp>
      <p:pic>
        <p:nvPicPr>
          <p:cNvPr id="401" name="Picture 5" descr="C:\Users\Дом\Downloads\photo_2023-05-01_23-54-04.jpg"/>
          <p:cNvPicPr/>
          <p:nvPr/>
        </p:nvPicPr>
        <p:blipFill>
          <a:blip r:embed="rId2"/>
          <a:srcRect l="16667" t="3001" r="17499" b="0"/>
          <a:stretch/>
        </p:blipFill>
        <p:spPr>
          <a:xfrm>
            <a:off x="142920" y="307188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656920" cy="208404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2"/>
          <p:cNvSpPr/>
          <p:nvPr/>
        </p:nvSpPr>
        <p:spPr>
          <a:xfrm>
            <a:off x="428760" y="15717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C:\Users\Дом\Downloads\1643028446_28-papik-pro-p-risunok-na-temu-net-vrednim-privichkam-31.jpg"/>
          <p:cNvPicPr/>
          <p:nvPr/>
        </p:nvPicPr>
        <p:blipFill>
          <a:blip r:embed="rId2"/>
          <a:stretch/>
        </p:blipFill>
        <p:spPr>
          <a:xfrm>
            <a:off x="1143000" y="2571840"/>
            <a:ext cx="628668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Да!</a:t>
            </a:r>
            <a:r>
              <a:rPr b="0" lang="ru-RU" sz="3200" spc="-1" strike="noStrike">
                <a:solidFill>
                  <a:srgbClr val="464646"/>
                </a:solidFill>
                <a:latin typeface="Constantia"/>
              </a:rPr>
              <a:t>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Нет!!!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сами слушать музыку через наушники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Мало ес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ще есть рыбу, овощи и фрукты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ще есть рыбу, овощи и фрукты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ерееда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Заниматься спортом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Употреблять алкогол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Дышать свежим воздухом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Спать не менее 7 часов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роявлять доброжелательнос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Кури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оздно ложиться и встава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Сидеть дома за компьютером часами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Любить жизн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214800" y="1928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сами смотреть Т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03 L 0.39028 -0.03909 E">
                                      <p:cBhvr>
                                        <p:cTn id="6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285480" y="1553760"/>
            <a:ext cx="87058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Найти цель, обрести смысл жизни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Отказаться от излишеств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Избегать того, что может навредить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Соблюдать меру во всем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Сначала думать, потом делать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pic>
        <p:nvPicPr>
          <p:cNvPr id="424" name="Picture 2" descr="C:\Users\Дом\Downloads\787a0d32d0e9f9f24b93aa543e3d2ea4.jpg"/>
          <p:cNvPicPr/>
          <p:nvPr/>
        </p:nvPicPr>
        <p:blipFill>
          <a:blip r:embed="rId2"/>
          <a:stretch/>
        </p:blipFill>
        <p:spPr>
          <a:xfrm>
            <a:off x="5643720" y="4429080"/>
            <a:ext cx="30002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285480" y="1143000"/>
            <a:ext cx="8705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оздание необходимых условий для развития у обучающихся интереса к своему здоровью, как основе всех будущих успехов в жизни, реализации личностных качеств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ормирование здоровье</a:t>
            </a:r>
            <a:r>
              <a:rPr b="1" lang="fr-CA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берегающих компетенций современного человека, культуры и ценности здоровья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ыработать индивидуальные потребности в соблюдении ЗОЖ, сохранении и укреплении здоровья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Дать конкретные рекомендации о соблюдении основных элементов здорового образа жизни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глубить знания о  факторах, влияющих на здоровье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асширить представление студентов о ЗОЖ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ормировать позитивную оценку активного, здорового образа жизни, критическое отношение к вредным привычкам;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­буждать к самопознанию, саморазвитию, к искоренению вредных привычек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́дрость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есть совершенное благо человеческого духа в процессе абсолютного познания всеобщих закономерностей развития Космоса и человека.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́дрость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— это способность грамотного, точного и истинного применения знаний, являющимися истинными по положению. 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Глубокий </a:t>
            </a: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ум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опирающийся на жизненный </a:t>
            </a: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опыт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Толковый cловарь Ожегова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более практическом смысле мудрость – моральное знание, соединение любви, добра и истины (В. Даль).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 определе­нию Всемирной организации здравоохранения,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доровье - это состояние физического, духовного и социального благополучия»,</a:t>
            </a:r>
            <a:endParaRPr b="0" lang="en-US" sz="4400" spc="-1" strike="noStrike">
              <a:solidFill>
                <a:srgbClr val="46464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 не только отсутствие болезней и физических дефектов.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15920" y="450720"/>
            <a:ext cx="8881920" cy="608328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5" descr="http://xn----7sbbfb7a7aej.xn--p1ai/obzh_11/ur_01/ur_01_01.png?1446119824483"/>
          <p:cNvPicPr/>
          <p:nvPr/>
        </p:nvPicPr>
        <p:blipFill>
          <a:blip r:embed="rId2"/>
          <a:stretch/>
        </p:blipFill>
        <p:spPr>
          <a:xfrm>
            <a:off x="6357960" y="207180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 жизни человека, его поведение и мышление, которые обеспечивают охрану и укрепления здоровья, называется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доровым образом жизни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" descr="clip_image001.gif"/>
          <p:cNvPicPr/>
          <p:nvPr/>
        </p:nvPicPr>
        <p:blipFill>
          <a:blip r:embed="rId1"/>
          <a:stretch/>
        </p:blipFill>
        <p:spPr>
          <a:xfrm>
            <a:off x="500040" y="-38160"/>
            <a:ext cx="8215200" cy="6639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845560" cy="2341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85480" y="2571480"/>
            <a:ext cx="8705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труда и отдыха заложен в самой основе работы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го тела. Люби своё тело, щади его.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бессмертие недостижимо, но продолжительность твоей жизни во многом зависит от тебя самого.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добро. Зло, к сожалению, само получится. 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3:31:11Z</dcterms:created>
  <dc:creator>Admin</dc:creator>
  <dc:description/>
  <dc:language>en-US</dc:language>
  <cp:lastModifiedBy>Пользователь Windows</cp:lastModifiedBy>
  <dcterms:modified xsi:type="dcterms:W3CDTF">2024-01-29T18:33:18Z</dcterms:modified>
  <cp:revision>27</cp:revision>
  <dc:subject/>
  <dc:title>Здоровье-привилегия  мудрых </dc:title>
</cp:coreProperties>
</file>