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6BB5-1F3D-4B18-88B6-82F1F242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FFBD-5AF3-4BB1-BE52-36E2909F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2587B-5475-4231-BD5E-3E65A0E3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4F631-D48B-4921-859A-911509C7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6601C-0A2D-4EFF-AC1A-241F1A4E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A8CC0-F2EC-48D6-ABB8-610C9DA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AD871-72C5-46ED-AE08-39A281C3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B6D77-187D-4CAC-9D4D-DB05492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4A662-9505-4E4A-AEBC-055C406E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9A7B1-1BFB-4571-B097-1D498A49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87ABF-6BBC-44A0-9B07-1BAD6654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6FD8-6744-42FE-A236-CE0D3210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A3D6-0F81-40DC-A14A-88FBA243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1A8-83B3-4596-AACD-38B074F3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C657-BDE3-4394-A339-E86B930D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1F1A-D7D6-4976-BBAC-40C07F14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1188-C1B2-467D-8936-5732466E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87E7-C0C8-4A38-AB63-E1FFADDC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10AC-5BB5-4F10-BDA7-BFF7C6A7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70C7-C97A-4914-B18A-AAA926F6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D8E-D5DE-40FA-A5B1-2EBE589F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8CF29-FF04-4B76-BBBE-819FD06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977E-4586-4A0B-A42D-E0A0D8DF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ED3-7A41-415D-B4EA-FA1A941B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9073-DF8F-4620-9249-6C9039D5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5137-B6AD-4772-A3E6-05390E00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3D34-4530-42EE-84D6-CB19CC01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2EB4-BA1B-4ED9-846C-8C9FFA31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2C51B-E36C-45A7-BA1C-1A2889EE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2DD56-DD6F-4ED6-9203-B025007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951E8-26DA-4FCF-A3AA-44ADF67A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97E-1F00-44C6-B17E-7065867C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F1093-7F5B-455D-A8C7-E2C45414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5F283-2C96-40AC-B904-F814FD7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3418E-32ED-4341-AE58-81D5DB7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B655-F3C0-4F50-9A7A-6F583C0F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FE407-9570-448C-8C6D-BDD81550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2A032-18DD-41FC-8053-70B4BF3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BFAF1-E442-4091-B449-68315073A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FB298-9521-475F-9A3D-4A1D6A5D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A4C73-E06F-4CB3-B73C-030A3D3C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5C63-8E6E-48C8-B94F-D0EBF92E3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6F0-1BB0-4D1D-99B1-023491E6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E5BC1-1420-4B97-BE07-BC6BEE30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3662D-567E-4161-81C6-7C46E3BB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57F52-74F3-4611-952F-0055C002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1E87-7695-49DA-9FD7-A095C718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1A1A0-F5B9-47B4-9F25-921D735C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E2D3-6DEE-4856-B790-B49208FE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1FAE5-8DD1-4053-BD1A-6C6FFE4C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20AE3-474A-4232-9212-B7F0CD99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6EE0E-454B-4879-AEF7-83536D1C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E407F-9C00-42D4-B7E2-3B1FB3E6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9AE-AC20-4F33-AAA0-2E999D8C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32738-C35D-407B-B8F8-C4F75FC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2104-3CAE-4AAB-B3A3-9EAC8610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DAACA-C814-43DB-BEC5-FB6F9A83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95419-ECDB-471A-BF0A-9A34A044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0A0A-50A2-4157-9D5A-A13BB014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D8FA5-B8AD-42BE-9483-8EDF0172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2A399-1BCD-4E6D-96C6-CD31A185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63131-CCE7-4F6E-BDEE-974825CD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6C5C8-ADDA-4535-A430-4FEAD4E4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2AF46-E64F-4D0D-95AA-FE0C2695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A7BB-A4F0-4C4D-BDC5-487EE9F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1DD03-AB55-4ABC-98A7-F0EA7589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92105-FC66-4F9B-8132-C2517201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1B77-8F5A-4A62-AFA0-DB5FAEA2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971E6-5785-4FDD-995D-693A8884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9ECAB-8069-43FC-895E-BEED5324C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5FD56-E5A7-4F50-999F-5EBF4101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DA3F3-073F-4238-8780-B9EE0799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DBC26-0FB6-489F-B26F-A033716A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D9531-9719-4876-AEB2-23FACF5F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5478-8FC0-4059-8119-AC1499F0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E43-1A04-4285-9B50-A6F91537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A0CC8-13BD-48B7-B2B8-F0F679D8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6DA9B-6281-4E94-869F-83465E8F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72247-9AF7-4085-B960-3E2537FA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0C28C-5291-4091-93FA-E1F67F5A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81932-5927-4484-9248-A18ABBE7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AECAA-87B3-476D-B26F-99E389A3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A07B-1BD2-4EB3-A6F3-015C370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44F8C-E865-478A-8011-C62EA919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8093F-F1CE-4A5B-9C90-B7DD69F8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CD4767-F69E-47ED-A9BD-282A2454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A323-16AE-4740-BBF3-3B84470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CF9E-E96A-489E-8930-E5291180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8BE8B-DF97-4A84-81ED-78BEBDFE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32334-1F4A-402F-A14C-6B3C93B8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411AD-A219-4879-81D4-E712D1C8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DA3AC-01D8-42D0-881E-7CC071D5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2B275-CC91-417E-ACCC-676A6389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C7F75-573D-4662-8D29-E32FB3AF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DB4E8-0825-4205-B9DC-A0F804CE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72D6-555D-456E-90D3-DD309633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885BF-15AB-403A-8CE5-DB96F726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E6E-AD2E-487F-A42C-3691A5E7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BFB6C-F524-4014-A366-6BCCF5E4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2A72B-1554-49F1-BE78-0045E16F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05351-E0D1-4930-BDED-A501F2BB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6AD52-09A4-425A-9897-7A23AAF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CC7B7-E7A5-43F3-92F3-EFF4E23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89450-23F5-49C2-8961-3278530E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C0DEE-0258-4A77-B0A0-0A495F3A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43075-7FDF-444A-A3AB-0201310F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FDA94-99C0-4959-A723-C9C24F9F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1C2F5-CBF0-409F-8936-734DE4C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8C11-AD73-4ED8-B801-CE2E7E628035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3F14-493D-41C8-8422-9C93736CB979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3E3D-F646-4653-B216-BE819407F5C0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5fa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5fa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def5fa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A5C7-48A7-42FE-A06C-57A009DC9F98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DD8F-6889-46C7-A21F-B58453B982EC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C532-0CE4-4C78-B680-B7037287A85A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4E50-F73A-4E10-B25C-0E7D3167DF91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399-EAB2-43D2-94D6-7552A86751D2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7AB7-613B-4EFC-A34B-4587F22A220C}" type="slidenum">
              <a:rPr b="0" lang="ru-RU" sz="1200" spc="-1" strike="noStrike">
                <a:solidFill>
                  <a:srgbClr val="268ea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9;&#1084;" TargetMode="External"/><Relationship Id="rId3" Type="http://schemas.openxmlformats.org/officeDocument/2006/relationships/hyperlink" Target="http://ru.wikipedia.org/wiki/&#1054;&#1087;&#1099;&#1090;" TargetMode="External"/><Relationship Id="rId4" Type="http://schemas.openxmlformats.org/officeDocument/2006/relationships/hyperlink" Target="http://mirslovarei.com/oje_a/" TargetMode="External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78000" y="944640"/>
            <a:ext cx="8467560" cy="2347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357800" y="3886200"/>
            <a:ext cx="448128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Воспитатель :  Серова О.А. </a:t>
            </a:r>
            <a:br>
              <a:rPr sz="2000"/>
            </a:b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Школа –Интернат №1  им. К.К. Грота, г. Санкт- Петербург. </a:t>
            </a:r>
            <a:br>
              <a:rPr sz="2000"/>
            </a:br>
            <a:endParaRPr b="0" lang="en-US" sz="2000" spc="-1" strike="noStrike">
              <a:solidFill>
                <a:srgbClr val="464646"/>
              </a:solidFill>
              <a:latin typeface="Constantia"/>
            </a:endParaRPr>
          </a:p>
        </p:txBody>
      </p:sp>
      <p:pic>
        <p:nvPicPr>
          <p:cNvPr id="401" name="Picture 5" descr="C:\Users\Дом\Downloads\photo_2023-05-01_23-54-04.jpg"/>
          <p:cNvPicPr/>
          <p:nvPr/>
        </p:nvPicPr>
        <p:blipFill>
          <a:blip r:embed="rId2"/>
          <a:srcRect l="16667" t="3001" r="17499" b="0"/>
          <a:stretch/>
        </p:blipFill>
        <p:spPr>
          <a:xfrm>
            <a:off x="142920" y="3071880"/>
            <a:ext cx="407196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493560" y="281160"/>
            <a:ext cx="8656920" cy="208404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2"/>
          <p:cNvSpPr/>
          <p:nvPr/>
        </p:nvSpPr>
        <p:spPr>
          <a:xfrm>
            <a:off x="428760" y="1571760"/>
            <a:ext cx="814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5" descr="C:\Users\Дом\Downloads\1643028446_28-papik-pro-p-risunok-na-temu-net-vrednim-privichkam-31.jpg"/>
          <p:cNvPicPr/>
          <p:nvPr/>
        </p:nvPicPr>
        <p:blipFill>
          <a:blip r:embed="rId2"/>
          <a:stretch/>
        </p:blipFill>
        <p:spPr>
          <a:xfrm>
            <a:off x="1143000" y="2571840"/>
            <a:ext cx="6286680" cy="3857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298440" y="255600"/>
            <a:ext cx="8699400" cy="104940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onstantia"/>
              </a:rPr>
              <a:t>Да!</a:t>
            </a:r>
            <a:r>
              <a:rPr b="0" lang="ru-RU" sz="3200" spc="-1" strike="noStrike">
                <a:solidFill>
                  <a:srgbClr val="464646"/>
                </a:solidFill>
                <a:latin typeface="Constantia"/>
              </a:rPr>
              <a:t>                              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Нет!!!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сами слушать музыку через наушники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Мало ес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ще есть рыбу, овощи и фрукты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ще есть рыбу, овощи и фрукты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Перееда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Заниматься спортом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Употреблять алкогол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Дышать свежим воздухом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Спать не менее 7 часов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Проявлять доброжелательнос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Кури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Поздно ложиться и встават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Сидеть дома за компьютером часами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Любить жизнь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sp>
        <p:nvSpPr>
          <p:cNvPr id="421" name="TextBox 4"/>
          <p:cNvSpPr/>
          <p:nvPr/>
        </p:nvSpPr>
        <p:spPr>
          <a:xfrm>
            <a:off x="3214800" y="19288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onstantia"/>
              </a:rPr>
              <a:t>Часами смотреть Т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16 0.003 L 0.39028 -0.03909 E">
                                      <p:cBhvr>
                                        <p:cTn id="6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285480" y="1553760"/>
            <a:ext cx="870588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Найти цель, обрести смысл жизни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Отказаться от излишеств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Избегать того, что может навредить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Соблюдать меру во всем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64646"/>
                </a:solidFill>
                <a:latin typeface="Constantia"/>
              </a:rPr>
              <a:t>Сначала думать, потом делать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  <p:pic>
        <p:nvPicPr>
          <p:cNvPr id="424" name="Picture 2" descr="C:\Users\Дом\Downloads\787a0d32d0e9f9f24b93aa543e3d2ea4.jpg"/>
          <p:cNvPicPr/>
          <p:nvPr/>
        </p:nvPicPr>
        <p:blipFill>
          <a:blip r:embed="rId2"/>
          <a:stretch/>
        </p:blipFill>
        <p:spPr>
          <a:xfrm>
            <a:off x="5643720" y="4429080"/>
            <a:ext cx="30002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224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285480" y="1143000"/>
            <a:ext cx="8705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оздание необходимых условий для развития у обучающихся интереса к своему здоровью, как основе всех будущих успехов в жизни, реализации личностных качеств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Формирование здоровье</a:t>
            </a:r>
            <a:r>
              <a:rPr b="1" lang="fr-CA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</a:t>
            </a: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берегающих компетенций современного человека, культуры и ценности здоровья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ыработать индивидуальные потребности в соблюдении ЗОЖ, сохранении и укреплении здоровья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Дать конкретные рекомендации о соблюдении основных элементов здорового образа жизни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глубить знания о  факторах, влияющих на здоровье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Расширить представление студентов о ЗОЖ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Формировать позитивную оценку активного, здорового образа жизни, критическое отношение к вредным привычкам;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­буждать к самопознанию, саморазвитию, к искоренению вредных привычек.</a:t>
            </a: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22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1430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у́дрость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 есть совершенное благо человеческого духа в процессе абсолютного познания всеобщих закономерностей развития Космоса и человека.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1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Му́дрость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 — это способность грамотного, точного и истинного применения знаний, являющимися истинными по положению. 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Глубокий </a:t>
            </a:r>
            <a:r>
              <a:rPr b="0" lang="ru-RU" sz="3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ум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, опирающийся на жизненный </a:t>
            </a:r>
            <a:r>
              <a:rPr b="0" lang="ru-RU" sz="3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3"/>
              </a:rPr>
              <a:t>опыт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4"/>
              </a:rPr>
              <a:t>Толковый cловарь Ожегова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- </a:t>
            </a:r>
            <a:r>
              <a:rPr b="0" lang="ru-RU" sz="3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 более практическом смысле мудрость – моральное знание, соединение любви, добра и истины (В. Даль).</a:t>
            </a: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224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 определе­нию Всемирной организации здравоохранения,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доровье - это состояние физического, духовного и социального благополучия»,</a:t>
            </a:r>
            <a:endParaRPr b="0" lang="en-US" sz="4400" spc="-1" strike="noStrike">
              <a:solidFill>
                <a:srgbClr val="464646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а не только отсутствие болезней и физических дефектов.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da2bf"/>
              </a:buClr>
              <a:buSzPct val="7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115920" y="450720"/>
            <a:ext cx="8881920" cy="6083280"/>
          </a:xfrm>
          <a:prstGeom prst="rect">
            <a:avLst/>
          </a:prstGeom>
          <a:ln w="0">
            <a:noFill/>
          </a:ln>
        </p:spPr>
      </p:pic>
      <p:pic>
        <p:nvPicPr>
          <p:cNvPr id="410" name="Содержимое 5" descr="http://xn----7sbbfb7a7aej.xn--p1ai/obzh_11/ur_01/ur_01_01.png?1446119824483"/>
          <p:cNvPicPr/>
          <p:nvPr/>
        </p:nvPicPr>
        <p:blipFill>
          <a:blip r:embed="rId2"/>
          <a:stretch/>
        </p:blipFill>
        <p:spPr>
          <a:xfrm>
            <a:off x="6357960" y="2071800"/>
            <a:ext cx="2786040" cy="2643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224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браз жизни человека, его поведение и мышление, которые обеспечивают охрану и укрепления здоровья, называется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доровым образом жизни</a:t>
            </a: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Рисунок 1" descr="clip_image001.gif"/>
          <p:cNvPicPr/>
          <p:nvPr/>
        </p:nvPicPr>
        <p:blipFill>
          <a:blip r:embed="rId1"/>
          <a:stretch/>
        </p:blipFill>
        <p:spPr>
          <a:xfrm>
            <a:off x="500040" y="-38160"/>
            <a:ext cx="8215200" cy="6639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845560" cy="234180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85480" y="2571480"/>
            <a:ext cx="870588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труда и отдыха заложен в самой основе работы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го тела. Люби своё тело, щади его.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бессмертие недостижимо, но продолжительность твоей жизни во многом зависит от тебя самого.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й добро. Зло, к сожалению, само получится. </a:t>
            </a: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Constanti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13:31:11Z</dcterms:created>
  <dc:creator>Admin</dc:creator>
  <dc:description/>
  <dc:language>en-US</dc:language>
  <cp:lastModifiedBy>Пользователь Windows</cp:lastModifiedBy>
  <dcterms:modified xsi:type="dcterms:W3CDTF">2024-01-29T18:33:18Z</dcterms:modified>
  <cp:revision>27</cp:revision>
  <dc:subject/>
  <dc:title>Здоровье-привилегия  мудрых </dc:title>
</cp:coreProperties>
</file>